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A17F-D195-4675-8FB4-FE7A5EF6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267B-D06E-40AA-A28A-4A9A6558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5AE8-220E-4177-978B-987A3AF9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E60B-38EC-4499-A2BB-C04BF11D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808B-346E-4DA3-8F2D-154C7CB3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29D4-C393-4851-80CF-6774BDBC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B10F-8E28-4984-9B3F-C7AF05F4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852B-9C35-434D-92D8-4E0A915A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B78-B741-47D6-804B-E791F31D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0F55-76BC-43B6-8151-567CE226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683E-26BA-4630-83DF-5EAA2DD4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4576-DD54-40FF-9615-F923B2D6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05D0-C623-4D48-A89E-F27D5FF6D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TAKARMÁNYOZÁS ELMÉLETI ALAPJ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takarmányok táplálóértékének kifejezé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urális takarmányegység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zénaérté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zt fejezte ki, hogy a vizsgált takarmányból mennyire volt szükség ahhoz, hogy a hízóökrök testtömeg-gyarapodása azonos legyen az egységnyi mennyiségű réti széna etetésével elért testtömeg-gyarapodás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rakegysé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zéna helyett 0,5 kg árpa és 0,5 kg zab keverékét használták egységké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takarmányok táplálóértékének kifejezése 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ttó energiára alapozott takarmányértékelési módszer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 keményítőérté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olyan viszonyszám, amely kifejezi, hogy valamely takarmány 1000 grammjában lévő összes táplálóanyag hány gramm keményítővel termel azonos mennyiségű testzsírt, ha azt az életfenntartó szükségleten felül etetjü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nergetikai takarmányértékélési rends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z energetikai takarmányértékelési rendsz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lvett és a szervezetből távozó energia mérése és összevetése adja az energiamérleget, amely az állati szervezetben zajló energetikai folyamatok egyenlegét fejezi ki. Ezen változások összessége az un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nergiaforgal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energia mérésére szolgáló egység a joule (J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z energetikai takarmányértékelési rendszer 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z energiaátalakulás folyamata az állat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51280" y="1641600"/>
            <a:ext cx="469440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gyes állatfajok takarmányainak kifejezése az energetikai takarmányértékelésb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915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sertés-, a ló-, és a nyúltakarmányo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energiaértékét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 emészthető energiával (DE)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fejezzük 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baromfitakarmányo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energiaértékét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 metabolizálható energiatartalommal (ME)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mérjük.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Az emészthető energiatartalom elvileg a baromfifajoknál is alkalmas lenne a takarmányok energiaértékének kifejezésére, de a baromfifajok kloákájában a bélsár és a vizelet keveredik, ezért nem lehet pontosan megállapítani az emészthető energiatartalma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kérődzők takarmányaina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energiaértékét a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 nettó energiatartalommal (NE)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mérjü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életfenntartási (NEm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tejtermelési (NE</a:t>
            </a:r>
            <a:r>
              <a:rPr b="0" i="1" lang="hu-HU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testtömeggyarapodási (NEg)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nettó energiát különböztetünk meg attól függően, hogy az állatok milyen célra használják fel a takarmány energiájá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takarmányok táplálóanyag-tartalmának arány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nergia-fehérje arán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ifejezi, hogy egy MJ energiára hány gramm nyersfehérje jut.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Fehérjekoncentráció (fehérje %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ifejezi, hogy a takarmányban lévő fehérje hány százaléka a takarmány szárazanyagtartalmának vagy 1 kg-jána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nergiakoncentráci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fejezi, hogy a takarmány vagy a takarmányadag 1 kg-jára (vagy 1 kg szárazanyag-tartalmára) mennyi energia j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A takarmányok értékesülésének mutatói 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karmány-értékesülési mutatók folyamatos figyelemmel kísérése lehető­vé teszi, hogy a takarmányértékesítést zavaró tényezőket idejében észrevehessük és gyorsan kiküszöbölhessü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A takarmányok értékesülésének mutatói 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fajlagos takarmányfelhasználás (takarmányértékesítő képesség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ségnyi mennyiségű állati termék előállításához felhasznált takarmány mennyisé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6000" y="3324240"/>
            <a:ext cx="691200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A takarmányok értékesülésének mutatói I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nergiaértékesülési százalék (transzformációs hányado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fejezi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hogy az állati termék energiatar­talma hány százaléka az elfogyasztott takarmány energiáján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58920" y="4005360"/>
            <a:ext cx="87850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A takarmányok értékesülésének mutatói IV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fehérjeértékesülési százalé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fejezi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hogy az állati termék fehérjetar­talma hány százaléka az elfogyasztott takarmány adag fehérjetartalmá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3860640"/>
            <a:ext cx="8497800" cy="5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akarmányok emészthetősé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akarmányok táplálóanyagait az állati szervezet nem tudja teljes egészében megemészten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a, hogy a táplálóanyagok bizonyos részei az állati szervezet enzimjei által bonthatatlan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észthetőnek a táplálóanyagok azon részét tekinthetjük, amelyek az emésztés során felszívódásra alkalmas vegyületekké bomlanak 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ak az emészthető táplálóanyagok használhatók fel létfenntartására, növekedésre, termékek előállításá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l nem szívódott anyagokat a szervezet a bélsárral kiürí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akarmányok emészthetőségét állatkísérletekkel közvetett módon állapítják me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észthető táplálóany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emészthető táplálóanyagtartalom = takarmánnyal elfogyasztott táplálóanyag - bélsárral ürített táplálóany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z állat által elfogyasztott, valamint a bélsárral kiürített táplálóanyagok különbsé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észtési együtthat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kísérleti szakaszban pontosan mérjük az elfogyasztott takarmány és az ürített bélsár mennyiségé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-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észtési együttható (%) =   -------------- x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ho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= takarmánnyal felvett táplálóany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= bélsárral ürített táplálóany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takarmányok emészthetőségét befolyásoló tényezők I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állattól függő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z állatfa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z egyes állatfajok emésztőkészülékének eltérő anatómiai felépítésével és működésével magyarázhat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Pl.: kérődzők több rostot tudnak emészteni a bendőmikrobáknak köszönhető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z állat fajtája és egyedisé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z állat k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fiatal kérődző állat, amíg a bendő működése, a mikrobás emésztés nem indul meg, együregű gyomrú állatnak számít. Kifejlett korban az életkor mindaddig nem befolyásolja az emésztést, amíg az állat fogazata jó állapotban v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takarmányok emészthetőségét befolyásoló tényezők II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állattól függő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A felneve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iatalon tömegtakarmányhoz szoktatott egyedek kevésbé igényesek a takarmány minősége iránt és jobban emésztik a táplálóanyagokat, mint intenzíven, koncentrált takarmányokon nevelt társa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Az egészségi állap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lázas betegség, a gyomor- és bélhurut, a gyulladás, a bélhámelfajulás és más betegségek erősen csökkentik az emészté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takarmányok emészthetőségét befolyásoló tényezők III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takarmány függő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 nyersrost tartal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agas rosttartalmú takarmánynövények sejtfalai kemény burkot képeznek a sejt körül. A táplálóanyagok nehezen és csak kis részben szabadulnak k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 rosttartalom 1%-os növekedésével 1,5—2,5 %-kal csökken a szervesanyag emésztése a sertés és a baromfifajokná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 táplálóanyagok ará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ól kiegyensúlyozott adagban valamennyi táplálóanyag emésztése jobb, mint az egyoldalú takarmányban. A legfontosabb a megfelelő energia-fehérje arány, illetve a megfelelő zsírtartal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takarmányok emészthetőségét befolyásoló tényezők IV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 takarmány étrendi ha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Étrendi hatáson a takarmánynak az emésztésre, a gyomor- és bélperisztaltikára, a bélsár konzisztenciájára, ezen keresztül az állat közérzetére és egészségi állapotára gyakorolt hatását értjü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takarmányok lehetnek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ó étrendi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hashajtó- (laxáns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ugító- 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fúvó (puffasztó) hatású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 takarmányok előkészí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áplálóanyagok emésztését a takarmányelőkészítő eljárások egy részével javíthatjuk. A takarmányok előkészítésének más is lehet a célja (pl. a takarmány ízének javítása, takarmányfelvétel növelése, homogenizálás lehetővé tétele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pácolá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szecskázá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darálá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puffasztá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pelyhesítés é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extrudálá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hőkezelés az extrahált szójadara esetében lebontja a tripszininhibitort, így a szója emészthetősége jav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takarmányok emészthetőségét befolyásoló tényezők IV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Takarmányváltozta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egszokott összetételű takarmányadag meghatározott bendő- és bélmikroflórát alakít ki. Hirtelen bekövetkezett nagymértékű takarmányváltoztatáskor bélsárpangás vagy hasmenés is felléph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17:06:17Z</dcterms:created>
  <dc:creator>Fadri</dc:creator>
  <dc:description/>
  <dc:language>en-US</dc:language>
  <cp:lastModifiedBy>Fadri</cp:lastModifiedBy>
  <dcterms:modified xsi:type="dcterms:W3CDTF">2013-01-09T18:28:40Z</dcterms:modified>
  <cp:revision>7</cp:revision>
  <dc:subject/>
  <dc:title>A TAKARMÁNYOZÁS ELMÉLETI ALAPJAI</dc:title>
</cp:coreProperties>
</file>