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756-D7E9-48EB-9A37-482C7989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F2BB-3BFA-4B4E-9B44-8E013587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E61-E9A4-41C5-94DE-1126B73A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FA1-BC43-437D-AFFD-78AFB112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F92-EA4D-4BA1-98EA-B85272C7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C86-7DB1-4722-B041-E6D0B327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620-F0DF-4786-AD9F-E61B60AD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B48-840E-40AA-9BA9-C6031291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6399-7F93-4018-8A4E-27F1B428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F37-04DB-46E4-A480-13F714C7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F65-F17F-4978-BBDC-1052764E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556-B228-4208-825F-BCA6DD75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6C56-2852-4155-9D91-6896D760F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TAKARMÁNYOZÁS ELMÉLETI ALAPJ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armányok táplálóértékének kifejezé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ális takarmányegység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zénaérté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zt fejezte ki, hogy a vizsgált takarmányból mennyire volt szükség ahhoz, hogy a hízóökrök testtömeg-gyarapodása azonos legyen az egységnyi mennyiségű réti széna etetésével elért testtömeg-gyarapodás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rakegysé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éna helyett 0,5 kg árpa és 0,5 kg zab keverékét használták egységké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armányok táplálóértékének kifejezése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ttó energiára alapozott takarmányértékelési módszer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keményítőérté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olyan viszonyszám, amely kifejezi, hogy valamely takarmány 1000 grammjában lévő összes táplálóanyag hány gramm keményítővel termel azonos mennyiségű testzsírt, ha azt az életfenntartó szükségleten felül etetjü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nergetikai takarmányértékélési rends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 energetikai takarmányértékelési rendsz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lvett és a szervezetből távozó energia mérése és összevetése adja az energiamérleget, amely az állati szervezetben zajló energetikai folyamatok egyenlegét fejezi ki. Ezen változások összessége az un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nergiaforgal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energia mérésére szolgáló egység a joule (J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 energetikai takarmányértékelési rendszer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z energiaátalakulás folyamata az állat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51280" y="1641600"/>
            <a:ext cx="469440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gyes állatfajok takarmányainak kifejezése az energetikai takarmányértékelésb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sertés-, a ló-, és a nyúltakarmány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energiaértékét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emészthető energiával (DE)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ejezzük 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baromfitakarmány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energiaértékét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metabolizálható energiatartalommal (ME)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érjük.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Az emészthető energiatartalom elvileg a baromfifajoknál is alkalmas lenne a takarmányok energiaértékének kifejezésére, de a baromfifajok kloákájában a bélsár és a vizelet keveredik, ezért nem lehet pontosan megállapítani az emészthető energiatartalma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kérődzők takarmányaina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energiaértékét a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nettó energiatartalommal (NE)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érjü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életfenntartási (NEm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tejtermelési (NE</a:t>
            </a:r>
            <a:r>
              <a:rPr b="0" i="1" lang="hu-HU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testtömeggyarapodási (NEg)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nettó energiát különböztetünk meg attól függően, hogy az állatok milyen célra használják fel a takarmány energiájá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armányok táplálóanyag-tartalmának arány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nergia-fehérje arán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ifejezi, hogy egy MJ energiára hány gramm nyersfehérje jut.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ehérjekoncentráció (fehérje %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ifejezi, hogy a takarmányban lévő fehérje hány százaléka a takarmány szárazanyagtartalmának vagy 1 kg-jána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nergiakoncentráci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fejezi, hogy a takarmány vagy a takarmányadag 1 kg-jára (vagy 1 kg szárazanyag-tartalmára) mennyi energia j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 takarmányok értékesülésének mutatói 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karmány-értékesülési mutatók folyamatos figyelemmel kísérése lehető­vé teszi, hogy a takarmányértékesítést zavaró tényezőket idejében észrevehessük és gyorsan kiküszöbölhessü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 takarmányok értékesülésének mutatói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ajlagos takarmányfelhasználás (takarmányértékesítő képesség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ségnyi mennyiségű állati termék előállításához felhasznált takarmány mennyi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6000" y="3324240"/>
            <a:ext cx="69120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 takarmányok értékesülésének mutatói I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nergiaértékesülési százalék (transzformációs hányado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fejezi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hogy az állati termék energiatar­talma hány százaléka az elfogyasztott takarmány energiáján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58920" y="4005360"/>
            <a:ext cx="87850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 takarmányok értékesülésének mutatói I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ehérjeértékesülési százalé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fejezi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hogy az állati termék fehérjetar­talma hány százaléka az elfogyasztott takarmány adag fehérjetartalmá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849780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akarmányok emészthetősé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akarmányok táplálóanyagait az állati szervezet nem tudja teljes egészében megemészte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a, hogy a táplálóanyagok bizonyos részei az állati szervezet enzimjei által bonthatatlan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észthetőnek a táplálóanyagok azon részét tekinthetjük, amelyek az emésztés során felszívódásra alkalmas vegyületekké bomlanak 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ak az emészthető táplálóanyagok használhatók fel létfenntartására, növekedésre, termékek előállításá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l nem szívódott anyagokat a szervezet a bélsárral kiürí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akarmányok emészthetőségét állatkísérletekkel közvetett módon állapítják me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észthető táplálóany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emészthető táplálóanyagtartalom = takarmánnyal elfogyasztott táplálóanyag - bélsárral ürített táplálóany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z állat által elfogyasztott, valamint a bélsárral kiürített táplálóanyagok különbsé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észtési együtthat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kísérleti szakaszban pontosan mérjük az elfogyasztott takarmány és az ürített bélsár mennyiségé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észtési együttható (%) =   -------------- x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ho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= takarmánnyal felvett táplálóany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= bélsárral ürített táplálóany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armányok emészthetőségét befolyásoló tényezők I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állattól függő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z állatfa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z egyes állatfajok emésztőkészülékének eltérő anatómiai felépítésével és működésével magyarázhat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Pl.: kérődzők több rostot tudnak emészteni a bendőmikrobáknak köszönhető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z állat fajtája és egyedis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z állat k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fiatal kérődző állat, amíg a bendő működése, a mikrobás emésztés nem indul meg, együregű gyomrú állatnak számít. Kifejlett korban az életkor mindaddig nem befolyásolja az emésztést, amíg az állat fogazata jó állapotban v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armányok emészthetőségét befolyásoló tényezők II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állattól függő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A felneve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iatalon tömegtakarmányhoz szoktatott egyedek kevésbé igényesek a takarmány minősége iránt és jobban emésztik a táplálóanyagokat, mint intenzíven, koncentrált takarmányokon nevelt társa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Az egészségi álla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ázas betegség, a gyomor- és bélhurut, a gyulladás, a bélhámelfajulás és más betegségek erősen csökkentik az emészté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armányok emészthetőségét befolyásoló tényezők III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takarmány függő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nyersrost tarta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agas rosttartalmú takarmánynövények sejtfalai kemény burkot képeznek a sejt körül. A táplálóanyagok nehezen és csak kis részben szabadulnak 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 rosttartalom 1%-os növekedésével 1,5—2,5 %-kal csökken a szervesanyag emésztése a sertés és a baromfifajokná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táplálóanyagok ará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ól kiegyensúlyozott adagban valamennyi táplálóanyag emésztése jobb, mint az egyoldalú takarmányban. A legfontosabb a megfelelő energia-fehérje arány, illetve a megfelelő zsírtartal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armányok emészthetőségét befolyásoló tényezők I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 takarmány étrendi ha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Étrendi hatáson a takarmánynak az emésztésre, a gyomor- és bélperisztaltikára, a bélsár konzisztenciájára, ezen keresztül az állat közérzetére és egészségi állapotára gyakorolt hatását értjü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takarmányok lehetnek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ó étrendi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hashajtó- (laxáns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ugító- 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fúvó (puffasztó) hatású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 takarmányok előkészí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áplálóanyagok emésztését a takarmányelőkészítő eljárások egy részével javíthatjuk. A takarmányok előkészítésének más is lehet a célja (pl. a takarmány ízének javítása, takarmányfelvétel növelése, homogenizálás lehetővé tétele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pácolá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szecskázá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darálá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puffasztá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pelyhesítés é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extrudálá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hőkezelés az extrahált szójadara esetében lebontja a tripszininhibitort, így a szója emészthetősége jav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armányok emészthetőségét befolyásoló tényezők I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Takarmányváltozta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gszokott összetételű takarmányadag meghatározott bendő- és bélmikroflórát alakít ki. Hirtelen bekövetkezett nagymértékű takarmányváltoztatáskor bélsárpangás vagy hasmenés is felléph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7:06:17Z</dcterms:created>
  <dc:creator>Fadri</dc:creator>
  <dc:description/>
  <dc:language>en-US</dc:language>
  <cp:lastModifiedBy>Fadri</cp:lastModifiedBy>
  <dcterms:modified xsi:type="dcterms:W3CDTF">2013-01-09T18:28:40Z</dcterms:modified>
  <cp:revision>7</cp:revision>
  <dc:subject/>
  <dc:title>A TAKARMÁNYOZÁS ELMÉLETI ALAPJAI</dc:title>
</cp:coreProperties>
</file>