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E9E5-E96C-483C-9D2D-0C61EA25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2171-E21D-4D6A-8E7F-31A8FC45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D250-8E1F-4088-A581-236DE307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B9B-ADE6-4E07-88AA-9853BC3C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FB01-370F-441D-9E76-24F50CE4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291-8BCE-44C5-BB85-051F37F3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72F-BC1B-4458-9ADF-3DBAFCA5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D40-1DFF-4D8D-B2A7-2C567948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197-87BE-46CA-8D2B-1AF37832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E2A-4C8C-4B61-A71B-8A97E309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EC7-2E22-41F7-AEAC-3FF88A17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187-8526-4EAF-8B17-383F1BA1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42C9-5080-413F-A978-B0E738E41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RÓNIKUS, NEMFERTŐZŐ BETEGSÉGEK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AGANATOSETEGÉGSÉGEK EPIDEMIOLÓGIÁJ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mar Brigi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3"/>
            </a:gs>
            <a:gs pos="100000">
              <a:srgbClr val="ff9d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z Amerikai Rák Társaság és Nemzeti Rák Intézet étrendi ajánl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) Ne hízzon el!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A Társaság által lefolytatott tanulmány szerint elhízással társultan a méh-, epehólyag-, vese-, gyomor- és vastagbélrák 55-33%-kal gyakoribb előfordulását észlelt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2) Csökkentse a zsír fogyasztását!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A túlzott zsírfogyasztás növeli az emlő-, a vastagbél- és a prosztatarák kialakulásának kockázatá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3) Fogyasszon több, magas rosttartalmú táplálékot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: nem őrölt, vagy durva őrlésű gabonaneműeket, gyümölcsöket és zöldségféléke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4) Napi étrendje tartalmazzon A- és C-vitaminokban gazdag élelmiszereke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a) A sötétzöld és sötétsárga színű zöldség- és főzelékfélék és egyes gyümölcsök rendkívül gazdagok az A-vitamin előanyagaiban és A-vitaminban, és csökkenteni képesek a gége-, nyelőcső- és tüdőrák kialakulásának kockázatát. Ilyen élelmiszerek: répa, paradicsom, spenót, sárgabarack, sárgadinnye. Nem ajánlatos viszont az A-vitamin tabletta vagy kapszula formájában történő mértéktelen szedése, mert az toxikus is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b) C-vitaminban gazdag gyümölcsöket, zöldségféléket tartalmazó táplálkozás mellett csökken a rákos - különösen a gyomor- és nyelőcsőrákos - megbetegedés kockázata. Bizonyított, hogy a C-vitamin gátolja a gyomorban rákkeltő hatású nitrózaminok képződésé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3"/>
            </a:gs>
            <a:gs pos="100000">
              <a:srgbClr val="ff9d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366"/>
                </a:solidFill>
                <a:latin typeface="Arial"/>
              </a:rPr>
              <a:t>5) Iktassa be étrendjébe ún. keresztesvirágú zöldségfélék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: káposzta, brokkoli, kelbimbó, karalábé és karfiol </a:t>
            </a:r>
            <a:r>
              <a:rPr b="1" lang="hu-HU" sz="1800" spc="-1" strike="noStrike">
                <a:solidFill>
                  <a:srgbClr val="003366"/>
                </a:solidFill>
                <a:latin typeface="Arial"/>
              </a:rPr>
              <a:t>fogyasztását!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 Ezek fogyasztása csökkenti a rákképződés kockázatát, különösen a gyomor- és béltraktusban és a légutakb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366"/>
                </a:solidFill>
                <a:latin typeface="Arial"/>
              </a:rPr>
              <a:t>7) Mérsékelje sós, pácolt, füstölt, nitrittel pácolt húsfélék és sós, ecetesen pácolt ételek fogyasztását!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 A füstölt húsok (sonka, kolbász, hal) a füstölés alatt a nem teljes elégés során képződő kátrány egy részét magukba szívják, és a kátrányok számos rákkeltő anyagot tartalmaznak. Olyan országokban, ahol magas a füstölt, ecetesen pácolt ételek fogyasztása (Japán, Kína) a gyomor- és nyelőcsőrák igen gyakori. A nitrátokból, nitritekből és az élelmiszerekből az emésztés során felszabaduló aminosavakból a gyomor- és béltraktusunkban erősen rákkeltő hatású ún. nitrózaminok képződhetnek, ezért korlátozzák is a húskonzerválás során alkalmazható nitrit mennyiségét. Teljes kiváltása egyelőre nem lehetséges, mert az ételmérgezés megelőzésére ma is ez a leghatásosabb eszközü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3"/>
            </a:gs>
            <a:gs pos="100000">
              <a:srgbClr val="ff9d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 daganatok szekunder prevenció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célja </a:t>
            </a:r>
            <a:r>
              <a:rPr b="1" lang="hu-HU" sz="1800" spc="-1" strike="noStrike">
                <a:solidFill>
                  <a:srgbClr val="003366"/>
                </a:solidFill>
                <a:latin typeface="Arial"/>
              </a:rPr>
              <a:t>a betegség idejében történő felismer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366"/>
                </a:solidFill>
                <a:latin typeface="Arial"/>
              </a:rPr>
              <a:t>tumormarkerek vizsgálata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 (a primer és a szekunder prevenció határterületei) = a vérből történő meghatározással kimutatható, ill. valószínűsíthető egyes daganatok jelenléte. Lakossági szintű szűrővizsgálatra nem használható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366"/>
                </a:solidFill>
                <a:latin typeface="Arial"/>
              </a:rPr>
              <a:t>szervezett szűré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Arial"/>
              </a:rPr>
              <a:t>emlőszűrés (45-65 év közötti nők kétévenkénti mammográfiás vizsgál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Arial"/>
              </a:rPr>
              <a:t>méhnyakszűrés (25-65 év közötti nők egyszeri negatív lelet után 3 évenké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Arial"/>
              </a:rPr>
              <a:t>vastag- és végbél szűrés (50-70 év között 2 éveké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366"/>
                </a:solidFill>
                <a:latin typeface="Arial"/>
              </a:rPr>
              <a:t>alkalomszerű szűré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Arial"/>
              </a:rPr>
              <a:t>szájüreg szűr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Arial"/>
              </a:rPr>
              <a:t>prosztata szűr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Arial"/>
              </a:rPr>
              <a:t>bőr szűr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Arial"/>
              </a:rPr>
              <a:t>tüdőszű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Arial"/>
              </a:rPr>
              <a:t>here szűrése (18 éves kor felett év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Arial"/>
              </a:rPr>
              <a:t>újszülött-, csecsemő-, ill. gyermekkorban kötelező gyermekorvosi szűrés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3"/>
            </a:gs>
            <a:gs pos="100000">
              <a:srgbClr val="ff9d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A daganatok tercier prevenció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3366"/>
                </a:solidFill>
                <a:latin typeface="Arial"/>
              </a:rPr>
              <a:t>sebészi/ sugárterápiás/ gyógyszeres kezelés illetve, ezek kombináció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3366"/>
                </a:solidFill>
                <a:latin typeface="Arial"/>
              </a:rPr>
              <a:t>a daganatos betegek gondozása, rehabilitáció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3366"/>
                </a:solidFill>
                <a:latin typeface="Arial"/>
              </a:rPr>
              <a:t>ho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3"/>
            </a:gs>
            <a:gs pos="100000">
              <a:srgbClr val="ff9d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agana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Arial"/>
              </a:rPr>
              <a:t>A szervezetet felépítő szöveti elemek vagy sejtek burjánzása, olyan szövetszaporodás, amely nem követi az egészséges organizmus sejtjeinek növekedési és szaporodási szabálya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 u="sng">
                <a:solidFill>
                  <a:srgbClr val="003366"/>
                </a:solidFill>
                <a:uFillTx/>
                <a:latin typeface="Arial"/>
              </a:rPr>
              <a:t>Jóindulatú daganat</a:t>
            </a:r>
            <a:r>
              <a:rPr b="0" lang="hu-HU" sz="1600" spc="-1" strike="noStrike">
                <a:solidFill>
                  <a:srgbClr val="003366"/>
                </a:solidFill>
                <a:latin typeface="Arial"/>
              </a:rPr>
              <a:t> (benign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Arial"/>
              </a:rPr>
              <a:t>mindig tiszteletben tartja a szerv és szövethatárok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Arial"/>
              </a:rPr>
              <a:t>környezetét nem infiltrál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Arial"/>
              </a:rPr>
              <a:t>sebészileg általában tökéletesen eltávolíthat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Arial"/>
              </a:rPr>
              <a:t>a szervezet épségét nem veszélyezt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Arial"/>
              </a:rPr>
              <a:t>eltávolítása után ritkán recidiv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 u="sng">
                <a:solidFill>
                  <a:srgbClr val="003366"/>
                </a:solidFill>
                <a:uFillTx/>
                <a:latin typeface="Arial"/>
              </a:rPr>
              <a:t>Rosszindulatú</a:t>
            </a: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3366"/>
                </a:solidFill>
                <a:latin typeface="Arial"/>
              </a:rPr>
              <a:t>(malgin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Arial"/>
              </a:rPr>
              <a:t>a beteg életét veszélyezt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Arial"/>
              </a:rPr>
              <a:t>környezetét infiltrál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Arial"/>
              </a:rPr>
              <a:t>sebészi eltávolítás után ismét megjelen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Arial"/>
              </a:rPr>
              <a:t>a daganat sejtjei a a szervezet különböző helyein megtapadnak és így áttéti daganatok (metastasis) képződhetn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3"/>
            </a:gs>
            <a:gs pos="100000">
              <a:srgbClr val="ff9d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 daganatos betegség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z öt leggyakoribb daganatos betegség a világon: a tüdő-, a gyomor-, a vastagbél/végbél-, a máj- és az emlődagan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daganatok mintegy 75-80%-át környezeti eredetű tényezők és helytelen táplálkozási szokások okozzá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daganatok okozta halálozás jelentős része az elkerülhető halálokok közé tartozi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őfordulásuk gyakoriságát életmódbeli változtatással, a mozgással, táplálkozással, dohányzással és alkoholfogyasztással kapcsolatos szokások módosításával számottevően (kb. 20-50%-ban) csökkenthetjü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3"/>
            </a:gs>
            <a:gs pos="100000">
              <a:srgbClr val="ff9d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Mortalitási statisztikák hazánkb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Hazánkban a daganatos megbetegedések az</a:t>
            </a: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 összhalálozás 25%-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át teszik k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Jelenleg 300 ezer fő szenved daganatos megbetegedésben Magyarország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3300"/>
                </a:solidFill>
                <a:latin typeface="Arial"/>
              </a:rPr>
              <a:t>Európában Magyarországon a legmagasabb a daganatos betegségek miatti halálozá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A férfiak rák-mortalitása kedvezőbb (22%), mint a nőké (2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A magyar férfiaknál az első 3 hely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hörgők, tüd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vastagbél/végbé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prost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gyom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a szájüregi dagan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Nőkné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méh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em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vastagbél/végbé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hörgök, tüd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gyom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3"/>
            </a:gs>
            <a:gs pos="100000">
              <a:srgbClr val="ff9d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A daganatos betegségek kockázati tényező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15200" y="2353320"/>
            <a:ext cx="5403240" cy="3772440"/>
            <a:chOff x="1915200" y="2353320"/>
            <a:chExt cx="5403240" cy="3772440"/>
          </a:xfrm>
        </p:grpSpPr>
        <p:cxnSp>
          <p:nvCxnSpPr>
            <p:cNvPr id="51" name="_s10267"/>
            <p:cNvCxnSpPr>
              <a:stCxn id="52" idx="1"/>
              <a:endCxn id="53" idx="2"/>
            </p:cNvCxnSpPr>
            <p:nvPr/>
          </p:nvCxnSpPr>
          <p:spPr>
            <a:xfrm rot="10800000">
              <a:off x="5196600" y="3465000"/>
              <a:ext cx="97560" cy="17748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4" name="_s10265"/>
            <p:cNvCxnSpPr>
              <a:stCxn id="55" idx="1"/>
              <a:endCxn id="53" idx="2"/>
            </p:cNvCxnSpPr>
            <p:nvPr/>
          </p:nvCxnSpPr>
          <p:spPr>
            <a:xfrm rot="10800000">
              <a:off x="5196600" y="3465000"/>
              <a:ext cx="97560" cy="11091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6" name="_s10263"/>
            <p:cNvCxnSpPr>
              <a:stCxn id="57" idx="1"/>
              <a:endCxn id="53" idx="2"/>
            </p:cNvCxnSpPr>
            <p:nvPr/>
          </p:nvCxnSpPr>
          <p:spPr>
            <a:xfrm rot="10800000">
              <a:off x="5196600" y="3465000"/>
              <a:ext cx="97560" cy="4442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8" name="_s10261"/>
            <p:cNvCxnSpPr>
              <a:stCxn id="59" idx="3"/>
              <a:endCxn id="60" idx="2"/>
            </p:cNvCxnSpPr>
            <p:nvPr/>
          </p:nvCxnSpPr>
          <p:spPr>
            <a:xfrm flipV="1">
              <a:off x="3939480" y="3465000"/>
              <a:ext cx="99000" cy="24397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1" name="_s10259"/>
            <p:cNvCxnSpPr>
              <a:stCxn id="62" idx="3"/>
              <a:endCxn id="60" idx="2"/>
            </p:cNvCxnSpPr>
            <p:nvPr/>
          </p:nvCxnSpPr>
          <p:spPr>
            <a:xfrm flipV="1">
              <a:off x="3939480" y="3465360"/>
              <a:ext cx="99000" cy="17748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3" name="_s10257"/>
            <p:cNvCxnSpPr>
              <a:stCxn id="64" idx="3"/>
              <a:endCxn id="60" idx="2"/>
            </p:cNvCxnSpPr>
            <p:nvPr/>
          </p:nvCxnSpPr>
          <p:spPr>
            <a:xfrm flipV="1">
              <a:off x="3939480" y="3465000"/>
              <a:ext cx="99000" cy="11091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5" name="_s10255"/>
            <p:cNvCxnSpPr>
              <a:stCxn id="66" idx="3"/>
              <a:endCxn id="60" idx="2"/>
            </p:cNvCxnSpPr>
            <p:nvPr/>
          </p:nvCxnSpPr>
          <p:spPr>
            <a:xfrm flipV="1">
              <a:off x="3939480" y="3465360"/>
              <a:ext cx="99000" cy="4442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7" name="_s10252"/>
            <p:cNvCxnSpPr>
              <a:stCxn id="53" idx="0"/>
              <a:endCxn id="68" idx="2"/>
            </p:cNvCxnSpPr>
            <p:nvPr/>
          </p:nvCxnSpPr>
          <p:spPr>
            <a:xfrm flipV="1" rot="16200000">
              <a:off x="4795560" y="2620080"/>
              <a:ext cx="223200" cy="579960"/>
            </a:xfrm>
            <a:prstGeom prst="bentConnector3">
              <a:avLst>
                <a:gd name="adj1" fmla="val 4991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9" name="_s10250"/>
            <p:cNvCxnSpPr>
              <a:stCxn id="60" idx="0"/>
              <a:endCxn id="68" idx="2"/>
            </p:cNvCxnSpPr>
            <p:nvPr/>
          </p:nvCxnSpPr>
          <p:spPr>
            <a:xfrm flipH="1" flipV="1" rot="5400000">
              <a:off x="4215960" y="2620080"/>
              <a:ext cx="223200" cy="579960"/>
            </a:xfrm>
            <a:prstGeom prst="bentConnector3">
              <a:avLst>
                <a:gd name="adj1" fmla="val 4991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68" name="_s10246"/>
            <p:cNvSpPr/>
            <p:nvPr/>
          </p:nvSpPr>
          <p:spPr>
            <a:xfrm>
              <a:off x="3411000" y="2353320"/>
              <a:ext cx="2412720" cy="445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Kockázati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tényező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247"/>
            <p:cNvSpPr/>
            <p:nvPr/>
          </p:nvSpPr>
          <p:spPr>
            <a:xfrm>
              <a:off x="3507480" y="3021840"/>
              <a:ext cx="1060200" cy="443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3366"/>
                  </a:solidFill>
                  <a:latin typeface="Arial"/>
                </a:rPr>
                <a:t>Exogé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249"/>
            <p:cNvSpPr/>
            <p:nvPr/>
          </p:nvSpPr>
          <p:spPr>
            <a:xfrm>
              <a:off x="4666320" y="3021840"/>
              <a:ext cx="1060200" cy="443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Endogé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254"/>
            <p:cNvSpPr/>
            <p:nvPr/>
          </p:nvSpPr>
          <p:spPr>
            <a:xfrm>
              <a:off x="1915200" y="3688560"/>
              <a:ext cx="2023920" cy="442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Fizikai rákkeltő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256"/>
            <p:cNvSpPr/>
            <p:nvPr/>
          </p:nvSpPr>
          <p:spPr>
            <a:xfrm>
              <a:off x="1915200" y="4353480"/>
              <a:ext cx="2023920" cy="442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Kémiai rákkeltők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258"/>
            <p:cNvSpPr/>
            <p:nvPr/>
          </p:nvSpPr>
          <p:spPr>
            <a:xfrm>
              <a:off x="1915200" y="5018760"/>
              <a:ext cx="2023920" cy="442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Biológiai rákkeltők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260"/>
            <p:cNvSpPr/>
            <p:nvPr/>
          </p:nvSpPr>
          <p:spPr>
            <a:xfrm>
              <a:off x="1915200" y="5683680"/>
              <a:ext cx="2023920" cy="442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Életmó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262"/>
            <p:cNvSpPr/>
            <p:nvPr/>
          </p:nvSpPr>
          <p:spPr>
            <a:xfrm>
              <a:off x="5294880" y="3688560"/>
              <a:ext cx="2023560" cy="4420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Genetikai tényező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264"/>
            <p:cNvSpPr/>
            <p:nvPr/>
          </p:nvSpPr>
          <p:spPr>
            <a:xfrm>
              <a:off x="5294880" y="4353480"/>
              <a:ext cx="2023560" cy="4420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Molekuláris genetik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266"/>
            <p:cNvSpPr/>
            <p:nvPr/>
          </p:nvSpPr>
          <p:spPr>
            <a:xfrm>
              <a:off x="5294880" y="5018760"/>
              <a:ext cx="2023560" cy="44208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3366"/>
                  </a:solidFill>
                  <a:latin typeface="Arial"/>
                </a:rPr>
                <a:t>Endocrin tényező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3"/>
            </a:gs>
            <a:gs pos="100000">
              <a:srgbClr val="ff9d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3366"/>
                </a:solidFill>
                <a:latin typeface="Arial"/>
              </a:rPr>
              <a:t>Exogén tényezők I.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3366"/>
                </a:solidFill>
                <a:uFillTx/>
                <a:latin typeface="Arial"/>
              </a:rPr>
              <a:t>Fizikai rákkeltő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radioaktív sugárzás (az atombomba támadás túlélői között 6-10-szer gyakoribb a leukémia és a többi daganatok előfordulása is magasa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UV-sugárzás (elnyelődése helyén bőrrákot oko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3366"/>
                </a:solidFill>
                <a:uFillTx/>
                <a:latin typeface="Arial"/>
              </a:rPr>
              <a:t>Kémiai rákkeltő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policiklusos aromás szénhidrogének = </a:t>
            </a:r>
            <a:r>
              <a:rPr b="1" lang="hu-HU" sz="1800" spc="-1" strike="noStrike">
                <a:solidFill>
                  <a:srgbClr val="003366"/>
                </a:solidFill>
                <a:latin typeface="Arial"/>
              </a:rPr>
              <a:t>PAH-ok,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 melyek megtalálhatók: a cigaretta égéstermékeiben, hőhatásra képződnek állati zsírokból – halak, húsok füstölésekor; de a belső égésű járművek, hőerőművek emissziójaként a levegőben is jelen van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366"/>
                </a:solidFill>
                <a:latin typeface="Arial"/>
              </a:rPr>
              <a:t>vinil-clorid 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(PVC alapanyaga) belégzése máj-haemangiosarcomát váltott 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366"/>
                </a:solidFill>
                <a:latin typeface="Arial"/>
              </a:rPr>
              <a:t>nikkel </a:t>
            </a:r>
            <a:r>
              <a:rPr b="0" lang="hu-HU" sz="18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 orrmelléküreg és a tüdő daganat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366"/>
                </a:solidFill>
                <a:latin typeface="Arial"/>
              </a:rPr>
              <a:t>arzén 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belégzése </a:t>
            </a:r>
            <a:r>
              <a:rPr b="0" lang="hu-HU" sz="18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tüdőrákot, ritkábban bőr- és májrá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366"/>
                </a:solidFill>
                <a:latin typeface="Arial"/>
              </a:rPr>
              <a:t>króm </a:t>
            </a:r>
            <a:r>
              <a:rPr b="0" lang="hu-HU" sz="18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 tüdő tu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366"/>
                </a:solidFill>
                <a:latin typeface="Arial"/>
              </a:rPr>
              <a:t>kadmium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 prosztata daganat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366"/>
                </a:solidFill>
                <a:latin typeface="Arial"/>
              </a:rPr>
              <a:t>azbeszt </a:t>
            </a:r>
            <a:r>
              <a:rPr b="0" lang="hu-HU" sz="18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 tüdő és a pleura daganata (különösen dohányosokná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366"/>
                </a:solidFill>
                <a:latin typeface="Arial"/>
              </a:rPr>
              <a:t>hormonkészítmények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 (ösztrogén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366"/>
                </a:solidFill>
                <a:latin typeface="Arial"/>
              </a:rPr>
              <a:t>androgén-anabolikus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 szteroid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3"/>
            </a:gs>
            <a:gs pos="100000">
              <a:srgbClr val="ff9d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3366"/>
                </a:solidFill>
                <a:latin typeface="Arial"/>
              </a:rPr>
              <a:t>Exogén tényezők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 u="sng">
                <a:solidFill>
                  <a:srgbClr val="003366"/>
                </a:solidFill>
                <a:uFillTx/>
                <a:latin typeface="Arial"/>
              </a:rPr>
              <a:t>Biológiai rákkeltő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Humán papiloma vírus </a:t>
            </a:r>
            <a:r>
              <a:rPr b="0" lang="hu-HU" sz="14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méhnyakr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Herpes simplex 2 </a:t>
            </a:r>
            <a:r>
              <a:rPr b="0" lang="hu-HU" sz="14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méhnyakr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Hepatitis B </a:t>
            </a:r>
            <a:r>
              <a:rPr b="0" lang="hu-HU" sz="14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hepatocelluláris carci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3366"/>
                </a:solidFill>
                <a:latin typeface="Arial"/>
              </a:rPr>
              <a:t>Epstein-Barr </a:t>
            </a:r>
            <a:r>
              <a:rPr b="0" lang="hu-HU" sz="12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hu-HU" sz="1200" spc="-1" strike="noStrike">
                <a:solidFill>
                  <a:srgbClr val="003366"/>
                </a:solidFill>
                <a:latin typeface="Arial"/>
              </a:rPr>
              <a:t> Burkitt lymphoma (= rosszindulatú nyirokcsomó-dagan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3366"/>
                </a:solidFill>
                <a:latin typeface="Arial"/>
              </a:rPr>
              <a:t>Schistosoma haematobium </a:t>
            </a:r>
            <a:r>
              <a:rPr b="0" lang="hu-HU" sz="12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hu-HU" sz="1200" spc="-1" strike="noStrike">
                <a:solidFill>
                  <a:srgbClr val="003366"/>
                </a:solidFill>
                <a:latin typeface="Arial"/>
              </a:rPr>
              <a:t> hólyagrá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 u="sng">
                <a:solidFill>
                  <a:srgbClr val="003366"/>
                </a:solidFill>
                <a:uFillTx/>
                <a:latin typeface="Arial"/>
              </a:rPr>
              <a:t>Életmó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dohányzás </a:t>
            </a:r>
            <a:r>
              <a:rPr b="0" lang="hu-HU" sz="14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tüdő, gége, szájüreg, garat, nyelőcső, hólyag, hasnyálmirigy daganata; egyes feltételezések szerint még: vese, cervix, orr és melléküregek, gyomor, vastagbél, végbél daganat, leukémi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 u="sng">
                <a:solidFill>
                  <a:srgbClr val="003366"/>
                </a:solidFill>
                <a:uFillTx/>
                <a:latin typeface="Arial"/>
              </a:rPr>
              <a:t>helytelen táplálkoz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zsírdús ételek, magas hús és alacsony rosttartalom </a:t>
            </a:r>
            <a:r>
              <a:rPr b="0" lang="hu-HU" sz="14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daganatkeltő hatás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túlzott energiabevitel, elhízás </a:t>
            </a:r>
            <a:r>
              <a:rPr b="0" lang="hu-HU" sz="14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méh-, emlő-, vastagbél-, prosztata-, epehólyagr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nagymértékű állati eredetű zsírfogyasztás (telített zsírsavak miatt) </a:t>
            </a:r>
            <a:r>
              <a:rPr b="0" lang="hu-HU" sz="14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 vastagbél-, emlőr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túlzott sózás </a:t>
            </a:r>
            <a:r>
              <a:rPr b="0" lang="hu-HU" sz="14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gyomorr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 u="sng">
                <a:solidFill>
                  <a:srgbClr val="003366"/>
                </a:solidFill>
                <a:uFillTx/>
                <a:latin typeface="Arial"/>
              </a:rPr>
              <a:t>antioxidáns táplálék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A, C, E vitamin tartalmú táplálékok – zöldségek, gyümölcsö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Telítetlen zsírsav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Élelmi rostok védő szerepe – vastag-és végbélrák eseté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 u="sng">
                <a:solidFill>
                  <a:srgbClr val="003366"/>
                </a:solidFill>
                <a:uFillTx/>
                <a:latin typeface="Arial"/>
              </a:rPr>
              <a:t>alkohol</a:t>
            </a: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(különösen az égetett szeszesitalok)  </a:t>
            </a:r>
            <a:r>
              <a:rPr b="0" lang="hu-HU" sz="14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szájüreg, garat, gége, gyomor, vastagbél,                                             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          hasnyálmirigy, máj daga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3"/>
            </a:gs>
            <a:gs pos="100000">
              <a:srgbClr val="ff9d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Endogén tényező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003366"/>
                </a:solidFill>
                <a:uFillTx/>
                <a:latin typeface="Arial"/>
              </a:rPr>
              <a:t>Genetikai tényező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3366"/>
                </a:solidFill>
                <a:latin typeface="Arial"/>
              </a:rPr>
              <a:t>egyes daganatféleségeknél (emlő, méhtest, petefészek, gyomor, vastagbél daganatok, melanoma) kimutatható a családi haj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003366"/>
                </a:solidFill>
                <a:uFillTx/>
                <a:latin typeface="Arial"/>
              </a:rPr>
              <a:t>Endocrin tényező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3366"/>
                </a:solidFill>
                <a:latin typeface="Arial"/>
              </a:rPr>
              <a:t>ösztrogének </a:t>
            </a:r>
            <a:r>
              <a:rPr b="0" lang="hu-HU" sz="32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hu-HU" sz="3200" spc="-1" strike="noStrike">
                <a:solidFill>
                  <a:srgbClr val="003366"/>
                </a:solidFill>
                <a:latin typeface="Arial"/>
              </a:rPr>
              <a:t> emlőtum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3"/>
            </a:gs>
            <a:gs pos="100000">
              <a:srgbClr val="ff9d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 daganatok primer prevenció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a daganatok kifejlődésének megakadályo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a tumorok rizikofaktorainak kiküszöbölése vagy csökkenté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egészségneve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dohányzás abbahagyása/ rászokás megelőz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alkoholfogyasztás mérsék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zsírszegény, zöldségben és gyümölcsben gazdag táplálkoz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védőoltás (pl. Hepatitis B el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lelki egészség védel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az egészségügyi szolgáltatások megfelelő haszná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a munkahelyi egészségkárosító tényezők elkerü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sportolás, szabadidős testmozg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tartós napsütés elkerü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0:44:24Z</dcterms:created>
  <dc:creator>Bathó</dc:creator>
  <dc:description/>
  <dc:language>en-US</dc:language>
  <cp:lastModifiedBy>Bathó</cp:lastModifiedBy>
  <dcterms:modified xsi:type="dcterms:W3CDTF">2006-09-13T23:30:11Z</dcterms:modified>
  <cp:revision>14</cp:revision>
  <dc:subject/>
  <dc:title> KRÓNIKUS, NEMFERTŐZŐ BETEGSÉGEK A DAGANATOSETEGÉGSÉGEK EPIDEMIOLÓGIÁJA </dc:title>
</cp:coreProperties>
</file>