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D5F-0F78-46AE-A91E-54197629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0BF-F1C3-49C8-AD92-58EC178C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DB6-9EC8-4709-AB5E-138FE4B4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FC3-A54F-4A1F-94C6-9D7D6169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8E4-618D-4D18-B94F-7E6C9D40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1AC-E1E2-4A96-A5DB-83FDEA3E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F2B-5C9F-40AB-B249-378ABD98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0DD-E426-4834-A2C5-59A12C67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18C-6657-4BA0-9E88-E16DBE0D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934-BF0F-4C8F-921A-2CA2981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B45-4F8D-43AE-A3D7-E124A80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DDC-9FCF-4F4E-B65A-AAEB1E8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8D4D-0FC9-4CBA-B7D2-0CBCC2D9F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Gyermekek és serdülő fiatalok egészségi állapota Magyarorszá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57643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amar Brigi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4897440" cy="2622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Halálozás oki megoszlása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Arial"/>
              </a:rPr>
              <a:t>1-4 éves k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ülső halálokok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bántalmazás, balesete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eleszületett betegségek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osszindulatú dagan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Gyermeköngyilkosság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z öngyilkosságból eredő gyermek- és serdülőkori halálozás az utóbbi néhány évben nem emelkedett, de nemzetközi összehasonlításban még mindig ma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 befejezett öngyilkosságok azonban csak a jéghegy csúcsát jelentik, becslések szerint ennél 10-szer többen kísérelnek meg öngyilkosság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27880" y="2424240"/>
            <a:ext cx="688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99"/>
                </a:solidFill>
                <a:latin typeface="Arial"/>
              </a:rPr>
              <a:t>A 0-18 ÉVESE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99"/>
                </a:solidFill>
                <a:latin typeface="Arial"/>
              </a:rPr>
              <a:t>MORBIDITÁSÁNAK JELLEMZÕ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Fertőző gyermekbetegsé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2003-ban nem jelentettek kanyarót, csökkent a vérhas, a vörheny esetek szá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Szamárköhögés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kullancs okozta agyhártyagyulladás, a gennyes agyhártyagyulladás számának növekedése,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azonban e megbetegedések járványügyi helyzete a megbetegedések számának emelkedése ellenére sem minõsíthetõ kedvezőtlenn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ovábbra is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igen alacsony a HIV/AIDS miatt gondozott gyermekek száma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edvezőtlen tény, hogy az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enterális fertőzések közül elsõ helyen álló salmonellosisok korspecifikus morbiditását jelenleg is az 1-2 évesek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, illetve a csecsemõk vezeti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A második leggyakrabban jelentett enterális fertõzésben, a campylobacteriosisban a gyermekek részaránya, a megbetegedések 45,5%-a a hat éven aluliak közül került ki, a morbiditás maximuma a csecsemõkorra eset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A 2004. évben 30%-al több varicella fordult el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6699"/>
                </a:solidFill>
                <a:latin typeface="Arial"/>
              </a:rPr>
              <a:t>A nemfertőző betegségek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A magyar gyermekekre vonatkozóan kevés megbízható morbiditási adattal rendelkezünk. Az Országos Statisztikai Adatgyűjtési Program (OSAP) keretén belül gyűjtött adatokkal komoly validitási problémák vanna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Az 1-es típusú cukorbeteg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Az utóbbi 25 évben gyakorlatilag megháromszorozódott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(2001. évben 11 új eset 100.000 0-14 éves gyermekre számítva) a betegség incidenciája (új esetek előfordulási gyakorisága év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gyakoribb megjelenés oka pontosan nem ismert, valószínűleg ebben is a környezeti károsító tényezők megszaporodása játszik szerep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A 2-es típusú cukorbetegsé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 90-es évek előtt gyermekkorban ritkaságszámba ment, ma a fejlett világban számos közlemény (nálunk tapasztalat) támasztja alá szaporodásá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betegségszám párhuzamosan emelkedik az elhízás gyakoriságával.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A túlsúly és az elhízá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fejlett világban (így hazánkban is) a gyermekek mind nagyobb arányát érinti, prevalenciáját (összes esetszám) életkortól és nemtől függően 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5-15%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közé becsül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Bizonyított, hogy a kövér serdülőkből nagy valószínűséggel lesz kövér felnőtt, az elhízásnak minden súlyos egészségügyi (és egyéni szociális) következményével együtt. Így a gyermekkori kövérség is joggal sorolható a népegészségügyi problémák köz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Alultáplált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kolaorvosi jelentések alapján az elhízás mellett ismét jelentős arányúnak találták a mennyiségileg és minőségileg alultáplált gyermekek arányát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osszindulatú daganatos betegségek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Előfordulásuk a fejlett országokban, így hazánkban is növekvő tendenciát mutat. Ez az emelkedés a leukémiákra (</a:t>
            </a:r>
            <a:r>
              <a:rPr b="1" lang="hu-HU" sz="3200" spc="-1" strike="noStrike">
                <a:solidFill>
                  <a:srgbClr val="006699"/>
                </a:solidFill>
                <a:latin typeface="Arial"/>
              </a:rPr>
              <a:t>incidencia növekedés 1,2%/ év</a:t>
            </a: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), a központi idegrendszeri daganatokra (incidencia növekedés 4,2% /év) és a szolid tumorokra egyaránt jellemző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DEMOGRÁFIAI ADATO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A rendszerváltozásból következő gyors társadalmi-gazdasági változások </a:t>
            </a:r>
            <a:r>
              <a:rPr b="0" lang="hu-HU" sz="2000" spc="-1" strike="noStrike">
                <a:solidFill>
                  <a:srgbClr val="006699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évleszületések számának radikális, az 1991. év utáni 8 év alatt mintegy 26%-os csökkenése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A születések száma azóta nem emelkedett, annak ellenére sem, hogy az 1972-77. között született nagyobb létszámú korosztály már régen a reproduktív korba lépet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A korösszetételt tekintve a korfa - az európai tendenciákkal megegyezően - tovább torzult: míg 1990-ben a férfi népesség 22%-át, a női népesség 19%-át tették ki a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 0-14 évesek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, 2003-ban már csak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17%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, illetve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15%-át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Jelenleg csaknem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minden harmadik gyermek házasságon kívül jön világ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Allergiás betegségek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gyermekkori asthma bronchiale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incidenciája és prevalenciája az iparilag fejlett országokban jelentõsen emelkedi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Hazánkban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előfordulását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a gyermekek körében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 4-6%-ra becsülik,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Emelkedni látszik a többi allergiás patomechanizmusú betegség gyakorisága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is: a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táplálékallergiák, a szénanátha vagy az ekcéma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A táplálékallergia leggyakrabban kisdedkorban fordul elő. Prevalenciáját a 3 év alattiak körében 2,5%-ra teszi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A szénanátha jellemzően serdülő és fiatal felnőttkorban kezdődik. Magyarországon a 14-18 éves korcsoportban 15-20%-ban fordul elő, de egyre gyakoribb a korábbi kezd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Mozgásszervi betegségek gyermekkorban</a:t>
            </a:r>
            <a:r>
              <a:rPr b="1" lang="en-US" sz="3000" spc="-1" strike="noStrike" u="sng">
                <a:solidFill>
                  <a:srgbClr val="006699"/>
                </a:solidFill>
                <a:uFillTx/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Jelentős arányú és </a:t>
            </a:r>
            <a:r>
              <a:rPr b="1" lang="hu-HU" sz="3200" spc="-1" strike="noStrike">
                <a:solidFill>
                  <a:srgbClr val="006699"/>
                </a:solidFill>
                <a:latin typeface="Arial"/>
              </a:rPr>
              <a:t>az életkorral nő a rossz testtartású</a:t>
            </a: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 (tartási kyphosis, scoliosis, lordózis, közismert nevén „hanyagtartás”) </a:t>
            </a:r>
            <a:r>
              <a:rPr b="1" lang="hu-HU" sz="3200" spc="-1" strike="noStrike">
                <a:solidFill>
                  <a:srgbClr val="006699"/>
                </a:solidFill>
                <a:latin typeface="Arial"/>
              </a:rPr>
              <a:t>és lábstatikai problémákkal rendelkező gyermekek aránya,</a:t>
            </a: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 mely elváltozások korrekció nélkül a későbbi életkorban a mozgásszervek degeneratív folyamataihoz vezethetn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</a:rPr>
              <a:t>Mentális problémák, pszichiátriai betegségek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A pszichiátriai betegségek, ezen belül a depresszió előfordulása Európában általában emelkedő tendenciát mut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A serdülőkori hangulati zavarok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, enyhe depresszió e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lõfordulásának arányát Európában 17-22% körülire teszik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, ebből 1-2% a súlyos depresszi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Hazai pszichiátriai epidemiológiai vizsgálatok szerint is a gyermekek 1/5-ének van valamilyen érzelmi és viselkedési problémája vagy gyakori pszichoszomatikus panasza (leggyakrabban fejfájás, has- és gyomorfájás),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közel 1/5-ük gyakran fáradt és szorong, 18-28% volt jellemezhető agresszív, és 16% deviáns magatartáss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Egyre fokozódó problémát jelent a telekommunikáció negatív hatása, amely nem csak a mozgásszegény életmód kialakulásához, hanem mentális, pszichoszomatikus elváltozásokhoz is vezet (pl. értékrend-torzulás, agresszivitás, szorongás, korai hallás- és látáskárosodás, stb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RIZIKÓMAGATAR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Dohányzás, alkoholfogyaszt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z elmúlt másfél évtized alatt nem emelkedett, de nem is csökkent a dohányzó serdülő fiúk arány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hányzó serdülő lányok aránya viszont határozott növekedés mutat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 serdülők alkoholfogyasztását az elmúlt 15 évben hasonlóan kedvezőtlen tendencia jellemzi, a hétvégi bulizós, gyakran részegséggel végződő nagyiv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llegális szerek (drogok) fogyasztá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Magyarországon a kilencvenes évek második felében az évtized elejéhez képest 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közel kétszeresére növekedett a tiltott szerek és/vagy az inhalánsok együttes „élet-prevalencia-értéke”.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Ez a növekedés elsősorban a marihuána fogyasztásának növekedéséből adód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z elmúlt évekre vonatkozóan, hogy több mint egynegyedével növekedett a visszaélésszerű gyógyszerhasználat életprevalencia érté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Szexuális aktivi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99"/>
                </a:solidFill>
                <a:latin typeface="Arial"/>
              </a:rPr>
              <a:t>A 15 éves fiúk 1/3-a, a lányok 1/5-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99"/>
                </a:solidFill>
                <a:latin typeface="Arial"/>
              </a:rPr>
              <a:t>a 17 éves fiúk és lányok fele szexuálisan aktí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A fiúk és lányok közel 1/3-a 14 évesnél fiatalabb volt, 1/3-a 15 éves volt az első kapcsolat létesítések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Az újszülöttek életkilátásai, a koraszülések alakulás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z újszülöttek több mint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90%-a 2500 gramm feletti súllyal születik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 és döntő többségük fejlődése később is problémame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2500 gramm alatti születési súlyú koraszülöttek aránya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1985. és 1990. között folyamatosan csökkent, de még mindig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8% felett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. Az észak-európai országokban ennek mintegy fele a koraszülöttek aránya (4-5%), és a magyar érték magasabb nemcsak az Európai Uniós, hanem a közép-kelet-európai országok átlagánál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MORTALITÁSI ADATO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secsemőhalál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gyarországon: 7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Arial"/>
              </a:rPr>
              <a:t>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Arial"/>
              </a:rPr>
              <a:t>Uniós átlag: 4 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erületi eltéréseket mutat a kevésbé fejlett és szegényebb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észak-magyarországi, dél-dunántúli és a dél-alföldi megyékben tendenciaszerűen magasabb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z országos átlagná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125360"/>
          <a:ext cx="7921440" cy="4610160"/>
        </p:xfrm>
        <a:graphic>
          <a:graphicData uri="http://schemas.openxmlformats.org/drawingml/2006/table">
            <a:tbl>
              <a:tblPr/>
              <a:tblGrid>
                <a:gridCol w="1873080"/>
                <a:gridCol w="648000"/>
                <a:gridCol w="1511280"/>
                <a:gridCol w="1697040"/>
                <a:gridCol w="844560"/>
                <a:gridCol w="1347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6699"/>
                          </a:solidFill>
                          <a:uFillTx/>
                          <a:latin typeface="Arial"/>
                        </a:rPr>
                        <a:t>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6699"/>
                          </a:solidFill>
                          <a:uFillTx/>
                          <a:latin typeface="Arial"/>
                        </a:rPr>
                        <a:t>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6699"/>
                          </a:solidFill>
                          <a:uFillTx/>
                          <a:latin typeface="Arial"/>
                        </a:rPr>
                        <a:t>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6699"/>
                          </a:solidFill>
                          <a:uFillTx/>
                          <a:latin typeface="Arial"/>
                        </a:rPr>
                        <a:t>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Finn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Ír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véd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agy-Brit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orvé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Horváth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panyol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agyar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Cseh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Észt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zlové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Litvá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Görög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Lengyel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Cip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osz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Francia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Fehérorosz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Portugá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zlovák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Német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Lett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Ukraj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váj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Bulg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Dá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Orosz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usz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Jugoszlá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Olasz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Romá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Törökorsz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Holla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Luxembu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695840" y="504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2000"/>
            <a:ext cx="930600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SECSEMŐHALÁLOZÁS 35 EURÓPAI ORSZÁG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2004 ÉVI 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0" y="5661000"/>
          <a:ext cx="2819520" cy="1197000"/>
        </p:xfrm>
        <a:graphic>
          <a:graphicData uri="http://schemas.openxmlformats.org/drawingml/2006/table">
            <a:tbl>
              <a:tblPr/>
              <a:tblGrid>
                <a:gridCol w="990720"/>
                <a:gridCol w="609480"/>
                <a:gridCol w="12193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Ja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K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Iz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usztrá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4572000" y="5661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Gyermekhalál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z 5 éves életkor alatti halálozás - a csecsemőhalálozást is magában foglaló -nemzetközileg használt indiká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Halálozás oki megoszlása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6699"/>
                </a:solidFill>
                <a:uFillTx/>
                <a:latin typeface="Arial"/>
              </a:rPr>
              <a:t>Csecsemők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A perinatális korban keletkező bizonyos állapotok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(elsősorban a koraszülöttségből adódó betegségek) következtében fordul el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enetikai betegségek és veleszületett rendellenességek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miatt bekövetkezett haláleset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Már ebben az életkorban is jelen vannak azonban az 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erőszakos halálesetek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(csecsemőbántalmazás, gyilkosságo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A csecsemőhalálozás oki megoszl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28680" y="1600200"/>
          <a:ext cx="6684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8680" y="1600200"/>
                    <a:ext cx="6684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5:56:23Z</dcterms:created>
  <dc:creator>Bathó</dc:creator>
  <dc:description/>
  <dc:language>en-US</dc:language>
  <cp:lastModifiedBy>Bathó</cp:lastModifiedBy>
  <dcterms:modified xsi:type="dcterms:W3CDTF">2006-10-20T20:05:24Z</dcterms:modified>
  <cp:revision>9</cp:revision>
  <dc:subject/>
  <dc:title>Gyermekek és serdülő fiatalok egészségi állapota Magyarországon</dc:title>
</cp:coreProperties>
</file>