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05E-5FBB-4E01-8DEE-9475D1E7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DA5-F297-407E-AD68-B20A2249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D97-9684-454B-B9C1-657FED54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35F-D497-4505-9308-5632420B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100-4C42-4E4F-A9A0-2C6F4907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35B-9F7C-4920-ADEC-D2387514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3A1-3F34-4D1C-8D52-151A329B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802-052D-4654-87F6-737C1DA5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D6F-C07A-439F-9475-9B3026C8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899-5875-4DBD-8B38-82986B66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83C-7E4A-4260-95D1-2D37622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5DE-AE5A-4997-A518-7BF353AD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FC00-6790-47F5-8709-51A1000E6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SALÁDTERVEZÉS, TERHESGONDOZÁS. </a:t>
            </a:r>
            <a:br>
              <a:rPr sz="2800"/>
            </a:b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ANYA, CSECSEMŐ ÉS GYERMEKHIGIÉ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Hamar Brigi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Az anya-, csecsemő-, gyermek-, és ifjúság-egészségvédelem legfontosabb célkitűzé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biztosítani a gyermek "jó helyét" a családban (család központú ellátás, gondoz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elősegíteni megfelelő körülmények teremtését az optimális fejlődésé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megelőzni a gyermekkori betegsége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csökkenteni a felnőttkori betegségkockázatok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betegségmegelőzés, egészségpromó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korai intervenció a morbiditás, mortalitás és fogyatékosság minimalizálására (időben kezdett, költséghatékony beavatkoz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9900"/>
                </a:solidFill>
                <a:latin typeface="Arial"/>
              </a:rPr>
              <a:t>a kívánt terhesség előseg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Születésszabályozá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9900"/>
                </a:solidFill>
                <a:uFillTx/>
                <a:latin typeface="Arial"/>
              </a:rPr>
              <a:t>negatív születésszabályozás: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99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gamzásgát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99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erhesség-megszakítá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9900"/>
                </a:solidFill>
                <a:uFillTx/>
                <a:latin typeface="Arial"/>
              </a:rPr>
              <a:t>pozitív születésszabályozás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99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gond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99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korszerű terhes-véde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9900"/>
                </a:solidFill>
                <a:latin typeface="Arial"/>
              </a:rPr>
              <a:t>Terhesgond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anya- és csecsemővédelmi intézményekben történi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minden terhes számára kötelező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először a terhesség igazolására és idejének megállapításá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a terhesség 24. hetéig havon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a 24. és 36. hét között 2 het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a 36. héttől het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9900"/>
                </a:solidFill>
                <a:latin typeface="Arial"/>
              </a:rPr>
              <a:t>A terhesgondozást akkor mondhatjuk hatásosnak, ha azon a gondozóhoz tartozó terhesek 100%-a a harmadik hónaptól kezdve, megjelenik és azon a szülés megindulásig legalább nyolcszor részt ves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Anyavéd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korszerű születésszabály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lyamatos terhes-gond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zülés utáni gond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Csecsemőgond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élja az újszülött egészséges testi és szellemi fejlődésének biztosítá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Az optimális fejlődés, növekedés, a betegségekkel szembeni ellenállás biztosításában rendkívül fontos a csecsemő táplálá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Arial"/>
              </a:rPr>
              <a:t>Gyermekegészségügyi hálóz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Hazánkban az iskolák és óvodák egészségügyi ellátása szervezetileg, az alapellátás részeként, a gyermek-egészségügyi hálózathoz tartoz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Iskola-egészségügyi ellá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669900"/>
                </a:solidFill>
                <a:uFillTx/>
                <a:latin typeface="Arial"/>
              </a:rPr>
              <a:t>Az iskola-egészségügyi alapellátás résztvevő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iskolaorvos/ifjúsági or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iskolavédőnő/ifjúsági védőn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assziszt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gor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Az iskola-egészségügyi szolgálat felad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egészségnev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személyes példamut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szűrővizsgálatok, egészségi állapot-felmé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pályaalkalmassági vizsgá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testnevelési és sport alkalmassági vizsgá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z intézményi környezet közegészségügyi megfelelő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gond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tanácsadás, mentálhigiénés seg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védőol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elsősegélynyújtás, részvétel a gyógyító ellátá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együttműködés a tantestüle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9:17:50Z</dcterms:created>
  <dc:creator>Bathó</dc:creator>
  <dc:description/>
  <dc:language>en-US</dc:language>
  <cp:lastModifiedBy>Bathó</cp:lastModifiedBy>
  <dcterms:modified xsi:type="dcterms:W3CDTF">2006-10-20T19:58:05Z</dcterms:modified>
  <cp:revision>4</cp:revision>
  <dc:subject/>
  <dc:title>CSALÁDTERVEZÉS, TERHESGONDOZÁS.  ANYA, CSECSEMŐ ÉS GYERMEKHIGIÉNE </dc:title>
</cp:coreProperties>
</file>