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465-EC3A-49D7-86A5-3FE7546B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94A-2015-4BE1-822D-E6EFCDD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DD2-943E-4576-B4A7-49E60DC6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984-5E68-4BB4-8523-3A4EAC8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68B-D3BF-4A49-9FC7-1737C47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890-E355-4DA7-BDA0-8A7C26B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2EF-CEB5-4FD8-9940-7F7D86B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1D3-394F-4580-9BAF-CD009CB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A6C-EE31-42B6-B847-ECCA479A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0B3-5937-4AFC-B7FB-B0CEEE7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FDB-34CC-40D2-9EBA-25707AA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BCD-9F35-4BD7-BD62-8038119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727-2FC0-4FA4-97CE-22D0609DB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AZ EGÉSZSÉGÜGYI ELLÁTÁS RENDSZERE MAGYARORSZÁGON</a:t>
            </a: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Hamar Brigi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Az egészségügyet meghatározó társadalmi behatá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9900"/>
                </a:solidFill>
                <a:uFillTx/>
                <a:latin typeface="Arial"/>
              </a:rPr>
              <a:t>Az egyes országok egészségüg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9900"/>
                </a:solidFill>
                <a:uFillTx/>
                <a:latin typeface="Arial"/>
              </a:rPr>
              <a:t>rendszerinek felépítése füg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z adott társadalom történelmi fejlettségét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 társadalmi-gazdasági berendezkedés típusá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 végrehajtó hatalom felépítését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Egészségügyi szolgáltatás – az 1997. évi törvény alapján – minden olyan tevékenység, amel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megőrzi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az emberek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egészsé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megelőzi a betegsége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a már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kialakult betegségeket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korán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felismeri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és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gyógykez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sürgős szükség esetén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elhárítja az életveszél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krónikus esetben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javítja a beteg állapo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szülészeti ellátást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biztosí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humán reprodukciót befolyásoló tevékenységet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végez (mesterséges megtermékenyítés, művi meddővé té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feldolgozza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a betegektől származó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vizsgálati anyago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csökkenti a fájdalmat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és a szenvedé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klinikai kutatásokat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foly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a betegek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szállítás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át vég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biztosítja a betegek 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gyógyszer és gyógyászati segédeszköz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ellátá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AZ EGÉSZSÉGÜGYI SZOLGÁLAT ÉS MŰKÖD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11000" y="1602720"/>
            <a:ext cx="5347440" cy="4632120"/>
            <a:chOff x="1611000" y="1602720"/>
            <a:chExt cx="5347440" cy="4632120"/>
          </a:xfrm>
        </p:grpSpPr>
        <p:sp>
          <p:nvSpPr>
            <p:cNvPr id="49" name="_s5135"/>
            <p:cNvSpPr/>
            <p:nvPr/>
          </p:nvSpPr>
          <p:spPr>
            <a:xfrm flipV="1">
              <a:off x="1611000" y="5309280"/>
              <a:ext cx="5347440" cy="925200"/>
            </a:xfrm>
            <a:custGeom>
              <a:avLst/>
              <a:gdLst>
                <a:gd name="textAreaLeft" fmla="*/ 730080 w 5347440"/>
                <a:gd name="textAreaRight" fmla="*/ 4617360 w 5347440"/>
                <a:gd name="textAreaTop" fmla="*/ 126360 h 925200"/>
                <a:gd name="textAreaBottom" fmla="*/ 798840 h 92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ALAPELLÁTÁ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gyermek és felnőtt háziorvosi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fogászati ellátás, ügyeleti szolgálat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üzemorvosi és iskolaorvosi ellátás, védőnői szolgál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30"/>
            <p:cNvSpPr/>
            <p:nvPr/>
          </p:nvSpPr>
          <p:spPr>
            <a:xfrm flipV="1">
              <a:off x="2145960" y="4383000"/>
              <a:ext cx="4277880" cy="926640"/>
            </a:xfrm>
            <a:custGeom>
              <a:avLst/>
              <a:gdLst>
                <a:gd name="textAreaLeft" fmla="*/ 643680 w 4277880"/>
                <a:gd name="textAreaRight" fmla="*/ 3634200 w 4277880"/>
                <a:gd name="textAreaTop" fmla="*/ 139320 h 926640"/>
                <a:gd name="textAreaBottom" fmla="*/ 787320 h 92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JÁRÓBETEG SZAKELLÁTÁ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rendelőintézetek, szakgondozók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szakambulanciák, szakápol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1"/>
            <p:cNvSpPr/>
            <p:nvPr/>
          </p:nvSpPr>
          <p:spPr>
            <a:xfrm flipV="1">
              <a:off x="2680200" y="3454920"/>
              <a:ext cx="3209040" cy="927000"/>
            </a:xfrm>
            <a:custGeom>
              <a:avLst/>
              <a:gdLst>
                <a:gd name="textAreaLeft" fmla="*/ 556920 w 3209040"/>
                <a:gd name="textAreaRight" fmla="*/ 2652120 w 3209040"/>
                <a:gd name="textAreaTop" fmla="*/ 160920 h 927000"/>
                <a:gd name="textAreaBottom" fmla="*/ 76608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ÁLTALÁNOS KÓRHÁZA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99cc00"/>
                  </a:solidFill>
                  <a:latin typeface="Arial"/>
                </a:rPr>
                <a:t>városi, megye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33"/>
            <p:cNvSpPr/>
            <p:nvPr/>
          </p:nvSpPr>
          <p:spPr>
            <a:xfrm flipV="1">
              <a:off x="3214440" y="2529720"/>
              <a:ext cx="2139840" cy="924840"/>
            </a:xfrm>
            <a:custGeom>
              <a:avLst/>
              <a:gdLst>
                <a:gd name="textAreaLeft" fmla="*/ 470520 w 2139840"/>
                <a:gd name="textAreaRight" fmla="*/ 1669320 w 2139840"/>
                <a:gd name="textAreaTop" fmla="*/ 203400 h 924840"/>
                <a:gd name="textAreaBottom" fmla="*/ 721440 h 9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REGIONÁLIS KÖZPONTO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29"/>
            <p:cNvSpPr/>
            <p:nvPr/>
          </p:nvSpPr>
          <p:spPr>
            <a:xfrm flipV="1">
              <a:off x="3749400" y="1602360"/>
              <a:ext cx="1070640" cy="927000"/>
            </a:xfrm>
            <a:custGeom>
              <a:avLst/>
              <a:gdLst>
                <a:gd name="textAreaLeft" fmla="*/ 384120 w 1070640"/>
                <a:gd name="textAreaRight" fmla="*/ 686520 w 1070640"/>
                <a:gd name="textAreaTop" fmla="*/ 332640 h 927000"/>
                <a:gd name="textAreaBottom" fmla="*/ 59436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ORSZÁGOS INTÉZETEK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99"/>
                  </a:solidFill>
                  <a:latin typeface="Arial"/>
                </a:rPr>
                <a:t>EGYETEME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0:56Z</dcterms:created>
  <dc:creator>Bathó</dc:creator>
  <dc:description/>
  <dc:language>en-US</dc:language>
  <cp:lastModifiedBy>Bathó</cp:lastModifiedBy>
  <dcterms:modified xsi:type="dcterms:W3CDTF">2006-10-20T20:05:18Z</dcterms:modified>
  <cp:revision>5</cp:revision>
  <dc:subject/>
  <dc:title>Az egészségügyi ellátás rendszere Magyarországon.   Esélyegyenlőség kérdése az egészségügyben.</dc:title>
</cp:coreProperties>
</file>