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C3D-3256-4E22-9743-03193E0C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70B-4F3E-4A0A-9AE1-2E2B5C2A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F8F-6572-4EFE-9251-CCC771FC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290-091F-460B-AF46-D298CCF5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45F-1266-412E-9058-3F4B5C41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3DF-B726-490C-A52F-352D1198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8EF-2E49-4B0F-9A0F-CF699DAC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023-F93F-4B12-BEBF-075A925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488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1E2-000E-4F10-BFCF-2A3E0EBD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AC1-C37C-44D6-9392-4AEEAAB0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228-7B56-4BC0-8BE6-8DDC4073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125-00A7-4A5B-A52E-50E83B1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4920" y="260280"/>
            <a:ext cx="9144000" cy="9367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954920" y="378000"/>
            <a:ext cx="1224000" cy="8157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4920" y="1312920"/>
            <a:ext cx="9144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Palatino Linotype"/>
              </a:rPr>
              <a:t>Click to edit the title text format</a:t>
            </a:r>
            <a:endParaRPr b="1" lang="en-US" sz="32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3ED-B747-44C8-9348-D55F3A09251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492280"/>
            <a:ext cx="9144000" cy="15112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076640"/>
            <a:ext cx="9144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92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Palatino Linotype"/>
              </a:rPr>
              <a:t>Országos Lakossági Egészségfelmérés 20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3165" t="8284" r="5906" b="40666"/>
          <a:stretch/>
        </p:blipFill>
        <p:spPr>
          <a:xfrm>
            <a:off x="6229440" y="0"/>
            <a:ext cx="29509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A felmérés jellemzői</a:t>
            </a:r>
            <a:endParaRPr b="1" lang="en-US" sz="36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rás: 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OLEF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, nemzetközi standardok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szközök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gyéni kérdőív (kérdező tölti ki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Önkitöltős kérdőív (kérdezett tölti ki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áplálkozási kérdések - OÉTI (24 órás visszaemlékezés, 3 napos napló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447 településen 7000 18+ éves lako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5072 válaszolt (72%), 8% visszautasítá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Egészség</a:t>
            </a:r>
            <a:endParaRPr b="1" lang="en-US" sz="36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unkcionalitá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artósan korlátozott a felnőttek 20%-a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z idősek 50%-a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gítségre szorul az idősek 7%-a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árható egészség: egy 18 év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ő 44 egészségben és 15 nem-egészségbe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42.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érfi 39 egészségben és 11 nem-egészségbe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61.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eélt életévre számíth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gészségüket a magyarok 3-szor pesszimistábban ítélik meg, mint az EU polgára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Megbetegedések</a:t>
            </a:r>
            <a:endParaRPr b="1" lang="en-US" sz="36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Keringési betegségek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lakosság 40%-a, idősek 75%-a érintet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magasvérnyomás 70%-kal gyakoribb, mint az EU-ba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ukorbetegség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dős férfiaknál 50%-os növekedés 2000. ót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Hát, gerincfájdalom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érfiak 55%-a, nők 60%-a érintet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érülés miatt kezelték a felnőttek 10%-á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Életmód</a:t>
            </a:r>
            <a:endParaRPr b="1" lang="en-US" sz="36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esttömeg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felnőttek fele túlsúlyos vagy elhízot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lhízott idős férfiak aránya 2-szerese let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lkoholfogyasztá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aját bevallás alapján a nők 3%-a, a férfiak 18% egészségkárosító mértékben iszik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ohányzá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nők 29%-a, a férfiak 42%-a dohányzik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Az ellátás igénybevétele</a:t>
            </a:r>
            <a:endParaRPr b="1" lang="en-US" sz="36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Palatino Linotype"/>
              </a:rPr>
              <a:t>A felnőttek 38-a járt fogorvosná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Palatino Linotype"/>
              </a:rPr>
              <a:t>Vérnyomást ellenőriztek a felnőttek 80%-ná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Palatino Linotype"/>
              </a:rPr>
              <a:t>Nem vett részt a 45-64 éves nők 33%-a emlőrákszűrésen az előző 2 évbe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Palatino Linotype"/>
              </a:rPr>
              <a:t>Soha nem volt a 25-64 éves nők 11%-a méh-nyakrákszűrése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488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Hálapénz</a:t>
            </a:r>
            <a:endParaRPr b="1" lang="en-US" sz="3600" spc="-1" strike="noStrike">
              <a:solidFill>
                <a:srgbClr val="ff9966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Saját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egészsége érdekében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inden 4. ellátott adott hálapénz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inden 2. kórházi beteg adott hálapénz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összesen közel 30 milliárd Ft értékbe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1:40:21Z</dcterms:created>
  <dc:creator>zsambokinebm</dc:creator>
  <dc:description/>
  <dc:language>en-US</dc:language>
  <cp:lastModifiedBy>Bathó</cp:lastModifiedBy>
  <dcterms:modified xsi:type="dcterms:W3CDTF">2006-09-08T14:01:06Z</dcterms:modified>
  <cp:revision>8</cp:revision>
  <dc:subject/>
  <dc:title>1. dia</dc:title>
</cp:coreProperties>
</file>