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836-B3D6-447C-A34B-0BCF9ECF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209-13E3-404A-B760-2A28A6C9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DC0-D089-4AAC-B6EF-937F5DAF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5D2-B235-42F5-8AFA-AD4E2126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818-C5D5-4FB1-A5C0-B6B203A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D9C-FE68-4947-90FC-89CD9161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A3B-EB56-45D6-940E-3D03317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EB7-9612-4AE8-A943-DC4F2C9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239-963A-4B91-9E25-1E3AA90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2F5-D39D-436A-ABA1-03FF497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9BE-4A8B-439F-88DE-7F37120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802-9BEF-4635-86C7-69F6C0CB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3A3-0396-48FD-A2AB-FD0A10A5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A SZÍV- ÉS ÉRRENDSZERI BETEGSÉGEK JÁRVÁNYT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Hamar Brigi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A SZÍV- ÉS ÉRRENDSZERI BETEGSÉG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szív-érrendszeri illetve agyi érbetegségek alkotják a fejlett országokban a nem-fertőző betegségek legjelentősebb csoport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9900"/>
                </a:solidFill>
                <a:latin typeface="Arial"/>
              </a:rPr>
              <a:t>Magyarországon a keringési rendszer betegségei állnak az első helyen</a:t>
            </a: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 az összes halálozás több mint felét okoz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9900"/>
                </a:solidFill>
                <a:latin typeface="Arial"/>
              </a:rPr>
              <a:t>a 25</a:t>
            </a: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 Európai Uniós (</a:t>
            </a:r>
            <a:r>
              <a:rPr b="1" lang="hu-HU" sz="2400" spc="-1" strike="noStrike">
                <a:solidFill>
                  <a:srgbClr val="669900"/>
                </a:solidFill>
                <a:latin typeface="Arial"/>
              </a:rPr>
              <a:t>EU</a:t>
            </a: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1" lang="hu-HU" sz="2400" spc="-1" strike="noStrike">
                <a:solidFill>
                  <a:srgbClr val="669900"/>
                </a:solidFill>
                <a:latin typeface="Arial"/>
              </a:rPr>
              <a:t> tagállam közül Magyarország az 5. helyen áll</a:t>
            </a: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, a szív és érrendszeri betegségek okozta halálozás az EU-átlag közel duplá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szív és érrendszeri betegségek túlnyomó többségét az érrendszer belhártyájának károsodása, az ezt követő zsírlerakódás és érelmeszesedés oko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A SZÍV-ÉS ÉRRENDSZERI BETEGSÉGEKET NÉGY ALCSOPORTRA OSZTHAT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37320" cy="3627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I. ISCHAEMIÁS SZÍVBETEGSÉ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Gyakorisága az elmúlt években csökkent, a csökkenés a nőknél mérsékelteb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Kialakulásában jelentős szerepet játszik az érelmeszesedés és a 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magas koleszterinsz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A rostokban dús, húsokban és állati zsiradékokban szegény, halban, olajban gazdag táplálkozás, valamint a gyakori testmozgás kifejezetten előnyös az ischaemiás szívbetegség elsődleges megelőzésé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Kockázati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tényezők közé tartozik: a 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dohányzás, a cukorbetegség és az elhíz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9900"/>
                </a:solidFill>
                <a:uFillTx/>
                <a:latin typeface="Arial"/>
              </a:rPr>
              <a:t>A szívizominfarktus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Előfordulása férfiaknál 40, nőknél 55 éves életkor felett növeksz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Férfiaknál a halálozások száma, jelentősen csök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Nőknél a szintén kimutatható a csökken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A szívizominfarktus kockázati tényezői megegyeznek az ischaemiás szívbetegség kockázati tényezői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II. AGYÉRBETEG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Két fő típust ismerü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669900"/>
                </a:solidFill>
                <a:latin typeface="Arial"/>
              </a:rPr>
              <a:t>az ischaemiás agykárosodás</a:t>
            </a: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669900"/>
                </a:solidFill>
                <a:latin typeface="Arial"/>
              </a:rPr>
              <a:t>vérzéses kórformá</a:t>
            </a: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t, melyek közül mindkét nemben az előbbi a gyakorib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Az agyérbetegségeket gyakran előzi meg magas vérnyomás, illetve cukorbetegsé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Hazánkban az agyérbetegségek gyakorisága csökkent. Az agyi infarktus gyakorisága csökkent, a szélütés (stroke) okozta halálozások száma nő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III. MAGAS VÉRNYOM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9900"/>
                </a:solidFill>
                <a:latin typeface="Arial"/>
              </a:rPr>
              <a:t>Két fő típust ismerünk, a ritka elsődleges, és a gyakori másodlagos form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9900"/>
                </a:solidFill>
                <a:latin typeface="Arial"/>
              </a:rPr>
              <a:t>A másodlagos magasvérnyomás-betegség kialakulásában szerepet játszó, népegészségügyi szempontból legfontosabb kockázati tényezők (zsírdús étkezés, mozgásszegény életmód, dohányzás, túlzott alkoholfogyasztás) közismert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IV. REUMÁS SZÍVIZOMGYULLA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9900"/>
                </a:solidFill>
                <a:latin typeface="Arial"/>
              </a:rPr>
              <a:t>Incidenciája, vagyis az újonnan diagnosztizált esetek száma egész Európában, így Magyarországon is csökk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9900"/>
                </a:solidFill>
                <a:latin typeface="Arial"/>
              </a:rPr>
              <a:t>Főleg a szegények körében fordul elő, kialakulásában környezeti tényezők (például nedves, zsúfolt lakás) is szerepet játsza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A SZÍV- ÉS ÉRRENDSZERI BETEGSÉGEK KOCKÁZATI TÉNYEZŐI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669900"/>
                </a:solidFill>
                <a:uFillTx/>
                <a:latin typeface="Arial"/>
              </a:rPr>
              <a:t>Szív és érrendszeri kockázati tényez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Hyper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Diabetes melli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Lipidanyagcsere-za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Obes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Kissúlyú újszül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669900"/>
                </a:solidFill>
                <a:uFillTx/>
                <a:latin typeface="Arial"/>
              </a:rPr>
              <a:t>Életmóddal befolyásolható szív- és érrendszeri kockázati tényez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Dohány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Alkoholiz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Kábítószer-fogyasz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Egészségtelen táplálk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Mozgásszegény életmó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669900"/>
                </a:solidFill>
                <a:uFillTx/>
                <a:latin typeface="Arial"/>
              </a:rPr>
              <a:t>Egyéb szív és érrendszeri kockázati tényez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9900"/>
                </a:solidFill>
                <a:latin typeface="Arial"/>
              </a:rPr>
              <a:t>Egészségügyi ellátás jelenlegi helyzetéből származó kocká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A SZÍV- ÉS ÉRRENDSZERI BETEGSÉGEK </a:t>
            </a:r>
            <a:br>
              <a:rPr sz="2800"/>
            </a:b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KOCKÁZATI TÉNYEZŐI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 u="sng">
                <a:solidFill>
                  <a:srgbClr val="669900"/>
                </a:solidFill>
                <a:uFillTx/>
                <a:latin typeface="Arial"/>
              </a:rPr>
              <a:t>Szív és érrendszeri beteg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Koszorúér-betegség, szívelégtele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Perifériás érbeteg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Vesebeteg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 u="sng">
                <a:solidFill>
                  <a:srgbClr val="669900"/>
                </a:solidFill>
                <a:uFillTx/>
                <a:latin typeface="Arial"/>
              </a:rPr>
              <a:t>Társadalmi-gazdasági ténye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Viszonylagos társadalmi-gazdasági lemarad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Krónikus stres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 u="sng">
                <a:solidFill>
                  <a:srgbClr val="669900"/>
                </a:solidFill>
                <a:uFillTx/>
                <a:latin typeface="Arial"/>
              </a:rPr>
              <a:t>Nem hagyományos kockázati ténye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Tanult tehetetlensé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Depressz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Munkahelyi kontroll hiá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Társas támogatás hiá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669900"/>
                </a:solidFill>
                <a:latin typeface="Arial"/>
              </a:rPr>
              <a:t>Ellenséges beállítot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8:44:45Z</dcterms:created>
  <dc:creator>Bathó</dc:creator>
  <dc:description/>
  <dc:language>en-US</dc:language>
  <cp:lastModifiedBy>Bathó</cp:lastModifiedBy>
  <dcterms:modified xsi:type="dcterms:W3CDTF">2006-10-20T20:13:45Z</dcterms:modified>
  <cp:revision>4</cp:revision>
  <dc:subject/>
  <dc:title>A SZÍV- ÉS ÉRRENDSZERI BETEGSÉGEK JÁRVÁNYTANA</dc:title>
</cp:coreProperties>
</file>