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AC6-17E2-4CDA-9855-5782B66B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122-3C80-42BB-97E0-B40E314E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70E-CFF1-49CC-8D71-61718DF1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D4C-48E6-46BB-8714-8A4F5557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311-2493-4D84-A77F-F02D4D19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66D-691D-4935-AD57-7B4C8D49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0E9-A190-47E1-A5E5-3E7F24EF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A36-E13B-409A-AA14-D399432C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5AF-590C-49EC-BCF8-26910945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722-FD87-439B-9E50-949C06AC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CFE-ECA5-4112-BF9D-A7FBD3CE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F4F-4F47-4C5D-9093-0A53C31A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776E-3020-47B1-A14A-16A60E564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ÁRSADALOMEGÉSZSÉGTAN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I.</a:t>
            </a:r>
            <a:br>
              <a:rPr sz="36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Z EGÉSZÉG ÉS AZ EGÉSZSÉGET MEGHATÁROZÓ TÉNYE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360" y="5229360"/>
            <a:ext cx="640080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mar Brigi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MI AZ EGÉSZSÉG? </a:t>
            </a:r>
            <a:br>
              <a:rPr sz="4000"/>
            </a:b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Ki az egészsé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99"/>
                </a:solidFill>
                <a:latin typeface="Arial"/>
              </a:rPr>
              <a:t>Az egészség  = az </a:t>
            </a:r>
            <a:r>
              <a:rPr b="0" lang="hu-HU" sz="3200" spc="-1" strike="noStrike">
                <a:solidFill>
                  <a:srgbClr val="006699"/>
                </a:solidFill>
                <a:latin typeface="Arial"/>
              </a:rPr>
              <a:t>EGÉSZ</a:t>
            </a:r>
            <a:r>
              <a:rPr b="0" lang="hu-HU" sz="3200" spc="-1" strike="noStrike">
                <a:solidFill>
                  <a:srgbClr val="006699"/>
                </a:solidFill>
                <a:latin typeface="Arial"/>
              </a:rPr>
              <a:t>-ség állapo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Az orvosok hajlamosak azt gondolni, hogy egészséges az, aki nem beteg, vagyis akinek nincsen a rendelkezésre álló módszerekkel kimutatható szervi elváltozá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6699"/>
                </a:solidFill>
                <a:latin typeface="Arial"/>
                <a:ea typeface="Times New Roman"/>
              </a:rPr>
              <a:t>A laikusok inkább azt gondolják, hogy az egészségnek a testi vonatkozások mellett van egy nehezen megfogalmazható dimenziója, amely az ’életerőt’, a nehézségekkel való megbirkózás képességét takarja.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Egészségdefiníciók I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6699"/>
                </a:solidFill>
                <a:uFillTx/>
                <a:latin typeface="Arial"/>
              </a:rPr>
              <a:t>Naturalista irányz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„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A betegség hiány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Beteg az a szervezet, amely rosszul alkalmazkodik környezetéhez, egészséges az, amelyik j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z emberi test biológiai funkcióinak tökéletes működ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400" spc="-1" strike="noStrike" u="sng">
                <a:solidFill>
                  <a:srgbClr val="006699"/>
                </a:solidFill>
                <a:uFillTx/>
                <a:latin typeface="Arial"/>
              </a:rPr>
              <a:t>Hippokratés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„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Az egészség legfőbb feltétele az ember testi-lelki folyamatai és a környezet közötti harmónia, a betegség a diszharmónia állapot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6699"/>
                </a:solidFill>
                <a:uFillTx/>
                <a:latin typeface="Arial"/>
              </a:rPr>
              <a:t>Sigmund Fre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„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Az a képességünk, amikor szeretni és dolgozni tudunk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Egészségdefiníciók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6699"/>
                </a:solidFill>
                <a:uFillTx/>
                <a:latin typeface="Arial"/>
              </a:rPr>
              <a:t>Normativista elképze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Hogy valami betegség-e az a társadalom értékrendszerétől füg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z értékrendszerünk módosulása szükségszerűen megváltoztatja betegségfogalmunka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400" spc="-1" strike="noStrike" u="sng">
                <a:solidFill>
                  <a:srgbClr val="006699"/>
                </a:solidFill>
                <a:uFillTx/>
                <a:latin typeface="Arial"/>
              </a:rPr>
              <a:t>Parsons </a:t>
            </a:r>
            <a:r>
              <a:rPr b="0" lang="hu-HU" sz="2400" spc="-1" strike="noStrike" u="sng">
                <a:solidFill>
                  <a:srgbClr val="006699"/>
                </a:solidFill>
                <a:uFillTx/>
                <a:latin typeface="Arial"/>
              </a:rPr>
              <a:t>(normativista elképzelése) szerint: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Az egészség egyén optimális teljesítőképességének az az állapota, ami azoknak a szerepeknek és feladatoknak a betöltésére teszi képessé, melyekre szocializálódott.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6699"/>
                </a:solidFill>
                <a:uFillTx/>
                <a:latin typeface="Arial"/>
              </a:rPr>
              <a:t>Pszichoszomatikus megközelí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Ha a testi-lelki tényezők egymással harmóniában, összerendezetten működ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Különböző egészségdefiníciók 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6699"/>
                </a:solidFill>
                <a:uFillTx/>
                <a:latin typeface="Arial"/>
              </a:rPr>
              <a:t>Tradicionális orvosi modell/ biomedikális szemlé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betegség oki tényezői között kizárólagos jelentőséget tulajdonít a biológiai folyamatoknak. Ez a modell az egészség és betegség kérdéskörében elsősorban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a betegséget hangsúlyozza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, a kialakulását előidéző folyamatokra koncentrál és nem annak vizsgálatára, hogy lehet leghatékonyabban fenntartani az egészsé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6699"/>
                </a:solidFill>
                <a:uFillTx/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„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A teljes testi, szellemi/ lelki és szociális jólét állapota, nem csupán a betegség hiánya. 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Az egészséget meghatározó tényező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Életmód: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(egészségtudatosság, táplálkozás, testmozgás, káros szenvedély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Környezet: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(lakás, munkahely, társas környezet, csalá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Öröklött tulajdonságok: 2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gészségügyi ellátás: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5:47:54Z</dcterms:created>
  <dc:creator>Bathó</dc:creator>
  <dc:description/>
  <dc:language>en-US</dc:language>
  <cp:lastModifiedBy>Bathó</cp:lastModifiedBy>
  <dcterms:modified xsi:type="dcterms:W3CDTF">2006-09-08T14:08:44Z</dcterms:modified>
  <cp:revision>8</cp:revision>
  <dc:subject/>
  <dc:title>Az egészég és az egészséget meghatározó tényezők</dc:title>
</cp:coreProperties>
</file>