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DE0-E390-4E22-B99E-FF6318A7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514-583F-4639-8F36-85907180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C10-70EB-42F6-B913-F7A3A1DC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C1D-430C-455A-8D97-2F59466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392-9CA0-45BD-8115-8C1720B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C8C-CF2B-416B-B2BC-C53208F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FB3-D567-4838-AA4A-9FE83410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5BA-27AA-458F-9BF7-71CBEF2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23E-3321-4899-A3A0-4F3E03E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330-CF1C-41B6-8ED0-68FF3AA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62E-C190-4CF5-8E46-2EB1595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1AD-93A6-4681-AE3F-14D4E77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B71-2D07-4412-9C32-F1CD7811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 MÉHEN BELÜLI FEJLŐDÉS SZAKASZ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MAGZATI 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kkor kezdődik, amikor az összes alapvető szerv és szövet már kezdetleges formában jele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magzat tízszeresére növekszik, és arányai jelentősen megválto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556240" cy="4168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MAGZAT NÖVEKEDÉSE ÉS FEJL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10. hét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fej felegyenese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belső szervek elfoglalják a testen belüli jellemző helyü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12. hét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fiúk és lányok külsőleg megkülönböztethe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megkezdődik a vérképződés a csontvelő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szemek felveszik végső alakju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5. hónap vége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jelen van az összes idegsejt, ami az emberben valaha is működni 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megkezdődik az idegrostok hüvelyesedése (myelinizáció), de ez csak évekkel a születés után fejeződik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 magzat növekedése és fejlődés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7. hónap v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tüdő lélegzésre képes, és a központi idegrendszer eléggé fejlett, hogy a ritmikus légzőmozgásokat vezérel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jelentős mennyiségű zsír keletkezik, kisimítva a bőr ránc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szem, ami eddig zárva volt, kinyílik és válaszol a fény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9. hónap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magzat hirtelen hízni kezd, és 50 %-os súlygyarapodást ér el az utolsó hón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szülés közeledtével a növekedés lelass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z agy sokkal tekervényesebbé vá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TERATOGÉN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TERATOGÉN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~ gör. tera = ször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Olyan környezeti tényezők, amelyek eltérítik a normális fejlődést súlyos rendellenességekhez vagy akár halálhoz is vezet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Leggyakoribb teratogé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dro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fertő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sugár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környezetszenn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GYÓGYSZEREK </a:t>
            </a: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Contergan – hányinger ellen szedték a nők </a:t>
            </a:r>
            <a:r>
              <a:rPr b="0" i="1" lang="hu-HU" sz="2800" spc="-1" strike="noStrike">
                <a:solidFill>
                  <a:srgbClr val="993366"/>
                </a:solidFill>
                <a:latin typeface="Symbol"/>
                <a:ea typeface="Symbol"/>
              </a:rPr>
              <a:t></a:t>
            </a: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 egyes gyermekek kar és lábszár nélkül szület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3238560" cy="215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081240" cy="2159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DOHÁNY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a halvaszülések és a szülés közbeni halálozás aránya 28 %-kal magasabb dohányzó anyák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a dohányzás alacsonyabb születési testsúllyal jár együ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3800" y="160020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I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z erősen italozó (naponta legalább 5 italt elfogyasztó) anyák gyermekeinek 30%-os esélyük van arra, hogy a magzati alkohol-szindróma tüneteit fogják mutat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kis f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fejletlen 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szem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veleszületett szívbeteg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ízületi bántal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az arc deformá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V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KOK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Gyors függőséget alakít ki az any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Többszörösen romboló hatást fejt ki a magzatra, spontán vetélést és szívrohamot kivál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kokainfüggő anyától született gyermekek ingerlékenyek, mozgáskoordinációjuk károsod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METADON, HER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heroin-függő anyák gyermekei maguk is szerfüggők 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  <a:ea typeface="Arial"/>
              </a:rPr>
              <a:t>→ röviddel a születés után adni kell nekik a szerb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heroin-függő anyák gyermekei gyakran koraszülöttek, kis súlyúak, könnyen esnek áldozatul légzőszervi betegségeknek. Ingerlékenyek, reszketnek, sírásuk rendellenes, alvásuk zavart, mozgáskontrolljuk csökk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2. FERTŐ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RUB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terhesség 1-3 hónapja alat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veleszületett szívelégtele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hály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terhesség második harmad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mozgáskorlátozot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Védekezés: rubeóla elleni védőol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vírussal fertőzött anyák gyermekei 50%-ban kapják meg a kó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 MÉHEN BELÜLI FEJLŐDÉS SZAKASZ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SÍRA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fogamzástól a beágyazódás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8-10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EMBRIONÁLIS 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a méhfalhoz rögzüléstől a 8. hét végé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fontosabb szervek mindegyike primitív alakot ö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MAGZATI 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9. héttől a születé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a csontok keményedésének első jeleivel kezdő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3. SUGÁR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A nagy mennyiségű sugárzás általában a fejlődő szervezet súlyos deformációját eredményezi, sok esetben spontán vetélést ok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A terhesség 8-15. hete között fejti ki legrombolóbb hatását a magzat fejlődő központi idegrendszerére, amikor az agykéregi idegsejtek gyorsan szaporod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4. KÖRNYEZETI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Higanyszennyezés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  <a:ea typeface="Arial"/>
              </a:rPr>
              <a:t>→ Minimata-kór (agyi eredetű bénulás, koponya deformációja, néha rendellensen kicsi fe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MEGTERMÉKENYÜ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Megtermékenyített petesejt</a:t>
            </a:r>
            <a:r>
              <a:rPr b="0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sejt közepén, a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ejtmagban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helyezkednek el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géneket hordozó kromoszóm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sejtmag körül a sejt anyaga van, amely az első néhány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ejtosztódás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nyersanyagaként szolg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167360" cy="413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289400" cy="3416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2903400" cy="290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csíra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fogamzást követő 8-10 nap folyamán a megtermékenyített petesejt végigvándorol a petevezetéken a méh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675400" cy="37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Z EMBRIONÁLIS 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hólyagcsíra sikeres beágyazódását követő 6 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Ezen időszak alatt öltenek alakot a test alapvető szervei, és a szervezet elkezd a közvetlen ingerlésre válaszo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646960" cy="3806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Z EMBRIÓ NÖVEKE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A </a:t>
            </a:r>
            <a:r>
              <a:rPr b="1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belső sejttömeg</a:t>
            </a: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 három részre vál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Külső réteg (ekt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bőr külső felszí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szemlen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belső f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Középső réteg (mez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iz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cs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keringé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bőr réte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Belső réteg (end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emésztő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tüd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NEMI DIFFERENCIÁLÓDÁS FOLY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 fogamzást követő hat hétben nincs szervi különbség a genetikailag eltérő nemek között (XX, 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XY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 – a 7. héten az ivarredők elkezdenek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herékké alakulni ( a hímivarmirigyek által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termelt hím nemi hormonok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tesztoszteron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teszik az embriót hím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 női nemi szervek kialakulása a tesztoszteron hiányán mú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z embrió növekedése és fejlőd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66"/>
                </a:solidFill>
                <a:latin typeface="Arial"/>
              </a:rPr>
              <a:t>10 -13. nap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a sejtek rétegekbe –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nd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mez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kt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rendez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66"/>
                </a:solidFill>
                <a:latin typeface="Arial"/>
              </a:rPr>
              <a:t>6. hét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a fej méretben dominánssá válik.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Az agy három fő része –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lő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közép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utó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különvál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2:18:23Z</dcterms:created>
  <dc:creator>Bathó</dc:creator>
  <dc:description/>
  <dc:language>en-US</dc:language>
  <cp:lastModifiedBy>Bathó</cp:lastModifiedBy>
  <dcterms:modified xsi:type="dcterms:W3CDTF">2007-02-09T19:46:09Z</dcterms:modified>
  <cp:revision>10</cp:revision>
  <dc:subject/>
  <dc:title>A méhen belüli növekedés szakaszai</dc:title>
</cp:coreProperties>
</file>