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9F4C-C2A3-4279-B3AE-B472A5B9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3BAB-293F-4095-8BC4-5F3B8A73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FA05-639D-4EEF-AC30-A8CCEA48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B5C9-BF26-4025-84CB-D135C7F8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A426-D11B-47C0-BC9D-5D11CC2D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ADF-171C-4245-96A9-66C5CADE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580F-405A-4160-9AB9-42822476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3C4-7D50-40CA-9114-292BEF09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8EA-C9AD-4F26-93EC-09041A31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AF02-72DE-45D2-A863-E7317AC2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BDC4-4765-4B25-8D75-BCA41C88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A87-1125-4FA9-9192-924C74F2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EE17-BD52-4812-8D99-7155ECAEB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"/>
              </a:rPr>
              <a:t>A MÉHEN BELÜLI FEJLŐDÉS SZAKASZ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Arial"/>
              </a:rPr>
              <a:t>A MAGZATI SZAKAS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66"/>
                </a:solidFill>
                <a:latin typeface="Arial"/>
              </a:rPr>
              <a:t>Akkor kezdődik, amikor az összes alapvető szerv és szövet már kezdetleges formában jelen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66"/>
                </a:solidFill>
                <a:latin typeface="Arial"/>
              </a:rPr>
              <a:t>A magzat tízszeresére növekszik, és arányai jelentősen megváltoz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556240" cy="41688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A MAGZAT NÖVEKEDÉSE ÉS FEJLŐD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993366"/>
                </a:solidFill>
                <a:latin typeface="Arial"/>
              </a:rPr>
              <a:t>10. hét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a fej felegyenesed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belső szervek elfoglalják a testen belüli jellemző helyü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993366"/>
                </a:solidFill>
                <a:latin typeface="Arial"/>
              </a:rPr>
              <a:t>12. hét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a fiúk és lányok külsőleg megkülönböztethető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megkezdődik a vérképződés a csontvelő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a szemek felveszik végső alakjuk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993366"/>
                </a:solidFill>
                <a:latin typeface="Arial"/>
              </a:rPr>
              <a:t>5. hónap vége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jelen van az összes idegsejt, ami az emberben valaha is működni f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megkezdődik az idegrostok hüvelyesedése (myelinizáció), de ez csak évekkel a születés után fejeződik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A magzat növekedése és fejlődése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3366"/>
                </a:solidFill>
                <a:latin typeface="Arial"/>
              </a:rPr>
              <a:t>7. hónap vé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a tüdő lélegzésre képes, és a központi idegrendszer eléggé fejlett, hogy a ritmikus légzőmozgásokat vezérel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jelentős mennyiségű zsír keletkezik, kisimítva a bőr ránca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a szem, ami eddig zárva volt, kinyílik és válaszol a fény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3366"/>
                </a:solidFill>
                <a:latin typeface="Arial"/>
              </a:rPr>
              <a:t>9. hónap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a magzat hirtelen hízni kezd, és 50 %-os súlygyarapodást ér el az utolsó hónap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a szülés közeledtével a növekedés lelass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az agy sokkal tekervényesebbé vál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Arial"/>
              </a:rPr>
              <a:t>TERATOGÉN ÁRTALM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Arial"/>
              </a:rPr>
              <a:t>TERATOGÉN ÁRTALM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~ gör. tera = ször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Olyan környezeti tényezők, amelyek eltérítik a normális fejlődést súlyos rendellenességekhez vagy akár halálhoz is vezet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993366"/>
                </a:solidFill>
                <a:uFillTx/>
                <a:latin typeface="Arial"/>
              </a:rPr>
              <a:t>Leggyakoribb teratogén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drog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fertőzé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sugárz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környezetszennye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1. DROGOK I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3366"/>
                </a:solidFill>
                <a:latin typeface="Arial"/>
              </a:rPr>
              <a:t>GYÓGYSZEREK </a:t>
            </a:r>
            <a:r>
              <a:rPr b="0" i="1" lang="hu-HU" sz="2800" spc="-1" strike="noStrike">
                <a:solidFill>
                  <a:srgbClr val="993366"/>
                </a:solidFill>
                <a:latin typeface="Arial"/>
              </a:rPr>
              <a:t>Contergan – hányinger ellen szedték a nők </a:t>
            </a:r>
            <a:r>
              <a:rPr b="0" i="1" lang="hu-HU" sz="2800" spc="-1" strike="noStrike">
                <a:solidFill>
                  <a:srgbClr val="993366"/>
                </a:solidFill>
                <a:latin typeface="Symbol"/>
                <a:ea typeface="Symbol"/>
              </a:rPr>
              <a:t></a:t>
            </a:r>
            <a:r>
              <a:rPr b="0" i="1" lang="hu-HU" sz="2800" spc="-1" strike="noStrike">
                <a:solidFill>
                  <a:srgbClr val="993366"/>
                </a:solidFill>
                <a:latin typeface="Arial"/>
              </a:rPr>
              <a:t> egyes gyermekek kar és lábszár nélkül szület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932360" y="981000"/>
            <a:ext cx="3238560" cy="2158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932360" y="3573360"/>
            <a:ext cx="3081240" cy="21592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1. DROGOK II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3366"/>
                </a:solidFill>
                <a:latin typeface="Arial"/>
              </a:rPr>
              <a:t>DOHÁNYZ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993366"/>
                </a:solidFill>
                <a:latin typeface="Arial"/>
              </a:rPr>
              <a:t>a halvaszülések és a szülés közbeni halálozás aránya 28 %-kal magasabb dohányzó anyák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993366"/>
                </a:solidFill>
                <a:latin typeface="Arial"/>
              </a:rPr>
              <a:t>a dohányzás alacsonyabb születési testsúllyal jár együ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933800" y="1600200"/>
            <a:ext cx="3467160" cy="4525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1. DROGOK III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3366"/>
                </a:solidFill>
                <a:latin typeface="Arial"/>
              </a:rPr>
              <a:t>ALK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Az erősen italozó (naponta legalább 5 italt elfogyasztó) anyák gyermekeinek 30%-os esélyük van arra, hogy a magzati alkohol-szindróma tüneteit fogják mutat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- kis f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- fejletlen a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- szemrendellenesség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- veleszületett szívbeteg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- ízületi bántal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- az arc deformáció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1. DROGOK IV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KOK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66"/>
                </a:solidFill>
                <a:latin typeface="Arial"/>
              </a:rPr>
              <a:t>Gyors függőséget alakít ki az anyá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66"/>
                </a:solidFill>
                <a:latin typeface="Arial"/>
              </a:rPr>
              <a:t>Többszörösen romboló hatást fejt ki a magzatra, spontán vetélést és szívrohamot kivál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66"/>
                </a:solidFill>
                <a:latin typeface="Arial"/>
              </a:rPr>
              <a:t>A kokainfüggő anyától született gyermekek ingerlékenyek, mozgáskoordinációjuk károsodot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METADON, HER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66"/>
                </a:solidFill>
                <a:latin typeface="Arial"/>
              </a:rPr>
              <a:t>A heroin-függő anyák gyermekei maguk is szerfüggők </a:t>
            </a:r>
            <a:r>
              <a:rPr b="0" lang="en-US" sz="2000" spc="-1" strike="noStrike">
                <a:solidFill>
                  <a:srgbClr val="993366"/>
                </a:solidFill>
                <a:latin typeface="Arial"/>
                <a:ea typeface="Arial"/>
              </a:rPr>
              <a:t>→ röviddel a születés után adni kell nekik a szerbő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66"/>
                </a:solidFill>
                <a:latin typeface="Arial"/>
              </a:rPr>
              <a:t>A heroin-függő anyák gyermekei gyakran koraszülöttek, kis súlyúak, könnyen esnek áldozatul légzőszervi betegségeknek. Ingerlékenyek, reszketnek, sírásuk rendellenes, alvásuk zavart, mozgáskontrolljuk csökk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Arial"/>
              </a:rPr>
              <a:t>2. FERTŐZÉS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993366"/>
                </a:solidFill>
                <a:latin typeface="Arial"/>
              </a:rPr>
              <a:t>RUBE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A terhesség 1-3 hónapja alat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→ 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veleszületett szívelégtelen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→ 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hály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→ 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értelmi fogyatékoss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A terhesség második harmadá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→ 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értelmi fogyatékoss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→ 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mozgáskorlátozotts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→ </a:t>
            </a: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értelmi fogyatékoss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  <a:ea typeface="Arial"/>
              </a:rPr>
              <a:t>Védekezés: rubeóla elleni védőoltás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993366"/>
                </a:solidFill>
                <a:latin typeface="Arial"/>
              </a:rPr>
              <a:t>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3366"/>
                </a:solidFill>
                <a:latin typeface="Arial"/>
              </a:rPr>
              <a:t>a vírussal fertőzött anyák gyermekei 50%-ban kapják meg a kó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A MÉHEN BELÜLI FEJLŐDÉS SZAKASZ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99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CSÍRASZAKAS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a fogamzástól a beágyazódási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8-10 n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99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EMBRIONÁLIS SZAKAS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a méhfalhoz rögzüléstől a 8. hét végéi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a fontosabb szervek mindegyike primitív alakot ö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99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MAGZATI SZAKAS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9. héttől a születés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A a csontok keményedésének első jeleivel kezdőd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Arial"/>
              </a:rPr>
              <a:t>3. SUGÁR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A nagy mennyiségű sugárzás általában a fejlődő szervezet súlyos deformációját eredményezi, sok esetben spontán vetélést oko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A terhesség 8-15. hete között fejti ki legrombolóbb hatását a magzat fejlődő központi idegrendszerére, amikor az agykéregi idegsejtek gyorsan szaporodn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"/>
              </a:rPr>
              <a:t>4. KÖRNYEZETI ÁRTALM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Higanyszennyezés 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  <a:ea typeface="Arial"/>
              </a:rPr>
              <a:t>→ Minimata-kór (agyi eredetű bénulás, koponya deformációja, néha rendellensen kicsi fe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2505240"/>
            <a:ext cx="4038480" cy="27162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Arial"/>
              </a:rPr>
              <a:t>A MEGTERMÉKENYÜL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3366"/>
                </a:solidFill>
                <a:uFillTx/>
                <a:latin typeface="Arial"/>
              </a:rPr>
              <a:t>Megtermékenyített petesejt</a:t>
            </a:r>
            <a:r>
              <a:rPr b="0" lang="en-US" sz="3200" spc="-1" strike="noStrike" u="sng">
                <a:solidFill>
                  <a:srgbClr val="993366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a sejt közepén, a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sejtmagban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 helyezkednek el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a géneket hordozó kromoszóm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A sejtmag körül a sejt anyaga van, amely az első néhány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sejtosztódás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 nyersanyagaként szolg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16360" y="1484280"/>
            <a:ext cx="4167360" cy="4130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4289400" cy="3416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71640" y="189000"/>
            <a:ext cx="2903400" cy="2903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Arial"/>
              </a:rPr>
              <a:t>A csíraszakas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A fogamzást követő 8-10 nap folyamán a megtermékenyített petesejt végigvándorol a petevezetéken a méh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675400" cy="3771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"/>
              </a:rPr>
              <a:t>AZ EMBRIONÁLIS SZAKAS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A hólyagcsíra sikeres beágyazódását követő 6 h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Ezen időszak alatt öltenek alakot a test alapvető szervei, és a szervezet elkezd a közvetlen ingerlésre válaszol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5646960" cy="3806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"/>
              </a:rPr>
              <a:t>AZ EMBRIÓ NÖVEKED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993366"/>
                </a:solidFill>
                <a:uFillTx/>
                <a:latin typeface="Arial"/>
              </a:rPr>
              <a:t>A </a:t>
            </a:r>
            <a:r>
              <a:rPr b="1" lang="hu-HU" sz="2800" spc="-1" strike="noStrike" u="sng">
                <a:solidFill>
                  <a:srgbClr val="993366"/>
                </a:solidFill>
                <a:uFillTx/>
                <a:latin typeface="Arial"/>
              </a:rPr>
              <a:t>belső sejttömeg</a:t>
            </a:r>
            <a:r>
              <a:rPr b="0" lang="hu-HU" sz="2800" spc="-1" strike="noStrike" u="sng">
                <a:solidFill>
                  <a:srgbClr val="993366"/>
                </a:solidFill>
                <a:uFillTx/>
                <a:latin typeface="Arial"/>
              </a:rPr>
              <a:t> három részre váli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3366"/>
                </a:solidFill>
                <a:latin typeface="Arial"/>
              </a:rPr>
              <a:t>Külső réteg (ektoder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bőr külső felszí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szemlenc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belső fü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ideg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3366"/>
                </a:solidFill>
                <a:latin typeface="Arial"/>
              </a:rPr>
              <a:t>Középső réteg (mezoder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izm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cson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keringési 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a bőr réteg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3366"/>
                </a:solidFill>
                <a:latin typeface="Arial"/>
              </a:rPr>
              <a:t>Belső réteg (endoder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emésztő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66"/>
                </a:solidFill>
                <a:latin typeface="Arial"/>
              </a:rPr>
              <a:t>tüd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A NEMI DIFFERENCIÁLÓDÁS FOLYA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A fogamzást követő hat hétben nincs szervi különbség a genetikailag eltérő nemek között (XX, X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3366"/>
                </a:solidFill>
                <a:latin typeface="Arial"/>
              </a:rPr>
              <a:t>XY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 – a 7. héten az ivarredők elkezdenek 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herékké alakulni ( a hímivarmirigyek által 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termelt hím nemi hormonok 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(</a:t>
            </a:r>
            <a:r>
              <a:rPr b="1" lang="hu-HU" sz="2800" spc="-1" strike="noStrike">
                <a:solidFill>
                  <a:srgbClr val="993366"/>
                </a:solidFill>
                <a:latin typeface="Arial"/>
              </a:rPr>
              <a:t>tesztoszteron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) 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teszik az embriót hímm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66"/>
                </a:solidFill>
                <a:latin typeface="Arial"/>
              </a:rPr>
              <a:t>A női nemi szervek kialakulása a tesztoszteron hiányán múl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f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Az embrió növekedése és fejlődé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993366"/>
                </a:solidFill>
                <a:latin typeface="Arial"/>
              </a:rPr>
              <a:t>10 -13. nap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 – a sejtek rétegekbe – 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3200" spc="-1" strike="noStrike" u="sng">
                <a:solidFill>
                  <a:srgbClr val="993366"/>
                </a:solidFill>
                <a:uFillTx/>
                <a:latin typeface="Arial"/>
              </a:rPr>
              <a:t>endoderma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, </a:t>
            </a:r>
            <a:r>
              <a:rPr b="0" lang="hu-HU" sz="3200" spc="-1" strike="noStrike" u="sng">
                <a:solidFill>
                  <a:srgbClr val="993366"/>
                </a:solidFill>
                <a:uFillTx/>
                <a:latin typeface="Arial"/>
              </a:rPr>
              <a:t>mezoderma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, 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3200" spc="-1" strike="noStrike" u="sng">
                <a:solidFill>
                  <a:srgbClr val="993366"/>
                </a:solidFill>
                <a:uFillTx/>
                <a:latin typeface="Arial"/>
              </a:rPr>
              <a:t>ektoderma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 – rendeződ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993366"/>
                </a:solidFill>
                <a:latin typeface="Arial"/>
              </a:rPr>
              <a:t>6. hét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 – a fej méretben dominánssá válik. 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Az agy három fő része – </a:t>
            </a:r>
            <a:r>
              <a:rPr b="0" lang="hu-HU" sz="3200" spc="-1" strike="noStrike" u="sng">
                <a:solidFill>
                  <a:srgbClr val="993366"/>
                </a:solidFill>
                <a:uFillTx/>
                <a:latin typeface="Arial"/>
              </a:rPr>
              <a:t>előagy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, 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hu-HU" sz="3200" spc="-1" strike="noStrike" u="sng">
                <a:solidFill>
                  <a:srgbClr val="993366"/>
                </a:solidFill>
                <a:uFillTx/>
                <a:latin typeface="Arial"/>
              </a:rPr>
              <a:t>középagy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, </a:t>
            </a:r>
            <a:r>
              <a:rPr b="0" lang="hu-HU" sz="3200" spc="-1" strike="noStrike" u="sng">
                <a:solidFill>
                  <a:srgbClr val="993366"/>
                </a:solidFill>
                <a:uFillTx/>
                <a:latin typeface="Arial"/>
              </a:rPr>
              <a:t>utóagy</a:t>
            </a:r>
            <a:r>
              <a:rPr b="0" lang="hu-HU" sz="3200" spc="-1" strike="noStrike">
                <a:solidFill>
                  <a:srgbClr val="993366"/>
                </a:solidFill>
                <a:latin typeface="Arial"/>
              </a:rPr>
              <a:t> – különváli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2:18:23Z</dcterms:created>
  <dc:creator>Bathó</dc:creator>
  <dc:description/>
  <dc:language>en-US</dc:language>
  <cp:lastModifiedBy>Bathó</cp:lastModifiedBy>
  <dcterms:modified xsi:type="dcterms:W3CDTF">2007-02-09T19:46:09Z</dcterms:modified>
  <cp:revision>10</cp:revision>
  <dc:subject/>
  <dc:title>A méhen belüli növekedés szakaszai</dc:title>
</cp:coreProperties>
</file>