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6D6-B875-4216-8195-5DF815E7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A6D-9498-474D-A82B-59C01F7E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360-35E3-4255-B457-D94BC65C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75A-D1C2-4481-9142-D6BC4EDB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594-A972-4D57-B216-C55FE47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3B5-F0C1-4540-BC7F-034BD78E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FD4-6579-4D0A-B3AF-1E231750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3D1-7000-4A47-AF6E-FF16C732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BCF-E33D-44AA-86E8-DF3071C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74C-C786-43B3-97CE-9EF06AB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714-E73C-4F7E-985A-B43FA7F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979-BAF1-4DDA-B453-5E16D73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45F-DC2D-4798-B049-BD65A6F4A47C}" type="slidenum">
              <a:rPr b="0" lang="hu-HU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Ókori kultúrközpontok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Fő növényi táplálékok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r.e. 3000 körül az óvilág kultúrnövénye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Búza, zab, árpa, lencse, és borsó,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merikában: manioka, tök, avokadó, bab és kukorica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elet-Ázsiában: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andula, bab, bételdió, uborka, borsó, búza, kö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Folyami kultúrák </a:t>
            </a:r>
            <a:r>
              <a:rPr b="0" lang="hu-HU" sz="36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 mezögazdaság</a:t>
            </a:r>
            <a:br>
              <a:rPr sz="3600"/>
            </a:b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Kr.e.2000-töl…... Kr.u.500-i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Integráció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Városállamok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(pl. Uruk 2900-2400), Piac, vár, vallási ép., Csatorna hálózat a város körül,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Birodalmak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(Akkád és Babilon ~2000 körül), teljes Mezopotámia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Nomád népek betörésekor szétesik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(Arabok 640), újak alakulnak: Méd, Perzsa, Maced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A központi hatalom lehetőségei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agy közös munká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ülső ellenség elleni véde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Rabszolga szerz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Specializált szakemberek képzése és hasznosítá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agy piac és külkereskede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Mezopotámia öröksé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Későbbi Nória és shaduf ill. szakije (gémeskút)</a:t>
            </a:r>
            <a:r>
              <a:rPr b="0" lang="hu-HU" sz="24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 súlyemelés (kétkarú emelő).Vízvezeték és csatorna. Zsilip, kőhíd. Téglaégetés, Mázak, Boltív. Kerék, Kocsi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Naptár (Asztronomia),Idömérés. Matematika, Írá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Vegyész alapmüveletek: Desztilláció, extrakció, szublimálás. Sör-bor, kenyér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Festés, pácok, mosószerek, konzerválási módok,ötvözete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A recep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66"/>
                </a:solidFill>
                <a:latin typeface="Times New Roman"/>
              </a:rPr>
              <a:t>Müveleti rajzok, (jelölési rendszer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Egyiptom és Irá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Vízgazdálkodás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Hajó, pénz, üveg készítés, őrlés fejlődése, hadi utak, bíbor festés, vetőgép, csigasorok használata.Textíliák.Gátak, csatornák és vízemelők tömeges használata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őmegmunkálás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Fejtés, fűrészelés,</a:t>
            </a: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Nagy súlyok emelése, szállítása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gépek, csigasorok, ékek, görgök használata, kötélveré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amegmunkálás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esztergálás, papíros készítés, gipszhabarcs (mészégetés), vitorla(még négyszögletes!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Villámhárítók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tudatos használa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66"/>
                </a:solidFill>
                <a:latin typeface="Times New Roman"/>
              </a:rPr>
              <a:t>Orvostudomány,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 operációk, mumifikálás, tartósítás, agyműtétek végzé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Városrendezés, csatornáz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Számrendszer </a:t>
            </a:r>
            <a:r>
              <a:rPr b="0" lang="hu-HU" sz="2000" spc="-1" strike="noStrike">
                <a:solidFill>
                  <a:srgbClr val="ffff66"/>
                </a:solidFill>
                <a:latin typeface="Times New Roman"/>
              </a:rPr>
              <a:t>(helyérték), fonókerék, rozsdamentes acél, edzé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engyel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Kikötő,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66"/>
                </a:solidFill>
                <a:latin typeface="Times New Roman"/>
              </a:rPr>
              <a:t>Kí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Selyemtechnológia (lábitószék stb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Papírgyártás, tus, fadúc-nyomás, papírpénz, vasönté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Porcelán, lakk,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Kútfúrás himbás szerkezettel,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Puskapor, sárkány, iránytű, számszeríjj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Kínai nagy fal (mint út is! ~ 2500 km hosszú!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Egységes mérték-, súly-, fémpénz-, és írásrendszer bevezetése,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66"/>
                </a:solidFill>
                <a:latin typeface="Times New Roman"/>
              </a:rPr>
              <a:t>Mágnestű használat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Fő növényi táplálék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Gabona (búza, árpa, köles stb.)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Hazája a termékeny félhold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ukorica.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Dél-Amerika. Elterjedése Amerika felfedezése utá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Burgonya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Dél-Amerika. Elterjedése Amerika felfedezése utá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Rizs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Trópusi klímán, termékeny talajon, Kína. Selyem-úton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Manióka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Közép-Amerika, Később Indonézia, Elő-In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Termesztés mód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alaj előkészí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zaporí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Növényápolás, védel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Betakarí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árolás, tartósí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lőkészítés fogyasztáshoz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Halászat, vadászat, gyűjtöge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Veszély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ideg éghajlat miatt kicsi az eltartóképessé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Bizonytalan az eredmén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Tárolás nem lehetséges (tartósítá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Kiscsoportos tevékenység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Sok csecsemőgyilkosság (létszámkorlátozá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Helyhezkötődés kezde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neolitikus “forradalom” Kr.e. 9000 táján az ember életmódjában alapvető változás következett b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ős- és újkőkor közötti alapvető kulturális váltás oka a növénytermesztés, a földművelés kezdete vol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Haszonnövények termesztés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057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66"/>
                </a:solidFill>
                <a:latin typeface="Times New Roman"/>
              </a:rPr>
              <a:t>Nagy rabszolgatartó kultúrközpontok társadalma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Folyami kultúrák (Mezopotámia,Nílus,Indus,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Hoang Ho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66"/>
                </a:solidFill>
                <a:latin typeface="Times New Roman"/>
              </a:rPr>
              <a:t>Állami munkamegosztá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00"/>
                </a:solidFill>
                <a:latin typeface="Times New Roman"/>
              </a:rPr>
              <a:t>Nomád élet jellemzői csökkenne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megtelepedéssel “nehezebb” szerszámok, eszközök készítését hozta, a nomád életmód ezt nem tette lehetővé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földművelés nem egyidőben jelent meg, mert a jégkorszaki gleccserképződés is mindenütt más ideig tartott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első “földműves kultúra” Kr.e. 8000 körűl jelent meg a “termékeny félhold”-on a mezopotámiai síkságot körülvevő dombos vidékeke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Hasonló fejlődés volt kissé később Kelet-Ázsiában, Mexikóban és Peruba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Állattenyészté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Kecske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Tejéért, húsáért, bőréért tenyésztették. Igénytelen, szapora állat. Teje erjesztés után sajtnak feldolgozható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Juh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Húsáért, gyapjáért és tejéért tenyésztik. Szapora állat, igénytelen a táplálkozását illetően. A hómentes területeken kevés takarmányt kell termelni, tárolni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Szarvasmarha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Tejéért, a hímivarú egyedeit igavonásra, húsáért, bőréért tenyésztették. Igényesebb a táplálkozásra, magasabb szintű mezőgazdasági tevékenységet igényel. (takarmány szükséglet)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00"/>
                </a:solidFill>
                <a:latin typeface="Times New Roman"/>
              </a:rPr>
              <a:t>Ló: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Igavonásra és hátaslóként használták és használják ma is. Öszvér: Ló kancától és szamár csődörtől származó, a jó tulajdonságokat örökítő hibrid. Tovább nem szaporítható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omádélet végének ok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 vadászat, gyűjtögetés sok százezer éves múltjához képest aránylag gyorsan alakult át. Azzal magyarázzák, hogy a legutolsó jégkorszak után világszerte hirtelen éghajlatváltozás következet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okra a területekre vonultak viszonylag nagy népcsoportok, amelyek még nem száradtak ki, még termékenyek volta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Az emberek számának növekedése miatt viszonylag megfogyatkozott a vadállomány. Ez kényszerítette ki a földművelés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Nomádélet - letelepedés?</a:t>
            </a:r>
            <a:br>
              <a:rPr sz="4400"/>
            </a:b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Csökken a hús, növekszik a növényi táplálék fogyasztá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z ember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 ökológiai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egyensúlyban élt a növényekkel, állatokkal, letelepedésre késztette őke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Nagy tartalékokat csak helyben lehetett tárolni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termékeny félholdban nőtt egy fű-féle növény, amely könnyen aratható volt és nagy magvai voltak.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A “vad búza” lett az óvilág legfontosabb kultúrnövénye. Egy kőkorszaki család három hét alatt még kezdetleges eszközökkel is összegyűjthette egyéves mag szükségleté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Ehhez azonban le kellett telepedni, vagy legalább félnomád életmódra áttérni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Times New Roman"/>
              </a:rPr>
              <a:t>Tápanyagban dús magok szaporítás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 “vad búza” lett az óvilág legfontosabb kultúrnövénye. Egy kőkorszaki család három hét alatt még kezdetleges eszközökkel is összegyűjthette egyéves szükségleté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Ehhez azonban le kellett telepedni, vagy legalább félnomád életmódra áttérni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Évszázadok alatt a búza a genetikus kiválasztódás során “domesztikálódott”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Ez történt Kr. e. 4000 körül a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 kölessel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, Kr.e. 3000 körül a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rizs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zsel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Thaiföldön már Kr.e. 7000 körül már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termeltek lóbabot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 és egy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borsófajtá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t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 mexikói indiánok is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tököt és bab féléket</a:t>
            </a: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 termelte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Times New Roman"/>
              </a:rPr>
              <a:t>Az aztékok és a maják Kr.e. 5200 és 3500 között nemesítették, tették kultúrnövénnyé a </a:t>
            </a:r>
            <a:r>
              <a:rPr b="1" lang="hu-HU" sz="2400" spc="-1" strike="noStrike">
                <a:solidFill>
                  <a:srgbClr val="ffff00"/>
                </a:solidFill>
                <a:latin typeface="Times New Roman"/>
              </a:rPr>
              <a:t>kukoricá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8:04:53Z</dcterms:created>
  <dc:creator>Cech Vilmos</dc:creator>
  <dc:description/>
  <dc:language>en-US</dc:language>
  <cp:lastModifiedBy>Cech Vilmos</cp:lastModifiedBy>
  <cp:lastPrinted>2004-02-11T07:54:54Z</cp:lastPrinted>
  <dcterms:modified xsi:type="dcterms:W3CDTF">2007-01-12T17:03:44Z</dcterms:modified>
  <cp:revision>25</cp:revision>
  <dc:subject/>
  <dc:title>Nagy rabszolgtartó kultúrközpontok társadalmai</dc:title>
</cp:coreProperties>
</file>