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6A71-5D69-4041-922A-83F2ADD5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E8A-95C4-47F3-AD3F-5B23F5AE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DE9-7D6D-45EB-9E19-1CEFEA63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D0A-280C-4FDE-A892-6AE97104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38E-0FD5-4814-A5D9-7004A563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399-1172-43FA-97B5-8CEEE937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95CA-6212-4B23-8CC0-8FCA3F76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893-C17D-4F9B-86C5-88C72669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15A2-5BD6-4A47-9400-3C836AB2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FFB9-92CD-4FAA-B3C4-CCFD4D6A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96C-9117-475A-AE17-E0D6C874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6EF9-B184-42ED-B39B-1AF6986D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39AC-5832-47EF-8B88-4918228C1F28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Times New Roman"/>
              </a:rPr>
              <a:t>Olaj, gáz feltárás</a:t>
            </a:r>
            <a:endParaRPr b="0" lang="en-US" sz="6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Vízfelszín alatti kőzetréteg vizsgálat hajóvontatású visszhang mérőszondákkal.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8" name="Olaj8.geofonok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Fúrási „magok” vizsgálata, tárolása, dokumentálás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1" name="Olaj9.furómagok" descr=""/>
          <p:cNvPicPr/>
          <p:nvPr/>
        </p:nvPicPr>
        <p:blipFill>
          <a:blip r:embed="rId1"/>
          <a:stretch/>
        </p:blipFill>
        <p:spPr>
          <a:xfrm>
            <a:off x="0" y="1141560"/>
            <a:ext cx="91440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Dinamikus vizsgálat: Ismert erejű és időtartamú lökéshullámot előállító gépek és a visszhangot rögzítő műszerkocsik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4" name="olaj10dobbantók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Jégtakart felszínen vonuló rétegeződést mérő műszeres járműcsoport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7" name="Olaj11télidob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99"/>
                </a:solidFill>
                <a:latin typeface="Times New Roman"/>
              </a:rPr>
              <a:t>Olajármozgása 1970 - 2004 közöt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0" name="Olajármozgás" descr=""/>
          <p:cNvPicPr/>
          <p:nvPr/>
        </p:nvPicPr>
        <p:blipFill>
          <a:blip r:embed="rId1"/>
          <a:stretch/>
        </p:blipFill>
        <p:spPr>
          <a:xfrm>
            <a:off x="0" y="1041480"/>
            <a:ext cx="914400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Olaj és gázlelőhelyek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09720" y="1142640"/>
            <a:ext cx="4038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könnyen elérhető lelőhelyek elfogytak, kimerültek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legnagyobb olajmezők a sivatagi övezetben vagy a sarkkörön túl találhatók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szélsőséges éghajlaton költséges a technológia.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5" name="Olaj1" descr=""/>
          <p:cNvPicPr/>
          <p:nvPr/>
        </p:nvPicPr>
        <p:blipFill>
          <a:blip r:embed="rId1"/>
          <a:stretch/>
        </p:blipFill>
        <p:spPr>
          <a:xfrm>
            <a:off x="0" y="0"/>
            <a:ext cx="549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3760" y="-3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előhely felkutatá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8840" y="12952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Magasszintű geológiai kutatásokat, ismerete-ket, feltárási techno-lógiát igényel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Nagyon költséges a feltárási és művelési technológia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kutatási, fúrási és feltárási eszközök a legújabb ismereteket igénylik!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8" name="Olaj2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99"/>
                </a:solidFill>
                <a:latin typeface="Times New Roman"/>
              </a:rPr>
              <a:t>Szélsőséges éghajlati és környezeti körülmények</a:t>
            </a:r>
            <a:r>
              <a:rPr b="0" lang="hu-HU" sz="4000" spc="-1" strike="noStrike">
                <a:solidFill>
                  <a:srgbClr val="ffff99"/>
                </a:solidFill>
                <a:latin typeface="Times New Roman"/>
              </a:rPr>
              <a:t> a nyersanyag folyamatos továbbitásánál is: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1" name="Olaj3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90960" y="-3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Szállítás: Föld-részek között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90960" y="1218960"/>
            <a:ext cx="3352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szárazföldi  szállítás csak csővezetéken, vízi szállítás nagytérfogatú „tankereken” gazdaságo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folyamatos szállításhoz nagy kikötői tárolók kellenek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Olaj4.kikötő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Mire használjuk az olajat?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4120" y="129528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Gázok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kiválasztá-sához (PB stb.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Gázolaj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(üzemanyag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Kerozin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(repülők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Üzemanyag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gyárak, hajók, traktorok, erő-művek számára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Kenőanyag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ok, 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vegyipar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i 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alapanyagok, műanyagipar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7" name="Olaj5.Usa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90960" y="0"/>
            <a:ext cx="3352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 világ olaj-felhasználás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409720" y="1905120"/>
            <a:ext cx="3962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A 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készletek végesek!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Rohamosan csökkennek!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Igényeink túllépték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 a reális határokat!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Jobb hatásfokú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 techno-lógiákat kell bevezetni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 megújuló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forrás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ok keresésére, az olaj pót-lására fokozott figyel-met kell fordítani!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0" name="Olaj6felhdiag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Olaj és gázkutatás lépései: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Geológiai ismeretek alapján a kontinens földtörténetének igazolása. A keletkezésre alkalmas területek kijelölése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Geofizikai mérések elvégzése. Földkörül keringő műszeres majd helyszíni pontosító mérésekkel mélységi rétegeződést kimérni. Akusztikus és villamos vezetőképesség változások mérés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róbafúrások, eredményesség esetén feltáró fúrások végzése, rétegrendeződés megismerés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eltárás és termelő kúthálózat létesítése, fogadó környezet tervezése, kialakítása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5" name="Olaj7.kutatás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11:38:48Z</dcterms:created>
  <dc:creator>Cech Vilmos</dc:creator>
  <dc:description/>
  <dc:language>en-US</dc:language>
  <cp:lastModifiedBy>Cech Vilmos</cp:lastModifiedBy>
  <dcterms:modified xsi:type="dcterms:W3CDTF">2004-06-05T07:00:08Z</dcterms:modified>
  <cp:revision>8</cp:revision>
  <dc:subject/>
  <dc:title>Olaj, gáz feltárás</dc:title>
</cp:coreProperties>
</file>