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109-020B-4AB9-8EF2-5CA86F8F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783-0F77-4A86-9A7E-1ADB2BFE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D8E-ABEE-4807-97C8-D67FA504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F6A-A8AE-4C60-B78C-E8785202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2C1-56EE-44C0-9160-AE42BAA8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48F-4585-4C52-B2E8-D6E7A001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45E-2E10-4595-8A16-02233D69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8F6-E272-406A-9104-2FACB3F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260-4C96-4E4A-8179-A1B338CE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3D8-5C24-4F98-9D88-06CC873C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371-6466-4545-B560-F3E5BDE2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11F-D99C-405F-992C-6D0EA0DE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C073-D034-478F-A2FE-452EB7C3B936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3" name="Napenerg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8" name="Napenergia7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1" name="Napenergia8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Napenergia10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7" name="Napenergia12" descr=""/>
          <p:cNvPicPr/>
          <p:nvPr/>
        </p:nvPicPr>
        <p:blipFill>
          <a:blip r:embed="rId1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99"/>
                </a:solidFill>
                <a:latin typeface="Times New Roman"/>
              </a:rPr>
              <a:t>A francia fizikus Alexander-Edmond Becquerel 1839-ben fénnyel elektromosságot állított elő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6" name="Napenergia3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315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9" name="Napenergia1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Fényelem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ét egymáshoz ragasztott félvezető lapkából áll, amelyek elektronszerkezete eltérő. A napsugárzás fotonjai a felszíni réteghez érve abba beleütköznek, és ott elnyelődnek. Ezáltal elektronok szabadulnak fel, amelyeket a másik réteg elnyel, és a két réteg között elektromos feszültség keletkezik, amely a zárt körben áramot hajt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Napenergia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7" name="Napenergia5" descr=""/>
          <p:cNvPicPr/>
          <p:nvPr/>
        </p:nvPicPr>
        <p:blipFill>
          <a:blip r:embed="rId1"/>
          <a:stretch/>
        </p:blipFill>
        <p:spPr>
          <a:xfrm>
            <a:off x="0" y="1143000"/>
            <a:ext cx="4419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napelemek a fény energiáját közvetlenül villamos energiává alakítják át. Egy-egy napelem kis teljesítményű és feszültségszintje is kicsi. Az elemek soros és párhuzamos kapcsolásával a fogyasztók változatos igényeit is kielégíthetik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a még a klasszikus villamos energia-hálózaton kívüli- formáival olyan helyeken alkalmazzák, ahol csak kis teljesítményre van szükség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Nap hősugárzása alkalmas arra, hogy általa vizet melegítsünk egészségügyi célokra vagy fűtésre. A vízmelegítőket rendszerint a tetőre helyezik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Napenergia2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5" name="Napenergia4" descr=""/>
          <p:cNvPicPr/>
          <p:nvPr/>
        </p:nvPicPr>
        <p:blipFill>
          <a:blip r:embed="rId1"/>
          <a:stretch/>
        </p:blipFill>
        <p:spPr>
          <a:xfrm>
            <a:off x="0" y="1143000"/>
            <a:ext cx="907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18:31:28Z</dcterms:created>
  <dc:creator>Cech Vilmos</dc:creator>
  <dc:description/>
  <dc:language>en-US</dc:language>
  <cp:lastModifiedBy>Cech Vilmos</cp:lastModifiedBy>
  <dcterms:modified xsi:type="dcterms:W3CDTF">2002-04-14T20:45:13Z</dcterms:modified>
  <cp:revision>5</cp:revision>
  <dc:subject/>
  <dc:title>Napenergia</dc:title>
</cp:coreProperties>
</file>