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BCE-2DDD-4708-8B00-BAAE0DF5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FF3-48CA-40D5-A6F3-9530BA15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CE2-1114-409F-ACB3-311891F9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4F3-305C-479F-82CE-F31C08B8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814-C3A4-4D1F-A8F1-56D0E75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087-672F-4428-AEC7-0CECFEC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2A4-DC30-4323-9622-98266B86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B92-B592-4836-AB32-1FEF3B1A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4ED-DD60-4F98-99ED-0D586EF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5293-73AD-41D0-B3B3-56A1DAE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D8F-342A-4A9C-9442-A381291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BA3-98ED-417E-B0BA-A98D7019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A23D-51C2-4B78-A599-BE6718C39DB3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imes New Roman"/>
              </a:rPr>
              <a:t>Szélenergia</a:t>
            </a:r>
            <a:endParaRPr b="0" lang="en-US" sz="8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28600" y="3886200"/>
            <a:ext cx="9601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"A szél a levegő azon része, amelyik siet."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(graffiti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3152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Kísérletek a gazdaságos megoldásra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92360" y="2133720"/>
            <a:ext cx="4965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3322440" cy="573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96000" y="1125360"/>
            <a:ext cx="3555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égköri mozgások: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 szé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légköri mozgások horizontális összetevőjét, azaz a levegő vízszintes irányú elmozdulását szélnek nevezzük. Ez vektormennyiség, amelyet iránnyal és nagysággal jellemezhetünk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sapadék mellett a szél az az éghajlati elem, amelynek tér és időbeli változékonysága a legszembetűnőbb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légköri mozgások oka az, hogy Napból érkező energia a földfelszínen nem oszlik el egyenletesen, egyensúlyra törekedve légmozgásokat generá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szél energiája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 szél sebessége révén kinetikus energiával rendelkezik, amely arányos a levegő tömegével és a sebesség négyzetével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hu-HU" sz="40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i="1" lang="hu-HU" sz="40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r>
              <a:rPr b="1" i="1" lang="hu-HU" sz="4000" spc="-1" strike="noStrike">
                <a:solidFill>
                  <a:srgbClr val="ffff66"/>
                </a:solidFill>
                <a:latin typeface="Times New Roman"/>
              </a:rPr>
              <a:t>=1/2mv</a:t>
            </a:r>
            <a:r>
              <a:rPr b="1" i="1" lang="hu-HU" sz="4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mennyiben meg akarjuk határozni, hogy egy adott A függőleges felületen, egységnyi idő alatt mennyi kinetikus energia áramlik át, eredményül a területen rendelkezésre álló, úgynevezett fajlagos széltelje-sítményt kapjuk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P=(1/2</a:t>
            </a:r>
            <a:r>
              <a:rPr b="1" i="1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v</a:t>
            </a:r>
            <a:r>
              <a:rPr b="1" i="1" lang="hu-HU" sz="32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)vA </a:t>
            </a:r>
            <a:r>
              <a:rPr b="1" i="1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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 1/2</a:t>
            </a:r>
            <a:r>
              <a:rPr b="1" i="1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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v</a:t>
            </a:r>
            <a:r>
              <a:rPr b="1" i="1" lang="hu-HU" sz="32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A,</a:t>
            </a:r>
            <a:r>
              <a:rPr b="0" i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mely tehát a szélsebesség köbével arányos. Amennyiben a szélsebesség megduplázódik a rendelkezésre álló szélenergia nyolcszorosára növekszik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gyarország szélviszonya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 legelső említhető tudományos vizsgálatokat ebben a témakörben Hegyfoky Kabos végezte 1894-ben, amikoris 216 meteorológiai obszervatórium adatai alapján vizsgálta a szélirány és sebesség eloszlását.  Megállapította, hogy a szél a hegyvidéki területeinkről a síkság felé tart, a medence középpontja felé, ahol légnyomási minimum rajzolódik ki. Réthly 1938-ban írt hazánk szélrendszeréről, a szélirány és a szélsebesség napi menetéről. Az ország területén szerinte az átlagos sebesség 3-4 m/s, és mivel a szélsebessége növekszik a magassággal, a legélénkebb széljárású területnek hegyvidékeinket, azon belül a Kékestetőt tartotta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374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191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446040"/>
            <a:ext cx="76104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-1915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440" y="457200"/>
            <a:ext cx="6172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653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Szélhasznosítá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égen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ajók hajtása vitorlával,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almok működtetés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Korunkban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Vízszivattyúzás, daráló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Villamos áram gerjeszté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sak ott és akkor lehet a szélenergiát mechanikus - villamos energiává alakítani ahol és amikor az rendelkezésre áll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lőnye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„Esztétikai” változáson kívül nincs káros környezeti hatása. A szélenergia forrása a napsugárzás és az általa okozott hőmérséklet különbségek létrehozása és annak kiegyenlítőd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648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6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7656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76560" y="33336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 megújuló szélenergia közvetlen mechanikai energiává alakítható. Áttételekkel hajthatnak vele: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őrlőköveket, darálókat, fűrészgépeket, kovácsoló gépeket, kovács fújtatókat, vízszivattyúkat bányánál vagy öntözéshe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6920" y="0"/>
            <a:ext cx="3457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 szél energiája korszerű automatikákkal átalakíthatók a hálózatba táplálásra is alkalmas villamosenergiává, motorok hajtására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0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urópa széltérkép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46240"/>
            <a:ext cx="9396360" cy="72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1141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2340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zélerőmű telepek az északi tenger partjá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8560" y="0"/>
            <a:ext cx="68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21:00:12Z</dcterms:created>
  <dc:creator>Cech Vilmos</dc:creator>
  <dc:description/>
  <dc:language>en-US</dc:language>
  <cp:lastModifiedBy>Cech Vilmos</cp:lastModifiedBy>
  <dcterms:modified xsi:type="dcterms:W3CDTF">2007-03-25T13:10:14Z</dcterms:modified>
  <cp:revision>11</cp:revision>
  <dc:subject/>
  <dc:title>Szélenergia</dc:title>
</cp:coreProperties>
</file>