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F75-BD41-4DF9-AA56-04549274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9F81-6B7B-4978-A8A4-9DA14294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001-87E2-43CA-96E9-38805788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6C7-13D8-4AB6-9B81-7261234F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030-3CBF-4AB8-8779-AA9DA2A5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869-D894-4E62-B2F9-783F8226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879-E683-490D-AB49-0FC6D14A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140-698A-4D66-BD49-F69F0C2D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833-CB09-4038-8DBF-AA092F68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CD2-84B1-4DB2-9BD3-588C3BBB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9E2-8F61-429A-85EB-F70F8645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9E4-6F3F-4678-BAAB-6BAEC515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0279-E2D3-4EAB-BDD5-00F5060EDFBA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Szén, olaj, gáz keletkezése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laj és gáz kitermelésének fázisai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Elsődleges kitermelés: Amikor a nyomás nagy erővel nyomja a felszínre. A kitermelés menyiségével arányos a nyomás csökkené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nyomás megszűnése után semleges gázt, vagy vizet nyomatnak az olajat, gázt tartalmazó kőzetbe. A víz felett gyűlik össze az olaj és a gáz. Ezután a nyersanyag a felszínre juttatható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Harmadlagos kitermelés: A szivacsos kőzet faláról „mosószerrel” leválasztott olajat juttatják a felszínre. Nagyon drága kitermelési mód, összetett kémiai ismereteket, technológiát és ellenőrzést kíván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A szénhidrogének befogadására legkedvezőbb a szivacsos szerkezetű kőzet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 trópusi növényzet maradványai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Karbon korszak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91440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Növényi maradványok süllyedése, nyomás alatti bomlása. Gázképződés.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360" y="1143000"/>
            <a:ext cx="9107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arnaszén képződés 60 millió év utá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360" y="1204920"/>
            <a:ext cx="9107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ovábbi évmilliók: széntartalom koncentrálódás, vízvesztés: </a:t>
            </a: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Antracit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Olajképződés: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Növényi és állati eredetű vízi üledék rétegződése, dúsulása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01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 szerves üledékre záró rétegek rakódnak, nagy nyomás alá kerül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Befogadó közetre rétegek telepednek, fokozódik a nyomá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Földmozgások következtében záró boltozatok alatt gyűlik össze nagy nyomás alatt a folyékony és gáz fázisú szénhidrogé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920" y="1676520"/>
            <a:ext cx="90187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07:53:29Z</dcterms:created>
  <dc:creator>Cech Vilmos</dc:creator>
  <dc:description/>
  <dc:language>en-US</dc:language>
  <cp:lastModifiedBy>Cech Vilmos</cp:lastModifiedBy>
  <dcterms:modified xsi:type="dcterms:W3CDTF">2007-03-13T18:00:39Z</dcterms:modified>
  <cp:revision>5</cp:revision>
  <dc:subject/>
  <dc:title>Olaj, gáz feltárás 2.</dc:title>
</cp:coreProperties>
</file>