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1D4-B9C9-48C8-91BC-04EF15BD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BFC-294B-410D-91C1-4736EFD8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C9F-BAC5-40ED-B4D8-E7F4F634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960-FB49-4AAB-84B3-DB1BB636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118-5BB3-41E2-9FD4-5E81011F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6BC-B6C8-4109-83A6-7D66D8F8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E59-B1EA-4CC1-8EBA-D2430172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566-5585-4C06-8F3C-02741A47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AE9-9600-4476-AFC0-1A3F1D47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BB8-D1E3-4656-88EA-EFC2D963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298-063E-4F39-9C77-CA9EE26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597-90EE-4BBD-96E2-463B827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CA61-2069-4148-9463-827AF14D4F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nyagsugárzás,</a:t>
            </a:r>
            <a:br>
              <a:rPr sz="7200"/>
            </a:br>
            <a:r>
              <a:rPr b="1" lang="en-US" sz="8800" spc="-1" strike="noStrike">
                <a:solidFill>
                  <a:srgbClr val="ffff00"/>
                </a:solidFill>
                <a:latin typeface="Times New Roman"/>
              </a:rPr>
              <a:t>Izotópok 2.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Részecske%20sugárzások1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Részecske%20sugárzások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Részecske%20sugárzások3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07:22:37Z</dcterms:created>
  <dc:creator>Cech Vilmos</dc:creator>
  <dc:description/>
  <dc:language>en-US</dc:language>
  <cp:lastModifiedBy>Cech Vilmos</cp:lastModifiedBy>
  <dcterms:modified xsi:type="dcterms:W3CDTF">2003-06-15T13:58:16Z</dcterms:modified>
  <cp:revision>2</cp:revision>
  <dc:subject/>
  <dc:title>Anyagsugárzás, Izotópok 2.</dc:title>
</cp:coreProperties>
</file>