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6C8-38AF-4302-9C6C-C7FE6903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BAA-29BF-4DE8-B658-0AE1CF6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CF4-8807-4650-AACD-55F2F453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FB5-C5F8-44B9-9954-B9237A24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794-B902-463F-ABED-D9D65CFE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531-CAE4-4347-A291-11058BD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5AB-B820-44E5-BFDD-135677ED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DD9-0412-4876-BD84-79FF354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D8F-570D-430C-92FD-6C924BF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267-F4B3-446A-92E0-EB72FB9E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28A-4F6F-447B-ADF5-9C78D26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D56-4FD0-490B-A349-837403D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68D-762D-441F-86F0-BC54D9316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Fejlődés</a:t>
            </a:r>
            <a:br>
              <a:rPr sz="7200"/>
            </a:b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 és a logisztikus görbe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6479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éri József: Műszaki ábrázolás c. tankönyvéből vett ábra és magyarázó szöv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jlődési folyamat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jlődési folyamatok jellemzője a növekedés lassú indulása, majd gyorsulás figyelhető meg, végül jellemző határérték elérése a növekedés megá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Logisztikus0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fejlődés lassulása, majd megállása után új, minőségében is más fejlődés kezdődi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felismerések érvényeseknek tűnnek az élővilágban és a tudomány területén is. Az elért szinteken átrendeződés és új szerveződés indul meg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Társadalmi és műszaki változások hatása megjelenik a fejlődés logisztikus görbéjé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32:44Z</dcterms:created>
  <dc:creator>Cech Vilmos</dc:creator>
  <dc:description/>
  <dc:language>en-US</dc:language>
  <cp:lastModifiedBy>Cech Vilmos</cp:lastModifiedBy>
  <dcterms:modified xsi:type="dcterms:W3CDTF">2007-02-01T16:46:38Z</dcterms:modified>
  <cp:revision>3</cp:revision>
  <dc:subject/>
  <dc:title>Fejlődés  és a logisztikus görbe</dc:title>
</cp:coreProperties>
</file>