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C3D-A961-4603-98EF-4359DCD9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A90-D92D-42B1-933E-F4D7925B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4E6-4A29-4CA8-9DA5-70520397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8BC5-FFE8-4539-ACC0-EAFF6C3D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00F-CD16-4A0A-98D9-DA5D7A2D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DA5-3CE5-4E1B-8336-A114CF37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584-537E-4F8E-BBA1-381C69F0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0B7-B619-47DF-8947-CE8DD06A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12D-0B5E-4436-A686-80D71034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00C-D5E0-4609-A8FA-72326773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0BA-70F9-4791-AE8B-029CC979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7B5-C90F-4D09-BC80-3858F091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565E-6E25-4F38-BBEA-534AABD9FD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Új anyagok,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 új anyagösszetételek</a:t>
            </a:r>
            <a:br>
              <a:rPr sz="6600"/>
            </a:b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Gondolatok a csúcstechnológiákról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Cech Vilmos ELTE TT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pülőgépek sebességével nő a felületi hőmérsékl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Felületihőmérséklet" descr=""/>
          <p:cNvPicPr/>
          <p:nvPr/>
        </p:nvPicPr>
        <p:blipFill>
          <a:blip r:embed="rId1"/>
          <a:stretch/>
        </p:blipFill>
        <p:spPr>
          <a:xfrm>
            <a:off x="0" y="1407960"/>
            <a:ext cx="914400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 fokozott teljesítmény növeléssel a hajtóművek üzemhőmérséklete is rohamosan növekszik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Hajtómű-hőmérséklet" descr=""/>
          <p:cNvPicPr/>
          <p:nvPr/>
        </p:nvPicPr>
        <p:blipFill>
          <a:blip r:embed="rId1"/>
          <a:stretch/>
        </p:blipFill>
        <p:spPr>
          <a:xfrm>
            <a:off x="0" y="1371600"/>
            <a:ext cx="9372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 magasabb üzemhőmérséklet és sebesség elérése csak nagyobb szilárdságú anyagösszetételekkel lehetséges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Korszerű%20anyagok,Szerv%20hord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yagtudományok, tulajdonságtér.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00"/>
                </a:solidFill>
                <a:latin typeface="Times New Roman"/>
              </a:rPr>
              <a:t>Miből van?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Melyik atomfajtából, milyen mennyiség alkotja az anyagot? A válasz: a kémiai összetétele. Meghatározásához sok bevált módszer ismerete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00"/>
                </a:solidFill>
                <a:latin typeface="Times New Roman"/>
              </a:rPr>
              <a:t>Milyen a szerkezete?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A válasz: Az egyes atomok helyzete, elhelyezkedése, kapcsolata. Az atomok kapcsolódhatnak kristályrács formában, molekula kötésben, vagy egyértelműen nem meghatározható „amorf”kapcsolattal.  A fázisállapot is meghatározó. Pl.: A 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víz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jég (kristályos), folyadék, és gőz állapot-ban, 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a szén: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előfordul amorf, grafit (hatszögletű), gyémánt (tetraéder) különböző szilárd állapotban.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szén megjelenési formái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48002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kristályok mérete, alakja, kapcsolódási módjuk és egymáshoz kapcsolódásuk sokféle lehet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fázisok száma és mértéke újabb változatokat eredményez.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sak a szerkezetben van különbség!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0" name="Szénformák" descr=""/>
          <p:cNvPicPr/>
          <p:nvPr/>
        </p:nvPicPr>
        <p:blipFill>
          <a:blip r:embed="rId1"/>
          <a:stretch/>
        </p:blipFill>
        <p:spPr>
          <a:xfrm>
            <a:off x="68400" y="1295280"/>
            <a:ext cx="9075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súcstechnológiák?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Mitől csúc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Mitől lesz az anyag nagyteljesitményű, különleges tulajdonságú?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Anyagok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Átlagos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anyagösszetétel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Nagytisztaságú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anyagösszetétel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  (optimumok keresése)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(az optimum tervezhető)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Változó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minőség az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Állandó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(számitható)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minőség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átalakitó rendszer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kimenet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én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kimenet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e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Előtérbe kerülnek a 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tiszta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anyagok, tulajdonságaikat nem szennyezik idegen anyagok. A megismert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maximumot lehet elvárni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 tőlük. Legjellemzőbb az egykristályok teljesitő képessége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2819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18960" y="3124080"/>
            <a:ext cx="236196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124080"/>
            <a:ext cx="198144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505320"/>
            <a:ext cx="0" cy="1600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súcstechnológiák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természetes anyagok lebontása, tisztítása, újra összeépítése -sok esetben- új összetételű anyagokká optimális szerkezettel.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Jellemző példák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élvezető anyagösszetételek,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élvezető technológiák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Műanyagok: A természetben megtalálható, majd mesterségesen is előállított molekula láncok tudatos létrehozása. A láncok egyes kitüntetett pontjaira tulajdonságot meghatározó és fokozó kötéseket csatlakoztatnak.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Élő anyagoknál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 DNS láncba beavatkozás sajátos tulajdonságok elérésér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súcstechnológiák egy mondatban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i="1" lang="hu-HU" sz="4000" spc="-1" strike="noStrike">
                <a:solidFill>
                  <a:srgbClr val="ffff00"/>
                </a:solidFill>
                <a:latin typeface="Times New Roman"/>
              </a:rPr>
              <a:t>természeti anyagok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lebontása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tisztitása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, újra 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összeépitése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 -sok esetben- 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ffff00"/>
                </a:solidFill>
                <a:latin typeface="Times New Roman"/>
              </a:rPr>
              <a:t>új összetételű anyagokká</a:t>
            </a: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     optimális szerkezettel, új anyagrendszerek együttes működésével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3040" y="0"/>
            <a:ext cx="4800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urbinalapát készítés hagyományos öntési eljárássa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43400" y="228600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fémolvadékot kerámia tégelybe öntve hagyják lehűlni. A kristályosodás egyidőben nagyon sok helyen kezdődik, ezért a lemez anyaga nagyon sok, véletlenszerűen irányuló kis kristályt tartalmaz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Polikristályos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76560" y="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Öntés irányított megszilárdulássa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19720" y="838080"/>
            <a:ext cx="4876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A tégelyt előmelegített és hőszi-getelt. A tégely alja egy vízhűtött vörösréz laphoz csatlakozik. A fém olvadékot a tégely-be öntik, és az egészet lassan kezdik kihúz-ni lefelé a meleg zónából. A kris-tályosodás a „hideg lemez” köze-lében indul meg, és a kristályok felfelé, hosszú oszlopok formá-jában növekednek. Az ilyen anyagból készült lemezben a centrifugális erő iránya párhu-zamos az egyes kristályoszlopok közötti szemcsehatárral, nem tolódnak el egymáson az  erő hatására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Oszlopos%20polikristály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világ "egyszerű” és bonyolult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Összesen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92 féle atomból áll az univerzum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 A környező világunk, - ugyanúgy mint mi magunk is, - ebből a 92 féle atomból vagyunk összerakv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gyanakkor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világ igen bonyolul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 Ez a 92 féle atom rengeteg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különböző kombinációb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helyezkedik el a térben. A különböző térbeli szerkezetek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gen változatos tulajdonságok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hordozna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</a:rPr>
              <a:t>Nagyméretű egykristálynövesztése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forma különleges alakú. Alsó részén csavart üvegnyak alakú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mikor a formát a meleg zónából kihúzzák, növekedni kezdenek az oszlopszerű kristályok, de csak egy előnyösen tud kinőni a szűkítésen. A kristály nő és kitölti a formá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Egykristálynövesztés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korszerű anyagok előállításának és használatának emberi feltételei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9448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Ember</a:t>
            </a:r>
            <a:r>
              <a:rPr b="1" lang="hu-H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- legyen felkészült, kiszámítható szellemi és fizikai teljesítményt várunk el tőle szilárd erkölcsi érték tartással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Ember csoportok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együttműködése. Csak együttműködésre alkalmas, szervezett, nagytudású emberekből álló csoportok képesek kiugró eredményekre. </a:t>
            </a:r>
            <a:r>
              <a:rPr b="0" i="1" lang="hu-HU" sz="2800" spc="-1" strike="noStrike">
                <a:solidFill>
                  <a:srgbClr val="ffff00"/>
                </a:solidFill>
                <a:latin typeface="Times New Roman"/>
              </a:rPr>
              <a:t>Teamek, egy célra orientálódott, sokféle ismeretekkel rendelkező egyének  együttese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Szervezett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00"/>
                </a:solidFill>
                <a:latin typeface="Times New Roman"/>
              </a:rPr>
              <a:t>embercsoportok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soros és párhuzamos technológiára irányuló szervezettséggel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Joel P. Clark és Merton C. Flemings: A korszerű anyagok és a gazdaság. Tudomány (Scientific American) 1986 XII.p.15-2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Morris A. Steinberg: A repülés és az űrtechnika anyagai, Tudomány (Scientific American) 1986.XII.p.31-36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Gerald L. Liedl: Anyagtudományok Tudomány (Scientific American) 1986.XII.p.51-58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Bérczi Sz.,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Cech V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., Hegyi S.: Új anyagok, új anyagösszetételek (Gondolatok a csúcstechnológiákról) Szakmódszertanosok II. találkozója. Pécs. 1997.X.21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világban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őforduló elemek rendszerbe gyűjtve: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7" name="Periódusrendszer" descr=""/>
          <p:cNvPicPr/>
          <p:nvPr/>
        </p:nvPicPr>
        <p:blipFill>
          <a:blip r:embed="rId1"/>
          <a:stretch/>
        </p:blipFill>
        <p:spPr>
          <a:xfrm>
            <a:off x="0" y="1685880"/>
            <a:ext cx="91440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z élővilág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z élővilág, - benne az emberiség - főleg a földfelszínén él, onnan nyeri az élete fenntartásához az anyagokat. Az egyes anyagszerkezetek a természetes környezetben emberi beavatkozás nélkül alakultak ki és alakulnak ma is. Ezek a </a:t>
            </a:r>
            <a:r>
              <a:rPr b="0" i="1" lang="hu-HU" sz="3200" spc="-1" strike="noStrike">
                <a:solidFill>
                  <a:srgbClr val="ffff00"/>
                </a:solidFill>
                <a:latin typeface="Times New Roman"/>
              </a:rPr>
              <a:t>természetes anyagok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. Gondoljunk a hópehelyre, gránitra vagy a DNS molekulár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Felhasználunk életűnk fenntartásához, anyagcseréjéhez </a:t>
            </a:r>
            <a:r>
              <a:rPr b="0" i="1" lang="hu-HU" sz="3200" spc="-1" strike="noStrike">
                <a:solidFill>
                  <a:srgbClr val="ffff00"/>
                </a:solidFill>
                <a:latin typeface="Times New Roman"/>
              </a:rPr>
              <a:t>ásványi anyagokat és az élővilág által már fel és átdolgozott anyagokat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. Ugyanúgy vagyunk a védelmül használható anyagokkal i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 lesz az anyagga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-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00"/>
                </a:solidFill>
                <a:latin typeface="H-Times New Roman"/>
              </a:rPr>
              <a:t>Élet</a:t>
            </a:r>
            <a:r>
              <a:rPr b="0" i="1" lang="hu-HU" sz="3200" spc="-1" strike="noStrike">
                <a:solidFill>
                  <a:srgbClr val="ffff00"/>
                </a:solidFill>
                <a:latin typeface="H-Times New Roman"/>
              </a:rPr>
              <a:t>	</a:t>
            </a:r>
            <a:r>
              <a:rPr b="0" i="1" lang="hu-HU" sz="3200" spc="-1" strike="noStrike">
                <a:solidFill>
                  <a:srgbClr val="ffff00"/>
                </a:solidFill>
                <a:latin typeface="H-Times New Roman"/>
              </a:rPr>
              <a:t>	</a:t>
            </a:r>
            <a:r>
              <a:rPr b="1" i="1" lang="hu-HU" sz="2400" spc="-1" strike="noStrike">
                <a:solidFill>
                  <a:srgbClr val="ffff00"/>
                </a:solidFill>
                <a:latin typeface="H-Times New Roman"/>
              </a:rPr>
              <a:t>Anyagcsere folyamatok biztosítása</a:t>
            </a:r>
            <a:r>
              <a:rPr b="1" i="1" lang="hu-HU" sz="2400" spc="-1" strike="noStrike">
                <a:solidFill>
                  <a:srgbClr val="ffff00"/>
                </a:solidFill>
                <a:latin typeface="H-Times New Roman"/>
              </a:rPr>
              <a:t>	</a:t>
            </a:r>
            <a:r>
              <a:rPr b="1" i="1" lang="hu-HU" sz="2400" spc="-1" strike="noStrike">
                <a:solidFill>
                  <a:srgbClr val="ffff00"/>
                </a:solidFill>
                <a:latin typeface="H-Times New Roman"/>
              </a:rPr>
              <a:t>	</a:t>
            </a:r>
            <a:r>
              <a:rPr b="1" i="1" lang="hu-HU" sz="2400" spc="-1" strike="noStrike">
                <a:solidFill>
                  <a:srgbClr val="ffff00"/>
                </a:solidFill>
                <a:latin typeface="H-Times New Roman"/>
              </a:rPr>
              <a:t>	</a:t>
            </a:r>
            <a:r>
              <a:rPr b="1" i="1" lang="hu-HU" sz="2400" spc="-1" strike="noStrike">
                <a:solidFill>
                  <a:srgbClr val="ffff00"/>
                </a:solidFill>
                <a:latin typeface="H-Times New Roman"/>
              </a:rPr>
              <a:t>	</a:t>
            </a:r>
            <a:r>
              <a:rPr b="1" i="1" lang="hu-HU" sz="2400" spc="-1" strike="noStrike">
                <a:solidFill>
                  <a:srgbClr val="ffff00"/>
                </a:solidFill>
                <a:latin typeface="H-Times New Roman"/>
              </a:rPr>
              <a:t>	</a:t>
            </a:r>
            <a:r>
              <a:rPr b="1" i="1" lang="hu-HU" sz="2400" spc="-1" strike="noStrike">
                <a:solidFill>
                  <a:srgbClr val="ffff00"/>
                </a:solidFill>
                <a:latin typeface="H-Times New Roman"/>
              </a:rPr>
              <a:t>	</a:t>
            </a:r>
            <a:r>
              <a:rPr b="1" i="1" lang="hu-HU" sz="2400" spc="-1" strike="noStrike">
                <a:solidFill>
                  <a:srgbClr val="ffff00"/>
                </a:solidFill>
                <a:latin typeface="H-Times New Roman"/>
              </a:rPr>
              <a:t>Élet védelm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H-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00"/>
                </a:solidFill>
                <a:latin typeface="H-Times New Roman"/>
              </a:rPr>
              <a:t>nyersanyag</a:t>
            </a:r>
            <a:r>
              <a:rPr b="0" lang="hu-HU" sz="3200" spc="-1" strike="noStrike">
                <a:solidFill>
                  <a:srgbClr val="ffff00"/>
                </a:solidFill>
                <a:latin typeface="H-Times New Roman"/>
              </a:rPr>
              <a:t>	</a:t>
            </a:r>
            <a:r>
              <a:rPr b="1" lang="hu-HU" sz="4000" spc="-1" strike="noStrike">
                <a:solidFill>
                  <a:srgbClr val="ffff00"/>
                </a:solidFill>
                <a:latin typeface="H-Times New Roman"/>
              </a:rPr>
              <a:t>A</a:t>
            </a:r>
            <a:r>
              <a:rPr b="1" lang="hu-HU" sz="3200" spc="-1" strike="noStrike">
                <a:solidFill>
                  <a:srgbClr val="ffff00"/>
                </a:solidFill>
                <a:latin typeface="H-Times New Roman"/>
              </a:rPr>
              <a:t>	</a:t>
            </a:r>
            <a:r>
              <a:rPr b="1" lang="hu-HU" sz="4000" spc="-1" strike="noStrike">
                <a:solidFill>
                  <a:srgbClr val="ffff00"/>
                </a:solidFill>
                <a:latin typeface="Symbol"/>
                <a:ea typeface="Symbol"/>
              </a:rPr>
              <a:t></a:t>
            </a:r>
            <a:r>
              <a:rPr b="1" lang="hu-HU" sz="3200" spc="-1" strike="noStrike">
                <a:solidFill>
                  <a:srgbClr val="ffff00"/>
                </a:solidFill>
                <a:latin typeface="H-Times New Roman"/>
              </a:rPr>
              <a:t>	</a:t>
            </a:r>
            <a:r>
              <a:rPr b="1" lang="hu-HU" sz="4000" spc="-1" strike="noStrike">
                <a:solidFill>
                  <a:srgbClr val="ffff00"/>
                </a:solidFill>
                <a:latin typeface="H-Times New Roman"/>
              </a:rPr>
              <a:t>B</a:t>
            </a:r>
            <a:r>
              <a:rPr b="1" lang="hu-HU" sz="3200" spc="-1" strike="noStrike">
                <a:solidFill>
                  <a:srgbClr val="ffff00"/>
                </a:solidFill>
                <a:latin typeface="H-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H-Times New Roman"/>
              </a:rPr>
              <a:t>pl. </a:t>
            </a:r>
            <a:r>
              <a:rPr b="0" i="1" lang="hu-HU" sz="3200" spc="-1" strike="noStrike">
                <a:solidFill>
                  <a:srgbClr val="ffff00"/>
                </a:solidFill>
                <a:latin typeface="H-Times New Roman"/>
              </a:rPr>
              <a:t>késztermé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H-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H-Times New Roman"/>
              </a:rPr>
              <a:t>A kiválasztott anyagokat mesterséges </a:t>
            </a:r>
            <a:r>
              <a:rPr b="1" lang="hu-HU" sz="2400" spc="-1" strike="noStrike">
                <a:solidFill>
                  <a:srgbClr val="ffff00"/>
                </a:solidFill>
                <a:latin typeface="H-Times New Roman"/>
              </a:rPr>
              <a:t>(technikai rendszereken)</a:t>
            </a:r>
            <a:r>
              <a:rPr b="0" lang="hu-HU" sz="3200" spc="-1" strike="noStrike">
                <a:solidFill>
                  <a:srgbClr val="ffff00"/>
                </a:solidFill>
                <a:latin typeface="H-Times New Roman"/>
              </a:rPr>
              <a:t> pályára viszi, </a:t>
            </a:r>
            <a:r>
              <a:rPr b="0" lang="hu-HU" sz="2800" spc="-1" strike="noStrike">
                <a:solidFill>
                  <a:srgbClr val="ffff00"/>
                </a:solidFill>
                <a:latin typeface="H-Times New Roman"/>
              </a:rPr>
              <a:t>átáramoltatja azokon</a:t>
            </a:r>
            <a:r>
              <a:rPr b="0" lang="hu-HU" sz="3200" spc="-1" strike="noStrike">
                <a:solidFill>
                  <a:srgbClr val="ffff00"/>
                </a:solidFill>
                <a:latin typeface="H-Times New Roman"/>
              </a:rPr>
              <a:t>, hogy a kölcsönhatás sorozatok eredményeként számára alkalmasabb, használhatóbb formába kerüljön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6002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1905120"/>
            <a:ext cx="3733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Anyagátalakítá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z ember a kiválasztott anyagokat mesterséges (technikai rendszereken) pályára viszi, azokon átáramoltatja, hogy a kölcsönhatás sorozatok ered-ményeként számára alkalmasabb formába kerüljön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" name="Szánkópálya" descr="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yersanyagok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z anyag szerveződésének különféle szintjeiről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ríthetők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z ismeretek bővülése az anyagszerkezet mélységei felé hala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 beavatkozás szintje az elemi szintek felé tolódik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Nyersanyagok" descr="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Üzemi hőmérséklet emelésének lehetősége anyagváltoztatássa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Üzemihőmemelk" descr=""/>
          <p:cNvPicPr/>
          <p:nvPr/>
        </p:nvPicPr>
        <p:blipFill>
          <a:blip r:embed="rId1"/>
          <a:stretch/>
        </p:blipFill>
        <p:spPr>
          <a:xfrm>
            <a:off x="0" y="1295280"/>
            <a:ext cx="9105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z anyagtudományok fejlődésével rövidül a technológia váltás idej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Technológia%20váltás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0:30:25Z</dcterms:created>
  <dc:creator>Cech Vilmos</dc:creator>
  <dc:description/>
  <dc:language>en-US</dc:language>
  <cp:lastModifiedBy>Cech Vilmos</cp:lastModifiedBy>
  <dcterms:modified xsi:type="dcterms:W3CDTF">2002-02-19T06:15:23Z</dcterms:modified>
  <cp:revision>17</cp:revision>
  <dc:subject/>
  <dc:title>Új anyagok,  új anyagösszetételek </dc:title>
</cp:coreProperties>
</file>