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17E-450A-4A3D-85D5-2ECC7832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971-8115-433E-811F-8F695C2C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D48-4AFB-4577-96EB-0B3619CD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6D7-7687-4B46-92CA-E8D590A1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D4C-2272-48D1-96C0-C12313A5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9DD-EA62-4335-9F78-6AD58C69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497-6613-4B64-B71D-961C246C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904-4603-4D5A-BDE7-420935E9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E27-1E08-40D3-B883-45DBD3DC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7C9-11F1-488B-ADCD-A27387D8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D01-54DC-4D19-9DB2-488C4E1B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E4E-C0B6-4CC4-90E0-1239D4B5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179A-DA20-4688-81E5-C9DBB6029E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nyagsugárzás,</a:t>
            </a:r>
            <a:br>
              <a:rPr sz="7200"/>
            </a:br>
            <a:r>
              <a:rPr b="1" lang="en-US" sz="8800" spc="-1" strike="noStrike">
                <a:solidFill>
                  <a:srgbClr val="ffff00"/>
                </a:solidFill>
                <a:latin typeface="Times New Roman"/>
              </a:rPr>
              <a:t>Izotópok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élyről feltörő gyógyfürdők radioaktív vizei jó hatásúak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Gyógyfürdő" descr=""/>
          <p:cNvPicPr/>
          <p:nvPr/>
        </p:nvPicPr>
        <p:blipFill>
          <a:blip r:embed="rId1"/>
          <a:stretch/>
        </p:blipFill>
        <p:spPr>
          <a:xfrm>
            <a:off x="0" y="947880"/>
            <a:ext cx="914400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adioaktivitá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és a kapcsolatos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onizáló sugárzások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a környezetünk természetes része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9448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radioaktivitás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sal kapcsolatos új ismereteink alkalmazhatók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- az energetikában,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- iparban,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- orvostudományban,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- környezetvédelemben,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hasznosan alkalmazhatók, de kockázatokkal is járnak. A kedvező hatásaik jobbak, a károsak kisebbek, mint a természetben már  úgyis meglevő sugárzásoké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Oktatásban szemléltethetők: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Kozmikus sugárzás: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ködkamrá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val, forgatható </a:t>
            </a: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GM csö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vekkel,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- A kőzetek, talajminták és egyes élelmiszerek radioaktivitása: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scintillációs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detektor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okk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0199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 természetben előforduló valamennyi kémiai változás az atomok elektronhéjai közötti kölcsönhatásra vezethető vissza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z atom felépítés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30492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228600"/>
            <a:ext cx="281916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685800"/>
            <a:ext cx="45720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58200" y="12193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24680" y="1371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lektr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304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atomma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9144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914400"/>
            <a:ext cx="5331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9144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838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t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lektr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eutr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828800"/>
            <a:ext cx="9372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bennünket körülvevő anyag atomokból áll. Később kiderült, hogy  az atomnak szerkezete is van, még kisebb részekből tevődik össze.   A három alapvető alkotó része: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elektr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prot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és a </a:t>
            </a:r>
            <a:r>
              <a:rPr b="1" lang="en-US" sz="2800" spc="-1" strike="noStrike">
                <a:solidFill>
                  <a:srgbClr val="ccff99"/>
                </a:solidFill>
                <a:latin typeface="Times New Roman"/>
              </a:rPr>
              <a:t>neutr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Az elektron (-)és a proton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elektromosan töltött részecske, a neutron semleges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14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 magban levő protonok és neutronok száma -összegük a tömegszám- a periódusos rendszer közepéig megegyezik. Ettől kezdve a protonok összetartásához több neutronra van szükség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ka: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a magerő rövid hatótávolságában keresendő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Izotóp: 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Lexikonban a</a:t>
            </a: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görög </a:t>
            </a:r>
            <a:br>
              <a:rPr sz="3600"/>
            </a:b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"izosz" + "toposz" hely szavakból származi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Fizikai és kémiai közelítésből: azonos rendszámú, de különböző tömegszámú atomok elnevezése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izotópok a periódusos rendszerben ugyanazon a helyen szerepelnek, mivel atommagjukban azonos számú protont tartalmaznak, csak a neutronszámuk különbözik (izotópia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izotópok fizikai és kémiai tulajdonságai kismértékben különböznek egymástól (izotópeffektus), ez jelenti elválasztásuk alapját (izotópdúsítás)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ik azok az izotópok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05280" y="838080"/>
            <a:ext cx="9448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Egy adott elem különböző neutronszámú változatait nevezzük izotópnak. Az izotópok egy része </a:t>
            </a: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stabil,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a többi pedig</a:t>
            </a: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 instabil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, vagyis radioaktív, addig bomlik,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íg stabillá nem tud alakulni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A hagyományos, elsőnek megismert radioaktív sugárzásokat a görög abc első betűivel nevezték el. A pozitív töltésű </a:t>
            </a:r>
            <a:r>
              <a:rPr b="1" lang="hu-HU" sz="2800" spc="-1" strike="noStrike">
                <a:solidFill>
                  <a:srgbClr val="ffffcc"/>
                </a:solidFill>
                <a:latin typeface="Times New Roman"/>
              </a:rPr>
              <a:t>alfa-sugárzás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valójában hélium atommag, két proton és két neutron együttese. Útja mentén igen erősen ionizál, ezért áthatolóképessége igen kicsi, még egy papírlapon vagy bőrünkön sem képes áthatolni. A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éta-sugárzás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negatív elektronokból (vagy az elektronok pozitív antirészecskéiből, pozitronokból) áll. Az alfa-sugárzásnál kevésbé ionizálóképes, áthatolóképessége nagyobb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zotópok előállítása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80880" y="914400"/>
            <a:ext cx="9524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Izotópokat </a:t>
            </a: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mesterségesen is elő lehet állítani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, pl. neutron besugárzással. Mivel ugyanazon elem izotópja kémiailag azonos módon viselkedik, így az izotópokat fel lehet használni a kémiai és biológiai kutatásokban.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nem stabil izotópok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hosszabb-rövidebb idő alatt elbomlanak és e bomlásból származó sugárzásuk alapján „nyomon követhetőek”. Az orvosbiológiában különböző gyógyszerek hatásmechanizmusát lehet felderíteni általuk. A rádióizotópos </a:t>
            </a:r>
            <a:r>
              <a:rPr b="1" i="1" lang="hu-HU" sz="3200" spc="-1" strike="noStrike">
                <a:solidFill>
                  <a:srgbClr val="ffff00"/>
                </a:solidFill>
                <a:latin typeface="Times New Roman"/>
              </a:rPr>
              <a:t>nyomjelzés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felfedezéséért kapta Hevessy György 1944-ben a kémiai Nobel-díjat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z U-235 mag hasad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1219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13716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9144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143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1447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762120"/>
            <a:ext cx="457200" cy="4572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152388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1219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83808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752480"/>
            <a:ext cx="457200" cy="4572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16002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1143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15238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-235ma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371600"/>
            <a:ext cx="10670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838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ssú neutr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920"/>
            <a:ext cx="380880" cy="3045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533520"/>
            <a:ext cx="380880" cy="3045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609480"/>
            <a:ext cx="38124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838080"/>
            <a:ext cx="38088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838080"/>
            <a:ext cx="380880" cy="30492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8600"/>
            <a:ext cx="38124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57200"/>
            <a:ext cx="380880" cy="30492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609480"/>
            <a:ext cx="380880" cy="30492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304920"/>
            <a:ext cx="380880" cy="3045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457200"/>
            <a:ext cx="38088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838080"/>
            <a:ext cx="38124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2920" y="685800"/>
            <a:ext cx="380880" cy="30492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1066680"/>
            <a:ext cx="38088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1066680"/>
            <a:ext cx="38088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990720"/>
            <a:ext cx="381240" cy="3045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533520"/>
            <a:ext cx="380880" cy="3045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838080"/>
            <a:ext cx="38124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1295280"/>
            <a:ext cx="38088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1295280"/>
            <a:ext cx="38088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1295280"/>
            <a:ext cx="38124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1523880"/>
            <a:ext cx="38088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1523880"/>
            <a:ext cx="38088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1752480"/>
            <a:ext cx="38124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1752480"/>
            <a:ext cx="38088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1905120"/>
            <a:ext cx="381240" cy="30456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1905120"/>
            <a:ext cx="381240" cy="3045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1828800"/>
            <a:ext cx="381240" cy="30492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1600200"/>
            <a:ext cx="381240" cy="30492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1676520"/>
            <a:ext cx="380880" cy="30456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1523880"/>
            <a:ext cx="381240" cy="3049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1447920"/>
            <a:ext cx="380880" cy="3045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1219320"/>
            <a:ext cx="380880" cy="3045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erjesztett mag (U-236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762120"/>
            <a:ext cx="83808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790960" y="1295280"/>
            <a:ext cx="533160" cy="5335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914400"/>
            <a:ext cx="129528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410080" y="1219320"/>
            <a:ext cx="91440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1143000"/>
            <a:ext cx="114300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181120" y="609480"/>
            <a:ext cx="38124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952880" y="685800"/>
            <a:ext cx="15264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914400"/>
            <a:ext cx="22860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1295280"/>
            <a:ext cx="45720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715000" y="1752480"/>
            <a:ext cx="45720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160020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76320" y="2209680"/>
            <a:ext cx="9448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A neutronnak nincs elektromos töltése, atommagban nem kötött - állapotban könnyen az atommag közelébe férkőzhet és kölcsönhatásba léphet. Lehetséges következmény: a mag széthasadhat két könnyebb részre. A természetben egy ilyen izotóp fordul elő: az U-235. Mesterségesen már több hasadóképes izotópot sikerült előállítani: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Kettő jelentős: U-233 és a Pu-239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6019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6172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6324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172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5867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609588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57913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586728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57913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5715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5867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60958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61722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6248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6019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64008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6324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5715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943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6400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57913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5943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8672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943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60958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57913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563868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609588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57913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5562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6248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6324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579132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5943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6248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58672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609588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6400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6019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64008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6172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5638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5715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6095880"/>
            <a:ext cx="16765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61760" y="6019920"/>
            <a:ext cx="1600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5486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báriu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6019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ergi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5410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ript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60199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ergi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495680" y="5333760"/>
            <a:ext cx="457200" cy="53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419720" y="5181120"/>
            <a:ext cx="75960" cy="381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038480" y="51814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276360" y="5334120"/>
            <a:ext cx="60948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581280" y="6324480"/>
            <a:ext cx="45720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632448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6248520"/>
            <a:ext cx="30456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6400800"/>
            <a:ext cx="60948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55627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 (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267080" y="5257800"/>
            <a:ext cx="0" cy="3808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6248520"/>
            <a:ext cx="15264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-3 db gyors neutr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2362320"/>
            <a:ext cx="2514600" cy="22860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990720"/>
            <a:ext cx="380880" cy="380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990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990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362320"/>
            <a:ext cx="0" cy="228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00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523520" y="1371600"/>
            <a:ext cx="838440" cy="83808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209680"/>
            <a:ext cx="685800" cy="53352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142640" y="2743200"/>
            <a:ext cx="1143000" cy="68580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80520" y="34290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657600"/>
            <a:ext cx="160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lnyelődik  a reaktor szerkezeti anyagáb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428640" y="1371600"/>
            <a:ext cx="685800" cy="121932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2514600"/>
            <a:ext cx="2057400" cy="68580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333760" y="2514240"/>
            <a:ext cx="152280" cy="68580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352680" y="2514600"/>
            <a:ext cx="1981440" cy="160020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352680" y="289512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2895480"/>
            <a:ext cx="2210040" cy="129564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495680" y="4191120"/>
            <a:ext cx="1067040" cy="22860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441972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50292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5680" y="5486400"/>
            <a:ext cx="0" cy="457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91120" y="60199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609588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64771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33920" y="6248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61722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60199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62485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647712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6248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64771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6248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64771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647712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62485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-235 ma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4120" y="50292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assú neutr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32004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assító közeg   (moderáto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1371600"/>
            <a:ext cx="685800" cy="30492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477120" y="99036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990720"/>
            <a:ext cx="75960" cy="152388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6095520" y="2057400"/>
            <a:ext cx="685800" cy="45720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172200" y="1600200"/>
            <a:ext cx="1828800" cy="45720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24680" y="137160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005600">
            <a:off x="7467120" y="19047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lfolyik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514600" y="457200"/>
            <a:ext cx="7632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5335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457200"/>
            <a:ext cx="763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723920" y="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asadáskor keletkező sugárzáso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257440" y="7617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aghasadáskor sokféle kölcsönhatás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hu-HU" sz="32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hu-HU" sz="2400" spc="-1" strike="noStrike">
                <a:solidFill>
                  <a:srgbClr val="ffff00"/>
                </a:solidFill>
                <a:latin typeface="Times New Roman"/>
              </a:rPr>
              <a:t>különféle sugárzáso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cc99"/>
                </a:solidFill>
                <a:latin typeface="Times New Roman"/>
              </a:rPr>
              <a:t>Csoportosításuk legegy-szerübb szempontja: elektromos tulajdonság szerint:  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 töltéssel rendelkezö részek az anyaggal elvesztik energiájukat,</a:t>
            </a:r>
            <a:r>
              <a:rPr b="1" i="1" lang="hu-HU" sz="2400" spc="-1" strike="noStrike">
                <a:solidFill>
                  <a:srgbClr val="ffff00"/>
                </a:solidFill>
                <a:latin typeface="Times New Roman"/>
              </a:rPr>
              <a:t> ionizálnak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hu-HU" sz="2400" spc="-1" strike="noStrike" u="sng">
                <a:solidFill>
                  <a:srgbClr val="ffff00"/>
                </a:solidFill>
                <a:uFillTx/>
                <a:latin typeface="Times New Roman"/>
              </a:rPr>
              <a:t>Áthatolásuk kicsi</a:t>
            </a:r>
            <a:r>
              <a:rPr b="1" i="1" lang="hu-H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öltése nincs a neutron-, röntgen- és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sugaraknak.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hu-HU" sz="2400" spc="-1" strike="noStrike" u="sng">
                <a:solidFill>
                  <a:srgbClr val="ffff00"/>
                </a:solidFill>
                <a:uFillTx/>
                <a:latin typeface="Times New Roman"/>
              </a:rPr>
              <a:t>Nagy az áthatoló képességük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350532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373392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36576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34290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28800" y="380988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38862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350532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373392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365760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373392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396252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48006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36576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36576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38098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36576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36576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380988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350532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36576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380988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8862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34290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05320" y="365760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358128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8862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36576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41148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40384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34290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38862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40384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35812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403848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350532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42900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411480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40384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38098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304812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) (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352680" y="2361960"/>
            <a:ext cx="381240" cy="10666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2286000" y="2361960"/>
            <a:ext cx="380880" cy="1143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286000" y="4191120"/>
            <a:ext cx="380880" cy="99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4114800"/>
            <a:ext cx="381240" cy="10666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2209680"/>
            <a:ext cx="228600" cy="1371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123720" y="2209680"/>
            <a:ext cx="228600" cy="1371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590920" y="4191120"/>
            <a:ext cx="304560" cy="1295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4191120"/>
            <a:ext cx="304920" cy="1371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1676160" y="2209320"/>
            <a:ext cx="5331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676520" y="19810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752480" y="1828800"/>
            <a:ext cx="22860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7400" y="175248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14600" y="1676520"/>
            <a:ext cx="9907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1752480"/>
            <a:ext cx="38088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809880" y="2286000"/>
            <a:ext cx="30492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3885840" y="1905120"/>
            <a:ext cx="22860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599840" y="5105520"/>
            <a:ext cx="68580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5410080"/>
            <a:ext cx="152280" cy="381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52480" y="5791320"/>
            <a:ext cx="99072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5867280"/>
            <a:ext cx="83808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581280" y="5562720"/>
            <a:ext cx="60984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191120" y="5181120"/>
            <a:ext cx="228600" cy="381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3657240" y="4876920"/>
            <a:ext cx="76212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294920" y="5410080"/>
            <a:ext cx="304920" cy="381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5867280"/>
            <a:ext cx="30492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00200" y="6172200"/>
            <a:ext cx="76212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6324480"/>
            <a:ext cx="838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124080" y="6171840"/>
            <a:ext cx="106704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191120" y="5715000"/>
            <a:ext cx="53316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724280" y="5181480"/>
            <a:ext cx="30492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4114800" y="5029200"/>
            <a:ext cx="83808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447560" y="1752480"/>
            <a:ext cx="2286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447920" y="1219320"/>
            <a:ext cx="685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1219320"/>
            <a:ext cx="6098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1219320"/>
            <a:ext cx="83808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1447920"/>
            <a:ext cx="60948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886200" y="2209680"/>
            <a:ext cx="60948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4343040" y="1600200"/>
            <a:ext cx="30492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6520" y="2666880"/>
            <a:ext cx="68580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505320" y="2514600"/>
            <a:ext cx="1143000" cy="838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38080" y="4648320"/>
            <a:ext cx="1447920" cy="129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9880" y="4572000"/>
            <a:ext cx="129564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1066320" y="2057040"/>
            <a:ext cx="1143000" cy="11430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581280" y="2286000"/>
            <a:ext cx="1143000" cy="914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4495680"/>
            <a:ext cx="1371600" cy="1219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914400" y="4648320"/>
            <a:ext cx="1295280" cy="12189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676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gárzá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19720" y="1676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gárzá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0" y="55627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öntgen sugárzá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5791320"/>
            <a:ext cx="2209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gárzás (He atommag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09680" y="6400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sugárzá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5562720"/>
            <a:ext cx="0" cy="914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5181480"/>
            <a:ext cx="304560" cy="228600"/>
          </a:xfrm>
          <a:prstGeom prst="flowChartConnector">
            <a:avLst/>
          </a:prstGeom>
          <a:solidFill>
            <a:srgbClr val="ff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43200" y="1676520"/>
            <a:ext cx="304920" cy="228600"/>
          </a:xfrm>
          <a:prstGeom prst="flowChartConnector">
            <a:avLst/>
          </a:prstGeom>
          <a:solidFill>
            <a:srgbClr val="ff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895480" y="685800"/>
            <a:ext cx="0" cy="914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152388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1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4952880"/>
            <a:ext cx="228600" cy="2286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480060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4952880"/>
            <a:ext cx="228600" cy="22860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öltés nélküli sugárzások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-380880" y="1066320"/>
            <a:ext cx="9524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Arial"/>
              </a:rPr>
              <a:t>A röntgen és a </a:t>
            </a:r>
            <a:r>
              <a:rPr b="1" lang="hu-HU" sz="32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hu-HU" sz="3200" spc="-1" strike="noStrike">
                <a:solidFill>
                  <a:srgbClr val="ffff00"/>
                </a:solidFill>
                <a:latin typeface="Arial"/>
              </a:rPr>
              <a:t> sugarak a fényhez hasonló, de lényegesen nagyobb energiájú </a:t>
            </a:r>
            <a:r>
              <a:rPr b="1" lang="hu-HU" sz="3200" spc="-1" strike="noStrike">
                <a:solidFill>
                  <a:srgbClr val="ffffcc"/>
                </a:solidFill>
                <a:latin typeface="Arial"/>
              </a:rPr>
              <a:t>elektro-mágneses hullámok</a:t>
            </a:r>
            <a:r>
              <a:rPr b="1" lang="hu-HU" sz="3200" spc="-1" strike="noStrike">
                <a:solidFill>
                  <a:srgbClr val="ffff00"/>
                </a:solidFill>
                <a:latin typeface="Arial"/>
              </a:rPr>
              <a:t>, melyek az atomok elektronjaival lépnek kölcsönhatásba. Ezért a nagy rendszámú és nagy sürüségü anyagok </a:t>
            </a:r>
            <a:r>
              <a:rPr b="1" i="1" lang="hu-HU" sz="3200" spc="-1" strike="noStrike">
                <a:solidFill>
                  <a:srgbClr val="ffff00"/>
                </a:solidFill>
                <a:latin typeface="Arial"/>
              </a:rPr>
              <a:t>nyelik el</a:t>
            </a:r>
            <a:r>
              <a:rPr b="1" lang="hu-HU" sz="3200" spc="-1" strike="noStrike">
                <a:solidFill>
                  <a:srgbClr val="ffff00"/>
                </a:solidFill>
                <a:latin typeface="Arial"/>
              </a:rPr>
              <a:t> leginkább (ólom, vas stb.) A neutron sugárzás elleni védekezés kétlépcsös. Elöször a neutron kell lassítani. Ehhez a nagy hidrogéntartalmú anyagok a legmegfelelöbbek (víz, nehézvíz, paraffin). Ezután következik a neutronok elnyelése bórral, ill. kadmiummal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omi-részecske sugárzás észlelé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Sugárzásfajták" descr=""/>
          <p:cNvPicPr/>
          <p:nvPr/>
        </p:nvPicPr>
        <p:blipFill>
          <a:blip r:embed="rId1"/>
          <a:stretch/>
        </p:blipFill>
        <p:spPr>
          <a:xfrm>
            <a:off x="0" y="3860640"/>
            <a:ext cx="9144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Sugárzóanyag szállítása és hosszútávú elhelyezé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76" name="Sugárzóanyagtemető1" descr=""/>
          <p:cNvPicPr/>
          <p:nvPr/>
        </p:nvPicPr>
        <p:blipFill>
          <a:blip r:embed="rId1"/>
          <a:stretch/>
        </p:blipFill>
        <p:spPr>
          <a:xfrm>
            <a:off x="0" y="1035000"/>
            <a:ext cx="91440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gárözön éri a Földünket is a világűrbő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81240" y="533520"/>
            <a:ext cx="9753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 Chandra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űrszonda 2,6 naponként kerüli meg a Földet.      A Van Allen övön kívül haladva az űr sugárzását zavar-mentesebben észleli. A tükrökről érkező jel nagyon kis szögű jel észlelést tesz lehetővé a CCD spektrométerrel.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Rendkívül jó feloldást nyújt!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Sugárszonda" descr=""/>
          <p:cNvPicPr/>
          <p:nvPr/>
        </p:nvPicPr>
        <p:blipFill>
          <a:blip r:embed="rId1"/>
          <a:stretch/>
        </p:blipFill>
        <p:spPr>
          <a:xfrm>
            <a:off x="0" y="2784600"/>
            <a:ext cx="91440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Nap a mi csillagunk: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Elektromágneses és részecskesugárforrá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Napbelső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ozmikus sugárzás által okozott sarki fényjelensé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00240" y="114264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Mindig zöld, ill. ibolya színűek. A szoláris (Nap) szél a sarkvidékek feletti légkör molekuláit gerjeszti. A nap-szél a Nap által állandóan kibocsájtott részecske áram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 légköri molekulák (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és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) a gerjesztett állapotukból fény kibocsátásával térnek vissza alapállapotukba. Az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ibolya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szín a nitrogén legnagyobb intenzitású színképvonala, míg az oxigéné a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zöld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Északi%20fény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4832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Föld belsejében levő radioaktivitás melegíti a gejzíreke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 Föld anyagainak természetes radioaktivitásából eredő hőenergia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 geotermia szempontjából kedvező területek  az üledékes medencék és a vulkáni régiók, ahol a magma nem túl mélyen húzódik vagy a törés vonalak mentén kedvező a forró víz feltörése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Gejzir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calderaKamcsatkába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10280" y="0"/>
            <a:ext cx="2438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Ol Doimyo</a:t>
            </a:r>
            <a:br>
              <a:rPr sz="2400"/>
            </a:b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Lengai</a:t>
            </a:r>
            <a:br>
              <a:rPr sz="2400"/>
            </a:b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gejzír</a:t>
            </a:r>
            <a:br>
              <a:rPr sz="2400"/>
            </a:b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(Tanzani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81320" y="2666880"/>
            <a:ext cx="2590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 mélyrétegek-ből olvadt állapotban feltörő Nátrium-karbonát a levegőn lehűlve megszilárdul a lávafolyások mintájára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Vulkán2" descr=""/>
          <p:cNvPicPr/>
          <p:nvPr/>
        </p:nvPicPr>
        <p:blipFill>
          <a:blip r:embed="rId1"/>
          <a:stretch/>
        </p:blipFill>
        <p:spPr>
          <a:xfrm>
            <a:off x="0" y="0"/>
            <a:ext cx="716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élyről felkerülő vulkáni kőzetek is tartalmaznak radioaktív elemeke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Vulkán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20:50:24Z</dcterms:created>
  <dc:creator>Cech Vilmos</dc:creator>
  <dc:description/>
  <dc:language>en-US</dc:language>
  <cp:lastModifiedBy>Cech Vilmos</cp:lastModifiedBy>
  <dcterms:modified xsi:type="dcterms:W3CDTF">2003-04-06T19:36:06Z</dcterms:modified>
  <cp:revision>14</cp:revision>
  <dc:subject/>
  <dc:title>Anyagsugárzás, Izotópok</dc:title>
</cp:coreProperties>
</file>