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E29-8F38-4236-9599-2E8CCADC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1A4-E878-4C66-A76C-A2EB58A1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747-2AAE-4A3D-8182-24D247BB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64C-352C-41C6-94A3-E089B716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458-343E-4D35-B426-9E22E817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074-A53E-4865-8D6A-B1BDD6B3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019-EDC3-49CB-B9C7-968DE53F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A34-E3DE-410C-9DF0-FD3FFF95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775-A992-4FDA-A5E4-7E598724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E2C-442B-45AE-955E-A4CD97BD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1A7-6ABB-46E6-BA7E-90A226D6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8BC-89D4-416A-92EF-59B243BA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08C2-3E0B-45B1-AD86-8BF2B38CE94C}" type="slidenum">
              <a:rPr b="0" lang="hu-HU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Times New Roman"/>
              </a:rPr>
              <a:t>Ember és Technika</a:t>
            </a:r>
            <a:br>
              <a:rPr sz="6600"/>
            </a:br>
            <a:endParaRPr b="0" lang="en-US" sz="6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echnikatörténet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udománytörténe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Tudománytörténet: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az anyaggal, az anyagátala-kulással foglalkozik, míg a </a:t>
            </a:r>
            <a:r>
              <a:rPr b="1" i="1" lang="hu-HU" sz="3200" spc="-1" strike="noStrike">
                <a:solidFill>
                  <a:srgbClr val="ffff66"/>
                </a:solidFill>
                <a:latin typeface="Times New Roman"/>
              </a:rPr>
              <a:t>technika-történet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az anyag átalakításával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technika külön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technikai környezetet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hoz létre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Analizis</a:t>
            </a: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hu-HU" sz="4400" spc="-1" strike="noStrike">
                <a:solidFill>
                  <a:srgbClr val="ffff66"/>
                </a:solidFill>
                <a:latin typeface="Symbol"/>
                <a:ea typeface="Symbol"/>
              </a:rPr>
              <a:t></a:t>
            </a:r>
            <a:r>
              <a:rPr b="1" lang="hu-HU" sz="4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Szintézis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Kétféle történet van: </a:t>
            </a:r>
            <a:r>
              <a:rPr b="1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 Ami feltétlenül megtörtént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Ahogy megtörtént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   A technika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megismerhetö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66"/>
                </a:solidFill>
                <a:latin typeface="Times New Roman"/>
              </a:rPr>
              <a:t>Az egyiket írják, a másikat olvassák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A természettudomány le</a:t>
            </a:r>
            <a:r>
              <a:rPr b="1" i="1" lang="hu-HU" sz="2800" spc="-1" strike="noStrike" u="sng">
                <a:solidFill>
                  <a:srgbClr val="ffff66"/>
                </a:solidFill>
                <a:uFillTx/>
                <a:latin typeface="Times New Roman"/>
              </a:rPr>
              <a:t>írja</a:t>
            </a: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.       A technika </a:t>
            </a:r>
            <a:r>
              <a:rPr b="1" i="1" lang="hu-HU" sz="2800" spc="-1" strike="noStrike" u="sng">
                <a:solidFill>
                  <a:srgbClr val="ffff66"/>
                </a:solidFill>
                <a:uFillTx/>
                <a:latin typeface="Times New Roman"/>
              </a:rPr>
              <a:t>megvalósítja!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 u="sng">
                <a:solidFill>
                  <a:srgbClr val="ffff66"/>
                </a:solidFill>
                <a:uFillTx/>
                <a:latin typeface="Times New Roman"/>
              </a:rPr>
              <a:t>Névmutatója van!   </a:t>
            </a:r>
            <a:r>
              <a:rPr b="1" i="1" lang="hu-HU" sz="3600" spc="-1" strike="noStrike" u="sng">
                <a:solidFill>
                  <a:srgbClr val="ffff66"/>
                </a:solidFill>
                <a:uFillTx/>
                <a:latin typeface="Symbol"/>
                <a:ea typeface="Symbol"/>
              </a:rPr>
              <a:t></a:t>
            </a:r>
            <a:r>
              <a:rPr b="1" i="1" lang="hu-HU" sz="36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1" i="1" lang="hu-HU" sz="3600" spc="-1" strike="noStrike" u="sng">
                <a:solidFill>
                  <a:srgbClr val="ffff66"/>
                </a:solidFill>
                <a:uFillTx/>
                <a:latin typeface="Times New Roman"/>
              </a:rPr>
              <a:t>    Tárgymutatója van!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udománytörténet - Technikatörténe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udománytörténet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írásban megvan, állandóan fejlesztik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echnikatörténet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- tények története, ami már megvalósult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Gondolkodás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al sok mindent meg lehet válaszolni (Verne Gyula). Nem biztos, hogy abban az időben meg is lehet valósítani. Akkor valósítható meg, ha a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örnyezet is megérett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rá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echnikatörténettel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rokon területek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 Néprajz, gazdaságtörténet, művészettörténet, régészet, nyelvészet, morfológia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Makkai László prof.szerint átvihetők:</a:t>
            </a:r>
            <a:r>
              <a:rPr b="0" lang="hu-HU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hu-HU" sz="4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hu-HU" sz="4400" spc="-1" strike="noStrike">
                <a:solidFill>
                  <a:srgbClr val="ffff66"/>
                </a:solidFill>
                <a:latin typeface="Times New Roman"/>
              </a:rPr>
              <a:t>R D E T I</a:t>
            </a: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15228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Szerszám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az első, „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Instrumentum” I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. Ásatások nyomán feltalált kővel, fával oldották me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Erőhatás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fokozására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áttétel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használat. Kalapácsnyél, emelőrúd  „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Transzmisszio” 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ember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igyekszik saját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erejét kiváltani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, helyettesíteni, „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energia”E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-t vesz igénybe. Állati erő, szél, víz, gőz, ato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„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Memoria” D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(Ductus), a saját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figyelmének 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szerkezetekkel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pótlása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, tehermentesítés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ész pótlása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1" lang="hu-HU" sz="3200" spc="-1" strike="noStrike">
                <a:solidFill>
                  <a:srgbClr val="ffff66"/>
                </a:solidFill>
                <a:latin typeface="Times New Roman"/>
              </a:rPr>
              <a:t>„Ráció” R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990720"/>
            <a:ext cx="129564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4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A technika korszakának első szakaszában a feltalálókat nem ismerjük. Ez a korszak az őskortól az antik világig tart.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66"/>
                </a:solidFill>
                <a:latin typeface="Times New Roman"/>
              </a:rPr>
              <a:t>Utána: A </a:t>
            </a: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feltalálót nyílván tartják</a:t>
            </a:r>
            <a:r>
              <a:rPr b="0" lang="hu-HU" sz="4000" spc="-1" strike="noStrike">
                <a:solidFill>
                  <a:srgbClr val="ffff66"/>
                </a:solidFill>
                <a:latin typeface="Times New Roman"/>
              </a:rPr>
              <a:t>. A „góllővő”-ét! A </a:t>
            </a:r>
            <a:r>
              <a:rPr b="1" i="1" lang="hu-HU" sz="4000" spc="-1" strike="noStrike">
                <a:solidFill>
                  <a:srgbClr val="ffff66"/>
                </a:solidFill>
                <a:latin typeface="Times New Roman"/>
              </a:rPr>
              <a:t>passzolóét már nem</a:t>
            </a:r>
            <a:r>
              <a:rPr b="0" lang="hu-HU" sz="40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66"/>
                </a:solidFill>
                <a:latin typeface="Times New Roman"/>
              </a:rPr>
              <a:t>Felkutatását nem a technikatörténet, hanem a régészet végzi.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 technika meghatározása más nézőpontból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technika az eszközök, berendezések, rendszerek működtetése és fejlesztése, használata és karbantartása, ismertetése és magyarázata. Vagyis nemcsak a 3. környezet, de az arról alkotott ismeretek összessége is. A szaktudományokra épül, azokkal szorosan összefüggő rendszert is alko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z ember és a körülötte levő világ (annak egy része) közötti kapcsolat lehet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aktív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és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asszív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Passzív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Észlelet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ismeret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magyaráz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Aktív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lőidézés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felhasználás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változá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 technikai módszer legfontosabb jellemzője az állapotváltoztatá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élszerű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Gazdaságo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ervszerű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zervezet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tudomány és a technika: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olarizálódik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Összefonódik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zükséges, hogy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feltárják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a különféle technikai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rendszerek és folyamatok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egységes szemléletű tárgyalását. A technikai modellek és megegyező és eltérő jellemzői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Műveltség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környező világunkban eligazodni „létkérdés”. A műveltségünk része kell legyen a technikai rendszerekben való műveltség, jártasság is. (Pl.: autóvezetés, számítógépes könyvtár használat, információtechnikai eszközök stb.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Ma már nem lehet művelt ember az, aki nem rendelkezik technikai műveltséggel is. Képes legyen: - a technikai környezetében tájékozódni, azt használni. - környezetéhez alkalmazkodni, - környezetét óvni és fejleszteni, - újabb ismereteket szerezni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9372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echnika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lap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kategóriái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és történeti hátterük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ranszfer elemek: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nyag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nergia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Információ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Rendszer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és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odell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ika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árom környezet: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1.Természet, 2.társadalom, 3.mestersége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(technikai környezet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echnikai környezet: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Az ember környezetét tudatosan megváltoztatja.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iztosítani kívánja életét: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élelmét és védelmé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szközöket használ a jobb eredményesség érdekébe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Védelmét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- időjárás változásai,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- vadállatok és ellenségei elle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Környezetének darabjait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eszköz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ül használja és tapasztalatai alapján célszerűbbé formálj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z alakításhoz cél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”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szerszámokat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”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haszná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Élet és technika: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Nincs-e más élőlényeknek technikájuk?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úsevő növények rovarcsapdái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ód gátat épít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Madarak eszközt használnak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Reakció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élda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Jellemzé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növekedés, alak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eknősbéka páncélja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öröklött, merev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sigaház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eflex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bba való visszahúzódá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öröklött merev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ösztön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egzes légy lárvája épít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öröklött,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emeterák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kevéssé rugalma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udatos cselekvé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lovagi páncél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anult, rugalma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-347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z állatok és a növények génállományában van rögzítve a védelem. Évmilliók alatt alakult és helyesnek bizonyult az egyén és fajta fennmaradását szolgáló módszer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z ember társadalmi úton, tanulás révén sajátítja el a technikát. Ebben van a hátránya is: merevség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z első eszközök készítésével nem zárult le a filogenetikai fejlődés. Néhány százezer év alatt duplájára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őtt az agytérfogat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. Létrejött a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beszédközpont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, tovább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ejlődött a kéz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.                      </a:t>
            </a: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(Egy sor ösztön és érzékszervi tulajdonság elvész.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z emberi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gy pótolja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, felülmúlja azokat.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szközt készít, használ, fejlesz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z agy kárpótlása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 testi fogyatékosságokért (filogenezis): az eszközökben és eljárásokban tárgyiasult munka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Összefoglalva: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Ösztön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öntudat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Feltétlen reflex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feltételes reflex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Átöröklés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tanulás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hu-HU" sz="3200" spc="-1" strike="noStrike" u="sng">
                <a:solidFill>
                  <a:srgbClr val="ffff66"/>
                </a:solidFill>
                <a:uFillTx/>
                <a:latin typeface="Times New Roman"/>
              </a:rPr>
              <a:t>javára veszít jelentöségébö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ember először öntudatlanul, majd tudatosan merített a környezetéből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Az embert a szerszám készítése 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(is)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teszi emberré. Törekszik az eredményességr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Állati és növényi technikákkal foglalkozik az: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tológia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utatják az állatok „technikai eszközeit”, amelyeket állandóan vagy időszakosan használnak: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l. denevér a tájékozódásához mely szervével és hogyan bocsát ki ultrahangot, hogyan dolgozza fel az észlelt jelet, a visszavert hango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mberi technikák: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rgonómia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elyik nép, mit és mikor valósított meg?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l.: Mikor és hol keletkezett az első ív, kupola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Van-e valaki aki magától épít kupolát?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szkimók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Van-e olyan eszköz amit az állatvilág nem ismer?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urok (Előre elkészített). A növényvilágban csavar van, de kerék ninc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űz.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z állatok nem gerjesztenek tudatosan tüzet!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982440" cy="685800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z emberi fejlődésre hatással van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: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ffff66"/>
                </a:solidFill>
                <a:latin typeface="Times New Roman"/>
              </a:rPr>
              <a:t>Mentalitás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, eszmetörténet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Symbol"/>
                <a:ea typeface="Symbol"/>
              </a:rPr>
              <a:t>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Társadalom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tudományok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udománytörténet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Symbol"/>
                <a:ea typeface="Symbol"/>
              </a:rPr>
              <a:t></a:t>
            </a:r>
            <a:br>
              <a:rPr sz="44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Gazdaság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történet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66"/>
                </a:solidFill>
                <a:latin typeface="Symbol"/>
                <a:ea typeface="Symbol"/>
              </a:rPr>
              <a:t></a:t>
            </a: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Technika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tudomány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371600" y="2819520"/>
            <a:ext cx="2286000" cy="266688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895480"/>
            <a:ext cx="1828800" cy="251460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6400800"/>
            <a:ext cx="586728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Nem egyforma a hatásuk!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937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Mentalitás: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i="1" lang="en-US" sz="4000" spc="-1" strike="noStrike" u="sng">
                <a:solidFill>
                  <a:srgbClr val="ffff66"/>
                </a:solidFill>
                <a:uFillTx/>
                <a:latin typeface="Times New Roman"/>
              </a:rPr>
              <a:t>Lassan változik!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Megnehezíti, hátráltatja a társadalmi fejlődését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ársadalom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tudomány: nehézkessége akadályozza a gazdaság fejlesztésé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Gazdaság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örténet: Gyorsabban haladhatna, ha a társadalom jobban illeszkedn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echnika: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sokkal gyorsabban tudna haladni, ha a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társadalom és a gazdaság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-történeti tények nem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hátráltatná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!!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12:38:12Z</dcterms:created>
  <dc:creator>Cech Vilmos</dc:creator>
  <dc:description/>
  <dc:language>en-US</dc:language>
  <cp:lastModifiedBy>Cech Vilmos</cp:lastModifiedBy>
  <dcterms:modified xsi:type="dcterms:W3CDTF">2007-02-14T06:37:46Z</dcterms:modified>
  <cp:revision>11</cp:revision>
  <dc:subject/>
  <dc:title>Ember és Technika </dc:title>
</cp:coreProperties>
</file>