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C36-ED40-4183-9F6A-FD194043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1B8F-6DD8-49DA-A5C0-F880E15F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EBC-BDD0-41D5-B0AE-82C53676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9C3-3063-4716-B7EA-6CF2DA35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86A-D468-485C-808F-CF64ABB3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2F4-B8A2-4873-9FE2-B4536A0C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C5C-EB6A-4F33-855F-30572197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819-1094-470C-BF4F-805C5449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27F-B271-4EFC-B375-A678E262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196-FAAD-400F-BDF7-FCD0AB3E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24C-2A6A-4934-A34B-29822BDA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040-405F-4792-964B-D1B586E1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B3AC-6025-48F1-9F4B-82CB57856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Olaj feltárás, szállítá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zélsőséges földrajzi, éghajlati körülmények között, biztonságg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37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USA saját olaj és gáz energia forrá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2880" y="1218960"/>
            <a:ext cx="4191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968-ban felfedezett Alaskai szénhidrogén mezőt annak idején 9.6 millió hordóra becsülték. Ez később 77 millió hordóra nőt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lelőhely mostoha vidéken van: hideg, zord éghajlat, lakatlan, úttalan vidé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Csővezeték építése új technológiákat igénye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lajvezeték6" descr=""/>
          <p:cNvPicPr/>
          <p:nvPr/>
        </p:nvPicPr>
        <p:blipFill>
          <a:blip r:embed="rId1"/>
          <a:stretch/>
        </p:blipFill>
        <p:spPr>
          <a:xfrm>
            <a:off x="0" y="0"/>
            <a:ext cx="534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Olajvezeték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7440" y="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Új anyagok, új szerkezetek a csővezeté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2880" y="18284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yáron a talaj felmele-gedését ammóniás hű-téssel akadályozzák meg. A keletkezett hővel fűtik az olajat, az könnyebben áramli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(Fordított hűtőgép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Olajvezeték1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47960" y="0"/>
            <a:ext cx="480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csővezeték össze-szerelése gondos előkészítést igény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0" y="22096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zord éghajlati viszonyok és a terep tagoltsága csak összeszerelést enged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sővezeték mellett „szerviz út” csak az ellenőrzést és a katasztrófa elhárítást  teszi lehetőv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lajvezeték4" descr=""/>
          <p:cNvPicPr/>
          <p:nvPr/>
        </p:nvPicPr>
        <p:blipFill>
          <a:blip r:embed="rId1"/>
          <a:stretch/>
        </p:blipFill>
        <p:spPr>
          <a:xfrm>
            <a:off x="0" y="0"/>
            <a:ext cx="486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829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z acélcsővet kívűl és belül több réteggel kell ellátni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talajba vagy az állványokra helyezés után, hogy 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fizikai, vegyi és villamos hatásoknak ellen álljon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Olajvezeték,snopy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sövek helyszínre szállítása után összehegesztik, előkészítés után külső belső bevonatokkal látják el, majd a beépítési helyekre szállítj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lajvezeték3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9:45:33Z</dcterms:created>
  <dc:creator>Cech Vilmos</dc:creator>
  <dc:description/>
  <dc:language>en-US</dc:language>
  <cp:lastModifiedBy>Cech Vilmos</cp:lastModifiedBy>
  <dcterms:modified xsi:type="dcterms:W3CDTF">2004-03-10T07:53:31Z</dcterms:modified>
  <cp:revision>7</cp:revision>
  <dc:subject/>
  <dc:title>Olaj feltárás, szállítás</dc:title>
</cp:coreProperties>
</file>