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E4A4-19A2-4925-BFA0-4A6050310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C348-1C4A-4AD3-B84B-AC5F99FA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061A-3B4B-4DF6-8EA0-68E8FBC9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B5EF-668A-481F-84D8-4B81E362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40F1-6178-4CCA-B825-57EAF95F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ABA3-3EBB-4475-ACCF-A4016A81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1CCB-1325-41E9-A10C-E2E937FA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A006-2D77-4F23-B041-CE426896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C2D0-3E9E-4A26-9005-80F1256D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ADFD-9889-4E65-9E60-DE7D87D8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14A0-9062-4E01-B6EB-AC04D043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B021-F43E-405B-A876-AC682B04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5170-8D37-4520-9F28-3102850136A5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66"/>
                </a:solidFill>
                <a:latin typeface="Times New Roman"/>
              </a:rPr>
              <a:t>Energia</a:t>
            </a:r>
            <a:endParaRPr b="0" lang="en-US" sz="8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Hogy állunk az atomenergiával?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4" name="Atomerőművek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7532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66"/>
                </a:solidFill>
                <a:latin typeface="Times New Roman"/>
              </a:rPr>
              <a:t>1983-ban a London melletti Culhamban felállították a világ legnagyobb fúziós kutatóberendezést.</a:t>
            </a:r>
            <a:br>
              <a:rPr sz="2800"/>
            </a:br>
            <a:r>
              <a:rPr b="1" lang="hu-HU" sz="2800" spc="-1" strike="noStrike">
                <a:solidFill>
                  <a:srgbClr val="ffff66"/>
                </a:solidFill>
                <a:latin typeface="Times New Roman"/>
              </a:rPr>
              <a:t>Elektromágnes tekercsei vasmagokat vesznek körül, ezek nyílásaiban helyezkedik el  a plazmát tartalmazó tórusz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7" name="Culhamitokamak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66"/>
                </a:solidFill>
                <a:latin typeface="Times New Roman"/>
              </a:rPr>
              <a:t>A tórusz csatornájában állítják elő és szabályozzák a plazmában folyó áramot is. Napjainkban még a folyamatos üzemeltetés még nem működik.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80" name="Culhamilab1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562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Energia forrás: </a:t>
            </a:r>
            <a:r>
              <a:rPr b="0" lang="en-US" sz="5400" spc="-1" strike="noStrike">
                <a:solidFill>
                  <a:srgbClr val="ffff66"/>
                </a:solidFill>
                <a:latin typeface="Times New Roman"/>
              </a:rPr>
              <a:t>Emberi erő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45" name="Energia1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Energiaforrás (3000 éven át): </a:t>
            </a:r>
            <a:br>
              <a:rPr sz="4400"/>
            </a:br>
            <a:r>
              <a:rPr b="0" lang="en-US" sz="5400" spc="-1" strike="noStrike">
                <a:solidFill>
                  <a:srgbClr val="ffff66"/>
                </a:solidFill>
                <a:latin typeface="Times New Roman"/>
              </a:rPr>
              <a:t>Tűz, Szél, Nap és állati izomerő</a:t>
            </a:r>
            <a:endParaRPr b="0" lang="en-US" sz="5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48" name="Energia2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z utóbbi 300 évben:</a:t>
            </a:r>
            <a:r>
              <a:rPr b="0" lang="hu-HU" sz="4400" spc="-1" strike="noStrike">
                <a:solidFill>
                  <a:srgbClr val="ffff66"/>
                </a:solidFill>
                <a:latin typeface="Times New Roman"/>
              </a:rPr>
              <a:t>Vízerő-, Szén-, Olaj-, Földgáz-, Urán-ból nyert villamosáram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1" name="Energia3" descr=""/>
          <p:cNvPicPr/>
          <p:nvPr/>
        </p:nvPicPr>
        <p:blipFill>
          <a:blip r:embed="rId1"/>
          <a:stretch/>
        </p:blipFill>
        <p:spPr>
          <a:xfrm>
            <a:off x="0" y="1143000"/>
            <a:ext cx="8848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 szénülés foka és a fűtőérték tartalom: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Szénülés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Sűrűség  Fűtőérték  Víztartalom 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/m</a:t>
            </a:r>
            <a:r>
              <a:rPr b="0" i="1" lang="en-US" sz="3200" spc="-1" strike="noStrike" baseline="30000">
                <a:solidFill>
                  <a:srgbClr val="ffff66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J/kg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  %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a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0,1-1,3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 14,65       száraz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ignit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1,0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      6,3-8,3        60-90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Barnaszén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1,2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     7,5- 12,5      30-60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Kemény barnaszén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1,25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    16,7 -29,3     10-30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Zsíros kőszén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1,3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    29,3-33,4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3-10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Kőszén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1,35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    33,4-35,6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3-10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ntracit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      1,4-1,6    35,6-37,6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1-2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09680"/>
            <a:ext cx="91440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05520" y="1066680"/>
            <a:ext cx="0" cy="106704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34320" y="1143000"/>
            <a:ext cx="0" cy="5181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066680"/>
            <a:ext cx="0" cy="464832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2057400"/>
            <a:ext cx="0" cy="388620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66"/>
                </a:solidFill>
                <a:latin typeface="Times New Roman"/>
              </a:rPr>
              <a:t>Magyarország villamosenergia-termelése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2" name="MVM1" descr=""/>
          <p:cNvPicPr/>
          <p:nvPr/>
        </p:nvPicPr>
        <p:blipFill>
          <a:blip r:embed="rId1"/>
          <a:stretch/>
        </p:blipFill>
        <p:spPr>
          <a:xfrm>
            <a:off x="138240" y="1295280"/>
            <a:ext cx="90057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10080" y="-3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MVM 2001.jun.20-i szolgáltatása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486040" y="16761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66"/>
                </a:solidFill>
                <a:latin typeface="Times New Roman"/>
              </a:rPr>
              <a:t>Import villamos áram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66"/>
                </a:solidFill>
                <a:latin typeface="Times New Roman"/>
              </a:rPr>
              <a:t>Dunamenti Erőmű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66"/>
                </a:solidFill>
                <a:latin typeface="Times New Roman"/>
              </a:rPr>
              <a:t>Tisza II. Erőmű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66"/>
                </a:solidFill>
                <a:latin typeface="Times New Roman"/>
              </a:rPr>
              <a:t>Mátrai </a:t>
            </a: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(Lignit)</a:t>
            </a:r>
            <a:r>
              <a:rPr b="1" lang="hu-HU" sz="2800" spc="-1" strike="noStrike">
                <a:solidFill>
                  <a:srgbClr val="ffff66"/>
                </a:solidFill>
                <a:latin typeface="Times New Roman"/>
              </a:rPr>
              <a:t> Erőmű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66"/>
                </a:solidFill>
                <a:latin typeface="Times New Roman"/>
              </a:rPr>
              <a:t>Egyéb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66"/>
                </a:solidFill>
                <a:latin typeface="Times New Roman"/>
              </a:rPr>
              <a:t>Gázturbinák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66"/>
                </a:solidFill>
                <a:latin typeface="Times New Roman"/>
              </a:rPr>
              <a:t>Ipari erőművek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66"/>
                </a:solidFill>
                <a:latin typeface="Times New Roman"/>
              </a:rPr>
              <a:t>Paksi Atomerőmű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5" name="MVM2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72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i="1" lang="hu-HU" sz="3200" spc="-1" strike="noStrike">
                <a:solidFill>
                  <a:srgbClr val="ffff66"/>
                </a:solidFill>
                <a:latin typeface="Times New Roman"/>
              </a:rPr>
              <a:t>Jobb hatásfok eléréséhez: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 Üzemi hőmérséklet növe-lése, ehhez hőtűrő anyagok, az égési-, áramlástani-, hőátadási folyamatok pontos ismerete szükséges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8" name="Erőmű1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Nagy üzemi hőmérsékletű gázturbina szerelése. Anyaga, lapátformái, összeállítása a legújabb ismeretek birtokában történik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1" name="Erőmű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2T18:42:18Z</dcterms:created>
  <dc:creator>Cech Vilmos</dc:creator>
  <dc:description/>
  <dc:language>en-US</dc:language>
  <cp:lastModifiedBy>Cech Vilmos</cp:lastModifiedBy>
  <dcterms:modified xsi:type="dcterms:W3CDTF">2002-04-10T07:35:52Z</dcterms:modified>
  <cp:revision>12</cp:revision>
  <dc:subject/>
  <dc:title>Energia</dc:title>
</cp:coreProperties>
</file>