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B39-D685-49E6-B533-E22D0D0A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1F3-1577-485D-B24A-5FC74C50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6CB-B646-4C53-AFDC-F607430E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5EC-D7AE-4DDB-8332-E275DE72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353-E217-4413-A024-0B7D802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6EC-914F-493A-B763-9C16AA1A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A1F-492C-46BB-8B81-3F8C46E5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425-2907-4337-B800-F0CDBC63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212-4CAA-48F5-BA3F-3CCA9F14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D8D-B660-47F3-BFE7-65E52EF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4B7-13E7-4E1A-B27F-DBFBA71C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16B-2464-420F-B82C-282CFC3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F23D-B60C-4D9A-B3BC-9F13ED612EA0}" type="slidenum"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Ember és technika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33"/>
                </a:solidFill>
                <a:latin typeface="Times New Roman"/>
              </a:rPr>
              <a:t>Alapkategóriák</a:t>
            </a:r>
            <a:endParaRPr b="0" lang="en-US" sz="6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A technika speciális alapelvei: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Határozott irányú tevékenység. Mit, Miért? 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ervszerűség: Mit és hogyan?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Gazdaságosság: Hogyan és mennyiért?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zervezés: Mennyiért és kivel?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Rendszerszemlélet: Mindezek együttesen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környezetalakítás korszerű szemlélete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Célorientáltság: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áltozást hoz létre mindenegyes az ember és környezete kölcsönhatásában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természettudományok valamely objektum viselkedését, a bemenet és kimenet kapcsolatát, törvényszerűségeit vizsgálják, addig a technika a kívánt célhoz keres megoldást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Funkcionális szemléletű a technika!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A tervszerűség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miért és mit? Kérdések eldöntése után: </a:t>
            </a: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hogyan?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megvalósításhoz a pontos célmeghatározás után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tervezés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kell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Állapotelemzés során fel kell mérni az igény és a lehetőség ellentmondásait. Keresni kell a kedvezőbb megoldást. A kívánt állapotba rendszerint többféle úton el lehet jutni. Dönteni kell!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81480" y="4723920"/>
            <a:ext cx="1828800" cy="1219320"/>
          </a:xfrm>
          <a:prstGeom prst="line">
            <a:avLst/>
          </a:prstGeom>
          <a:ln w="93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5791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 állapot</a:t>
            </a:r>
            <a:endParaRPr b="0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4419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 állapot</a:t>
            </a:r>
            <a:endParaRPr b="0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1814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33"/>
                </a:solidFill>
                <a:latin typeface="Times New Roman"/>
              </a:rPr>
              <a:t>Állapottér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Gazdaságosság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 </a:t>
            </a: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Miért, mit és hogyan</a:t>
            </a: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 kérdése után </a:t>
            </a: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„</a:t>
            </a: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mennyiért?</a:t>
            </a: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ff33"/>
                </a:solidFill>
                <a:latin typeface="Times New Roman"/>
              </a:rPr>
              <a:t>Nemcsak pénzben kifejezett érték, hanem: környezetvédelem, közegészség stb. szempontok szerinti döntést kell hozni. 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ff33"/>
                </a:solidFill>
                <a:latin typeface="Times New Roman"/>
              </a:rPr>
              <a:t>Gazdaságosság: ésszerűen felhasznált rendelkezésre álló anyag- és energia források. 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ff33"/>
                </a:solidFill>
                <a:latin typeface="Times New Roman"/>
              </a:rPr>
              <a:t>Az ismereteink bővülésével egyre több döntési paramétert kell figyelembe venni. Sok közülük nem számszerűsíthető, nem építhető be a döntéselőkészí-tés matematikai modelljébe.</a:t>
            </a: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Döntés</a:t>
            </a: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: emberi tevékenység a </a:t>
            </a: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felelősség</a:t>
            </a: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gel együtt!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Szervezettség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 végrehajtási tevékenység szervezése. 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 munkamegosztás szervezése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Szervezési és vezetési tevékenység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Nyersanyagok, félkész és késztermékek, rész és egység modulok beszerzése, szállítása, illesztése a rendszerhez a hozzátartozó személyi és gazdasági optimum kereséssel, végrehajtás körülményeinek vezénylésével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 tevékenység rendszerbe illesztése, gazdasági ered- ményeinek megszerzése. Marketing tevékenység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Rendszerszemlélet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Nemcsak a technika jellemzője, hanem minden tudományterületnek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technika felsorolt 4 alapelve rendszerszemlélet nélkül széteshet és a várttal ellenkező hatást eredményezhet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rendszerszemléletnek át kell hatnia: - a tervezés,   - a szervezés, - a kutatás, - az oktatás területeit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technikai rendszerek elsősorban Tömeg-, Energia- és információ transzformátorok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rendszer és környezet között mindig van kölcsönhatá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753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99ff33"/>
                </a:solidFill>
                <a:latin typeface="Times New Roman"/>
              </a:rPr>
              <a:t>Az analitikus és a szintetikus ismereteknek kölcsönösen ki kell egészíteniök egymást</a:t>
            </a:r>
            <a:r>
              <a:rPr b="0" lang="hu-HU" sz="44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99ff33"/>
                </a:solidFill>
                <a:latin typeface="Times New Roman"/>
              </a:rPr>
              <a:t>analízis és a szintézis</a:t>
            </a: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 egysége jellemző a gondolkodásunkra is. </a:t>
            </a:r>
            <a:r>
              <a:rPr b="1" i="1" lang="hu-HU" sz="2400" spc="-1" strike="noStrike">
                <a:solidFill>
                  <a:srgbClr val="99ff33"/>
                </a:solidFill>
                <a:latin typeface="Times New Roman"/>
              </a:rPr>
              <a:t>(Agykutatás eredményei ezt mutatják: a bal félteke inkább analitikus, a jobb féltekére a szintetikus feldolgozás a jellemző. Hámori József: nem tudja a jobb kéz, mit csinál a bal … Az emberi agy szimmetriái, Kozmosz, Bp. 1985)</a:t>
            </a:r>
            <a:endParaRPr b="0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 technikai környezet változtatásakor a hatások a </a:t>
            </a: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természeti és társadalmi környezetre is hatnak</a:t>
            </a: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. A változásokat ismét szaktudományos módszerekkel vizsgálják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33"/>
                </a:solidFill>
                <a:latin typeface="Times New Roman"/>
              </a:rPr>
              <a:t>Alapkategória</a:t>
            </a:r>
            <a:r>
              <a:rPr b="0" lang="en-US" sz="54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99ff33"/>
                </a:solidFill>
                <a:latin typeface="Times New Roman"/>
              </a:rPr>
              <a:t>Tantárgy</a:t>
            </a:r>
            <a:endParaRPr b="0" lang="en-US" sz="5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Anyag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Symbol"/>
                <a:ea typeface="Symbol"/>
              </a:rPr>
              <a:t>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Anyagtechnológia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Energia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Symbol"/>
                <a:ea typeface="Symbol"/>
              </a:rPr>
              <a:t>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Energetika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Információ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Symbol"/>
                <a:ea typeface="Symbol"/>
              </a:rPr>
              <a:t>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Információtechnika (és 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részben a müszaki ábrázolás)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Rendszer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Symbol"/>
                <a:ea typeface="Symbol"/>
              </a:rPr>
              <a:t>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Rendszer és modell ill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Modell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Symbol"/>
                <a:ea typeface="Symbol"/>
              </a:rPr>
              <a:t>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hu-HU" sz="4000" spc="-1" strike="noStrike">
                <a:solidFill>
                  <a:srgbClr val="99ff33"/>
                </a:solidFill>
                <a:latin typeface="Times New Roman"/>
              </a:rPr>
              <a:t>Géprendszerta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Anyag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z emberiség a történelme folyamán egyre jobban megismerte az anyagot. Az anyagismeret témakörét nem szabad lehatárolni interdiszciplináris jellegénél fogva. (Kémia, fizika és más természettudományok mint tantárgyakat külön- külön tárgyalják.)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Energia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z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anyag és energia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alapkategóriák között Einstein 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E = mc</a:t>
            </a:r>
            <a:r>
              <a:rPr b="1" lang="en-US" sz="36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összefüggése mutatja a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kapcsola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ot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Minden anyaggal kapcsolatos változtatáshoz energia és információ szükséges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világ energia felhasználása nagymértékben nőtt, az energiahordozók felkutatása és megszerzése, átalakításukkal járó szennyezések minimumra csökkentése a legújabb technológiai ismereteket igényli.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Információ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Latin: Felvilágosítás, tájékoztatás. Tájékoztatás, hírközlés. Értesülés, adat, hír, tájékoztatási adat. Kibernetikában: az anyag tulajdonságainak visszatükröződése jel formájában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természeti jelenségek törvények szerint történnek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z élő környezet alakulása a bennük levő (genetikai) kódok szerint változik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z ember a tevékenységét a megismert tapasztalatai, információi alapján szervezi, tervezi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Rendszer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körülöttünk levő világ megismerése csak összefüggéseik felismerése és meghatározása után lehetsége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z összefüggéseik, egymáshoz való kapcsolataik alá, fölé- és mellérendeltségeket tartalmaz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vizsgálatok szempontjai szerinti kapcsolatok ismerete lehetőséget ad a hatások felmérésére, megbecsülésére majd a várható események, működésének tervezésére.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Modell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Minta, mintadarab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Minta(kép), eszmény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Valaminek (gépnek, épületnek stb.) nagyított vagy kicsinyített mása.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zon céllal létrehozott konstrukció, hogy rajta a valóság bizonyos jelenségeit jobban tanulmányozhassuk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99ff33"/>
                </a:solidFill>
                <a:latin typeface="Times New Roman"/>
              </a:rPr>
              <a:t>A vizsgált rendszer vagy folyamat belső összefüggéseit, legjellemzőbb sajátságait, rendszerint matematikai egzaktsággal képletekbe sűrítő formula. 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Modell</a:t>
            </a:r>
            <a:endParaRPr b="0" lang="en-US" sz="4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természeti jelenségek összetetten jelentkeznek. Megértésüket a sok paraméter és az egyidejűségük meggátolja az törvényszerűségek felismerését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modellezéssel mód nyílik a paraméterek jellemzőinek külön-külön való vizsgálatára, a jelenségek ellenőrzött, ismert körülmények közötti előidézésére. A tudatosan - kicsinyített vagy mesterségesen ellenőrzött- körülmények között a fő jellemzők hatása megismerhető, tudatosan előállítható. 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19:04:30Z</dcterms:created>
  <dc:creator>Cech Vilmos</dc:creator>
  <dc:description/>
  <dc:language>en-US</dc:language>
  <cp:lastModifiedBy>Cech Vilmos</cp:lastModifiedBy>
  <dcterms:modified xsi:type="dcterms:W3CDTF">2002-02-21T07:02:50Z</dcterms:modified>
  <cp:revision>9</cp:revision>
  <dc:subject/>
  <dc:title>Ember és technika</dc:title>
</cp:coreProperties>
</file>