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FC4-65EC-4019-AD3A-82AE96D9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D16-BCE6-4097-B546-7DB4F4DD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44E-82EB-47FE-8956-4A5403E5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F33-55BC-41DB-836A-802DC07C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893-6F8D-4D9B-87F5-A3727BA8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7C4-E2BB-407D-B4D2-EA0ABD4C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09B-F406-4DF5-BC68-8F14D36D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936-0DC1-4F03-9977-E5721F34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591-E406-45B0-8242-DC3AC40C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0F3-CD6D-4BE3-A1E5-52BBC0AE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FF5-0F90-4B64-93C6-F5CF3308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A4A-451C-43EC-BA53-816FA4C3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AAD5-EB9B-4973-B0B4-8BC7A30A0BD4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7200" spc="-1" strike="noStrike">
                <a:solidFill>
                  <a:srgbClr val="ffff00"/>
                </a:solidFill>
                <a:latin typeface="Times New Roman"/>
              </a:rPr>
              <a:t>Fejlődés</a:t>
            </a:r>
            <a:br>
              <a:rPr sz="7200"/>
            </a:br>
            <a:r>
              <a:rPr b="1" lang="hu-HU" sz="7200" spc="-1" strike="noStrike">
                <a:solidFill>
                  <a:srgbClr val="ffff00"/>
                </a:solidFill>
                <a:latin typeface="Times New Roman"/>
              </a:rPr>
              <a:t> és a logisztikus görbe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464796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éri József: Műszaki ábrázolás c. tankönyvéből vett ábra és magyarázó szöve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jlődési folyamat ábrázolá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jlődési folyamatok jellemzője a növekedés lassú indulása, majd gyorsulás figyelhető meg, végül jellemző határérték elérése a növekedés megá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fejlődés lassulása, majd megállása után új, minőségében is más fejlődés kezdődi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felismerések érvényeseknek tűnnek az élővilágban és a tudomány területén is. Az elért szinteken átrendeződés és új szerveződés indul meg.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Társadalmi és műszaki változások hatása megjelenik a fejlődés logisztikus görbéjé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9:32:44Z</dcterms:created>
  <dc:creator>Cech Vilmos</dc:creator>
  <dc:description/>
  <dc:language>en-US</dc:language>
  <cp:lastModifiedBy>Cech Vilmos</cp:lastModifiedBy>
  <dcterms:modified xsi:type="dcterms:W3CDTF">2007-02-14T06:41:42Z</dcterms:modified>
  <cp:revision>3</cp:revision>
  <dc:subject/>
  <dc:title>Fejlődés  és a logisztikus görbe</dc:title>
</cp:coreProperties>
</file>