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127-3015-40E6-97B3-3F6366D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0D3-8078-4413-A442-E230BDE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AA8-1166-4A97-9B94-67205FFD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FC0-83AD-4A44-8636-594BBFA5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868-AD0F-4316-BE8D-CBC2A2CE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653-C5C1-4FE4-B801-4390DC99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BE1-0F94-4974-8B12-D1BC2DC5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EE4-ED3D-4171-B237-FBE4C5A7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31A-253C-4297-B852-C2D5581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F7C-07DF-4447-8A71-0CD97F9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1E3-B6ED-45B8-9756-3BE5AD0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A68-AB6A-4464-BC61-31C64C0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67A-6A74-47FE-A4C7-18F9B0D5B7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600" spc="-1" strike="noStrike">
                <a:solidFill>
                  <a:srgbClr val="ccffff"/>
                </a:solidFill>
                <a:latin typeface="Arial"/>
              </a:rPr>
              <a:t>Bioenergia</a:t>
            </a:r>
            <a:br>
              <a:rPr sz="6600"/>
            </a:br>
            <a:r>
              <a:rPr b="1" lang="hu-HU" sz="3600" spc="-1" strike="noStrike">
                <a:solidFill>
                  <a:srgbClr val="ccffff"/>
                </a:solidFill>
                <a:latin typeface="Times New Roman"/>
              </a:rPr>
              <a:t>Bioüzemanyagok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iomassza - nyersanya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orszerű mezőgazdaság. Magas hozamok. A mezőgazdaság többet tud termelni mint a piacokon jelentkező keresl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U támogatja a földek kivonását a termelő szférából, d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→ engedi az energetikai és ipari nyersanyag termelés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Energetikai nyersanyagok: két növénytipus a legalkalmasabb (jelenleg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hu-HU" sz="2000" spc="-1" strike="noStrike">
                <a:solidFill>
                  <a:srgbClr val="ffe701"/>
                </a:solidFill>
                <a:latin typeface="Arial"/>
                <a:ea typeface="Arial"/>
              </a:rPr>
              <a:t>olajnövény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(repce, napraforgó, szója, egyes pálmafajták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magas cukor- és keményítő tartalmú haszonnövény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(erjeszthetőek: burgonya, kukorica, cukorrépa)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e701"/>
                </a:solidFill>
                <a:latin typeface="Arial"/>
                <a:ea typeface="Arial"/>
              </a:rPr>
              <a:t>Csökkentheti a függöséget az olajat exportáló monopoliumoktól</a:t>
            </a:r>
            <a:r>
              <a:rPr b="0" lang="hu-HU" sz="2400" spc="-1" strike="noStrike">
                <a:solidFill>
                  <a:srgbClr val="003366"/>
                </a:solidFill>
                <a:latin typeface="Arial"/>
                <a:ea typeface="Arial"/>
              </a:rPr>
              <a:t>!</a:t>
            </a:r>
            <a:r>
              <a:rPr b="0" i="1" lang="hu-H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Biodíze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repcéböl és napraforgóból kinyert olaj (triglicerid) közvetlenül is felhasználható, de a motor kismértékü átalakítása szükséges. Nagyobb a viszkozitása, megnö a fogyasztás, büdös („guruló lángossütö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- Kiküszöbölhetők a hátrányok un. átészterezéssel (metenollal reagáltatják). → →olaj-metilésztert (RME) és glicerint kapnak → 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  <a:ea typeface="Arial"/>
              </a:rPr>
              <a:t>biodízel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- A szabványnak megfelel, de hátránya is van: könnyü oldószerként viselkedik, tisztán árulják, de számos motor tartozékot ki kell cserélni oldószer állóra. Korábbi lerakodásokat is felold, eltömítheti a szürö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ccffff"/>
                </a:solidFill>
                <a:latin typeface="Arial"/>
              </a:rPr>
              <a:t>Bioetanol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otoralkohol -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otorüzemanyag helyettesítő válsághelyzetekben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(II. Világháború, Magyarországon már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1926-1944 között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 használtá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ilágszerte olajhiány miatt alkalmazzák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agy/és környezetvédelem / agrár-gazdasági szempontok mia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o</a:t>
            </a:r>
            <a:r>
              <a:rPr b="0" lang="hu-HU" sz="2000" spc="-1" strike="noStrike">
                <a:solidFill>
                  <a:srgbClr val="00b000"/>
                </a:solidFill>
                <a:latin typeface="Arial"/>
              </a:rPr>
              <a:t>etano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(víztelenített alkohol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benzinbe keverhető, sokszor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zobutilén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ozzáadásával ekkor már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eti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-tercier-butil-éter (ETBE)→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bioüzemany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Metano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 és izobutilén reakciójából származik a MTBE →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benzinhez keverve az oxigéntartalmat  és az oktánszámot növeli! De ez nem bio eredetű, földgáz feldolgozásból származi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Brazilia a legnagyobb alkoholtermelö, az EU is támogatja az ipari előállítását.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azánknak is jó lehetöségei vannak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ETBE gyártásához vízmentes alkoholt használnak.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Alapanyagai: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- keményítö és cukor alapanyag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búza, kukorica, cukorrépa, burgonya, manióka, cukorná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felhasználható e célra a fuzáriummal fertözött vagy túltermelésböl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származó, el nem adható búzafelesle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- cellulóz tartalmú biomassza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növényi rostok, szálak)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kevéssé terj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e701"/>
                </a:solidFill>
                <a:latin typeface="Times New Roman"/>
                <a:ea typeface="Arial"/>
              </a:rPr>
              <a:t>A biodízel és a bioetanol környezeti hatása kedvezö</a:t>
            </a:r>
            <a:r>
              <a:rPr b="1" lang="hu-H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!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nnyi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CO</a:t>
            </a:r>
            <a:r>
              <a:rPr b="1" lang="hu-HU" sz="1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szabadul fel amennyit a növény megelözöen megkötött – </a:t>
            </a:r>
            <a:r>
              <a:rPr b="1" i="1" lang="hu-HU" sz="2000" spc="-1" strike="noStrike">
                <a:solidFill>
                  <a:srgbClr val="ffe701"/>
                </a:solidFill>
                <a:latin typeface="Times New Roman"/>
                <a:ea typeface="Arial"/>
              </a:rPr>
              <a:t>nem fokozza az üvegházhatás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llenzők véleményei </a:t>
            </a:r>
            <a:r>
              <a:rPr b="1" lang="en-US" sz="5400" spc="-1" strike="noStrike">
                <a:solidFill>
                  <a:srgbClr val="ccffff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Ellenérvek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rnyezetszennyező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z előállítás fosszilis energiahordozókat igényel, ezért 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fokozza az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 üvegházhatást.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energetikai termesztés 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monokultúrákhoz vez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 termesztés nagy mennyiségü N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forrást és 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műtrágyát igénye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növényvédöszereket használna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</a:rPr>
              <a:t>megterheli a vízbázis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nitrátok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erheli a légkört: N</a:t>
            </a:r>
            <a:r>
              <a:rPr b="0" lang="hu-H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 üvegházgázzal és ammóniáva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i="1" lang="hu-HU" sz="2000" spc="-1" strike="noStrike">
                <a:solidFill>
                  <a:srgbClr val="ffe701"/>
                </a:solidFill>
                <a:latin typeface="Arial"/>
                <a:ea typeface="Arial"/>
              </a:rPr>
              <a:t>savas eső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A bioüzemanyagok előállítása sokkal drágább, h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→életciklus-elemzést végeznek → „bölcsőtől a sírig” vizsgálatná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 az eredményeket „ökomérlegek”kel igazoltá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Ökomérleg két oldalán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Hagyományos üzemanyag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Bioüzemanyag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Környezeti hatások szempontjából vizsgál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	</a:t>
            </a: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Hol és mennyire billen ki a mérle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	</a:t>
            </a: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A szempontok időben és </a:t>
            </a:r>
            <a:r>
              <a:rPr b="1" i="1" lang="hu-HU" sz="1600" spc="-1" strike="noStrike">
                <a:solidFill>
                  <a:srgbClr val="00b000"/>
                </a:solidFill>
                <a:latin typeface="Arial"/>
                <a:ea typeface="Arial"/>
              </a:rPr>
              <a:t>(gazdasági- földrajzi)</a:t>
            </a:r>
            <a:r>
              <a:rPr b="1" i="1" lang="hu-HU" sz="2000" spc="-1" strike="noStrike">
                <a:solidFill>
                  <a:srgbClr val="00b000"/>
                </a:solidFill>
                <a:latin typeface="Arial"/>
                <a:ea typeface="Arial"/>
              </a:rPr>
              <a:t> térben változ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l.: Éghajlattól függöen kedvezöb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émetországban a repcének, de nem a répa, cukorrépa, a búza és a burgonyána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iaországban a búzának, kukoricának st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azai lehetőségek, szempontok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omassza előállítás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ergiaplitikai és környezetvédelmi szemponto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zőgazdaságunk gazdaságos lehetőségei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Élelmiszergazdaságban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Erdészetben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Kommunális szektorban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épződő biomassza felhasználás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használási területek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Távfűtésben,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közvetlen eltüzelé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biobrikett-gyártás </a:t>
            </a:r>
            <a:r>
              <a:rPr b="1" i="1" lang="hu-HU" sz="1600" spc="-1" strike="noStrike">
                <a:solidFill>
                  <a:srgbClr val="ffffff"/>
                </a:solidFill>
                <a:latin typeface="Arial"/>
              </a:rPr>
              <a:t>(versenyképesen a gázzal, szénnel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Biogáz előállításban,</a:t>
            </a:r>
            <a:r>
              <a:rPr b="1" i="1" lang="hu-HU" sz="1600" spc="-1" strike="noStrike">
                <a:solidFill>
                  <a:srgbClr val="ffffff"/>
                </a:solidFill>
                <a:latin typeface="Arial"/>
              </a:rPr>
              <a:t> közvetlen eltüzelés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Bioetanol előállításban. 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Élelmiszernövényekből, a túltermelésből származó 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feleslegek hasznosítá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Az állam mentesülhet az intervenciós, tárolási és export 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ffffff"/>
                </a:solidFill>
                <a:latin typeface="Times New Roman"/>
              </a:rPr>
              <a:t>támogatások költségeitől!</a:t>
            </a:r>
            <a:r>
              <a:rPr b="1" i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ámogatást igényelnek, de más csatornákon vissza kerülhet az állami költségvetésb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azai energia felhasználásunk meghatározói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pari energia eloszlás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Közlekedés, áruszállítás, anyagtovábbítási rendszerek,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Anyaghevítési technológiák,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rőművi felhasználás, termikus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nyagkezelések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őenergi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észaránya a lakossági szektorban 60-70%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 távhőszolgáltatá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→ kb. 2 millió embert érint,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- egyedi fűtésekhez lakosság részére,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  <a:ea typeface="Arial"/>
              </a:rPr>
              <a:t> (gáz, fa, szén, villamos fűtés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nergia forrásként felhasználható újratermelődő 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biomassza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éves mennyisége hazánkban 350-360 millió tonna évente. A bruttó energia tartalma: 1100-1200 PJ.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Ez több mint amit ma felhasználunk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övénytermesztés: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7-8 millió t melléktermék,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0,5-1 mt főtermék,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llattenyésztés: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7-8 millió t melléktermék (almos és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ígtrágya),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lelmiszeripar: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150-200 ezer t melléktermék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(napraforgóhéj, kukoricacsutka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rdőgazdaság: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3-4 millió tonna faanyag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tűzifa, energiaerdő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ülési hulladék: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20-25 millió ton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Hazai biomassza felhasználás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űzifa hasznosulás – fűtésre, termikus energia előállításr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a hazai biomassza 2,8%-a),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a háztartási kazánok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még korszerűtlenek, hatásfokuk fele a korszerűeknek! Nagy a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károsanyag kibocsátás is, biztonsági szempontból is kockázatos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aapriték, fűrészpor brikett,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ég csak faipari üzemekben,15-20 helyen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űködik brikett előállítá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Adagolókkal automatizálható a korszerű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kazánok táplálása, jobb hatásfok, nagyobb üzembiztonsá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zőgazdasági hulladék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(fafeldolgozó, mezőgazd.ipari üzemekben, kukorica-, napraforgószár és héjj, növényolajipari üzemekben)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automatizált kazánok hatásfoka 80-90%, jobb környezetvédelmi jellemzők, korszerűek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iogáz előállítás – szemét lerakókban. </a:t>
            </a:r>
            <a:r>
              <a:rPr b="0" i="1" lang="hu-HU" sz="1800" spc="-1" strike="noStrike">
                <a:solidFill>
                  <a:srgbClr val="ffffff"/>
                </a:solidFill>
                <a:latin typeface="Arial"/>
              </a:rPr>
              <a:t>Egyre több településen és mezőgazdasági telepen használják fel a hulladékban keletkező bio(metán)gázt kommunális hő és villamos energia előállítás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Az üzemek nagy energia megtakaritást ér(het)nek e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3:48:15Z</dcterms:created>
  <dc:creator>Cech Vilmos</dc:creator>
  <dc:description/>
  <dc:language>en-US</dc:language>
  <cp:lastModifiedBy>Cech Vilmos</cp:lastModifiedBy>
  <dcterms:modified xsi:type="dcterms:W3CDTF">2007-02-01T20:25:58Z</dcterms:modified>
  <cp:revision>18</cp:revision>
  <dc:subject/>
  <dc:title>Bioenergia Bioüzemanyagok</dc:title>
</cp:coreProperties>
</file>