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0DF-6589-45D7-8A1A-351D9A7D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A38-FCB4-4F46-A995-A32CE4E2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D5C-4F00-48A7-9AD2-6D6981B0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812A-7B24-4EF0-9EFE-E1AD0F9A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439-B797-4444-8904-C30E26C3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CF73-2108-48C9-BCBE-6E05D0E8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BEDB-D528-4B65-9A51-DECB2C8B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08D-FCA0-4207-99D1-71E734B2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F8F-D20D-43FC-B610-FB4DA683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5309-D41F-479C-96C4-CBF7A439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425-D864-44C3-BFF0-0AA9E0B8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EFB-48A1-481B-84B2-6D6BD410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D604-664F-4F3C-9D1B-D14DD84FFA73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66"/>
                </a:solidFill>
                <a:latin typeface="Times New Roman"/>
              </a:rPr>
              <a:t>Energia 2.</a:t>
            </a:r>
            <a:endParaRPr b="0" lang="en-US" sz="8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Times New Roman"/>
              </a:rPr>
              <a:t>Atomenergia</a:t>
            </a:r>
            <a:endParaRPr b="0" lang="en-US" sz="5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Hogy állunk az atomenergiával?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5" name="Atomerőművek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7532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  <a:ea typeface="SimSun"/>
              </a:rPr>
              <a:t>Földrészenként a reaktorok száma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Európa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212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Ázsia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94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Észak-Amerika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119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Dél-Amerika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   3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Afrika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   1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Ország</a:t>
            </a: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66"/>
                </a:solidFill>
                <a:latin typeface="Times New Roman"/>
              </a:rPr>
              <a:t>Reaktorok száma  Összkapacitás 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Részesedés a villamos</a:t>
            </a:r>
            <a:br>
              <a:rPr sz="1800"/>
            </a:b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        megawatt 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  energia-termelésből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Franciaország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57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60313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76,4 %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Belgium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7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5713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56,8 %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Szlovákia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6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2488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53,4 %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Ukrajna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13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4884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47,3 %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Bulgária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6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3538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45,0 %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Magyarország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4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1729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42,2 %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Dél-Korea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16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12949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40,7 %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Svédország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11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9440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39,0 %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Svájc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3077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38,2 %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Japán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52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43650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33,8 %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Örményország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376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33,0 %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Németország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19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21107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30,6 %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Finnország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4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2656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32,1 %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Spanyolország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9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7289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27,6 %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Egyesült Királyság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33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12400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21,9 %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Csehország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4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1680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20,1 %     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    USA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103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          10 799 572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ff66"/>
                </a:solidFill>
                <a:latin typeface="Times New Roman"/>
              </a:rPr>
              <a:t>19,8 %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1983-ban a London melletti Culhamban felállították a világ legnagyobb fúziós kutatóberendezést.</a:t>
            </a:r>
            <a:br>
              <a:rPr sz="2800"/>
            </a:b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Elektromágnes tekercsei vasmagokat vesznek körül, ezek nyílásaiban helyezkedik el  a plazmát tartalmazó tórusz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2" name="Culhamitokamak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A tórusz csatornájában állítják elő és szabályozzák a plazmában folyó áramot is. Napjainkban még a folyamatos üzemeltetés még nem működik.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5" name="Culhamilab1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56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Az energiafogyasztás várható alakulása 1990-től 2090-ig. </a:t>
            </a:r>
            <a:r>
              <a:rPr b="1" lang="hu-HU" sz="1600" spc="-1" strike="noStrike">
                <a:solidFill>
                  <a:srgbClr val="ffff66"/>
                </a:solidFill>
                <a:latin typeface="Times New Roman"/>
              </a:rPr>
              <a:t>„Word Energy in the NextCentury” 43. Pugwash konf. anyagából</a:t>
            </a: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8" name="Energia2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4419360"/>
            <a:ext cx="8915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457560" y="3885840"/>
            <a:ext cx="9829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1 Urán-üzemanyag9 Gőzturbina16 Tápvíz 2 Nyomócső10 Generátor 17 Víz visszafolyás3 Grafit moderátor11 Kondenzátor18 Keringtető szivattyú4 Szabályzórúd12 Hűtővíz szivattyú19 Vízelosztó tartály5 Védőgáz13 Hőelvezetés20 Acélköpeny6 Víz/gőz14 Tápvízszivattyú21 Betonárnyékolás7 Cseppleválasztó15 Előmelegítő22 Reaktorépület8 Gőz a turbinához  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1" name="Benceatomreakto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z atomerőmű létesítésekor követendő cél: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- a lehető legbiztonságosabban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- a lehető legolcsóbban 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- a lehető leggazdaságosabban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- a lehető leghosszabb ideig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- a lehető legnagyobb mennyiségben  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illamos energiát termelni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4" name="Áramárak02-ben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6:53:42Z</dcterms:created>
  <dc:creator>Cech Vilmos</dc:creator>
  <dc:description/>
  <dc:language>en-US</dc:language>
  <cp:lastModifiedBy>Cech Vilmos</cp:lastModifiedBy>
  <dcterms:modified xsi:type="dcterms:W3CDTF">2003-04-23T12:49:06Z</dcterms:modified>
  <cp:revision>4</cp:revision>
  <dc:subject/>
  <dc:title>Energia 2.</dc:title>
</cp:coreProperties>
</file>