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946-38CB-482F-9A6D-32593CED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A19-BFBA-4B8D-867A-960D175E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9E5-2C53-4CF3-83FA-34EC3B1D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435-E19F-491C-8E1C-F106A12A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ECC-C5C9-47C4-8FE1-08609ED5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3C7-E119-4DD6-A851-50C5A17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E10-4781-4661-8142-943AA8D8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290-210A-48EB-A7CE-923C9B66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DC6-C7CF-4255-BB63-9AC01CD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E56-4A8E-4714-85F9-A52CDFB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A05-E3AE-408A-B62F-FE442D8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D29-7D3E-4818-8B1E-18A0E04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42B-9816-4C14-B75D-685FDF0513DE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Energia</a:t>
            </a:r>
            <a:endParaRPr b="0" lang="en-US" sz="8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MVM 2001.jun.20-i szolgáltatása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86040" y="16761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Import villamos ára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Dunamenti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Tisza II.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Mátrai </a:t>
            </a: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(Lignit)</a:t>
            </a: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 Erőmű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Egyéb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Gázturbinák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Ipari erőművek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66"/>
                </a:solidFill>
                <a:latin typeface="Times New Roman"/>
              </a:rPr>
              <a:t>Paksi Atomerőmű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MVM2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Jobb hatásfok eléréséhez: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Üzemi hőmérséklet növe-lése, ehhez hőtűrő anyagok, az égési-, áramlástani-, hőátadási folyamatok pontos ismerete szükség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8" name="Erőmű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Nagy üzemi hőmérsékletű gázturbina szerelése. Anyaga, lapátformái, összeállítása a legújabb ismeretek birtokában történik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1" name="Erőmű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4" name="Paksi%20turbina%20ellenőrzése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ia forrás: 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Emberi erő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5" name="Energia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iaforrás (3000 éven át): </a:t>
            </a:r>
            <a:br>
              <a:rPr sz="4400"/>
            </a:b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Tűz, Szél, Nap és állati izomerő</a:t>
            </a:r>
            <a:endParaRPr b="0" lang="en-US" sz="5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48" name="Energia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utóbbi 300 évben: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Vízerő-, Szén-, Olaj-, Földgáz-, Urán-ból nyert villamosára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1" name="Energia3" descr=""/>
          <p:cNvPicPr/>
          <p:nvPr/>
        </p:nvPicPr>
        <p:blipFill>
          <a:blip r:embed="rId1"/>
          <a:stretch/>
        </p:blipFill>
        <p:spPr>
          <a:xfrm>
            <a:off x="0" y="1143000"/>
            <a:ext cx="884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szénülés foka és a fűtőérték tartalom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Szénülés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Sűrűség  Fűtőérték  Víztartalom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/m</a:t>
            </a:r>
            <a:r>
              <a:rPr b="0" i="1" lang="en-US" sz="3200" spc="-1" strike="noStrike" baseline="30000">
                <a:solidFill>
                  <a:srgbClr val="ff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J/kg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  %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a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,1-1,3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14,65       száraz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gni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 6,3-8,3        60-9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rna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7,5- 12,5      30-60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emény barna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25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16,7 -29,3     10-3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Zsíros kő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3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29,3-33,4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3-1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őszé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,35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33,4-35,6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3-1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traci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    1,4-1,6    35,6-37,6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1-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1066680"/>
            <a:ext cx="0" cy="10670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143000"/>
            <a:ext cx="0" cy="5181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066680"/>
            <a:ext cx="0" cy="46483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057400"/>
            <a:ext cx="0" cy="3886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 CO</a:t>
            </a:r>
            <a:r>
              <a:rPr b="1" lang="hu-HU" sz="32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koncentrációjának változása Földünk atmoszférájában 1730-tól a legutóbbi időkig.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Energia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ff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3333ff"/>
                </a:solidFill>
                <a:latin typeface="Times New Roman"/>
              </a:rPr>
              <a:t>Word Energy in the Next Century” 43. Pugwash konferencia anyagábó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6" name="Gázára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 villamos áram előállításának ára az erőmű teljesítményének függvényének különböző ener-giaforrások esetén </a:t>
            </a:r>
            <a:r>
              <a:rPr b="1" lang="hu-HU" sz="1600" spc="-1" strike="noStrike">
                <a:solidFill>
                  <a:srgbClr val="ffff66"/>
                </a:solidFill>
                <a:latin typeface="Times New Roman"/>
              </a:rPr>
              <a:t>„Word Energy in the NextCentury” 43. Pugwash konf. 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Energia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Magyarország villamosenergia-termelése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2" name="MVM1" descr=""/>
          <p:cNvPicPr/>
          <p:nvPr/>
        </p:nvPicPr>
        <p:blipFill>
          <a:blip r:embed="rId1"/>
          <a:stretch/>
        </p:blipFill>
        <p:spPr>
          <a:xfrm>
            <a:off x="138240" y="1295280"/>
            <a:ext cx="9005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8:42:18Z</dcterms:created>
  <dc:creator>Cech Vilmos</dc:creator>
  <dc:description/>
  <dc:language>en-US</dc:language>
  <cp:lastModifiedBy>Cech Vilmos</cp:lastModifiedBy>
  <dcterms:modified xsi:type="dcterms:W3CDTF">2004-06-05T09:13:10Z</dcterms:modified>
  <cp:revision>17</cp:revision>
  <dc:subject/>
  <dc:title>Energia</dc:title>
</cp:coreProperties>
</file>