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6E9-5FAC-4E2D-AA50-913CE045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3BE-FF35-450F-98C1-9F0133F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624-B8D6-4C31-B8A6-65BE2A6C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F15-26FA-4728-BE8B-118224D8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6C3-61A0-434F-A1DE-BECF860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38B-EEF5-4A2C-B949-671ECC30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A73-6C81-47E0-BDC6-EE78F6D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F0F-99CA-4756-B653-26ACC071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340-BA95-4947-B130-0FC68FE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044-8E6E-4AAA-A862-6970BCC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792-8415-4123-8800-7F55D41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2F6-ECB9-484C-A306-9AAF892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788C-BEBE-4D21-BB95-6FEC921EFDFE}" type="slidenum"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Közlekedés, szállítá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kerék első egyszerű alkalmazása még a korábbi görgővel együtt történt. A dorong két végének faragása után ráhúztak nagyobb átmérőjű fakorongokat és faékekkel, csapokkal rögzítetté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9" name="11.kábrakoraikerék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kerék a tengellyel együtt forgott még. A taliga méreteinek és a szállítandó teher nagyságát akadályozta a kezdetleges kerék. Az igénybevétel különösen a kereket viselte me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72" name="12.kábrakoraikocsi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neolitikum kordé típusa kétkerekű volt. A tengelyt és a vele együtt forgó kereket a rakfelület közepétől már hátrább helyezték el. A taliga súlypontja kedvezőbb helyre került. Növelni lehetett a kerék méreteit, ami gyorsabb mozgát engedett me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75" name="14kábrakocsi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korai szekértLpusokat ökrökkel vntatták. A hám egyszerű volt, az állatok nyakára </a:t>
            </a:r>
            <a:r>
              <a:rPr b="1" i="1" lang="hu-HU" sz="2800" spc="-1" strike="noStrike">
                <a:solidFill>
                  <a:srgbClr val="ffff66"/>
                </a:solidFill>
                <a:latin typeface="Times New Roman"/>
              </a:rPr>
              <a:t>igát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 rakta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78" name="16.kábraiga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fejlettebb iga, járom típusokon a választóléc erős, keményfából készült, középen fúrattal, ahova a rudat rögzítették. A járom már az ökrök nyakszirtjére ült rá. Jobban illeszkedett az ökrök felépítéséhez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81" name="17kábrajárom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kétkerekű kordét követte a négykerekű. Nagyobb terheket hosszabb úton szállíthattak. Még tárcsakereket alkalmaztak. Először Kr.e. XXVI. Sz.-ban Mezopotámiaban használtak ilyen járműve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84" name="18.kábra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z egyre gondosabban megmunkált szekér elemek nagyobb és egyterű kocsiszekrényt is lehetővé tettek. Több termény szállítását, felhelyezését tette lehetővé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87" name="19.kábra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90" name="22.kábrakocsi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93" name="23.kábrakerék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0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nagykiterjedésű római birodalomban postahálózat biztosította a központi igazgatás hatásosságát. Az ábrán látható postakocsi típussal bonyolították a forgalmat. Még nem volt forgózsámolya!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96" name="26.kábraromai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szakaszos, kétirányú mozgásformát már nemcsak a tűzgyújtásnál, hanem kőből készült szerszámok készítésénél is használták. Igy működhettek a korai fúróeszközö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45" name="3kábrakőfúrógép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postakocsin személyeket szállítottak és kisebb mennyiségű árút is elhelyeztek. Hosszabb utazáshoz viszonylagos kényelmet  nyújtot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99" name="27.kábrautazok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02" name="28.kábralohám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05" name="30kábraszügyhám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ávolsági szállításra használt szekér a XIV. századból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szekér kanyarodását a kerékelemek lazább illesztésével könnyítették. A rúd még mereven csatlakozik a szekér alvázához. Kanyarodáskor a vontató állat oldalát megsértett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08" name="33kábrakocsi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Megjelent a 30-35°-os szögben elfordítható „forgózsámoly”. A kocsi könyebben kanyarodhatot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11" name="34kábrakocsforgó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öbb részből álló keréktalp, megjelent a kisátmérőjű kerékagyba ékelt küllősor. A fa szegmensekből álló ráfot fémkapcsokkal fogták össz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14" name="35kábramkerék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17" name="36kábraércszán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20" name="37kábraerccsille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23" name="38kábracoloput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26" name="39kábrakout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fazekaskorong megszületésével folyamatos, egyirányú forgómozgás egyik első munkaeszközbeli hordozója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48" name="4kábraLábbalfkorong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29" name="40kábraokoriindiaiut%20copy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32" name="41kábragörögut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35" name="42kábraromaiut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138" name="43kábraközépkoriut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szállítóeszközök kialakulásának legkorábbi eszközei között a legegyszerűbb a falombon vonszolás. Később párhuzamossá alakított szánkákkal könnyítették a nehéz terhek mozgatásá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1" name="5kábraágonvnszolás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Valószínű, hogy az első csúszkák fahánccsal egymáshoz kötött dorongokból álltak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4" name="6.kábrafadorongoscsuszka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 csúszka még nagyon nagy erőkifejtést igényelt. Az szállított teherrel nem állt arányban a kifejtett emberi erő. A súrlódási felületet csökkenteni kellett. A megoldás szántalpak készítése vol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7" name="7.ábracsuszkaszán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zoborszállítás egyiptomi falfestmény ábrázoláson. Szánra helyezett hatalmas tömegű kőszobrot kötelekkel ember-csoportok vontatták, az irányítást, vonszolást a szobron álló ütemet vezénylő személy végzi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0" name="8.kábraegyiptszobszáll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Földközi-tenger medence környezetében, de Észak-Afrikában és Kisázsia népei un. Megalit-építményeket (Dolmeneket) emeltek faragatlan hatalmas kőtömbökből vallási és temetkezési célokra.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3" name="9.kábradolmen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tartó kőoszlopokat és az asztallapszerű fedőkőlapot már görgők segítségével szállították az építkezés színhelyére.</a:t>
            </a:r>
            <a:br>
              <a:rPr sz="2800"/>
            </a:b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magasba felhelyezést lejtők építésével és görgős felvonszolással oldották meg. A görgők alkalmazása már előre vetítette a folyamatos, egyírányú forgómozgás elvének közeli felismerését, ezután a kerék feltalálását.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66" name="10kábradolmenszáll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21:36:46Z</dcterms:created>
  <dc:creator>Cech Vilmos</dc:creator>
  <dc:description/>
  <dc:language>en-US</dc:language>
  <cp:lastModifiedBy>Cech Vilmos</cp:lastModifiedBy>
  <dcterms:modified xsi:type="dcterms:W3CDTF">1988-01-08T03:27:47Z</dcterms:modified>
  <cp:revision>7</cp:revision>
  <dc:subject/>
  <dc:title>Közlekedés, szállítás</dc:title>
</cp:coreProperties>
</file>