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1AA-FA3F-4916-95AC-1FBBAA37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89C-9261-48AA-9207-87F3034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26E-680B-4C72-B3E7-11B52BDE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144-7639-43CB-BED5-CB9176D7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FEC-6031-4806-8192-07A36A35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972-5783-4B63-857F-135BAB5C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2CC-A2AA-445B-B48B-DB7FC46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45F-12A0-4C29-AAA0-9DC9E790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F30-629B-401B-B0A2-B73C09E1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0EC-0F1B-4E09-AF01-2421B0C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70A-B0C1-4496-AF90-ABFA4CA4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F44-688E-46EE-BD61-D007AFB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7B53-BD3F-4C23-BB1A-B17BAF32258E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Fejlődés</a:t>
            </a:r>
            <a:br>
              <a:rPr sz="7200"/>
            </a:br>
            <a:r>
              <a:rPr b="1" lang="hu-HU" sz="7200" spc="-1" strike="noStrike">
                <a:solidFill>
                  <a:srgbClr val="ffff00"/>
                </a:solidFill>
                <a:latin typeface="Times New Roman"/>
              </a:rPr>
              <a:t> és a logisztikus görbe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6479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éri József: Műszaki ábrázolás c. tankönyvéből vett ábra és magyarázó szöv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ejlődési folyamat ábrázolá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jlődési folyamatok jellemzője a növekedés lassú indulása, majd gyorsulás figyelhető meg, végül jellemző határérték elérése a növekedés megá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fejlődés lassulása, majd megállása után új, minőségében is más fejlődés kezdődi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felismerések érvényeseknek tűnnek az élővilágban és a tudomány területén is. Az elért szinteken átrendeződés és új szerveződés indul meg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Times New Roman"/>
              </a:rPr>
              <a:t>Társadalmi és műszaki változások hatása megjelenik a fejlődés logisztikus görbéjé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9:32:44Z</dcterms:created>
  <dc:creator>Cech Vilmos</dc:creator>
  <dc:description/>
  <dc:language>en-US</dc:language>
  <cp:lastModifiedBy>Cech Vilmos</cp:lastModifiedBy>
  <dcterms:modified xsi:type="dcterms:W3CDTF">2007-02-14T06:43:11Z</dcterms:modified>
  <cp:revision>3</cp:revision>
  <dc:subject/>
  <dc:title>Fejlődés  és a logisztikus görbe</dc:title>
</cp:coreProperties>
</file>