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B734-775D-4B26-BB6C-B0A5AFFE7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B691-1111-46EA-81DD-202E0BDB5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6F76-CD73-40FC-80B6-44B51EC2F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D9A1-7A22-4F08-A98C-2A36E4DCE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477B-AB60-4ED5-87AD-9CB28FAFD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F27B-CFB8-409E-928E-2D781AB6C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8FBF-15DF-49DA-8264-28295837F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E696-94AD-4526-B4B1-2EEA90F6F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E38F-3C74-4CC5-87D5-2A9AF6519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E296-0836-40FE-84F1-BF73413ED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B2DB-37F1-416F-9F32-24ED3698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110D-4E23-4BEE-8A48-74E673B4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8A2CE-76CB-47A8-9AF5-2040CD2162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599840"/>
            <a:ext cx="9144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ff"/>
                </a:solidFill>
                <a:latin typeface="Times New Roman"/>
              </a:rPr>
              <a:t>Erőművek és veszélyes hulladékaik</a:t>
            </a:r>
            <a:endParaRPr b="0" lang="en-US" sz="72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426708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ugárzó és más káros anyagok keletkezése és hulladék elhelyezé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723920" y="-3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A katalizátor kazetta szerkezete</a:t>
            </a:r>
            <a:endParaRPr b="0" lang="en-US" sz="40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723920" y="1143000"/>
            <a:ext cx="4419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Erőmű2" descr=""/>
          <p:cNvPicPr/>
          <p:nvPr/>
        </p:nvPicPr>
        <p:blipFill>
          <a:blip r:embed="rId1"/>
          <a:stretch/>
        </p:blipFill>
        <p:spPr>
          <a:xfrm>
            <a:off x="0" y="0"/>
            <a:ext cx="469584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Erőmű22" descr=""/>
          <p:cNvPicPr/>
          <p:nvPr/>
        </p:nvPicPr>
        <p:blipFill>
          <a:blip r:embed="rId2"/>
          <a:stretch/>
        </p:blipFill>
        <p:spPr>
          <a:xfrm>
            <a:off x="4648320" y="1143000"/>
            <a:ext cx="44956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181120" y="0"/>
            <a:ext cx="39625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Füstgáz tisztítás katalizátorral</a:t>
            </a:r>
            <a:endParaRPr b="0" lang="en-US" sz="40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724280" y="213336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őreakciók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4NO+4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O2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6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N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8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12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llékreakció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3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N+6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5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NO+6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S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S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(Ammóniumszulfá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Erőmű66" descr=""/>
          <p:cNvPicPr/>
          <p:nvPr/>
        </p:nvPicPr>
        <p:blipFill>
          <a:blip r:embed="rId1"/>
          <a:stretch/>
        </p:blipFill>
        <p:spPr>
          <a:xfrm>
            <a:off x="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Mennyi kéndioxid keletkezik a fűtőolaj égetésekor?</a:t>
            </a: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2000 liter fűtőolaj </a:t>
            </a:r>
            <a:r>
              <a:rPr b="0" lang="hu-HU" sz="3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1,8 tonna kéntartalma </a:t>
            </a:r>
            <a:r>
              <a:rPr b="1" lang="hu-HU" sz="4000" spc="-1" strike="noStrike">
                <a:solidFill>
                  <a:srgbClr val="000000"/>
                </a:solidFill>
                <a:latin typeface="Times New Roman"/>
              </a:rPr>
              <a:t>36 kg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1" lang="hu-HU" sz="4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4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1" lang="hu-HU" sz="4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hu-HU" sz="4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1mol S-atom + 1 mol Oxigén</a:t>
            </a:r>
            <a:r>
              <a:rPr b="1" lang="hu-HU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1 mol Kéndioxid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4800" spc="-1" strike="noStrike">
                <a:solidFill>
                  <a:srgbClr val="000000"/>
                </a:solidFill>
                <a:latin typeface="Times New Roman"/>
              </a:rPr>
              <a:t>32 g + 32 g </a:t>
            </a:r>
            <a:r>
              <a:rPr b="1" lang="hu-HU" sz="4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hu-HU" sz="4800" spc="-1" strike="noStrike">
                <a:solidFill>
                  <a:srgbClr val="000000"/>
                </a:solidFill>
                <a:latin typeface="Times New Roman"/>
              </a:rPr>
              <a:t> 64 g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   36 kg kénböl (=1125 mol kén) 72 kg szabad SO</a:t>
            </a:r>
            <a:r>
              <a:rPr b="1" lang="hu-HU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keletkezik, vízgözzel találkozva kénessav jön létre.    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00"/>
                </a:solidFill>
                <a:latin typeface="Times New Roman"/>
              </a:rPr>
              <a:t>A lignitnek, a barna és más szénféleségeknek is van kéntartalma!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A szén elégetésekor keletkező kénszennyezés csökkentésére:</a:t>
            </a: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40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hu-HU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40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1" lang="hu-HU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40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1" lang="hu-HU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hu-HU" sz="4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4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hu-H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40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1" lang="hu-HU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000000"/>
                </a:solidFill>
                <a:latin typeface="Times New Roman"/>
              </a:rPr>
              <a:t>1 atom kén + 1 molekula </a:t>
            </a:r>
            <a:r>
              <a:rPr b="1" i="1" lang="hu-HU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hu-HU" sz="3200" spc="-1" strike="noStrike">
                <a:solidFill>
                  <a:srgbClr val="000000"/>
                </a:solidFill>
                <a:latin typeface="Times New Roman"/>
              </a:rPr>
              <a:t> 1 molekula kéndixid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CaCO</a:t>
            </a:r>
            <a:r>
              <a:rPr b="1" lang="hu-HU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1" lang="hu-H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O + SO</a:t>
            </a:r>
            <a:r>
              <a:rPr b="1" lang="hu-H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CaSO</a:t>
            </a:r>
            <a:r>
              <a:rPr b="1" lang="hu-HU" sz="3200" spc="-1" strike="noStrike" baseline="-25000">
                <a:solidFill>
                  <a:srgbClr val="000000"/>
                </a:solidFill>
                <a:latin typeface="Times New Roman"/>
              </a:rPr>
              <a:t>3  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+  H</a:t>
            </a:r>
            <a:r>
              <a:rPr b="1" lang="hu-H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O  +  CO</a:t>
            </a:r>
            <a:r>
              <a:rPr b="1" lang="hu-HU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Mészkö + Víz + Kéndioxid </a:t>
            </a:r>
            <a:r>
              <a:rPr b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Kalciumszulfit + Víz + Széndiox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Ca (OH)</a:t>
            </a:r>
            <a:r>
              <a:rPr b="1" lang="hu-HU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 +     SO</a:t>
            </a:r>
            <a:r>
              <a:rPr b="1" lang="hu-HU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hu-HU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      CaSO</a:t>
            </a:r>
            <a:r>
              <a:rPr b="1" lang="hu-HU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   +     H</a:t>
            </a:r>
            <a:r>
              <a:rPr b="1" lang="hu-H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Kalciumhidroxid + Kéndioxid </a:t>
            </a:r>
            <a:r>
              <a:rPr b="1" lang="hu-HU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 Kalciumszulfit +Ví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000000"/>
                </a:solidFill>
                <a:latin typeface="Times New Roman"/>
              </a:rPr>
              <a:t>Keletkezik: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hu-HU" sz="3200" spc="-1" strike="noStrike">
                <a:solidFill>
                  <a:srgbClr val="000000"/>
                </a:solidFill>
                <a:latin typeface="Times New Roman"/>
              </a:rPr>
              <a:t>Kalciumszulfit (CaSO</a:t>
            </a:r>
            <a:r>
              <a:rPr b="1" i="1" lang="hu-HU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hu-HU" sz="3200" spc="-1" strike="noStrike">
                <a:solidFill>
                  <a:srgbClr val="000000"/>
                </a:solidFill>
                <a:latin typeface="Times New Roman"/>
              </a:rPr>
              <a:t>), felvesz a levegöböl további Oxigént:</a:t>
            </a:r>
            <a:r>
              <a:rPr b="1" lang="hu-H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2CaSO</a:t>
            </a:r>
            <a:r>
              <a:rPr b="1" lang="hu-HU" sz="32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hu-HU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hu-HU" sz="3200" spc="-1" strike="noStrike" baseline="-25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+  4H</a:t>
            </a:r>
            <a:r>
              <a:rPr b="1" lang="hu-H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O  </a:t>
            </a:r>
            <a:r>
              <a:rPr b="1" lang="hu-HU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 2 (CaSO</a:t>
            </a:r>
            <a:r>
              <a:rPr b="1" lang="hu-HU" sz="32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x  2H</a:t>
            </a:r>
            <a:r>
              <a:rPr b="1" lang="hu-H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O) 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Kalciumszulfit+ Oxigén+Víz+Kalciumszulfát+Dihidrát 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(Gipsz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Az üvegházhatás keletkezése</a:t>
            </a:r>
            <a:endParaRPr b="0" lang="en-US" sz="48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Erőmű7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Üvegházhatás</a:t>
            </a: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okozói</a:t>
            </a: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Erőmű88" descr=""/>
          <p:cNvPicPr/>
          <p:nvPr/>
        </p:nvPicPr>
        <p:blipFill>
          <a:blip r:embed="rId1"/>
          <a:stretch/>
        </p:blipFill>
        <p:spPr>
          <a:xfrm>
            <a:off x="0" y="1141560"/>
            <a:ext cx="9144000" cy="59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Mi káros az emberre?</a:t>
            </a: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vegővel: Belégzés útján bekerülő idegen gáz anyagok. (A normál légkörben csak vulkáni katasztrófák idején fordult elő eddig a környezetükb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lyadékkal: Párák és csapadék formájában lecsapódó vízben oldott és nem oldott természet idegen anyag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zilárd részek: Pernye, hamu formában kikerülő idegen anyagok. Gyakran a tüzelőanyagokban levő nehézfém-vegyületek dúsulnak fel a kihullási körzetben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Környezetben a genetikai károsodás veszélye is fennáll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Talaj és rétegvíz leszívása a kitermelés idejére</a:t>
            </a: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Erőmű3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05280" y="-360"/>
            <a:ext cx="9829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Lignit külszíni bányászata (Mátraalján)</a:t>
            </a:r>
            <a:endParaRPr b="0" lang="en-US" sz="40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Erőmű777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Erőmű égéstermék tisztítás fokozatai</a:t>
            </a: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Erőmű" descr=""/>
          <p:cNvPicPr/>
          <p:nvPr/>
        </p:nvPicPr>
        <p:blipFill>
          <a:blip r:embed="rId1"/>
          <a:stretch/>
        </p:blipFill>
        <p:spPr>
          <a:xfrm>
            <a:off x="0" y="949320"/>
            <a:ext cx="9144000" cy="59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Atomreaktor biztonsági zónája</a:t>
            </a: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Atom1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5628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Reprocesszáló" descr=""/>
          <p:cNvPicPr/>
          <p:nvPr/>
        </p:nvPicPr>
        <p:blipFill>
          <a:blip r:embed="rId1"/>
          <a:stretch/>
        </p:blipFill>
        <p:spPr>
          <a:xfrm>
            <a:off x="9360" y="0"/>
            <a:ext cx="9134640" cy="920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Átmeneti tároló 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A paksi Atomerőmű kiégett kazettái számára</a:t>
            </a:r>
            <a:endParaRPr b="0" lang="en-US" sz="36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átmenetitarolo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6104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atw-hun" descr=""/>
          <p:cNvPicPr/>
          <p:nvPr/>
        </p:nvPicPr>
        <p:blipFill>
          <a:blip r:embed="rId1"/>
          <a:stretch/>
        </p:blipFill>
        <p:spPr>
          <a:xfrm>
            <a:off x="762120" y="1108080"/>
            <a:ext cx="6933960" cy="57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Nagy aktivitású hulladék elhelyezése</a:t>
            </a:r>
            <a:endParaRPr b="0" lang="en-US" sz="4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Erőmű4" descr=""/>
          <p:cNvPicPr/>
          <p:nvPr/>
        </p:nvPicPr>
        <p:blipFill>
          <a:blip r:embed="rId1"/>
          <a:stretch/>
        </p:blipFill>
        <p:spPr>
          <a:xfrm>
            <a:off x="0" y="923760"/>
            <a:ext cx="9144000" cy="59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8T11:02:58Z</dcterms:created>
  <dc:creator>Cech Vilmos</dc:creator>
  <dc:description/>
  <dc:language>en-US</dc:language>
  <cp:lastModifiedBy>Cech Vilmos</cp:lastModifiedBy>
  <dcterms:modified xsi:type="dcterms:W3CDTF">2002-10-02T07:02:33Z</dcterms:modified>
  <cp:revision>9</cp:revision>
  <dc:subject/>
  <dc:title>Erőművek és veszélyes hulladékaik</dc:title>
</cp:coreProperties>
</file>