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2A8-EAB3-49BB-B6F9-68771DB97F9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 a középérték a továbbított energiával arány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ágneses hordozót ne becsüljük le. Egy kerékpáros feltesz a csomagtartóra 2,5 terabyte adatot, és átbiciklizik a város másik végébe, mondjuk 10 km-re 30 perc alatt. Ez 20000 Gbit/1800s = 10 Gbit/s sávszélesség. Ennek alternatívája az optikai kábel kiépítése, amely km-enként 10MFt, összesen 100M Ft; ebből a pénzből 100 hónapig, azaz kb. 10 évig elkerekezik három műszakban a futá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 Mégis optikai kábelt építünk, mié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fénnyel akarunk adatot átvinni, megfelelő közegre van szükségünk. Kézenfekvő az üveg: ismert, olcs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üvegszálon akarunk adatot átvinni, nem árt ismerni a fizikai tulajdonság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ép: üveg 600-1800. Fent az infra elnyelés: üveghá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ép: üveg 800-1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Optikai „ablakok”: 850 (vörös), 1300, 1550 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előveszitek a Tanenbaum-könyvet, kiderül, hogy a rétegzett hálózati protokollok elméletéből 2 réteget ezzel át is tekintettün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rétegzettségre, rétegek szerepére és szisztematikus tárgyalására azonban csak a 4. alkalommal fogunk sort keríte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SCII – kódolások késő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álasztunk egy fizikai jellemzőt – pl feszültsé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dőben egymás után leadjuk a bit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ontos az előre megállapodott ütemezés: pl egy Tbyte adat leadásakor az órajelekben 1 milliárdod eltérés is 8000 bit elcsúszást jelent (évi 30 ezredmásodperc késé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(Példa: PTE internet-csatlakozása átlag 200Mbit/s, azaz napi 2 Tbyte forgal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19. sz. elején, francia matematik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ért van szükség külön szinuszos és koszinuszos tagokr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ert így a legegyszerűbb matematikailag ábrázolni a jel amplitúdóját és fázisá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mplitúdó az a és b  négyzetes középértéke, a fázis pedig az arány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1DA-6249-4433-AD8B-6E9A3B51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A9E-4731-4873-B9F9-0B35DA9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7AF-CF9F-4BB6-A500-E5C9F8F0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874-8C8F-4784-9CEA-9CC9C14E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A0E-B73D-44DA-8D06-712AC851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A73C-76E0-41FB-BA97-0A873E2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2C8-B8B6-422A-9D00-D510F36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D8E-374F-4066-9EA3-634D8575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E533-4BC2-4AB1-AE1C-9803D99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BF0-70A8-4418-B4D2-0639DAA4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55BD-7D8D-4EA4-95B2-650DD0DA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11B-7677-4DBC-B37A-404B962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CAAF-2F0B-49CB-B01F-9E69C4C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416-F596-41F3-9B3B-9D6BF3B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34F3-30BA-445C-935F-6FE5A5A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041A-F093-43AF-B388-6C849A0E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E5B2-4FC0-4DB0-8710-4287D931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FCF-B883-4CB4-9A8A-60CABA0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099-3E83-4AA2-B62B-808494F7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3EF-B5EB-44A8-8988-52D3F3D0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883-7A84-462E-9589-DC43C17D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76A-3F6C-456B-97AD-7A3EB87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785-ADC4-4BFB-AED9-C02F87F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99E-122D-477E-B23A-B848155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D39E-83A5-4899-9F76-D0D385FAE377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445-42FA-49E9-909B-4B2A9E364129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2BF7-94FD-4E92-AB6A-E757CAB377AB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A40-BDC5-4AC3-AABE-F4DB8CC72E05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ourier.xls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f.hu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te.hu/~uhi/kurzus/halozatok/fourier.xls" TargetMode="External"/><Relationship Id="rId3" Type="http://schemas.openxmlformats.org/officeDocument/2006/relationships/hyperlink" Target="http://www.pte.hu/~uhi/kurzus/halozatok/fourier.xls" TargetMode="External"/><Relationship Id="rId4" Type="http://schemas.openxmlformats.org/officeDocument/2006/relationships/hyperlink" Target="http://www.pte.hu/~uhi/kurzus/halozatok/fourier.xls" TargetMode="External"/><Relationship Id="rId5" Type="http://schemas.openxmlformats.org/officeDocument/2006/relationships/hyperlink" Target="http://www.pte.hu/~uhi/kurzus/halozatok/fourier.xls" TargetMode="External"/><Relationship Id="rId6" Type="http://schemas.openxmlformats.org/officeDocument/2006/relationships/hyperlink" Target="http://www.pte.hu/~uhi/kurzus/halozatok/fourier.xls" TargetMode="External"/><Relationship Id="rId7" Type="http://schemas.openxmlformats.org/officeDocument/2006/relationships/hyperlink" Target="http://www.pte.hu/~uhi/kurzus/halozatok/fourier.xls" TargetMode="External"/><Relationship Id="rId8" Type="http://schemas.openxmlformats.org/officeDocument/2006/relationships/hyperlink" Target="http://www.pte.hu/~uhi/kurzus/halozatok/fourier.xls" TargetMode="External"/><Relationship Id="rId9" Type="http://schemas.openxmlformats.org/officeDocument/2006/relationships/hyperlink" Target="http://www-ece.engr.ucf.edu/~jza/classes/4781/ADSL/report.html" TargetMode="External"/><Relationship Id="rId10" Type="http://schemas.openxmlformats.org/officeDocument/2006/relationships/hyperlink" Target="http://www-ece.engr.ucf.edu/~jza/classes/4781/ADSL/report.html" TargetMode="External"/><Relationship Id="rId11" Type="http://schemas.openxmlformats.org/officeDocument/2006/relationships/hyperlink" Target="http://www.telebyteusa.com/foprimer/foprimer.htm" TargetMode="External"/><Relationship Id="rId12" Type="http://schemas.openxmlformats.org/officeDocument/2006/relationships/hyperlink" Target="http://www.telebyteusa.com/foprimer/foprimer.htm" TargetMode="External"/><Relationship Id="rId13" Type="http://schemas.openxmlformats.org/officeDocument/2006/relationships/hyperlink" Target="http://homepages.ius.edu/rwisman/b438/Html/Chapter2.htm" TargetMode="Externa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4.2 Jel spekrum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418520" cy="511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urier felbontás. A „01100010” bitminta spektrumj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2519280"/>
          <a:ext cx="7201080" cy="377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519280"/>
                    <a:ext cx="720108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92360" y="2781360"/>
            <a:ext cx="3745080" cy="1512720"/>
          </a:xfrm>
          <a:prstGeom prst="wedgeEllipseCallout">
            <a:avLst>
              <a:gd name="adj1" fmla="val -65347"/>
              <a:gd name="adj2" fmla="val 9386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harmonikusok amplitúdója, a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és b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négyzetes középérté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0C3-0A48-4E33-AC76-C78F3384ED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0003D-15C2-42E0-B267-9838E3F0DC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4.3 Sávkorlátozott átvit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valódi csatorna átvitele frekvenciafüggő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Jellemzően egy törésponti frekvencia fölött nem, vagy növekvő csillapítással viszi át a harmonikus összetevők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agyományos telefonvonal (POTS) törésponti frekvenciája 4000 Hz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fourier.x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581-64D5-4298-9676-CEB3DE3651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91D9-22AE-421B-AB9E-BF45A40E6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2.5 Jelzési sebesség, bitsebesség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Jelzési sebesség (signaling rate, bau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tsebesség (bit/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260-84D3-4D15-B043-F45367F850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399E5-01B4-44F1-A19C-77524094F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5.1 Nyquist kritériu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éges sávszélességű,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 Narrow"/>
              </a:rPr>
              <a:t>zajmentes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csatorna eseté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 sávszélességű jelet másodpercenként (legalább) 2H minta alapján állítható helyre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a a jelnek V különböző szintje van, akkor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ax. adatsebesség = 2 H log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 [bit/s]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E30-A390-4867-8755-CABDD736EF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7E26D-4614-4D12-9ACD-64C0CED651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5.2 Shannon tét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Nyquist kritériumot kiterjesztette zajjal terhelt csatornára 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ax adatsebesség = H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og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1+S/N) [bit/s]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élda: Jellemző hagyományos telefonvonal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 = 3000 Hz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/N = 30 dB = 100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ax adatsebesség = 30 kb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22A-A5D5-4C6B-ACD1-0D1C4AFC03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11E95-3EFF-4FDE-84CF-9F622BC11E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6 Átviteli közeg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ézvezeté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ptikai káb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eveg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ágneses hordozó átvite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D89-1BB2-4086-9F54-8F22C48064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7A95F-2A8E-4B82-9093-B15B4FA2A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7 Telefonrendszer, mode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37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lőfizetői hur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nalóg átvitel, alacsony sávszélessé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16360" y="5396040"/>
            <a:ext cx="718920" cy="62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364000" y="5396040"/>
            <a:ext cx="719280" cy="625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67640" y="422100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1042920" y="5445000"/>
            <a:ext cx="766800" cy="444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020000" y="5445000"/>
            <a:ext cx="766800" cy="444600"/>
          </a:xfrm>
          <a:prstGeom prst="rect">
            <a:avLst/>
          </a:prstGeom>
          <a:ln w="0">
            <a:noFill/>
          </a:ln>
        </p:spPr>
      </p:pic>
      <p:cxnSp>
        <p:nvCxnSpPr>
          <p:cNvPr id="145" name=""/>
          <p:cNvCxnSpPr>
            <a:stCxn id="139" idx="2"/>
            <a:endCxn id="143" idx="0"/>
          </p:cNvCxnSpPr>
          <p:nvPr/>
        </p:nvCxnSpPr>
        <p:spPr>
          <a:xfrm flipH="1" rot="16200000">
            <a:off x="1019880" y="5037480"/>
            <a:ext cx="432360" cy="383040"/>
          </a:xfrm>
          <a:prstGeom prst="bentConnector3">
            <a:avLst>
              <a:gd name="adj1" fmla="val 50000"/>
            </a:avLst>
          </a:prstGeom>
          <a:ln w="38160">
            <a:solidFill>
              <a:srgbClr val="00ccff"/>
            </a:solidFill>
            <a:miter/>
          </a:ln>
        </p:spPr>
      </p:cxnSp>
      <p:cxnSp>
        <p:nvCxnSpPr>
          <p:cNvPr id="146" name=""/>
          <p:cNvCxnSpPr>
            <a:stCxn id="143" idx="3"/>
            <a:endCxn id="140" idx="1"/>
          </p:cNvCxnSpPr>
          <p:nvPr/>
        </p:nvCxnSpPr>
        <p:spPr>
          <a:xfrm>
            <a:off x="1809720" y="5667480"/>
            <a:ext cx="1107360" cy="41760"/>
          </a:xfrm>
          <a:prstGeom prst="bentConnector3">
            <a:avLst>
              <a:gd name="adj1" fmla="val 49918"/>
            </a:avLst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3635280" y="5708160"/>
            <a:ext cx="1729440" cy="10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41" idx="3"/>
            <a:endCxn id="144" idx="1"/>
          </p:cNvCxnSpPr>
          <p:nvPr/>
        </p:nvCxnSpPr>
        <p:spPr>
          <a:xfrm flipV="1">
            <a:off x="6083280" y="5667120"/>
            <a:ext cx="937440" cy="41760"/>
          </a:xfrm>
          <a:prstGeom prst="bentConnector3">
            <a:avLst>
              <a:gd name="adj1" fmla="val 49827"/>
            </a:avLst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149" name=""/>
          <p:cNvCxnSpPr>
            <a:stCxn id="144" idx="0"/>
            <a:endCxn id="142" idx="2"/>
          </p:cNvCxnSpPr>
          <p:nvPr/>
        </p:nvCxnSpPr>
        <p:spPr>
          <a:xfrm flipH="1" flipV="1" rot="5400000">
            <a:off x="7607880" y="4880160"/>
            <a:ext cx="361080" cy="768960"/>
          </a:xfrm>
          <a:prstGeom prst="bentConnector3">
            <a:avLst>
              <a:gd name="adj1" fmla="val 49700"/>
            </a:avLst>
          </a:prstGeom>
          <a:ln w="38160">
            <a:solidFill>
              <a:srgbClr val="00ccff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2411280" y="4149720"/>
            <a:ext cx="1081080" cy="431640"/>
          </a:xfrm>
          <a:prstGeom prst="borderCallout1">
            <a:avLst>
              <a:gd name="adj1" fmla="val 18750"/>
              <a:gd name="adj2" fmla="val -8333"/>
              <a:gd name="adj3" fmla="val 321324"/>
              <a:gd name="adj4" fmla="val -8252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4508640"/>
            <a:ext cx="1081080" cy="431640"/>
          </a:xfrm>
          <a:prstGeom prst="borderCallout1">
            <a:avLst>
              <a:gd name="adj1" fmla="val 18750"/>
              <a:gd name="adj2" fmla="val -8333"/>
              <a:gd name="adj3" fmla="val 251472"/>
              <a:gd name="adj4" fmla="val 121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4724280"/>
            <a:ext cx="1513080" cy="432000"/>
          </a:xfrm>
          <a:prstGeom prst="borderCallout1">
            <a:avLst>
              <a:gd name="adj1" fmla="val 18750"/>
              <a:gd name="adj2" fmla="val -8333"/>
              <a:gd name="adj3" fmla="val 212500"/>
              <a:gd name="adj4" fmla="val -1448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nalóg v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5950080"/>
            <a:ext cx="1513080" cy="431640"/>
          </a:xfrm>
          <a:prstGeom prst="borderCallout1">
            <a:avLst>
              <a:gd name="adj1" fmla="val 18750"/>
              <a:gd name="adj2" fmla="val -8333"/>
              <a:gd name="adj3" fmla="val -64337"/>
              <a:gd name="adj4" fmla="val -302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nalóg v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6021360"/>
            <a:ext cx="1513080" cy="432000"/>
          </a:xfrm>
          <a:prstGeom prst="borderCallout1">
            <a:avLst>
              <a:gd name="adj1" fmla="val 18750"/>
              <a:gd name="adj2" fmla="val -8333"/>
              <a:gd name="adj3" fmla="val -76837"/>
              <a:gd name="adj4" fmla="val 13063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igitális trö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34040" y="3463920"/>
            <a:ext cx="2232000" cy="431640"/>
          </a:xfrm>
          <a:prstGeom prst="borderCallout1">
            <a:avLst>
              <a:gd name="adj1" fmla="val 18750"/>
              <a:gd name="adj2" fmla="val -8333"/>
              <a:gd name="adj3" fmla="val 515074"/>
              <a:gd name="adj4" fmla="val -1543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Helyi telefonközpo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64000" y="3573360"/>
            <a:ext cx="252072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EAA-4047-48F0-890B-D73D96927D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B1E1F-E4D0-4D4E-A80E-C6EF5B42BC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7.1 Késleltetési torzít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késleltetés frekvenciánként eltér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jelalak eltorzu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alapsávi átvitel emiatt csak igen rövid távon használhat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ivőhullám szüksé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7DA-B6FC-4037-AA09-98F8DCF28C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E79B4-A894-423F-98F3-9926774FF7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8 Moduláció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ivőjel (carrier) – 1000…2000 Hz szinuszo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mplitúdó-, frekvencia- és fázismoduláci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ombinált moduláció (QAM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3800520" cy="194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22860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9AF-DCF8-4B90-912C-335102EFA3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B41D7-C816-4AFD-B508-A42CE08C7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0017 -0.07362 E">
                                      <p:cBhvr>
                                        <p:cTn id="48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12708 -0.14444 E">
                                      <p:cBhvr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0.00157 -0.15162 E">
                                      <p:cBhvr>
                                        <p:cTn id="6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-0.20781 -0.14166 E">
                                      <p:cBhvr>
                                        <p:cTn id="6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9 Multiplexel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él: egy közegen több csatorna átvite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dőosztásos (TD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rekvenciaosztásos (FD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ullámhosszosztásos (WD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34E-B5D6-469B-AFDA-2B04FE9485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F1F0C-6674-45F2-9412-459B04F107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Előző órá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ok csoportosítás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hálózat, hoszt, rou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opológiá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roadcast típusú hálóza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liens-szerver mode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esség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ezeték nélkü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4A7-CF47-4EDC-BF52-6BA407F6E5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BB8D-3AD4-4894-A6A0-9139DD2DDC63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9.1 Időosztásos multiplex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gyes csatornák adatai időben egymás után, ciklikusan kerülnek átvitel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1 távközlési trunk: 2 Mbit/s, 30+2 csatorn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központ csatlakozás és digitális bérelt von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8 kHz mintavételi frekvencia, 8 bites kódszava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2 vezérlőcsatorna az átvitelvezérléshez és a szinkron helyreállításhoz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A14-B665-41D5-BA05-04C961A159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54910-824B-450F-83A4-EE50696DD6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2.9.2 Frekvenciaosztásos multiplex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requency Division Multiplex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 csatornán átvihető adatmennyiség a shannon törvény szerint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16320" y="4114800"/>
            <a:ext cx="430344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71D-CF5F-4A29-A803-EC00EFEC16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1247D-C96B-4F28-82FE-BF3D676CE9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2.9.3 Hullámhosszosztásos  multiplex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Wavelength Division Multiplex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ptikai kábelek jobb kihasználásár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0" t="0" r="0" b="40157"/>
          <a:stretch/>
        </p:blipFill>
        <p:spPr>
          <a:xfrm>
            <a:off x="684360" y="3591000"/>
            <a:ext cx="6912000" cy="19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D83-9F28-4827-8D2F-120B0A6C93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17F83-1A04-4132-A630-52DA77E342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10 Elektromágneses spektru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92360" y="1628640"/>
          <a:ext cx="5759280" cy="475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628640"/>
                    <a:ext cx="57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22E-6F98-470A-9753-22E195B0DA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C28C1-AC3A-4D8C-B87B-90347B359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10.1 Frekvenciagazdálkod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emzeti Hírközlési Hatóság (régebben Hírközlési Felügyelet) – </a:t>
            </a: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www.hif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749-AC6B-4C6B-95A1-209FB24F88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8FC12-61B3-47EF-B3B6-A5A606975B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11 Optikai szál karakterisztik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üvegszál elnyelés frekvenciafügg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úcs: Víz rezonanciája (OH- iono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5256000" cy="3222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5256000" cy="31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2560" y="4114440"/>
            <a:ext cx="77724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277-9AA5-4DE2-865B-CF2EA5CE97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20C6-EC04-4DC0-A2C2-88E467E3B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11.1 Optikai szál szerkezet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tmérő és törésmutató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ultimódusú (MM) –- max 2 k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onomódusú (SM) – max 70 k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24000" y="3429000"/>
            <a:ext cx="5183280" cy="288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5472000" cy="472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B9D-F19B-48FA-A1EA-F7A210EE31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F34D8-1F53-45C3-837F-CE7CBCA15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Összefogla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apsávi átvit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ourier-felbont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anchester-kódol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égyféle moduláci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ultiplexel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ekromágneses spektru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B82-F7B5-4628-B4A6-9B43BD8E6F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C1E7F-D5AD-4BE5-B442-109C176919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egközeleb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Ethernet és közegei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özeghozzáférés-vezérl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epeaterek és hub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ridge-ek, kapcsoló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ast Ethernet, Gigabit Ethern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8C7-CC30-4DDF-8A7F-9E14963E07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BB843-ED4F-4574-8EF6-3DDF69CE1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www.pte.hu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/~uhi/kurzus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halozatok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fourier.x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9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0"/>
              </a:rPr>
              <a:t>://www-ece.engr.ucf.edu/~jza/classes/4781/ADSL/report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1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2"/>
              </a:rPr>
              <a:t>://www.telebyteusa.com/foprimer/foprimer.ht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3"/>
              </a:rPr>
              <a:t>http://homepages.ius.edu/rwisman/b438/Html/Chapter2.ht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351-3217-4791-9B70-7E701942AE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A78E8-60D3-4D28-9327-D006779A1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ai ada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átviteli alap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ourier, Nyquist, Shann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ektromágneses spektru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ezetékes átvit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ódol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oduláció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ultiplex átvit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79C-A0D3-4EB2-BF2F-F34F53B9B0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95DA9-1382-43FA-B38F-CCF0CE60B7E5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 Adatátviteli alap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nformáció továbbítás fizikai jellemző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eszültség, fényerősség, mágnesessé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ndig valamilyen energia terjed, ez jellemzően elektromágneses energ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(t) időfüggvén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izikai közegek: sávkorlátozottság, késleltetés, csillapít, visszaverőd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864-FFB1-40D9-949F-32A4EDCDD6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38A3-5663-40F5-AC69-7B523731B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1 Alapsávi átvit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 byte kódolása 8 bit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SCII „b” = 0110001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3143160"/>
          <a:ext cx="562932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143160"/>
                    <a:ext cx="56293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19280" y="6021360"/>
            <a:ext cx="49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03280" y="3357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6021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id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3213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feszültsé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559-90EC-4F25-991B-3ADEFE103A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1497-BE35-4A95-AF69-E0CF9F34CB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2 Átviteli nehézség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Órajel egyeztet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sillapítás – távolsággal n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Zaj – a csillapítással a jel/zaj viszony n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éges terjedési idő 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frekvenciafüggő – lásd később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isszaverődés 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távvezeték-elmélet, hullámimpedanci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Áthall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EE4-D5A0-4A2E-8340-3EF954B64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F4469-9C58-4FA1-9251-03D3230849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3 Manchester-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den bitidő közepén jelváltá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0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1 = 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0 =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olyamatos szinkronizá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3357720"/>
          <a:ext cx="557712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357720"/>
                    <a:ext cx="55771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57D-97F9-4A0D-8703-C2FB1E9DDB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7D55-FF83-4E46-920B-2FAC46865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4 Fourier tét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átvinni kívánt g(t) időfüggvényt tekintsük periodikusnak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Fourier-tétel szerint g(t) előállítható szinuszos és koszinuszos („harmonikus”) tagok összegeké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5640" y="4149720"/>
                <a:ext cx="78469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nf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n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556000" y="1628640"/>
            <a:ext cx="2520720" cy="1079640"/>
          </a:xfrm>
          <a:prstGeom prst="wedgeEllipseCallout">
            <a:avLst>
              <a:gd name="adj1" fmla="val -56800"/>
              <a:gd name="adj2" fmla="val 22779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feszültségű eltol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5778360"/>
            <a:ext cx="2520720" cy="1079640"/>
          </a:xfrm>
          <a:prstGeom prst="wedgeEllipseCallout">
            <a:avLst>
              <a:gd name="adj1" fmla="val -60643"/>
              <a:gd name="adj2" fmla="val -121763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-ik harmonikus amplitúdó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5778360"/>
            <a:ext cx="2520720" cy="1079640"/>
          </a:xfrm>
          <a:prstGeom prst="wedgeEllipseCallout">
            <a:avLst>
              <a:gd name="adj1" fmla="val 55101"/>
              <a:gd name="adj2" fmla="val -121763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-ik harmonikus amplitúdó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94D-E90E-4B79-9166-210E38FBBB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CF58D-8B01-4E79-A623-8784ECE2BF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2.4.1 A Fourier-analízi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cél a 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i="1" lang="hu-HU" sz="3200" spc="-1" strike="noStrike" baseline="-25000">
                <a:solidFill>
                  <a:srgbClr val="ffffff"/>
                </a:solidFill>
                <a:latin typeface="Arial Narrow"/>
              </a:rPr>
              <a:t>n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, b</a:t>
            </a:r>
            <a:r>
              <a:rPr b="0" i="1" lang="hu-HU" sz="3200" spc="-1" strike="noStrike" baseline="-25000">
                <a:solidFill>
                  <a:srgbClr val="ffffff"/>
                </a:solidFill>
                <a:latin typeface="Arial Narrow"/>
              </a:rPr>
              <a:t>n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mplitúdók előállít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00000" y="2565360"/>
                <a:ext cx="41036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nf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84160" y="3860640"/>
                <a:ext cx="413568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nf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00000" y="5157720"/>
                <a:ext cx="22827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E78-CFB2-4E10-8A33-053A0E8C57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0ECBF-0747-4F2F-9229-93D8D09A19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9-11T20:12:42Z</dcterms:modified>
  <cp:revision>24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