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9.png" ContentType="image/png"/>
  <Override PartName="/ppt/media/image10.jpeg" ContentType="image/jpeg"/>
  <Override PartName="/ppt/media/image28.png" ContentType="image/png"/>
  <Override PartName="/ppt/media/image5.jpeg" ContentType="image/jpeg"/>
  <Override PartName="/ppt/media/image26.png" ContentType="image/png"/>
  <Override PartName="/ppt/media/image24.png" ContentType="image/png"/>
  <Override PartName="/ppt/media/image23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7.png" ContentType="image/png"/>
  <Override PartName="/ppt/media/image15.jpeg" ContentType="image/jpeg"/>
  <Override PartName="/ppt/media/image2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2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AAC0-670E-4DF9-A3DE-47B37D51A7C0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z ATM-nak nincs saját speciális fizikai rétege: SDH és egyéb rendszerek szállítjá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TC réteget az adatkapcsolati rétegnél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z ATM réteget a hálózati rétegnél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z AAL réteget a szállítási rétegél tárgyaljuk részletes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D2A2-1B3C-47A6-813A-4636BECA3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71DB-8101-47CF-8040-9256F7F6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842A-36FA-40BE-A195-9493D0D41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8B3F-82D0-487C-8ED7-1E533E53E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FEC4-F78C-4891-9EB9-5220223AC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125AE-3B05-47DC-92E9-9A8DA174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08D8-1224-4924-9218-0A015699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C8A6-EE80-4D7E-9207-ABBC506D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C871B-3DC9-48A5-B837-9B91F61A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FB40-C5C6-477F-B779-370F42ED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2E46-A358-4299-A700-E89C8C91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14FC-993F-4BDE-9462-BA1C29F7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59B3-18E4-4DBD-A4C2-03FED8D2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61E9-E98F-4956-B794-C6FAF5DB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6D54-A05A-44B2-8140-A833DF26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218AB-369C-48A5-82EA-065C9FA15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558C-79BB-4E83-B7B4-197CD57F9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C7B6-C95C-4A61-B20A-0F16AF29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3569-1E6C-4DAD-A71E-1BE8A6F2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61E4-F9DD-45E1-B16B-96A097EE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A37C-D0D6-43DE-8CFB-25F5453B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C8DF-66C3-4DAD-BB87-3947F04B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5458-9124-4FDB-8E3B-45B72A9B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B05E-2F52-4034-99E9-E3B81F31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cc6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A7D2-5E07-4E37-B2D8-69ED32BACDA0}" type="datetime">
              <a:rPr b="0" lang="hu-HU" sz="1400" spc="-1" strike="noStrike">
                <a:solidFill>
                  <a:srgbClr val="ffcc66"/>
                </a:solidFill>
                <a:latin typeface="Arial Narrow"/>
              </a:rPr>
              <a:t>26.07.30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cc66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cc66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5604-8246-4B4D-BDC6-F838B363C795}" type="slidenum">
              <a:rPr b="0" lang="hu-HU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AEBA-C7FC-4B92-99CD-2ECA1800BE74}" type="datetime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6.07.30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08CA-06B7-47D0-A7C1-E9C662496FB3}" type="slidenum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uherkovich.peter@eiszk.pte.hu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ortunecity.com/skyscraper/lead/1699/embedded/rs232.debug.cheat.sheet/serial.html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Számítógép-hálózatok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268000" y="2085480"/>
            <a:ext cx="6799320" cy="278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Uherkovich Pét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ff0033"/>
                </a:solidFill>
                <a:uFillTx/>
                <a:latin typeface="Arial Narrow"/>
                <a:hlinkClick r:id="rId2"/>
              </a:rPr>
              <a:t>uherkovich.peter@eiszk.pte.hu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 Narrow"/>
              </a:rPr>
              <a:t>5.1 Hálózati eszközök rétegekenként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hu-HU" sz="3600" spc="-1" strike="noStrike">
                <a:solidFill>
                  <a:srgbClr val="ffffff"/>
                </a:solidFill>
                <a:latin typeface="Arial Narrow"/>
              </a:rPr>
              <a:t>5.2 A fizikai réteg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5.2.1 RS-232-C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256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9 vagy 25 tűs D-shell csatlakozó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Számítógép soros port – mode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Null modem káb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15 m, 20 kbit/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468440" y="1596960"/>
            <a:ext cx="2887560" cy="2557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979960" y="1557360"/>
            <a:ext cx="2633760" cy="468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890B-44AA-459B-B6F1-BABCF319B20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2DA2F9-C254-4C14-96DE-A9D2F11474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5.2.1.1 RS-232-C interface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DTE: Data Terminal Equipment (a számítógép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DCE: Data Communication Equipment (a modem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195640" y="3451320"/>
            <a:ext cx="4752720" cy="285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0C6F-D05B-4D46-9727-D4AA25D4532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4F48FB-E823-40D9-8CF5-CE0DBA558B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5.2.2 E1 – E2 – E3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E1: 30+2 db 64 kbit/s csatorna – 2 Mbit/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DCE – DTE között: RS 449: 60 m 2 Mbit/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E2: 4 * E1, bitenkénti TDM, 8 Mbit/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Nem elterjed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E3: 4 * E2, bitenkénti TDM, 34 Mbit/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DCE – DTE: 75 ohm koax Tx, Rx; max 300 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DB74-B268-424C-97B6-0C2D40F8206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F85E20-45F5-4A8E-A690-1DD41B52B4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5.2.3 SDH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CCITT szabvány (1989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Synchronous Digital Hierarchy – Az E1…E3 sor további multiplexelésére, nagyobb sávszélességekhez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Központi órajel alapján szinkron átvit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Üvegszálas közeg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042920" y="4013280"/>
            <a:ext cx="3816360" cy="2243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932360" y="3627360"/>
            <a:ext cx="3456000" cy="265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1D2C-2EA5-41C9-9CC2-A244800E2C5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35E5EB-5930-4C61-837E-A1D599F313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5.2.3.1 Az SDH belső rétegei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Alrétegek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Section: optikai szakaszok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Line: adatfolyamok multiplexelés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Path: végpontok közötti szolgáltatá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826920" y="3336840"/>
            <a:ext cx="4465800" cy="2863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5364000" y="3365640"/>
            <a:ext cx="3780000" cy="283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5FFB-03A0-496A-92DB-0AAD385BEB5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8C2A04-91CE-4741-B132-E8015CECA2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5.2.4 ISDN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9607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Bitcső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B: 64 k ada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D: 16 k vezérlé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Felhasználói interfésze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Base: 2 * B + D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Primary: 30 * B + D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E1-hez illeszkedik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RJ-45 csatlakozó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rcRect l="-3874" t="-1992" r="-2677" b="-3194"/>
          <a:stretch/>
        </p:blipFill>
        <p:spPr>
          <a:xfrm>
            <a:off x="4645080" y="333360"/>
            <a:ext cx="3527280" cy="3743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-5939" t="-9474" r="-8038" b="-14928"/>
          <a:stretch/>
        </p:blipFill>
        <p:spPr>
          <a:xfrm>
            <a:off x="4643280" y="4221000"/>
            <a:ext cx="1368720" cy="93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2" name=""/>
          <p:cNvGraphicFramePr/>
          <p:nvPr/>
        </p:nvGraphicFramePr>
        <p:xfrm>
          <a:off x="6156360" y="4221000"/>
          <a:ext cx="1000080" cy="1825920"/>
        </p:xfrm>
        <a:graphic>
          <a:graphicData uri="http://schemas.openxmlformats.org/drawingml/2006/table">
            <a:tbl>
              <a:tblPr/>
              <a:tblGrid>
                <a:gridCol w="393840"/>
                <a:gridCol w="606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126E-BC6F-40AA-88A2-0AD12087CD0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D256BF-F617-4DD1-BB9D-71833FA8AA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5.2.4.1 Az ISDN belső rétegei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Belső rétegzettség, keretszerkezet, protokollo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 mi szempontunkból általában „fizikai közeg”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Nem terjedt 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556000" y="4151160"/>
            <a:ext cx="403200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379C-7D6B-47FF-BB88-671194BDEE9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F0EEE7-4413-4518-9F04-50A7FBCA75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5.2.5 ATM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Cél: szélessávú ISDN (B-ISDN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Nem vonalkapcsolt, hanem csomagkapcsol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Aszinkron átvit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Kis méretű keretek (cellák) 53 byt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Sebességek: 34 Mbit/s, 155 Mbit/s, 622 Mbit/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pont-pont kapcsolato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Fizikai közege UTP, optika (akár SDH is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8FDB-0B4E-49C5-82A0-E22EBCE24FB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8CC42B-17BF-4D3E-9D65-BF3F505C31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cc66"/>
                </a:solidFill>
                <a:latin typeface="Tahoma"/>
              </a:rPr>
              <a:t>5.2.5.1 Az ATM belső rétegzettsége</a:t>
            </a: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2560" y="1989000"/>
            <a:ext cx="4610160" cy="144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 Narrow"/>
              </a:rPr>
              <a:t>PMD: Physical Medium Dependent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 Narrow"/>
              </a:rPr>
              <a:t>TC: Transmission Convergence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 Narrow"/>
              </a:rPr>
              <a:t>ATM: Asynchronous Transfer Mode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"/>
          <p:cNvSpPr/>
          <p:nvPr/>
        </p:nvSpPr>
        <p:spPr>
          <a:xfrm>
            <a:off x="5508720" y="1989000"/>
            <a:ext cx="30956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 Narrow"/>
              </a:rPr>
              <a:t>Virtuális áramkörök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Ideiglenes / álland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Felépítés / lebontá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Cellákban cím helyett VC azonosít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IP hálózatokban az adatkapcsolati réteg </a:t>
            </a:r>
            <a:r>
              <a:rPr b="0" i="1" lang="hu-HU" sz="2400" spc="-1" strike="noStrike">
                <a:solidFill>
                  <a:srgbClr val="ffffff"/>
                </a:solidFill>
                <a:latin typeface="Arial Narrow"/>
              </a:rPr>
              <a:t>helyett</a:t>
            </a: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 használju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971640" y="3213000"/>
            <a:ext cx="3816360" cy="22827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rcRect l="-1920" t="-27363" r="-1920" b="-12239"/>
          <a:stretch/>
        </p:blipFill>
        <p:spPr>
          <a:xfrm>
            <a:off x="971640" y="5589720"/>
            <a:ext cx="7777080" cy="79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AFCF-26E9-4B98-85CB-0386600733E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4EBA25-7CCC-485A-BE36-5B9744C27E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cc66"/>
                </a:solidFill>
                <a:latin typeface="Tahoma"/>
              </a:rPr>
              <a:t>5.2.5.2 Cellakapcsolás az ATM-ben</a:t>
            </a: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859280" y="3714840"/>
            <a:ext cx="3471840" cy="26035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4859280" y="3714840"/>
            <a:ext cx="3471840" cy="26035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4859280" y="3716280"/>
            <a:ext cx="3471840" cy="26035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971640" y="1989000"/>
            <a:ext cx="3816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 Narrow"/>
              </a:rPr>
              <a:t>Szempontok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Cellák sorrendjét nem rendezheti á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A legkevesebb eldobás legy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 Narrow"/>
              </a:rPr>
              <a:t>Megoldások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Torlódott cellákat eldob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Bemeneti sorbanállá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Kimeneti sorbanállá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Visszaforgatá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1989000"/>
            <a:ext cx="3600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59280" y="2997360"/>
            <a:ext cx="352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 Narrow"/>
              </a:rPr>
              <a:t>Multiplexer helyett kapcsoló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F127-C5FE-49BC-915C-8A329AA6F15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102099-C13D-44EF-8809-376B43EE34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66"/>
                </a:solidFill>
                <a:latin typeface="Tahoma"/>
              </a:rPr>
              <a:t>5.1.1 Fizikai réteg</a:t>
            </a:r>
            <a:endParaRPr b="0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Bitek szintjén teremt összeköttetést két közegdarab közöt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Repeater, hub, erősítő, média konverte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3280" y="1844640"/>
            <a:ext cx="3810240" cy="2587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971640" y="4138560"/>
            <a:ext cx="302400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1052-507B-4A20-A946-1E5E571B42B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E88E31-38F4-4CE3-88F5-FD1EB24885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Linkek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2"/>
              </a:rPr>
              <a:t>http://www.fortunecity.com/skyscraper/lead/1699/embedded/rs232.debug.cheat.sheet/serial.htm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9F8C-5D38-49C8-B93C-B194B4911B1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22FDA7-6289-4600-B65D-782C2E39D0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66"/>
                </a:solidFill>
                <a:latin typeface="Tahoma"/>
              </a:rPr>
              <a:t>5.1.2 Adatkapcsolati réteg</a:t>
            </a:r>
            <a:endParaRPr b="0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1687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Kereteket kez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Bridge, switch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Ethernet esetén MAC címek kezelés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356000" y="1886040"/>
            <a:ext cx="4248360" cy="2940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rcRect l="0" t="25944" r="0" b="28240"/>
          <a:stretch/>
        </p:blipFill>
        <p:spPr>
          <a:xfrm>
            <a:off x="826920" y="4508640"/>
            <a:ext cx="3457800" cy="158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4182-0849-4A23-BF0C-F4E5D1EF212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FD2A12-8F5F-4B5C-9AB9-57DF17C162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ahoma"/>
              </a:rPr>
              <a:t>5.</a:t>
            </a:r>
            <a:r>
              <a:rPr b="0" lang="hu-HU" sz="2800" spc="-1" strike="noStrike">
                <a:solidFill>
                  <a:srgbClr val="ffcc66"/>
                </a:solidFill>
                <a:latin typeface="Tahoma"/>
              </a:rPr>
              <a:t>1.</a:t>
            </a:r>
            <a:r>
              <a:rPr b="0" lang="hu-HU" sz="3200" spc="-1" strike="noStrike">
                <a:solidFill>
                  <a:srgbClr val="ffcc66"/>
                </a:solidFill>
                <a:latin typeface="Tahoma"/>
              </a:rPr>
              <a:t>3 Hálózati réteg</a:t>
            </a:r>
            <a:endParaRPr b="0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Adatcsomagokkal foglalkozi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Cél-cél forgalomirányítást végez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Hálózati szolgáltatás határ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643280" y="1557360"/>
            <a:ext cx="3810240" cy="2587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211640" y="4422600"/>
            <a:ext cx="4255920" cy="1841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243A-2B45-424C-9368-48F564E9B5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0C35BE-254A-43B3-AC65-41522024ED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ahoma"/>
              </a:rPr>
              <a:t>5.</a:t>
            </a:r>
            <a:r>
              <a:rPr b="0" lang="hu-HU" sz="2800" spc="-1" strike="noStrike">
                <a:solidFill>
                  <a:srgbClr val="ffcc66"/>
                </a:solidFill>
                <a:latin typeface="Tahoma"/>
              </a:rPr>
              <a:t>1.</a:t>
            </a:r>
            <a:r>
              <a:rPr b="0" lang="hu-HU" sz="3200" spc="-1" strike="noStrike">
                <a:solidFill>
                  <a:srgbClr val="ffcc66"/>
                </a:solidFill>
                <a:latin typeface="Tahoma"/>
              </a:rPr>
              <a:t>4 Szállítási réteg</a:t>
            </a:r>
            <a:endParaRPr b="0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Hálózati eszköz ritkább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TCP kapcsolatok kezelés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NA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Port szűrésre képes tűzfa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Jobb routerek tudják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Software megoldások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643280" y="1989000"/>
            <a:ext cx="3810240" cy="258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2505-9E0D-4807-BE0C-F6AE7A8BEEF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0D112B-6B6B-4635-A075-44556FF570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ahoma"/>
              </a:rPr>
              <a:t>5.</a:t>
            </a:r>
            <a:r>
              <a:rPr b="0" lang="hu-HU" sz="2800" spc="-1" strike="noStrike">
                <a:solidFill>
                  <a:srgbClr val="ffcc66"/>
                </a:solidFill>
                <a:latin typeface="Tahoma"/>
              </a:rPr>
              <a:t>1.</a:t>
            </a:r>
            <a:r>
              <a:rPr b="0" lang="hu-HU" sz="3200" spc="-1" strike="noStrike">
                <a:solidFill>
                  <a:srgbClr val="ffcc66"/>
                </a:solidFill>
                <a:latin typeface="Tahoma"/>
              </a:rPr>
              <a:t>5 Alkalmazási réteg</a:t>
            </a:r>
            <a:endParaRPr b="0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lkalmazásszinten terminá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Megoldások széles skáláj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Alkalmazásszintű tűzfal, portá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Proxy szerver, pl http cach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Mail gateway, spam filter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Tartalom kapcsoló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43280" y="1989000"/>
            <a:ext cx="3810240" cy="2587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rcRect l="35795" t="0" r="34705" b="0"/>
          <a:stretch/>
        </p:blipFill>
        <p:spPr>
          <a:xfrm>
            <a:off x="4643280" y="4757760"/>
            <a:ext cx="2448000" cy="1479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7164360" y="4437000"/>
            <a:ext cx="1301760" cy="181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739E-FBD1-4DAA-8339-87106A123AF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FFA595-EDCE-40F7-9D81-7E70E937FB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5.1</a:t>
            </a:r>
            <a:r>
              <a:rPr b="0" lang="hu-HU" sz="2800" spc="-1" strike="noStrike">
                <a:solidFill>
                  <a:srgbClr val="ffcc66"/>
                </a:solidFill>
                <a:latin typeface="Tahoma"/>
              </a:rPr>
              <a:t>.</a:t>
            </a: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6 Összetett eszközök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Menedzselhető switch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Hálózati forgalom szempontjából sima L2 switch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Menedzselhetőség szempontjából szerver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Önálló hálózati címe van, http szerver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050920" y="3538440"/>
            <a:ext cx="5113440" cy="269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7FEF-8A48-4C94-A0B2-581F45977F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6DD9D9-989D-47D4-93C6-A1DF497912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5.2.1 ADSL router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89440" cy="1981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Otthoni, kis irodai igénye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Router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switch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989000"/>
            <a:ext cx="38894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WLA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Tűzfal, N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nyomtatósz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971640" y="4114800"/>
            <a:ext cx="4584600" cy="1981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rcRect l="-7773" t="0" r="-7244" b="0"/>
          <a:stretch/>
        </p:blipFill>
        <p:spPr>
          <a:xfrm>
            <a:off x="6012000" y="4149720"/>
            <a:ext cx="2089080" cy="194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8559-E844-4E6C-BB11-A1A15D3A9CA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40A4E5-4742-4DF6-A5EB-0DE41B39C7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5.2 A fizikai réteg megoldásai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Ethernet – láttu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RS232C – RS449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E1 – E2 – E3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ISDN – N-ISDN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SDH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ATM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7A4A-88FC-4161-8FFD-95EE3E85F86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909E0E-7230-4F37-8BFA-19044AF8C8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herkovich Péter</cp:lastModifiedBy>
  <dcterms:modified xsi:type="dcterms:W3CDTF">2006-03-13T22:20:53Z</dcterms:modified>
  <cp:revision>26</cp:revision>
  <dc:subject/>
  <dc:title>PowerPoint bemutató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8</vt:r8>
  </property>
  <property fmtid="{D5CDD505-2E9C-101B-9397-08002B2CF9AE}" pid="3" name="Version">
    <vt:r8>3</vt:r8>
  </property>
</Properties>
</file>