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0F4B-83BE-4239-903F-F5E8B8E5450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ebr 7. A4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ázi feladat: vonalak és routerek terhelése egyenletes forgalom eseté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ondjatok még hasonló példák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ár az ókori görögök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TU = International Telecommunication Union (ENSZ ügynöksége, eredetileg európai államközi szervez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SO = International Standards Organization (önkéntes, államköz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NSI = American National Standards Institute (civil, ISO egyik tagj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EEE = Institute of Electrical and Electronics Engin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AB = Internet Architecture Board (DoD hozta lét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ETF = Internet Engineering Task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SOC = Internet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488-C066-4BE0-B5BE-A9E184CF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B85-FCD9-4651-9055-2C6097B0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73E-2BB2-4879-9441-C7674737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099-B092-45AA-A59C-B81EF268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3502-B544-4788-91C9-4C929BAC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8023-42AA-49EF-B62B-7518C2C0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EB2E-ACA5-4114-A36E-423D69E7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5C05-19B0-4916-BACB-072FBD9A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26BF-3DA5-48CF-AA07-93B87795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9B5F-725B-431D-8EE3-ED3BD396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F289-52B4-4255-A064-F288E4F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F7C-A322-431E-86D9-C03941C8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104E-8A3F-47D5-B6E8-395429DE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CD48-8E80-4126-9306-D41FB65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998E-AC48-4133-8BCD-B6599668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51B5-9991-4431-BC7D-8C4C4F87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B0FC-0B83-4810-B218-44D550EF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FC8-EE56-4920-9575-0AF9A9CC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0DD-8E9F-445D-AD2B-EE4274AC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5AF-E4CB-40CA-8C4B-B0F18B80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81C-4B71-40B3-94F6-83441BCF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05E-4FE2-4690-A8AB-C836122F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FEC-4B99-402F-B774-D7EDABAC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6C7-070E-4AAC-B47A-E33C105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207E-09C4-439D-837E-042BC811B178}" type="datetime">
              <a:rPr b="0" lang="hu-HU" sz="1400" spc="-1" strike="noStrike">
                <a:solidFill>
                  <a:srgbClr val="ffcc66"/>
                </a:solidFill>
                <a:latin typeface="Arial Narrow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cc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180-283D-4009-A28E-AFD8CA7E4C53}" type="slidenum">
              <a:rPr b="0" lang="hu-H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534C-C867-4955-9CF3-9368EEBF67C7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30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414F-BF5D-4EF5-9A8A-09C1A838067A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herkovich.peter@eiszk.pte.hu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te.hu/index.php?ownid=304" TargetMode="External"/><Relationship Id="rId3" Type="http://schemas.openxmlformats.org/officeDocument/2006/relationships/hyperlink" Target="http://www.pte.hu/index.php?ownid=304" TargetMode="External"/><Relationship Id="rId4" Type="http://schemas.openxmlformats.org/officeDocument/2006/relationships/hyperlink" Target="http://www.pte.hu/index.php?ownid=304" TargetMode="External"/><Relationship Id="rId5" Type="http://schemas.openxmlformats.org/officeDocument/2006/relationships/hyperlink" Target="http://www.pte.hu/index.php?ownid=304" TargetMode="External"/><Relationship Id="rId6" Type="http://schemas.openxmlformats.org/officeDocument/2006/relationships/hyperlink" Target="http://www.pte.hu/index.php?ownid=304" TargetMode="External"/><Relationship Id="rId7" Type="http://schemas.openxmlformats.org/officeDocument/2006/relationships/hyperlink" Target="http://www.pte.hu/index.php?ownid=304" TargetMode="External"/><Relationship Id="rId8" Type="http://schemas.openxmlformats.org/officeDocument/2006/relationships/hyperlink" Target="http://www.pte.hu/index.php?ownid=304" TargetMode="Externa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iif.hu/" TargetMode="External"/><Relationship Id="rId3" Type="http://schemas.openxmlformats.org/officeDocument/2006/relationships/hyperlink" Target="http://www.niif.h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ant.net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Számítógép-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herkovich Pé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uherkovich.peter@eiszk.pte.hu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.2 Alhálózat, hoszt, router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Cloud"/>
          <p:cNvSpPr/>
          <p:nvPr/>
        </p:nvSpPr>
        <p:spPr>
          <a:xfrm>
            <a:off x="1042920" y="220500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Cloud"/>
          <p:cNvSpPr/>
          <p:nvPr/>
        </p:nvSpPr>
        <p:spPr>
          <a:xfrm>
            <a:off x="5364000" y="220500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Cloud"/>
          <p:cNvSpPr/>
          <p:nvPr/>
        </p:nvSpPr>
        <p:spPr>
          <a:xfrm>
            <a:off x="3276720" y="422100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computr1"/>
          <p:cNvSpPr/>
          <p:nvPr/>
        </p:nvSpPr>
        <p:spPr>
          <a:xfrm>
            <a:off x="1506600" y="2451240"/>
            <a:ext cx="473040" cy="473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computr1"/>
          <p:cNvSpPr/>
          <p:nvPr/>
        </p:nvSpPr>
        <p:spPr>
          <a:xfrm>
            <a:off x="2124000" y="2451240"/>
            <a:ext cx="473040" cy="473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computr1"/>
          <p:cNvSpPr/>
          <p:nvPr/>
        </p:nvSpPr>
        <p:spPr>
          <a:xfrm>
            <a:off x="2771640" y="2451240"/>
            <a:ext cx="473040" cy="473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computr1"/>
          <p:cNvSpPr/>
          <p:nvPr/>
        </p:nvSpPr>
        <p:spPr>
          <a:xfrm>
            <a:off x="3780000" y="5157720"/>
            <a:ext cx="473040" cy="473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computr1"/>
          <p:cNvSpPr/>
          <p:nvPr/>
        </p:nvSpPr>
        <p:spPr>
          <a:xfrm>
            <a:off x="4427640" y="5157720"/>
            <a:ext cx="473040" cy="473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computr1"/>
          <p:cNvSpPr/>
          <p:nvPr/>
        </p:nvSpPr>
        <p:spPr>
          <a:xfrm>
            <a:off x="5076720" y="5157720"/>
            <a:ext cx="473040" cy="473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computr1"/>
          <p:cNvSpPr/>
          <p:nvPr/>
        </p:nvSpPr>
        <p:spPr>
          <a:xfrm>
            <a:off x="5867280" y="2492280"/>
            <a:ext cx="473040" cy="473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computr1"/>
          <p:cNvSpPr/>
          <p:nvPr/>
        </p:nvSpPr>
        <p:spPr>
          <a:xfrm>
            <a:off x="6516720" y="2492280"/>
            <a:ext cx="473040" cy="473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computr1"/>
          <p:cNvSpPr/>
          <p:nvPr/>
        </p:nvSpPr>
        <p:spPr>
          <a:xfrm>
            <a:off x="7164360" y="2492280"/>
            <a:ext cx="473040" cy="473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5" idx="14"/>
            <a:endCxn id="115" idx="15"/>
          </p:cNvCxnSpPr>
          <p:nvPr/>
        </p:nvCxnSpPr>
        <p:spPr>
          <a:xfrm>
            <a:off x="1742760" y="2923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1763640" y="335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924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924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2924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932360" y="314172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96000" y="3429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29955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29955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80360" y="29955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47242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4724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724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4724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437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097160" y="400536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2411280" y="4365360"/>
            <a:ext cx="1729080" cy="86364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88000" y="3645000"/>
            <a:ext cx="288720" cy="36036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211640" y="3357720"/>
            <a:ext cx="72072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mainfrm"/>
          <p:cNvSpPr/>
          <p:nvPr/>
        </p:nvSpPr>
        <p:spPr>
          <a:xfrm>
            <a:off x="1692360" y="4797360"/>
            <a:ext cx="792000" cy="936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976-C5B7-47FB-8270-D91C1B4DAF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445D3-2A81-4D73-A11E-5B406A4479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.3 Topológiá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Pont-pont összeköttetése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1133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35352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468936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0"/>
            <a:endCxn id="147" idx="4"/>
          </p:cNvCxnSpPr>
          <p:nvPr/>
        </p:nvCxnSpPr>
        <p:spPr>
          <a:xfrm flipV="1">
            <a:off x="1439640" y="4199760"/>
            <a:ext cx="1080" cy="4755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151" name=""/>
          <p:cNvCxnSpPr>
            <a:stCxn id="147" idx="0"/>
            <a:endCxn id="148" idx="4"/>
          </p:cNvCxnSpPr>
          <p:nvPr/>
        </p:nvCxnSpPr>
        <p:spPr>
          <a:xfrm flipV="1">
            <a:off x="1439640" y="3621960"/>
            <a:ext cx="1080" cy="4770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826920" y="41133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52" idx="6"/>
          </p:cNvCxnSpPr>
          <p:nvPr/>
        </p:nvCxnSpPr>
        <p:spPr>
          <a:xfrm flipH="1">
            <a:off x="913680" y="4149360"/>
            <a:ext cx="475560" cy="10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1979640" y="41133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2"/>
            <a:endCxn id="147" idx="6"/>
          </p:cNvCxnSpPr>
          <p:nvPr/>
        </p:nvCxnSpPr>
        <p:spPr>
          <a:xfrm flipH="1">
            <a:off x="1490400" y="4149360"/>
            <a:ext cx="475200" cy="10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835280" y="3679920"/>
            <a:ext cx="7272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7" idx="7"/>
            <a:endCxn id="156" idx="3"/>
          </p:cNvCxnSpPr>
          <p:nvPr/>
        </p:nvCxnSpPr>
        <p:spPr>
          <a:xfrm flipV="1">
            <a:off x="1464840" y="3755520"/>
            <a:ext cx="381960" cy="3549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833480" y="45435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7" idx="5"/>
            <a:endCxn id="158" idx="1"/>
          </p:cNvCxnSpPr>
          <p:nvPr/>
        </p:nvCxnSpPr>
        <p:spPr>
          <a:xfrm>
            <a:off x="1465200" y="4188960"/>
            <a:ext cx="380160" cy="3513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971640" y="367992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5"/>
            <a:endCxn id="147" idx="1"/>
          </p:cNvCxnSpPr>
          <p:nvPr/>
        </p:nvCxnSpPr>
        <p:spPr>
          <a:xfrm>
            <a:off x="1033560" y="3755880"/>
            <a:ext cx="381600" cy="3549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971640" y="45450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7"/>
            <a:endCxn id="147" idx="3"/>
          </p:cNvCxnSpPr>
          <p:nvPr/>
        </p:nvCxnSpPr>
        <p:spPr>
          <a:xfrm flipV="1">
            <a:off x="1033560" y="4188600"/>
            <a:ext cx="381600" cy="3531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2987640" y="35352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468936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5" idx="2"/>
            <a:endCxn id="167" idx="5"/>
          </p:cNvCxnSpPr>
          <p:nvPr/>
        </p:nvCxnSpPr>
        <p:spPr>
          <a:xfrm flipH="1" flipV="1">
            <a:off x="2617200" y="4620600"/>
            <a:ext cx="356040" cy="1054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168" name=""/>
          <p:cNvCxnSpPr>
            <a:stCxn id="169" idx="1"/>
            <a:endCxn id="164" idx="6"/>
          </p:cNvCxnSpPr>
          <p:nvPr/>
        </p:nvCxnSpPr>
        <p:spPr>
          <a:xfrm flipH="1" flipV="1">
            <a:off x="3074400" y="3571200"/>
            <a:ext cx="356040" cy="1054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2411280" y="41133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72" idx="3"/>
            <a:endCxn id="170" idx="0"/>
          </p:cNvCxnSpPr>
          <p:nvPr/>
        </p:nvCxnSpPr>
        <p:spPr>
          <a:xfrm flipH="1">
            <a:off x="2447280" y="3755520"/>
            <a:ext cx="119880" cy="3438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564000" y="41133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4"/>
            <a:endCxn id="175" idx="7"/>
          </p:cNvCxnSpPr>
          <p:nvPr/>
        </p:nvCxnSpPr>
        <p:spPr>
          <a:xfrm flipH="1">
            <a:off x="3479040" y="4200480"/>
            <a:ext cx="121320" cy="3402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3419640" y="3679920"/>
            <a:ext cx="7272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3" idx="0"/>
            <a:endCxn id="169" idx="5"/>
          </p:cNvCxnSpPr>
          <p:nvPr/>
        </p:nvCxnSpPr>
        <p:spPr>
          <a:xfrm flipH="1" flipV="1">
            <a:off x="3481200" y="3755160"/>
            <a:ext cx="119520" cy="3438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417840" y="45435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5" idx="6"/>
            <a:endCxn id="175" idx="3"/>
          </p:cNvCxnSpPr>
          <p:nvPr/>
        </p:nvCxnSpPr>
        <p:spPr>
          <a:xfrm flipV="1">
            <a:off x="3074760" y="4619160"/>
            <a:ext cx="354600" cy="1072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2556000" y="367992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7"/>
            <a:endCxn id="164" idx="2"/>
          </p:cNvCxnSpPr>
          <p:nvPr/>
        </p:nvCxnSpPr>
        <p:spPr>
          <a:xfrm flipV="1">
            <a:off x="2617560" y="3571200"/>
            <a:ext cx="356040" cy="1054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2556000" y="45450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67" idx="1"/>
            <a:endCxn id="170" idx="4"/>
          </p:cNvCxnSpPr>
          <p:nvPr/>
        </p:nvCxnSpPr>
        <p:spPr>
          <a:xfrm flipH="1" flipV="1">
            <a:off x="2447280" y="4200120"/>
            <a:ext cx="119880" cy="3420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570560" y="3535200"/>
            <a:ext cx="7272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0560" y="4689360"/>
            <a:ext cx="7272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1"/>
            <a:endCxn id="183" idx="5"/>
          </p:cNvCxnSpPr>
          <p:nvPr/>
        </p:nvCxnSpPr>
        <p:spPr>
          <a:xfrm flipH="1" flipV="1">
            <a:off x="4055400" y="4188600"/>
            <a:ext cx="525960" cy="4978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184" name=""/>
          <p:cNvCxnSpPr>
            <a:stCxn id="181" idx="0"/>
            <a:endCxn id="180" idx="4"/>
          </p:cNvCxnSpPr>
          <p:nvPr/>
        </p:nvCxnSpPr>
        <p:spPr>
          <a:xfrm flipV="1">
            <a:off x="4606560" y="3622320"/>
            <a:ext cx="1080" cy="10533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994200" y="41133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0" idx="3"/>
            <a:endCxn id="183" idx="7"/>
          </p:cNvCxnSpPr>
          <p:nvPr/>
        </p:nvCxnSpPr>
        <p:spPr>
          <a:xfrm flipH="1">
            <a:off x="4055400" y="3611160"/>
            <a:ext cx="525960" cy="49932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5146560" y="41133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83" idx="6"/>
          </p:cNvCxnSpPr>
          <p:nvPr/>
        </p:nvCxnSpPr>
        <p:spPr>
          <a:xfrm flipH="1">
            <a:off x="4080960" y="4149360"/>
            <a:ext cx="1051920" cy="10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5002200" y="367992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90" idx="7"/>
            <a:endCxn id="188" idx="3"/>
          </p:cNvCxnSpPr>
          <p:nvPr/>
        </p:nvCxnSpPr>
        <p:spPr>
          <a:xfrm flipV="1">
            <a:off x="4200480" y="3755160"/>
            <a:ext cx="813600" cy="7866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5000760" y="4543560"/>
            <a:ext cx="7272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6"/>
            <a:endCxn id="191" idx="2"/>
          </p:cNvCxnSpPr>
          <p:nvPr/>
        </p:nvCxnSpPr>
        <p:spPr>
          <a:xfrm flipV="1">
            <a:off x="4226040" y="4579560"/>
            <a:ext cx="761040" cy="21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4138560" y="367992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5"/>
            <a:endCxn id="191" idx="1"/>
          </p:cNvCxnSpPr>
          <p:nvPr/>
        </p:nvCxnSpPr>
        <p:spPr>
          <a:xfrm>
            <a:off x="4200120" y="3755520"/>
            <a:ext cx="811800" cy="7851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4138560" y="45450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0" idx="0"/>
            <a:endCxn id="193" idx="4"/>
          </p:cNvCxnSpPr>
          <p:nvPr/>
        </p:nvCxnSpPr>
        <p:spPr>
          <a:xfrm flipV="1">
            <a:off x="4174920" y="3766320"/>
            <a:ext cx="1080" cy="7642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5780160" y="400536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67440" y="35352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67440" y="468936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0"/>
            <a:endCxn id="200" idx="5"/>
          </p:cNvCxnSpPr>
          <p:nvPr/>
        </p:nvCxnSpPr>
        <p:spPr>
          <a:xfrm flipH="1" flipV="1">
            <a:off x="5986080" y="4440960"/>
            <a:ext cx="118080" cy="2343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01" name=""/>
          <p:cNvCxnSpPr>
            <a:stCxn id="202" idx="1"/>
            <a:endCxn id="197" idx="4"/>
          </p:cNvCxnSpPr>
          <p:nvPr/>
        </p:nvCxnSpPr>
        <p:spPr>
          <a:xfrm flipH="1" flipV="1">
            <a:off x="6103440" y="3621960"/>
            <a:ext cx="121680" cy="2358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5491080" y="41133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6" idx="2"/>
            <a:endCxn id="203" idx="6"/>
          </p:cNvCxnSpPr>
          <p:nvPr/>
        </p:nvCxnSpPr>
        <p:spPr>
          <a:xfrm flipH="1">
            <a:off x="5578200" y="4041720"/>
            <a:ext cx="187920" cy="10872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6643800" y="41133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2"/>
            <a:endCxn id="207" idx="7"/>
          </p:cNvCxnSpPr>
          <p:nvPr/>
        </p:nvCxnSpPr>
        <p:spPr>
          <a:xfrm flipH="1">
            <a:off x="6418080" y="4149720"/>
            <a:ext cx="211680" cy="1404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6499080" y="367992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2" idx="7"/>
            <a:endCxn id="208" idx="3"/>
          </p:cNvCxnSpPr>
          <p:nvPr/>
        </p:nvCxnSpPr>
        <p:spPr>
          <a:xfrm flipV="1">
            <a:off x="6275520" y="3755160"/>
            <a:ext cx="235440" cy="1026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6497640" y="4543560"/>
            <a:ext cx="73080" cy="7272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7" idx="5"/>
            <a:endCxn id="210" idx="1"/>
          </p:cNvCxnSpPr>
          <p:nvPr/>
        </p:nvCxnSpPr>
        <p:spPr>
          <a:xfrm>
            <a:off x="6418080" y="4368960"/>
            <a:ext cx="91080" cy="1720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5635800" y="3679920"/>
            <a:ext cx="7272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5"/>
            <a:endCxn id="196" idx="1"/>
          </p:cNvCxnSpPr>
          <p:nvPr/>
        </p:nvCxnSpPr>
        <p:spPr>
          <a:xfrm>
            <a:off x="5697000" y="3755880"/>
            <a:ext cx="94680" cy="2469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5635800" y="4545000"/>
            <a:ext cx="7272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7"/>
            <a:endCxn id="200" idx="3"/>
          </p:cNvCxnSpPr>
          <p:nvPr/>
        </p:nvCxnSpPr>
        <p:spPr>
          <a:xfrm flipV="1">
            <a:off x="5697360" y="4441320"/>
            <a:ext cx="239040" cy="1008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16" name=""/>
          <p:cNvCxnSpPr/>
          <p:nvPr/>
        </p:nvCxnSpPr>
        <p:spPr>
          <a:xfrm flipH="1" flipV="1">
            <a:off x="4200120" y="4618800"/>
            <a:ext cx="356400" cy="1054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17" name=""/>
          <p:cNvCxnSpPr/>
          <p:nvPr/>
        </p:nvCxnSpPr>
        <p:spPr>
          <a:xfrm flipH="1" flipV="1">
            <a:off x="4657320" y="3569760"/>
            <a:ext cx="356400" cy="10584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18" name=""/>
          <p:cNvCxnSpPr/>
          <p:nvPr/>
        </p:nvCxnSpPr>
        <p:spPr>
          <a:xfrm flipH="1">
            <a:off x="4029840" y="3754440"/>
            <a:ext cx="119880" cy="34344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19" name=""/>
          <p:cNvCxnSpPr/>
          <p:nvPr/>
        </p:nvCxnSpPr>
        <p:spPr>
          <a:xfrm flipH="1">
            <a:off x="5061960" y="4198680"/>
            <a:ext cx="121320" cy="3402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0" name=""/>
          <p:cNvCxnSpPr/>
          <p:nvPr/>
        </p:nvCxnSpPr>
        <p:spPr>
          <a:xfrm flipH="1" flipV="1">
            <a:off x="5063400" y="3754080"/>
            <a:ext cx="119880" cy="34344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1" name=""/>
          <p:cNvCxnSpPr/>
          <p:nvPr/>
        </p:nvCxnSpPr>
        <p:spPr>
          <a:xfrm flipV="1">
            <a:off x="4657320" y="4617360"/>
            <a:ext cx="354600" cy="10692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2" name=""/>
          <p:cNvCxnSpPr/>
          <p:nvPr/>
        </p:nvCxnSpPr>
        <p:spPr>
          <a:xfrm flipV="1">
            <a:off x="4200480" y="3569760"/>
            <a:ext cx="356400" cy="10584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3" name=""/>
          <p:cNvCxnSpPr/>
          <p:nvPr/>
        </p:nvCxnSpPr>
        <p:spPr>
          <a:xfrm flipH="1" flipV="1">
            <a:off x="4029840" y="4198680"/>
            <a:ext cx="119880" cy="3420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4" name=""/>
          <p:cNvCxnSpPr>
            <a:stCxn id="193" idx="6"/>
            <a:endCxn id="186" idx="1"/>
          </p:cNvCxnSpPr>
          <p:nvPr/>
        </p:nvCxnSpPr>
        <p:spPr>
          <a:xfrm>
            <a:off x="4226040" y="3716280"/>
            <a:ext cx="932400" cy="3945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5" name=""/>
          <p:cNvCxnSpPr>
            <a:stCxn id="188" idx="4"/>
            <a:endCxn id="181" idx="7"/>
          </p:cNvCxnSpPr>
          <p:nvPr/>
        </p:nvCxnSpPr>
        <p:spPr>
          <a:xfrm flipH="1">
            <a:off x="4632120" y="3767040"/>
            <a:ext cx="406800" cy="9201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6" name=""/>
          <p:cNvCxnSpPr>
            <a:stCxn id="186" idx="3"/>
            <a:endCxn id="190" idx="6"/>
          </p:cNvCxnSpPr>
          <p:nvPr/>
        </p:nvCxnSpPr>
        <p:spPr>
          <a:xfrm flipH="1">
            <a:off x="4225680" y="4188960"/>
            <a:ext cx="932400" cy="3927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7" name=""/>
          <p:cNvCxnSpPr>
            <a:stCxn id="191" idx="2"/>
            <a:endCxn id="183" idx="5"/>
          </p:cNvCxnSpPr>
          <p:nvPr/>
        </p:nvCxnSpPr>
        <p:spPr>
          <a:xfrm flipH="1" flipV="1">
            <a:off x="4055760" y="4188600"/>
            <a:ext cx="930960" cy="39132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8" name=""/>
          <p:cNvCxnSpPr>
            <a:stCxn id="190" idx="0"/>
            <a:endCxn id="180" idx="3"/>
          </p:cNvCxnSpPr>
          <p:nvPr/>
        </p:nvCxnSpPr>
        <p:spPr>
          <a:xfrm flipV="1">
            <a:off x="4175280" y="3610800"/>
            <a:ext cx="406800" cy="9198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29" name=""/>
          <p:cNvCxnSpPr>
            <a:stCxn id="181" idx="1"/>
            <a:endCxn id="193" idx="4"/>
          </p:cNvCxnSpPr>
          <p:nvPr/>
        </p:nvCxnSpPr>
        <p:spPr>
          <a:xfrm flipH="1" flipV="1">
            <a:off x="4174920" y="3766680"/>
            <a:ext cx="406800" cy="9201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30" name=""/>
          <p:cNvCxnSpPr>
            <a:stCxn id="191" idx="0"/>
            <a:endCxn id="180" idx="5"/>
          </p:cNvCxnSpPr>
          <p:nvPr/>
        </p:nvCxnSpPr>
        <p:spPr>
          <a:xfrm flipH="1" flipV="1">
            <a:off x="4632120" y="3610800"/>
            <a:ext cx="405360" cy="9183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31" name=""/>
          <p:cNvCxnSpPr/>
          <p:nvPr/>
        </p:nvCxnSpPr>
        <p:spPr>
          <a:xfrm flipH="1">
            <a:off x="4066920" y="3715920"/>
            <a:ext cx="932400" cy="3927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32" name=""/>
          <p:cNvCxnSpPr>
            <a:stCxn id="186" idx="1"/>
            <a:endCxn id="180" idx="5"/>
          </p:cNvCxnSpPr>
          <p:nvPr/>
        </p:nvCxnSpPr>
        <p:spPr>
          <a:xfrm flipH="1" flipV="1">
            <a:off x="4631760" y="3610800"/>
            <a:ext cx="525960" cy="49932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33" name=""/>
          <p:cNvCxnSpPr>
            <a:stCxn id="186" idx="3"/>
            <a:endCxn id="181" idx="6"/>
          </p:cNvCxnSpPr>
          <p:nvPr/>
        </p:nvCxnSpPr>
        <p:spPr>
          <a:xfrm flipH="1">
            <a:off x="4656960" y="4188960"/>
            <a:ext cx="500760" cy="5374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34" name=""/>
          <p:cNvCxnSpPr>
            <a:stCxn id="191" idx="7"/>
            <a:endCxn id="188" idx="4"/>
          </p:cNvCxnSpPr>
          <p:nvPr/>
        </p:nvCxnSpPr>
        <p:spPr>
          <a:xfrm flipH="1" flipV="1">
            <a:off x="5037840" y="3766680"/>
            <a:ext cx="24840" cy="7740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35" name=""/>
          <p:cNvCxnSpPr>
            <a:stCxn id="193" idx="6"/>
            <a:endCxn id="188" idx="2"/>
          </p:cNvCxnSpPr>
          <p:nvPr/>
        </p:nvCxnSpPr>
        <p:spPr>
          <a:xfrm>
            <a:off x="4226040" y="3715920"/>
            <a:ext cx="762480" cy="10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6356520" y="4292640"/>
            <a:ext cx="7272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68880" y="411624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24520" y="436572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13600" y="386064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196" idx="6"/>
            <a:endCxn id="236" idx="2"/>
          </p:cNvCxnSpPr>
          <p:nvPr/>
        </p:nvCxnSpPr>
        <p:spPr>
          <a:xfrm>
            <a:off x="5866920" y="4041360"/>
            <a:ext cx="188280" cy="11196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238" name=""/>
          <p:cNvCxnSpPr>
            <a:stCxn id="200" idx="7"/>
            <a:endCxn id="236" idx="3"/>
          </p:cNvCxnSpPr>
          <p:nvPr/>
        </p:nvCxnSpPr>
        <p:spPr>
          <a:xfrm flipV="1">
            <a:off x="5986440" y="4192200"/>
            <a:ext cx="94320" cy="17064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239" name=""/>
          <p:cNvCxnSpPr>
            <a:stCxn id="207" idx="2"/>
            <a:endCxn id="236" idx="5"/>
          </p:cNvCxnSpPr>
          <p:nvPr/>
        </p:nvCxnSpPr>
        <p:spPr>
          <a:xfrm flipH="1" flipV="1">
            <a:off x="6130080" y="4191840"/>
            <a:ext cx="212040" cy="13716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cxnSp>
        <p:nvCxnSpPr>
          <p:cNvPr id="240" name=""/>
          <p:cNvCxnSpPr>
            <a:stCxn id="202" idx="3"/>
            <a:endCxn id="236" idx="7"/>
          </p:cNvCxnSpPr>
          <p:nvPr/>
        </p:nvCxnSpPr>
        <p:spPr>
          <a:xfrm flipH="1">
            <a:off x="6130080" y="3936960"/>
            <a:ext cx="94680" cy="17712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653240" y="34956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53240" y="464976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1" idx="6"/>
            <a:endCxn id="244" idx="1"/>
          </p:cNvCxnSpPr>
          <p:nvPr/>
        </p:nvCxnSpPr>
        <p:spPr>
          <a:xfrm>
            <a:off x="7740720" y="3531960"/>
            <a:ext cx="356400" cy="1054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45" name=""/>
          <p:cNvCxnSpPr>
            <a:stCxn id="246" idx="1"/>
            <a:endCxn id="247" idx="7"/>
          </p:cNvCxnSpPr>
          <p:nvPr/>
        </p:nvCxnSpPr>
        <p:spPr>
          <a:xfrm flipH="1">
            <a:off x="7282800" y="4070160"/>
            <a:ext cx="957960" cy="43236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7077240" y="4073400"/>
            <a:ext cx="7272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50" idx="1"/>
            <a:endCxn id="248" idx="6"/>
          </p:cNvCxnSpPr>
          <p:nvPr/>
        </p:nvCxnSpPr>
        <p:spPr>
          <a:xfrm flipH="1" flipV="1">
            <a:off x="7164000" y="4109400"/>
            <a:ext cx="930960" cy="39132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8229600" y="40734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6" idx="4"/>
            <a:endCxn id="250" idx="7"/>
          </p:cNvCxnSpPr>
          <p:nvPr/>
        </p:nvCxnSpPr>
        <p:spPr>
          <a:xfrm flipH="1">
            <a:off x="8144640" y="4160880"/>
            <a:ext cx="121320" cy="3402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8085240" y="363996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7" idx="5"/>
            <a:endCxn id="242" idx="6"/>
          </p:cNvCxnSpPr>
          <p:nvPr/>
        </p:nvCxnSpPr>
        <p:spPr>
          <a:xfrm>
            <a:off x="7283520" y="4581360"/>
            <a:ext cx="457920" cy="10584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8083440" y="45036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6"/>
            <a:endCxn id="250" idx="3"/>
          </p:cNvCxnSpPr>
          <p:nvPr/>
        </p:nvCxnSpPr>
        <p:spPr>
          <a:xfrm>
            <a:off x="7308360" y="4541760"/>
            <a:ext cx="786600" cy="3888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7221600" y="363996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4" idx="4"/>
            <a:endCxn id="248" idx="7"/>
          </p:cNvCxnSpPr>
          <p:nvPr/>
        </p:nvCxnSpPr>
        <p:spPr>
          <a:xfrm flipH="1">
            <a:off x="7138800" y="3727080"/>
            <a:ext cx="119520" cy="3438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21600" y="4505400"/>
            <a:ext cx="73080" cy="7308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7" idx="1"/>
            <a:endCxn id="248" idx="4"/>
          </p:cNvCxnSpPr>
          <p:nvPr/>
        </p:nvCxnSpPr>
        <p:spPr>
          <a:xfrm flipH="1" flipV="1">
            <a:off x="7112880" y="4160520"/>
            <a:ext cx="119880" cy="34200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cxnSp>
        <p:nvCxnSpPr>
          <p:cNvPr id="257" name=""/>
          <p:cNvCxnSpPr>
            <a:stCxn id="254" idx="6"/>
            <a:endCxn id="241" idx="2"/>
          </p:cNvCxnSpPr>
          <p:nvPr/>
        </p:nvCxnSpPr>
        <p:spPr>
          <a:xfrm flipV="1">
            <a:off x="7308720" y="3531960"/>
            <a:ext cx="331200" cy="144720"/>
          </a:xfrm>
          <a:prstGeom prst="straightConnector1">
            <a:avLst/>
          </a:prstGeom>
          <a:ln w="28440">
            <a:solidFill>
              <a:srgbClr val="00ccff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971640" y="501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csil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501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gyűr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0360" y="501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telj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501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f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zabályta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E08-37F2-47FD-9D90-C8F8184C50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267CA-109D-40EC-BF68-C63FF2C99A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1.4 Broadcast típusú alhálózatok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LAN-ra jellemző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orlátozott távolság és állomásszá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özös csatorn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inden adás minden hoszthoz elju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Címzé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2E6-758D-442A-8508-036D730C04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BFF86-7285-4949-93C1-20CF6BDCFF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.5 Kliens-szerver model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692360" y="2781360"/>
            <a:ext cx="1297080" cy="1225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148360" y="2781360"/>
            <a:ext cx="1296720" cy="12254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843280" y="1700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Végrendszer, </a:t>
            </a: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hosz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234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kli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234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z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16000" y="5300640"/>
            <a:ext cx="64803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24360" y="3933720"/>
            <a:ext cx="0" cy="13669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68360" y="3933720"/>
            <a:ext cx="0" cy="13669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35280" y="38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kér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64000" y="45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válas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5445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hálóz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646200">
            <a:off x="2916000" y="3774960"/>
            <a:ext cx="2087280" cy="1295640"/>
          </a:xfrm>
          <a:custGeom>
            <a:avLst/>
            <a:gdLst/>
            <a:ahLst/>
            <a:rect l="l" t="t" r="r" b="b"/>
            <a:pathLst>
              <a:path w="1225" h="378">
                <a:moveTo>
                  <a:pt x="1225" y="0"/>
                </a:moveTo>
                <a:cubicBezTo>
                  <a:pt x="1055" y="174"/>
                  <a:pt x="885" y="348"/>
                  <a:pt x="681" y="363"/>
                </a:cubicBezTo>
                <a:cubicBezTo>
                  <a:pt x="477" y="378"/>
                  <a:pt x="238" y="234"/>
                  <a:pt x="0" y="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646200">
            <a:off x="2916000" y="3141720"/>
            <a:ext cx="2087280" cy="1295280"/>
          </a:xfrm>
          <a:custGeom>
            <a:avLst/>
            <a:gdLst/>
            <a:ahLst/>
            <a:rect l="l" t="t" r="r" b="b"/>
            <a:pathLst>
              <a:path w="1225" h="378">
                <a:moveTo>
                  <a:pt x="1225" y="0"/>
                </a:moveTo>
                <a:cubicBezTo>
                  <a:pt x="1055" y="174"/>
                  <a:pt x="885" y="348"/>
                  <a:pt x="681" y="363"/>
                </a:cubicBezTo>
                <a:cubicBezTo>
                  <a:pt x="477" y="378"/>
                  <a:pt x="238" y="234"/>
                  <a:pt x="0" y="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9A1-0D52-4118-8320-41275ED06F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C9316-63F9-4985-B913-34B10355D3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1.6 Összeköttetés alapú szolgáltatás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Összeköttetésalapú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Telefonálás;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file transzf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Összeköttetésmentes szolgáltatá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 Narrow"/>
              </a:rPr>
              <a:t>Postai levél; </a:t>
            </a: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E41-D1B1-40C6-A03B-8D4CCA683C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11C41-1022-4C5B-AB0B-DCFC7BD43D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.7 Vezeték nélküli hálózatok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lőzmény: Marconi morse-rádiój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ai igény: mobilitás (Notebook, PDA, telefo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WLAN hálózatok (wireless LA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Pont-pont összeköttetések (wireless bridg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GSM, GP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Műholdas hálózatok (nagy késlelteté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9D8-C3D7-4B73-B93E-F49BAA70D3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205BF-F046-43E6-B319-5A3102B195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Hálózatok szabványosítás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de facto 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 de ju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TU (CCIT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SO, ANSI, IEE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AB (RFC-k) 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 IRTF, IET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SOC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E5D-A5D6-4B55-BC83-93A815FCCC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16B06-D859-416B-ACC9-A50873C957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Összefoglalá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álózatok csoportosítás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lhálózat, hoszt, rou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Topológiá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Broadcast típusú hálózat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liens-szerver mode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Összeköttetésesség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ezeték nélkü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CED-EC2C-4508-8BAF-9A91AB35F5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AA04A-7F6D-47C2-AE50-0D94659D9DFB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Legközelebb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datátviteli alap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Elektromágneses spektru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ezetékes átvit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Sávkorlátozott csatorn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Kódolá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291-BBBD-4EA5-B75B-933EB517AF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CC75B-854E-4EC3-85A2-75E7C023E112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Tematik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zámítógép-hálózatok alapfogalmai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datátviteli alapfogalma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Lokális hálózatok. Az Ethernet és közege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Narrow"/>
              </a:rPr>
              <a:t>Rendszerek hierarchiája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. Hálózati architektúrák, rétegek, rétegek közti kommunikáció. Szolgálatprimitív, szolgálat, protokoll. Protokollvermek, protokollok csoportosítása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Rétegzett hálózati kommunikáció, OSI modell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Hálózati eszközö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IEEE 802. LLC, MAC, NDIS, ODI. , IPX/SPX, TCP/I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Narrow"/>
              </a:rPr>
              <a:t>Kommunikácó az Interneten. A </a:t>
            </a: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TCP/IP protokollverem. Címzés, ARP, Ipv6, ICMP, DNS, WINS, BOOTP, DHC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Az Interneten használt ismertebb szolgáltatások, és a hozzájuk tartozó protokollok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ultimédia folyamkezelés az Interneten, VoI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Szolgáltatási minőség, a szolgáltatás minősége. QoS az Internet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Biztonsági szabványok, titkosítás, adatbeépítés, jogvédele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Narrow"/>
              </a:rPr>
              <a:t>middleware, rendszerintegráció, címtárszolgáltatáso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59A-77A1-49E3-BEDE-191D03EA36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0DE93-A8CC-4372-8E6C-803C1131029A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Irodalo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Andrew S. Tanenbaum: Számítógép-hálózat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Interneten elérhető forrás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ttp://www.pte.hu/~uhi/kurzus/halozat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C52-3513-4207-95ED-3C231D5662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D11ED-6BA1-46D1-9C17-50565BF8D6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ahoma"/>
              </a:rPr>
              <a:t>Számítógép-hálózatok alapfogalmai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Csoportosítás méret szeri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Alhálózat, internet, Intern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Topológiá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Kliens-szerver model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Vezeték nélküli hálózato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4E8-57A0-44A5-BBED-8673D18B10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C5AE4-74DF-4399-8E62-A75C54406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.1 Hálózatok méret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2560" y="1981080"/>
          <a:ext cx="6935760" cy="3861000"/>
        </p:xfrm>
        <a:graphic>
          <a:graphicData uri="http://schemas.openxmlformats.org/drawingml/2006/table">
            <a:tbl>
              <a:tblPr/>
              <a:tblGrid>
                <a:gridCol w="1368360"/>
                <a:gridCol w="1241640"/>
                <a:gridCol w="1393920"/>
                <a:gridCol w="1263600"/>
                <a:gridCol w="166824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ávolsá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33"/>
                        </a:gs>
                        <a:gs pos="100000">
                          <a:srgbClr val="80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erül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33"/>
                        </a:gs>
                        <a:gs pos="100000">
                          <a:srgbClr val="80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Kategó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33"/>
                        </a:gs>
                        <a:gs pos="100000">
                          <a:srgbClr val="80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ávszélessé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33"/>
                        </a:gs>
                        <a:gs pos="100000">
                          <a:srgbClr val="80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él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33"/>
                        </a:gs>
                        <a:gs pos="100000">
                          <a:srgbClr val="800000"/>
                        </a:gs>
                      </a:gsLst>
                      <a:lin ang="5400000"/>
                    </a:gradFill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0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zob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ff"/>
                        </a:gs>
                        <a:gs pos="100000">
                          <a:srgbClr val="000075"/>
                        </a:gs>
                      </a:gsLst>
                      <a:lin ang="5400000"/>
                    </a:gradFill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0M .. 1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Hallgatói labor 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00 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Épül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TE épülethálózata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  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 k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Camp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TE Ifjúság út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0 k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Vár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66"/>
                        </a:gs>
                        <a:gs pos="100000">
                          <a:srgbClr val="002f2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UPN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00 k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Orszá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W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>
                        <a:alpha val="50000"/>
                      </a:srgbClr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M ... 10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HB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48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  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 G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Kontine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GE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0 G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Bolyg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Intern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388-459E-4CDE-995B-DBD391BD4B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B4093-45B2-4801-9C5D-DD325F29EF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.1.1 Példák nagy hálózatokr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UPNET: 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www.pte.hu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4"/>
              </a:rPr>
              <a:t>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5"/>
              </a:rPr>
              <a:t>index.php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6"/>
              </a:rPr>
              <a:t>?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7"/>
              </a:rPr>
              <a:t>ownid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8"/>
              </a:rPr>
              <a:t>=30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619280" y="2143080"/>
            <a:ext cx="6121440" cy="4213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0360" y="5589720"/>
            <a:ext cx="1800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F34-40C1-48A4-B39D-AECE6C7A39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50126-8DAB-4978-8280-28C53942CB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.1.2 Példák nagy hálózatokr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557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BONE -- 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</a:t>
            </a:r>
            <a:r>
              <a:rPr b="0" lang="hu-HU" sz="2400" spc="-1" strike="noStrike" u="sng">
                <a:solidFill>
                  <a:srgbClr val="ff0033"/>
                </a:solidFill>
                <a:uFillTx/>
                <a:latin typeface="Arial Narrow"/>
                <a:hlinkClick r:id="rId3"/>
              </a:rPr>
              <a:t>www.niif.hu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403280" y="2181240"/>
            <a:ext cx="6337440" cy="421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5D5-8F22-44DD-81CF-0DC5D33169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807F5-AFDD-4FCB-93CB-F652AA8DDB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ahoma"/>
              </a:rPr>
              <a:t>1.1.3 Példák nagy hálózatokra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GEANT: Gigabit European Academic Networking Technology -- </a:t>
            </a:r>
            <a:r>
              <a:rPr b="0" lang="hu-HU" sz="3200" spc="-1" strike="noStrike" u="sng">
                <a:solidFill>
                  <a:srgbClr val="ff0033"/>
                </a:solidFill>
                <a:uFillTx/>
                <a:latin typeface="Arial Narrow"/>
                <a:hlinkClick r:id="rId2"/>
              </a:rPr>
              <a:t>http://www.geant.net/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556000" y="2487600"/>
            <a:ext cx="4103640" cy="392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018-9072-4CE1-9844-590FE0335D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84D68-2D29-483A-8BD6-7F3AC9BFA7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-681120"/>
            <a:ext cx="8353440" cy="798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TK - IÁTT - Rendszertechnika  - Számítógép-hálózat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8A0-3B0C-4DAC-8AA6-A0F990B40CB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07298-908B-48A4-BBD4-5876643D72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herkovich Péter</cp:lastModifiedBy>
  <dcterms:modified xsi:type="dcterms:W3CDTF">2006-02-06T20:03:30Z</dcterms:modified>
  <cp:revision>16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