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3494-259E-4447-A36E-0B6EE31314A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tt nem a protokollokról beszélünk, hanem a hivatkozási modellrő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OSI a legkülönbözőbb okkok miatt nem lett sikeres szabvá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időzítés (elkéste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technológia (pl. üres megjelenítési réteg, nem használt viszonyréteg, bonyolult, rosszul implementálhat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üzletpolitik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OSI a legkülönbözőbb okkok miatt nem lett sikeres szabvá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időzítés (elkéste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technológia (pl. üres megjelenítési réteg, nem használt viszonyréteg, bonyolult, rosszul implementálhat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rossz üzletpolitik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rétegeek tervezése: jól definiált, elkülönülő feladattal rendelkez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interfész tervezési szempontja, hogy minél egyszerűbb, világosabb leg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jó interfész lehetővé teszi a rétegek lecserélésé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AP: a szolgálat elérésének helye; pl fali csatlakozó, vagy két réteg közötti hívás; jellemzően cím azonosítja (pl. telefonszám, ip cí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+1. réteg: a telefonál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-ik réteg: a telef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zolgálat: elemi műveletek (primitívek) halmaza, amelyet az alsó réteg a felsőnek szolgál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rotokoll: szabályok halmaza, amely a társentitások közötti üzenetekre vonatkoz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Programozási hasonlatt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zolgálat olyan mint egy absztrakt adattípus, egy objektum az objektumorientált nyelvek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protokoll az objektum metódusainak implementációja – láthatatlan a szolgálatot igénybevevő szám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3B9-15C7-4131-81D1-D8C561C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E9E-68C0-4B9C-930E-EF8861F3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FF2-3F7B-47D3-ACA2-FD874EB7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801-0BC2-452F-B2B1-FA6AAF7D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393B-F5B2-4FFA-B338-A65D769F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FB7-C8F0-4A56-991C-57A2C21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233F-74A1-43FE-971C-4A426D43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C3A6-A842-4604-80E3-BA684859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5028-468B-46FF-89C2-A68DBB7D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3E21-4D33-4568-A653-108ECF6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7F7-AB08-4F06-B2EC-DDC8603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7C5-308C-45BE-858F-76B5973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2085-7AAA-4083-9953-8442883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6FC4-9C51-4C9C-B3E0-4847391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75B-9FC9-480C-9815-934C5B4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6D6-3A23-4FB0-B9E9-7CFBE55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958-9EBB-463E-AF90-BFB7692B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3A5-ECC1-4079-BD49-D8B12D3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18E-11BD-42D9-9DF0-C6C54E1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9A6-AD41-4313-99C3-7C3DCAC1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266-6548-46E9-AC78-EAC42EFF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008-DBD0-4157-B7B7-E7F240C7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399-D6E1-474C-A43C-2F3A749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053-EC1E-45AA-8938-02D35FF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A03-AD95-4BEC-BD76-30261FF79483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7D90-78B9-40BA-BA7B-8AA7EE01B7D1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24A5-CBC6-4F10-AA4E-BE6C16F9227E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274-9827-4120-B990-D914EB11537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OSI_mode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480"/>
            <a:ext cx="6799320" cy="22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4. Rétegzett hálózati kommunikáció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4.7.2 Adatkapcsolati réteg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Átviteli hibáktól mentes átvit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etek átvitele, kerethatárok felismeré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empont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ibakezelés (a keret újraküldése, kettőződés kivédés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uplexitás kezelé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rgalomszabályozás (torlódások elle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yugtakeretek torlód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ozzáférés osztott csatornához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3E4-D5EB-41EE-809D-D1E7518229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EDEE9-3823-4C34-9A01-8EA259B84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4.7.3 Hálózati réteg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Útvonal biztosítása a forrástól a céli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Globális címz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omóponti torlódások keze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675-C22F-47D5-9EF8-ADA96B6494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6F3BB-9FAB-4F96-8C6D-ECCA2FAC8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7.4 Szállítási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viszonyrétegtől származó adatok feldarabol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orrendhelyes (hibamentes) továbbít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rgalomszabályozás (flow contro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empont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atékony legye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Összeköttetésesség (vagy nem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őség: Hibamentes vagy alacsony késleltet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öbbszörös, azonosított összeköttetések lehetősé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1F4-936C-4610-B640-B929A03487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59B39-ADB8-4B54-A15B-5AC7204623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7.5 Viszony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használók közötti viszony (session) keze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például bejelentkezés egy alkalmazásb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apcsolatmanagement, szinkronizálá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például megszakadt letöltés folytatás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C9F-3002-4C3F-A45F-71A2D35FFD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3C885-F2FB-45A3-A8DE-E4EE4FDE8D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7.6 Megjelenítési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információk szintaktikájával, szemantikájával kapcsolatos általános feladat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egionalizáci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arakterek kódol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SCII – ISO – UniCo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D0E-E12E-41E9-8639-E47B0FAE4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0E169-3139-4C4A-9010-0D24A3D94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7.7 Alkalmazási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ladat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felhasználó kiszolgál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C18-A826-4109-BF64-8F7D4C8427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F3C0F-3DB8-4799-821D-A31FBD4009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4.8 A tcp/ip modell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Előzménye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DoD, ARPANET (1969-tő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Igénye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batűrő, redundáns hálózat lehetősé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lexibilis hálózat, alkalmazások széles kö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ülönféle hálózatok összekapcsolás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515-878D-4BD0-B97A-0CD5817D08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926E0-9527-4693-978F-28400CBE47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8.1 internet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mentes csomagkapcsolt hálóz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nternet protokoll (ip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OSI modell hálózati rétegének felel me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z alatt az internet modell nem definiál alsóbb rétegeket, csak annyit vár el, hogy ip csomagok továbbítására alkalmas legy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6D0-BAE6-4D25-8BA5-9FCCE36C68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3BA65-76E6-4C33-B766-0665240F1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8.2 szállítási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ét szállítási protoko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tvitelvezérlő protokoll (tc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ibamentes bytefolyam, kapcsolatt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használói datagram protokoll (ud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em megbízható, összeköttetésmentes protoko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pl. beszédátvitelhez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902-A37E-4402-B5FE-BB61D73036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D56C1-D3AB-4941-8E83-2A3910FB65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8.3 alkalmazási rét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iszonyréteg és megjelenítési réteg hiányzi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kalmazás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elnet, ftp, smt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ns, nntp, htt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C3F-21D4-45CB-A436-664733964A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6A5D4-12E1-48AD-B08A-DC05EA9049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1 </a:t>
            </a:r>
            <a:r>
              <a:rPr b="0" lang="de-DE" sz="4400" spc="-1" strike="noStrike">
                <a:solidFill>
                  <a:srgbClr val="ffcc66"/>
                </a:solidFill>
                <a:latin typeface="Tahoma"/>
              </a:rPr>
              <a:t>Rendszerek hierarchiája</a:t>
            </a: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ok tervez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orábban a hardver szempontjai határozták me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a már ez nem járható ú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étegekbe (layer) szervez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rétegek független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hosztok azonos rétegei egymással kommunikálna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kommunikáció nyelve a protoko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8CC-6D0F-4B40-90DA-C6C1BA4A64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F169A-821B-4282-A36F-B7D0B4B592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cc66"/>
                </a:solidFill>
                <a:latin typeface="Tahoma"/>
              </a:rPr>
              <a:t>4.9 Az OSI és a tcp/ip </a:t>
            </a:r>
            <a:r>
              <a:rPr b="0" i="1" lang="hu-HU" sz="3000" spc="-1" strike="noStrike">
                <a:solidFill>
                  <a:srgbClr val="ffcc66"/>
                </a:solidFill>
                <a:latin typeface="Tahoma"/>
              </a:rPr>
              <a:t>modell </a:t>
            </a:r>
            <a:r>
              <a:rPr b="0" lang="hu-HU" sz="3000" spc="-1" strike="noStrike">
                <a:solidFill>
                  <a:srgbClr val="ffcc66"/>
                </a:solidFill>
                <a:latin typeface="Tahoma"/>
              </a:rPr>
              <a:t>összehasonlítása</a:t>
            </a:r>
            <a:endParaRPr b="0" lang="en-US" sz="3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1280" y="1981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étegek száma, szerep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örténe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SI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odell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protokollo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cp/ip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rotokollok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model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fog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SI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olgálat/interfész/protokoll szétválasztás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-3994" t="0" r="51838" b="-6366"/>
          <a:stretch/>
        </p:blipFill>
        <p:spPr>
          <a:xfrm>
            <a:off x="4657680" y="1981080"/>
            <a:ext cx="3473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9C-0747-43CD-8704-2C8968BB3E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79C95-D048-4CE0-B32A-50E451F7D2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9.1 Az modellek bírálat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OSI modell kudarc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ssz időzít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ssz technológ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ssz implementáció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ossz üzletpoliti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A modell elemzésre alkalmas,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de a protokolljai nem terjedte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e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tcp/ip modell hibá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i="1" lang="hu-HU" sz="1800" spc="-1" strike="noStrike">
                <a:solidFill>
                  <a:srgbClr val="ffffff"/>
                </a:solidFill>
                <a:latin typeface="Arial Narrow"/>
              </a:rPr>
              <a:t>szolgálat, interfész, protokoll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fogalmak összemosódna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Nem általános, csak a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tcp/ip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protokollcsaládra érvény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ost-network réteg helyett csak interfés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A modell csapnivaló, d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protokolljai teljesen elterjedte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F79-618A-4209-A61C-4B86619E4215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CAD6-E8FB-4341-8F84-1D7CB2A336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10 Hibrid mode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OSI modellből megtart, amit érde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jelenleg létező hálózatok és protokollok leírására alkalm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27200" y="1981080"/>
            <a:ext cx="3573360" cy="42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8E2-2AC2-4DDC-BE6F-975F9AA383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2C9E2-378C-4A30-AF39-BDEBB97B10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11 Összefogla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étegzett komminukáci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SI modell – tcp/ip mode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olgálat – interfész – protokoll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en.wikipedia.org/wiki/OSI_mod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B84-EFDB-4BC8-8AC0-8268A5E5B2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5F833-7F49-4551-B31E-D62E02211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egközeleb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izikai réteg (folytatá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omagkapcsolás/vonalkapcs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ONET/SD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SD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kapcsolati réte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053-82EF-4009-ACEC-84D89A2337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6ABF9-EB1F-4FD2-B923-E62751EFEA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2 Fogalma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439416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éteg (lay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fész (interfac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unkcionális elem (ent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olgáltató (service provid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használó (service us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ársentitás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irtuális kommunikáció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rotoko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-9097" t="-5044" r="-12305" b="-5161"/>
          <a:stretch/>
        </p:blipFill>
        <p:spPr>
          <a:xfrm>
            <a:off x="5148360" y="1773360"/>
            <a:ext cx="287964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B1B-2FFF-4626-9A40-7DD4659913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6DE49-1575-4B2D-934A-F2B89208C8DE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4.3 Rétegzett hálózati kommunikáció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álózati architektúr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Rétegek és protokollok halmaz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rotokoll stack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gymásra épülő protokollhalmaz egy rendszerb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éldá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rpane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NFSNET (tcp/ip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Novell Netwar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X.25 (CCITT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Frame relay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-4094" t="-5392" r="-4271" b="-6596"/>
          <a:stretch/>
        </p:blipFill>
        <p:spPr>
          <a:xfrm>
            <a:off x="5003640" y="2133720"/>
            <a:ext cx="309744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43E-0C76-4EE3-AB7E-0AC26E6F0D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C6A44-3851-4D6F-9BB8-7A1BF90216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-71277" t="-6824" r="-71551" b="-5161"/>
          <a:stretch/>
        </p:blipFill>
        <p:spPr>
          <a:xfrm>
            <a:off x="1692360" y="1700280"/>
            <a:ext cx="5759280" cy="4608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4.4 Virtuális és valódi kommunikációs út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2352600"/>
            <a:ext cx="43164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84360" y="3071880"/>
            <a:ext cx="647640" cy="159840"/>
            <a:chOff x="2484360" y="3071880"/>
            <a:chExt cx="647640" cy="159840"/>
          </a:xfrm>
        </p:grpSpPr>
        <p:sp>
          <p:nvSpPr>
            <p:cNvPr id="103" name=""/>
            <p:cNvSpPr/>
            <p:nvPr/>
          </p:nvSpPr>
          <p:spPr>
            <a:xfrm>
              <a:off x="2484360" y="3071880"/>
              <a:ext cx="216000" cy="15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0360" y="3071880"/>
              <a:ext cx="431640" cy="15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484360" y="3648240"/>
            <a:ext cx="647640" cy="159840"/>
            <a:chOff x="2484360" y="3648240"/>
            <a:chExt cx="647640" cy="159840"/>
          </a:xfrm>
        </p:grpSpPr>
        <p:sp>
          <p:nvSpPr>
            <p:cNvPr id="106" name=""/>
            <p:cNvSpPr/>
            <p:nvPr/>
          </p:nvSpPr>
          <p:spPr>
            <a:xfrm>
              <a:off x="2484360" y="3648240"/>
              <a:ext cx="2160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00360" y="3648240"/>
              <a:ext cx="431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43280" y="3573360"/>
            <a:ext cx="0" cy="2872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648240"/>
            <a:ext cx="35892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3648240"/>
            <a:ext cx="28872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71640" y="3780000"/>
            <a:ext cx="505080" cy="160560"/>
            <a:chOff x="2771640" y="3780000"/>
            <a:chExt cx="505080" cy="160560"/>
          </a:xfrm>
        </p:grpSpPr>
        <p:sp>
          <p:nvSpPr>
            <p:cNvPr id="112" name=""/>
            <p:cNvSpPr/>
            <p:nvPr/>
          </p:nvSpPr>
          <p:spPr>
            <a:xfrm>
              <a:off x="2987640" y="3780000"/>
              <a:ext cx="2890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3780720"/>
              <a:ext cx="2160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16000" y="3779280"/>
            <a:ext cx="574920" cy="160560"/>
            <a:chOff x="2016000" y="3779280"/>
            <a:chExt cx="574920" cy="160560"/>
          </a:xfrm>
        </p:grpSpPr>
        <p:sp>
          <p:nvSpPr>
            <p:cNvPr id="115" name=""/>
            <p:cNvSpPr/>
            <p:nvPr/>
          </p:nvSpPr>
          <p:spPr>
            <a:xfrm>
              <a:off x="2232000" y="3780000"/>
              <a:ext cx="3589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16000" y="3779280"/>
              <a:ext cx="2160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71640" y="4487760"/>
            <a:ext cx="936360" cy="160560"/>
            <a:chOff x="2771640" y="4487760"/>
            <a:chExt cx="936360" cy="160560"/>
          </a:xfrm>
        </p:grpSpPr>
        <p:sp>
          <p:nvSpPr>
            <p:cNvPr id="118" name=""/>
            <p:cNvSpPr/>
            <p:nvPr/>
          </p:nvSpPr>
          <p:spPr>
            <a:xfrm>
              <a:off x="3203280" y="4487760"/>
              <a:ext cx="2890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7280" y="4488480"/>
              <a:ext cx="2160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71640" y="448848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2360" y="448848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T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727280" y="4488840"/>
            <a:ext cx="1004400" cy="161280"/>
            <a:chOff x="1727280" y="4488840"/>
            <a:chExt cx="1004400" cy="161280"/>
          </a:xfrm>
        </p:grpSpPr>
        <p:sp>
          <p:nvSpPr>
            <p:cNvPr id="123" name=""/>
            <p:cNvSpPr/>
            <p:nvPr/>
          </p:nvSpPr>
          <p:spPr>
            <a:xfrm>
              <a:off x="2158920" y="4489560"/>
              <a:ext cx="3582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42920" y="448884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7280" y="449028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6040" y="448884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T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2360" y="5589720"/>
            <a:ext cx="1003320" cy="179280"/>
            <a:chOff x="4032360" y="5589720"/>
            <a:chExt cx="1003320" cy="179280"/>
          </a:xfrm>
        </p:grpSpPr>
        <p:grpSp>
          <p:nvGrpSpPr>
            <p:cNvPr id="128" name=""/>
            <p:cNvGrpSpPr/>
            <p:nvPr/>
          </p:nvGrpSpPr>
          <p:grpSpPr>
            <a:xfrm>
              <a:off x="4032360" y="5589720"/>
              <a:ext cx="71280" cy="179280"/>
              <a:chOff x="4032360" y="5589720"/>
              <a:chExt cx="71280" cy="179280"/>
            </a:xfrm>
          </p:grpSpPr>
          <p:sp>
            <p:nvSpPr>
              <p:cNvPr id="129" name=""/>
              <p:cNvSpPr/>
              <p:nvPr/>
            </p:nvSpPr>
            <p:spPr>
              <a:xfrm>
                <a:off x="4032360" y="5769000"/>
                <a:ext cx="36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06872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68720" y="5589720"/>
                <a:ext cx="3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10364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392720" y="5589720"/>
              <a:ext cx="142920" cy="179280"/>
              <a:chOff x="4392720" y="5589720"/>
              <a:chExt cx="142920" cy="179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392720" y="57690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46400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64000" y="5589720"/>
                <a:ext cx="71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53564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103640" y="5589720"/>
              <a:ext cx="71640" cy="179280"/>
              <a:chOff x="4103640" y="5589720"/>
              <a:chExt cx="71640" cy="179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103640" y="5769000"/>
                <a:ext cx="36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14036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40360" y="5589720"/>
                <a:ext cx="34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17528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535640" y="5589720"/>
              <a:ext cx="71280" cy="179280"/>
              <a:chOff x="4535640" y="5589720"/>
              <a:chExt cx="71280" cy="179280"/>
            </a:xfrm>
          </p:grpSpPr>
          <p:sp>
            <p:nvSpPr>
              <p:cNvPr id="144" name=""/>
              <p:cNvSpPr/>
              <p:nvPr/>
            </p:nvSpPr>
            <p:spPr>
              <a:xfrm>
                <a:off x="4535640" y="5769000"/>
                <a:ext cx="36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57200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72000" y="5589720"/>
                <a:ext cx="3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60692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175280" y="5589720"/>
              <a:ext cx="142560" cy="179280"/>
              <a:chOff x="4175280" y="5589720"/>
              <a:chExt cx="142560" cy="179280"/>
            </a:xfrm>
          </p:grpSpPr>
          <p:sp>
            <p:nvSpPr>
              <p:cNvPr id="149" name=""/>
              <p:cNvSpPr/>
              <p:nvPr/>
            </p:nvSpPr>
            <p:spPr>
              <a:xfrm>
                <a:off x="4175280" y="5769000"/>
                <a:ext cx="70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24620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6200" y="558972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31784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317840" y="5589720"/>
              <a:ext cx="71640" cy="179280"/>
              <a:chOff x="4317840" y="5589720"/>
              <a:chExt cx="71640" cy="179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317840" y="5769000"/>
                <a:ext cx="36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35456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54560" y="5589720"/>
                <a:ext cx="34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38948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06920" y="5589720"/>
              <a:ext cx="142920" cy="179280"/>
              <a:chOff x="4606920" y="5589720"/>
              <a:chExt cx="142920" cy="179280"/>
            </a:xfrm>
          </p:grpSpPr>
          <p:sp>
            <p:nvSpPr>
              <p:cNvPr id="159" name=""/>
              <p:cNvSpPr/>
              <p:nvPr/>
            </p:nvSpPr>
            <p:spPr>
              <a:xfrm>
                <a:off x="4606920" y="57690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467820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78200" y="5589720"/>
                <a:ext cx="71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474984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749840" y="5589720"/>
              <a:ext cx="142920" cy="179280"/>
              <a:chOff x="4749840" y="5589720"/>
              <a:chExt cx="142920" cy="17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4749840" y="5769000"/>
                <a:ext cx="71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82112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21120" y="5589720"/>
                <a:ext cx="71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89276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892760" y="5589720"/>
              <a:ext cx="71280" cy="179280"/>
              <a:chOff x="4892760" y="5589720"/>
              <a:chExt cx="71280" cy="179280"/>
            </a:xfrm>
          </p:grpSpPr>
          <p:sp>
            <p:nvSpPr>
              <p:cNvPr id="169" name=""/>
              <p:cNvSpPr/>
              <p:nvPr/>
            </p:nvSpPr>
            <p:spPr>
              <a:xfrm>
                <a:off x="4892760" y="5769000"/>
                <a:ext cx="36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492912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29120" y="5589720"/>
                <a:ext cx="3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96404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964040" y="5589720"/>
              <a:ext cx="71640" cy="179280"/>
              <a:chOff x="4964040" y="5589720"/>
              <a:chExt cx="71640" cy="17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4964040" y="5769000"/>
                <a:ext cx="36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500076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00760" y="5589720"/>
                <a:ext cx="34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035680" y="5589720"/>
                <a:ext cx="0" cy="179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6227640" y="4490280"/>
            <a:ext cx="574920" cy="160560"/>
            <a:chOff x="6227640" y="4490280"/>
            <a:chExt cx="574920" cy="160560"/>
          </a:xfrm>
        </p:grpSpPr>
        <p:sp>
          <p:nvSpPr>
            <p:cNvPr id="179" name=""/>
            <p:cNvSpPr/>
            <p:nvPr/>
          </p:nvSpPr>
          <p:spPr>
            <a:xfrm>
              <a:off x="6443640" y="4491000"/>
              <a:ext cx="3589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7640" y="4490280"/>
              <a:ext cx="21600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119640" y="3770280"/>
            <a:ext cx="35892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64360" y="3611520"/>
            <a:ext cx="21420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H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8560" y="3613320"/>
            <a:ext cx="50184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624720" y="4407840"/>
            <a:ext cx="574200" cy="160560"/>
            <a:chOff x="6624720" y="4407840"/>
            <a:chExt cx="574200" cy="160560"/>
          </a:xfrm>
        </p:grpSpPr>
        <p:sp>
          <p:nvSpPr>
            <p:cNvPr id="185" name=""/>
            <p:cNvSpPr/>
            <p:nvPr/>
          </p:nvSpPr>
          <p:spPr>
            <a:xfrm>
              <a:off x="6840360" y="4408560"/>
              <a:ext cx="35856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M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4720" y="4407840"/>
              <a:ext cx="21564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ff0033"/>
                  </a:solidFill>
                  <a:latin typeface="Arial Narrow"/>
                </a:rPr>
                <a:t>H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661080" y="3781440"/>
            <a:ext cx="358920" cy="1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" bIns="3600" anchor="ctr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33"/>
                </a:solidFill>
                <a:latin typeface="Arial Narrow"/>
              </a:rPr>
              <a:t>M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2BC-FF48-4109-9AA3-926C27B815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8CA97-4098-4C70-8C90-D3C8406E9B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-3.61111E-006 0.10347 E">
                                      <p:cBhvr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39 L 1.94444E-006 0.08102 E">
                                      <p:cBhvr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8148E-006 L 0.01579 0.01944 E">
                                      <p:cBhvr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0276 0.01944 E">
                                      <p:cBhvr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-5.55556E-007 0.1051 E">
                                      <p:cBhvr>
                                        <p:cTn id="7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02361 0.10509 E">
                                      <p:cBhvr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7 L 0.09062 0.1 E">
                                      <p:cBhvr>
                                        <p:cTn id="9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1 L 0.46892 0.1 E">
                                      <p:cBhvr>
                                        <p:cTn id="9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92 0.1 L 0.46892 -0.00347 E">
                                      <p:cBhvr>
                                        <p:cTn id="10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37 L -0.03507 -0.10718 E">
                                      <p:cBhvr>
                                        <p:cTn id="11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14815E-006 L 0.03542 0.09815 E">
                                      <p:cBhvr>
                                        <p:cTn id="12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9815 L 0.35833 0.1 E">
                                      <p:cBhvr>
                                        <p:cTn id="13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0.1 L 0.40174 -0.01551 E">
                                      <p:cBhvr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-0.00782 -0.08935 E">
                                      <p:cBhvr>
                                        <p:cTn id="14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208 L -0.00834 -0.02199 E">
                                      <p:cBhvr>
                                        <p:cTn id="15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-0.02245 E">
                                      <p:cBhvr>
                                        <p:cTn id="15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-0.08079 E">
                                      <p:cBhvr>
                                        <p:cTn id="17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-0.08079 E">
                                      <p:cBhvr>
                                        <p:cTn id="17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8079 L -0.03143 -0.18426 E">
                                      <p:cBhvr>
                                        <p:cTn id="18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4.5 Interfészek és szolgáltatás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nti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olgáltató (service provid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lhasználó (service us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olgálatelérési pont (SAP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ím (Telefonszám, levélcím…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fész adategység (IDU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3F2-CBF9-4D10-863E-11D23E7B91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86D2-8A27-439A-A1DB-24EE31E087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4.6 Szolgálati primitív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ONNECT.reque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ONNECT.ind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ONNECT.respon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ONNECT.confir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ATA.reque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ATA.ind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ATA.reque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ATA.ind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ISCONNECT.reque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DISCONNECT.ind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2141640"/>
            <a:ext cx="858960" cy="92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4883040"/>
            <a:ext cx="787320" cy="903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0" y="3062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34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292720" y="3062160"/>
            <a:ext cx="717480" cy="720720"/>
            <a:chOff x="5292720" y="3062160"/>
            <a:chExt cx="717480" cy="720720"/>
          </a:xfrm>
        </p:grpSpPr>
        <p:sp>
          <p:nvSpPr>
            <p:cNvPr id="197" name=""/>
            <p:cNvSpPr/>
            <p:nvPr/>
          </p:nvSpPr>
          <p:spPr>
            <a:xfrm>
              <a:off x="5651640" y="306216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92720" y="306216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2720" y="34225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1640" y="34225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14880" y="3062160"/>
            <a:ext cx="717480" cy="720720"/>
            <a:chOff x="6014880" y="3062160"/>
            <a:chExt cx="717480" cy="720720"/>
          </a:xfrm>
        </p:grpSpPr>
        <p:sp>
          <p:nvSpPr>
            <p:cNvPr id="202" name=""/>
            <p:cNvSpPr/>
            <p:nvPr/>
          </p:nvSpPr>
          <p:spPr>
            <a:xfrm>
              <a:off x="6373800" y="306216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4880" y="306216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14880" y="34225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3800" y="34225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32720" y="3062160"/>
            <a:ext cx="717480" cy="720720"/>
            <a:chOff x="6732720" y="3062160"/>
            <a:chExt cx="717480" cy="720720"/>
          </a:xfrm>
        </p:grpSpPr>
        <p:sp>
          <p:nvSpPr>
            <p:cNvPr id="207" name=""/>
            <p:cNvSpPr/>
            <p:nvPr/>
          </p:nvSpPr>
          <p:spPr>
            <a:xfrm>
              <a:off x="7091640" y="306216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2720" y="306216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32720" y="34225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91640" y="34225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450200" y="3062160"/>
            <a:ext cx="717480" cy="720720"/>
            <a:chOff x="7450200" y="3062160"/>
            <a:chExt cx="717480" cy="720720"/>
          </a:xfrm>
        </p:grpSpPr>
        <p:sp>
          <p:nvSpPr>
            <p:cNvPr id="212" name=""/>
            <p:cNvSpPr/>
            <p:nvPr/>
          </p:nvSpPr>
          <p:spPr>
            <a:xfrm>
              <a:off x="7809120" y="306216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50200" y="306216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0200" y="34225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9120" y="34225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67680" y="3062160"/>
            <a:ext cx="717480" cy="720720"/>
            <a:chOff x="8167680" y="3062160"/>
            <a:chExt cx="717480" cy="720720"/>
          </a:xfrm>
        </p:grpSpPr>
        <p:sp>
          <p:nvSpPr>
            <p:cNvPr id="217" name=""/>
            <p:cNvSpPr/>
            <p:nvPr/>
          </p:nvSpPr>
          <p:spPr>
            <a:xfrm>
              <a:off x="8526600" y="306216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67680" y="306216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67680" y="34225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26600" y="34225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572000" y="37958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Idő 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89480" y="378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48400" y="379584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0200" y="37958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73800" y="379584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29480" y="379584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1280" y="37958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50200" y="379584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08760" y="37958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64440" y="37958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9640" y="379584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n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51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292720" y="4149720"/>
            <a:ext cx="717480" cy="720720"/>
            <a:chOff x="5292720" y="4149720"/>
            <a:chExt cx="717480" cy="720720"/>
          </a:xfrm>
        </p:grpSpPr>
        <p:sp>
          <p:nvSpPr>
            <p:cNvPr id="235" name=""/>
            <p:cNvSpPr/>
            <p:nvPr/>
          </p:nvSpPr>
          <p:spPr>
            <a:xfrm>
              <a:off x="5651640" y="41497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92720" y="41497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92720" y="451008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51640" y="451008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14880" y="4149720"/>
            <a:ext cx="717480" cy="720720"/>
            <a:chOff x="6014880" y="4149720"/>
            <a:chExt cx="717480" cy="720720"/>
          </a:xfrm>
        </p:grpSpPr>
        <p:sp>
          <p:nvSpPr>
            <p:cNvPr id="240" name=""/>
            <p:cNvSpPr/>
            <p:nvPr/>
          </p:nvSpPr>
          <p:spPr>
            <a:xfrm>
              <a:off x="6373800" y="41497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4880" y="41497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4880" y="451008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3800" y="451008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732720" y="4149720"/>
            <a:ext cx="717480" cy="720720"/>
            <a:chOff x="6732720" y="4149720"/>
            <a:chExt cx="717480" cy="720720"/>
          </a:xfrm>
        </p:grpSpPr>
        <p:sp>
          <p:nvSpPr>
            <p:cNvPr id="245" name=""/>
            <p:cNvSpPr/>
            <p:nvPr/>
          </p:nvSpPr>
          <p:spPr>
            <a:xfrm>
              <a:off x="7091640" y="41497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2720" y="41497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32720" y="451008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1640" y="451008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450200" y="4149720"/>
            <a:ext cx="717480" cy="720720"/>
            <a:chOff x="7450200" y="4149720"/>
            <a:chExt cx="717480" cy="720720"/>
          </a:xfrm>
        </p:grpSpPr>
        <p:sp>
          <p:nvSpPr>
            <p:cNvPr id="250" name=""/>
            <p:cNvSpPr/>
            <p:nvPr/>
          </p:nvSpPr>
          <p:spPr>
            <a:xfrm>
              <a:off x="7809120" y="41497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50200" y="41497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0200" y="451008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09120" y="451008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167680" y="4149720"/>
            <a:ext cx="717480" cy="720720"/>
            <a:chOff x="8167680" y="4149720"/>
            <a:chExt cx="717480" cy="720720"/>
          </a:xfrm>
        </p:grpSpPr>
        <p:sp>
          <p:nvSpPr>
            <p:cNvPr id="255" name=""/>
            <p:cNvSpPr/>
            <p:nvPr/>
          </p:nvSpPr>
          <p:spPr>
            <a:xfrm>
              <a:off x="8526600" y="414972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67680" y="414972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67680" y="4510080"/>
              <a:ext cx="3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26600" y="4510080"/>
              <a:ext cx="3585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89480" y="3249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35600" y="3249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0920" y="3249720"/>
            <a:ext cx="358560" cy="395280"/>
          </a:xfrm>
          <a:prstGeom prst="downArrow">
            <a:avLst>
              <a:gd name="adj1" fmla="val 50000"/>
              <a:gd name="adj2" fmla="val 2756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4880" y="4311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648400" y="4311720"/>
            <a:ext cx="358560" cy="395280"/>
          </a:xfrm>
          <a:prstGeom prst="downArrow">
            <a:avLst>
              <a:gd name="adj1" fmla="val 50000"/>
              <a:gd name="adj2" fmla="val 2756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70560" y="3249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091280" y="4311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50200" y="4311720"/>
            <a:ext cx="358560" cy="395280"/>
          </a:xfrm>
          <a:prstGeom prst="downArrow">
            <a:avLst>
              <a:gd name="adj1" fmla="val 50000"/>
              <a:gd name="adj2" fmla="val 2756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805880" y="3249720"/>
            <a:ext cx="358560" cy="395280"/>
          </a:xfrm>
          <a:prstGeom prst="downArrow">
            <a:avLst>
              <a:gd name="adj1" fmla="val 50000"/>
              <a:gd name="adj2" fmla="val 2756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8529480" y="4311720"/>
            <a:ext cx="358920" cy="395280"/>
          </a:xfrm>
          <a:prstGeom prst="downArrow">
            <a:avLst>
              <a:gd name="adj1" fmla="val 50000"/>
              <a:gd name="adj2" fmla="val 27533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741-C828-4958-86A9-3C72283CAE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A17E8-2906-4C57-B664-CADC71E9B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4.7 Az ISO - OSI modell.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-3744" t="-3578" r="-2071" b="-3738"/>
          <a:stretch/>
        </p:blipFill>
        <p:spPr>
          <a:xfrm>
            <a:off x="682560" y="2025720"/>
            <a:ext cx="3810240" cy="40240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pen Systems Interconne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ét réte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Fizika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datkapcsolat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álózat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állítás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iszon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egjelenítés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lkalmazás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em hálózati architektúra, csak hivatkozási mod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ACE-9851-4108-AE6C-10F0A91B79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33941-FEDA-461E-938A-93795C73E2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4.7.1 Fizikai réteg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ladata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tek továbbítása a csatorná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zempon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echanikai, elektromos jellemzők,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özeg tulajdonságai,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dőzítések, modulációk, bit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01C-ABFA-43FA-A8D4-BBCCDD9238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B102F-C757-40DE-B417-BD1BC8045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9-25T19:42:26Z</dcterms:modified>
  <cp:revision>24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