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4FC-6D73-4F2A-A5A5-419DB4B4B42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-1-ed fokú polin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 még mindig csak az egyik irányba továbbít ada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Lépjünk tová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ámolási példa. Legyen egy üzenet 10 keret hosszúságú, és legyen a keretek megsérülésének valószínűsége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ekkora p érték fölött gazdaságos keretenként nyugtáz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 = 10*(1+(1/((1/p)-1)))*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q = 1-(1-p)^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 = 11(1+(1/((1/q)-1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(a megoldás egyébként kb. p = 0,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300-7939-4ECD-9E0F-DBB34E7B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567-3B02-4672-98F6-C4D5A4F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BDD-CF15-44B2-A1A5-576C3606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5E1-75E7-46E6-B321-137C3C47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1B7-A2A7-4678-A1C7-FAEA6BE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72EF-3DD8-4C64-A505-01FE0A05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BFFD-9BB5-42E5-890D-3CB5A13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C50-1F84-492E-BAAA-63C0C1DF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2982-F2C0-4A06-887A-ACFBB07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5433-CD6A-412C-81C1-6EEDE3D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2C69-28C4-47D3-A012-9017FBF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FD9-01B3-49F1-84FE-F77D07F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B60-E286-4E21-A718-94F5BB5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489-A891-4166-9D99-E2B1311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B911-FDE6-4611-9DD6-DAD7A6B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FAA-A282-498E-87CD-3B43F75D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7A2-F2AF-47BA-A9FE-863B4219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EC6-D593-44F7-A2CC-D05D47B4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B1A-F219-41CE-A5EF-C44D6848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A3B-4496-4348-8956-0C269035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EF0-EF09-4B76-9A7F-C55E14E4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930-FDC8-42D9-AEBE-1486C68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8E1-AD92-47FB-BAD9-D63CD95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484-7905-4366-9436-8025AF5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1DF-8833-4DCA-9293-058EC88294C6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2EE-7A7D-4B5F-922C-1454EFF4CC54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533-AE77-429B-A657-4E0545F4C936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A5D4-9518-43AE-8433-28A46A9CF7BC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rc.xl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ru.nl/~ths/a3/html/h3/h3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480"/>
            <a:ext cx="6799320" cy="22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6. Az adatkapcsolati réte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5.1. Hibajavító kódok (folyt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jelző vagy javító kód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=m+r bites kód: m=adat, r=ellenőrző bit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gy kódrendszer Hamming-távolság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n bites kódban előforduló legkisebb távolsá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jelz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 hibát d+1 távolságú kód jelez. Példa: paritásb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javí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 hibát 2d+1 távolságú kód javí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239-AB8D-406B-8EB6-E5C0DA2045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70DCE-9A92-4EA1-865F-6E44B7760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5.1 Hibajelző kód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javító kódok költésges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hibák rendszerint ritkák és izolálta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jelzés és újraküldés hatékonyab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C1F-F395-4AAB-A5F2-477A3DEC68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479CD-8D7A-4E19-B18C-D753CBE44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6.5.2 Ciklikus redundancia kód (CRC)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olinomikus kód, Polinomaritmetika (modulo 2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 bites keret egy k tagú polinom együttható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élda: 110001: 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+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+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Generátorpolinom G(x), r-fok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: M bites keret M(x) polin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él: a kész keret osztható legyen G(x)-sz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(x) = 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(x)  - (x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(x) mod G(x)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hiba jelezhető, amely a G(x)-nek nem többszörö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zabványos CRC polinom: 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 Narrow"/>
              </a:rPr>
              <a:t>16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+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 Narrow"/>
              </a:rPr>
              <a:t>12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+x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 Narrow"/>
              </a:rPr>
              <a:t>5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Felismer minden egybites és kétbites, minden páratlan számú bites hibát, minden 16 vagy rövidebb csoportos hibát, a 17 bites hibák 99.997 százalékát, és minden egyéb hiba 99,998 százalékát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fentiek csak véletlenszerű adatokra igaz statisztikák. A gyakorlatban az adatok nem véletlenszerűek, ezért a hibafelismerés rosszab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CRC megfelelő hardverrel egyszerűen képezhető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2276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2852640"/>
            <a:ext cx="19429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Pé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0033"/>
                </a:solidFill>
                <a:uFillTx/>
                <a:latin typeface="Courier New"/>
                <a:hlinkClick r:id="rId2"/>
              </a:rPr>
              <a:t>CRC.X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503-CD3B-44CA-A219-15CAC149A0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445F6-686F-4404-8E0A-4290BD11E9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6 Forgalomszabályoz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low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ituáció: a vevő lassabban tudja venni a kereteket, mint az adó adn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adatvesztés elkerülésére az adónak lassabban kell adni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isszacsatolási mechanizmu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1F4-AAD6-4836-ABC7-D5FF1DB54C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1B015-F70A-4B27-8C15-B6EE9DF6E3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6.7 Elemi adatkapcsolati protokoll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 nyelvű modelleket vizsgálu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struktúr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#define MAX_PKT 1024; 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/* egyszerűség kedvéért fix *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typedef enum {true, false} boolean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typedef unsigned int seq_nr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typedef struct {unsigned char data[MAX_PKT]; } packet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typedef enum { data, ack, nak} frame_kind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typedef struct {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frame_kind kind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seq_nr seq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seq_nr ack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packet info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} frame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#define inc(k) (k&lt;MAX_SEQ ? k++ : k=0)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12E-78B5-469E-AECE-222F34DBE0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FDC0-286C-49F3-A887-AE80AAA5F4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6.7 Elemi adatkapcsolati protokoll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fész a fizikai réteg felé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wait_for_event(event_type * event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from_physical_layer(frame *s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to_physical_layer(frame *s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fész a hálózati réteg felé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from_network_layer(packet *p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to_network_layer(packet *p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enable_network_layer(void);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disable_network_layer(void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éb eljárás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start_timer(seq_nr k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stop_timer(seq_nr k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start_ack_timer(void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void stop_ack_timer(void);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4F4-DB6F-4703-AE3F-56652AF122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29B5C-208E-4C6C-B980-0A0BA15D8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6.7.1. Korlátozás nélküli szimplex protokol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2560" y="1484280"/>
          <a:ext cx="3810240" cy="496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1484280"/>
                    <a:ext cx="38102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ak egyirányú átvit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ender1 fut az adóba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eceiver1 fut a vevőbe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ibamentes fizikai réte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égtelen gyors vev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dig adáskész kész hálózati réte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CB5-0BBF-4CBC-844B-2C82688B6E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DF4B4-BD6F-41B0-BDEF-9ADB08309B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6.7.2. Szimplex megáll-és-vár protokol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484280"/>
          <a:ext cx="4174920" cy="489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484280"/>
                    <a:ext cx="41749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32000" y="1699920"/>
            <a:ext cx="3522600" cy="4608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köté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vevő nem tud végtelen sebességgel feldolgozn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egoldá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vevő vétel után küld egy „ébresztő” keretet az adóna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fizikai réteg mindkét irányba szállít keretek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309-9A04-4679-8140-AF8CE56ED8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0C53A-9C3A-41FD-8CB9-DD8ECB86CA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6.7.3. Szimplex protokoll zajos csatornához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Újabb megköté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eret megsérülh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eret elveszhet, sőt, a nyugtakeret is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old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gybites sorszám (melyik keretet nyugtázzuk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dőzítő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RC ellenőrzés a vételbe beépítv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AR (positive acknowledgement with retransmission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26D-23A5-43D3-93F0-67B77FD682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C29B9-95BE-4FBD-8DB0-460FA3CD67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6.7.3. Szimplex protokoll zajos csatornához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557360"/>
          <a:ext cx="4008600" cy="4751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557360"/>
                    <a:ext cx="40086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0" y="1576440"/>
          <a:ext cx="4032360" cy="3436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576440"/>
                    <a:ext cx="403236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032-1970-4F0C-8832-AAB0C7DF7E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7B4F2-E028-4474-ADF9-3E54639DA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6.1. Az adatkapcsolati réteg szerepe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egbízható átvitel két </a:t>
            </a:r>
            <a:r>
              <a:rPr b="0" lang="hu-HU" sz="3200" spc="-1" strike="noStrike">
                <a:solidFill>
                  <a:srgbClr val="ffff00"/>
                </a:solidFill>
                <a:latin typeface="Arial Narrow"/>
              </a:rPr>
              <a:t>közvetlenül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összekötött állomás közöt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olgálati interfész a hálózati réteg fel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tek keretekbe foglalás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Átviteli hibák kezel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orgalomszabályozás (lokális elárasztás elle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özeghozzáférés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többszörös hozzáférésű közegné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0DC-EE18-43DC-9A55-16A7B45CB4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B173B-F8E7-4178-8101-265BDBC3A5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6.7.4. Csúszóablakos protokoll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947600"/>
            <a:ext cx="5905440" cy="4360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étirányú adatátvitel igény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 és nyugtakeretek vegyes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yugta ráültetés (piggybackin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ak egy algoritmus van mindkét oldalon (szimmetriku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eretsorszám: 0…2</a:t>
            </a:r>
            <a:r>
              <a:rPr b="0" lang="hu-HU" sz="2800" spc="-1" strike="noStrike" baseline="30000">
                <a:solidFill>
                  <a:srgbClr val="ffffff"/>
                </a:solidFill>
                <a:latin typeface="Arial Narrow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ási ablak: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leadott, nem nyugtázott kerete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áltozó méretű, max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 Narrow"/>
              </a:rPr>
              <a:t>n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ételi ablak: vehető keretek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5600" indent="-2714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ix méretű, általában 2</a:t>
            </a:r>
            <a:r>
              <a:rPr b="0" lang="hu-HU" sz="2400" spc="-1" strike="noStrike" baseline="30000">
                <a:solidFill>
                  <a:srgbClr val="ffffff"/>
                </a:solidFill>
                <a:latin typeface="Arial Narrow"/>
              </a:rPr>
              <a:t>(n-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300720" y="170028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300720" y="400536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170028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300720" y="4005360"/>
            <a:ext cx="189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6300720" y="1700280"/>
            <a:ext cx="189072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A78-E400-4207-BA9C-F88B413722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40048-8C9F-40AD-86EF-5076CF3AB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8. Protokollok modellezés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6.8.1 Véges állapotú automata-mode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rotokoll modellje (S, M, I, T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: Folyamatok és a csatorna állapotainak halmaz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: Csatornán továbbítható keretek halmaz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: Folyamatok kezdeti állapotainak halmaz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: Állapotok közötti átmenetek halmaz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Ábrázol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Állpotdiagram (gráf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F21-F5C8-4B01-81DE-4A00B50333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AC3F3-5C44-4A50-B225-D2AC9EB46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6.8.2 A 3. protokoll állapotdiagramja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llapotkód (XYZ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X = küldendő ker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Y = vevő által várt ker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Z = csatorna állapo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tmenet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0: csatorna elveszti tartalmá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1: csatorna helyesen továbbít egy 0-s keretet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7: adó időzítője lejár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59280" y="1647720"/>
            <a:ext cx="3600360" cy="3083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4800600"/>
            <a:ext cx="3809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izsgá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lérhetősé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oltpontmentessé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elyessé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E99-7219-4CDA-9355-20D5FA4D23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594DB-B4C8-4FD3-AC2E-ACA2989315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9 SDLC, HDLC, LAP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DLC (IBM)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HDLC (ISO)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LAPB (CCIT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talapú, bitbeszúrást alkalmaz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eretformátu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1111110 cím (8 bit) vez. (8 bit) adat crc 0111111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ím: terminál azonosító, parancs/válas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ezérlés: sorszám, nyugt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rc: CCITT 16 bites szabvány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Üres vonalakon a kerethatárjelző bitek mozogna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A71-2BFF-4C74-982F-B0648C3685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B0157-A74D-4AD7-8104-575C0E3BCE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10 PPP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nternet kapcsolathoz tervezté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apcsolt vonali modemhe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érelt vonalho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élessávú kapcsolat PoE (ppp over etherne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eretezés a HDLC-hez hasonló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arakteralapú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kapcsolat-vezérlő alréteg (LC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álózati vezérlő alréteg (NCP) – pl ip cím kér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694-A8CF-4834-97A6-CFB405F7A6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9E3F-F184-4B6C-8CD0-9E03F931B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11 ATM – TC al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j: 4 byte vá/vezérlés + 1 byte CR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rész nem védett, felsőbb rétegekre háru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ellafajtá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cel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Üresjárati cella (szinkron fizikai közegekhez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ezérlő (OAM) cel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-1920" t="-27363" r="-1920" b="-12239"/>
          <a:stretch/>
        </p:blipFill>
        <p:spPr>
          <a:xfrm>
            <a:off x="755640" y="1628640"/>
            <a:ext cx="784872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7848720" cy="464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268360" y="4581360"/>
            <a:ext cx="71928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52B-B272-4C4C-965E-32E28167A4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39D2C-6D2F-41BC-AACA-166331C2A6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92593E-006 L 0.21267 -0.15763 E">
                                      <p:cBhvr>
                                        <p:cTn id="6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11.1 ATM keretez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incs kerethatár-jelz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fizikai közeg vagy segít, vagy n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fej CRC segí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bemenő bitfolyam átcsorog egy 410 bites léptetőregiszteren, és hw számolja a CRC-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ellakezdet van, ha a CRC érvényes. Ha elegendő számú érvényes cella jön egymás után, a szinkron helyreáll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204-94DB-4F33-902F-933BD7C59B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5DBA4-FFA5-4E48-93CA-54D2B3B3E4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cs.ru.nl/~ths/a3/html/h3/h3.htm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41D-E6E7-4C3D-8515-ECB5C8ABEB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9998B-48DF-48E5-AE43-5866E33E16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6.2 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Hálózati rétegnek nyújtott szolgálatok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yugtázatlan összeköttetés nélküli szolgál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hibajavítás a felsőbb rétegekre tartozi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eszédátvitelnél megfelelő (késett keret rosszabb, mint az elveszet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yugtázott összeköttetés nélküli szolgál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bízhatatlan közegek esetén haszn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yugtázott összeköttetés alapú szolgál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legkifinomultabb szolgál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91C-9818-4C1A-A613-217819DE73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D2911-123E-4DA6-8B2C-945C29E21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3 Számolási feladat otthonr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egyen egy üzenet 10 keret hosszúságú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etenkénti nyugtáz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üzenetenkénti nyugtáz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együk fel, hogy el nem vész keret, csak megsérü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egyen a keretek megsérülésének valószínűsége p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együk fel, hogy a nyugtakeretek nem sérülnek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összes elküldött keret várható darabszámát kell minimalizálni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kkora p érték fölött érdemes keretenként nyugtázni?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02D-949E-4B66-89CA-8544A1006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7E76-4DA6-41A1-8F5A-C553A63688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4 Keretez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ogyan lehet a keretek elejét és végét jelölni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zdő és végkarakterek karakterbeszúráss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ezdet: DLE STX,  vég: DLE ETX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datban minden DLE-t duplázunk, amit vételkor törlün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4132440"/>
            <a:ext cx="7345440" cy="14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99F-9636-4B44-A486-B69512768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4455D-4B65-45C3-AEA1-AF1E417DE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4.1 Keretezés (folytatás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ezdő és végjelek bitbeszúráss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etkezdet: 011111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itbeszúrás: minden 11111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1111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: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11011111111111111100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et: </a:t>
            </a: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0111111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11011111</a:t>
            </a: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1111</a:t>
            </a: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1111</a:t>
            </a: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0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0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929-2BB7-49F6-88BB-985821C8D4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FBDE6-80FF-408F-ABC9-DE02C296CC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4.2 Keretezés (folytatás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izikai kódolássért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3887640"/>
            <a:ext cx="7561080" cy="17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C28-87F6-4EEA-BC98-8C1CBD4A70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AD863-E0E7-4595-A52C-A1AC1181F4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5 Hibavédele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ztonságos átvitel alapja a nyugtáz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ozitív/negatív nyugt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e mi van, ha teljesen elvész a kere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dőzítés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többszörös elküldés veszély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eretsorszám, újraadásjelz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1E2-0115-4020-9828-36CAADDBBA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BB3AC-FC66-4766-8BF5-F5675D312A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.5.1 Hibajavító kód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gyirányú vagy nagy késleltetésű vonalakon érdemes alkalmazn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apja: redundanc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 a hiba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t megváltoz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ét kódszó Hamming-távolság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zonos helyiértéken eltérő bitek szá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35A-797F-4A33-8AC8-D235C94573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64D82-AF4D-4894-B3F4-89B2A2B3B6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10-09T19:52:02Z</dcterms:modified>
  <cp:revision>36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