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F505-ECC5-4F92-89F9-96A74908043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Ugyanarra a bemeneti blokkra mindig ugyanazt a kimenetet generál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FE5-A895-41CF-B11A-C5312F09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76D-99F6-49DA-B5FB-41C0BBB8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BE6-98B0-4C2F-9A2F-2301613E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BEE-16C9-4010-AA7A-8323716E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1F9A-299A-4187-8A47-F472F5C1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4514-913E-4181-961D-137E5F48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0CA7-745B-4C76-9D7B-11C54FE9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9A30-ACCE-4F9E-8D38-9DACC326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D418-713F-4B93-8211-DF21C36D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641A-A72F-4CDA-B75C-4D098446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FD7B-9E16-4838-AEBA-E1628FC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DE3-82CA-4E9F-B2A3-E6B401AE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4DE8-D34C-4AC4-883A-6E870467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B7C7-6F3B-4116-92D1-6A55EC4D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6216-43AE-4CCE-9A91-D1DBF989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F2F8-F7A3-4624-B992-DF7768F3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DCCE-79EF-4F54-8B4B-F50EF164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BDB-9D41-44F0-AB06-DA81B7E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C5C-5119-471D-80A2-E1312E33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E55-4C7C-457D-A2CA-006AD447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EA2-7F25-4086-8474-285BD076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37F-65CC-4040-A208-A783F26A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FB1-08CF-4184-BE44-30591C69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51C-ACF0-4566-AA7B-6871112F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5DF3-55E1-410C-AFBE-64D8922ED586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8312-798F-4CD9-8AAA-B7733A0718FD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FC4B-E23E-46AE-9FD2-1BFF6F7624FE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1F4F-9B99-492E-B3CB-A6BBFD7FD629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68000" y="2085840"/>
            <a:ext cx="6799320" cy="27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 Narrow"/>
              </a:rPr>
              <a:t>10. Hálózati biztonság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8 --- 3DE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ES ma már feltörhető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ulcs túl röv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ES algoritmus többszörözé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ettő nem elég </a:t>
            </a:r>
            <a:br>
              <a:rPr sz="2400"/>
            </a:b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(„középen találkozó” feltöré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112 bites kulcs elé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gykulcsos DES-sel kompatibil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02080" y="907920"/>
            <a:ext cx="418788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DA0-3E88-40FE-AFD6-619127449F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E9F8C-C5EB-4F7A-9FBC-AB375884F9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8 IDE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DES-nél sok jobb blokk kódoló van, pl. IDE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Lai és Massey, 1990, Sváj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128 bites kulcs – brute force ellen jól vé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64 bites blokkok; láncolható 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em ismert ésszerű idejű feltörési módsz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147-59BF-42FF-A16A-3AE3EEC631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0AB06-5E6A-4BC4-B71C-D25303629D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10.9 Nyilvános kulcsú algoritmusok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ő probléma a kulcskiosztás, kulcscser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Sok kulcs kell,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és titkosan továbbítani kell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yilvános kulcsú algoritmu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indenkinek két kulcsa van, a nyilvános és a titk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titkosat nem kell elküldeni, a nyilvánosat lehet nyilvánosan terjeszten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övetelmény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D(E(P)) = P; </a:t>
            </a:r>
            <a:r>
              <a:rPr b="0" i="1" lang="hu-HU" sz="2400" spc="-1" strike="noStrike">
                <a:solidFill>
                  <a:srgbClr val="ffffff"/>
                </a:solidFill>
                <a:latin typeface="Arial Narrow"/>
              </a:rPr>
              <a:t>E(D(P)) = 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E-ből „lehetelen” előállítani D-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Feltörhetetlen legyen választott nyílt szövegg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C72-BD8B-47BF-AC3D-8DC7967453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4834A-F8E5-412A-B5B8-4F0D52BF01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10 Az RS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97520" cy="468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ulcspár-generál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ell két </a:t>
            </a: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 Narrow"/>
              </a:rPr>
              <a:t>nagy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 prímszám: 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p; q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n = p*q; z = (p-1)*(q-1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 legyen 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z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-hez relatív prí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Legyen 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 olyan, hogy: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ffffff"/>
                </a:solidFill>
                <a:latin typeface="Arial Narrow"/>
              </a:rPr>
              <a:t>d*e % z = 1</a:t>
            </a: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Narrow"/>
              </a:rPr>
              <a:t>(% = modulus, osztásmaradék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itkosít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 bites üzenetblokkok: 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i="1" lang="hu-HU" sz="2000" spc="-1" strike="noStrike" baseline="30000">
                <a:solidFill>
                  <a:srgbClr val="ffffff"/>
                </a:solidFill>
                <a:latin typeface="Arial Narrow"/>
              </a:rPr>
              <a:t>k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&lt;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C = P</a:t>
            </a:r>
            <a:r>
              <a:rPr b="0" i="1" lang="hu-HU" sz="2000" spc="-1" strike="noStrike" baseline="30000">
                <a:solidFill>
                  <a:srgbClr val="ffffff"/>
                </a:solidFill>
                <a:latin typeface="Arial Narrow"/>
              </a:rPr>
              <a:t>e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 % 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Visszafejté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P = C</a:t>
            </a:r>
            <a:r>
              <a:rPr b="0" i="1" lang="hu-HU" sz="2000" spc="-1" strike="noStrike" baseline="30000">
                <a:solidFill>
                  <a:srgbClr val="ffffff"/>
                </a:solidFill>
                <a:latin typeface="Arial Narrow"/>
              </a:rPr>
              <a:t>d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 % 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5080" y="1628280"/>
            <a:ext cx="4030560" cy="3240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kulcsok és a titkosítás erej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Titkos kulcs: 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(e, n)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 számpár,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Nyilvános kulcs: 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(d, n)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 pár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-ből nem határozható meg </a:t>
            </a:r>
            <a:r>
              <a:rPr b="0" i="1" lang="hu-HU" sz="2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Ehhez az 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-et prímtényezőkre kell bontani, de az nehéz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Jó, ha 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n &gt; 10</a:t>
            </a:r>
            <a:r>
              <a:rPr b="0" i="1" lang="hu-HU" sz="2000" spc="-1" strike="noStrike" baseline="30000">
                <a:solidFill>
                  <a:srgbClr val="ffffff"/>
                </a:solidFill>
                <a:latin typeface="Arial Narrow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628640"/>
            <a:ext cx="4176720" cy="4680000"/>
          </a:xfrm>
          <a:prstGeom prst="rect">
            <a:avLst/>
          </a:prstGeom>
          <a:solidFill>
            <a:srgbClr val="6633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élda 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(kis számokk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p = 3; q =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n =  33; z = 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d = 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e = 3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, mert </a:t>
            </a:r>
            <a:r>
              <a:rPr b="0" i="1" lang="hu-HU" sz="2000" spc="-1" strike="noStrike">
                <a:solidFill>
                  <a:srgbClr val="ffffff"/>
                </a:solidFill>
                <a:latin typeface="Arial Narrow"/>
              </a:rPr>
              <a:t>7 * 3 % 20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itkosí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k = 5, azaz 5 bites blokkok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P = 19; P</a:t>
            </a:r>
            <a:r>
              <a:rPr b="0" lang="hu-HU" sz="2000" spc="-1" strike="noStrike" baseline="30000">
                <a:solidFill>
                  <a:srgbClr val="ffffff"/>
                </a:solidFill>
                <a:latin typeface="Arial Narrow"/>
              </a:rPr>
              <a:t>e 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= 6859 C = 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Dekódo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hu-HU" sz="2000" spc="-1" strike="noStrike" baseline="30000">
                <a:solidFill>
                  <a:srgbClr val="ffffff"/>
                </a:solidFill>
                <a:latin typeface="Arial Narrow"/>
              </a:rPr>
              <a:t>d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=13492928512; P=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övetkeztetés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Ilyen kis számoknál egyszerű egybetű-kódoló (S-dobo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Processzorigénye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BA7-0B65-40AD-B0EA-F882F0C9A8CE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C1A4D-AC3C-41E4-9084-7FC65FD827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10.11 Authentikáció és authorizáció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eléptetés két kérdé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uthentikáció: ki vagy te valójában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uthorizáció: mire van jogod az adott rendszerben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 két feladat különválik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authentikáció központosítható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authorizáció a helyi rendszer ügy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AEE-35EF-41BB-91BD-80875C046B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3D5DE-79E8-4ACD-B829-118FE2814E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10.12 Hitelességvizsgálati protokoll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Osztott kulccs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ihívás – válasz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lapelv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kezdeményező igazolja magát előbb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ét különböző osztott kulcs célszerű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 két kihívást diszjunkt halmazokból kell választan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211640" y="1916280"/>
            <a:ext cx="4932360" cy="3713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211640" y="5589720"/>
            <a:ext cx="4932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 Narrow"/>
              </a:rPr>
              <a:t>(R = rand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7EC-47CD-4CFD-8BBB-5FA509F9E4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A4E48-D33C-49EB-9F70-376D19A69E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10.15 Hitelességvizsgálat kulcsszétosztó központtal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76360" y="2098800"/>
            <a:ext cx="6120000" cy="172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indenkinek csak a KDC-vel kell kulcsot cserélni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Hiba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Visszajátszásos támadás”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Védekezé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időbélyegző, egyedi üzenetszá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A79-6E4E-421B-9632-FF0D961F8B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14DEF-608F-4FEC-B74A-95E0E02010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66"/>
                </a:solidFill>
                <a:latin typeface="Tahoma"/>
              </a:rPr>
              <a:t>10.16 Hitelességvizsgálat Kerberos-sal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S ismeri A kulcsát és a TGS kulcsát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GS ismeri B kulcsá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Több AS és TGS létezhet, amelyek megbíznak egymásba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C-hez való kapcsolódáshoz elég a 3-astól folytatn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erberos v4 még DES függő, az újabbak már nem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050920" y="1365120"/>
            <a:ext cx="5042160" cy="268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D02-2234-4BB1-B82B-29DC6DDEA9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D46A2-47DC-4673-8116-A2047FE93B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10.17 Hitelességvizsgálat nyilvános kulcsú titkosítással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256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lőfeltétel: Nyilvános kulcs csere („élőlánc-támadás”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édekezés: Keresztbezáró protokol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00360" y="1938240"/>
            <a:ext cx="3743280" cy="207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E94-08CF-487C-8D46-524A68AA93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BA61F-A78A-4C67-8367-D2FB7A98EC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18 Digitális aláírás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titkos kulcsú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ell egy központi megbízható szerver, amely minden üzenetet elolvas és átkódol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32000" y="3913200"/>
            <a:ext cx="6480000" cy="23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5A8-579F-4D86-8935-D4EF0859B2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753BF-E72D-4DDF-A313-DA0B70FB7B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1 Melyik rétegben?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fizikai réteg: gázzal töltött cső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álózati réteg: VP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annak más közbülső rétegbeli megoldások i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u-HU" sz="3600" spc="-1" strike="noStrike">
                <a:solidFill>
                  <a:srgbClr val="ffffff"/>
                </a:solidFill>
                <a:latin typeface="Arial Narrow"/>
              </a:rPr>
              <a:t>Alkalmazási réte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8EB-52F3-4F90-9E73-90CC22E49C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E86AE-D197-4A02-8076-CE943E124C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18 Digitális aláírás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nyilvános kulcs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(E(P))=P; </a:t>
            </a:r>
            <a:r>
              <a:rPr b="1" lang="hu-HU" sz="2800" spc="-1" strike="noStrike">
                <a:solidFill>
                  <a:srgbClr val="ffffff"/>
                </a:solidFill>
                <a:latin typeface="Arial Narrow"/>
              </a:rPr>
              <a:t>E(D(P)) = P;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 (E: titkos; D: nyilvános kulc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üzenet: E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(D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D-t titokban kell tartani. Ha kompromittálódik, az aláírás érvénytelen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élszerű egy központi szerver, amely minden nyilvános kulcsot megbízhatóan tárol, és a kulcscseréket is menedzseli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80E-DF8F-462B-8FB6-EF270B1248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F2BD4-4F59-49F0-A549-2BC573A0DD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19 Üzenet pecséte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éha nem kell titkosítás, csak aláír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z RSA elég lassú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ecsét: (Egyirányú) hash függvén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-hez könnyen számolható MD(P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D(P)-hez „lehetetlen” P-t megtalálni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D(P)-hez „lehetetlen” másik érvényes üzenetet generálni – legalább 128 bites pecsé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Üzenet: P, D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(MD(P))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példa: MD5 (512 bit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5C2-CA64-4339-A271-98EC18E085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F8752-25C1-4231-A497-344744D489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2 Biztonsági kihívás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izalmas információk védelme illetéktelenek elő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eggyőződni a küldő valódiságáró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letagadhatatlanná tenni egy üzenet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üzenet épségének, eredetiségének védel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4FF-670E-4881-9E33-9E5FD9A48B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D7C7D-9D83-4CA6-A829-254B7D05AF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3 Titkosítási model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 = E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 Narrow"/>
              </a:rPr>
              <a:t>K1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 = D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 Narrow"/>
              </a:rPr>
              <a:t>K2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(C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nyilvános algoritmus, titkos kulcs(ok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71640" y="1738440"/>
            <a:ext cx="7200720" cy="222408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611280" y="2565360"/>
            <a:ext cx="504720" cy="504720"/>
            <a:chOff x="611280" y="2565360"/>
            <a:chExt cx="504720" cy="504720"/>
          </a:xfrm>
        </p:grpSpPr>
        <p:sp>
          <p:nvSpPr>
            <p:cNvPr id="99" name=""/>
            <p:cNvSpPr/>
            <p:nvPr/>
          </p:nvSpPr>
          <p:spPr>
            <a:xfrm>
              <a:off x="611280" y="2565360"/>
              <a:ext cx="504720" cy="5047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4360" y="2630520"/>
              <a:ext cx="358560" cy="368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028000" y="2565360"/>
            <a:ext cx="504720" cy="504720"/>
            <a:chOff x="8028000" y="2565360"/>
            <a:chExt cx="504720" cy="504720"/>
          </a:xfrm>
        </p:grpSpPr>
        <p:sp>
          <p:nvSpPr>
            <p:cNvPr id="102" name=""/>
            <p:cNvSpPr/>
            <p:nvPr/>
          </p:nvSpPr>
          <p:spPr>
            <a:xfrm>
              <a:off x="8028000" y="2565360"/>
              <a:ext cx="504720" cy="5047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01080" y="26305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114800" y="1989000"/>
            <a:ext cx="914400" cy="12574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4319640" y="1484280"/>
            <a:ext cx="504720" cy="504720"/>
            <a:chOff x="4319640" y="1484280"/>
            <a:chExt cx="504720" cy="504720"/>
          </a:xfrm>
        </p:grpSpPr>
        <p:sp>
          <p:nvSpPr>
            <p:cNvPr id="106" name=""/>
            <p:cNvSpPr/>
            <p:nvPr/>
          </p:nvSpPr>
          <p:spPr>
            <a:xfrm>
              <a:off x="4319640" y="1484280"/>
              <a:ext cx="504720" cy="5047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92720" y="1549440"/>
              <a:ext cx="35856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114800" y="1989000"/>
            <a:ext cx="914400" cy="12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43A-E27B-415A-B296-5CE04797CB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5B4EE-0F67-4DBA-B2B8-6A587BC3CC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4 Alapalgoritmus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helyettesítő kódo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BCD…Z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 BCDE…A, kulcs az eltolá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arakterenként más eltolás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 kulcs karakterei az eltolások paramétere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Általános helyettesítés: „S” doboz (n bites szavakat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everő kódolá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Az üzenet adatainak összekeveré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Általános keverés: „P” doboz (biteket kever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gyszer használatos bitsorozat (nagy kulc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korlátozottan használhat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D79-ED18-45CB-BC28-B0F0820AB4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E7262-2D8C-4409-ACE6-50001B161D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10.5 A redundancia és időbélyeg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Redundanci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véletlenszerű üzenetek nem lesznek értelmes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megfejtést viszont könnyíti, mert a kulcs könnyebben ellenőrizhető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időbélyeg szerep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Régi üzenetek visszajátszása ell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F2D-4381-483E-A953-DC65092EF0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5CFFA-9EAB-4FFB-8883-D59F353A51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6 Szorzatkódoló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429228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dobozokat a kulcs paraméterez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 szorzatkódoló is csak egy (speciális) S-doboz, csak sok biten S dobozt nem lehet építeni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92080" y="1981080"/>
            <a:ext cx="3389400" cy="19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859280" y="1558800"/>
            <a:ext cx="331308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98F-7576-4877-980E-27653E1426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94499-0B6A-47EE-A632-77E45B3962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7 DE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lokk-kódoló, 64 bites blokkokat kód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56 bites kulcs, 19 fokozat, szorzat-típus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Lényegében egy olyan egybetű-helyettesítő, ahol a betűméret 64 bit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z üzenetben 64 bites blokkok felcserélését nem veszi észre a címzett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1C6-9747-4E52-809F-E35FF71D15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163EF-06A5-4531-A40D-54CA98A8C8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0.8 Láncolt kódo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Minden blokk kódolásához felhasználjuk az előző blokk eredményét i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okkal nehezebb feltörni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Első blokkhoz random „inicializáló vektor”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Bármilyen kódoláshoz jó kiegészítés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Arial Narro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Interaktív terminálhoz nem jó… (csak egész blokkokkal működik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58920" y="3879720"/>
            <a:ext cx="2449440" cy="244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2567160"/>
            <a:ext cx="3889440" cy="3751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198900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Narrow"/>
              </a:rPr>
              <a:t>Bájtonként csorgó adatokhoz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0F1-63B1-424F-A844-D7BFD06986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2EF1C-FEDB-481D-92F6-A12C4CCDD4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erkovich Péter</cp:lastModifiedBy>
  <dcterms:modified xsi:type="dcterms:W3CDTF">2006-04-17T20:22:29Z</dcterms:modified>
  <cp:revision>74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