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E173-237D-48A4-9BF7-F6BCE2F0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89C8-F12E-44F5-88E4-5280AC78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963F-796F-485A-A248-4CF89527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E3C5-5228-478C-9014-C7E043E0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652C-93EE-43C2-8BE1-37B7B965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3923-45D1-4BAA-895C-567855D2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483B-316D-4ABC-B29F-30DC85BA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9CEF-E351-4411-98DC-105D2DC8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4E6C-F65C-4675-B393-07171888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E7F8-E3E9-42DC-B44B-168F9E47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B773-95DB-4B3E-924A-31A0DC84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29C-82C0-4185-A1A8-8FCC2B24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B21D-B91D-4A64-8B83-6BBE6C1A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D1EF-0122-4CA5-82A7-E11896B2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CC72-68CD-4FCE-8514-8864C1A0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B987-D41E-4979-8F05-A74F56F0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3E73-BCF3-4B58-991A-DDEA4C89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930B-232F-4739-858E-9A5CB567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421E-F743-4AC5-BB28-18BB6261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F4B8-1CA3-4424-B699-521B184A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21FC-7CE5-4441-ADE2-27625213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5563-04A9-4A6A-A68B-74C0B1FA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80DB-E4DF-41EB-AE29-A314BA15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8625-1B1E-43D3-97EE-5350A6B0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6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2601-9752-4F15-AF7F-F43D9E132F25}" type="datetime">
              <a:rPr b="0" lang="hu-HU" sz="1400" spc="-1" strike="noStrike">
                <a:solidFill>
                  <a:srgbClr val="ffcc66"/>
                </a:solidFill>
                <a:latin typeface="Arial Narrow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cc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C3CE-FBD5-4BFD-A383-8A862A59BF5E}" type="slidenum">
              <a:rPr b="0" lang="hu-H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E9AF-4422-4D7E-B371-3CC5C8F6A1AE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F586-1DAE-4190-B891-92B4E4AE6894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uherkovich.peter@eiszk.pte.h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Számítógép-hálózato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68000" y="2085840"/>
            <a:ext cx="6799320" cy="27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Uherkovich Pét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uherkovich.peter@eiszk.pte.hu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 Narrow"/>
              </a:rPr>
              <a:t>9. A szállítási réteg. A TCP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9.6.1 A TCP protokoll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TSA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„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Socket”-ek: hoszt ip cím + 16 bites portcí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Egy kapcsolatot a két gép socket azonosítói határoznak meg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sak pont-pont kapcsol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Duplex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Courier New"/>
              </a:rPr>
              <a:t>netstat</a:t>
            </a:r>
            <a:r>
              <a:rPr b="1" lang="hu-HU" sz="3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– TCP kapcsolatok listázás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Unix és Windows alatt i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0620-299A-4348-890F-E778E1B10E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A9624-E250-4C59-BAA5-195E9F0845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9.6.2 UNIX TCP primitíve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5000"/>
          </a:bodyPr>
          <a:p>
            <a:pPr lvl="1" marL="705600" indent="-2714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251460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SOCKET 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– új csatlakozás létesítése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/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05600" indent="-2714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251460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BIND 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– címek hozzárendelése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05600" indent="-2714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251460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LISTEN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– beérkező hívás előkészítés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05600" indent="-2714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251460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CCEPT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– hívásra várakozás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05600" indent="-2714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251460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ONNECT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– összeköttetés kérés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05600" indent="-2714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251460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SEND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– adat küldés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/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05600" indent="-2714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251460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RECEIVE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– adat fogadás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/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05600" indent="-2714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251460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LOSE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– összeköttetés bontása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/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FA83-0BB6-4466-812B-20D25A26D5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36916-5C5D-4655-83DE-573FB94F60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9.6.2 A TCP szegmen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4114440"/>
            <a:ext cx="3602160" cy="1981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Jelzőbitek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URG – sürgő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ACK – nyugt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PSH – azonnali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RST – helyreállítá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SYN – összekötteté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FIN – bontás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4360" y="1596960"/>
            <a:ext cx="6681600" cy="2365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72000" y="4149720"/>
            <a:ext cx="3602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93A6-98C4-448E-9D8E-9BB5649E06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7EC41-0F42-4D55-86DA-33CDF4AA3F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1720" y="404280"/>
            <a:ext cx="8080560" cy="65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66"/>
                </a:solidFill>
                <a:latin typeface="Tahoma"/>
              </a:rPr>
              <a:t>9.6.3 A TCP véges állapotú automata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537000" y="1052640"/>
            <a:ext cx="4635360" cy="5400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2200" y="1197000"/>
            <a:ext cx="2809800" cy="4968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egyszerűsített ábr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kliens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szerv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2268360" y="2205000"/>
            <a:ext cx="790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2637000"/>
            <a:ext cx="79092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FE40-EAC9-4720-9091-5555D82F7C1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80974-F317-41FB-A5F5-8D1C6812B5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9.6.4 TCP átvitel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z alkalmazás bájtonként küld (pl. telnet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Nagle-féle algoritmus: pufferelés nyugtái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z alkalmazás bájtonként olva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„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Buta ablak” szindróm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blakméret-jelentés csak nagyobb ablakná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EC9-0AAF-45A0-9392-5A51458F6CF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E2EDF-E27D-4019-88BE-9FE1AEF488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9.6.5 Well known port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00000" y="1844640"/>
          <a:ext cx="6048360" cy="441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844640"/>
                    <a:ext cx="604836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C7E6-9B34-4499-8241-10B6A7CCCDC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487A3-0907-4FAB-96CF-E5DC7F0189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Legközelebb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Jövő héten nincs ór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Legközelebb november 28-án találkozun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1181-2EED-4181-948C-2C92642CE18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4A8B5-6423-4BD3-8E74-740AAC7EE7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Linke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http://www.iana.org/assignments/port-numb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http://rfc.net/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http://cable-dsl.home.att.net/rwinanim.ht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http://www.tcpipguide.com/free/t_TCPSillyWindowSyndromeandChangesTotheSlidingWindow-3.ht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E9CC-9181-49EF-937A-3F31C11BE56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B5225-243A-4D7D-A25C-134E78DDBE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9.1 A szállítási réteg szerepe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szállítási réteg végfelhasználók között fu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z alatta lévő protokollok a hálózati szolgáltatótól függenek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Megbízhatóság növelé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Összeomlások kezelé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Különböző hálózatok kezelése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z alkalmazások használjá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 programozók közvetlen kapcsolatba kerülnek vel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0F68-4656-4E43-AF11-575D0D56AA9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F2424-53F2-4F90-9261-643E1CBFB5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9.2 A szállítási adatelem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z alsóbb réteg miatt a bitfolyam tördelése szükség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MTU – a legnígyobb egyszerre átvihető adat mennyiség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TPDU (Transport Protocol Data Unit) – szegme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rcRect l="-933" t="-6326" r="-933" b="-7226"/>
          <a:stretch/>
        </p:blipFill>
        <p:spPr>
          <a:xfrm>
            <a:off x="684360" y="4292640"/>
            <a:ext cx="7775280" cy="197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30FC-77C4-49CD-B9A3-9FF45B7750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2F996-C5AC-48EC-B927-979CED6DEE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9.3 Szállítási primitíve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Egyszerű interfész elrejti a bonyolult belső működés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Kliens és szerver működé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LISTEN</a:t>
            </a:r>
            <a:r>
              <a:rPr b="0" lang="hu-HU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Courier New"/>
              </a:rPr>
              <a:t>kapcsolódásra vá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CONNECT</a:t>
            </a:r>
            <a:r>
              <a:rPr b="0" lang="hu-HU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Courier New"/>
              </a:rPr>
              <a:t>kapcsolatot létesí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SEND</a:t>
            </a:r>
            <a:r>
              <a:rPr b="0" lang="hu-HU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Courier New"/>
              </a:rPr>
              <a:t>adatot küld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RECEIVE</a:t>
            </a:r>
            <a:r>
              <a:rPr b="0" lang="hu-HU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Courier New"/>
              </a:rPr>
              <a:t>adatot vesz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hu-HU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Courier New"/>
              </a:rPr>
              <a:t>bontja az összeköttetés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798F-1295-4DDD-BC74-BCE08098C9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CCE22-19CF-4F30-BC95-576AF027A9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9.3 Szállítási címzé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TSAP -- Transport Service Acces Poi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Interneten: IP cím + helyi port páros, 48 bi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Jellemző a többszörös TSAP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NSAP – Network Service Acces Poi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Interneten: IP cí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Előfordul többszörös NSAP, de nem jellemző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szerver folyamat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jól ismert vagy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névtárban tárolt TSAP címeken figy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4503-1982-4E16-BEB8-8CC806273A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F9C60-70C0-4A4C-9AF9-79B956A453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9.4 Összeköttetés létesíté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2560" y="4292280"/>
            <a:ext cx="7772400" cy="1803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Bonyolult folya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Késleltetett kettőzések problémáj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Háromutas kézfogás (Tomlinson, 1975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Nincs téves összeköttetés létesíté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86000" y="1700280"/>
            <a:ext cx="2381040" cy="2520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211720" y="1700280"/>
            <a:ext cx="2381400" cy="2520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219640" y="1700280"/>
            <a:ext cx="2373480" cy="28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5779-99F3-42F6-B692-795B16B37A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DF617-88F0-4252-951A-A7DF01EF78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9.5 Összeköttetés bontá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szimmetrikus bontá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Egyik fél kezdeményezi, mindkét irányt lebontj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datvesztéssel járh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Szimmetrikus bontá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két irányt külön bontják 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Nem nyilvánvaló megállapodni a bontásba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Két hadsereg problém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Gyakorlatilag kielégítő megoldás időzítőkk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AAC5-7850-430F-90F8-BE8F3B46AD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41832-791F-424D-B89D-66D3EC7723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ahoma"/>
              </a:rPr>
              <a:t>9.5.1 Bontás háromutas kézfogással, időzítéssel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52320" y="1989000"/>
            <a:ext cx="3875400" cy="4104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614840" y="1989000"/>
            <a:ext cx="3875040" cy="410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572000" y="1628640"/>
            <a:ext cx="3922560" cy="4969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0" y="1628640"/>
            <a:ext cx="3887640" cy="496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1F4E-F46D-413A-8A05-4F9BE7AE2AE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7C300-4BA7-4DBF-AA03-65C20B2177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66"/>
                </a:solidFill>
                <a:latin typeface="Tahoma"/>
              </a:rPr>
              <a:t>9.6 Az internet szállítási protokolljai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TC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Megbízható, kapcsolat alapú, bájtfolyam átvite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RFC 793, 1122, 1323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UD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Összeköttetésment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z ip kiterjesztése a szállítási rétegbe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4565-379C-467A-9D25-4A2EC6F994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A761C-81D8-4ABB-91CE-9206970E67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hi</cp:lastModifiedBy>
  <dcterms:modified xsi:type="dcterms:W3CDTF">2006-11-14T11:40:33Z</dcterms:modified>
  <cp:revision>64</cp:revision>
  <dc:subject/>
  <dc:title>PowerPoint bemutat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8</vt:r8>
  </property>
  <property fmtid="{D5CDD505-2E9C-101B-9397-08002B2CF9AE}" pid="3" name="Version">
    <vt:r8>3</vt:r8>
  </property>
</Properties>
</file>