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DDE3-0BE0-4995-8CE2-A89BF93C50D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byte-kó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CCD-0674-42BF-966C-4651C0F6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DF5-C3F3-405A-AB68-4C4FD9A9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9B5-0EE7-4597-B5BE-CA482597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6B0-13CF-44F5-8C60-84CA37FF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183C-DDA9-4EC9-9946-936E6ABE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2153-54D6-46CD-A5BB-90BC0D0E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5F1E-BCD5-48F9-AFDB-E20F3ED2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EC9D-CC35-4D0F-A98D-62B13088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BD03-446F-4B88-AC19-742DBF7E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129A-7258-45D4-B81D-1E5BA16E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F0A6-F1CA-4955-9597-E516798D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6FE-AAAE-4BEC-9814-20990B0E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36B1-DCBD-426C-AF20-5CB7E25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B679-1E9C-4A85-BE27-B659828B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3EDB-DFAD-4D9D-9E5A-F6449685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FCBA-C6E1-4460-A19A-96486F3F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BB53-E175-4C50-9770-6DB3A4BE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A50-6E53-4F9D-B61E-102FF058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B12-36F0-4720-98D4-5E2BA6B7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985-1707-4191-8BB7-838DA6FB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AEE-DED7-4B95-9FB9-C1A15AF6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B6A-FE59-4F78-9A78-55B6696D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D7E-7486-4526-BE70-652AEF6F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6FA-D90E-42D2-8921-9B6F2251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756C-1D06-4353-B16A-41C212581164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A9CF-106F-45C7-AF74-5759E207E88C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2EF1-2E35-4F5B-87D7-CE4AC3F93A5E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B470-F8AE-4EDC-9F45-CF4E80B212D7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p.netscape.com/eng/mozilla/3.0/handbook/javascript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va.sun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XML/" TargetMode="External"/><Relationship Id="rId3" Type="http://schemas.openxmlformats.org/officeDocument/2006/relationships/hyperlink" Target="http://www.w3.org/XML/" TargetMode="External"/><Relationship Id="rId4" Type="http://schemas.openxmlformats.org/officeDocument/2006/relationships/hyperlink" Target="http://www.w3.org/TR/xpath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Style/XSL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ttpd.apache.org/" TargetMode="External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" TargetMode="External"/><Relationship Id="rId3" Type="http://schemas.openxmlformats.org/officeDocument/2006/relationships/hyperlink" Target="http://www.apacheweek.com/features/http11" TargetMode="External"/><Relationship Id="rId4" Type="http://schemas.openxmlformats.org/officeDocument/2006/relationships/hyperlink" Target="http://wp.netscape.com/eng/mozilla/3.0/handbook/javascript/" TargetMode="External"/><Relationship Id="rId5" Type="http://schemas.openxmlformats.org/officeDocument/2006/relationships/hyperlink" Target="http://wp.netscape.com/eng/mozilla/3.0/handbook/javascript/" TargetMode="External"/><Relationship Id="rId6" Type="http://schemas.openxmlformats.org/officeDocument/2006/relationships/hyperlink" Target="http://wp.netscape.com/eng/mozilla/3.0/handbook/javascript/" TargetMode="External"/><Relationship Id="rId7" Type="http://schemas.openxmlformats.org/officeDocument/2006/relationships/hyperlink" Target="http://wp.netscape.com/eng/mozilla/3.0/handbook/javascript/" TargetMode="External"/><Relationship Id="rId8" Type="http://schemas.openxmlformats.org/officeDocument/2006/relationships/hyperlink" Target="http://wp.netscape.com/eng/mozilla/3.0/handbook/javascript/" TargetMode="External"/><Relationship Id="rId9" Type="http://schemas.openxmlformats.org/officeDocument/2006/relationships/hyperlink" Target="http://wp.netscape.com/eng/mozilla/3.0/handbook/javascript/" TargetMode="External"/><Relationship Id="rId10" Type="http://schemas.openxmlformats.org/officeDocument/2006/relationships/hyperlink" Target="http://wp.netscape.com/eng/mozilla/3.0/handbook/javascript/" TargetMode="External"/><Relationship Id="rId11" Type="http://schemas.openxmlformats.org/officeDocument/2006/relationships/hyperlink" Target="http://wp.netscape.com/eng/mozilla/3.0/handbook/javascript/" TargetMode="External"/><Relationship Id="rId12" Type="http://schemas.openxmlformats.org/officeDocument/2006/relationships/hyperlink" Target="http://wp.netscape.com/eng/mozilla/3.0/handbook/javascript/" TargetMode="External"/><Relationship Id="rId13" Type="http://schemas.openxmlformats.org/officeDocument/2006/relationships/hyperlink" Target="http://wp.netscape.com/eng/mozilla/3.0/handbook/javascript/" TargetMode="External"/><Relationship Id="rId14" Type="http://schemas.openxmlformats.org/officeDocument/2006/relationships/hyperlink" Target="http://wp.netscape.com/eng/mozilla/3.0/handbook/javascript/" TargetMode="External"/><Relationship Id="rId15" Type="http://schemas.openxmlformats.org/officeDocument/2006/relationships/hyperlink" Target="http://wp.netscape.com/eng/mozilla/3.0/handbook/javascript/" TargetMode="External"/><Relationship Id="rId16" Type="http://schemas.openxmlformats.org/officeDocument/2006/relationships/hyperlink" Target="http://www.w3.org/Protocols/rfc2616/rfc2616-sec14.html" TargetMode="External"/><Relationship Id="rId17" Type="http://schemas.openxmlformats.org/officeDocument/2006/relationships/hyperlink" Target="http://www.w3.org/Protocols/rfc2616/rfc2616-sec10.html" TargetMode="External"/><Relationship Id="rId18" Type="http://schemas.openxmlformats.org/officeDocument/2006/relationships/hyperlink" Target="http://www.w3.org/Protocols/rfc2616/rfc2616-sec10.html" TargetMode="External"/><Relationship Id="rId19" Type="http://schemas.openxmlformats.org/officeDocument/2006/relationships/hyperlink" Target="http://www.w3.org/Protocols/rfc2616/rfc2616-sec10.html" TargetMode="External"/><Relationship Id="rId20" Type="http://schemas.openxmlformats.org/officeDocument/2006/relationships/hyperlink" Target="http://www.w3.org/Protocols/rfc2616/rfc2616-sec10.html" TargetMode="External"/><Relationship Id="rId21" Type="http://schemas.openxmlformats.org/officeDocument/2006/relationships/hyperlink" Target="http://msdn.microsoft.com/library/default.asp?url=/workshop/author/dhtml/reference/dhtml_reference_entry.asp" TargetMode="External"/><Relationship Id="rId22" Type="http://schemas.openxmlformats.org/officeDocument/2006/relationships/hyperlink" Target="http://java.sun.com/" TargetMode="External"/><Relationship Id="rId23" Type="http://schemas.openxmlformats.org/officeDocument/2006/relationships/hyperlink" Target="http://www.w3.org/XML/" TargetMode="External"/><Relationship Id="rId24" Type="http://schemas.openxmlformats.org/officeDocument/2006/relationships/hyperlink" Target="http://www.w3.org/XML/" TargetMode="External"/><Relationship Id="rId25" Type="http://schemas.openxmlformats.org/officeDocument/2006/relationships/hyperlink" Target="http://www.w3.org/TR/xpath" TargetMode="External"/><Relationship Id="rId26" Type="http://schemas.openxmlformats.org/officeDocument/2006/relationships/hyperlink" Target="http://www.w3.org/Style/XSL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ana.org/assignments/media-types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Protocols/rfc2616/rfc2616-sec14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Protocols/rfc2616/rfc2616-sec10.html" TargetMode="External"/><Relationship Id="rId3" Type="http://schemas.openxmlformats.org/officeDocument/2006/relationships/hyperlink" Target="http://www.w3.org/Protocols/rfc2616/rfc2616-sec10.html" TargetMode="External"/><Relationship Id="rId4" Type="http://schemas.openxmlformats.org/officeDocument/2006/relationships/hyperlink" Target="http://www.w3.org/Protocols/rfc2616/rfc2616-sec10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68000" y="2085840"/>
            <a:ext cx="6799320" cy="27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 Narrow"/>
              </a:rPr>
              <a:t>11. A World Wide Web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66"/>
                </a:solidFill>
                <a:latin typeface="Tahoma"/>
              </a:rPr>
              <a:t>11.3 A www nyelvei</a:t>
            </a:r>
            <a:endParaRPr b="0" lang="en-US" sz="4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htm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javascrip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c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jav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xml, xs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cgi, perl, php, asp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68C-8834-47DD-B715-DF0E0EC916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35E41-4BAE-40B8-B070-B2D2F74CA0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66"/>
                </a:solidFill>
                <a:latin typeface="Tahoma"/>
              </a:rPr>
              <a:t>11.3.1 A html</a:t>
            </a:r>
            <a:endParaRPr b="0" lang="en-US" sz="4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SO 8879 SGML szabvány alapjá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címkék (tag-ek), attributumo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zóközök szerep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éld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&lt;!DOCTYPE HTML PUBLIC "-//W3C//DTD HTML 4.01 Transitional//EN"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title&gt;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Példa oldal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title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&lt;h1&gt;Cím&lt;/h1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&lt;p&gt;Egy bekezdésnyi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&lt;b&gt;formázott&lt;/b&gt; szöveg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&lt;img src=”kep.jpg”  alt=”példa beágyazott képre”/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076-4014-4A98-9DF8-C2F5BB6640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00629-F68F-4055-BCFF-738D3F1234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66"/>
                </a:solidFill>
                <a:latin typeface="Tahoma"/>
              </a:rPr>
              <a:t>11.3.2 A javascript</a:t>
            </a:r>
            <a:endParaRPr b="0" lang="en-US" sz="4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platformfüggetlen, script jellegű nyelv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a böngészők interpretálják az oldal előállítása során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Péld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&lt;script type=”text/javascript”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Courier New"/>
              </a:rPr>
              <a:t>alert(”Kakukk”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wp.netscape.com/eng/mozilla/3.0/handbook/javascript/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976-05A7-4E5C-831B-24EBCE0C59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A8507-5C71-4FF0-A8F7-A0A2B0A756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1.3.3 Stílus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nlin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106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Courier New"/>
              </a:rPr>
              <a:t>&lt;p style=”</a:t>
            </a:r>
            <a:r>
              <a:rPr b="1" lang="hu-HU" sz="2000" spc="-1" strike="noStrike">
                <a:solidFill>
                  <a:srgbClr val="ff0033"/>
                </a:solidFill>
                <a:latin typeface="Courier New"/>
              </a:rPr>
              <a:t>color: #FF0000</a:t>
            </a:r>
            <a:r>
              <a:rPr b="1" lang="hu-HU" sz="2000" spc="-1" strike="noStrike">
                <a:solidFill>
                  <a:srgbClr val="ffff00"/>
                </a:solidFill>
                <a:latin typeface="Courier New"/>
              </a:rPr>
              <a:t>”&gt;szöveg&lt;/p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eágyazot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106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Courier New"/>
              </a:rPr>
              <a:t>&lt;style type="text/css"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106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ff0033"/>
                </a:solidFill>
                <a:latin typeface="Courier New"/>
              </a:rPr>
              <a:t>a {color: #7c7c7c;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106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33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ff0033"/>
                </a:solidFill>
                <a:latin typeface="Courier New"/>
              </a:rPr>
              <a:t>td {font-family:Verdana,sans-serif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106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33"/>
                </a:solidFill>
                <a:latin typeface="Courier New"/>
              </a:rPr>
              <a:t>font-size:10px;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1068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Courier New"/>
              </a:rPr>
              <a:t>&lt;/style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ivatkozot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Courier New"/>
              </a:rPr>
              <a:t>&lt;link rel="stylesheet" href="sample.css" type="text/css" /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0FD-45FA-42E2-BD66-FD9A255E31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DC8D3-5912-4841-A9D9-B18CF0B3A6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66"/>
                </a:solidFill>
                <a:latin typeface="Tahoma"/>
              </a:rPr>
              <a:t>11.3.3 A java</a:t>
            </a:r>
            <a:endParaRPr b="0" lang="en-US" sz="4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letölthető programocskák, appletek programozására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okozott interaktivit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platformfüggetlen rendsz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öztes kódot haszná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objektumorientált, típuso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iztonsági megfontolás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java.sun.co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60A-4A70-4BB8-B057-41204A9529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DA49A-878B-40F4-8BEC-C571043E13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66"/>
                </a:solidFill>
                <a:latin typeface="Tahoma"/>
              </a:rPr>
              <a:t>11.3.4 Az XML</a:t>
            </a:r>
            <a:endParaRPr b="0" lang="en-US" sz="4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általános jelölőnyelv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lkalmazásközi adatcse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DOM: objektummodel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XML dokumentumok előállítása és feldolgozás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ff0033"/>
                </a:solidFill>
                <a:uFillTx/>
                <a:latin typeface="Arial Narrow"/>
                <a:hlinkClick r:id="rId3"/>
              </a:rPr>
              <a:t>://www.w3.org/XML/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0033"/>
                </a:solidFill>
                <a:uFillTx/>
                <a:latin typeface="Arial Narrow"/>
                <a:hlinkClick r:id="rId4"/>
              </a:rPr>
              <a:t>http://www.w3.org/TR/xpat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ttp://msdn.microsoft.com/library/default.asp?url=/library/en-us/xmlsdk/html/d051f7c5-e882-42e8-a5b6-d1ce67af275c.asp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4BA-B614-4A58-906F-D3FFEC928D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E95E4-0862-4597-A9B1-855A25686F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66"/>
                </a:solidFill>
                <a:latin typeface="Tahoma"/>
              </a:rPr>
              <a:t>11.3.5 Az XSLT</a:t>
            </a:r>
            <a:endParaRPr b="0" lang="en-US" sz="4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www.w3.org/Style/XSL/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XML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 html (xhtml) megjelenítés (rend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adatszerkezet és a megjelenés teljes különválasztás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élda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 Narrow"/>
              </a:rPr>
              <a:t>xml ad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 Narrow"/>
              </a:rPr>
              <a:t>xsl stílusla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 Narrow"/>
              </a:rPr>
              <a:t>xml megjelenítése xsl-l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ttp://www.zvon.org/xxl/XSLTutorial/Output/index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243-5D9B-4FF2-9984-D346B471383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EDE32-F2C3-4614-9D41-1B2F0A55E5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66"/>
                </a:solidFill>
                <a:latin typeface="Tahoma"/>
              </a:rPr>
              <a:t>11.3.7 A php nyelv</a:t>
            </a:r>
            <a:endParaRPr b="0" lang="en-US" sz="4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cript jellegű szerver nyelv,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platformfüggetle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objektumszerű eleme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gazdag függvénykészl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datbáziso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egExp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is teljesítményű alkalmazásokhoz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ordító is létezi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843-E900-451D-B17C-2995E6C57F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D96D7-0E62-4467-B48B-158F085896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66"/>
                </a:solidFill>
                <a:latin typeface="Tahoma"/>
              </a:rPr>
              <a:t>11.3.8 Az ASP</a:t>
            </a:r>
            <a:endParaRPr b="0" lang="en-US" sz="4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MS IIS nyelv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Basic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JScrip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ASPX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.net keretrendsz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# nyelv (C++ változata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9C0-EFF4-44D8-8EB7-F9B6D88F8B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54E83-A081-42B3-B20A-EAA9D0103E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66"/>
                </a:solidFill>
                <a:latin typeface="Tahoma"/>
              </a:rPr>
              <a:t>11.4 proxy, cache</a:t>
            </a:r>
            <a:endParaRPr b="0" lang="en-US" sz="4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lokális / távoli / hierarchiku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Kézi / transzparen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Protokollkonverzió (ftp </a:t>
            </a:r>
            <a:r>
              <a:rPr b="0" lang="hu-H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 http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url / tartalom szűrés (tűzfal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Gyorsítótár (cache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C01-7B55-4B7A-92A4-C8BE4CAB81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B7B7D-0904-494E-91A6-45AE095EC6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1.1 A www történet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Előzmények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goph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CERN, 1993: Mosaic böngésző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Fizikai kutatási adatok közzététel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1994: www konzorcium (</a:t>
            </a:r>
            <a:r>
              <a:rPr b="0" lang="hu-HU" sz="36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w3c</a:t>
            </a: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1995: Netscap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FAA-6FC4-43F5-9A1D-66DE9B2860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29195-5F52-47D3-A53A-4987EC55AD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66"/>
                </a:solidFill>
                <a:latin typeface="Tahoma"/>
              </a:rPr>
              <a:t>11.5 http alkalmazások</a:t>
            </a:r>
            <a:endParaRPr b="0" lang="en-US" sz="4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Szerver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apach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liens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Netscap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irefox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Oper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991-A0BA-4D90-BE6A-13C076056BAC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E59C9-ECAA-427D-B9CF-F217F1B697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66"/>
                </a:solidFill>
                <a:latin typeface="Tahoma"/>
              </a:rPr>
              <a:t>11.6 Keresőgépek</a:t>
            </a:r>
            <a:endParaRPr b="0" lang="en-US" sz="4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Yaho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ltavist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Goog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s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roblémá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háló bejárás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z információk tárolás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(mennyiségi probléma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visszakeresé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(teljesítményprobléma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datok karbantartás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(elavuló, megszűnő, elérhetetlen, dinamikus oldalak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00B-E748-49B4-B588-5B05726C3C97}" type="slidenum">
              <a:t>2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C03C9-87DE-4ACC-8C72-C8E56AB18D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ink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www.w3.org/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3"/>
              </a:rPr>
              <a:t>http://www.apacheweek.com/features/http1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4"/>
              </a:rPr>
              <a:t>http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5"/>
              </a:rPr>
              <a:t>:/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6"/>
              </a:rPr>
              <a:t>wp.netscape.com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7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8"/>
              </a:rPr>
              <a:t>eng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9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0"/>
              </a:rPr>
              <a:t>mozilla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1"/>
              </a:rPr>
              <a:t>/3.0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2"/>
              </a:rPr>
              <a:t>handbook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3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4"/>
              </a:rPr>
              <a:t>javascript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5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6"/>
              </a:rPr>
              <a:t>http://www.w3.org/Protocols/rfc2616/rfc2616-sec14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7"/>
              </a:rPr>
              <a:t>http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8"/>
              </a:rPr>
              <a:t>://www.w3.org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19"/>
              </a:rPr>
              <a:t>Protocols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0"/>
              </a:rPr>
              <a:t>/rfc2616/rfc2616-sec10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1"/>
              </a:rPr>
              <a:t>http://msdn.microsoft.com/library/default.asp?url=/workshop/author/dhtml/reference/dhtml_reference_entry.as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2"/>
              </a:rPr>
              <a:t>http://java.sun.co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3"/>
              </a:rPr>
              <a:t>http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4"/>
              </a:rPr>
              <a:t>://www.w3.org/XML/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5"/>
              </a:rPr>
              <a:t>http://www.w3.org/TR/xpath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6"/>
              </a:rPr>
              <a:t>http://www.w3.org/Style/XSL/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ttp://www.zvon.org/xxl/XSLTutorial/Output/index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34E-EB8F-4F00-90FF-7D37FCD173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086DD-D15B-4153-A437-4F2F5C21E8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1.3 A www model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liens (browser) – szerv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Oldalak (pag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ur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ypertext / hypermedi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yperlin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Űrlap (statikus/dinamikus oldalak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175-15DE-4A5E-BEF2-8DB14746A3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44187-82A4-459E-A31F-EF1E5AA350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1.3.1 Az URL felépítés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</a:rPr>
              <a:t>http:</a:t>
            </a:r>
            <a:r>
              <a:rPr b="0" lang="hu-HU" sz="2400" spc="-1" strike="noStrike" u="sng">
                <a:solidFill>
                  <a:srgbClr val="ffff00"/>
                </a:solidFill>
                <a:uFillTx/>
                <a:latin typeface="Arial Narrow"/>
              </a:rPr>
              <a:t>//www.pte.hu</a:t>
            </a:r>
            <a:r>
              <a:rPr b="0" lang="hu-HU" sz="2400" spc="-1" strike="noStrike" u="sng">
                <a:solidFill>
                  <a:srgbClr val="00ccff"/>
                </a:solidFill>
                <a:uFillTx/>
                <a:latin typeface="Arial Narrow"/>
              </a:rPr>
              <a:t>/~uhi/kurzus/halozatok/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 Narrow"/>
              </a:rPr>
              <a:t>index.html</a:t>
            </a:r>
            <a:r>
              <a:rPr b="0" lang="hu-HU" sz="2400" spc="-1" strike="noStrike" u="sng">
                <a:solidFill>
                  <a:srgbClr val="ffcc66"/>
                </a:solidFill>
                <a:uFillTx/>
                <a:latin typeface="Arial Narrow"/>
              </a:rPr>
              <a:t>?id=23</a:t>
            </a:r>
            <a:r>
              <a:rPr b="0" lang="hu-HU" sz="2400" spc="-1" strike="noStrike" u="sng">
                <a:solidFill>
                  <a:srgbClr val="33cc33"/>
                </a:solidFill>
                <a:uFillTx/>
                <a:latin typeface="Arial Narrow"/>
              </a:rPr>
              <a:t>#irodalo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33"/>
                </a:solidFill>
                <a:latin typeface="Arial Narrow"/>
              </a:rPr>
              <a:t>http: </a:t>
            </a:r>
            <a:r>
              <a:rPr b="0" lang="hu-HU" sz="2000" spc="-1" strike="noStrike">
                <a:solidFill>
                  <a:srgbClr val="ff0033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ff0033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ff0033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ff0033"/>
                </a:solidFill>
                <a:latin typeface="Arial Narrow"/>
              </a:rPr>
              <a:t>protokollazonosító (default: http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 Narrow"/>
              </a:rPr>
              <a:t>//www.pte.hu</a:t>
            </a:r>
            <a:r>
              <a:rPr b="0" lang="hu-HU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ffff00"/>
                </a:solidFill>
                <a:latin typeface="Arial Narrow"/>
              </a:rPr>
              <a:t>szerver (default: az aktuáli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ccff"/>
                </a:solidFill>
                <a:latin typeface="Arial Narrow"/>
              </a:rPr>
              <a:t>/~uhi/kurzus/halozatok/</a:t>
            </a:r>
            <a:r>
              <a:rPr b="0" lang="hu-HU" sz="2000" spc="-1" strike="noStrike">
                <a:solidFill>
                  <a:srgbClr val="00ccff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00ccff"/>
                </a:solidFill>
                <a:latin typeface="Arial Narrow"/>
              </a:rPr>
              <a:t>útvonal (abszolút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index.html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fájlnév (default: index.html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Arial Narrow"/>
              </a:rPr>
              <a:t>?id=23</a:t>
            </a:r>
            <a:r>
              <a:rPr b="0" lang="hu-HU" sz="20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ffcc66"/>
                </a:solidFill>
                <a:latin typeface="Arial Narrow"/>
              </a:rPr>
              <a:t>lekérdezés (csak aktív tartalomhoz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cc33"/>
                </a:solidFill>
                <a:latin typeface="Arial Narrow"/>
              </a:rPr>
              <a:t>#irodalom</a:t>
            </a:r>
            <a:r>
              <a:rPr b="0" lang="hu-HU" sz="20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0" lang="hu-HU" sz="2000" spc="-1" strike="noStrike">
                <a:solidFill>
                  <a:srgbClr val="33cc33"/>
                </a:solidFill>
                <a:latin typeface="Arial Narrow"/>
              </a:rPr>
              <a:t>pozicionálás az oldalon belü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fenti elemek közül bármelyik elhagyhat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A13-75F3-4C27-8487-41FFDB9FFC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748B4-57C1-4D5B-AFB9-B5759E2E2A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1.2 A www protokollj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ttp (hypertext transfer protoco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jellemzően a 80-as porton, ASCII alapú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Az oldalba beágyazott minden további elem letöltése külön TCP kapcsola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Péld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telnet www.apacheweek.com 80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Connected to www.apacheweek.com.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Courier New"/>
              </a:rPr>
              <a:t>GET / HTTP/1.0 </a:t>
            </a:r>
            <a:r>
              <a:rPr b="1" i="1" lang="hu-HU" sz="1600" spc="-1" strike="noStrike">
                <a:solidFill>
                  <a:srgbClr val="ffff00"/>
                </a:solidFill>
                <a:latin typeface="Courier New"/>
              </a:rPr>
              <a:t>[ENTER]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ffffff"/>
                </a:solidFill>
                <a:latin typeface="Courier New"/>
              </a:rPr>
              <a:t>[ENTER]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HTTP/1.1 </a:t>
            </a:r>
            <a:r>
              <a:rPr b="1" lang="hu-HU" sz="1600" spc="-1" strike="noStrike">
                <a:solidFill>
                  <a:srgbClr val="ff0033"/>
                </a:solidFill>
                <a:latin typeface="Courier New"/>
              </a:rPr>
              <a:t>200</a:t>
            </a: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 OK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Date: Mon, 24 Apr 2006 18:59:11 GMT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Server: Stronghold/4.0-RHL Apache/1.3.22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Last-Modified: Wed, 04 May 2005 10:01:19 GMT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ETag: "277d7-2daa-42789d6f"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Accept-Ranges: byte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Content-Length: 11690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Courier New"/>
              </a:rPr>
              <a:t>Connection: close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33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D29-B257-4DC4-862D-129A7F647D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15608-FAED-469A-9899-E697AE6239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1.2.1 Tartalom típus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www.iana.org/assignments/media-types/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ext/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ext/javascrip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ext/cs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ext/plai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mage/jpe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mage/gif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image/p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pplication/mswor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01D-8C8C-40BD-A358-9AD387A50A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CAF15-6633-480A-9E8F-3BEBA2805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1.2.2 http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érése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GET </a:t>
            </a:r>
            <a:r>
              <a:rPr b="1" i="1" lang="hu-HU" sz="2000" spc="-1" strike="noStrike">
                <a:solidFill>
                  <a:srgbClr val="ffffff"/>
                </a:solidFill>
                <a:latin typeface="Courier New"/>
              </a:rPr>
              <a:t>url </a:t>
            </a: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HTTP/</a:t>
            </a:r>
            <a:r>
              <a:rPr b="1" i="1" lang="hu-HU" sz="2000" spc="-1" strike="noStrike">
                <a:solidFill>
                  <a:srgbClr val="ffffff"/>
                </a:solidFill>
                <a:latin typeface="Courier New"/>
              </a:rPr>
              <a:t>verzió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Courier New"/>
              </a:rPr>
              <a:t>mime fejrésze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PU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POS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DELET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ourier New"/>
              </a:rPr>
              <a:t>UNLIN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78E-B9A4-41C0-9FBA-6C47A5AA6A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9598B-FD6D-4A88-8378-09C3AA09EC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1.2.3 MIME</a:t>
            </a:r>
            <a:r>
              <a:rPr b="1" lang="hu-HU" sz="3600" spc="-1" strike="noStrike">
                <a:solidFill>
                  <a:srgbClr val="ffcc66"/>
                </a:solidFill>
                <a:latin typeface="Courier New"/>
              </a:rPr>
              <a:t> </a:t>
            </a: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fejrész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kérés vagy válasz paramétere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 Narrow"/>
              </a:rPr>
              <a:t>Accept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: text/*, text/html, text/html;level=1, */*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 Narrow"/>
              </a:rPr>
              <a:t>Accept-Charset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: iso-8859-5, unicode-1-1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 Narrow"/>
              </a:rPr>
              <a:t>Accept-Language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: da, en-gb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 Narrow"/>
              </a:rPr>
              <a:t>Allow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: GET, HEAD, PUT (ismeretlen lekérésre adott válasz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 Narrow"/>
              </a:rPr>
              <a:t>Cache-control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: no-cach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 Narrow"/>
              </a:rPr>
              <a:t>Content-Encoding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: gzip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 Narrow"/>
              </a:rPr>
              <a:t>Content-Language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: hu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 Narrow"/>
              </a:rPr>
              <a:t>Content-Length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: 3495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 Narrow"/>
              </a:rPr>
              <a:t>Content-Type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: text/html; charset=ISO-8859-1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 Narrow"/>
              </a:rPr>
              <a:t>If-Modified-Since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: Sat, 29 Oct 1994 19:43:31 GM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 Narrow"/>
              </a:rPr>
              <a:t>Referer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: http://www.w3.org/hypertext/DataSources/Overview.html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www.w3.org/Protocols/rfc2616/rfc2616-sec14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B4C-9234-4986-8E22-FB9CD1EBF8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432D4-E8EC-4317-A656-EB713F8114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1.2.3 Állapotkód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200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O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304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ot Modifi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400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Bad Reque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401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Unauthoriz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404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ot Foun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500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Internal Server Err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www.w3.org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3"/>
              </a:rPr>
              <a:t>Protocols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4"/>
              </a:rPr>
              <a:t>/rfc2616/rfc2616-sec10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5E6-9557-4870-A1DF-FB5487EEB1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82607-0565-470A-B421-C3E8130E11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erkovich Péter</cp:lastModifiedBy>
  <dcterms:modified xsi:type="dcterms:W3CDTF">2006-04-24T21:38:09Z</dcterms:modified>
  <cp:revision>79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