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565-3DE7-4603-BEBC-022B14FF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E53-AA0D-424B-8760-4A07F26E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4B0-E0E4-4D7F-88C6-F943A32A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0CF-4892-441A-BF7A-E2236563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1708-0121-4388-8FC1-41AAA9CC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C06A-B129-40E3-B435-44943FE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98CF-8FEA-46A4-94BD-F2035964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803F-5184-484C-94AB-02BD9C88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4C30-FCB2-45B2-BF23-B8F5E43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9588-0584-420B-9381-9106CE7B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2F48-75F5-44A1-B0C6-EA913CC4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6C8-95E7-46A2-B9FB-6A59328F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1623-77D8-4038-BD8B-5E84083A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B34E-8C65-4757-A20D-1FAB697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35D0-F43D-407F-996A-70B2706D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AAA4-0EEB-4015-9183-6D513A47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9854-92A1-4246-B234-40385A8F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D51-DBA4-47A8-9D3F-1C700FDD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6EC-8165-49B6-9408-4034B5BE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AA9-6EB3-4E89-8FF2-A7852314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111-2BE7-4C90-B786-DAB6F482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282-2D90-4127-9B37-446608AB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60D-02E1-4D6E-B967-04FF04D9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8C9-039D-43F1-A111-8CFCF25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DF6F-D5DD-490B-8719-88D3CE7C153B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BE4A-5661-45EF-BCA5-C4EEC17BAA74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210A-34F3-440E-AD4E-AC6CB34BC082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F538-CF39-4653-99F7-8A9B9CEEC165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Protocols/rfc2616/rfc2616-sec14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8000" y="2085840"/>
            <a:ext cx="6799320" cy="27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12. Adatábrázolás, multiméd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ahoma"/>
              </a:rPr>
              <a:t>bináris adatok átvitele 7 bites rendszerekben</a:t>
            </a:r>
            <a:endParaRPr b="0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ase64 kód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inden 3 byte (24 bit) 4 db 6 bites egységként kerül kódolásra a következő készletből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ABCDEFGHIJKLMNOP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QRSTUVWXYZabcdef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ghijklmnopqrstuv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urier New"/>
              </a:rPr>
              <a:t>wxyz0123456789+/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quoted-print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inden 128-nál nagyobb kódú karakter kódolásra kerül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=8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élda: P=E9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C3F-4281-410E-9FF0-127CF84F71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28309-0B3C-4B24-899F-A7CC55D6C3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ínek ábrázolás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557360"/>
            <a:ext cx="388944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Látószerv érzékenység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GB színmode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dditív színkeveré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24 bites ábráz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#</a:t>
            </a:r>
            <a:r>
              <a:rPr b="1" lang="hu-HU" sz="1600" spc="-1" strike="noStrike">
                <a:solidFill>
                  <a:srgbClr val="ff0000"/>
                </a:solidFill>
                <a:latin typeface="Courier New"/>
              </a:rPr>
              <a:t>RR</a:t>
            </a:r>
            <a:r>
              <a:rPr b="1" lang="hu-HU" sz="1600" spc="-1" strike="noStrike">
                <a:solidFill>
                  <a:srgbClr val="00ff00"/>
                </a:solidFill>
                <a:latin typeface="Courier New"/>
              </a:rPr>
              <a:t>GG</a:t>
            </a:r>
            <a:r>
              <a:rPr b="1" lang="hu-HU" sz="1600" spc="-1" strike="noStrike">
                <a:solidFill>
                  <a:srgbClr val="0000ff"/>
                </a:solidFill>
                <a:latin typeface="Courier New"/>
              </a:rPr>
              <a:t>BB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#FF0000: </a:t>
            </a: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élénkvörö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#00FF00: </a:t>
            </a: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élénkzöld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#800000: </a:t>
            </a: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sötétvörö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#FFFF00: </a:t>
            </a: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sárg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#808080: </a:t>
            </a: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középszürke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#000000: </a:t>
            </a: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fekete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Egyéb fogalmak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Alfa: átlátszóság (</a:t>
            </a:r>
            <a:r>
              <a:rPr b="0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 RGBA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4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 Narrow"/>
              </a:rPr>
              <a:t>Gamma: kontrasz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5080" y="2081160"/>
            <a:ext cx="3809880" cy="178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59480" y="41148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642-E9D0-4008-BA82-C9596FBA77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DA77D-229D-42EE-9C36-950EB9988C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Adattömörít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ultimédia: tömörítés nélkül túl sok ad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D Hang: 44 kHz/16 bit: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,4 Mbit/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énykép: 1280*960*24: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3,6 Mbyte egy ké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Videókép: 720*480*50*24: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414 Mbit/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szimmetrikus eljár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ódolás: lehet lassú és drága; dekódolás olcsó és gyo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Videokonferencia: gyors kódolás szükség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eszteségmentes / vesztesé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ntrópiakódolás / Forráskód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E8A-97DF-447B-97C7-FD4CEA98CD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1BE3D-B037-40F9-957F-ED062BF32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Entrópiakódo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dat jelentésétől függetle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indig veszteségmen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Példá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utamhosszkódolás –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smétlődő adatok kihasználá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3150000008458711111111111635467400000000006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315A00684587A1116354674A0106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tatisztikai kód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Gyakoribb szimbólum – rövidebb kódszó, …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LUT (színtáblázat; paletta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DEE-FDFF-45DF-9C35-69669FE093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439BE-7D5F-472D-A1E4-0DCC72C7E4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Forráskódo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dat tulajdonságai alapján -- gyakran vesztesé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mit nem látni / hallni, azt el lehet hanyagoln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éldá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ülönbségi kódolás – lassan változó jel eseté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ourier transzformáció – a spektrum nagy energiájú része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étdimenziós képre a DC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RGB helyett YIQ 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(a fényességre sokkal érzékenyebb a szem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40D-9AB0-47FF-9DE4-066FAC372F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1AEE4-7799-4B83-AE99-E33D04FB1E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JP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Leggyakoribb alkalmazás hat lépé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lokkelőkészíté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CT (diszkrét koszinust transzformáció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vantá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ülönbségi kvantá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utamhossz-kód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tatisztikai kód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77E-9DF9-4B9D-AC55-B6CC05AB75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275F3-89DA-4812-9F7D-0DA20D8439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JPEG – blokkelőkészítés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Luminacia / krominancia kiszámítása RGB-bő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Y = 0,30*R + 0,59*G + 0,11*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I = 0,60*R + 0,28*G – 0,32*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ourier New"/>
              </a:rPr>
              <a:t>Q = 0,21*R + 0,52*G + 0,31*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, Q blokkok felbontásának felezé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inden mátrixot 8*8 pixeles blokkokra bontun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3C8-2F05-44EA-B8EF-C1E6BB72E7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F7BC8-2EFB-4798-8407-6C7985D5D3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JPEG – DCT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inden 8*8 pixeles blokkra külön alkalmazzu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(0,0) a blokk átlagérték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többi a térbeli frekvenciák spektrális teljesítmény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lvileg veszteségmentes, de a kerekítési hibák miatt nem teljes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Általában (0,0)-tól távolodva az értékek rohamosan csökkennek, de a kvantálás során ki is esn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D57-CD91-45DF-B023-E98E8B8222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61BD0-48A6-453F-92B6-75CCFA6034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JPEG – kvantá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1981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DCT együtthatók leosztásra kerülnek a kvantálási táblázat értékei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1-es érték nem változta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kvantálási táblázat alkalmazásfüggő, ezzel beállítható a tömöríté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45080" y="1981080"/>
          <a:ext cx="3809880" cy="20448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5920"/>
                <a:gridCol w="476280"/>
                <a:gridCol w="476280"/>
                <a:gridCol w="476280"/>
              </a:tblGrid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2560" y="4114800"/>
          <a:ext cx="3810240" cy="22604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645080" y="4114800"/>
          <a:ext cx="3809880" cy="22604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514080"/>
                <a:gridCol w="438120"/>
                <a:gridCol w="476280"/>
                <a:gridCol w="476280"/>
                <a:gridCol w="47628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ea6d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ccff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651640" y="549360"/>
            <a:ext cx="2520720" cy="1257120"/>
          </a:xfrm>
          <a:prstGeom prst="wedgeEllipseCallout">
            <a:avLst>
              <a:gd name="adj1" fmla="val -34129"/>
              <a:gd name="adj2" fmla="val 7348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Pél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kvantálási tábláza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2565360"/>
            <a:ext cx="2521080" cy="1257480"/>
          </a:xfrm>
          <a:prstGeom prst="wedgeEllipseCallout">
            <a:avLst>
              <a:gd name="adj1" fmla="val -26069"/>
              <a:gd name="adj2" fmla="val 8585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Pél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DCT együtthatók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2800440"/>
            <a:ext cx="2520720" cy="1257120"/>
          </a:xfrm>
          <a:prstGeom prst="wedgeEllipseCallout">
            <a:avLst>
              <a:gd name="adj1" fmla="val -34129"/>
              <a:gd name="adj2" fmla="val 73486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Pél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kvantált együtthatók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11B-806D-4E48-B522-53F6C0FD0A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C6158-EAF8-4022-9E30-AC0F8C093E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JPEG – különbségi kvantá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(0,0) elem a blokk átlaga, a „DC” kompone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(0,0) elemek értékét az előző blokk (0,0) elemétől való eltéréssel helyettesítjü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árhatóan lassan változik, ezért nyerü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EF7-DABC-48F3-B50C-C699ADE25C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AC4B5-7A2E-49E2-8E4C-214FFD3788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2.1 Bevezet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Karakterkódolások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Állóképek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Mozgóképek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Ha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(Hálózati videózás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Multimédia: két vagy több folytonos méd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7D2-749F-4458-8F2F-8DA74D77FB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3F83C-1E7C-4B46-B4F1-77B266185D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JPEG – entrópiakódolás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2560" y="184428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orba rakás, futamhosszkódol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150, 80, 92, 26, 75, 20, 4, 18, 19, 3, 1, 2, 13, 3, 1, 0, 1, 2, 2, 0, 0, 0, 0, 0, 1, 1, 0, 0, 0, 0, 0, 0, 0, 0, 0, 0, 0, 0, 0, 0, 0, 0, 0, 0, 0, 0, 0, 0, 0, 0, 0, 0, 0, 0, 0, 0, 0, 0, 0, 0, 0, 0, 0, 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 végén a 38 nulla jól futamhosszkódolható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Utoljára egy Huffmann kódolással tovább tömörítjük (~ zip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2560" y="4005360"/>
          <a:ext cx="4897440" cy="248904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2720"/>
                <a:gridCol w="660600"/>
                <a:gridCol w="563400"/>
                <a:gridCol w="612720"/>
                <a:gridCol w="611280"/>
                <a:gridCol w="61272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ea6d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42920" y="4149720"/>
            <a:ext cx="5763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971280" y="4149720"/>
            <a:ext cx="647640" cy="3589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0" cy="2887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5084640"/>
            <a:ext cx="0" cy="2890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5734080"/>
            <a:ext cx="0" cy="2887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971640" y="4149360"/>
            <a:ext cx="1224000" cy="64764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4149720"/>
            <a:ext cx="57600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4149720"/>
            <a:ext cx="5763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4149720"/>
            <a:ext cx="5763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971640" y="4149720"/>
            <a:ext cx="2520720" cy="12225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971640" y="4149720"/>
            <a:ext cx="1800000" cy="9349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971280" y="4149720"/>
            <a:ext cx="3097080" cy="15843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971280" y="4149720"/>
            <a:ext cx="4321080" cy="21589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971640" y="4149360"/>
            <a:ext cx="3744720" cy="187164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6308640"/>
            <a:ext cx="5763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6308640"/>
            <a:ext cx="5763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6308640"/>
            <a:ext cx="5763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6308640"/>
            <a:ext cx="7207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2000" y="6021360"/>
            <a:ext cx="720720" cy="2872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492000" y="5373720"/>
            <a:ext cx="1800360" cy="9349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68000" y="4797360"/>
            <a:ext cx="3024360" cy="15112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4508640"/>
            <a:ext cx="0" cy="2887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5084640"/>
            <a:ext cx="0" cy="2890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5734080"/>
            <a:ext cx="0" cy="28872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547640" y="4436640"/>
            <a:ext cx="3745080" cy="187164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43280" y="5084640"/>
            <a:ext cx="2520720" cy="12225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067280" y="5660640"/>
            <a:ext cx="1224000" cy="64764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A72-9DA4-49A5-8363-E89F8EC993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7A513-E09C-4E3E-BE78-A4A841AF92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MPE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otion Picture Expert Gro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PEG-1 (ISO 11172) – Video CD tár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,2 Mbit/s, kb. VHS minőség (eredetileg 470 Mbit/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PEG-2 (ISO 13818) – DVD, HDTV, digitális műhold (többféle felbontá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PEG-4 (videókonferenciák kis sávszélességtő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udió + Videó + nyaláboló rendsz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33 bites rendszeróra, max 24 órás fil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FEC-F354-49A0-A17B-6A8F6CD253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3510B-0FFB-4BCC-82DF-96F2E11A05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MPEG hangtömöríté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intavételi frekvenciák: 32; 44,1; 48 kHz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ono, sztereo, kapcsolt sztere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árom réteg, egyre jobb tömöríté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. alapeljárás – DCC digitális magnó (1:4, 384 kbit/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2. fejlettebb bitallokáció – CD hang (1:6…1:8, 200 kbit/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3. perceptuális szűrők, stb – „mp3” (1:10 .. 1:12, 128 kbit/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4BA-0B77-455A-AE7B-BAF9496481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6F0F1-0CC6-4C9B-AE21-9C6F8D7A0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psychoacoustics mode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2560" y="2682720"/>
            <a:ext cx="3810240" cy="271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72000" y="2682720"/>
            <a:ext cx="4896000" cy="2691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443640" y="3357720"/>
            <a:ext cx="73080" cy="165564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48360" y="3149640"/>
            <a:ext cx="1079640" cy="557280"/>
          </a:xfrm>
          <a:prstGeom prst="wedgeEllipseCallout">
            <a:avLst>
              <a:gd name="adj1" fmla="val -90439"/>
              <a:gd name="adj2" fmla="val -6981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33"/>
                </a:solidFill>
                <a:latin typeface="Arial Narrow"/>
              </a:rPr>
              <a:t>maszkol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3933720"/>
            <a:ext cx="71280" cy="10796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3789360"/>
            <a:ext cx="1008360" cy="557280"/>
          </a:xfrm>
          <a:prstGeom prst="wedgeEllipseCallout">
            <a:avLst>
              <a:gd name="adj1" fmla="val -121023"/>
              <a:gd name="adj2" fmla="val -1552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8000"/>
                </a:solidFill>
                <a:latin typeface="Arial Narrow"/>
              </a:rPr>
              <a:t>elfedet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940360" y="4005360"/>
            <a:ext cx="144360" cy="7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084720" y="3573360"/>
            <a:ext cx="28764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940360" y="4005360"/>
            <a:ext cx="144360" cy="7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84720" y="3573360"/>
            <a:ext cx="28764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372360" y="3499920"/>
            <a:ext cx="71280" cy="7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16720" y="3500280"/>
            <a:ext cx="71280" cy="7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588000" y="3573000"/>
            <a:ext cx="2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3932280"/>
            <a:ext cx="21600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20000" y="4437000"/>
            <a:ext cx="216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407664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3284640"/>
            <a:ext cx="1079280" cy="557280"/>
          </a:xfrm>
          <a:prstGeom prst="wedgeEllipseCallout">
            <a:avLst>
              <a:gd name="adj1" fmla="val 35000"/>
              <a:gd name="adj2" fmla="val 77351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ff"/>
                </a:solidFill>
                <a:latin typeface="Arial Narrow"/>
              </a:rPr>
              <a:t>elfedési küszö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1989000"/>
            <a:ext cx="1800360" cy="557280"/>
          </a:xfrm>
          <a:prstGeom prst="wedgeEllipseCallout">
            <a:avLst>
              <a:gd name="adj1" fmla="val 44268"/>
              <a:gd name="adj2" fmla="val 13547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ff"/>
                </a:solidFill>
                <a:latin typeface="Arial Narrow"/>
              </a:rPr>
              <a:t>hallástartomán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989000"/>
            <a:ext cx="1800360" cy="557280"/>
          </a:xfrm>
          <a:prstGeom prst="wedgeEllipseCallout">
            <a:avLst>
              <a:gd name="adj1" fmla="val 44268"/>
              <a:gd name="adj2" fmla="val 13547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ff"/>
                </a:solidFill>
                <a:latin typeface="Arial Narrow"/>
              </a:rPr>
              <a:t>hangelfed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CE5-663A-4496-875D-0093283E2B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3200E-79E3-4825-B986-B0805A1D8B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MPEG-1 képkódo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edundanc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érbel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inden kép külön kódolható JPEG-b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dőbel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Egymást követő képek hasonlóa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ameramozgás kompenzálás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épfajtá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 (intracoded): önálló JPEG kódolt ké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 (predictive): blokkonkénti eltérés az előzőtő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B (bidirectional): az előzőtől és következőtő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D (DC): blokkátlagok a gyorstekerésekhez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8EE-D2AD-461D-B1E3-C4ADBC7DBF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7868C-D5A0-40CB-B880-70969FE152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MPEG-2 képkódo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ltérése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ás DCT mátrix (10*10-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nterlacing (váltottsoros képek) támogat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égyféle felbontás (352 … 1920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itsebesség változó, ált. 3…4 Mbit/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yalábolás általánosabb: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l. több hangcsatorn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elirato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C9C-B5AB-485D-BAA0-93F5223920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F4DC2-FC66-467C-B27C-08DFA5F778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ink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ttp://www.microsoft.com/typography/unicode/cscp.ht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w3.org/Protocols/rfc2616/rfc2616-sec14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ttp://www.w3.org/Protocols/rfc2616/rfc2616-sec10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ttp://www.microsoft.com/typography/unicode/cs.ht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ttp://www.utf-8.com/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ttp://www.unicode.org/standard/standard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ttp://en.wikipedia.org/wiki/RG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ttp://en.wikipedia.org/wiki/Vide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830-9612-49F4-A715-52057B644E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81C08-A71A-4D53-A5EF-8E0CC35ABE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ASCII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7 bit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00..1F: vezérlőkarakter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20..2F: írásjelek (3A..40; 5B..60; 7B..7F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30..39: számjegy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41..5A: angol AB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61..7A: angol ab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ájlnevek, azonosítók, programozási nyelve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D8B-9DC5-42FD-9075-E4B3B13FCC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25B8B-9FCA-4C19-931C-F5246D29B8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Kiterjesztett ASCII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SCII + 128 új jel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BM PC (OEM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Windows (ANSI kódlapok) (magyar: CP 1250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SO-8859 sorozat (magyar: ISO-8859-2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D90-C720-4E1C-9085-9ED805BFA0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68291-C7EC-4EBE-B683-9FEC7B666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Unicode – ISO 10646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16…32 bites karakterábrázol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000000 .. 10FFFF kódtartomány (kb. 1M je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/3-a még szaba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yelvfüggetlen (!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em definiál rendezé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inden programot át kell írni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lső 256 karakter = ISO-8859-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lső 65536 karakter 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= UCS-2 (Basic Multilingual Plan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7FF-9365-4233-8B1E-E297483FB7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D1A8F-6715-4335-98A4-0238A772F2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UTF-8 </a:t>
            </a:r>
            <a:r>
              <a:rPr b="0" lang="hu-HU" sz="3200" spc="-1" strike="noStrike">
                <a:solidFill>
                  <a:srgbClr val="ffcc66"/>
                </a:solidFill>
                <a:latin typeface="Tahoma"/>
              </a:rPr>
              <a:t>(unicode transformation format)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FC 3629 – Unicode tömörített ábrázol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XML nyelv is ezt használj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áltozó hosszúságú kó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22360" y="3517920"/>
          <a:ext cx="5435640" cy="300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2360" y="3517920"/>
                    <a:ext cx="54356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A07-10C3-4A37-A02F-45DA758024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F0514-5ABE-4EBE-BE98-1E5DF0611B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RFC 822 üzenet (standard e-mail)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ejrés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inden mező egy szövegsor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ezőnév: érté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Üres s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Üzen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zabad formátumú szöve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51280" y="1981080"/>
            <a:ext cx="4603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Return-Path: &lt;valaki@gamma.ttk.pte.hu&gt;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Received: from mailgw.pte.hu [193.6.50.104]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by eiszk.pte.hu with NetMail SMTP Agent $Revision:   3.89  $ on Novell NetWare;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Sun, 30 Apr 2006 12:44:23 +020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Received: from gamma.ttk.pte.hu (gamma.ttk.pte.hu [193.6.62.162])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by mailgw.pte.hu (Postfix) with ESMTP id 9DC4B158136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for &lt;uhi@eiszk.pte.hu&gt;; Sun, 30 Apr 2006 12:44:45 -0500 (CDT)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From: "Valaki" &lt;valaki@gamma.ttk.pte.hu&gt;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To: "Uherkovich Peter" &lt;uhi@eiszk.pte.hu&gt;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Subject: RE: vizsga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Date: Sun, 30 Apr 2006 12:44:04 +020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X-Mailer: Open WebMail 2.51 2005031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X-Virus-Scanned: by amavisd-new-20030616-p10 (Debian) at mailgw.pte.hu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ourier New"/>
              </a:rPr>
              <a:t>Helló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71A-6D92-4221-A386-18013DA194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41314-B079-400E-9F01-B0DE834291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MIME üzenetkiterjesztés </a:t>
            </a: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(multlimedia  e-mail)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RFC 822 üzenetformátum kiterjeszté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szövegnek is definiálja a formátumá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Új fejrész mezők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MIME-version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ontent-id: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ontent-transfer-encoding: 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base64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ontent-type: </a:t>
            </a: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típus/altípu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3BD-A49D-4542-B163-6FF55FE4D2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63F22-074D-46CC-8E69-CDD09B4C55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MIME tartalom típus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ttp://www.iana.org/assignments/media-types/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ext/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ext/javascrip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ext/cs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ext/pla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mage/jpe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mage/gif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mage/p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pplication/mswor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786-E728-439C-897F-34FE261D07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D882D-262F-4B9B-A696-EEF67AE5F1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5-01T17:10:56Z</dcterms:modified>
  <cp:revision>86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