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media/image7.jpeg" ContentType="image/jpeg"/>
  <Override PartName="/ppt/media/image6.wmf" ContentType="image/x-wmf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FF97E-EE0B-4DC5-98F0-566B329ABD7E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Maguk az algoritmusok bonyolultak, több órán át lehetne foglalkozni velük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Számolási példa. Legyen egy üzenet 10 keret hosszúságú, és legyen a keretek megsérülésének valószínűsége 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Mekkora p érték fölött gazdaságos keretenként nyugtázni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Házi feladat: nyelőfa számítása arra az esetre, h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Vizszintes él költsé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Függőleges él költség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Átlós él költség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06E3B-13A5-4276-AC8C-68C6D5B6E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B176F-DE8C-4551-9DEF-01E7FD337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85213-C87E-4115-8C25-3ADC8A59C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E8EF3-DBD7-4A58-B601-08072AF82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EB5D3-1F70-4407-97AA-76551745C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5BB98-3124-47D6-B9E6-F542F1F82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79391-05E7-4E6A-92EB-91851DC49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47AF3-E37C-400E-99AC-9D47ECC2A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B3EA2-00A3-437D-B74C-26295935B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B404C-94A0-41FE-8757-58845CE86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4D4DB-A0DB-4BDB-950F-E23B4DC63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3CCBA-47C6-48C7-BCC4-0F0D29C9D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A0583-D807-4AE7-A798-69C1290BC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1C7A6-1A8D-4B2D-B874-38F6E4DAA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471B1-A104-4878-8C97-C1FC09CE5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7DB9C-CF38-475B-9C75-3CC97B0CE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81AE9-19F8-4D07-934A-4DC08A499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7E301-0F37-4105-8DC1-551A9DDB8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37785-DCEB-4CF2-AD36-6F167C88B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EFB79-A1B2-4C4B-878F-517C0787D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55B28-5FC8-4B50-B826-E1C8D265F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B40E3-5829-4592-8C37-4F7DCD676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AA3AD-FE12-4CCD-AA89-15A3B8626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82100-2096-4354-8C5F-21B5C24E8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Arial Narrow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ff003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cc66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5820E-7890-4997-838E-4A2D16FD982C}" type="datetime">
              <a:rPr b="0" lang="hu-HU" sz="1400" spc="-1" strike="noStrike">
                <a:solidFill>
                  <a:srgbClr val="ffcc66"/>
                </a:solidFill>
                <a:latin typeface="Arial Narrow"/>
              </a:rPr>
              <a:t>26.07.30.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cc66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cc66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11D7F-D6D5-4504-BDC0-D43D68B3DF85}" type="slidenum">
              <a:rPr b="0" lang="hu-HU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76ADD-CD57-43A6-8558-476EDD988FBB}" type="datetime">
              <a:rPr b="0" lang="hu-HU" sz="1400" spc="-1" strike="noStrike">
                <a:solidFill>
                  <a:srgbClr val="ffffff"/>
                </a:solidFill>
                <a:latin typeface="Times New Roman"/>
              </a:rPr>
              <a:t>26.07.30.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129528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ACF80-5D87-4E80-89D1-F3FA493C48C8}" type="slidenum">
              <a:rPr b="0" lang="hu-H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2" marL="914400" algn="ctr">
              <a:spcBef>
                <a:spcPts val="601"/>
              </a:spcBef>
              <a:buClr>
                <a:srgbClr val="ff0033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3" marL="1371600" algn="ctr">
              <a:spcBef>
                <a:spcPts val="4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Font typeface="Arial Narrow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mailto:uherkovich.peter@eiszk.pte.hu" TargetMode="External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ripe.net/" TargetMode="External"/><Relationship Id="rId3" Type="http://schemas.openxmlformats.org/officeDocument/2006/relationships/hyperlink" Target="http://www.ripe.net/" TargetMode="External"/><Relationship Id="rId4" Type="http://schemas.openxmlformats.org/officeDocument/2006/relationships/hyperlink" Target="http://www.iif.hu/index.php?headline=szolg&amp;text=szolg7.html&amp;nomenu=1" TargetMode="External"/><Relationship Id="rId5" Type="http://schemas.openxmlformats.org/officeDocument/2006/relationships/hyperlink" Target="http://www.iif.hu/index.php?headline=szolg&amp;text=szolg7.html&amp;nomenu=1" TargetMode="External"/><Relationship Id="rId6" Type="http://schemas.openxmlformats.org/officeDocument/2006/relationships/hyperlink" Target="http://www.iif.hu/index.php?headline=szolg&amp;text=szolg7.html&amp;nomenu=1" TargetMode="External"/><Relationship Id="rId7" Type="http://schemas.openxmlformats.org/officeDocument/2006/relationships/hyperlink" Target="http://www.iif.hu/index.php?headline=szolg&amp;text=szolg7.html&amp;nomenu=1" TargetMode="External"/><Relationship Id="rId8" Type="http://schemas.openxmlformats.org/officeDocument/2006/relationships/hyperlink" Target="http://www.iif.hu/index.php?headline=szolg&amp;text=szolg7.html&amp;nomenu=1" TargetMode="External"/><Relationship Id="rId9" Type="http://schemas.openxmlformats.org/officeDocument/2006/relationships/hyperlink" Target="http://www.iif.hu/index.php?headline=szolg&amp;text=szolg7.html&amp;nomenu=1" TargetMode="External"/><Relationship Id="rId10" Type="http://schemas.openxmlformats.org/officeDocument/2006/relationships/hyperlink" Target="http://www.iif.hu/index.php?headline=szolg&amp;text=szolg7.html&amp;nomenu=1" TargetMode="External"/><Relationship Id="rId11" Type="http://schemas.openxmlformats.org/officeDocument/2006/relationships/hyperlink" Target="http://www.iif.hu/index.php?headline=szolg&amp;text=szolg7.html&amp;nomenu=1" TargetMode="External"/><Relationship Id="rId12" Type="http://schemas.openxmlformats.org/officeDocument/2006/relationships/hyperlink" Target="http://www.iif.hu/index.php?headline=szolg&amp;text=szolg7.html&amp;nomenu=1" TargetMode="External"/><Relationship Id="rId1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image" Target="../media/image6.wmf"/><Relationship Id="rId7" Type="http://schemas.openxmlformats.org/officeDocument/2006/relationships/image" Target="../media/image6.wmf"/><Relationship Id="rId8" Type="http://schemas.openxmlformats.org/officeDocument/2006/relationships/image" Target="../media/image6.wmf"/><Relationship Id="rId9" Type="http://schemas.openxmlformats.org/officeDocument/2006/relationships/image" Target="../media/image6.wmf"/><Relationship Id="rId10" Type="http://schemas.openxmlformats.org/officeDocument/2006/relationships/image" Target="../media/image6.wmf"/><Relationship Id="rId11" Type="http://schemas.openxmlformats.org/officeDocument/2006/relationships/image" Target="../media/image6.wmf"/><Relationship Id="rId12" Type="http://schemas.openxmlformats.org/officeDocument/2006/relationships/image" Target="../media/image6.wmf"/><Relationship Id="rId13" Type="http://schemas.openxmlformats.org/officeDocument/2006/relationships/image" Target="../media/image6.wmf"/><Relationship Id="rId1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cisco.com/univercd/cc/td/doc/cisintwk/ito_doc/ip.htm" TargetMode="External"/><Relationship Id="rId3" Type="http://schemas.openxmlformats.org/officeDocument/2006/relationships/hyperlink" Target="http://www.cisco.com/univercd/cc/td/doc/cisintwk/ito_doc/ip.htm" TargetMode="External"/><Relationship Id="rId4" Type="http://schemas.openxmlformats.org/officeDocument/2006/relationships/hyperlink" Target="http://www.cisco.com/univercd/cc/td/doc/cisintwk/ito_doc/ip.htm" TargetMode="External"/><Relationship Id="rId5" Type="http://schemas.openxmlformats.org/officeDocument/2006/relationships/hyperlink" Target="http://www.cisco.com/univercd/cc/td/doc/cisintwk/ito_doc/ip.htm" TargetMode="External"/><Relationship Id="rId6" Type="http://schemas.openxmlformats.org/officeDocument/2006/relationships/hyperlink" Target="http://www.cisco.com/univercd/cc/td/doc/cisintwk/ito_doc/ip.htm" TargetMode="External"/><Relationship Id="rId7" Type="http://schemas.openxmlformats.org/officeDocument/2006/relationships/hyperlink" Target="http://www.cisco.com/univercd/cc/td/doc/cisintwk/ito_doc/ip.htm" TargetMode="External"/><Relationship Id="rId8" Type="http://schemas.openxmlformats.org/officeDocument/2006/relationships/hyperlink" Target="http://www.cisco.com/univercd/cc/td/doc/cisintwk/ito_doc/ip.htm" TargetMode="External"/><Relationship Id="rId9" Type="http://schemas.openxmlformats.org/officeDocument/2006/relationships/hyperlink" Target="http://www.cisco.com/univercd/cc/td/doc/cisintwk/ito_doc/ip.htm" TargetMode="External"/><Relationship Id="rId10" Type="http://schemas.openxmlformats.org/officeDocument/2006/relationships/hyperlink" Target="http://www.cisco.com/univercd/cc/td/doc/cisintwk/ito_doc/ip.htm" TargetMode="External"/><Relationship Id="rId11" Type="http://schemas.openxmlformats.org/officeDocument/2006/relationships/hyperlink" Target="http://www.cisco.com/univercd/cc/td/doc/cisintwk/ito_doc/ip.htm" TargetMode="External"/><Relationship Id="rId12" Type="http://schemas.openxmlformats.org/officeDocument/2006/relationships/hyperlink" Target="http://www.cisco.com/univercd/cc/td/doc/cisintwk/ito_doc/ip.htm" TargetMode="External"/><Relationship Id="rId13" Type="http://schemas.openxmlformats.org/officeDocument/2006/relationships/hyperlink" Target="http://www.cisco.com/univercd/cc/td/doc/cisintwk/ito_doc/ip.htm" TargetMode="External"/><Relationship Id="rId14" Type="http://schemas.openxmlformats.org/officeDocument/2006/relationships/hyperlink" Target="http://www.cisco.com/univercd/cc/td/doc/cisintwk/ito_doc/ip.htm" TargetMode="External"/><Relationship Id="rId15" Type="http://schemas.openxmlformats.org/officeDocument/2006/relationships/hyperlink" Target="http://www.cisco.com/univercd/cc/td/doc/cisintwk/ito_doc/ip.htm" TargetMode="External"/><Relationship Id="rId16" Type="http://schemas.openxmlformats.org/officeDocument/2006/relationships/hyperlink" Target="http://www.cisco.com/univercd/cc/td/doc/cisintwk/ito_doc/ip.htm" TargetMode="External"/><Relationship Id="rId17" Type="http://schemas.openxmlformats.org/officeDocument/2006/relationships/hyperlink" Target="http://www.cisco.com/univercd/cc/td/doc/cisintwk/ito_doc/ip.htm" TargetMode="External"/><Relationship Id="rId18" Type="http://schemas.openxmlformats.org/officeDocument/2006/relationships/hyperlink" Target="http://www.cisco.com/univercd/cc/td/doc/cisintwk/ito_doc/ip.htm" TargetMode="External"/><Relationship Id="rId19" Type="http://schemas.openxmlformats.org/officeDocument/2006/relationships/hyperlink" Target="http://www.cisco.com/univercd/cc/td/doc/cisintwk/ito_doc/ip.htm" TargetMode="External"/><Relationship Id="rId20" Type="http://schemas.openxmlformats.org/officeDocument/2006/relationships/hyperlink" Target="http://www.cisco.com/univercd/cc/td/doc/cisintwk/ito_doc/ip.htm" TargetMode="External"/><Relationship Id="rId21" Type="http://schemas.openxmlformats.org/officeDocument/2006/relationships/hyperlink" Target="http://ist.marshall.edu/ist362/nwl.html" TargetMode="External"/><Relationship Id="rId22" Type="http://schemas.openxmlformats.org/officeDocument/2006/relationships/hyperlink" Target="http://ist.marshall.edu/ist362/nwl.html" TargetMode="External"/><Relationship Id="rId2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cc66"/>
                </a:solidFill>
                <a:latin typeface="Tahoma"/>
              </a:rPr>
              <a:t>Számítógép-hálózatok</a:t>
            </a: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268000" y="2085840"/>
            <a:ext cx="6799320" cy="271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 Narrow"/>
              </a:rPr>
              <a:t>Uherkovich Péter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 u="sng">
                <a:solidFill>
                  <a:srgbClr val="ff0033"/>
                </a:solidFill>
                <a:uFillTx/>
                <a:latin typeface="Arial Narrow"/>
                <a:hlinkClick r:id="rId2"/>
              </a:rPr>
              <a:t>uherkovich.peter@eiszk.pte.hu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ffffff"/>
                </a:solidFill>
                <a:latin typeface="Arial Narrow"/>
              </a:rPr>
              <a:t>7. A hálózati réteg. 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ffffff"/>
                </a:solidFill>
                <a:latin typeface="Arial Narrow"/>
              </a:rPr>
              <a:t>Az ip címzésrendszere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cc66"/>
                </a:solidFill>
                <a:latin typeface="Tahoma"/>
              </a:rPr>
              <a:t>7.6. Torlódásvédelmi algoritmusok</a:t>
            </a:r>
            <a:endParaRPr b="0" lang="en-US" sz="36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ccff"/>
              </a:buClr>
              <a:buFont typeface="Arial Narrow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 Narrow"/>
              </a:rPr>
              <a:t>Torlódás (congestion) alakul ki: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spcBef>
                <a:spcPts val="499"/>
              </a:spcBef>
              <a:buClr>
                <a:srgbClr val="ff003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 Narrow"/>
              </a:rPr>
              <a:t>Sok csomag érkezik több vonalon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spcBef>
                <a:spcPts val="499"/>
              </a:spcBef>
              <a:buClr>
                <a:srgbClr val="ff003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 Narrow"/>
              </a:rPr>
              <a:t>Mind ugyanarra az irányra akar kimenni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spcBef>
                <a:spcPts val="499"/>
              </a:spcBef>
              <a:buClr>
                <a:srgbClr val="ff003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 Narrow"/>
              </a:rPr>
              <a:t>A puffermemória betelt – csomagok eldobásra kerülnek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spcBef>
                <a:spcPts val="499"/>
              </a:spcBef>
              <a:buClr>
                <a:srgbClr val="ff003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 Narrow"/>
              </a:rPr>
              <a:t>– </a:t>
            </a:r>
            <a:r>
              <a:rPr b="0" lang="hu-HU" sz="2000" spc="-1" strike="noStrike">
                <a:solidFill>
                  <a:srgbClr val="ffffff"/>
                </a:solidFill>
                <a:latin typeface="Arial Narrow"/>
              </a:rPr>
              <a:t>vagy a processzor lassú (sok kis csomag)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ccff"/>
              </a:buClr>
              <a:buFont typeface="Arial Narrow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 Narrow"/>
              </a:rPr>
              <a:t>A torlódás hatásai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spcBef>
                <a:spcPts val="499"/>
              </a:spcBef>
              <a:buClr>
                <a:srgbClr val="ff003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 Narrow"/>
              </a:rPr>
              <a:t>Tovább növeli a forgalmat (újraküldések)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spcBef>
                <a:spcPts val="499"/>
              </a:spcBef>
              <a:buClr>
                <a:srgbClr val="ff003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 Narrow"/>
              </a:rPr>
              <a:t>Küldő puffere megtelik – ott is torlódás alakul ki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spcBef>
                <a:spcPts val="499"/>
              </a:spcBef>
              <a:buClr>
                <a:srgbClr val="ff003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 Narrow"/>
              </a:rPr>
              <a:t>A torlódás visszafelé terjed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ccff"/>
              </a:buClr>
              <a:buFont typeface="Arial Narrow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 Narrow"/>
              </a:rPr>
              <a:t>Torlódásvédelem és forgalomszabályozás nem azonos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TK - IÁTT - Rendszertechnika  - Számítógép-hálózato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3CC2A-C761-46B5-9827-C22222B98103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651AB2-8841-4CC8-8CE7-664C220D577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cc66"/>
                </a:solidFill>
                <a:latin typeface="Tahoma"/>
              </a:rPr>
              <a:t>7.7 Az Internet hálózati rétege</a:t>
            </a: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 Narrow"/>
              </a:rPr>
              <a:t>Az ip protokoll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00ccff"/>
              </a:buClr>
              <a:buFont typeface="Arial Narrow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 Narrow"/>
              </a:rPr>
              <a:t>Az ip megbízhatatlan datagram alapú protokoll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 Narrow"/>
              </a:rPr>
              <a:t>Ip-re épülő vezérlőprotokollok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 Narrow"/>
              </a:rPr>
              <a:t>Címrendszer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00ccff"/>
              </a:buClr>
              <a:buFont typeface="Arial Narrow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 Narrow"/>
              </a:rPr>
              <a:t>NIC adja ki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00ccff"/>
              </a:buClr>
              <a:buFont typeface="Arial Narrow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 Narrow"/>
              </a:rPr>
              <a:t>Szolgáltatókhoz hierarchikusan delegálva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ff003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 Narrow"/>
              </a:rPr>
              <a:t>Európában: </a:t>
            </a:r>
            <a:r>
              <a:rPr b="1" lang="hu-HU" sz="1800" spc="-1" strike="noStrike">
                <a:solidFill>
                  <a:srgbClr val="ffffff"/>
                </a:solidFill>
                <a:latin typeface="Arial Narrow"/>
              </a:rPr>
              <a:t>RIPE</a:t>
            </a:r>
            <a:r>
              <a:rPr b="0" lang="hu-HU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hu-HU" sz="2400" spc="-1" strike="noStrike" u="sng">
                <a:solidFill>
                  <a:srgbClr val="ff0033"/>
                </a:solidFill>
                <a:uFillTx/>
                <a:latin typeface="Arial Narrow"/>
                <a:hlinkClick r:id="rId2"/>
              </a:rPr>
              <a:t>http://</a:t>
            </a:r>
            <a:r>
              <a:rPr b="0" lang="hu-HU" sz="2400" spc="-1" strike="noStrike" u="sng">
                <a:solidFill>
                  <a:srgbClr val="ff0033"/>
                </a:solidFill>
                <a:uFillTx/>
                <a:latin typeface="Arial Narrow"/>
                <a:hlinkClick r:id="rId3"/>
              </a:rPr>
              <a:t>www.ripe.net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spcBef>
                <a:spcPts val="349"/>
              </a:spcBef>
              <a:buClr>
                <a:srgbClr val="ff003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 Narrow"/>
              </a:rPr>
              <a:t>HBONE: </a:t>
            </a:r>
            <a:r>
              <a:rPr b="1" lang="hu-HU" sz="1800" spc="-1" strike="noStrike">
                <a:solidFill>
                  <a:srgbClr val="ffffff"/>
                </a:solidFill>
                <a:latin typeface="Arial Narrow"/>
              </a:rPr>
              <a:t>NIIF</a:t>
            </a:r>
            <a:r>
              <a:rPr b="0" lang="hu-HU" sz="1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hu-HU" sz="14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hu-HU" sz="1400" spc="-1" strike="noStrike" u="sng">
                <a:solidFill>
                  <a:srgbClr val="ff0033"/>
                </a:solidFill>
                <a:uFillTx/>
                <a:latin typeface="Arial Narrow"/>
                <a:hlinkClick r:id="rId4"/>
              </a:rPr>
              <a:t>http://</a:t>
            </a:r>
            <a:r>
              <a:rPr b="0" lang="hu-HU" sz="1400" spc="-1" strike="noStrike" u="sng">
                <a:solidFill>
                  <a:srgbClr val="ff0033"/>
                </a:solidFill>
                <a:uFillTx/>
                <a:latin typeface="Arial Narrow"/>
                <a:hlinkClick r:id="rId5"/>
              </a:rPr>
              <a:t>www.iif.hu</a:t>
            </a:r>
            <a:r>
              <a:rPr b="0" lang="hu-HU" sz="1400" spc="-1" strike="noStrike" u="sng">
                <a:solidFill>
                  <a:srgbClr val="ff0033"/>
                </a:solidFill>
                <a:uFillTx/>
                <a:latin typeface="Arial Narrow"/>
                <a:hlinkClick r:id="rId6"/>
              </a:rPr>
              <a:t>/</a:t>
            </a:r>
            <a:r>
              <a:rPr b="0" lang="hu-HU" sz="1400" spc="-1" strike="noStrike" u="sng">
                <a:solidFill>
                  <a:srgbClr val="ff0033"/>
                </a:solidFill>
                <a:uFillTx/>
                <a:latin typeface="Arial Narrow"/>
                <a:hlinkClick r:id="rId7"/>
              </a:rPr>
              <a:t>index.php</a:t>
            </a:r>
            <a:r>
              <a:rPr b="0" lang="hu-HU" sz="1400" spc="-1" strike="noStrike" u="sng">
                <a:solidFill>
                  <a:srgbClr val="ff0033"/>
                </a:solidFill>
                <a:uFillTx/>
                <a:latin typeface="Arial Narrow"/>
                <a:hlinkClick r:id="rId8"/>
              </a:rPr>
              <a:t>?</a:t>
            </a:r>
            <a:r>
              <a:rPr b="0" lang="hu-HU" sz="1400" spc="-1" strike="noStrike" u="sng">
                <a:solidFill>
                  <a:srgbClr val="ff0033"/>
                </a:solidFill>
                <a:uFillTx/>
                <a:latin typeface="Arial Narrow"/>
                <a:hlinkClick r:id="rId9"/>
              </a:rPr>
              <a:t>headline</a:t>
            </a:r>
            <a:r>
              <a:rPr b="0" lang="hu-HU" sz="1400" spc="-1" strike="noStrike" u="sng">
                <a:solidFill>
                  <a:srgbClr val="ff0033"/>
                </a:solidFill>
                <a:uFillTx/>
                <a:latin typeface="Arial Narrow"/>
                <a:hlinkClick r:id="rId10"/>
              </a:rPr>
              <a:t>=</a:t>
            </a:r>
            <a:r>
              <a:rPr b="0" lang="hu-HU" sz="1400" spc="-1" strike="noStrike" u="sng">
                <a:solidFill>
                  <a:srgbClr val="ff0033"/>
                </a:solidFill>
                <a:uFillTx/>
                <a:latin typeface="Arial Narrow"/>
                <a:hlinkClick r:id="rId11"/>
              </a:rPr>
              <a:t>szolg&amp;text</a:t>
            </a:r>
            <a:r>
              <a:rPr b="0" lang="hu-HU" sz="1400" spc="-1" strike="noStrike" u="sng">
                <a:solidFill>
                  <a:srgbClr val="ff0033"/>
                </a:solidFill>
                <a:uFillTx/>
                <a:latin typeface="Arial Narrow"/>
                <a:hlinkClick r:id="rId12"/>
              </a:rPr>
              <a:t>=szolg7.html&amp;nomenu=1</a:t>
            </a:r>
            <a:endParaRPr b="0" lang="en-US" sz="14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00ccff"/>
              </a:buClr>
              <a:buFont typeface="Arial Narrow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 Narrow"/>
              </a:rPr>
              <a:t>Ip cím igénylő formanyomtatvány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00ccff"/>
              </a:buClr>
              <a:buFont typeface="Arial Narrow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 Narrow"/>
              </a:rPr>
              <a:t>A cím tulajdonosa kereshető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TK - IÁTT - Rendszertechnika  - Számítógép-hálózato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F8977-46B5-4734-9DEF-07FCD06A8CBC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844D7F-18AD-48C5-9709-65DDFDAD460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cc66"/>
                </a:solidFill>
                <a:latin typeface="Tahoma"/>
              </a:rPr>
              <a:t>7.7.1 Az ip csomag tartalma</a:t>
            </a: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23640" y="1773360"/>
            <a:ext cx="4608360" cy="45352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 Narrow"/>
              </a:rPr>
              <a:t>Version: protokollverzió (4)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 Narrow"/>
              </a:rPr>
              <a:t>IHL: ip header length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 Narrow"/>
              </a:rPr>
              <a:t>Type-of-service: a datagram kezelési módja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 Narrow"/>
              </a:rPr>
              <a:t>Total length: a teljes csomag hossza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 Narrow"/>
              </a:rPr>
              <a:t>Identification: datagram azonosító 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 Narrow"/>
              </a:rPr>
              <a:t>Flags: tördeléshez jelzőbitek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 Narrow"/>
              </a:rPr>
              <a:t>Fragment offset: a töredék helyzete az eredeti datagramban (/8)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 Narrow"/>
              </a:rPr>
              <a:t>Time-to-live: ugrás-visszaszámláló, ha nullára csökken, a csomagot el kell dobni.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 Narrow"/>
              </a:rPr>
              <a:t>Protocol: a felsőbb szintű protokoll azonosítója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 Narrow"/>
              </a:rPr>
              <a:t>Header checksum: A fejrész CRC-je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 Narrow"/>
              </a:rPr>
              <a:t>Source address: a küldő hoszt címe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 Narrow"/>
              </a:rPr>
              <a:t>Destination address: célhoszt címe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 Narrow"/>
              </a:rPr>
              <a:t>Options: egyéb adatok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 Narrow"/>
              </a:rPr>
              <a:t>Data: a felsőbb protokoll által küldött adat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2"/>
          <a:srcRect l="0" t="0" r="32001" b="0"/>
          <a:stretch/>
        </p:blipFill>
        <p:spPr>
          <a:xfrm>
            <a:off x="4789440" y="1844640"/>
            <a:ext cx="4354560" cy="4392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TK - IÁTT - Rendszertechnika  - Számítógép-hálózato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E4DE9-9D1D-477B-AE1C-D5922BD134EC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7E5A61-21B3-452E-9D94-53F5FC14ECD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cc66"/>
                </a:solidFill>
                <a:latin typeface="Tahoma"/>
              </a:rPr>
              <a:t>7.7.2 Az ip címek</a:t>
            </a:r>
            <a:endParaRPr b="0" lang="en-US" sz="36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32 bit, de általában decimálisan jelöljük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Hálózatcím / hosztcím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Osztályba sorolt címek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400"/>
              </a:spcBef>
              <a:buClr>
                <a:srgbClr val="00ccff"/>
              </a:buClr>
              <a:buFont typeface="Arial Narrow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Arial Narrow"/>
              </a:rPr>
              <a:t>A:  128 db (16 millió hoszt)</a:t>
            </a:r>
            <a:endParaRPr b="0" lang="en-US" sz="16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400"/>
              </a:spcBef>
              <a:buClr>
                <a:srgbClr val="00ccff"/>
              </a:buClr>
              <a:buFont typeface="Arial Narrow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Arial Narrow"/>
              </a:rPr>
              <a:t>B: 16384 db (65535 db hoszt)</a:t>
            </a:r>
            <a:endParaRPr b="0" lang="en-US" sz="16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400"/>
              </a:spcBef>
              <a:buClr>
                <a:srgbClr val="00ccff"/>
              </a:buClr>
              <a:buFont typeface="Arial Narrow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Arial Narrow"/>
              </a:rPr>
              <a:t>C: 2097152 db (254 db hoszt)</a:t>
            </a:r>
            <a:endParaRPr b="0" lang="en-US" sz="16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400"/>
              </a:spcBef>
              <a:buClr>
                <a:srgbClr val="00ccff"/>
              </a:buClr>
              <a:buFont typeface="Arial Narrow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Arial Narrow"/>
              </a:rPr>
              <a:t>D: multicast csoportok</a:t>
            </a:r>
            <a:endParaRPr b="0" lang="en-US" sz="16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400"/>
              </a:spcBef>
              <a:buClr>
                <a:srgbClr val="00ccff"/>
              </a:buClr>
              <a:buFont typeface="Arial Narrow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Arial Narrow"/>
              </a:rPr>
              <a:t>E: kísérleti, nem használt</a:t>
            </a:r>
            <a:endParaRPr b="0" lang="en-US" sz="16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2"/>
          <a:srcRect l="17002" t="0" r="16878" b="0"/>
          <a:stretch/>
        </p:blipFill>
        <p:spPr>
          <a:xfrm>
            <a:off x="4319640" y="1951200"/>
            <a:ext cx="4429080" cy="173196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"/>
          <p:cNvPicPr/>
          <p:nvPr/>
        </p:nvPicPr>
        <p:blipFill>
          <a:blip r:embed="rId3"/>
          <a:srcRect l="5626" t="0" r="0" b="0"/>
          <a:stretch/>
        </p:blipFill>
        <p:spPr>
          <a:xfrm>
            <a:off x="3851280" y="3836880"/>
            <a:ext cx="4897440" cy="2214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TK - IÁTT - Rendszertechnika  - Számítógép-hálózato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2A825-2FFA-4937-A8F8-AA855E318031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572922-B0F7-4F42-A529-8A951C84BC8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cc66"/>
                </a:solidFill>
                <a:latin typeface="Tahoma"/>
              </a:rPr>
              <a:t>7.7.3 CIDR (Classless Interdomain Routing)</a:t>
            </a:r>
            <a:endParaRPr b="0" lang="en-US" sz="28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3500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 Narrow"/>
              </a:rPr>
              <a:t>Hálózat/hoszt cím felosztás maszk szerint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639000" indent="-245520">
              <a:spcBef>
                <a:spcPts val="700"/>
              </a:spcBef>
              <a:buClr>
                <a:srgbClr val="00ccff"/>
              </a:buClr>
              <a:buFont typeface="Arial Narrow"/>
              <a:buChar char="●"/>
              <a:tabLst>
                <a:tab algn="l" pos="3500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Példa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2" marL="982800" indent="-196560">
              <a:spcBef>
                <a:spcPts val="451"/>
              </a:spcBef>
              <a:buClr>
                <a:srgbClr val="ff0033"/>
              </a:buClr>
              <a:buSzPct val="65000"/>
              <a:buFont typeface="Wingdings" charset="2"/>
              <a:buChar char=""/>
              <a:tabLst>
                <a:tab algn="l" pos="3500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 Narrow"/>
              </a:rPr>
              <a:t>Cím: 193.6.50.100</a:t>
            </a:r>
            <a:r>
              <a:rPr b="0" lang="hu-HU" sz="18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Arial Narrow"/>
              </a:rPr>
              <a:t>11000001.00000110.00110010.01100100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lvl="2" marL="982800" indent="-196560">
              <a:spcBef>
                <a:spcPts val="451"/>
              </a:spcBef>
              <a:buClr>
                <a:srgbClr val="ff0033"/>
              </a:buClr>
              <a:buSzPct val="65000"/>
              <a:buFont typeface="Wingdings" charset="2"/>
              <a:buChar char=""/>
              <a:tabLst>
                <a:tab algn="l" pos="3500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 Narrow"/>
              </a:rPr>
              <a:t>Maszk: 255.255.255.224</a:t>
            </a:r>
            <a:r>
              <a:rPr b="0" lang="hu-HU" sz="18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Arial Narrow"/>
              </a:rPr>
              <a:t>11111111.11111111.11111111.11100000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lvl="2" marL="982800" indent="-196560">
              <a:spcBef>
                <a:spcPts val="451"/>
              </a:spcBef>
              <a:buClr>
                <a:srgbClr val="ff0033"/>
              </a:buClr>
              <a:buSzPct val="65000"/>
              <a:buFont typeface="Wingdings" charset="2"/>
              <a:buChar char=""/>
              <a:tabLst>
                <a:tab algn="l" pos="3500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 Narrow"/>
              </a:rPr>
              <a:t>Hálózat címe: 193.6.50.96</a:t>
            </a:r>
            <a:r>
              <a:rPr b="0" lang="hu-HU" sz="18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Arial Narrow"/>
              </a:rPr>
              <a:t>11000001.00000110.00110010.01100000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lvl="2" marL="982800" indent="-196560">
              <a:spcBef>
                <a:spcPts val="451"/>
              </a:spcBef>
              <a:buClr>
                <a:srgbClr val="ff0033"/>
              </a:buClr>
              <a:buSzPct val="65000"/>
              <a:buFont typeface="Wingdings" charset="2"/>
              <a:buChar char=""/>
              <a:tabLst>
                <a:tab algn="l" pos="3500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 Narrow"/>
              </a:rPr>
              <a:t>Hoszt címe: 0.0.0.4</a:t>
            </a:r>
            <a:r>
              <a:rPr b="0" lang="hu-HU" sz="18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Arial Narrow"/>
              </a:rPr>
              <a:t>00000000.00000000.00000000.00000100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lvl="1" marL="639000" indent="-245520">
              <a:spcBef>
                <a:spcPts val="499"/>
              </a:spcBef>
              <a:buClr>
                <a:srgbClr val="00ccff"/>
              </a:buClr>
              <a:buFont typeface="Arial Narrow"/>
              <a:buChar char="●"/>
              <a:tabLst>
                <a:tab algn="l" pos="3500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 Narrow"/>
              </a:rPr>
              <a:t>Rugalmasabb címtartomány felosztás, jobb kihasználtság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639000" indent="-245520">
              <a:spcBef>
                <a:spcPts val="499"/>
              </a:spcBef>
              <a:buClr>
                <a:srgbClr val="00ccff"/>
              </a:buClr>
              <a:buFont typeface="Arial Narrow"/>
              <a:buChar char="●"/>
              <a:tabLst>
                <a:tab algn="l" pos="3500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 Narrow"/>
              </a:rPr>
              <a:t>Aggregált routing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2" marL="982800" indent="-196560">
              <a:spcBef>
                <a:spcPts val="451"/>
              </a:spcBef>
              <a:buClr>
                <a:srgbClr val="ff0033"/>
              </a:buClr>
              <a:buSzPct val="65000"/>
              <a:buFont typeface="Wingdings" charset="2"/>
              <a:buChar char=""/>
              <a:tabLst>
                <a:tab algn="l" pos="3500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 Narrow"/>
              </a:rPr>
              <a:t>Pl pécsi tartomány a </a:t>
            </a:r>
            <a:r>
              <a:rPr b="0" lang="hu-HU" sz="18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hu-HU" sz="1800" spc="-1" strike="noStrike">
                <a:solidFill>
                  <a:srgbClr val="ffffff"/>
                </a:solidFill>
                <a:latin typeface="Courier New"/>
              </a:rPr>
              <a:t>193.6.48.0 – 193.6.63.255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lvl="2" marL="982800" indent="-196560">
              <a:spcBef>
                <a:spcPts val="451"/>
              </a:spcBef>
              <a:buClr>
                <a:srgbClr val="ff0033"/>
              </a:buClr>
              <a:buSzPct val="65000"/>
              <a:buFont typeface="Wingdings" charset="2"/>
              <a:buChar char=""/>
              <a:tabLst>
                <a:tab algn="l" pos="3500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 Narrow"/>
              </a:rPr>
              <a:t>Aggregálva: </a:t>
            </a:r>
            <a:r>
              <a:rPr b="0" lang="hu-HU" sz="18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hu-HU" sz="1800" spc="-1" strike="noStrike">
                <a:solidFill>
                  <a:srgbClr val="ffffff"/>
                </a:solidFill>
                <a:latin typeface="Courier New"/>
              </a:rPr>
              <a:t>193.6.48.0/255.255.240.0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TK - IÁTT - Rendszertechnika  - Számítógép-hálózato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BD7F3-0AF6-44D6-B6E9-61C2C95BE93E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D359A5-3247-4EA3-BE28-2B201A22559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" descr=""/>
          <p:cNvPicPr/>
          <p:nvPr/>
        </p:nvPicPr>
        <p:blipFill>
          <a:blip r:embed="rId2"/>
          <a:stretch/>
        </p:blipFill>
        <p:spPr>
          <a:xfrm>
            <a:off x="5075280" y="2708280"/>
            <a:ext cx="2449440" cy="151272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/>
          <p:nvPr/>
        </p:nvSpPr>
        <p:spPr>
          <a:xfrm flipV="1">
            <a:off x="6516720" y="3212640"/>
            <a:ext cx="360360" cy="792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 flipV="1">
            <a:off x="5796000" y="3141720"/>
            <a:ext cx="1081080" cy="71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5796000" y="3212640"/>
            <a:ext cx="720720" cy="792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3"/>
          <a:stretch/>
        </p:blipFill>
        <p:spPr>
          <a:xfrm>
            <a:off x="395280" y="4005360"/>
            <a:ext cx="2449440" cy="143964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4"/>
          <a:stretch/>
        </p:blipFill>
        <p:spPr>
          <a:xfrm>
            <a:off x="3708360" y="4941720"/>
            <a:ext cx="2592360" cy="143856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 flipH="1">
            <a:off x="5219280" y="4005360"/>
            <a:ext cx="1297080" cy="1295280"/>
          </a:xfrm>
          <a:prstGeom prst="line">
            <a:avLst/>
          </a:prstGeom>
          <a:ln w="2844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H="1">
            <a:off x="2340000" y="3213000"/>
            <a:ext cx="3456000" cy="1511280"/>
          </a:xfrm>
          <a:prstGeom prst="line">
            <a:avLst/>
          </a:prstGeom>
          <a:ln w="2844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340000" y="4653000"/>
            <a:ext cx="1800360" cy="1081080"/>
          </a:xfrm>
          <a:prstGeom prst="line">
            <a:avLst/>
          </a:prstGeom>
          <a:ln w="2844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4211640" y="5300280"/>
            <a:ext cx="936720" cy="36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H="1" flipV="1">
            <a:off x="5148360" y="5229360"/>
            <a:ext cx="720720" cy="79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H="1" flipV="1">
            <a:off x="4211280" y="5660640"/>
            <a:ext cx="1584360" cy="289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V="1">
            <a:off x="1044720" y="4726080"/>
            <a:ext cx="1295280" cy="28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H="1" flipV="1">
            <a:off x="1692000" y="4294080"/>
            <a:ext cx="647640" cy="43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flipV="1">
            <a:off x="1044720" y="4293720"/>
            <a:ext cx="718920" cy="647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cc66"/>
                </a:solidFill>
                <a:latin typeface="Tahoma"/>
              </a:rPr>
              <a:t>7.7.4 Autonóm rendszerek</a:t>
            </a:r>
            <a:endParaRPr b="0" lang="en-US" sz="36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3766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 Narrow"/>
              </a:rPr>
              <a:t>Azonosító szám (ip-hez hasonlóan egyedi, igényelni kell)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 Narrow"/>
              </a:rPr>
              <a:t>Önálló üzemvitel, egységes belső routing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 Narrow"/>
              </a:rPr>
              <a:t>Több külső csatlakozás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 Narrow"/>
              </a:rPr>
              <a:t>Nagy AS területekre bontható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5"/>
          <a:stretch/>
        </p:blipFill>
        <p:spPr>
          <a:xfrm>
            <a:off x="1476360" y="4149720"/>
            <a:ext cx="576360" cy="317520"/>
          </a:xfrm>
          <a:prstGeom prst="rect">
            <a:avLst/>
          </a:prstGeom>
          <a:ln w="0">
            <a:noFill/>
          </a:ln>
        </p:spPr>
      </p:pic>
      <p:pic>
        <p:nvPicPr>
          <p:cNvPr id="281" name="" descr=""/>
          <p:cNvPicPr/>
          <p:nvPr/>
        </p:nvPicPr>
        <p:blipFill>
          <a:blip r:embed="rId6"/>
          <a:stretch/>
        </p:blipFill>
        <p:spPr>
          <a:xfrm>
            <a:off x="755640" y="4840200"/>
            <a:ext cx="576360" cy="31752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7"/>
          <a:stretch/>
        </p:blipFill>
        <p:spPr>
          <a:xfrm>
            <a:off x="2052720" y="4567320"/>
            <a:ext cx="576360" cy="31752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8"/>
          <a:stretch/>
        </p:blipFill>
        <p:spPr>
          <a:xfrm>
            <a:off x="5508720" y="3068640"/>
            <a:ext cx="576000" cy="31752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9"/>
          <a:stretch/>
        </p:blipFill>
        <p:spPr>
          <a:xfrm>
            <a:off x="6156360" y="3759120"/>
            <a:ext cx="576360" cy="317520"/>
          </a:xfrm>
          <a:prstGeom prst="rect">
            <a:avLst/>
          </a:prstGeom>
          <a:ln w="0">
            <a:noFill/>
          </a:ln>
        </p:spPr>
      </p:pic>
      <p:pic>
        <p:nvPicPr>
          <p:cNvPr id="285" name="" descr=""/>
          <p:cNvPicPr/>
          <p:nvPr/>
        </p:nvPicPr>
        <p:blipFill>
          <a:blip r:embed="rId10"/>
          <a:stretch/>
        </p:blipFill>
        <p:spPr>
          <a:xfrm>
            <a:off x="6588000" y="2997360"/>
            <a:ext cx="576360" cy="317520"/>
          </a:xfrm>
          <a:prstGeom prst="rect">
            <a:avLst/>
          </a:prstGeom>
          <a:ln w="0">
            <a:noFill/>
          </a:ln>
        </p:spPr>
      </p:pic>
      <p:pic>
        <p:nvPicPr>
          <p:cNvPr id="286" name="" descr=""/>
          <p:cNvPicPr/>
          <p:nvPr/>
        </p:nvPicPr>
        <p:blipFill>
          <a:blip r:embed="rId11"/>
          <a:stretch/>
        </p:blipFill>
        <p:spPr>
          <a:xfrm>
            <a:off x="3924360" y="5516640"/>
            <a:ext cx="576360" cy="317520"/>
          </a:xfrm>
          <a:prstGeom prst="rect">
            <a:avLst/>
          </a:prstGeom>
          <a:ln w="0">
            <a:noFill/>
          </a:ln>
        </p:spPr>
      </p:pic>
      <p:pic>
        <p:nvPicPr>
          <p:cNvPr id="287" name="" descr=""/>
          <p:cNvPicPr/>
          <p:nvPr/>
        </p:nvPicPr>
        <p:blipFill>
          <a:blip r:embed="rId12"/>
          <a:stretch/>
        </p:blipFill>
        <p:spPr>
          <a:xfrm>
            <a:off x="5508720" y="5805360"/>
            <a:ext cx="576000" cy="317520"/>
          </a:xfrm>
          <a:prstGeom prst="rect">
            <a:avLst/>
          </a:prstGeom>
          <a:ln w="0">
            <a:noFill/>
          </a:ln>
        </p:spPr>
      </p:pic>
      <p:pic>
        <p:nvPicPr>
          <p:cNvPr id="288" name="" descr=""/>
          <p:cNvPicPr/>
          <p:nvPr/>
        </p:nvPicPr>
        <p:blipFill>
          <a:blip r:embed="rId13"/>
          <a:stretch/>
        </p:blipFill>
        <p:spPr>
          <a:xfrm>
            <a:off x="4859280" y="5157720"/>
            <a:ext cx="576360" cy="317520"/>
          </a:xfrm>
          <a:prstGeom prst="rect">
            <a:avLst/>
          </a:prstGeom>
          <a:ln w="0">
            <a:noFill/>
          </a:ln>
        </p:spPr>
      </p:pic>
      <p:sp>
        <p:nvSpPr>
          <p:cNvPr id="289" name=""/>
          <p:cNvSpPr/>
          <p:nvPr/>
        </p:nvSpPr>
        <p:spPr>
          <a:xfrm>
            <a:off x="3780000" y="4005360"/>
            <a:ext cx="93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0033"/>
                </a:solidFill>
                <a:latin typeface="Arial Narrow"/>
              </a:rPr>
              <a:t>BG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84360" y="4268880"/>
            <a:ext cx="93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 Narrow"/>
              </a:rPr>
              <a:t>OSP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332000" y="3645000"/>
            <a:ext cx="93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 Narrow"/>
              </a:rPr>
              <a:t>AS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7451640" y="292428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 Narrow"/>
              </a:rPr>
              <a:t>AS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300720" y="494172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 Narrow"/>
              </a:rPr>
              <a:t>AS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572000" y="587700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 Narrow"/>
              </a:rPr>
              <a:t>OSP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732720" y="3357720"/>
            <a:ext cx="93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 Narrow"/>
              </a:rPr>
              <a:t>RI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TK - IÁTT - Rendszertechnika  - Számítógép-hálózato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C80D3-5C51-458B-9C96-5D5BE916EFAA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187A06-73C8-4607-A423-EC386CC289A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cc66"/>
                </a:solidFill>
                <a:latin typeface="Tahoma"/>
              </a:rPr>
              <a:t>7.7.5 Vezérlő protokollok</a:t>
            </a:r>
            <a:endParaRPr b="0" lang="en-US" sz="36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 Narrow"/>
              </a:rPr>
              <a:t>ICMP – internet control message protocol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00ccff"/>
              </a:buClr>
              <a:buFont typeface="Arial Narrow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 Narrow"/>
              </a:rPr>
              <a:t>Az ip szolgáltatásokat használja, de az ip rétegben van implementálva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00ccff"/>
              </a:buClr>
              <a:buFont typeface="Arial Narrow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 Narrow"/>
              </a:rPr>
              <a:t>Hibaüzenetek, diagnosztika (ping, traceroute), router felderítés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 Narrow"/>
              </a:rPr>
              <a:t>ARP – address resolution protokoll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 Narrow"/>
              </a:rPr>
              <a:t>RARP, BOOTP, DHCP – ARP fordítottja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 Narrow"/>
              </a:rPr>
              <a:t>OSPF – belső átjáró protokoll (Open = nyílt szabvány!)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00ccff"/>
              </a:buClr>
              <a:buFont typeface="Arial Narrow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 Narrow"/>
              </a:rPr>
              <a:t>Kapcsolatállapot alapú protokoll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 Narrow"/>
              </a:rPr>
              <a:t>BGP – határátjáró protokoll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00ccff"/>
              </a:buClr>
              <a:buFont typeface="Arial Narrow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 Narrow"/>
              </a:rPr>
              <a:t>Forgalomirányítási korlátozások (szállítási szerződések, politika)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00ccff"/>
              </a:buClr>
              <a:buFont typeface="Arial Narrow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 Narrow"/>
              </a:rPr>
              <a:t>Nemzetbiztonsági megfontolások (USA – Irak – Japán)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TK - IÁTT - Rendszertechnika  - Számítógép-hálózato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0D395-244D-4240-8922-9152EC89215E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41B6A8-D05F-4E0D-B452-2E4735A7BE7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cc66"/>
                </a:solidFill>
                <a:latin typeface="Tahoma"/>
              </a:rPr>
              <a:t>7.7.5.1 ICMP példa – traceroute</a:t>
            </a: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2"/>
          <a:srcRect l="0" t="0" r="0" b="24426"/>
          <a:stretch/>
        </p:blipFill>
        <p:spPr>
          <a:xfrm>
            <a:off x="574560" y="1773360"/>
            <a:ext cx="7993080" cy="4535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TK - IÁTT - Rendszertechnika  - Számítógép-hálózato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8C319-9FDA-438C-AFCD-D1CAC9D8208D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A1A5CB-746E-4514-BD31-B7AA4ECFF09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cc66"/>
                </a:solidFill>
                <a:latin typeface="Tahoma"/>
              </a:rPr>
              <a:t>7.7.5.2 router táblázat példa</a:t>
            </a: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pic>
        <p:nvPicPr>
          <p:cNvPr id="301" name="" descr=""/>
          <p:cNvPicPr/>
          <p:nvPr/>
        </p:nvPicPr>
        <p:blipFill>
          <a:blip r:embed="rId2"/>
          <a:stretch/>
        </p:blipFill>
        <p:spPr>
          <a:xfrm>
            <a:off x="539640" y="1800360"/>
            <a:ext cx="8064720" cy="4481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TK - IÁTT - Rendszertechnika  - Számítógép-hálózato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56137-EE2F-4269-8A67-FEE112DC7057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A479BA-B287-48C2-9AB8-6098CDBF500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cc66"/>
                </a:solidFill>
                <a:latin typeface="Tahoma"/>
              </a:rPr>
              <a:t>Linkek</a:t>
            </a: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 u="sng">
                <a:solidFill>
                  <a:srgbClr val="ff0033"/>
                </a:solidFill>
                <a:uFillTx/>
                <a:latin typeface="Arial Narrow"/>
                <a:hlinkClick r:id="rId2"/>
              </a:rPr>
              <a:t>http</a:t>
            </a:r>
            <a:r>
              <a:rPr b="0" lang="hu-HU" sz="2400" spc="-1" strike="noStrike" u="sng">
                <a:solidFill>
                  <a:srgbClr val="ff0033"/>
                </a:solidFill>
                <a:uFillTx/>
                <a:latin typeface="Arial Narrow"/>
                <a:hlinkClick r:id="rId3"/>
              </a:rPr>
              <a:t>://</a:t>
            </a:r>
            <a:r>
              <a:rPr b="0" lang="hu-HU" sz="2400" spc="-1" strike="noStrike" u="sng">
                <a:solidFill>
                  <a:srgbClr val="ff0033"/>
                </a:solidFill>
                <a:uFillTx/>
                <a:latin typeface="Arial Narrow"/>
                <a:hlinkClick r:id="rId4"/>
              </a:rPr>
              <a:t>www.cisco.com</a:t>
            </a:r>
            <a:r>
              <a:rPr b="0" lang="hu-HU" sz="2400" spc="-1" strike="noStrike" u="sng">
                <a:solidFill>
                  <a:srgbClr val="ff0033"/>
                </a:solidFill>
                <a:uFillTx/>
                <a:latin typeface="Arial Narrow"/>
                <a:hlinkClick r:id="rId5"/>
              </a:rPr>
              <a:t>/</a:t>
            </a:r>
            <a:r>
              <a:rPr b="0" lang="hu-HU" sz="2400" spc="-1" strike="noStrike" u="sng">
                <a:solidFill>
                  <a:srgbClr val="ff0033"/>
                </a:solidFill>
                <a:uFillTx/>
                <a:latin typeface="Arial Narrow"/>
                <a:hlinkClick r:id="rId6"/>
              </a:rPr>
              <a:t>univercd</a:t>
            </a:r>
            <a:r>
              <a:rPr b="0" lang="hu-HU" sz="2400" spc="-1" strike="noStrike" u="sng">
                <a:solidFill>
                  <a:srgbClr val="ff0033"/>
                </a:solidFill>
                <a:uFillTx/>
                <a:latin typeface="Arial Narrow"/>
                <a:hlinkClick r:id="rId7"/>
              </a:rPr>
              <a:t>/</a:t>
            </a:r>
            <a:r>
              <a:rPr b="0" lang="hu-HU" sz="2400" spc="-1" strike="noStrike" u="sng">
                <a:solidFill>
                  <a:srgbClr val="ff0033"/>
                </a:solidFill>
                <a:uFillTx/>
                <a:latin typeface="Arial Narrow"/>
                <a:hlinkClick r:id="rId8"/>
              </a:rPr>
              <a:t>cc</a:t>
            </a:r>
            <a:r>
              <a:rPr b="0" lang="hu-HU" sz="2400" spc="-1" strike="noStrike" u="sng">
                <a:solidFill>
                  <a:srgbClr val="ff0033"/>
                </a:solidFill>
                <a:uFillTx/>
                <a:latin typeface="Arial Narrow"/>
                <a:hlinkClick r:id="rId9"/>
              </a:rPr>
              <a:t>/</a:t>
            </a:r>
            <a:r>
              <a:rPr b="0" lang="hu-HU" sz="2400" spc="-1" strike="noStrike" u="sng">
                <a:solidFill>
                  <a:srgbClr val="ff0033"/>
                </a:solidFill>
                <a:uFillTx/>
                <a:latin typeface="Arial Narrow"/>
                <a:hlinkClick r:id="rId10"/>
              </a:rPr>
              <a:t>td</a:t>
            </a:r>
            <a:r>
              <a:rPr b="0" lang="hu-HU" sz="2400" spc="-1" strike="noStrike" u="sng">
                <a:solidFill>
                  <a:srgbClr val="ff0033"/>
                </a:solidFill>
                <a:uFillTx/>
                <a:latin typeface="Arial Narrow"/>
                <a:hlinkClick r:id="rId11"/>
              </a:rPr>
              <a:t>/</a:t>
            </a:r>
            <a:r>
              <a:rPr b="0" lang="hu-HU" sz="2400" spc="-1" strike="noStrike" u="sng">
                <a:solidFill>
                  <a:srgbClr val="ff0033"/>
                </a:solidFill>
                <a:uFillTx/>
                <a:latin typeface="Arial Narrow"/>
                <a:hlinkClick r:id="rId12"/>
              </a:rPr>
              <a:t>doc</a:t>
            </a:r>
            <a:r>
              <a:rPr b="0" lang="hu-HU" sz="2400" spc="-1" strike="noStrike" u="sng">
                <a:solidFill>
                  <a:srgbClr val="ff0033"/>
                </a:solidFill>
                <a:uFillTx/>
                <a:latin typeface="Arial Narrow"/>
                <a:hlinkClick r:id="rId13"/>
              </a:rPr>
              <a:t>/</a:t>
            </a:r>
            <a:r>
              <a:rPr b="0" lang="hu-HU" sz="2400" spc="-1" strike="noStrike" u="sng">
                <a:solidFill>
                  <a:srgbClr val="ff0033"/>
                </a:solidFill>
                <a:uFillTx/>
                <a:latin typeface="Arial Narrow"/>
                <a:hlinkClick r:id="rId14"/>
              </a:rPr>
              <a:t>cisintwk</a:t>
            </a:r>
            <a:r>
              <a:rPr b="0" lang="hu-HU" sz="2400" spc="-1" strike="noStrike" u="sng">
                <a:solidFill>
                  <a:srgbClr val="ff0033"/>
                </a:solidFill>
                <a:uFillTx/>
                <a:latin typeface="Arial Narrow"/>
                <a:hlinkClick r:id="rId15"/>
              </a:rPr>
              <a:t>/</a:t>
            </a:r>
            <a:r>
              <a:rPr b="0" lang="hu-HU" sz="2400" spc="-1" strike="noStrike" u="sng">
                <a:solidFill>
                  <a:srgbClr val="ff0033"/>
                </a:solidFill>
                <a:uFillTx/>
                <a:latin typeface="Arial Narrow"/>
                <a:hlinkClick r:id="rId16"/>
              </a:rPr>
              <a:t>ito</a:t>
            </a:r>
            <a:r>
              <a:rPr b="0" lang="hu-HU" sz="2400" spc="-1" strike="noStrike" u="sng">
                <a:solidFill>
                  <a:srgbClr val="ff0033"/>
                </a:solidFill>
                <a:uFillTx/>
                <a:latin typeface="Arial Narrow"/>
                <a:hlinkClick r:id="rId17"/>
              </a:rPr>
              <a:t>_</a:t>
            </a:r>
            <a:r>
              <a:rPr b="0" lang="hu-HU" sz="2400" spc="-1" strike="noStrike" u="sng">
                <a:solidFill>
                  <a:srgbClr val="ff0033"/>
                </a:solidFill>
                <a:uFillTx/>
                <a:latin typeface="Arial Narrow"/>
                <a:hlinkClick r:id="rId18"/>
              </a:rPr>
              <a:t>doc</a:t>
            </a:r>
            <a:r>
              <a:rPr b="0" lang="hu-HU" sz="2400" spc="-1" strike="noStrike" u="sng">
                <a:solidFill>
                  <a:srgbClr val="ff0033"/>
                </a:solidFill>
                <a:uFillTx/>
                <a:latin typeface="Arial Narrow"/>
                <a:hlinkClick r:id="rId19"/>
              </a:rPr>
              <a:t>/</a:t>
            </a:r>
            <a:r>
              <a:rPr b="0" lang="hu-HU" sz="2400" spc="-1" strike="noStrike" u="sng">
                <a:solidFill>
                  <a:srgbClr val="ff0033"/>
                </a:solidFill>
                <a:uFillTx/>
                <a:latin typeface="Arial Narrow"/>
                <a:hlinkClick r:id="rId20"/>
              </a:rPr>
              <a:t>ip.htm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 u="sng">
                <a:solidFill>
                  <a:srgbClr val="ff0033"/>
                </a:solidFill>
                <a:uFillTx/>
                <a:latin typeface="Arial Narrow"/>
                <a:hlinkClick r:id="rId21"/>
              </a:rPr>
              <a:t>http</a:t>
            </a:r>
            <a:r>
              <a:rPr b="0" lang="hu-HU" sz="2400" spc="-1" strike="noStrike" u="sng">
                <a:solidFill>
                  <a:srgbClr val="ff0033"/>
                </a:solidFill>
                <a:uFillTx/>
                <a:latin typeface="Arial Narrow"/>
                <a:hlinkClick r:id="rId22"/>
              </a:rPr>
              <a:t>://ist.marshall.edu/ist362/nwl.html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TK - IÁTT - Rendszertechnika  - Számítógép-hálózato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B2B1B-D517-4D50-8E38-1372AB5D541C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46560A-FC3B-43E3-83A9-89CF817CA75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2560" y="609480"/>
            <a:ext cx="8080560" cy="109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ffcc66"/>
                </a:solidFill>
                <a:latin typeface="Tahoma"/>
              </a:rPr>
              <a:t>7.1. A hálózati réteg szerepe</a:t>
            </a:r>
            <a:endParaRPr b="0" lang="en-US" sz="40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 Narrow"/>
              </a:rPr>
              <a:t>Adatátvitel két </a:t>
            </a:r>
            <a:r>
              <a:rPr b="0" lang="hu-HU" sz="3200" spc="-1" strike="noStrike">
                <a:solidFill>
                  <a:srgbClr val="ffff00"/>
                </a:solidFill>
                <a:latin typeface="Arial Narrow"/>
              </a:rPr>
              <a:t>nem közvetlenül</a:t>
            </a:r>
            <a:r>
              <a:rPr b="0" lang="hu-HU" sz="3200" spc="-1" strike="noStrike">
                <a:solidFill>
                  <a:srgbClr val="ffffff"/>
                </a:solidFill>
                <a:latin typeface="Arial Narrow"/>
              </a:rPr>
              <a:t> összekötött állomás között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 Narrow"/>
              </a:rPr>
              <a:t>Szolgálati interfész a szállítási réteg felé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 Narrow"/>
              </a:rPr>
              <a:t>Optimális útvonal keresése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TK - IÁTT - Rendszertechnika  - Számítógép-hálózato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5AABE-3F5C-4DB4-BE1C-DE90103C815A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C62DD3-7DAB-49DD-978D-567FF889DE5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ffcc66"/>
                </a:solidFill>
                <a:latin typeface="Tahoma"/>
              </a:rPr>
              <a:t>7.2 </a:t>
            </a:r>
            <a:r>
              <a:rPr b="0" lang="hu-HU" sz="3200" spc="-1" strike="noStrike">
                <a:solidFill>
                  <a:srgbClr val="ffcc66"/>
                </a:solidFill>
                <a:latin typeface="Tahoma"/>
              </a:rPr>
              <a:t>Szállítási rétegnek nyújtott szolgálatok</a:t>
            </a:r>
            <a:endParaRPr b="0" lang="en-US" sz="32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 Narrow"/>
              </a:rPr>
              <a:t>Összeköttetés nélküli szolgálat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ccff"/>
              </a:buClr>
              <a:buFont typeface="Arial Narrow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Datagram típusú továbbítá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ccff"/>
              </a:buClr>
              <a:buFont typeface="Arial Narrow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Útvonalkeresés csomagonként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 Narrow"/>
              </a:rPr>
              <a:t>Összeköttetés alapú szolgálat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ccff"/>
              </a:buClr>
              <a:buFont typeface="Arial Narrow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Virtuális áramkör típusú továbbítá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ccff"/>
              </a:buClr>
              <a:buFont typeface="Arial Narrow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Útkeresés kapcsolat felépítéskor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TK - IÁTT - Rendszertechnika  - Számítógép-hálózato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B149B-6165-4E15-A9A4-B653735F1F5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DB5ED8-B144-479C-B966-98C09BD8B42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cc66"/>
                </a:solidFill>
                <a:latin typeface="Tahoma"/>
              </a:rPr>
              <a:t>7.3 Datagram vagy virtuális áramkör?</a:t>
            </a:r>
            <a:endParaRPr b="0" lang="en-US" sz="3600" spc="-1" strike="noStrike">
              <a:solidFill>
                <a:srgbClr val="ffcc66"/>
              </a:solidFill>
              <a:latin typeface="Tahoma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682560" y="1981080"/>
          <a:ext cx="7489800" cy="4114800"/>
        </p:xfrm>
        <a:graphic>
          <a:graphicData uri="http://schemas.openxmlformats.org/drawingml/2006/table">
            <a:tbl>
              <a:tblPr/>
              <a:tblGrid>
                <a:gridCol w="2449440"/>
                <a:gridCol w="2232000"/>
                <a:gridCol w="280836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33"/>
                      </a:solidFill>
                    </a:lnL>
                    <a:lnR w="5760">
                      <a:solidFill>
                        <a:srgbClr val="ff0033"/>
                      </a:solidFill>
                    </a:lnR>
                    <a:lnT w="5760">
                      <a:solidFill>
                        <a:srgbClr val="ff0033"/>
                      </a:solidFill>
                    </a:lnT>
                    <a:lnB w="5760">
                      <a:solidFill>
                        <a:srgbClr val="ff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0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Datagram hálóza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33"/>
                      </a:solidFill>
                    </a:lnL>
                    <a:lnR w="5760">
                      <a:solidFill>
                        <a:srgbClr val="ff0033"/>
                      </a:solidFill>
                    </a:lnR>
                    <a:lnT w="5760">
                      <a:solidFill>
                        <a:srgbClr val="ff0033"/>
                      </a:solidFill>
                    </a:lnT>
                    <a:lnB w="5760">
                      <a:solidFill>
                        <a:srgbClr val="ff0033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0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Virtuális áramkör hálóza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33"/>
                      </a:solidFill>
                    </a:lnL>
                    <a:lnR w="5760">
                      <a:solidFill>
                        <a:srgbClr val="ff0033"/>
                      </a:solidFill>
                    </a:lnR>
                    <a:lnT w="5760">
                      <a:solidFill>
                        <a:srgbClr val="ff0033"/>
                      </a:solidFill>
                    </a:lnT>
                    <a:lnB w="5760">
                      <a:solidFill>
                        <a:srgbClr val="ff0033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Virtuális áramkör felépítés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33"/>
                      </a:solidFill>
                    </a:lnL>
                    <a:lnR w="5760">
                      <a:solidFill>
                        <a:srgbClr val="ff0033"/>
                      </a:solidFill>
                    </a:lnR>
                    <a:lnT w="5760">
                      <a:solidFill>
                        <a:srgbClr val="ff0033"/>
                      </a:solidFill>
                    </a:lnT>
                    <a:lnB w="5760">
                      <a:solidFill>
                        <a:srgbClr val="ff0033"/>
                      </a:solidFill>
                    </a:lnB>
                    <a:solidFill>
                      <a:srgbClr val="ffe9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inc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33"/>
                      </a:solidFill>
                    </a:lnL>
                    <a:lnR w="5760">
                      <a:solidFill>
                        <a:srgbClr val="ff0033"/>
                      </a:solidFill>
                    </a:lnR>
                    <a:lnT w="5760">
                      <a:solidFill>
                        <a:srgbClr val="ff0033"/>
                      </a:solidFill>
                    </a:lnT>
                    <a:lnB w="5760">
                      <a:solidFill>
                        <a:srgbClr val="ff0033"/>
                      </a:solidFill>
                    </a:lnB>
                    <a:solidFill>
                      <a:srgbClr val="ffe9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zükség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33"/>
                      </a:solidFill>
                    </a:lnL>
                    <a:lnR w="5760">
                      <a:solidFill>
                        <a:srgbClr val="ff0033"/>
                      </a:solidFill>
                    </a:lnR>
                    <a:lnT w="5760">
                      <a:solidFill>
                        <a:srgbClr val="ff0033"/>
                      </a:solidFill>
                    </a:lnT>
                    <a:lnB w="5760">
                      <a:solidFill>
                        <a:srgbClr val="ff0033"/>
                      </a:solidFill>
                    </a:lnB>
                    <a:solidFill>
                      <a:srgbClr val="ffe9bd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ímzé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33"/>
                      </a:solidFill>
                    </a:lnL>
                    <a:lnR w="5760">
                      <a:solidFill>
                        <a:srgbClr val="ff0033"/>
                      </a:solidFill>
                    </a:lnR>
                    <a:lnT w="5760">
                      <a:solidFill>
                        <a:srgbClr val="ff0033"/>
                      </a:solidFill>
                    </a:lnT>
                    <a:lnB w="5760">
                      <a:solidFill>
                        <a:srgbClr val="ff0033"/>
                      </a:solidFill>
                    </a:lnB>
                    <a:solidFill>
                      <a:srgbClr val="ffe9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somagonkén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33"/>
                      </a:solidFill>
                    </a:lnL>
                    <a:lnR w="5760">
                      <a:solidFill>
                        <a:srgbClr val="ff0033"/>
                      </a:solidFill>
                    </a:lnR>
                    <a:lnT w="5760">
                      <a:solidFill>
                        <a:srgbClr val="ff0033"/>
                      </a:solidFill>
                    </a:lnT>
                    <a:lnB w="5760">
                      <a:solidFill>
                        <a:srgbClr val="ff0033"/>
                      </a:solidFill>
                    </a:lnB>
                    <a:solidFill>
                      <a:srgbClr val="ffe9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somagban csak VÁ. azonosító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33"/>
                      </a:solidFill>
                    </a:lnL>
                    <a:lnR w="5760">
                      <a:solidFill>
                        <a:srgbClr val="ff0033"/>
                      </a:solidFill>
                    </a:lnR>
                    <a:lnT w="5760">
                      <a:solidFill>
                        <a:srgbClr val="ff0033"/>
                      </a:solidFill>
                    </a:lnT>
                    <a:lnB w="5760">
                      <a:solidFill>
                        <a:srgbClr val="ff0033"/>
                      </a:solidFill>
                    </a:lnB>
                    <a:solidFill>
                      <a:srgbClr val="ffe9bd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Állapotinformáció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33"/>
                      </a:solidFill>
                    </a:lnL>
                    <a:lnR w="5760">
                      <a:solidFill>
                        <a:srgbClr val="ff0033"/>
                      </a:solidFill>
                    </a:lnR>
                    <a:lnT w="5760">
                      <a:solidFill>
                        <a:srgbClr val="ff0033"/>
                      </a:solidFill>
                    </a:lnT>
                    <a:lnB w="5760">
                      <a:solidFill>
                        <a:srgbClr val="ff0033"/>
                      </a:solidFill>
                    </a:lnB>
                    <a:solidFill>
                      <a:srgbClr val="ffe9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inc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33"/>
                      </a:solidFill>
                    </a:lnL>
                    <a:lnR w="5760">
                      <a:solidFill>
                        <a:srgbClr val="ff0033"/>
                      </a:solidFill>
                    </a:lnR>
                    <a:lnT w="5760">
                      <a:solidFill>
                        <a:srgbClr val="ff0033"/>
                      </a:solidFill>
                    </a:lnT>
                    <a:lnB w="5760">
                      <a:solidFill>
                        <a:srgbClr val="ff0033"/>
                      </a:solidFill>
                    </a:lnB>
                    <a:solidFill>
                      <a:srgbClr val="ffe9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 routerek a VÁ-öket bejegyzik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33"/>
                      </a:solidFill>
                    </a:lnL>
                    <a:lnR w="5760">
                      <a:solidFill>
                        <a:srgbClr val="ff0033"/>
                      </a:solidFill>
                    </a:lnR>
                    <a:lnT w="5760">
                      <a:solidFill>
                        <a:srgbClr val="ff0033"/>
                      </a:solidFill>
                    </a:lnT>
                    <a:lnB w="5760">
                      <a:solidFill>
                        <a:srgbClr val="ff0033"/>
                      </a:solidFill>
                    </a:lnB>
                    <a:solidFill>
                      <a:srgbClr val="ffe9bd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outer meghibásodás hatás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33"/>
                      </a:solidFill>
                    </a:lnL>
                    <a:lnR w="5760">
                      <a:solidFill>
                        <a:srgbClr val="ff0033"/>
                      </a:solidFill>
                    </a:lnR>
                    <a:lnT w="5760">
                      <a:solidFill>
                        <a:srgbClr val="ff0033"/>
                      </a:solidFill>
                    </a:lnT>
                    <a:lnB w="5760">
                      <a:solidFill>
                        <a:srgbClr val="ff0033"/>
                      </a:solidFill>
                    </a:lnB>
                    <a:solidFill>
                      <a:srgbClr val="ffe9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Kevés csomag vesztés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33"/>
                      </a:solidFill>
                    </a:lnL>
                    <a:lnR w="5760">
                      <a:solidFill>
                        <a:srgbClr val="ff0033"/>
                      </a:solidFill>
                    </a:lnR>
                    <a:lnT w="5760">
                      <a:solidFill>
                        <a:srgbClr val="ff0033"/>
                      </a:solidFill>
                    </a:lnT>
                    <a:lnB w="5760">
                      <a:solidFill>
                        <a:srgbClr val="ff0033"/>
                      </a:solidFill>
                    </a:lnB>
                    <a:solidFill>
                      <a:srgbClr val="ffe9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inden érintett VÁ megszakadás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33"/>
                      </a:solidFill>
                    </a:lnL>
                    <a:lnR w="5760">
                      <a:solidFill>
                        <a:srgbClr val="ff0033"/>
                      </a:solidFill>
                    </a:lnR>
                    <a:lnT w="5760">
                      <a:solidFill>
                        <a:srgbClr val="ff0033"/>
                      </a:solidFill>
                    </a:lnT>
                    <a:lnB w="5760">
                      <a:solidFill>
                        <a:srgbClr val="ff0033"/>
                      </a:solidFill>
                    </a:lnB>
                    <a:solidFill>
                      <a:srgbClr val="ffe9bd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orlódásvédelem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33"/>
                      </a:solidFill>
                    </a:lnL>
                    <a:lnR w="5760">
                      <a:solidFill>
                        <a:srgbClr val="ff0033"/>
                      </a:solidFill>
                    </a:lnR>
                    <a:lnT w="5760">
                      <a:solidFill>
                        <a:srgbClr val="ff0033"/>
                      </a:solidFill>
                    </a:lnT>
                    <a:lnB w="5760">
                      <a:solidFill>
                        <a:srgbClr val="ff0033"/>
                      </a:solidFill>
                    </a:lnB>
                    <a:solidFill>
                      <a:srgbClr val="ffe9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nyolul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33"/>
                      </a:solidFill>
                    </a:lnL>
                    <a:lnR w="5760">
                      <a:solidFill>
                        <a:srgbClr val="ff0033"/>
                      </a:solidFill>
                    </a:lnR>
                    <a:lnT w="5760">
                      <a:solidFill>
                        <a:srgbClr val="ff0033"/>
                      </a:solidFill>
                    </a:lnT>
                    <a:lnB w="5760">
                      <a:solidFill>
                        <a:srgbClr val="ff0033"/>
                      </a:solidFill>
                    </a:lnB>
                    <a:solidFill>
                      <a:srgbClr val="ffe9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gyszerű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33"/>
                      </a:solidFill>
                    </a:lnL>
                    <a:lnR w="5760">
                      <a:solidFill>
                        <a:srgbClr val="ff0033"/>
                      </a:solidFill>
                    </a:lnR>
                    <a:lnT w="5760">
                      <a:solidFill>
                        <a:srgbClr val="ff0033"/>
                      </a:solidFill>
                    </a:lnT>
                    <a:lnB w="5760">
                      <a:solidFill>
                        <a:srgbClr val="ff0033"/>
                      </a:solidFill>
                    </a:lnB>
                    <a:solidFill>
                      <a:srgbClr val="ffe9bd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TK - IÁTT - Rendszertechnika  - Számítógép-hálózato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E0306-3D1A-478E-BBB6-885F8086BF53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ABF705-FD79-4882-9502-2F1AE23465E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cc66"/>
                </a:solidFill>
                <a:latin typeface="Tahoma"/>
              </a:rPr>
              <a:t>7.4 Forgalomirányítás (alapfogalmak)</a:t>
            </a:r>
            <a:endParaRPr b="0" lang="en-US" sz="36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 Narrow"/>
              </a:rPr>
              <a:t>Adatcsomagonként / virtuális áramkörönként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 Narrow"/>
              </a:rPr>
              <a:t>Optimalitási elv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Font typeface="Arial Narrow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 Narrow"/>
              </a:rPr>
              <a:t>Nyelőfa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 Narrow"/>
              </a:rPr>
              <a:t>A hoszt rendszerint egy routerhez csatlakozik. 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Font typeface="Arial Narrow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 Narrow"/>
              </a:rPr>
              <a:t>A forrás – cél forgalomirányítás </a:t>
            </a:r>
            <a:r>
              <a:rPr b="0" lang="hu-HU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hu-HU" sz="2000" spc="-1" strike="noStrike">
                <a:solidFill>
                  <a:srgbClr val="ffffff"/>
                </a:solidFill>
                <a:latin typeface="Arial Narrow"/>
              </a:rPr>
              <a:t> router – router forgalomirányítás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Font typeface="Arial Narrow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 Narrow"/>
              </a:rPr>
              <a:t>A router feladata: melyik szomszédos routerhez kell küldeni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 Narrow"/>
              </a:rPr>
              <a:t>Statikus/adaptív algoritmusok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 Narrow"/>
              </a:rPr>
              <a:t>Legrövidebb út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Font typeface="Arial Narrow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 Narrow"/>
              </a:rPr>
              <a:t>Ugrások száma (azonos sávszélességet feltételezve)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Font typeface="Arial Narrow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 Narrow"/>
              </a:rPr>
              <a:t>Költségfüggvény: 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003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 Narrow"/>
              </a:rPr>
              <a:t>c(távolság, sávszélesség, forgalom, költség, sorhosszúság, késleltetés …)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TK - IÁTT - Rendszertechnika  - Számítógép-hálózato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DBD5A-CDF2-465C-B3C7-CC8EE1B9019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445AF8-9D44-42BB-B1A3-1C96C560CB6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5292720" y="1989000"/>
            <a:ext cx="1440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732720" y="1989000"/>
            <a:ext cx="14396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732720" y="4869000"/>
            <a:ext cx="14396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92720" y="4869000"/>
            <a:ext cx="1440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12000" y="4149720"/>
            <a:ext cx="14396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012000" y="2708280"/>
            <a:ext cx="14396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cc66"/>
                </a:solidFill>
                <a:latin typeface="Tahoma"/>
              </a:rPr>
              <a:t>7.4.1. Optimalitási elv</a:t>
            </a:r>
            <a:endParaRPr b="0" lang="en-US" sz="36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Ha az A-tól B-ig vezető optimális útvonal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i="1" lang="hu-HU" sz="2800" spc="-1" strike="noStrike">
                <a:solidFill>
                  <a:srgbClr val="ffffff"/>
                </a:solidFill>
                <a:latin typeface="Arial Narrow"/>
              </a:rPr>
              <a:t>o(A,B)</a:t>
            </a: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 é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i="1" lang="hu-HU" sz="2800" spc="-1" strike="noStrike">
                <a:solidFill>
                  <a:srgbClr val="ffffff"/>
                </a:solidFill>
                <a:latin typeface="Arial Narrow"/>
              </a:rPr>
              <a:t>C </a:t>
            </a:r>
            <a:r>
              <a:rPr b="0" i="1" lang="hu-HU" sz="2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hu-HU" sz="2800" spc="-1" strike="noStrike">
                <a:solidFill>
                  <a:srgbClr val="ffffff"/>
                </a:solidFill>
                <a:latin typeface="Arial Narrow"/>
              </a:rPr>
              <a:t>o(A,B),</a:t>
            </a: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 akkor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i="1" lang="hu-HU" sz="2800" spc="-1" strike="noStrike">
                <a:solidFill>
                  <a:srgbClr val="ffffff"/>
                </a:solidFill>
                <a:latin typeface="Arial Narrow"/>
              </a:rPr>
              <a:t>o(C,B) </a:t>
            </a:r>
            <a:r>
              <a:rPr b="0" i="1" lang="hu-HU" sz="2800" spc="-1" strike="noStrike">
                <a:solidFill>
                  <a:srgbClr val="ffffff"/>
                </a:solidFill>
                <a:latin typeface="Symbol"/>
                <a:ea typeface="Symbol"/>
              </a:rPr>
              <a:t></a:t>
            </a:r>
            <a:r>
              <a:rPr b="0" i="1" lang="hu-HU" sz="2800" spc="-1" strike="noStrike">
                <a:solidFill>
                  <a:srgbClr val="ffffff"/>
                </a:solidFill>
                <a:latin typeface="Arial Narrow"/>
              </a:rPr>
              <a:t> o(A,B)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Következmény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35480" indent="-282960">
              <a:spcBef>
                <a:spcPts val="601"/>
              </a:spcBef>
              <a:buClr>
                <a:srgbClr val="00ccff"/>
              </a:buClr>
              <a:buFont typeface="Arial Narrow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 Narrow"/>
              </a:rPr>
              <a:t>Minden B-be vezető út egy fát alkot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735480" indent="-282960">
              <a:spcBef>
                <a:spcPts val="601"/>
              </a:spcBef>
              <a:buClr>
                <a:srgbClr val="00ccff"/>
              </a:buClr>
              <a:buFont typeface="Arial Narrow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 Narrow"/>
              </a:rPr>
              <a:t>Neve „nyelőfa”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6012000" y="2708280"/>
            <a:ext cx="0" cy="144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8172360" y="3429000"/>
            <a:ext cx="0" cy="1440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6012000" y="1989000"/>
            <a:ext cx="720720" cy="719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7451640" y="1989000"/>
            <a:ext cx="720720" cy="719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6732720" y="2709720"/>
            <a:ext cx="720720" cy="719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6012000" y="3429000"/>
            <a:ext cx="720720" cy="719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5292720" y="4149720"/>
            <a:ext cx="720720" cy="719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292720" y="2709720"/>
            <a:ext cx="720720" cy="719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7451640" y="3429000"/>
            <a:ext cx="720720" cy="719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6732720" y="4149720"/>
            <a:ext cx="720720" cy="719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 flipV="1">
            <a:off x="7451640" y="2708280"/>
            <a:ext cx="720720" cy="7207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 flipV="1">
            <a:off x="6012000" y="2708280"/>
            <a:ext cx="720720" cy="7207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 flipV="1">
            <a:off x="5292720" y="1989000"/>
            <a:ext cx="720720" cy="7207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 flipV="1">
            <a:off x="6732720" y="1989000"/>
            <a:ext cx="720720" cy="7207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 flipV="1">
            <a:off x="6732720" y="3429000"/>
            <a:ext cx="720720" cy="7207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 flipV="1">
            <a:off x="6012000" y="4149720"/>
            <a:ext cx="720720" cy="7207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H="1" flipV="1">
            <a:off x="7451640" y="4149720"/>
            <a:ext cx="720720" cy="7207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H="1" flipV="1">
            <a:off x="5292720" y="3429000"/>
            <a:ext cx="720720" cy="7207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292720" y="3429000"/>
            <a:ext cx="0" cy="1440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5292720" y="1989000"/>
            <a:ext cx="0" cy="1440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8172360" y="1989000"/>
            <a:ext cx="0" cy="1440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7451640" y="2708280"/>
            <a:ext cx="0" cy="144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588000" y="1413000"/>
            <a:ext cx="2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Courier New"/>
              </a:rPr>
              <a:t>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148360" y="1413000"/>
            <a:ext cx="28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Courier New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8028000" y="1413000"/>
            <a:ext cx="2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Courier New"/>
              </a:rPr>
              <a:t>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867280" y="2133720"/>
            <a:ext cx="2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Courier New"/>
              </a:rPr>
              <a:t>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308720" y="2133720"/>
            <a:ext cx="2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Courier New"/>
              </a:rPr>
              <a:t>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59280" y="3230640"/>
            <a:ext cx="2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Courier New"/>
              </a:rPr>
              <a:t>F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588000" y="2852640"/>
            <a:ext cx="2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Courier New"/>
              </a:rPr>
              <a:t>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8317080" y="3230640"/>
            <a:ext cx="28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Courier New"/>
              </a:rPr>
              <a:t>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867280" y="4292640"/>
            <a:ext cx="2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Courier New"/>
              </a:rPr>
              <a:t>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308720" y="4292640"/>
            <a:ext cx="2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Courier New"/>
              </a:rPr>
              <a:t>J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148360" y="5013360"/>
            <a:ext cx="28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Courier New"/>
              </a:rPr>
              <a:t>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588000" y="5013360"/>
            <a:ext cx="2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Courier New"/>
              </a:rPr>
              <a:t>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028000" y="5013360"/>
            <a:ext cx="2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Courier New"/>
              </a:rPr>
              <a:t>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59640" y="3355920"/>
            <a:ext cx="144360" cy="1443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219640" y="3355920"/>
            <a:ext cx="144360" cy="1443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8099280" y="3355920"/>
            <a:ext cx="144720" cy="1443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659640" y="1916280"/>
            <a:ext cx="144360" cy="144360"/>
          </a:xfrm>
          <a:prstGeom prst="ellipse">
            <a:avLst/>
          </a:prstGeom>
          <a:solidFill>
            <a:srgbClr val="ff00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8099280" y="1916280"/>
            <a:ext cx="144720" cy="1443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219640" y="1916280"/>
            <a:ext cx="144360" cy="1443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659640" y="4797360"/>
            <a:ext cx="144360" cy="1443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219640" y="4797360"/>
            <a:ext cx="144360" cy="1443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8099280" y="4797360"/>
            <a:ext cx="144720" cy="1443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940360" y="4076640"/>
            <a:ext cx="144360" cy="1443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80360" y="4076640"/>
            <a:ext cx="144360" cy="1443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940360" y="2637000"/>
            <a:ext cx="144360" cy="1443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380360" y="2637000"/>
            <a:ext cx="144360" cy="1443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TK - IÁTT - Rendszertechnika  - Számítógép-hálózato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0363D-9601-4A7B-A9FD-0A718955E66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FA27CD-DF4D-4EBB-A87F-BBA88A5EE25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4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cc66"/>
                </a:solidFill>
                <a:latin typeface="Tahoma"/>
              </a:rPr>
              <a:t>7.5 Forgalomirányítási algoritmusok</a:t>
            </a:r>
            <a:endParaRPr b="0" lang="en-US" sz="36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 Narrow"/>
              </a:rPr>
              <a:t>Legrövidebb útvonal alapú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Font typeface="Arial Narrow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 Narrow"/>
              </a:rPr>
              <a:t>Mi legyen a mértékegység?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 Narrow"/>
              </a:rPr>
              <a:t>Elárasztás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Font typeface="Arial Narrow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 Narrow"/>
              </a:rPr>
              <a:t>Ugrásszámláló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Font typeface="Arial Narrow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 Narrow"/>
              </a:rPr>
              <a:t>Szelektív elárasztás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 Narrow"/>
              </a:rPr>
              <a:t>Folyamalapú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Font typeface="Arial Narrow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 Narrow"/>
              </a:rPr>
              <a:t>Sorbanállás-elmélet alapján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 Narrow"/>
              </a:rPr>
              <a:t>Távolságvektor-alapú (RIP)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 Narrow"/>
              </a:rPr>
              <a:t>Kapcsolatállapot alapú (OSPF)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 Narrow"/>
              </a:rPr>
              <a:t>Hierarchikus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 Narrow"/>
              </a:rPr>
              <a:t>Mozgó hoszt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 Narrow"/>
              </a:rPr>
              <a:t>Adatszórás, többesküldés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TK - IÁTT - Rendszertechnika  - Számítógép-hálózato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EFD7E-693C-4D88-8357-086E1BE8ECD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959876-73D8-4102-8363-33198EBA360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 flipV="1">
            <a:off x="7451640" y="2708280"/>
            <a:ext cx="0" cy="144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012000" y="2709720"/>
            <a:ext cx="718920" cy="719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6012000" y="2708280"/>
            <a:ext cx="0" cy="144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6012000" y="1987560"/>
            <a:ext cx="720720" cy="7207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6012000" y="3429000"/>
            <a:ext cx="720720" cy="7207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6732720" y="4149720"/>
            <a:ext cx="720720" cy="7207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732720" y="1989000"/>
            <a:ext cx="718920" cy="719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012000" y="4149720"/>
            <a:ext cx="718920" cy="719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732720" y="3429000"/>
            <a:ext cx="718920" cy="719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6732720" y="2708280"/>
            <a:ext cx="720720" cy="7207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877080" y="3230640"/>
            <a:ext cx="28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Courier New"/>
              </a:rPr>
              <a:t>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804000" y="4653000"/>
            <a:ext cx="2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Courier New"/>
              </a:rPr>
              <a:t>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4360" y="2133720"/>
            <a:ext cx="28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00"/>
                </a:solidFill>
                <a:latin typeface="Courier New"/>
              </a:rPr>
              <a:t>6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020000" y="2924280"/>
            <a:ext cx="28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00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380360" y="2924280"/>
            <a:ext cx="28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00"/>
                </a:solidFill>
                <a:latin typeface="Courier New"/>
              </a:rPr>
              <a:t>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020000" y="3573360"/>
            <a:ext cx="28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00"/>
                </a:solidFill>
                <a:latin typeface="Courier New"/>
              </a:rPr>
              <a:t>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cc66"/>
                </a:solidFill>
                <a:latin typeface="Tahoma"/>
              </a:rPr>
              <a:t>7.5.1. Legrövidebb útvonal alapú algoritmus</a:t>
            </a:r>
            <a:endParaRPr b="0" lang="en-US" sz="28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Dijkstra, 1959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Csomópontokat felcímkézzük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ccff"/>
              </a:buClr>
              <a:buFont typeface="Arial Narrow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 Narrow"/>
              </a:rPr>
              <a:t>Ideiglenes, vagy állandó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ccff"/>
              </a:buClr>
              <a:buFont typeface="Arial Narrow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 Narrow"/>
              </a:rPr>
              <a:t>Legrövidebb ismert út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ccff"/>
              </a:buClr>
              <a:buFont typeface="Arial Narrow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 Narrow"/>
              </a:rPr>
              <a:t>Előző csúcs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5" name=""/>
          <p:cNvSpPr/>
          <p:nvPr/>
        </p:nvSpPr>
        <p:spPr>
          <a:xfrm>
            <a:off x="6659640" y="1916280"/>
            <a:ext cx="144360" cy="142560"/>
          </a:xfrm>
          <a:prstGeom prst="ellipse">
            <a:avLst/>
          </a:prstGeom>
          <a:solidFill>
            <a:srgbClr val="ff00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940360" y="2637000"/>
            <a:ext cx="144360" cy="1425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380360" y="2637000"/>
            <a:ext cx="144360" cy="1425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659640" y="3357720"/>
            <a:ext cx="144360" cy="1425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940360" y="4076640"/>
            <a:ext cx="144360" cy="142920"/>
          </a:xfrm>
          <a:prstGeom prst="ellipse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380360" y="4076640"/>
            <a:ext cx="144360" cy="142920"/>
          </a:xfrm>
          <a:prstGeom prst="ellipse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659640" y="4797360"/>
            <a:ext cx="144360" cy="142920"/>
          </a:xfrm>
          <a:prstGeom prst="ellipse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877080" y="1773360"/>
            <a:ext cx="28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Courier New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227640" y="2565360"/>
            <a:ext cx="2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Courier New"/>
              </a:rPr>
              <a:t>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524720" y="2492280"/>
            <a:ext cx="2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Courier New"/>
              </a:rPr>
              <a:t>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156360" y="3933720"/>
            <a:ext cx="28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Courier New"/>
              </a:rPr>
              <a:t>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524720" y="4005360"/>
            <a:ext cx="2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Courier New"/>
              </a:rPr>
              <a:t>F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84720" y="2133720"/>
            <a:ext cx="28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00"/>
                </a:solidFill>
                <a:latin typeface="Courier New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84720" y="2924280"/>
            <a:ext cx="28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00"/>
                </a:solidFill>
                <a:latin typeface="Courier New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724360" y="2924280"/>
            <a:ext cx="28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00"/>
                </a:solidFill>
                <a:latin typeface="Courier New"/>
              </a:rPr>
              <a:t>7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156360" y="3429000"/>
            <a:ext cx="28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00"/>
                </a:solidFill>
                <a:latin typeface="Courier New"/>
              </a:rPr>
              <a:t>6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300720" y="4292640"/>
            <a:ext cx="28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00"/>
                </a:solidFill>
                <a:latin typeface="Courier New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877080" y="4292640"/>
            <a:ext cx="28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00"/>
                </a:solidFill>
                <a:latin typeface="Courier New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443640" y="2637000"/>
            <a:ext cx="863640" cy="2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Courier New"/>
              </a:rPr>
              <a:t>(2,A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812000" y="2565360"/>
            <a:ext cx="863640" cy="2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Courier New"/>
              </a:rPr>
              <a:t>(6,A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940360" y="2637000"/>
            <a:ext cx="144360" cy="142560"/>
          </a:xfrm>
          <a:prstGeom prst="ellipse">
            <a:avLst/>
          </a:prstGeom>
          <a:solidFill>
            <a:srgbClr val="ff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164360" y="3295800"/>
            <a:ext cx="863640" cy="2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Courier New"/>
              </a:rPr>
              <a:t>(4,B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443640" y="4005360"/>
            <a:ext cx="863640" cy="2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Courier New"/>
              </a:rPr>
              <a:t>(9,B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659640" y="3357720"/>
            <a:ext cx="144360" cy="142560"/>
          </a:xfrm>
          <a:prstGeom prst="ellipse">
            <a:avLst/>
          </a:prstGeom>
          <a:solidFill>
            <a:srgbClr val="ff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812000" y="2565360"/>
            <a:ext cx="863640" cy="265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Courier New"/>
              </a:rPr>
              <a:t>(5,D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812000" y="4076640"/>
            <a:ext cx="863640" cy="265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Courier New"/>
              </a:rPr>
              <a:t>(8,D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380360" y="2637000"/>
            <a:ext cx="144360" cy="142560"/>
          </a:xfrm>
          <a:prstGeom prst="ellipse">
            <a:avLst/>
          </a:prstGeom>
          <a:solidFill>
            <a:srgbClr val="ff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093080" y="4724280"/>
            <a:ext cx="863640" cy="2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Courier New"/>
              </a:rPr>
              <a:t>(11,E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940360" y="4076640"/>
            <a:ext cx="144360" cy="142920"/>
          </a:xfrm>
          <a:prstGeom prst="ellipse">
            <a:avLst/>
          </a:prstGeom>
          <a:solidFill>
            <a:srgbClr val="ff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380360" y="4076640"/>
            <a:ext cx="144360" cy="142920"/>
          </a:xfrm>
          <a:prstGeom prst="ellipse">
            <a:avLst/>
          </a:prstGeom>
          <a:solidFill>
            <a:srgbClr val="ff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659640" y="4797360"/>
            <a:ext cx="144360" cy="142920"/>
          </a:xfrm>
          <a:prstGeom prst="ellipse">
            <a:avLst/>
          </a:prstGeom>
          <a:solidFill>
            <a:srgbClr val="ff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TK - IÁTT - Rendszertechnika  - Számítógép-hálózato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8BCC9-2E0D-4770-8C47-6BF585CEEDDA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A3700C-28E6-47FB-9DAE-7C8A4E1B633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"/>
          <p:cNvGrpSpPr/>
          <p:nvPr/>
        </p:nvGrpSpPr>
        <p:grpSpPr>
          <a:xfrm>
            <a:off x="5724360" y="1773360"/>
            <a:ext cx="2089440" cy="3278520"/>
            <a:chOff x="5724360" y="1773360"/>
            <a:chExt cx="2089440" cy="3278520"/>
          </a:xfrm>
        </p:grpSpPr>
        <p:sp>
          <p:nvSpPr>
            <p:cNvPr id="207" name=""/>
            <p:cNvSpPr/>
            <p:nvPr/>
          </p:nvSpPr>
          <p:spPr>
            <a:xfrm flipV="1">
              <a:off x="7451640" y="2708280"/>
              <a:ext cx="0" cy="14414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012000" y="2709720"/>
              <a:ext cx="718920" cy="7192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 flipV="1">
              <a:off x="6012000" y="2708280"/>
              <a:ext cx="0" cy="14414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 flipV="1">
              <a:off x="6012000" y="1987560"/>
              <a:ext cx="720720" cy="7207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 flipV="1">
              <a:off x="6012000" y="3429000"/>
              <a:ext cx="720720" cy="7207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V="1">
              <a:off x="6732720" y="4149720"/>
              <a:ext cx="720720" cy="7207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732720" y="1989000"/>
              <a:ext cx="718920" cy="7192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012000" y="4149720"/>
              <a:ext cx="718920" cy="7192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732720" y="3429000"/>
              <a:ext cx="718920" cy="7192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flipV="1">
              <a:off x="6732720" y="2708280"/>
              <a:ext cx="720720" cy="7207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877080" y="3230640"/>
              <a:ext cx="28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000" spc="-1" strike="noStrike">
                  <a:solidFill>
                    <a:srgbClr val="ffffff"/>
                  </a:solidFill>
                  <a:latin typeface="Courier New"/>
                </a:rPr>
                <a:t>D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804000" y="4653000"/>
              <a:ext cx="289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000" spc="-1" strike="noStrike">
                  <a:solidFill>
                    <a:srgbClr val="ffffff"/>
                  </a:solidFill>
                  <a:latin typeface="Courier New"/>
                </a:rPr>
                <a:t>G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64360" y="2133720"/>
              <a:ext cx="289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ffff00"/>
                  </a:solidFill>
                  <a:latin typeface="Courier New"/>
                </a:rPr>
                <a:t>6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020000" y="2924280"/>
              <a:ext cx="288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ffff00"/>
                  </a:solidFill>
                  <a:latin typeface="Courier New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380360" y="2924280"/>
              <a:ext cx="288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ffff00"/>
                  </a:solidFill>
                  <a:latin typeface="Courier New"/>
                </a:rPr>
                <a:t>4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020000" y="3573360"/>
              <a:ext cx="288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ffff00"/>
                  </a:solidFill>
                  <a:latin typeface="Courier New"/>
                </a:rPr>
                <a:t>4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659640" y="1916280"/>
              <a:ext cx="144360" cy="142560"/>
            </a:xfrm>
            <a:prstGeom prst="ellipse">
              <a:avLst/>
            </a:prstGeom>
            <a:solidFill>
              <a:srgbClr val="ff00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940360" y="2637000"/>
              <a:ext cx="144360" cy="14256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80360" y="2637000"/>
              <a:ext cx="144360" cy="14256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659640" y="3357720"/>
              <a:ext cx="144360" cy="14256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940360" y="4076640"/>
              <a:ext cx="144360" cy="14292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380360" y="4076640"/>
              <a:ext cx="144360" cy="14292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877080" y="1773360"/>
              <a:ext cx="28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000" spc="-1" strike="noStrike">
                  <a:solidFill>
                    <a:srgbClr val="ffffff"/>
                  </a:solidFill>
                  <a:latin typeface="Courier New"/>
                </a:rPr>
                <a:t>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227640" y="2565360"/>
              <a:ext cx="289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000" spc="-1" strike="noStrike">
                  <a:solidFill>
                    <a:srgbClr val="ffffff"/>
                  </a:solidFill>
                  <a:latin typeface="Courier New"/>
                </a:rPr>
                <a:t>B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524720" y="2492280"/>
              <a:ext cx="289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000" spc="-1" strike="noStrike">
                  <a:solidFill>
                    <a:srgbClr val="ffffff"/>
                  </a:solidFill>
                  <a:latin typeface="Courier New"/>
                </a:rPr>
                <a:t>C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156360" y="3933720"/>
              <a:ext cx="28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000" spc="-1" strike="noStrike">
                  <a:solidFill>
                    <a:srgbClr val="ffffff"/>
                  </a:solidFill>
                  <a:latin typeface="Courier New"/>
                </a:rPr>
                <a:t>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524720" y="4005360"/>
              <a:ext cx="289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000" spc="-1" strike="noStrike">
                  <a:solidFill>
                    <a:srgbClr val="ffffff"/>
                  </a:solidFill>
                  <a:latin typeface="Courier New"/>
                </a:rPr>
                <a:t>F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084720" y="2133720"/>
              <a:ext cx="289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ffff00"/>
                  </a:solidFill>
                  <a:latin typeface="Courier New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084720" y="2924280"/>
              <a:ext cx="289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ffff00"/>
                  </a:solidFill>
                  <a:latin typeface="Courier New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724360" y="2924280"/>
              <a:ext cx="289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ffff00"/>
                  </a:solidFill>
                  <a:latin typeface="Courier New"/>
                </a:rPr>
                <a:t>7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156360" y="3429000"/>
              <a:ext cx="288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ffff00"/>
                  </a:solidFill>
                  <a:latin typeface="Courier New"/>
                </a:rPr>
                <a:t>6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300720" y="4292640"/>
              <a:ext cx="289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ffff00"/>
                  </a:solidFill>
                  <a:latin typeface="Courier New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877080" y="4292640"/>
              <a:ext cx="288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ffff00"/>
                  </a:solidFill>
                  <a:latin typeface="Courier New"/>
                </a:rPr>
                <a:t>3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940360" y="2637000"/>
              <a:ext cx="144360" cy="14256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659640" y="3357720"/>
              <a:ext cx="144360" cy="14256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380360" y="2637000"/>
              <a:ext cx="144360" cy="14256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940360" y="4076640"/>
              <a:ext cx="144360" cy="14292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380360" y="4076640"/>
              <a:ext cx="144360" cy="14292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659640" y="4797360"/>
              <a:ext cx="144360" cy="14292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4000" y="620280"/>
            <a:ext cx="8080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cc66"/>
                </a:solidFill>
                <a:latin typeface="Tahoma"/>
              </a:rPr>
              <a:t>7.5.1 Kapcsolatállapot alapú routing</a:t>
            </a:r>
            <a:br>
              <a:rPr sz="3600"/>
            </a:br>
            <a:r>
              <a:rPr b="0" lang="hu-HU" sz="2800" spc="-1" strike="noStrike">
                <a:solidFill>
                  <a:srgbClr val="ffcc66"/>
                </a:solidFill>
                <a:latin typeface="Tahoma"/>
              </a:rPr>
              <a:t>(pl. OSPF)</a:t>
            </a:r>
            <a:endParaRPr b="0" lang="en-US" sz="28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2200" y="1980720"/>
            <a:ext cx="4033800" cy="42562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75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 Narrow"/>
              </a:rPr>
              <a:t>Szomszédok megismerése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712800" indent="-266760">
              <a:lnSpc>
                <a:spcPct val="90000"/>
              </a:lnSpc>
              <a:spcBef>
                <a:spcPts val="400"/>
              </a:spcBef>
              <a:buClr>
                <a:srgbClr val="00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ffff"/>
                </a:solidFill>
                <a:latin typeface="Courier New"/>
              </a:rPr>
              <a:t>HELLO</a:t>
            </a:r>
            <a:r>
              <a:rPr b="0" lang="hu-HU" sz="1600" spc="-1" strike="noStrike">
                <a:solidFill>
                  <a:srgbClr val="ffffff"/>
                </a:solidFill>
                <a:latin typeface="Arial Narrow"/>
              </a:rPr>
              <a:t> csomag</a:t>
            </a:r>
            <a:endParaRPr b="0" lang="en-US" sz="1600" spc="-1" strike="noStrike">
              <a:solidFill>
                <a:srgbClr val="ffffff"/>
              </a:solidFill>
              <a:latin typeface="Arial Narrow"/>
            </a:endParaRPr>
          </a:p>
          <a:p>
            <a:pPr lvl="1" marL="712800" indent="-266760">
              <a:lnSpc>
                <a:spcPct val="90000"/>
              </a:lnSpc>
              <a:spcBef>
                <a:spcPts val="400"/>
              </a:spcBef>
              <a:buClr>
                <a:srgbClr val="00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Arial Narrow"/>
              </a:rPr>
              <a:t>Globálisan egyedi nevek (pl. MAC address)</a:t>
            </a:r>
            <a:endParaRPr b="0" lang="en-US" sz="1600" spc="-1" strike="noStrike">
              <a:solidFill>
                <a:srgbClr val="ffffff"/>
              </a:solidFill>
              <a:latin typeface="Arial Narrow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75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 Narrow"/>
              </a:rPr>
              <a:t>Költség kiszámítása minden szomszédhoz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712800" indent="-266760">
              <a:lnSpc>
                <a:spcPct val="90000"/>
              </a:lnSpc>
              <a:spcBef>
                <a:spcPts val="400"/>
              </a:spcBef>
              <a:buClr>
                <a:srgbClr val="00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Arial Narrow"/>
              </a:rPr>
              <a:t>Késleltetés mérése </a:t>
            </a:r>
            <a:r>
              <a:rPr b="1" lang="hu-HU" sz="1400" spc="-1" strike="noStrike">
                <a:solidFill>
                  <a:srgbClr val="ffffff"/>
                </a:solidFill>
                <a:latin typeface="Courier New"/>
              </a:rPr>
              <a:t>ECHO</a:t>
            </a:r>
            <a:r>
              <a:rPr b="0" lang="hu-HU" sz="1600" spc="-1" strike="noStrike">
                <a:solidFill>
                  <a:srgbClr val="ffffff"/>
                </a:solidFill>
                <a:latin typeface="Arial Narrow"/>
              </a:rPr>
              <a:t> csomaggal</a:t>
            </a:r>
            <a:endParaRPr b="0" lang="en-US" sz="1600" spc="-1" strike="noStrike">
              <a:solidFill>
                <a:srgbClr val="ffffff"/>
              </a:solidFill>
              <a:latin typeface="Arial Narrow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75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 Narrow"/>
              </a:rPr>
              <a:t>Adatok elküldése minden szomszédhoz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712800" indent="-266760">
              <a:lnSpc>
                <a:spcPct val="90000"/>
              </a:lnSpc>
              <a:spcBef>
                <a:spcPts val="400"/>
              </a:spcBef>
              <a:buClr>
                <a:srgbClr val="00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Arial Narrow"/>
              </a:rPr>
              <a:t>Küldő, sorszám, szomszédaim, költségek</a:t>
            </a:r>
            <a:endParaRPr b="0" lang="en-US" sz="1600" spc="-1" strike="noStrike">
              <a:solidFill>
                <a:srgbClr val="ffffff"/>
              </a:solidFill>
              <a:latin typeface="Arial Narrow"/>
            </a:endParaRPr>
          </a:p>
          <a:p>
            <a:pPr lvl="1" marL="712800" indent="-266760">
              <a:lnSpc>
                <a:spcPct val="90000"/>
              </a:lnSpc>
              <a:spcBef>
                <a:spcPts val="400"/>
              </a:spcBef>
              <a:buClr>
                <a:srgbClr val="00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Arial Narrow"/>
              </a:rPr>
              <a:t>Terjesztés elárasztással</a:t>
            </a:r>
            <a:endParaRPr b="0" lang="en-US" sz="1600" spc="-1" strike="noStrike">
              <a:solidFill>
                <a:srgbClr val="ffffff"/>
              </a:solidFill>
              <a:latin typeface="Arial Narrow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75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 Narrow"/>
              </a:rPr>
              <a:t>Kiszámítani a legkisebb költségű utakat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712800" indent="-266760">
              <a:lnSpc>
                <a:spcPct val="90000"/>
              </a:lnSpc>
              <a:spcBef>
                <a:spcPts val="400"/>
              </a:spcBef>
              <a:buClr>
                <a:srgbClr val="00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Arial Narrow"/>
              </a:rPr>
              <a:t>Dijkstra algoritmus</a:t>
            </a:r>
            <a:endParaRPr b="0" lang="en-US" sz="1600" spc="-1" strike="noStrike">
              <a:solidFill>
                <a:srgbClr val="ffffff"/>
              </a:solidFill>
              <a:latin typeface="Arial Narrow"/>
            </a:endParaRPr>
          </a:p>
          <a:p>
            <a:pPr lvl="1" marL="712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Narrow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5003640" y="3284640"/>
          <a:ext cx="569880" cy="1663560"/>
        </p:xfrm>
        <a:graphic>
          <a:graphicData uri="http://schemas.openxmlformats.org/drawingml/2006/table">
            <a:tbl>
              <a:tblPr/>
              <a:tblGrid>
                <a:gridCol w="287280"/>
                <a:gridCol w="282600"/>
              </a:tblGrid>
              <a:tr h="3330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solidFill>
                      <a:srgbClr val="ffe9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19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solidFill>
                      <a:srgbClr val="ffe9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solidFill>
                      <a:srgbClr val="ffe9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solidFill>
                      <a:srgbClr val="ffe9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solidFill>
                      <a:srgbClr val="ffe9bd"/>
                    </a:solidFill>
                  </a:tcPr>
                </a:tc>
              </a:tr>
              <a:tr h="33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solidFill>
                      <a:srgbClr val="ffe9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solidFill>
                      <a:srgbClr val="ffe9b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572000" y="5084640"/>
            <a:ext cx="4321080" cy="12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normAutofit/>
          </a:bodyPr>
          <a:p>
            <a:pPr marL="266760" indent="-26676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 Narrow"/>
              </a:rPr>
              <a:t>Túl nagy hálózaton nem alkalmazható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2800" indent="-266760">
              <a:lnSpc>
                <a:spcPct val="90000"/>
              </a:lnSpc>
              <a:spcBef>
                <a:spcPts val="400"/>
              </a:spcBef>
              <a:buClr>
                <a:srgbClr val="00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Arial Narrow"/>
              </a:rPr>
              <a:t>Nagy memóriaigén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12800" indent="-266760">
              <a:lnSpc>
                <a:spcPct val="90000"/>
              </a:lnSpc>
              <a:spcBef>
                <a:spcPts val="400"/>
              </a:spcBef>
              <a:buClr>
                <a:srgbClr val="00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Arial Narrow"/>
              </a:rPr>
              <a:t>Nagy adatcsereforgalo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12800" indent="-266760">
              <a:lnSpc>
                <a:spcPct val="90000"/>
              </a:lnSpc>
              <a:spcBef>
                <a:spcPts val="400"/>
              </a:spcBef>
              <a:buClr>
                <a:srgbClr val="00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Arial Narrow"/>
              </a:rPr>
              <a:t>Nagy hibahatá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TK - IÁTT - Rendszertechnika  - Számítógép-hálózato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FA4FA-29E6-4843-A209-9AE24C6C595B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19DC02-85B6-4BAD-8DF1-CFD1C83EB8B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2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2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2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2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2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2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2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2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2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2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2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2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herkovich Péter</cp:lastModifiedBy>
  <dcterms:modified xsi:type="dcterms:W3CDTF">2006-03-25T16:48:22Z</dcterms:modified>
  <cp:revision>48</cp:revision>
  <dc:subject/>
  <dc:title>PowerPoint bemutató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8</vt:r8>
  </property>
  <property fmtid="{D5CDD505-2E9C-101B-9397-08002B2CF9AE}" pid="3" name="Version">
    <vt:r8>3</vt:r8>
  </property>
</Properties>
</file>