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wmf" ContentType="image/x-wmf"/>
  <Override PartName="/ppt/media/image7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01BD-0ECB-4D16-98FB-DA124A9443F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- Az igazi kezdet az ALOHA nevű rádiós hálózat HAWAII szigeteken. A CSMA/CD egy általános elv, amelyet rövidesen meg fogunk érte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Xerox 1976-ban épített egy 1 km-es kísérleti rendszert, amelyet elnevezett Ethernetnek, később ennek mintájára alkották az Ethernet ipari szebványt a felsorolt cég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IEEE által ez alapján kidolgozott és publikált 802.3-as szabvány ennél kicsit általánosabb, és néhány ponton el is tér, de az Ethernet, mint termék lényegében megfelel ennek a szabványn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oaxiális kábelt nem támog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at. 3 UTP (100BaseT4) és Cat 5. UTP; max 10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koaxiális kábel helyettesíti a szabad tér szerepét, amelyben az elektromágneses energia terj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ábelTV: ahol egy-egy csatornát használ az Internet szolgáltatás vagy a telefonszolgáltatá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kábelmodem tulajdonképpen olyan, mint a TV készülék tunerje: a szélessávból kiveszi a kívánt frekvenciát, és alapsávi jelként adja tovább. A TV esetében az alapsávi jel a kompozit videójel, ami például a videómagnó és a TV közötti videókábelen is közleked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mai, továbbfejlesztett Fast Ethernet és Gigabit Ethernet már nem használ koaxiális kábe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23BA-CC6F-46F8-AD13-EFF1E7E2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615-CB3A-4099-86B9-40180586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4E77-D7FE-4825-BCEE-C89526AA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0A7-9040-42C2-B4DC-F9278FE6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70E7-27B2-4117-A65B-BE263652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D3D9-E63A-4841-AB3F-CE2A0DA7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1017-A280-41CB-AAA0-D4EE4CF8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7B9A-31C1-4D30-BF28-FDC6ABF3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3DBC-D084-4221-9B83-16B34E93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0297-1E38-46DE-A8F6-4118F837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B398-9E7B-47D1-9A80-DBF65A26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5C2-156E-4F6C-89F1-5AB033B3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C589-7D04-4191-A4AD-5191FAD6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8D35-368E-4E07-9EFA-5CB42F9C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4F55-9214-4DF9-B84F-BD4BF200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5A68-820A-4771-B040-6C88465B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9296-A0EC-4AA6-9495-DF3CAB6E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A8B5-1E71-45E6-90F6-123E8315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BEC-B299-4DC1-894A-C65EE205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41E-ABEB-4D35-A490-D7E13FDB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2C1-7998-48C4-8B19-DC5DD267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54FE-B511-419C-9505-A132F316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113-F591-4AE7-9635-76C27A4D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D7F-BB96-4C7C-83EE-96999ADB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E21D-3D9D-4199-9202-B2181DAB8568}" type="datetime">
              <a:rPr b="0" lang="hu-HU" sz="1400" spc="-1" strike="noStrike">
                <a:solidFill>
                  <a:srgbClr val="ffcc66"/>
                </a:solidFill>
                <a:latin typeface="Arial Narrow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cc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A176-E80A-457F-892A-CAFA2C8948C0}" type="slidenum">
              <a:rPr b="0" lang="hu-H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BF3B-E762-4F49-ACC7-C10D6CD9B7F1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4F6E-C3E8-46BD-952E-D8DFCF282D5B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uherkovich.peter@eiszk.pte.h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14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isco.com/univercd/cc/td/doc/cisintwk/ito_doc/ethernet.htm" TargetMode="External"/><Relationship Id="rId3" Type="http://schemas.openxmlformats.org/officeDocument/2006/relationships/hyperlink" Target="http://web10.eppg.com/betabooks/nov01/meyers/ch05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Számítógép-hálózat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Uherkovich Pét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uherkovich.peter@eiszk.pte.hu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ffffff"/>
                </a:solidFill>
                <a:latin typeface="Arial Narrow"/>
              </a:rPr>
              <a:t>3. Az Ethernet</a:t>
            </a: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3.4 A CSMA/CD protokoll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25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rrier </a:t>
            </a:r>
            <a:r>
              <a:rPr b="1" lang="hu-HU" sz="28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ense </a:t>
            </a:r>
            <a:r>
              <a:rPr b="1" lang="hu-HU" sz="2800" spc="-1" strike="noStrike">
                <a:solidFill>
                  <a:srgbClr val="ffffff"/>
                </a:solidFill>
                <a:latin typeface="Arial Narrow"/>
              </a:rPr>
              <a:t>M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ultiple </a:t>
            </a:r>
            <a:r>
              <a:rPr b="1" lang="hu-HU" sz="28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cess with </a:t>
            </a:r>
            <a:r>
              <a:rPr b="1" lang="hu-HU" sz="28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ollision </a:t>
            </a:r>
            <a:r>
              <a:rPr b="1" lang="hu-HU" sz="2800" spc="-1" strike="noStrike">
                <a:solidFill>
                  <a:srgbClr val="ffffff"/>
                </a:solidFill>
                <a:latin typeface="Arial Narrow"/>
              </a:rPr>
              <a:t>D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etec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Ez egy közeghozzáférési (</a:t>
            </a:r>
            <a:r>
              <a:rPr b="1" lang="hu-HU" sz="3200" spc="-1" strike="noStrike">
                <a:solidFill>
                  <a:srgbClr val="ffffff"/>
                </a:solidFill>
                <a:latin typeface="Arial Narrow"/>
              </a:rPr>
              <a:t>M</a:t>
            </a: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edium </a:t>
            </a:r>
            <a:r>
              <a:rPr b="1" lang="hu-HU" sz="32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ccess </a:t>
            </a:r>
            <a:r>
              <a:rPr b="1" lang="hu-HU" sz="32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ontrol) protokollcsalád nev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z Ethernet szabvány is ezt alkalmazza, konkrétan definiálva az ehhez szükséges időzítéseket és algoritmusok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Ütközés kezelése kettes exponenciális visszalépéses algoritmussa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3EE5-2CC5-4968-BAED-C7175CEDA2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07719-13FE-424D-9C67-DFDCE3421A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3.4 Ethernet keretformátum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eret (legalább 64 byte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Előtag: 1010101010 bitminta (7 db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eretkezdet: 1010101011 bitminta (1 db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Címek: világszerte egyedie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4360" y="2852640"/>
          <a:ext cx="8459640" cy="1241280"/>
        </p:xfrm>
        <a:graphic>
          <a:graphicData uri="http://schemas.openxmlformats.org/drawingml/2006/table">
            <a:tbl>
              <a:tblPr/>
              <a:tblGrid>
                <a:gridCol w="947520"/>
                <a:gridCol w="878040"/>
                <a:gridCol w="1093680"/>
                <a:gridCol w="1168560"/>
                <a:gridCol w="736560"/>
                <a:gridCol w="1871640"/>
                <a:gridCol w="1079280"/>
                <a:gridCol w="6843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…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…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lőta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ret-kezd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él-cí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orrás-cí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oss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öltelé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as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0A5-2FBB-4F94-B2CC-D9582762B0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CE443-5D86-41D8-A154-7DE47042CD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3.5 Ethernet repeater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hálózat nagysága repeaterrel növelhető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repeater (jelismétlő) helyreállítja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 jel alakját,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Energiájá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z ütközéseket figyeli és továbbítj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Lehet több port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59280" y="3354480"/>
            <a:ext cx="4033800" cy="2919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859280" y="1906560"/>
            <a:ext cx="3960720" cy="13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A08C-3CD2-48A9-B2D2-7F0252B131B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D17D3-2358-4851-94E9-9C9B33B020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3.5.1 Ethernet HUB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2560" y="4114440"/>
            <a:ext cx="3810240" cy="19810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UTP kábelezésnél a csomóponti eszköz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Logikailag a repeaterhez hasonlí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klasszikus „Ethernet” a belsejében van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11280" y="1989000"/>
            <a:ext cx="3960720" cy="1800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547640" y="4149720"/>
            <a:ext cx="2232360" cy="6476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042920" y="5734080"/>
            <a:ext cx="574920" cy="534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1763640" y="5734080"/>
            <a:ext cx="574920" cy="534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2484360" y="5734080"/>
            <a:ext cx="574920" cy="534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3203640" y="5734080"/>
            <a:ext cx="574560" cy="534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3924360" y="5734080"/>
            <a:ext cx="574560" cy="534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92360" y="429264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403280" y="4292640"/>
            <a:ext cx="50472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050920" y="4292640"/>
            <a:ext cx="21744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71640" y="429264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4292640"/>
            <a:ext cx="36036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19640" y="4292640"/>
            <a:ext cx="79200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0899-8D60-4D9E-935D-4732A98F91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17018-FDAD-4718-B466-F4F80F0970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3.6 Keretmérete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dási sebesség: 10 Mbit/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Jelterjedés: 0,75c =  2,25 * 10</a:t>
            </a:r>
            <a:r>
              <a:rPr b="0" lang="hu-HU" sz="2800" spc="-1" strike="noStrike" baseline="30000">
                <a:solidFill>
                  <a:srgbClr val="ffffff"/>
                </a:solidFill>
                <a:latin typeface="Arial Narrow"/>
              </a:rPr>
              <a:t>8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 m/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ábel maximális hossza 5*200 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2560" y="4114800"/>
          <a:ext cx="8118720" cy="1981080"/>
        </p:xfrm>
        <a:graphic>
          <a:graphicData uri="http://schemas.openxmlformats.org/drawingml/2006/table">
            <a:tbl>
              <a:tblPr/>
              <a:tblGrid>
                <a:gridCol w="2936880"/>
                <a:gridCol w="2590920"/>
                <a:gridCol w="25909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ret mér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dőtart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rethoss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64 byte (512 bi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51,2 </a:t>
                      </a:r>
                      <a:r>
                        <a:rPr b="0" lang="el-GR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μ</a:t>
                      </a:r>
                      <a:r>
                        <a:rPr b="0" lang="hu-HU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1 500 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526 byte (12208 bi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,2 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70 000 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F9E9-C97E-45A1-B4DC-34384702DB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AAC14-FF01-48A6-ACD1-BEF6963B86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3.7 Bridge, switch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Ha elértük a hálózat korlátai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Számítógépek száma (forgalom nagysága) miat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Hálózat fizikai kiterjedése (távolság) miat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ét vagy több hálózati szigetet bridge köthet össz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z összekötött hálózatrészekre külön-külön érvényesek a korlátok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284720" y="2595600"/>
            <a:ext cx="3584520" cy="26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42A-0A6B-4D0E-9E11-D6F9DD3239D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DC4D5-226A-477F-9221-296912DECA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3.7.1 Collision domain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Repeaterekkel összekötött szegmensek egy collision domaint alkotna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Switch-ekkel vagy routerekkel összekapcsolt hálózatok független collision domaine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076720" y="1969920"/>
            <a:ext cx="3095640" cy="2179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645080" y="4191120"/>
            <a:ext cx="4030560" cy="193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B3C-2DAD-4C97-B703-1A30967C587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71975-8693-439A-B860-400E33E7A0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3.7.2 A transzparens bridge működése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971640" y="3645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851280" y="2852640"/>
            <a:ext cx="750960" cy="527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763640" y="3645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2627280" y="3645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5292720" y="3645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6084720" y="364500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6948360" y="364500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9"/>
          <a:stretch/>
        </p:blipFill>
        <p:spPr>
          <a:xfrm>
            <a:off x="900000" y="2781360"/>
            <a:ext cx="2232000" cy="576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0"/>
          <a:stretch/>
        </p:blipFill>
        <p:spPr>
          <a:xfrm>
            <a:off x="5292720" y="2781360"/>
            <a:ext cx="2232000" cy="576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V="1">
            <a:off x="1258920" y="3213000"/>
            <a:ext cx="14436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050920" y="33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2700360" y="3284280"/>
            <a:ext cx="216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7020000" y="3284280"/>
            <a:ext cx="216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300720" y="33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508720" y="3213000"/>
            <a:ext cx="21564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31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306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0720" y="27082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19600" y="27813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51920" y="4221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33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44280" y="4221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33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09360" y="4221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33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73360" y="4221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33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65360" y="4221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33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29000" y="4221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33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419640" y="4149720"/>
          <a:ext cx="1512720" cy="804960"/>
        </p:xfrm>
        <a:graphic>
          <a:graphicData uri="http://schemas.openxmlformats.org/drawingml/2006/table">
            <a:tbl>
              <a:tblPr/>
              <a:tblGrid>
                <a:gridCol w="757080"/>
                <a:gridCol w="75564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3563280" y="371628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címtábláz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14880" y="249228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211640" y="24206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1"/>
          <a:stretch/>
        </p:blipFill>
        <p:spPr>
          <a:xfrm>
            <a:off x="3059280" y="1916280"/>
            <a:ext cx="2232000" cy="576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2"/>
          <a:stretch/>
        </p:blipFill>
        <p:spPr>
          <a:xfrm>
            <a:off x="5796000" y="198900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flipH="1">
            <a:off x="5219280" y="2205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971640" y="2565360"/>
            <a:ext cx="485640" cy="976320"/>
            <a:chOff x="971640" y="2565360"/>
            <a:chExt cx="485640" cy="976320"/>
          </a:xfrm>
        </p:grpSpPr>
        <p:sp>
          <p:nvSpPr>
            <p:cNvPr id="214" name=""/>
            <p:cNvSpPr/>
            <p:nvPr/>
          </p:nvSpPr>
          <p:spPr>
            <a:xfrm>
              <a:off x="971640" y="2565360"/>
              <a:ext cx="485640" cy="976320"/>
            </a:xfrm>
            <a:prstGeom prst="upArrow">
              <a:avLst>
                <a:gd name="adj1" fmla="val 54898"/>
                <a:gd name="adj2" fmla="val 39882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51920" y="2708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0033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924360" y="1989000"/>
            <a:ext cx="485640" cy="976320"/>
            <a:chOff x="3924360" y="1989000"/>
            <a:chExt cx="485640" cy="976320"/>
          </a:xfrm>
        </p:grpSpPr>
        <p:sp>
          <p:nvSpPr>
            <p:cNvPr id="217" name=""/>
            <p:cNvSpPr/>
            <p:nvPr/>
          </p:nvSpPr>
          <p:spPr>
            <a:xfrm>
              <a:off x="3924360" y="1989000"/>
              <a:ext cx="485640" cy="976320"/>
            </a:xfrm>
            <a:prstGeom prst="upArrow">
              <a:avLst>
                <a:gd name="adj1" fmla="val 54898"/>
                <a:gd name="adj2" fmla="val 39882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04640" y="21319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0033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643280" y="2997360"/>
            <a:ext cx="976320" cy="485640"/>
            <a:chOff x="4643280" y="2997360"/>
            <a:chExt cx="976320" cy="485640"/>
          </a:xfrm>
        </p:grpSpPr>
        <p:sp>
          <p:nvSpPr>
            <p:cNvPr id="220" name=""/>
            <p:cNvSpPr/>
            <p:nvPr/>
          </p:nvSpPr>
          <p:spPr>
            <a:xfrm rot="5400000">
              <a:off x="4888440" y="2751840"/>
              <a:ext cx="485640" cy="976320"/>
            </a:xfrm>
            <a:prstGeom prst="upArrow">
              <a:avLst>
                <a:gd name="adj1" fmla="val 54898"/>
                <a:gd name="adj2" fmla="val 39882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5400000">
              <a:off x="5136480" y="3049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0033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843280" y="2924280"/>
            <a:ext cx="976320" cy="485640"/>
            <a:chOff x="2843280" y="2924280"/>
            <a:chExt cx="976320" cy="485640"/>
          </a:xfrm>
        </p:grpSpPr>
        <p:sp>
          <p:nvSpPr>
            <p:cNvPr id="223" name=""/>
            <p:cNvSpPr/>
            <p:nvPr/>
          </p:nvSpPr>
          <p:spPr>
            <a:xfrm rot="5400000">
              <a:off x="3088440" y="2678760"/>
              <a:ext cx="485640" cy="976320"/>
            </a:xfrm>
            <a:prstGeom prst="upArrow">
              <a:avLst>
                <a:gd name="adj1" fmla="val 54898"/>
                <a:gd name="adj2" fmla="val 39882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3336480" y="29761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0033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763640" y="2565360"/>
            <a:ext cx="485640" cy="976320"/>
            <a:chOff x="1763640" y="2565360"/>
            <a:chExt cx="485640" cy="976320"/>
          </a:xfrm>
        </p:grpSpPr>
        <p:sp>
          <p:nvSpPr>
            <p:cNvPr id="226" name=""/>
            <p:cNvSpPr/>
            <p:nvPr/>
          </p:nvSpPr>
          <p:spPr>
            <a:xfrm>
              <a:off x="1763640" y="2565360"/>
              <a:ext cx="485640" cy="976320"/>
            </a:xfrm>
            <a:prstGeom prst="upArrow">
              <a:avLst>
                <a:gd name="adj1" fmla="val 54898"/>
                <a:gd name="adj2" fmla="val 39882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43920" y="2708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0033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843280" y="2924280"/>
            <a:ext cx="976320" cy="485640"/>
            <a:chOff x="2843280" y="2924280"/>
            <a:chExt cx="976320" cy="485640"/>
          </a:xfrm>
        </p:grpSpPr>
        <p:sp>
          <p:nvSpPr>
            <p:cNvPr id="229" name=""/>
            <p:cNvSpPr/>
            <p:nvPr/>
          </p:nvSpPr>
          <p:spPr>
            <a:xfrm rot="5400000">
              <a:off x="3088440" y="2678760"/>
              <a:ext cx="485640" cy="976320"/>
            </a:xfrm>
            <a:prstGeom prst="upArrow">
              <a:avLst>
                <a:gd name="adj1" fmla="val 54898"/>
                <a:gd name="adj2" fmla="val 39882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3336480" y="29761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0033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31" name=""/>
          <p:cNvGraphicFramePr/>
          <p:nvPr/>
        </p:nvGraphicFramePr>
        <p:xfrm>
          <a:off x="3419640" y="4941720"/>
          <a:ext cx="1512720" cy="311400"/>
        </p:xfrm>
        <a:graphic>
          <a:graphicData uri="http://schemas.openxmlformats.org/drawingml/2006/table">
            <a:tbl>
              <a:tblPr/>
              <a:tblGrid>
                <a:gridCol w="757080"/>
                <a:gridCol w="75564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2" name=""/>
          <p:cNvGrpSpPr/>
          <p:nvPr/>
        </p:nvGrpSpPr>
        <p:grpSpPr>
          <a:xfrm>
            <a:off x="5292720" y="2565360"/>
            <a:ext cx="485640" cy="976320"/>
            <a:chOff x="5292720" y="2565360"/>
            <a:chExt cx="485640" cy="976320"/>
          </a:xfrm>
        </p:grpSpPr>
        <p:sp>
          <p:nvSpPr>
            <p:cNvPr id="233" name=""/>
            <p:cNvSpPr/>
            <p:nvPr/>
          </p:nvSpPr>
          <p:spPr>
            <a:xfrm>
              <a:off x="5292720" y="2565360"/>
              <a:ext cx="485640" cy="976320"/>
            </a:xfrm>
            <a:prstGeom prst="upArrow">
              <a:avLst>
                <a:gd name="adj1" fmla="val 54898"/>
                <a:gd name="adj2" fmla="val 39882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73000" y="2708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0033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643280" y="2923920"/>
            <a:ext cx="976320" cy="485640"/>
            <a:chOff x="4643280" y="2923920"/>
            <a:chExt cx="976320" cy="485640"/>
          </a:xfrm>
        </p:grpSpPr>
        <p:sp>
          <p:nvSpPr>
            <p:cNvPr id="236" name=""/>
            <p:cNvSpPr/>
            <p:nvPr/>
          </p:nvSpPr>
          <p:spPr>
            <a:xfrm rot="16200000">
              <a:off x="4888440" y="2678400"/>
              <a:ext cx="485640" cy="976320"/>
            </a:xfrm>
            <a:prstGeom prst="upArrow">
              <a:avLst>
                <a:gd name="adj1" fmla="val 54898"/>
                <a:gd name="adj2" fmla="val 39882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6200000">
              <a:off x="4814280" y="2989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0033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771640" y="2923920"/>
            <a:ext cx="976320" cy="485640"/>
            <a:chOff x="2771640" y="2923920"/>
            <a:chExt cx="976320" cy="485640"/>
          </a:xfrm>
        </p:grpSpPr>
        <p:sp>
          <p:nvSpPr>
            <p:cNvPr id="239" name=""/>
            <p:cNvSpPr/>
            <p:nvPr/>
          </p:nvSpPr>
          <p:spPr>
            <a:xfrm rot="16200000">
              <a:off x="3016800" y="2678400"/>
              <a:ext cx="485640" cy="976320"/>
            </a:xfrm>
            <a:prstGeom prst="upArrow">
              <a:avLst>
                <a:gd name="adj1" fmla="val 54898"/>
                <a:gd name="adj2" fmla="val 39882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200000">
              <a:off x="2942640" y="2989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0033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1" name=""/>
          <p:cNvGraphicFramePr/>
          <p:nvPr/>
        </p:nvGraphicFramePr>
        <p:xfrm>
          <a:off x="3419640" y="5229360"/>
          <a:ext cx="1512720" cy="311040"/>
        </p:xfrm>
        <a:graphic>
          <a:graphicData uri="http://schemas.openxmlformats.org/drawingml/2006/table">
            <a:tbl>
              <a:tblPr/>
              <a:tblGrid>
                <a:gridCol w="757080"/>
                <a:gridCol w="75564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4FD-7A8C-4B1C-BB95-B5A357EEAA9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CD731-E2A7-4CAF-B08C-349770AD4A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3.7.3 Spanning tre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Zárt hurok nem lehe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eszítőfa kijelölé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bridge-ek egy külön protokollon megbeszéli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90480" y="1981080"/>
            <a:ext cx="37940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8AD8-9E75-49BD-A1DB-D56902D0820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9ED60-D072-4DF8-9B38-7E656AB0AF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3.7.4 Switch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korszerű Ethernet hálózati eszköz a switc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inden UTP csatlakozású állomás külön collision domai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z egyes állomások különböző sebességűek is lehetne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221440" y="2776680"/>
            <a:ext cx="2657160" cy="25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E1B3-A628-47D4-A550-06524B5A563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3E45A-11C7-4C87-A246-D460817F9D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3. </a:t>
            </a: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Az Ethernet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 legelterjedtebb LAN technológi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Történe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SMA/CD – egy közegelérési elv (1970…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Ethernet – Xerox, DEC, Intel 10 Mbit/s (1980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IEEE 802.3 – egy bővebb szabvány (1985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8A0-05B1-427E-BF89-EC4D6ECA2D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A0A0F-F040-4A42-841C-636B8D3E3F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3.8 Fast Ethernet (1995)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IEEE 802.3u (kiegészíté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z Ethernet egyszerűségét, előnyeit és bevált megoldásait megtartja. Kompatibilitá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zonos keretformátu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Eltérő időzítések. Max 100 m csavart érpá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100BaseTx és 100BaseFx köze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 Switch-ek átjárók lehetnek a különbőző sebességű portok között. A keretet tároljá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FCE-F336-4413-B7F0-806FAF47450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CE62A-B087-4BC3-A05D-E31C8AC429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3.9 Gigabit Ethernet (1998)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IEEE 802.3z, IEEE 802.3a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eretformátum változatlan, kompatibili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Időzítés, szegmenshossz megint változot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512 byte minimális keretmére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TP vagy üveg médi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Gerinchálózati felhasználás, nagy távolság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10/100/1000 interfész – autonegoti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685-64D7-423D-8231-4AB5E509859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30DD2-745D-4B0B-8E6E-DCE535591E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3.10 10G Ethernet (2002)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IEEE 802.3ae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Csak full duplex üzemmód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(nincs repeater, nincs ütközé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Még nem elterjed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F980-CCE0-4C7B-9109-88F9A56AFF3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FA0FE-F551-459F-83EC-71A81E3A86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3.11 Az Ethernet közegei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84360" y="1700280"/>
          <a:ext cx="7839000" cy="4530600"/>
        </p:xfrm>
        <a:graphic>
          <a:graphicData uri="http://schemas.openxmlformats.org/drawingml/2006/table">
            <a:tbl>
              <a:tblPr/>
              <a:tblGrid>
                <a:gridCol w="1730160"/>
                <a:gridCol w="1697040"/>
                <a:gridCol w="1621080"/>
                <a:gridCol w="1395360"/>
                <a:gridCol w="1395360"/>
              </a:tblGrid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otoko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itsebessé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öze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ávolsá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zegme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Base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Mbit/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0 ohm koa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00 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Bas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Mbit/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t.3 /Cat.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0 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Base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Mbit/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M F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000 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0Base-T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0Mbit/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M, SM F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 … 70 k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0Base-F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0Mbit/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t.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0 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00Base-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00Mbit/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t. 5e/Cat 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0 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00Base-S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00Mbit/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M 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00 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00Base-L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00Mbit/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M 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 k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00Base-L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00Mbit/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M 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0 k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48D-C022-4C8E-A233-876ED8E98DB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1AA6B-ADEB-4881-8831-3DB1E8167A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3.12 Összefoglalá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z Ethernet technológiákról bővebben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http://www.cisco.com/univercd/cc/td/doc/cisintwk/ito_doc/ethernet.ht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Linke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3"/>
              </a:rPr>
              <a:t>http://web10.eppg.com/betabooks/nov01/meyers/ch05.htm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BEC4-F1AA-4B4E-9BC6-C6EB957B0FA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31CF6-389D-49BE-AB4D-F44883D634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3.1 Közege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Vastag kábel (10Base5) – kihal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Vékonykábel (10Base2) – „koax” – kihalóba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inőségmérés: TD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Csavart érpár (UTP, FTP, STP) (10BaseT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Üvegszál (10BaseF, 100BaseFx…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28FB-CD12-4B06-8D74-8956A2289C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57220-0054-40EC-BC88-391A641627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3.2 Baseband/Broadband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Etherne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Baseband: alapsávi, vivő nélküli átvitel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anchester kódolás a jobb szinkron érdekébe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ábelTV szolgáltatá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Broadband: Több csatorna különböző vivőfrekvenciákkal (FDM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kábelmodemtől már alapsávi az átvit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9BA-C74E-4261-A62A-0727D44576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22973-5C73-4EC3-A4B5-5BFBE0E819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3.2 Fizikai megjelené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BNC csatlakozó (koax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RJ45 csatlakozó (UTP/STP) 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8 pólusú „telefondugó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Optikai csatlakozók (párosával) (sokféle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3333600" cy="790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71640" y="4581360"/>
            <a:ext cx="2381040" cy="1781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084720" y="4508640"/>
            <a:ext cx="2286000" cy="1854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3492360" y="4724280"/>
            <a:ext cx="2381400" cy="16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04E-5F8B-461C-BE44-C9D512E17D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EC083-8B68-490E-AC4B-6AA450DB68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3.3 Jelterjedés a koaxiális kábelen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 csomag mindkét irányba terjed, a kábel végén elnyelődik, a B állomás kis késleltetéssel veszi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5589720"/>
            <a:ext cx="720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4869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6720" y="4869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3640" y="4508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0033"/>
                </a:solidFill>
                <a:latin typeface="Tahoma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08720" y="4508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ccff"/>
                </a:solidFill>
                <a:latin typeface="Tahoma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5516640"/>
            <a:ext cx="720720" cy="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5516640"/>
            <a:ext cx="216000" cy="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5516640"/>
            <a:ext cx="1800000" cy="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72360" y="4149720"/>
            <a:ext cx="971640" cy="215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149720"/>
            <a:ext cx="971640" cy="215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716360" y="4437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411280" y="443700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319-A32D-4C1F-B2E6-2D5EDEDF84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4CAE2-75A2-40BB-99EA-4FEC060140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5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85185E-006 L 0.7835 1.85185E-006 E">
                                      <p:cBhvr>
                                        <p:cTn id="32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3.3.1 Ütközés (collision)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z ütközés az Etherneten normális jelenség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411280" y="414972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012000" y="414972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71640" y="5589720"/>
            <a:ext cx="720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71640" y="4869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72360" y="4869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422100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0033"/>
                </a:solidFill>
                <a:latin typeface="Tahoma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422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ccff"/>
                </a:solidFill>
                <a:latin typeface="Tahoma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5516640"/>
            <a:ext cx="142920" cy="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445000"/>
            <a:ext cx="1429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3645000"/>
            <a:ext cx="1297080" cy="609480"/>
          </a:xfrm>
          <a:prstGeom prst="wedgeEllipseCallout">
            <a:avLst>
              <a:gd name="adj1" fmla="val 32740"/>
              <a:gd name="adj2" fmla="val 236458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Ütközé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5877000"/>
            <a:ext cx="1368360" cy="825480"/>
          </a:xfrm>
          <a:prstGeom prst="wedgeEllipseCallout">
            <a:avLst>
              <a:gd name="adj1" fmla="val 69837"/>
              <a:gd name="adj2" fmla="val -85194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Ütközés észlelé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5877000"/>
            <a:ext cx="1368360" cy="825480"/>
          </a:xfrm>
          <a:prstGeom prst="wedgeEllipseCallout">
            <a:avLst>
              <a:gd name="adj1" fmla="val -86773"/>
              <a:gd name="adj2" fmla="val -86731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Ütközés észlelé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00720" y="5445000"/>
            <a:ext cx="142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544500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00360" y="5516640"/>
            <a:ext cx="142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551664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149720"/>
            <a:ext cx="971640" cy="215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72360" y="4149720"/>
            <a:ext cx="971640" cy="215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4365720"/>
            <a:ext cx="1368360" cy="825480"/>
          </a:xfrm>
          <a:prstGeom prst="wedgeEllipseCallout">
            <a:avLst>
              <a:gd name="adj1" fmla="val 88398"/>
              <a:gd name="adj2" fmla="val 76921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Noise bur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4365720"/>
            <a:ext cx="1368360" cy="825480"/>
          </a:xfrm>
          <a:prstGeom prst="wedgeEllipseCallout">
            <a:avLst>
              <a:gd name="adj1" fmla="val -91185"/>
              <a:gd name="adj2" fmla="val 89615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Noise bur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AE8-D9F8-497C-97BC-062F71C983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C06BC-8C41-4C64-A564-77ED6E4A42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3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25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25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3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2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2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6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6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5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80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5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80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5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80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5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80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3.3.2 Nem detektált ütközé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Rövid csomag esetén az azt adó állomás nem értesül időben az ütközésről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z Ethernet úgy definiálja a kábelhossz és csomaghossz összefüggéseit, hogy ez ne fordulhasson elő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 legkisebb csomaghossz 64 byte, ez 46 byte adatot tartalmaz. Ennél kevesebb adat estén töltelékkel ki kell tölteni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149720"/>
            <a:ext cx="971640" cy="215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72360" y="4149720"/>
            <a:ext cx="971640" cy="215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9014-E45A-47AD-8ED7-30548BD79C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7DD91-F45F-416A-A6D5-8636EE1532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3.3.3 Reflexió hibás kábelen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Ha a kábel vége nyitott (esetleg rövidzárlatos), akkor a jel teljes energiája visszaverődik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 visszafelé jövő jel mindig ütközést okoz az eredetivel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7F5-D415-4856-9AF9-15FA6985435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7E501-DCEE-4EC8-A58F-7C87CC064F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herkovich Péter</cp:lastModifiedBy>
  <dcterms:modified xsi:type="dcterms:W3CDTF">2006-02-16T10:11:09Z</dcterms:modified>
  <cp:revision>23</cp:revision>
  <dc:subject/>
  <dc:title>PowerPoint bemutat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8</vt:r8>
  </property>
  <property fmtid="{D5CDD505-2E9C-101B-9397-08002B2CF9AE}" pid="3" name="Version">
    <vt:r8>3</vt:r8>
  </property>
</Properties>
</file>