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B7F7-F613-4F1C-A411-3C4BD5D40DA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gyesküldés – többesküldés -- + bárhováküld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50C-4515-4A9B-960B-CF351F3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B09-5CA5-46F4-B40E-F88DC324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44C-AD64-462A-8421-2B51511B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2A4-3E93-41D7-A00E-13BD8F43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C3B8-3891-4278-AE28-1A863A63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4FC5-D260-4F26-84B6-3891D05C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28C0-69FE-4A0D-8F0C-F60A1E5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13EF-04F4-4F75-984A-CEADA353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A9B4-E1D8-4799-A478-023147FF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A6BE-9407-45BC-BE96-9855C4F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9C2F-4C69-41B6-BAEE-61FA942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CFE-C4DF-4DBF-92C9-DF32162F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9DD-0F03-409A-939E-C501D2A5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B701-38BE-41FA-9FA3-A55EA15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696F-A8D6-44CB-B778-FDD24927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ABA9-85AE-49C3-90D6-E75DDB9A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4BAE-838A-4909-8B82-3C796CD2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90A-B1E9-4E3D-BBFA-088E9764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8FB-EA90-445C-875D-C66C680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7C0-94D0-41CE-B18B-FA5A1F2E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59E-911A-4108-890D-7510B1B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EB3-67C4-4076-AC25-4E0E264C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93D-F965-49C0-AE24-8BF6826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9E2-37D5-47A9-AD03-4AD0991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3E53-4335-4020-A924-384C61D3EB52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D24-6F09-4B54-96A3-195B044BF8EE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E1E-EA36-4216-AE4B-A3B6A7BB0B61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D56-95A1-4702-B07B-F46A2C7400A6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w713doc.sco.com/en/NET_tcpip/tcpC.ipv6.html" TargetMode="External"/><Relationship Id="rId3" Type="http://schemas.openxmlformats.org/officeDocument/2006/relationships/hyperlink" Target="http://www.acerimmeronline.com/networks/atm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840"/>
            <a:ext cx="67993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8. A hálózati réteg II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Az IPv6 és az ATM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2.1 ATM cellaformátu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98520" y="2193840"/>
            <a:ext cx="257832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61040" y="2193840"/>
            <a:ext cx="25779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148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1484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42B-D1AB-4DCF-BBC1-30FB13BA9C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D34A4-0A11-4EEA-B5B2-CAF503F75A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2.2 ATM cella jelzőbit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TI: adattípus, torlódásjelz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0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lhasználói 0 típus, torlódás ninc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01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lhasználói 1 típus, torlódás ninc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1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lhasználói 1 típus, torlódás vol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11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lhasználói 1 típus, torlódás vol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0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arbantartási információ lokáli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01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arbantartási információ forrás—cél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1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orlódásvédelmet kezelő cell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11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nntartot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LP b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: alacsony prioritású, először ezt kell eldobn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: magas prioritású cell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97F-87FD-4AE1-8D2A-B05A05651F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6CFEC-9A7F-464E-86B1-CD29765AF1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8.2.3 ATM összeköttetés felépítése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felépíté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ccff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gy külön jelzési célra fenntartott VÁ-ön indul. (Kétlépés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ccff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eglévő virtuális útvonal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ebont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600360" cy="25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422100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AA0-AE80-43AB-995E-F6701031AB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DDFBC-8F5B-4B8B-9910-87D4CBA69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2.4 ATM kapcs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VÁ-t a VCI/VPI pár határozza meg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VPI kijelöli az útvonala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Kapcsolás mindenütt VPI alapján (csak 12 bit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Kivéve a célhosztnál, ahol VPI/VCI alapján (12+16 bit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VPI mező mindig új értéket ka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EC is mindig újraszámolódi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92360" y="4149720"/>
          <a:ext cx="1655640" cy="195264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080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 V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I v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I V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851280" y="4149720"/>
          <a:ext cx="1655640" cy="195264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080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 V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I v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I V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12000" y="4149720"/>
          <a:ext cx="1655640" cy="195264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080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 V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I v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I VP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042920" y="4437000"/>
            <a:ext cx="719280" cy="289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4437000"/>
            <a:ext cx="216000" cy="289080"/>
          </a:xfrm>
          <a:prstGeom prst="rect">
            <a:avLst/>
          </a:prstGeom>
          <a:solidFill>
            <a:srgbClr val="ff00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4365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4365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407664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076640"/>
            <a:ext cx="21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437000"/>
            <a:ext cx="719280" cy="289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4437000"/>
            <a:ext cx="216000" cy="289080"/>
          </a:xfrm>
          <a:prstGeom prst="rect">
            <a:avLst/>
          </a:prstGeom>
          <a:solidFill>
            <a:srgbClr val="ff00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4437000"/>
            <a:ext cx="718920" cy="289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4437000"/>
            <a:ext cx="215640" cy="289080"/>
          </a:xfrm>
          <a:prstGeom prst="rect">
            <a:avLst/>
          </a:prstGeom>
          <a:solidFill>
            <a:srgbClr val="ff00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4437000"/>
            <a:ext cx="718920" cy="289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437000"/>
            <a:ext cx="216000" cy="289080"/>
          </a:xfrm>
          <a:prstGeom prst="rect">
            <a:avLst/>
          </a:prstGeom>
          <a:solidFill>
            <a:srgbClr val="ff00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436572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7640" y="407664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436572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4B0-31B7-42CA-B63F-4B684479A9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ADEED-690A-4713-A426-E0820618B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 E">
                                      <p:cBhvr>
                                        <p:cTn id="5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0 E">
                                      <p:cBhvr>
                                        <p:cTn id="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29 0 E">
                                      <p:cBhvr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29 0 E">
                                      <p:cBhvr>
                                        <p:cTn id="7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6 0 E">
                                      <p:cBhvr>
                                        <p:cTn id="9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6 0 E">
                                      <p:cBhvr>
                                        <p:cTn id="9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8.2.5 Szolgálati osztály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BR: constant bitrate – mint egy E1 emuláci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BR: variable bitr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T – realtime (pl. videokonferencia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RT – egyé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BR: available bitrate – amennyi jut (pl. we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an torlódásszabályoz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BR – unspecified bitrate –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aradék elv (pl. ft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DC9-F450-4B8A-A65E-287A73D333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446DF-7C21-453B-8757-FC919B274D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2.6 ATM LAN Emuláció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LAN-t több VÁ-rel emuláljá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Üzenetszórá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RP: LES (Lan Emulation Server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gyéb broadcast: BUS (Broadcast/Unknown Server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2560" y="4114440"/>
            <a:ext cx="77724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946-9D42-4CC6-9174-0C5B7939AC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AA743-4791-4850-A1E8-8086D0E9FB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8.3 Az Internet Domain Name Rendszere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p réteg csak ip címeket ért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szállítási réteg is csak IP cím/portcím párosokat ér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felhasználók és az alkalmazások hosztneveket szeretnének kezelni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osts fájl – ma is működik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osts fájl egy szervere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ierarchikus DNS rendszer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lsődleges domaine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Aldomainek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névkörzetek függetlenek az ip hálózati struktúrátó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1562040"/>
            <a:ext cx="3121200" cy="2400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0" y="4025880"/>
            <a:ext cx="33973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CA7-EF0D-4E2B-96D6-87E7ECA20D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9D78F-AA6D-4C1B-B947-5DD6371646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8.3.1 </a:t>
            </a: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Példa a hosts fájl használatára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997360"/>
            <a:ext cx="4176720" cy="1554120"/>
          </a:xfrm>
          <a:prstGeom prst="rect">
            <a:avLst/>
          </a:prstGeom>
          <a:solidFill>
            <a:srgbClr val="3242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C:\WINDOWS&gt;cd system32\drivers\et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C:\WINDOWS\system32\drivers\etc&gt;type hos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00"/>
                </a:solidFill>
                <a:latin typeface="Courier New"/>
              </a:rPr>
              <a:t>127.0.0.1       localho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00"/>
                </a:solidFill>
                <a:latin typeface="Courier New"/>
              </a:rPr>
              <a:t>193.6.50.100    alf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00"/>
                </a:solidFill>
                <a:latin typeface="Courier New"/>
              </a:rPr>
              <a:t>193.6.50.105    sher.index.h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Courier New"/>
              </a:rPr>
              <a:t>C:\WINDOWS\system32\drivers\etc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Courier New"/>
              </a:rPr>
              <a:t>hosts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ájl feldolgozása megelőzi a dns lekérdezé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82E-1588-472A-9484-A56D0AA30B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C8245-CFF2-4CF1-976F-6911C7102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8.3.2 Erőforrás nyilvántartá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305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te.hu zónafájlj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részlet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Bejegyzés típuso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SOA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CNAM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MX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NS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00360" y="1847880"/>
            <a:ext cx="6443640" cy="4449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FC6-7645-4432-BB2E-5EE4BDD0FC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2FFD2-906B-46F7-854F-EE01BAFAD0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8.3.3 Névszerverek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erhelés és adminisztráció elosz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erverek is hierarchikusan kapcsolódnak egymásho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zóna” az egy szerveren tárolt domain-fa részl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ásodlagos névszerverek a biztonság érdekéb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Gyorsítótárak, elavu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0D1-3003-46F5-8123-735E4A1F2F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CAEDE-179F-49FB-A723-A0EAB15146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1 IPv6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Pv4 címei elfogyna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DIR: átmeneti halaszt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Új igény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iztonsá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obilit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ompatibilitás, fokozatos átme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roblé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felettes protokollok, alkalmazások módosítására van szüksé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E51-0A76-493D-B4C1-27972DE52F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3F0A1-263A-4253-A26F-4E9EEF347E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uw713doc.sco.com/en/NET_tcpip/tcpC.ipv6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http://www.acerimmeronline.com/networks/atm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A9C-97E0-4DB3-BDCA-E825376A42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762BD-E286-40B6-A2F3-43DF19BC54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cc66"/>
                </a:solidFill>
                <a:latin typeface="Tahoma"/>
              </a:rPr>
              <a:t>8.1.1 Az IPv6 címe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16 byte = 128 b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Jelö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8000:0000:0000:0000:0123:4567:89AB:CDE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8000::123:4567:89AB:CDE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::193.6.50.1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Pv6 címek mennyisé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u-HU" sz="2800" spc="-1" strike="noStrike" baseline="30000">
                <a:solidFill>
                  <a:srgbClr val="ffffff"/>
                </a:solidFill>
                <a:latin typeface="Arial Narrow"/>
              </a:rPr>
              <a:t>128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db ≈ 3*10</a:t>
            </a:r>
            <a:r>
              <a:rPr b="0" lang="hu-HU" sz="2800" spc="-1" strike="noStrike" baseline="30000">
                <a:solidFill>
                  <a:srgbClr val="ffffff"/>
                </a:solidFill>
                <a:latin typeface="Arial Narrow"/>
              </a:rPr>
              <a:t>38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öldön négyzetméterenként ≈ 7*10</a:t>
            </a:r>
            <a:r>
              <a:rPr b="0" lang="hu-HU" sz="2800" spc="-1" strike="noStrike" baseline="30000">
                <a:solidFill>
                  <a:srgbClr val="ffffff"/>
                </a:solidFill>
                <a:latin typeface="Arial Narrow"/>
              </a:rPr>
              <a:t>23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mi több az Avogadro számná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87B-CA08-4ADE-A804-75E1957565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C961-DE16-41C1-A629-613BE6D11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1.2 Az IPv6 címtartomány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000 0000 …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nntartott, IPv4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25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000 001 …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SI NSAP címek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12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000 010 …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ovell Netware IPX címei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12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10 …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olgáltatók címei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00 …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öldrajzi alapú címek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8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111 1110 10 …kapcsolat-lokális címek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102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111 1110 11 …helyszín-lokális címek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102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111 1111 …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öbbesküldé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25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ABE-9DAD-4FDD-924F-F7B0ACFD04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7F0F7-22E4-49CB-B9D7-9B5FEA52A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1.3 IPv6 fejrész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3673440" cy="209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erzió: 6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rioritás: 0..7, 8..1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lyamcímk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ísérleti, VÁ szerű működé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athossz: fejrész nélkü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4114800"/>
            <a:ext cx="6337440" cy="226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1916280"/>
            <a:ext cx="3673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övetkező fejrés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iegészítő fejrész típusa, utolsó után szállítási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Ugráskorl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Élettartam helye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263-855B-4BBE-A514-75787DDAFF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919F7-0E6E-4B99-9177-E95D70AB53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1.4 Kiegészítő fejrész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pcionálisan további információ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outing opció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rrás általi útvonalirányít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Darabol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itelesít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itkosít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élopció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t kell tennie a routernek, ha nem érti az opciót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igyelmen kívül hagyj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ldobni a csomago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ldobni és ICMP hib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1C3-E69D-48F6-A640-74C1EC29F8D8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F5965-F6FE-486A-9EF2-B2A2FEEBAC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1.5 Változá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jrészhossz eltűnt (fix méretű fejrész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lenőrző összeg eltűnt (hatékonyság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somagok darabolása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itkábban (min. 576 bytot kell tudn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ibaüzent, ha nem tudja továbbítan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arabolás a forrás ált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BDB-2759-4B48-BCB4-E3BA0B5A83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A88DF-D7F6-4253-AC96-BE447F514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154-A659-4C67-81AD-C0F977E999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11A0F-7008-4EEB-9EF2-ACD75D50AA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8.2 Az ATM hálózati rétege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Átviteli ú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irtuális útvon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Virtuális áramkö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5080" y="3479760"/>
            <a:ext cx="3809880" cy="11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5640" y="1660680"/>
            <a:ext cx="7848720" cy="4647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42422" t="50754" r="42232" b="35811"/>
          <a:stretch/>
        </p:blipFill>
        <p:spPr>
          <a:xfrm>
            <a:off x="1835280" y="4005360"/>
            <a:ext cx="122400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901-9DD8-489E-8F73-16A444548F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1B918-E854-46F7-B9F0-F528F4C4F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-4.07407E-006 L 0.43317 -0.2625 E">
                                      <p:cBhvr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3-27T20:45:50Z</dcterms:modified>
  <cp:revision>57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