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C98-1A48-441B-906F-24C0D07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998-8988-44EA-A9C2-1A14545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CF8-A6E8-4B03-9414-B279C33E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B65-8808-48BB-A755-BBBA66C0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ADD-78C3-44B8-B849-6DE0576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647-B20F-4138-BD8B-044A410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E43-8CBE-4896-9665-C98921C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E0A-416B-4C5B-BA2B-8E46F8C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31B-5DBE-4729-9E69-66BC68B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F11-8D21-4E6C-9F89-A0102423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F27-C0BE-462E-B729-EDA7FC7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DC4-4C37-4362-8F16-6AD351B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480D-E328-469C-8451-18752A193D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4390920"/>
          </a:xfrm>
          <a:prstGeom prst="rect">
            <a:avLst/>
          </a:prstGeom>
          <a:solidFill>
            <a:srgbClr val="909d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imes New Roman"/>
              </a:rPr>
              <a:t>Australian roadtrains</a:t>
            </a:r>
            <a:br>
              <a:rPr sz="6000"/>
            </a:br>
            <a:r>
              <a:rPr b="0" lang="hu-HU" sz="6000" spc="-1" strike="noStrike">
                <a:solidFill>
                  <a:srgbClr val="ffffff"/>
                </a:solidFill>
                <a:latin typeface="Times New Roman"/>
              </a:rPr>
              <a:t>Ausztrál közúti szállítás</a:t>
            </a:r>
            <a:br>
              <a:rPr sz="60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arabárú, ömlesztett (darabos és por) szilárd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alamint folyadék és gáz halmazállapotú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nyagtömegek távolsági szállítására 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Törekvés az egységrakományok képzés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724280"/>
            <a:ext cx="7767360" cy="1368720"/>
          </a:xfrm>
          <a:prstGeom prst="rect">
            <a:avLst/>
          </a:prstGeom>
          <a:solidFill>
            <a:srgbClr val="909df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Összeállítot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By E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879480"/>
            <a:ext cx="806472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3720" y="87480"/>
            <a:ext cx="8294760" cy="66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2665440"/>
          </a:xfrm>
          <a:prstGeom prst="rect">
            <a:avLst/>
          </a:prstGeom>
          <a:solidFill>
            <a:srgbClr val="909d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600" spc="-1" strike="noStrike">
                <a:solidFill>
                  <a:srgbClr val="000000"/>
                </a:solidFill>
                <a:latin typeface="Times New Roman"/>
              </a:rPr>
              <a:t>Keep on truckin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4:59:10Z</dcterms:created>
  <dc:creator>home pc</dc:creator>
  <dc:description/>
  <dc:language>en-US</dc:language>
  <cp:lastModifiedBy>Cech Vilmos</cp:lastModifiedBy>
  <dcterms:modified xsi:type="dcterms:W3CDTF">2007-08-27T18:04:59Z</dcterms:modified>
  <cp:revision>3</cp:revision>
  <dc:subject/>
  <dc:title>Australian roadtrains</dc:title>
</cp:coreProperties>
</file>