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E76-CE95-43B6-A2EF-E85F4A73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37C-6903-48F4-B4CF-7D2D6298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994-B113-4521-80F8-DE3ADDFC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07B-8A29-4733-9C21-DFDC98AA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5AE-529C-46BE-BAB7-6792D2F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F4F-6566-474B-B398-B14FEBAC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BD2-A400-4187-8939-58E10BD3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95A-E76C-4E7C-AB3F-81DF9D4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3DC-7C3A-4EF3-B5C9-27C9C68D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E3F-0CF8-4009-819C-3A4DB351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A2A-C7C7-43E5-B18F-DA82BEB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714-7B52-4A06-9E32-F9A131A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4D3-6622-417C-9633-1086990C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77800"/>
            <a:ext cx="91440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9208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9:05:52Z</dcterms:created>
  <dc:creator>Cech Vilmos</dc:creator>
  <dc:description/>
  <dc:language>en-US</dc:language>
  <cp:lastModifiedBy>Cech Vilmos</cp:lastModifiedBy>
  <dcterms:modified xsi:type="dcterms:W3CDTF">2007-05-22T19:22:26Z</dcterms:modified>
  <cp:revision>2</cp:revision>
  <dc:subject/>
  <dc:title>1. dia</dc:title>
</cp:coreProperties>
</file>