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8CD-41C6-4675-ABD0-7E02F7BC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632-11D8-444C-8A33-CCD9A978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97A-95DC-40FD-BADF-26DC923D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618-1D64-4215-AFFF-5D6244AD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83E-EF62-4909-9EE4-0A7998AF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3A7-FC31-4738-9A64-03515626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E81-0C00-4F0B-8F9C-8CEF7CBD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246-EB2C-4180-A29F-E5AB79C6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090-3982-4751-AC66-4E7412E7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C81-424D-42F4-86A0-B1BF6E1F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693-B905-41DC-B20A-84BFEC9A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5DD-6AE7-4450-8038-2882A53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5CFC-1DC0-4EF5-B36D-88318AA4F272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lacsony és magas hőmérsékletek</a:t>
            </a:r>
            <a:br>
              <a:rPr sz="6000"/>
            </a:br>
            <a:br>
              <a:rPr sz="6000"/>
            </a:b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asználatának terjedé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Times New Roman"/>
              </a:rPr>
              <a:t>Hőmérsékl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zikai mennyiség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Állapothatározó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ntenzív mennyiség, mértékegysége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Kelvin (K)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indennapi használatban a Celsius-fok (° C)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14:40:15Z</dcterms:created>
  <dc:creator>Cech Vilmos</dc:creator>
  <dc:description/>
  <dc:language>en-US</dc:language>
  <cp:lastModifiedBy>Cech Vilmos</cp:lastModifiedBy>
  <dcterms:modified xsi:type="dcterms:W3CDTF">2006-11-21T18:11:12Z</dcterms:modified>
  <cp:revision>2</cp:revision>
  <dc:subject/>
  <dc:title>Alacsony és magas hőmérsékletek  használatának terjedése</dc:title>
</cp:coreProperties>
</file>