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AD8-3018-4936-968A-289F19A3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095-6C71-43D4-B991-DEAAE197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F1D-B26B-4DE3-997F-5678695E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F29-D94F-4CEE-A8C0-6BDDE25F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BBB-E5F8-445F-B7A5-C02691FA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47C-3FA6-48F2-B9C1-DAB27781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595-72EC-421F-A140-5959FED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43B-7F98-402D-B781-B58A563C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3EC-71CD-4107-B847-FE6A8DFC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339-1BCA-47AF-8A1B-60DB064A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3BE-6C76-42C5-8A9A-5D4CE577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805-1DE7-4658-9A8C-DA72E730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2FB1-69FA-48CE-B763-1CF0A3538026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Times New Roman"/>
              </a:rPr>
              <a:t>Hidak, átjárók</a:t>
            </a:r>
            <a:br>
              <a:rPr sz="6600"/>
            </a:br>
            <a:r>
              <a:rPr b="1" lang="en-US" sz="5400" spc="-1" strike="noStrike">
                <a:solidFill>
                  <a:srgbClr val="ffff66"/>
                </a:solidFill>
                <a:latin typeface="Times New Roman"/>
              </a:rPr>
              <a:t>A kőgerendától a függőhídig</a:t>
            </a:r>
            <a:br>
              <a:rPr sz="5400"/>
            </a:br>
            <a:r>
              <a:rPr b="0" lang="en-US" sz="5400" spc="-1" strike="noStrike">
                <a:solidFill>
                  <a:srgbClr val="ffff66"/>
                </a:solidFill>
                <a:latin typeface="Times New Roman"/>
              </a:rPr>
              <a:t>(avagy a „</a:t>
            </a:r>
            <a:r>
              <a:rPr b="0" lang="en-US" sz="5400" spc="-1" strike="noStrike">
                <a:solidFill>
                  <a:srgbClr val="ffff66"/>
                </a:solidFill>
                <a:latin typeface="Times New Roman"/>
              </a:rPr>
              <a:t>mérnökség</a:t>
            </a:r>
            <a:r>
              <a:rPr b="0" lang="en-US" sz="5400" spc="-1" strike="noStrike">
                <a:solidFill>
                  <a:srgbClr val="ffff66"/>
                </a:solidFill>
                <a:latin typeface="Times New Roman"/>
              </a:rPr>
              <a:t>” kezdetei)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4437000"/>
            <a:ext cx="86868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Összeállította Dr.Cserhalmi Imre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(BME Tartószerkezetek Mechanikája Tanszék)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munkáját felhasználta és példákkal kiegészítette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 dr.Cech Vilmos </a:t>
            </a:r>
            <a:r>
              <a:rPr b="1" lang="hu-HU" sz="2000" spc="-1" strike="noStrike">
                <a:solidFill>
                  <a:srgbClr val="ffff66"/>
                </a:solidFill>
                <a:latin typeface="Times New Roman"/>
              </a:rPr>
              <a:t>(ELTE TTK Fizika Tanszék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Római oszloprendszer az etruszk időkből.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66"/>
                </a:solidFill>
                <a:latin typeface="Times New Roman"/>
              </a:rPr>
              <a:t>A Selinunti hadihíd maradványai. (Kr.e. 3. sz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Kréta szigeti híd (Kr.e. 4. sz.) Az építmény 9m hosszú, 5,4m széles és 4,6 m magas.  Egyenlőszárú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álboltozat konzolkövek homloklapjait pontosan ferdére munkálták. Ma is áll a híd!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66"/>
                </a:solidFill>
                <a:latin typeface="Times New Roman"/>
              </a:rPr>
              <a:t>Mykénei kupolasír hosszmetszet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A Kr.e 1325-ben készült kupola átmérője eléri a 14,5m-t, magassága pedig a 13,2m-t. Ezzel a kupolával a konzoltechnika elérte a csúcspontjá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Az áthidalótól a boltívig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04920" y="3581280"/>
            <a:ext cx="9677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Jobbnak tűnt a kőgerendákat kisebb részekre osztani és az oldalaktól előreugró párkányrészeket jól kialakított közdarabbal kapcsolni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ovábbi lépések, amikor a nyílást több kővel zárták le. A boltív építésénél állványzatot kellett építeni.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 későbbi tapasztalatok igazolták, hogy az ívforma teherbíróbb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05520" y="0"/>
            <a:ext cx="4038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Az álboltozattól a valódiig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a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Két kőgerendát ferdén egymásnak támasztva hidaltak át nyílás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b-c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Kőgerendák közé illesztett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ék-kő(vek)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már jelzik az utat az ív felé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14800" y="-3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Idomkövek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14800" y="16761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Times New Roman"/>
              </a:rPr>
              <a:t>A rómaiak már szabályos köralakú boltozatot építettek. A fúgái azonos középponton mentek át. A köveket ékalakúra kellett megmunkálni, illeszteni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41292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Times New Roman"/>
              </a:rPr>
              <a:t>Kr.u.1.sz.a császári időszakból való római oszloprendszer. Érdekesek az ötszögletű kövek az ívnegyedekben</a:t>
            </a: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 támaszvonal fogalma a 18.sz.-ban vált ismertté. Feltehető, hogy a boltozatokon a törési alakváltozások megfigyelése alapján már bizonyos arányokkal rendelkeztek.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Római hídépítés - tudatos tervezés?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a még nem tudjuk, hogyan számítottak, tervezték hídjaikat a rómaiak. Biztosak lehettek abban, hogy a boltozatszerű hidaknál a vízszintes eltolódásokat meg kell akadályozni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hídfőkben a hídban fellépő erőket szilárd támasszal ellensúlyozták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z első „hidakat” a természetből lesték el: Egy kidőlt fatörzs a patak felett volt az első híd</a:t>
            </a:r>
            <a:r>
              <a:rPr b="1" i="1" lang="en-US" sz="4000" spc="-1" strike="noStrike" u="sng">
                <a:solidFill>
                  <a:srgbClr val="ffff66"/>
                </a:solidFill>
                <a:uFillTx/>
                <a:latin typeface="Times New Roman"/>
              </a:rPr>
              <a:t>gerenda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9906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293 még ma is ismert kb. 200 éve épített római hídszer-kezetet tartanak számon a Római Birodalom területé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Függőhidak: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Hosszú ideig a műszaki fejlődés nagy függőhidakat nem tett lehetővé. Az acélgyártás kialakulásáig csak kis fesztávú áthidalókat építettek helyi anyagokból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Láncvonal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: egy görbe, amelyet egy lánc vagy kötél a nehézségi erőtérben felvesz. A tökéletesen hajlékony lánc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csak húzóerőket képes felvenni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lméletileg </a:t>
            </a:r>
            <a:r>
              <a:rPr b="1" i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a helyes boltozatforma a fordított láncvonal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Helyi anyagokból épített átkelőhely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eher és személy átkelése veszélyes szakasz felett függesztett állapotba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43600" y="-3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Kötélpályás szállítás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38680" y="1218960"/>
            <a:ext cx="38102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kötélpályás szállítás a nehéz terepek fölött nagy felkészültséget kíván. A kötelek anyaga, végeinek rögzítése, feszítése és feszíthetősége változatos megoldásokat eredményezet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Pilonok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4240" y="339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838080"/>
            <a:ext cx="388620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1,2  pilon,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3. - hídpály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4. - pillér   a,b függőleges 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pilonu kábelhíd,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c - ferde pilon,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d - egyes pilon,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e - kettes pilon,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f,g - A-alakú pilon,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h- falazott pilon,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i- egyszeres kapuzat,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j- többszörös összeköttetésű 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kapuzat</a:t>
            </a: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Kötélgörbe = Híd kábelre vagy láncra függesztéssel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Lánchíd. </a:t>
            </a: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Első volt a Dunán átívelő állandó hidak közül. A híd 1849-re készült el William Clark építész és névrokona, Adam Clark építésvezető közreműködésével.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52320" y="-360"/>
            <a:ext cx="5791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66"/>
                </a:solidFill>
                <a:latin typeface="Times New Roman"/>
              </a:rPr>
              <a:t>Kábelhíd </a:t>
            </a:r>
            <a:br>
              <a:rPr sz="4400"/>
            </a:b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Kötélgörbe szerint számolható acélsodronyra függesztett híd. A felhasznált anyagok szakító-szilárdsága és súlya, a terhel-hetőség szabja meg a méreteket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8120" y="342864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világ egyik leghíresebb kábel-hídja a San Franciscó-i </a:t>
            </a: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Golden Gate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, amely 1933-37 között épült. A tervezők sokat adtak az esztétikai hatásra is. Ez a szempont ma már nem elsőrendű. Helyette a legolcsóbb, legegyszerűbb gyorsan megvalósíthatóság a fő szempont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33526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A hídszerkezetek anyagának fejlődés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Szerkezetüket tekintve a hidak története a gerendahidakkal kezdődik. Korai időkben a fatörzs, nagyobb kövek voltak anyagaik, amelyek a személyek átkelését biztosította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 függőhidaknál a liánból font átkelők voltak, amelyek egyes helyeken ma is használatosak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Kőboltozatok, fából ácsolt szerkezetek, majd belépett az öntöttvas egyre nagyobb igényeknek a nagyobb szilárdságú acélszerkezetek (és a beton) jelentik a fejlődést.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 kőomladék amelynek alsó részét kimosta a víz, volt az első </a:t>
            </a:r>
            <a:r>
              <a:rPr b="1" i="1" lang="en-US" sz="4000" spc="-1" strike="noStrike" u="sng">
                <a:solidFill>
                  <a:srgbClr val="ffff66"/>
                </a:solidFill>
                <a:uFillTx/>
                <a:latin typeface="Times New Roman"/>
              </a:rPr>
              <a:t>ívtartó (boltozat)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Kita Bisan-Seto híd építése Japánban. Tengeröböl felett, földrengéses régióban nagy fesztávval, nagy teherbírásra tervezték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 patak vagy szakadék felett átfutó lián volt az első </a:t>
            </a:r>
            <a:r>
              <a:rPr b="1" i="1" lang="en-US" sz="4000" spc="-1" strike="noStrike" u="sng">
                <a:solidFill>
                  <a:srgbClr val="ffff66"/>
                </a:solidFill>
                <a:uFillTx/>
                <a:latin typeface="Times New Roman"/>
              </a:rPr>
              <a:t>függőtartó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Times New Roman"/>
              </a:rPr>
              <a:t>A somerseti Winsfordnál Kr.e.1010 körül lerakott híd kőpallói k. 5 tonnát is nyomnak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gyiptomi kőgerendák: 3-3.5 m fesztávot tudtak áthidalni tapasztalatok alapján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z elv maradt, csak a nagyteljesítményű (társított) anyagok használatával növelhetjük a fesztávot és a terhelhetőséget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önnyen szállítható kövekből az áthidalás építése más technikát igényelt. Elve: egy követ a másikon konzolszerűen úgy előretolni, hogy az még ne billenjen le. A súlypont az alátámasztási pont felől kikerülése pótolható a hátrább fekvő kövek súlyának növelésével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Konzolboltozat vagy álboltozat házépítésnél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10080" y="1066320"/>
            <a:ext cx="3733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Délolaszországban a kőtetőket konzoltechnikával kupolaként alakították ki. Miután ez a szerkezet bevált, kezdték alkalmazni teherhordó boltozatként a hídépítésben is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06:21:51Z</dcterms:created>
  <dc:creator>Cech Vilmos</dc:creator>
  <dc:description/>
  <dc:language>en-US</dc:language>
  <cp:lastModifiedBy>Cech Vilmos</cp:lastModifiedBy>
  <cp:lastPrinted>2002-06-16T17:04:08Z</cp:lastPrinted>
  <dcterms:modified xsi:type="dcterms:W3CDTF">2007-02-01T17:09:23Z</dcterms:modified>
  <cp:revision>15</cp:revision>
  <dc:subject/>
  <dc:title>Hidak, átjárók A kőgerendától a a függőhídig (avagy a „mérnökség” kezdetei)</dc:title>
</cp:coreProperties>
</file>