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C80-16F2-4718-B0AD-04B0F76B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E4F-7D2B-4046-9563-1945111F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A59-5AD9-4DEE-91A2-EA6EC47F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BFF-96BD-44AA-89A8-40254D61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A01-7DF1-4596-BCAA-25ED35E7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DAB-769E-4741-836B-860D96D0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D68-15FE-494F-ADC3-7BE5B826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770-6EE0-4580-ADDA-B270B9FF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7B8-8203-46DD-A270-414010C7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6AA-C419-4822-9DB3-BB3C5AE0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925-8B45-4C93-A01A-65F3D3E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2DA-3A65-4AC5-A6D1-067C865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810-3DFD-49AD-A7CE-7D1B39564C35}" type="slidenum"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33"/>
                </a:solidFill>
                <a:latin typeface="Times New Roman"/>
              </a:rPr>
              <a:t>Víz</a:t>
            </a:r>
            <a:endParaRPr b="0" lang="en-US" sz="96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Csak H</a:t>
            </a:r>
            <a:r>
              <a:rPr b="1" lang="en-US" sz="5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O 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484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66ff33"/>
                </a:solidFill>
                <a:latin typeface="Times New Roman"/>
              </a:rPr>
              <a:t>Noria és szokije</a:t>
            </a: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97080" y="1628640"/>
            <a:ext cx="3097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Kínában ma is több helyen alkalmazzák a </a:t>
            </a:r>
            <a:r>
              <a:rPr b="1" i="1" lang="hu-HU" sz="2400" spc="-1" strike="noStrike">
                <a:solidFill>
                  <a:srgbClr val="ffff00"/>
                </a:solidFill>
                <a:latin typeface="Times New Roman"/>
              </a:rPr>
              <a:t>noriát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a föld öntözésére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Ma is látható a turisztikai célokra fenntartott, de még üzemképes példánya Mallorka szigeten. Ilyen emelő látta el a szíriai </a:t>
            </a:r>
            <a:r>
              <a:rPr b="1" i="1" lang="hu-HU" sz="2400" spc="-1" strike="noStrike">
                <a:solidFill>
                  <a:srgbClr val="ffff00"/>
                </a:solidFill>
                <a:latin typeface="Times New Roman"/>
              </a:rPr>
              <a:t>Háma</a:t>
            </a:r>
            <a:r>
              <a:rPr b="0" i="1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városát  vízzel.          Átmérője 25 méter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Kevés víz és az is rossz eloszlásban? 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9448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evesebb a csapadék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m egyenletes az eloszlása. (Árvíz - aszály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zarlás, szennyezés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árolási kapacitások, technológia hiány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(gátak, tározók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isztító létesítmények és technológiák hiánya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sszaforgatási, jobb kihasználási módszerek hiány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isztavíz óvásának hiány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zőgazdasági kultúrák helytelen megválasztás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íztakarékos technológiák bevezetése, honosítás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Times New Roman"/>
              </a:rPr>
              <a:t>Vízhiányról 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frikában a Nílus vizén 10 ország osztozik.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A növekvő népesség vízigény növekedést is jelent. (100 millió lesz 2025-re a folyómenti lakosság létszáma)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többi Afrikai országban már régóta állandóan küzd a napi kis és nem is egészséges vízadagjáér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frika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25 államából 18-ban a lakosság évente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1000 m</a:t>
            </a:r>
            <a:r>
              <a:rPr b="1" lang="hu-HU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vízzel kell, hogy gazdálkodjon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olajban gazdag „Öböl menti”országok költséges tengervíz sótalanítási eljárással nyernek ivó, kommunális és öntöző vize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iút? Technikai és politika eszközökkel megoldani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7840" y="609480"/>
            <a:ext cx="8248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720" y="709560"/>
            <a:ext cx="81345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0600" y="390600"/>
            <a:ext cx="476280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Times New Roman"/>
              </a:rPr>
              <a:t>Honnan szerezhető tiszta víz?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obb gazdálkodás a vízvagyonna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utak, víznyerő helyek óvása, veszteségmentes működtetés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akarékos üzemű háztartási, ipari, eszközök és új szokások bevezeté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folyások, párolgások megszüntetés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Új tisztítási módokkal a víz újra hasznosítás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*** Napjainkban is 25 millió ember hagyja el szülőhelyé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ízhiány miatt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, több mint a háborúk miatt földönfutóvá válók száma!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614520"/>
            <a:ext cx="761976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1370160"/>
            <a:ext cx="633564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10080" y="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arki jéghegyek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Édesvíz: A föld tiszta (ivóvíz) készletének nagyobb része a sarki hó és jégmezőkben va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z úszó jégtömbökből a tengerben csak 1/10 részük látszik ki.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A víz előfordulása: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égkörben pára, felhő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sapadék által létrejött folyékony (tó, folyó) vagy oldott sókkal nagymértékben telitett (tenger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gyott, szilárd (kristályos) állapotban. (hó, sarki jég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 - - - - - - - - - - - - - - - - - - - - - - - - - - - - - - - - - - -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zika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ristályokb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émia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kciók eredmény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víz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iológia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ötött állapotokban.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alakban, sejtfalon belü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7840" y="609480"/>
            <a:ext cx="8248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87280"/>
            <a:ext cx="9144000" cy="44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Körforgása</a:t>
            </a: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ngervíz - eső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 párolgás - felhő, pára áramlás - eső, csapadékvíz  - folyók, folyamok - tenger felé áramlás (Öntözővíz, talajvíz szabályozás és szállítási utak is egybe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sapadékvíz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lszíni lefolyás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szívódás- elpárolgás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lajvíz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étegvizek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áramlással melegedés, só-kioldás, gyógyvizek, artézi vizek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7920"/>
            <a:ext cx="9144000" cy="63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Vizek összetétel szerinti megkülönböztetése: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sapadékvíz légkörből kioldott anyagokkal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Összegyűlt csapadékvíz, patak, folyó oldott anyagokkal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rásvíz felső és mélyebb rétegekből eredő oldott anyagokkal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nőségi megkülönböztetés összetétel és tisztaság alapján: desztillációs tisztavíz, ivóvíz, öntözővíz, ipari - hűtővíz. Szennyezett és szennyvíz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ennyvíz: összetétele szerinti megkülönböztetések. Szerves, szervetlen stb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74760" y="0"/>
            <a:ext cx="6594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Mosó, oldó ipari (technológiai) vizek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legolcsóbb és legáltalánosabb oldósz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Vegyszerek kioldására, eltávolítására alkalmas: fotóvegyszer mentesítés, galván üzemek maradék vegyszerének eltávolításár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Technológiai sorok tisztántartására: húsüzem, textil technológiák, papírgyári  technológiai lépések mosó, öblítő lépéseihez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*** </a:t>
            </a:r>
            <a:r>
              <a:rPr b="0" i="1" lang="hu-HU" sz="3200" spc="-1" strike="noStrike">
                <a:solidFill>
                  <a:srgbClr val="ffff00"/>
                </a:solidFill>
                <a:latin typeface="Times New Roman"/>
              </a:rPr>
              <a:t>A kioldott, kimosott fizikai, vegyi- biológiai szempontból nemkívánatos anyagokat tartalmazó folyadékot semlegesíteni kell: fizikai, kémiai vagy biológiai módszerekkel vagy azok kombinációjáva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z életet adó víz</a:t>
            </a: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Földünk története során a forró tengerekből alakult ki az előbb még nagyon egyszerű élet, majd a hőmérséklet csökkenésével a magasabb rendű élővilá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Életünket vízben, magzatvízben kezdjük, végigjárva a fejlődéstörténete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stünk legnagyobb részét is víz alkotj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áplálékainkat is vízzel együtt fogyasztjuk el, víz nélkül csak rövid ideig maradhatunk életb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egáltalánosabb oldószer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emlegesítés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nemkívánatos összetételben, szerkezetben , formában keletkezett oldatokat úgy kell kezelni, hogy a bennük levő anyagokat másodlagos nyersanyagként ismét anyagkörforgalomban értékesíteni lehessen. Ha közvetlenül nem lehet semlegesíteni, akkor </a:t>
            </a:r>
            <a:r>
              <a:rPr b="0" i="1" lang="hu-HU" sz="3200" spc="-1" strike="noStrike">
                <a:solidFill>
                  <a:srgbClr val="ffff00"/>
                </a:solidFill>
                <a:latin typeface="Times New Roman"/>
              </a:rPr>
              <a:t>fizikai, kémiai és/vagy biológiai átalakítással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kell felhasználóvá tenni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Pl.: szerves trágya megfelelő kezelés (őrlés, hígitás) után alkalmas öntözéses kijuttatásra. A galván, papírgyári eljárások folyadékaiból a hasznosítható tartalmat kivonják, további feldolgozásra elkülönítik, semlegesítik, sűrítik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Mezőgazdasági öntözővíz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öntözővízbe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het szerves anya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de csak meghatározott %-ba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m lehe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mosószer vagy más szervetlen anya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lepülések szennyvizét nem szabad közvetlen mg kultúrák öntözésére fordítani: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zikkasztás </a:t>
            </a: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erdőtelepítés </a:t>
            </a: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öntözése.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Közvetlenül emberi fogyasztásra szennyvízzel öntözött növényi kultúra nem kerülhet!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. szerves trágyával csak lucernát, takarmány kukoricát stb. szabad öntözni, azt állati takarmányként, nyersanyagként felhasználni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Times New Roman"/>
              </a:rPr>
              <a:t>Mélyrétegi, artézi víz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mélyebb rétegekből feltörő vagy felszínre hozott normál hőmérsékletű vagy forró vizek rendszerint sok ásványi -oldott állapotú- sókat, szervetlen anyagokat tartalmaznak. Öntözésnél  kiválásukkal tönkreteszik a talajt, terméketlenné teszik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Öntözésre, ipari felhasználásra csak sótalanítás után, ellenőrzött állapotú vizet szabad használni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termál kutak vizét a só-kicsapódások miatt csak zártkörű hőcserélőkön átvezetve szabad hasznosítani, közvetlenül a szabadba elengedni nem szabad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0" y="0"/>
            <a:ext cx="9141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Mit nevezünk ivóvíznek?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zikai, kémiai és biológiai szempontból emberi fogyasztásra alkalmas víz. A jó tiszta ivóvíz, szintelen, szagtalan, nem tartalmazhat az egészségre káros, ill. mérgező kémiai anyagokat (Ammoniát, nitrátokat, ként stb), ártalmas mikroorganizmusoka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ervesanyag- és oldott sótartalma, keménysége nem érheti el a megadott határértéket. A víz Ph-értéke 7-7,5 -től 6-6,5-ig terjedhet. Hőmérséklete üdítő hatású kell legyen (7-15°C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ivóvizet felszíni vizekből, forrásokból, tavakból, talajvízből stb. nyerik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348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Kútviz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kből legjobb a mély talajvíz (5-6 m mélyről), folyóvízből pedig az, amely kellően vastag homok- és kavicsrétegen van átszűrve. A finom homoknak nagyon jó a szűrőképessége, nagyobb mélységben kórokozó baktériumok már nincsenek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ároso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mindig -a nagy vízigényük miatt-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lyók menté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lakultak ki, szűrt folyó, vagy tó vizet használnak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rmészetes vize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izikai, kémiai és biológiai szempontból sohasem tiszták, mindig tartalmaznak oldott anyagokat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z esővíz "elvileg" desztillált víz, de valójában elnyeli a levegő széndioxidjának egy részét, a talajjal érintkező vizek oldott anyagokat (sókat) tartalmaznak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6770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433440"/>
            <a:ext cx="86868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 víz stratégiai cikk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372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történelem folyamán háborúkat vívtak hatalomért, kincsekért, birodalmak építéséért, feldarabolásukért, vallások terjesztéséért, termékeny földekért, legelő-kért, utóbb olajmezőkért, stratégiai nyersanyagokért. 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Már hazánkban is megkezdődött a vízbázisok felvásárlása a  külföldiek által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jövőben a tiszta ivóvízért, öntöző és a folyami vízért fognak harcolni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népesség nő, a civilizáció szintjével arányos a vízfogyasztás, nő a pazarlás, szennyezé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Vízfogyasztás É-Amerikában 500 l/nap, Ny.-Eu-ban 2-300 l/nap, a válság-zónákban 20 l/nap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Feszültségzónák a vízigény miatt</a:t>
            </a: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Közel-Keleten: Izrael, Jordánia, Libanon és Szíria osztozik a Jordán vizén. </a:t>
            </a: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Ivóvíztartalékok, öntözővíz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Törökországi folyókra gátakat, tározókat építenek, ez befolyásolja Irak és Szíria vízhozamát, (csökken a termés). Alkú: Iraki olajért vizet adnak a törökök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Indus vizének elosztása: Vita India és Pakisztán között, Ganges vízelosztása India és Banglades között okoz feszültsége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Közép-Ázsiában Amu- és Szir-Darjától függ: Kazahsztán, Kirgizisztán, Tadzsikisztán, Türkmenisztán, Üzebegisztán. Az öntözés miatt fogy az Aral tó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Indokínában a Mekong folyó a feszültség forrás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5:16:24Z</dcterms:created>
  <dc:creator>Cech Vilmos</dc:creator>
  <dc:description/>
  <dc:language>en-US</dc:language>
  <cp:lastModifiedBy>Cech Vilmos</cp:lastModifiedBy>
  <dcterms:modified xsi:type="dcterms:W3CDTF">2007-01-18T13:44:50Z</dcterms:modified>
  <cp:revision>19</cp:revision>
  <dc:subject/>
  <dc:title>Víz</dc:title>
</cp:coreProperties>
</file>