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BF7-BBE0-412C-886C-4D2088F1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C8B-B454-462E-84E0-AB886FCB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7DA-0F01-4FB8-A396-40E6D877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053-1FA4-469A-BABD-397A7EDB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ECD-5B19-43F1-BAEE-DB1B4EEB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BFF-36E1-4B74-8B31-2DD424B0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D02-8BCB-458B-B1CD-22ED3C88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F1F3-BBF9-4228-AA8F-D05A7F31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955-49EE-4AFA-8CF4-9D046102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24B-125A-4B3C-98FF-0BAFA636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A5F-878B-44D5-911A-8A4D005D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989-0550-4F7F-8589-C24AE53E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5F07-79FF-4049-B2B0-91B43DB835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68560" y="0"/>
            <a:ext cx="5006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1960" y="0"/>
            <a:ext cx="8560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54080"/>
            <a:ext cx="9144000" cy="6548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8088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Times New Roman"/>
              </a:rPr>
              <a:t>Le plus grand pont au mon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Times New Roman"/>
              </a:rPr>
              <a:t>2460 mètres de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Times New Roman"/>
              </a:rPr>
              <a:t>343 mètres de h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08:10:59Z</dcterms:created>
  <dc:creator>TREMBLAY Gael</dc:creator>
  <dc:description/>
  <dc:language>en-US</dc:language>
  <cp:lastModifiedBy>Cech Vilmos</cp:lastModifiedBy>
  <dcterms:modified xsi:type="dcterms:W3CDTF">2007-09-24T08:06:37Z</dcterms:modified>
  <cp:revision>7</cp:revision>
  <dc:subject/>
  <dc:title>Aucun titre de diapositive</dc:title>
</cp:coreProperties>
</file>