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BE6-9636-4CBE-AD94-698F601F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905-0372-4A5E-8BBB-8A7EA5BA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168-494E-489A-A197-455883DF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8C8-674C-4E9C-B973-49561664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002D-E164-4AD0-9563-A12E6622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65CE-4CED-452A-AAF6-3CD8C4E1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4458-75EF-453F-9FE6-670DF455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F2BD-DCB6-4824-9175-C60479DD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8625-F492-4CD2-B2A5-BCC1E553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0316-9FB3-4A23-99C4-F2D7A884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314D-C8A5-45CC-96A3-416D8B7B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C931-60AB-4F5F-9783-67D360F3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D748-F3D9-4B91-8F34-E27F0BC0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B27A-552A-4DC2-A193-D2D88D87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FCEF-6444-401D-94D5-303D1E6E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3F75-04D8-4571-A94A-934F46E8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7E12-268A-4A7E-AD58-6BC65833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653-B398-4C4C-908D-04714B5A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FB2-23AB-4E53-A601-B995AAF8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D41-CB47-4208-AC2B-C6B362E5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794-4B21-4D0B-AED5-EC0B378A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146-09E2-4962-9AE9-DDB8FE05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803-2DBE-4582-B8ED-697868F8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AFD-1649-4B23-A3F9-BD36EC84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68A8-9C74-4EEE-81AB-72015796C7AF}" type="slidenum">
              <a:rPr b="0" lang="hu-H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r>
              <a:rPr b="0" lang="hu-HU" sz="1400" spc="-1" strike="noStrike">
                <a:solidFill>
                  <a:srgbClr val="ccecff"/>
                </a:solidFill>
                <a:latin typeface="Times New Roman"/>
              </a:rPr>
              <a:t>2001. december 1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6F77-A59D-4C83-9DEE-78EA4DE799AE}" type="slidenum">
              <a:rPr b="0" lang="hu-H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ff"/>
                </a:solidFill>
                <a:latin typeface="Tahoma"/>
              </a:rPr>
              <a:t>Hulladékok elhelyezé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ecff"/>
                </a:solidFill>
                <a:latin typeface="Tahoma"/>
              </a:rPr>
              <a:t>A települési és a termelési hulladé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ecff"/>
                </a:solidFill>
                <a:latin typeface="Tahoma"/>
              </a:rPr>
              <a:t>Újra hasznosítá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ecff"/>
                </a:solidFill>
                <a:latin typeface="Tahoma"/>
              </a:rPr>
              <a:t>Veszélyes hulladéko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5335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Komposztálá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Megfelelően kialakított elhelyezés, víztartalom, pH kezdeti beállítása után a a természetes lebomlás folyamata játszódik le szabályozva, felgyorsítva, levegő jelenlétében. A keletkezett komposzttrágya talaj javításra, humusz pótlására használható!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Hátránya, hogy gondosan ellenőrizni kell a szemét összetételét, mert nem tartalmazhat a termőföldekre  káros veszélyes anyagot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Ez  a módszer a térfogatot az 1/3 részére csökkenti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Energiát és hőt terme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Ebben az eljárásban az égés levegő jelenlétében zajlik, aminek következtében hamu és füstgázok keletkeznek, melyek szakszerű tárolásáról és tisztításáról gondoskodni kel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Újra felvetődik a hulladék tárolás kérdése, melyre a már említett előírások vonatkoznak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68580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Hulladék égeté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4572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Fővárosi Hulladékégető Mű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Budapesten évente </a:t>
            </a:r>
            <a:r>
              <a:rPr b="1" lang="hu-HU" sz="2600" spc="-1" strike="noStrike">
                <a:solidFill>
                  <a:srgbClr val="ccecff"/>
                </a:solidFill>
                <a:latin typeface="Times New Roman"/>
              </a:rPr>
              <a:t>650 ezer tonna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 szemetet „termel”, ennek </a:t>
            </a:r>
            <a:r>
              <a:rPr b="1" lang="hu-HU" sz="2600" spc="-1" strike="noStrike">
                <a:solidFill>
                  <a:srgbClr val="ccecff"/>
                </a:solidFill>
                <a:latin typeface="Times New Roman"/>
              </a:rPr>
              <a:t>65-70%-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át itt dolgozzák fel, égetik el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szemét égetése mellett még energiát is termelnek és a fővárosi hőszolgáltatót is ellátják gőzzel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termelt energiának csak a 20-30%-át használják fe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Sajnos az üzem még ma sem felel meg a környezetvédelmi elvárásoknak, így még nincs felszerelve a kéményre füstgáztisztító és az elégetett hulladékot sem kellően szortírozzák, minden bejut a kazánba, ami a kukákban van!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382240" cy="6197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17220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ccecff"/>
                </a:solidFill>
                <a:latin typeface="Times New Roman"/>
              </a:rPr>
              <a:t>A franciaországi Ivry mellett működő szemétégető szerkezeti felépítése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45720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A Fővárosi Hulladékégető felépítése I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szemétszállító gépkocsik az összegyűjtött hulladékot  egy fogadó aknába ürítik, ahol egy polipkarú daru segítségével jut el a kazán égésterébe a garaton keresztül, ami adagolja az összegyűlt szemetet, hogy a kazán maximális hatásfokon működjön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négy kazánból folyamatosan három működik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z égéstérben acél hengergörgős rostély forgatja a szemetet és köztük forró levegőt fúvatnak be,  ezzel is elősegítve az égést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1371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620120" cy="5075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94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szemétszállító gépkocsi üríti a rakományát a Fővárosi Hulladékégető Mű hulladékfogadó aknájáb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5880" y="12952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640040" cy="6324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638680" y="1905120"/>
            <a:ext cx="2971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szemétfogadó betonbunker üzem közben, amint a daru a garatba helyezi az aktuális szemét adagot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5280" y="1676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772400" cy="5686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60199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polipmarkolós daru munka közben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A Fővárosi Hulladékégető felépítése II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z égés során felszabaduló hőt felhasználják a kazánban futó csővezetékeken szállított víz hevítésér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Turbógépcsoport: turbina és generátor (24 MW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turbinára 400 </a:t>
            </a:r>
            <a:r>
              <a:rPr b="0" lang="hu-HU" sz="2600" spc="-1" strike="noStrike" baseline="50000">
                <a:solidFill>
                  <a:srgbClr val="ccecff"/>
                </a:solidFill>
                <a:latin typeface="Times New Roman"/>
              </a:rPr>
              <a:t>o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C-os és 35 bar nyomású túlhevített gőzt vezetnek, melynek teljesen homogénnek kell lennie, mert a legkisebb vízcsepp is tönkreteheti a turbina lapátokat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Elvételes kondenzációs turbina, a maradék 200 </a:t>
            </a:r>
            <a:r>
              <a:rPr b="0" lang="hu-HU" sz="2600" spc="-1" strike="noStrike" baseline="50000">
                <a:solidFill>
                  <a:srgbClr val="ccecff"/>
                </a:solidFill>
                <a:latin typeface="Times New Roman"/>
              </a:rPr>
              <a:t>o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C-os és 10 bar nyomású gőzt a táhő vezetékrendszerébe nyomja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12193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8001000" cy="5562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5943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Csővezető rendszer a kazántérben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ff"/>
                </a:solidFill>
                <a:latin typeface="Tahoma"/>
              </a:rPr>
              <a:t>Bevezeté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260880" y="324180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914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200400"/>
            <a:ext cx="7238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182880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Ha nincs szükségünk valamire, akkor azt kidobjuk, szemét lesz belőle. A szemét termelés alapvető emberi tulajdonság; a bioszférában nem keletkezik efféle anyag.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Ha már nincs szükségünk valamire, akkor kidobjuk. Ha ezt hétmilliárdan tesszük, akkor </a:t>
            </a:r>
            <a:r>
              <a:rPr b="1" lang="hu-HU" sz="2600" spc="-1" strike="noStrike">
                <a:solidFill>
                  <a:srgbClr val="ccecff"/>
                </a:solidFill>
                <a:latin typeface="Times New Roman"/>
              </a:rPr>
              <a:t>évente negyvenkilencezer millió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 tonna hulladék keletkezik. De hol van az a</a:t>
            </a:r>
            <a:r>
              <a:rPr b="1" lang="hu-HU" sz="2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hu-HU" sz="2600" spc="-1" strike="noStrike">
                <a:solidFill>
                  <a:srgbClr val="ccecff"/>
                </a:solidFill>
                <a:latin typeface="Times New Roman"/>
              </a:rPr>
              <a:t>kint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304920"/>
            <a:ext cx="74674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A Fővárosi Hulladékégető felépítése III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salakot átvezetik egy mágneses szétválasztó berendezésen, mely a hamuból kigyűjti a benne felhalmozódott vasrészecskéket, melyeket újra lehet hasznosítani (térfogatilag 10 %-al csökken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visszamaradt salakanyagot takarórétegként használják fel lezárt szeméttelepekné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füstgázokat elektrofilteres pernyeleválasztón vezetik keresztül, ami kiszűri a nagyobb szilárd részecskék kijutását a szabadb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z elektrofilteres szűrőkre a leválasztott pernye rátapad, ezért egy vonszolóműves kalapács mindig lerázza a felgyülemlett salakot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Sajnos a füstgázok lekötésére még nem építettek be megfelelő tisztító szűrőt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80880"/>
            <a:ext cx="6705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A Fővárosi Hulladékégető felépítése IV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12952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4264200" cy="6248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10080" y="2057400"/>
            <a:ext cx="3124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szemét égető kéménye 120 m magas, a füstgázok tisztítás nélkül jutnak a levegőbe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45720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A Fővárosi Hulladékégető felépítése V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205740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z égetés hátránya, hogy a szemét értékes (fehér és színes üveg, komposztálható anyagok, műanyagok) és veszélyes anyagait is megsemmisíti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keletkező salak szakszerű elhelyezéséről is gondoskodni kel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5335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Hulladék hasznosítás I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82880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hulladék utólagos szétválogatása sokszor megoldhatatlan vagy nagyon költséges. Pedig óriási értékek kerülnek a szemétdombra. Eldobjuk az újságot és újabb erdőkből készül a papír.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kommunális hulladék, háztartási szemét legértékesebb anyagai a </a:t>
            </a:r>
            <a:r>
              <a:rPr b="1" lang="hu-HU" sz="2600" spc="-1" strike="noStrike">
                <a:solidFill>
                  <a:srgbClr val="ccecff"/>
                </a:solidFill>
                <a:latin typeface="Times New Roman"/>
              </a:rPr>
              <a:t>papír, vas, alumínium, nehézfémek (ólom), üveg és műanyagok.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 Az elkülönített, szelektív gyűjtés azonban fegyelem, megszokás kérdése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3808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Hulladék hasznosítás II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82880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„dobd el és vegyél másikat” ötlete az USA-ból származik, ott vált divattá a „fogyasztói társadalom”. Az eldobott holmi helyett ugyanis el lehet adni az újat. Ennek a felfogásnak a hatására a nagyvárosok elkeseredetten küszködnek a hulladék tömeggel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z újrahasznosítás, reciklálás aránya már az USA-ban 10 %, Japánban 50 % és Németországban 20 %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28800" y="1905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33957" t="5450" r="18045" b="20981"/>
          <a:stretch/>
        </p:blipFill>
        <p:spPr>
          <a:xfrm>
            <a:off x="2968560" y="304920"/>
            <a:ext cx="3657600" cy="4122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808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hulladékból visszanyert és feldolgozott anyagok %-os aránya Németországban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ff"/>
                </a:solidFill>
                <a:latin typeface="Tahoma"/>
              </a:rPr>
              <a:t>Veszélyes hulladékok elhelyezé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Két féle megoldást használnak a veszélyes hulladékok elhelyezésére: tárolás és égetés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Ártalmatlanítás lerakással: a nem éghető (általában szervetlen) anyagok meghatározatlan időre történő elhelyezését, deponálását jelenti. Így helyezik el a mérgeket, galván-iszapot, foszfát-iszapot stb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15238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828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0" r="0" b="15113"/>
          <a:stretch/>
        </p:blipFill>
        <p:spPr>
          <a:xfrm>
            <a:off x="380880" y="304920"/>
            <a:ext cx="8382240" cy="5160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z Aszód-Nagyvölgyben működő veszélyes hulladéktároló kialakítás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6858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Hulladékok hőbontás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8288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Ez egy kialakuló hulladékhasznosítási eljárás (pirolízis). Az előre szárított hulladékot 450-650 </a:t>
            </a:r>
            <a:r>
              <a:rPr b="0" lang="hu-HU" sz="2600" spc="-1" strike="noStrike" baseline="50000">
                <a:solidFill>
                  <a:srgbClr val="ccecff"/>
                </a:solidFill>
                <a:latin typeface="Times New Roman"/>
              </a:rPr>
              <a:t>o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C -ra hevítik levegőtől elzártan.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Ezzel technikával szennyező anyagok nem kerülnek a légtérbe és lehetőség van energiahordozóként hasznosítható anyagok előállítására.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ff"/>
                </a:solidFill>
                <a:latin typeface="Tahoma"/>
              </a:rPr>
              <a:t>A szemét fogal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Egyáltalán mi az, hogy hulladék?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Egy lehetséges megfogalmazás: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z ipar, a mezőgazdaság, a szolgáltatás és a lakosság mindennapjaiban állandóan keletkező anyagok, amelyek a </a:t>
            </a:r>
            <a:r>
              <a:rPr b="1" lang="hu-HU" sz="2600" spc="-1" strike="noStrike">
                <a:solidFill>
                  <a:srgbClr val="ccecff"/>
                </a:solidFill>
                <a:latin typeface="Times New Roman"/>
              </a:rPr>
              <a:t>keletkezésük helyén és idejében hasznavehetetlenek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ff"/>
                </a:solidFill>
                <a:latin typeface="Tahoma"/>
              </a:rPr>
              <a:t>Összefoglaló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z emberek figyelmét újra fel kellene hívni a régi, de még mindig időszerű szlogenre: Gondolkodj globálisan, cselekedj lokálisan!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Magyarországnak még nagyon sokat kell fejlődnie ahhoz,hogy szemétkezelési téren beérjük az EU-t, nem csak lerakók, tárolók és égetők tekintetében, hanem a gondolkodásmódunkban is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1447920"/>
            <a:ext cx="640080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ecff"/>
                </a:solidFill>
                <a:latin typeface="Tahoma"/>
              </a:rPr>
              <a:t>Feladatként készítette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Máté Sándo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ecff"/>
                </a:solidFill>
                <a:latin typeface="Tahoma"/>
              </a:rPr>
              <a:t>ELTE TTK, technika szak IV. évfolyam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ccecff"/>
                </a:solidFill>
                <a:latin typeface="Tahoma"/>
              </a:rPr>
              <a:t>2000.márciu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ff"/>
                </a:solidFill>
                <a:latin typeface="Tahoma"/>
              </a:rPr>
              <a:t>Felhasznált irodalo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Dr. Száraz Péter: Ember és környezete. Nemzeti Szakképzési Intézet, Bp., 1994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Dr. Máthé Árpád: Technológiai alapismeretek. Tankönyvkiadó, Bp., 1982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Hazánk Környezeti Állapotának Mutatói. Környezetvédelmi és Területfejlesztési Minisztérium, 1994. 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fényképeket készítette: Ligeti Balázs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9047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ffff"/>
                </a:solidFill>
                <a:latin typeface="Times New Roman"/>
              </a:rPr>
              <a:t>Az egyből látszik, hogy ez a megfogalmazás elég pongyola és nem pontos, de jó kiindulási alapot nyújt ahhoz, hogy mi is a szemét.</a:t>
            </a:r>
            <a:br>
              <a:rPr sz="2600"/>
            </a:br>
            <a:r>
              <a:rPr b="0" lang="hu-HU" sz="2600" spc="-1" strike="noStrike">
                <a:solidFill>
                  <a:srgbClr val="ccffff"/>
                </a:solidFill>
                <a:latin typeface="Times New Roman"/>
              </a:rPr>
              <a:t>Két kiegészítés:</a:t>
            </a:r>
            <a:br>
              <a:rPr sz="2600"/>
            </a:b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Máskor, másutt hasznosak és értékesek lehetnek;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Egy részük veszélyes, ártalmas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46483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cecff"/>
                </a:solidFill>
                <a:latin typeface="Times New Roman"/>
              </a:rPr>
              <a:t>Magyarországon évente 100 millió tonna termelési hulladék és 22 millió m</a:t>
            </a:r>
            <a:r>
              <a:rPr b="0" lang="hu-HU" sz="2800" spc="-1" strike="noStrike" baseline="30000">
                <a:solidFill>
                  <a:srgbClr val="ccecff"/>
                </a:solidFill>
                <a:latin typeface="Times New Roman"/>
              </a:rPr>
              <a:t>3 </a:t>
            </a:r>
            <a:r>
              <a:rPr b="0" lang="hu-HU" sz="2800" spc="-1" strike="noStrike">
                <a:solidFill>
                  <a:srgbClr val="ccecff"/>
                </a:solidFill>
                <a:latin typeface="Times New Roman"/>
              </a:rPr>
              <a:t>települési hulladék keletkezik</a:t>
            </a:r>
            <a:r>
              <a:rPr b="0" lang="hu-HU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ff"/>
                </a:solidFill>
                <a:latin typeface="Tahoma"/>
              </a:rPr>
              <a:t>Települési hulladékok, kezelésü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háztartások, intézmények üzletek, az utcák takarításakor összegyűlő szemetet és a szennyvíztisztítók iszapját jelenti a </a:t>
            </a:r>
            <a:r>
              <a:rPr b="1" lang="hu-HU" sz="2600" spc="-1" strike="noStrike">
                <a:solidFill>
                  <a:srgbClr val="ccecff"/>
                </a:solidFill>
                <a:latin typeface="Times New Roman"/>
              </a:rPr>
              <a:t>kommunális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 vagy más néven </a:t>
            </a:r>
            <a:r>
              <a:rPr b="1" lang="hu-HU" sz="2600" spc="-1" strike="noStrike">
                <a:solidFill>
                  <a:srgbClr val="ccecff"/>
                </a:solidFill>
                <a:latin typeface="Times New Roman"/>
              </a:rPr>
              <a:t>települési hulladék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keletkezett szilárd települési hulladék 3/4-ét gyűjtik be, tehát 5 millió m</a:t>
            </a:r>
            <a:r>
              <a:rPr b="0" lang="hu-HU" sz="2600" spc="-1" strike="noStrike" baseline="30000">
                <a:solidFill>
                  <a:srgbClr val="ccecff"/>
                </a:solidFill>
                <a:latin typeface="Times New Roman"/>
              </a:rPr>
              <a:t>3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-t nem!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45720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Szemét lerakók helyzete, telepíté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Magyarországon </a:t>
            </a:r>
            <a:r>
              <a:rPr b="1" lang="hu-HU" sz="2600" spc="-1" strike="noStrike">
                <a:solidFill>
                  <a:srgbClr val="ccecff"/>
                </a:solidFill>
                <a:latin typeface="Times New Roman"/>
              </a:rPr>
              <a:t>2600 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hulladéktároló üzemel, ebből csaknem</a:t>
            </a:r>
            <a:r>
              <a:rPr b="1" lang="hu-HU" sz="2600" spc="-1" strike="noStrike">
                <a:solidFill>
                  <a:srgbClr val="ccecff"/>
                </a:solidFill>
                <a:latin typeface="Times New Roman"/>
              </a:rPr>
              <a:t> 100</a:t>
            </a:r>
            <a:r>
              <a:rPr b="1" lang="hu-HU" sz="2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felel meg többé-kevésbé a közegészségügyi és környezetvédelmi követelményeknek; </a:t>
            </a:r>
            <a:r>
              <a:rPr b="1" lang="hu-HU" sz="2600" spc="-1" strike="noStrike">
                <a:solidFill>
                  <a:srgbClr val="ccecff"/>
                </a:solidFill>
                <a:latin typeface="Times New Roman"/>
              </a:rPr>
              <a:t>900</a:t>
            </a: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 pedig engedély nélküli, illegális lerakó hely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hulladékkezelésért a települési önkormányzatok felelősek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3049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Ellenőrzött szemétlerakók telepíté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Ezeket a telepeket vízáteresztő-képességük alapján osztályozzák. A legfontosabb követelmény, hogy szigetelő alappal (vízzáró réteg) rendelkezzenek,amely vagy természetes, vagy mesterséges pl. poliuretán fólia. Ezt törvényekkel szabályozzák, így próbálják elkerülni, hogy a hulladékdomb csurgalékvize beszivárogjon a talajba, a vízbázisokba. A településeknek sajnos nincs elég szabad területük erre a célra, ezért sokszor kénytelenek pénz és lehetőségek hiányában ott tárolni a szemetet, ahol helyük van az előzetes vizsgálatokat hanyagolva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685800"/>
            <a:ext cx="647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Rendezett szemétlerakók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Elhagyott homokbányákban, földmélyedésekben helyezik el a hulladékot rétegesen földel letakarva, ellenőrizve (így nincs szaghatás, nem vonzza az állatokat és esztétikailag is szebb látvány). A levegőtől elzártan lassan a szerves anyagok átalakulnak, ennek a bakteriális bontásnak hatására metán gáz szabadul fel, amely értékesíthető fűtőanyag. Fontos az állandó ellenőrzés, figyelni a gáz termelődésére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6858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Tahoma"/>
              </a:rPr>
              <a:t>A módszer hátránya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hulladékhasznosítást, az értékes anyagok visszanyerését nem teszi lehetővé,ezzel sok újra hasznosítható nyersanyag vész kárba!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A metán akkor is felszabadul, ha azt nem hasznosítják, és a közeli kutakban, pincékben feldúsul és robbanás veszélyt okoz!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ccecff"/>
                </a:solidFill>
                <a:latin typeface="Times New Roman"/>
              </a:rPr>
              <a:t>Nagy figyelmet kell fordítani a természetes szigetelő réteg feltárására, ha ez nem megfelelő, akkor mesterségesen kell szigetelni, ami nagyban megdrágítja az eljárást, de hosszútávon kifizetődőbb!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2:13Z</dcterms:created>
  <dc:creator>Hajni</dc:creator>
  <dc:description/>
  <dc:language>en-US</dc:language>
  <cp:lastModifiedBy>Cech Vilmos</cp:lastModifiedBy>
  <dcterms:modified xsi:type="dcterms:W3CDTF">2006-09-11T18:11:51Z</dcterms:modified>
  <cp:revision>31</cp:revision>
  <dc:subject/>
  <dc:title>Hulladékok elhelyezése</dc:title>
</cp:coreProperties>
</file>