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23F-9467-4788-B48D-F02C8BCF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CBA-712C-4CDF-86DE-48373362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016-DB8D-4B79-9ABD-FF7E2313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32B-989E-4DB9-87EE-1382E45C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CFC-0AB2-4E1B-B50D-EBA989C3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31B1-0EE4-4760-9C98-4817DE3F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FA0-A336-4838-9C2D-C7D26489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964-B1A8-4521-91F2-B80DCD11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C9B-126A-433F-8D04-A0CC11E7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A30-8573-497C-9539-99B2F6ED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536-09BD-4F0B-8E38-3A0544A0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34C-B348-45B2-B9E0-A2FB3A98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B0BC-D471-4AD4-A9A7-0F07BC012BC3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Times New Roman"/>
              </a:rPr>
              <a:t>Hő és az ember </a:t>
            </a:r>
            <a:br>
              <a:rPr sz="6600"/>
            </a:br>
            <a:r>
              <a:rPr b="1" lang="en-US" sz="6600" spc="-1" strike="noStrike">
                <a:solidFill>
                  <a:srgbClr val="ffff66"/>
                </a:solidFill>
                <a:latin typeface="Times New Roman"/>
              </a:rPr>
              <a:t>kapcsolatáról</a:t>
            </a:r>
            <a:endParaRPr b="0" lang="en-US" sz="6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Globális felmelegedé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Hőmérsékleti sugárzás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Minden anyagi test által a hőmérsékletétől függő mértékben kibocsátott </a:t>
            </a:r>
            <a:r>
              <a:rPr b="1" i="1" lang="hu-HU" sz="3200" spc="-1" strike="noStrike">
                <a:solidFill>
                  <a:srgbClr val="ffff99"/>
                </a:solidFill>
                <a:latin typeface="Symbol"/>
                <a:ea typeface="Symbol"/>
              </a:rPr>
              <a:t></a:t>
            </a:r>
            <a:r>
              <a:rPr b="1" i="1" lang="hu-HU" sz="3200" spc="-1" strike="noStrike">
                <a:solidFill>
                  <a:srgbClr val="ffff99"/>
                </a:solidFill>
                <a:latin typeface="Times New Roman"/>
              </a:rPr>
              <a:t> elektromágneses sugárzás </a:t>
            </a:r>
            <a:r>
              <a:rPr b="1" lang="hu-HU" sz="3200" spc="-1" strike="noStrike">
                <a:solidFill>
                  <a:srgbClr val="ffff99"/>
                </a:solidFill>
                <a:latin typeface="Times New Roman"/>
              </a:rPr>
              <a:t>Az anyag gerjesztett állapotából ered, az erössége és színkép szerinti eloszlása általában jellemzö a kibocsátó anyag minöségére. </a:t>
            </a:r>
            <a:r>
              <a:rPr b="1" lang="hu-HU" sz="32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hu-HU" sz="3200" spc="-1" strike="noStrike">
                <a:solidFill>
                  <a:srgbClr val="ffff99"/>
                </a:solidFill>
                <a:latin typeface="Times New Roman"/>
              </a:rPr>
              <a:t> Az abszolút </a:t>
            </a:r>
            <a:r>
              <a:rPr b="1" i="1" lang="hu-HU" sz="3200" spc="-1" strike="noStrike">
                <a:solidFill>
                  <a:srgbClr val="ffff99"/>
                </a:solidFill>
                <a:latin typeface="Times New Roman"/>
              </a:rPr>
              <a:t>fekete test</a:t>
            </a:r>
            <a:r>
              <a:rPr b="1" lang="hu-HU" sz="3200" spc="-1" strike="noStrike">
                <a:solidFill>
                  <a:srgbClr val="ffff99"/>
                </a:solidFill>
                <a:latin typeface="Times New Roman"/>
              </a:rPr>
              <a:t> esetén csak a höméséklettöl függ! </a:t>
            </a:r>
            <a:r>
              <a:rPr b="1" lang="hu-HU" sz="2400" spc="-1" strike="noStrike">
                <a:solidFill>
                  <a:srgbClr val="ffff99"/>
                </a:solidFill>
                <a:latin typeface="Times New Roman"/>
              </a:rPr>
              <a:t>A hullámhossz szerinti eloszlást a Planck-törvény írja le!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hu-HU" sz="4400" spc="-1" strike="noStrike">
                <a:solidFill>
                  <a:srgbClr val="ffff66"/>
                </a:solidFill>
                <a:latin typeface="Times New Roman"/>
              </a:rPr>
              <a:t>Hőfényképezés - a hőeloszlás ismeret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A fotográfia fényérzékeny rétegekre nem ható, nagy hullámhosszúságú infravörös sugarakkal, azok hőhatása alapján történő képkészítési eljárás.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A hődetektor a hősugárzás erősségével arányos elektromos feszültséget küld tovább amit álló vagy mozgóképpé alakíthatnak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Hőmérséklet és eloszlás ismerete fontos: 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- természeti folyamatoknál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- élőlényeknél,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- technológiai folyamatoknál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Hőkezelés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457200"/>
            <a:ext cx="9296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Élelmiszer készítéssel kapcsolatos művelet. Hőközléssel vagy hőelvonással az élelmiszer vagy élőanyag fizikai, kémiai, mikrobiológiai jellemzőinek célszerű befolyásolása, megváltoztatása. </a:t>
            </a:r>
            <a:r>
              <a:rPr b="1" lang="hu-HU" sz="2400" spc="-1" strike="noStrike">
                <a:solidFill>
                  <a:srgbClr val="ffff99"/>
                </a:solidFill>
                <a:latin typeface="Times New Roman"/>
              </a:rPr>
              <a:t>(Kelesztés, pasztőrözés, sterilezés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Műszaki technológiai művelet: Az idő és hőmérséklet összehangolt változtatásával anyagok összetételét, szerkezetét és vele a tulajdonságait változtatják meg. A hőkezelés kiterjedhet a teljes anyagtömegre vagy csak annak rétegeire, felületére.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Félvezető technológiában az egykristály-szerkezet javítása, befolyásolása</a:t>
            </a:r>
            <a:r>
              <a:rPr b="1" lang="hu-HU" sz="2400" spc="-1" strike="noStrike">
                <a:solidFill>
                  <a:srgbClr val="ffff99"/>
                </a:solidFill>
                <a:latin typeface="Times New Roman"/>
              </a:rPr>
              <a:t> (ionimplantáció, diffúzió, rétegnövesztés stb.)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Hőmérséklet és a tápérték kapcsolata élelmiszereknél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Amikor a gyümölcs vagy zöldség az anyanövénytől elválik, </a:t>
            </a: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megszűnik az építés és a lebontás</a:t>
            </a: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. Egyidejüleg bontó, kedvezőtlen folyamatok indulnak meg, amelyek értékes tápanyagok bomlásához vezetnek. Csak konzerválási, tartósítási folyamatok lassítják, állítják meg a természetes folyamatot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A romlásos jelenségek három csoportja:</a:t>
            </a: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- </a:t>
            </a:r>
            <a:r>
              <a:rPr b="1" i="1" lang="hu-HU" sz="2800" spc="-1" strike="noStrike">
                <a:solidFill>
                  <a:srgbClr val="ffff99"/>
                </a:solidFill>
                <a:latin typeface="Times New Roman"/>
              </a:rPr>
              <a:t>fizikai romlás</a:t>
            </a: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 (fény, hőmérséklet, páratartalom)</a:t>
            </a: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-</a:t>
            </a:r>
            <a:r>
              <a:rPr b="1" i="1" lang="hu-HU" sz="2800" spc="-1" strike="noStrike">
                <a:solidFill>
                  <a:srgbClr val="ffff99"/>
                </a:solidFill>
                <a:latin typeface="Times New Roman"/>
              </a:rPr>
              <a:t> kémiai </a:t>
            </a: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(levegő oxigénje oxidál, vegyületet bont) </a:t>
            </a: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- </a:t>
            </a:r>
            <a:r>
              <a:rPr b="1" i="1" lang="hu-HU" sz="2800" spc="-1" strike="noStrike">
                <a:solidFill>
                  <a:srgbClr val="ffff99"/>
                </a:solidFill>
                <a:latin typeface="Times New Roman"/>
              </a:rPr>
              <a:t>mikrobiológiai bomlás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(organizmusok táplálkozása, anyagcseréje megindul. Hatásuk csökkenthető hőhatással, fagyasztással, savas közeggel, szárítással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Mikrobiológiai folyamatok elősegítése 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Használati eszközeink „hőmérséklet tűrése”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Vízvezeték hálózataink fagyhatár felett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Rugalmas használati tárgyaink „0” feletti tartományban. Téli - nyári autógumi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Gyufa gyújthatósága, - belobbanása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Gőzgépek gőzüzem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Gázolaj, benzin meggyújthatósága, - lobbanása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émeknél:ridegtörés jelensége, szilárdság csökkenés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Melegben: szilárdság csökkenés, melegfolyás,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Kenőanyagok kenése, folyása, párolgása, gyulladása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3200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88" name="20030131solyom_05" descr=""/>
          <p:cNvPicPr/>
          <p:nvPr/>
        </p:nvPicPr>
        <p:blipFill>
          <a:blip r:embed="rId1"/>
          <a:stretch/>
        </p:blipFill>
        <p:spPr>
          <a:xfrm>
            <a:off x="990720" y="1643040"/>
            <a:ext cx="69530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Mi a hő? - Mi a hőmérséklet?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Hő       </a:t>
            </a:r>
            <a:r>
              <a:rPr b="1" i="1" lang="hu-HU" sz="3200" spc="-1" strike="noStrike">
                <a:solidFill>
                  <a:srgbClr val="ffff99"/>
                </a:solidFill>
                <a:latin typeface="Times New Roman"/>
              </a:rPr>
              <a:t>energiá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nak az az egyetlen fajtája, amely úgy vihető át egyik testből </a:t>
            </a:r>
            <a:r>
              <a:rPr b="1" i="1" lang="hu-HU" sz="2400" spc="-1" strike="noStrike">
                <a:solidFill>
                  <a:srgbClr val="ffff99"/>
                </a:solidFill>
                <a:latin typeface="Times New Roman"/>
              </a:rPr>
              <a:t>(termodinamikai rendszerből)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 a másikba, hogy közben nem kell </a:t>
            </a:r>
            <a:r>
              <a:rPr b="1" i="1" lang="hu-HU" sz="3200" spc="-1" strike="noStrike">
                <a:solidFill>
                  <a:srgbClr val="ffff99"/>
                </a:solidFill>
                <a:latin typeface="Times New Roman"/>
              </a:rPr>
              <a:t>munká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vá alakítani.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A hő átadás feltétele, hogy a két rendszer hőmérséklete eltérjen egymástó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Az </a:t>
            </a:r>
            <a:r>
              <a:rPr b="1" i="1" lang="hu-HU" sz="3200" spc="-1" strike="noStrike">
                <a:solidFill>
                  <a:srgbClr val="ffff99"/>
                </a:solidFill>
                <a:latin typeface="Times New Roman"/>
              </a:rPr>
              <a:t>energiamegmaradás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 elvének kiterjesztése olyan folyamatokra amelyekben a mechanikai energia nem marad meg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295280"/>
            <a:ext cx="45720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Optimális „működési” tartomán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228600" y="1752480"/>
            <a:ext cx="3276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mbernél a kellemes közérzet tartománya. Befolyásolják még:            relatív nedvesség,  zajszint, ionkoncentráció stb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135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9" name="Közérzet" descr=""/>
          <p:cNvPicPr/>
          <p:nvPr/>
        </p:nvPicPr>
        <p:blipFill>
          <a:blip r:embed="rId1"/>
          <a:stretch/>
        </p:blipFill>
        <p:spPr>
          <a:xfrm>
            <a:off x="2971800" y="985680"/>
            <a:ext cx="617220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Más élőlényeknél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z evolúció során az élőlények alkalmazkodtak a környezetük éghajlati - hőmérsékleti viszonyaihoz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Jegesmedve: életciklusaival, testét borító védő bőrével - szőrzetével, faggyú mirigyeivel hideghez, jeges sósvízhez,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 trópusi állatok a nedves meleg éghajlathoz alkalmazkodtak,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 növények életciklusai „illeszkedtek” az őshazájuk éghajlati viszonyaihoz. (Gyapot, kukorica, pálma, datolya, káposzta, zuzmók stb.)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66"/>
                </a:solidFill>
                <a:latin typeface="Times New Roman"/>
              </a:rPr>
              <a:t>Az emberi élet „állapottartománya” a vízhő-mérséklet és a tartózkodási idő függvényében</a:t>
            </a: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37240" y="316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5" name="Vízhőmérséklet" descr=""/>
          <p:cNvPicPr/>
          <p:nvPr/>
        </p:nvPicPr>
        <p:blipFill>
          <a:blip r:embed="rId1"/>
          <a:stretch/>
        </p:blipFill>
        <p:spPr>
          <a:xfrm>
            <a:off x="990720" y="1230480"/>
            <a:ext cx="708660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Hőérzet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Az emberi test és környezete között hőcserefolyamatok  eredményeként kialakuló szubjektív benyomás (érzet)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A hőérzet kellemes, ha a test hőszabályozó rendszer terheletlen, vagyis a biológiai hőtermelés leadható, de a szervezet hőháztartása még egyensúlyban van a környezett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Meghatározók:                   léghőmérséklet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  légnedvesség, szél,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 napsugárzá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181480"/>
            <a:ext cx="152388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5334120"/>
            <a:ext cx="1752480" cy="30456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Komfort zóna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 levegő és a páratartalom függvényében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2590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514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3" name="Komfort%20érzet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Mivel és hogy mérünk hőmérsékletet?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6" name="Hőmérők" descr="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66"/>
                </a:solidFill>
                <a:latin typeface="Times New Roman"/>
              </a:rPr>
              <a:t>Hőháztartá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99"/>
                </a:solidFill>
                <a:latin typeface="Times New Roman"/>
              </a:rPr>
              <a:t>Hőmérleg: 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valamely önálló anyagi rendszer összes hőbevételének, hőfelhasználásának </a:t>
            </a:r>
            <a:r>
              <a:rPr b="1" lang="hu-HU" sz="2400" spc="-1" strike="noStrike">
                <a:solidFill>
                  <a:srgbClr val="ffff99"/>
                </a:solidFill>
                <a:latin typeface="Times New Roman"/>
              </a:rPr>
              <a:t>(hő és más energiaformákba transzformálásának)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 mérleg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99"/>
                </a:solidFill>
                <a:latin typeface="Times New Roman"/>
              </a:rPr>
              <a:t>Hőmennyiség: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 Hő formájában megjelenő energia nagysága </a:t>
            </a:r>
            <a:r>
              <a:rPr b="0" lang="hu-HU" sz="3200" spc="-1" strike="noStrike">
                <a:solidFill>
                  <a:srgbClr val="ffff99"/>
                </a:solidFill>
                <a:latin typeface="Symbol"/>
                <a:ea typeface="Symbol"/>
              </a:rPr>
              <a:t>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 SI-mértékegysége </a:t>
            </a:r>
            <a:r>
              <a:rPr b="0" lang="hu-HU" sz="3200" spc="-1" strike="noStrike">
                <a:solidFill>
                  <a:srgbClr val="ffff99"/>
                </a:solidFill>
                <a:latin typeface="Symbol"/>
                <a:ea typeface="Symbol"/>
              </a:rPr>
              <a:t>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 joule (J)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99"/>
                </a:solidFill>
                <a:latin typeface="Times New Roman"/>
              </a:rPr>
              <a:t>Hőmérséklet: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 Fizikai mennyiség, az anyag makroszkópos állapothatározója. Mértékegysége </a:t>
            </a:r>
            <a:r>
              <a:rPr b="1" i="1" lang="hu-HU" sz="3200" spc="-1" strike="noStrike">
                <a:solidFill>
                  <a:srgbClr val="ffff99"/>
                </a:solidFill>
                <a:latin typeface="Times New Roman"/>
              </a:rPr>
              <a:t>kelvin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 (K), köznapi életben használt egység </a:t>
            </a:r>
            <a:r>
              <a:rPr b="1" i="1" lang="hu-HU" sz="3200" spc="-1" strike="noStrike">
                <a:solidFill>
                  <a:srgbClr val="ffff99"/>
                </a:solidFill>
                <a:latin typeface="Times New Roman"/>
              </a:rPr>
              <a:t>Celsius-fok 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(°C)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18:21:07Z</dcterms:created>
  <dc:creator>Cech Vilmos</dc:creator>
  <dc:description/>
  <dc:language>en-US</dc:language>
  <cp:lastModifiedBy>Cech Vilmos</cp:lastModifiedBy>
  <dcterms:modified xsi:type="dcterms:W3CDTF">2006-09-25T06:40:59Z</dcterms:modified>
  <cp:revision>13</cp:revision>
  <dc:subject/>
  <dc:title>Hőmérés</dc:title>
</cp:coreProperties>
</file>