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00AB-DD52-4172-92CD-9AC7BC4F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9A31-D549-4458-95AA-D9A964ED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52B2-D5D3-4C84-B2AB-55BF4CA1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E94B-24CC-4F15-8698-A4249D3C4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9593-B734-4C51-81A1-B218AF28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915C-3F09-4F79-A8A0-3A6EDA81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1E01-D084-45E1-B037-D7846E32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5DB5-4D2B-4EEA-8ABB-ACBF4A99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76FC-F0F1-4693-ABBA-DA563555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B199-E70B-4C44-890D-C06F8C73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48CE-BBC3-4BC6-8442-7D304BF1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9998-BD5B-44CC-B33F-038166B9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D5B2-586B-4D2A-B123-33DB9AEB80A7}" type="slidenum">
              <a:rPr b="0" lang="hu-HU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66"/>
                </a:solidFill>
                <a:latin typeface="Times New Roman"/>
              </a:rPr>
              <a:t>Vizeinkről </a:t>
            </a:r>
            <a:endParaRPr b="0" lang="en-US" sz="8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267080"/>
            <a:ext cx="9144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6000" spc="-1" strike="noStrike">
                <a:solidFill>
                  <a:srgbClr val="ffff00"/>
                </a:solidFill>
                <a:latin typeface="Times New Roman"/>
              </a:rPr>
              <a:t>Vizeink magánélete közügy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Dr.Woynarovich Elek könyve alapján        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összeállította: Cech Vilmo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Állóvízi környezet fizikai tulajdonságai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víz hőmérsékle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víz fajsúlya (sűrűsége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tavak vizének fényviszonya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tóvíz mozgása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Kémiai tulajdonságai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vízben oldott gázok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ldott molekuláris oxigé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övényi tápanyagok fontossági sorrendbe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zén-dioxid és egyéb szénvegyületek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szforvegyületek szerepe az állóvizekbe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05280" y="-360"/>
            <a:ext cx="9829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Vizek élete, élőlényei és a vízi környeze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 víz nemcsak a 3D teret betöltő közeg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Élő víz: 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az élőlények életjelenségei, folyamatai működnek és hatnak a víz fizikai és kémiai minőségére.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z élővilág fő tevékenységei: 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-élő szerves anyag fogyasztása,- szerves anyag raktározá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Kisebb élőlénycsoportok tevékenysége: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 elemi nitrogén megkötés, természetes anyagok élőtestbe beépítése: mész, SiO2, P) esetenként klórozott szénhidrogének, nehézfémek, radioaktív anyagok felhalmozása (petroleum vagy „mocsár” ízek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z élővilág a víz minden részét igyekszik elfoglalni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Határt szabó tényezők: 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víz hőmérséklete, fényháztartása, mozgása vagy kémiai összetétele, bizonyos vegyi anyagok jelenléte vagy hiánya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 szárazföldi és a vízi élettér közötti különbségek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 vízi élettér háromdimenziós - a szárazföldi kettő,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 világóceánokban a szárazföldek szigetek, a szárazföldeken a vizek alkotnak „szigetek”-et. Ez lényeges a vízi élőlények terjedése szempontjából. Mást jelent a tájidegenség a két közegbe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 szárazföldi élettér bevándorlás vagy behurcolás útján népesül be, az alsóbbrendűeké „légi” úton i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z állóvizek (zártabb) szigetszerűségével, hogy az oda jutott anyagok felbillenthetik a biológiai egyensúlyt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 szárazföldi élettér nyitott. A benépesülési minőségét a hőmérsékleti viszonyok és a víz határozza meg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 vízi élettérben a hőmérséklet és az oxigénviszony a döntő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 szárazföldi élettérben az élet szélsőségesebb határok között változhat. - A vízben ez a 0 - 35</a:t>
            </a:r>
            <a:r>
              <a:rPr b="0" lang="hu-HU" sz="32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C között lehet. </a:t>
            </a:r>
            <a:r>
              <a:rPr b="0" lang="hu-HU" sz="2400" spc="-1" strike="noStrike">
                <a:solidFill>
                  <a:srgbClr val="ffff00"/>
                </a:solidFill>
                <a:latin typeface="Times New Roman"/>
              </a:rPr>
              <a:t>(Csak élö baktérium és alga élhet magasabb höm-en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 szárazföldön a hőm. gyorsan változhat, a vízben ez pusztulást okozhat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 szárazföldi és a vízi élettérben a fotoszintézis mellékterméke oxigén. Levegőben szinte korlátlanul jelen van, vízben csak a helyben termelt van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228960" y="0"/>
            <a:ext cx="9372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z oxigén hiány a vízi élőlényekre végzetes, de a CO</a:t>
            </a:r>
            <a:r>
              <a:rPr b="0" lang="hu-HU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 vagy az NH</a:t>
            </a:r>
            <a:r>
              <a:rPr b="0" lang="hu-HU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 is pusztulást okozhat, ha nagyobb mennyiségű. </a:t>
            </a:r>
            <a:r>
              <a:rPr b="0" lang="hu-HU" sz="2400" spc="-1" strike="noStrike">
                <a:solidFill>
                  <a:srgbClr val="ffff00"/>
                </a:solidFill>
                <a:latin typeface="Times New Roman"/>
              </a:rPr>
              <a:t>A CO</a:t>
            </a:r>
            <a:r>
              <a:rPr b="0" lang="hu-HU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hu-HU" sz="2400" spc="-1" strike="noStrike">
                <a:solidFill>
                  <a:srgbClr val="ffff00"/>
                </a:solidFill>
                <a:latin typeface="Times New Roman"/>
              </a:rPr>
              <a:t> és az NO</a:t>
            </a:r>
            <a:r>
              <a:rPr b="0" lang="hu-HU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hu-HU" sz="2400" spc="-1" strike="noStrike">
                <a:solidFill>
                  <a:srgbClr val="ffff00"/>
                </a:solidFill>
                <a:latin typeface="Times New Roman"/>
              </a:rPr>
              <a:t> leadás a vízben élő szervezetből diffuzióval történik, de ha kisebb a testben, akkor mérgezés történik.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 szárazföldön a fotoszintézishez szükséges szén a CO</a:t>
            </a:r>
            <a:r>
              <a:rPr b="0" lang="hu-HU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-ben rendelkezésre áll. </a:t>
            </a:r>
            <a:r>
              <a:rPr b="0" lang="hu-HU" sz="2400" spc="-1" strike="noStrike">
                <a:solidFill>
                  <a:srgbClr val="ffff00"/>
                </a:solidFill>
                <a:latin typeface="Times New Roman"/>
              </a:rPr>
              <a:t>A vízi élettérben az algák többféle szénforrásra is képesek, de nem mindegyik csoport. A szerves anyag vagyont a testükben halmozzák fel amit a halak újabb táplálékszintre emelnek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 szárazföldön a növények kevés fehérjét termelnek, </a:t>
            </a:r>
            <a:r>
              <a:rPr b="0" lang="hu-HU" sz="2400" spc="-1" strike="noStrike">
                <a:solidFill>
                  <a:srgbClr val="ffff00"/>
                </a:solidFill>
                <a:latin typeface="Times New Roman"/>
              </a:rPr>
              <a:t>fő termékeik a szénhidrátok (cukrok, keményítő, lignin).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 A vízi élettérben a nagyobb fehérjetartalom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 víz teljes mélységében az élőlények kihasználják a fényt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45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228600" y="0"/>
            <a:ext cx="9601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 szárazföldön a növények hulladékai visszajutnak a talajba, az oxigén a levegőbe távozik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 vízben az algák sokféle terméke a toxinok is a vízbe távoznak, a vízminőséget, használhatóságot befolyásolja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z emberi tevékenységre a vízi környezet sokkal jobban reagál, károsodik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z édesvízi élettér élővilága csak az alsóbbrendű szer-vezetekben gazdagabb, érzékeny a változásra. A ten-gervíz állandósága nagyobb, élőlény változatossága i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ffff00"/>
                </a:solidFill>
                <a:latin typeface="Times New Roman"/>
              </a:rPr>
              <a:t>Az előzőekben jelzett érzékenység miatt fontos a vizek óvása! </a:t>
            </a:r>
            <a:r>
              <a:rPr b="1" i="1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4000" spc="-1" strike="noStrike">
                <a:solidFill>
                  <a:srgbClr val="ffff00"/>
                </a:solidFill>
                <a:latin typeface="Times New Roman"/>
              </a:rPr>
              <a:t>A legérzékenyebb monitoring!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Az állóvíz élőhelyei: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Nyílt víz, szabad víz vagy vízoszlop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Tófenék vagy tómed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Parti öv 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(litorális öv, litorális zóna) több élőhelyfülke (niche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40384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666880"/>
            <a:ext cx="88390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imes New Roman"/>
              </a:rPr>
              <a:t>Élőlénycsoportok:</a:t>
            </a:r>
            <a:endParaRPr b="0" lang="en-US" sz="4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Times New Roman"/>
              </a:rPr>
              <a:t>Vírusok</a:t>
            </a:r>
            <a:r>
              <a:rPr b="1" lang="hu-HU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36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hu-HU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3600" spc="-1" strike="noStrike">
                <a:solidFill>
                  <a:srgbClr val="ffff00"/>
                </a:solidFill>
                <a:latin typeface="Times New Roman"/>
              </a:rPr>
              <a:t>Baktériumok</a:t>
            </a:r>
            <a:r>
              <a:rPr b="1" lang="hu-HU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3600" spc="-1" strike="noStrike">
                <a:solidFill>
                  <a:srgbClr val="ffff00"/>
                </a:solidFill>
                <a:latin typeface="Times New Roman"/>
              </a:rPr>
              <a:t>  -</a:t>
            </a:r>
            <a:r>
              <a:rPr b="1" lang="hu-HU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3600" spc="-1" strike="noStrike">
                <a:solidFill>
                  <a:srgbClr val="ffff00"/>
                </a:solidFill>
                <a:latin typeface="Times New Roman"/>
              </a:rPr>
              <a:t>Algák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Magasabb rendű növénye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Egysejtű állatok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Times New Roman"/>
              </a:rPr>
              <a:t>Többsejtű állatok: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Kerekesférgek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Gyűrűsférgek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Puhatestűek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lsóbb- és magasabb rendű rákok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Rovarok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Halak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3200400"/>
            <a:ext cx="0" cy="27432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7:21:51Z</dcterms:created>
  <dc:creator>Cech Vilmos</dc:creator>
  <dc:description/>
  <dc:language>en-US</dc:language>
  <cp:lastModifiedBy>Cech Vilmos</cp:lastModifiedBy>
  <dcterms:modified xsi:type="dcterms:W3CDTF">2006-09-11T17:53:17Z</dcterms:modified>
  <cp:revision>9</cp:revision>
  <dc:subject/>
  <dc:title>Vizeinkről </dc:title>
</cp:coreProperties>
</file>