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471-4E51-44B4-BB1E-6C1F533B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61C-E49E-45FF-B76E-4E88AE5A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0DA-E492-454D-925A-056A43D5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253-DE28-40B3-9CA6-BC395AC4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75EFE-5732-4B20-9EFA-9ED14954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838CE-FBDB-4F47-B1E7-B29A8F3B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7D510-3955-4F4C-A0F4-4E34B03D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B4989-67E5-49DA-8723-EF365A72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A8FE0-79F7-4AC4-8122-0D204043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A4264-2A0D-4C9D-BB40-0E88DF9D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D4E08-1E33-4B65-8093-7783BE41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EAB-8B1B-45A3-B525-E9921B0F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A7FC2-BA1D-481E-9C0A-EC5C24B6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CEE1E-1CEF-4D2B-AFA2-9820693E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8B849-B1A6-4D53-BEE4-04A9E240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1417F-D806-4EE4-B44F-24BC5507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3D6F0-4F0A-4ABB-8810-6511AC51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147-6AF1-445E-BD12-93EDA2BA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691-7A11-4943-857D-C8E3DAC5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C76-4874-4CF4-AE65-9C3A0AF1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B88-F0BB-4CBC-B20B-7059331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15E-3CC7-404F-B679-3F29A2C0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CF5-1250-46E4-9789-F4E05C57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B5E-38F3-435E-9621-5599A6D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9697-CDEE-48F5-BC0E-A59FC448B6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1927-6F30-4E7A-B6C4-7CE5110FA6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előszerkezetek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abilitás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ikor a súlypont vonala az alátámasztási síkon kívülre kerül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nulságos péld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29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22520" y="0"/>
            <a:ext cx="409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09:12Z</dcterms:created>
  <dc:creator>Cech Vilmos</dc:creator>
  <dc:description/>
  <dc:language>en-US</dc:language>
  <cp:lastModifiedBy>Cech Vilmos</cp:lastModifiedBy>
  <dcterms:modified xsi:type="dcterms:W3CDTF">2007-09-05T08:31:57Z</dcterms:modified>
  <cp:revision>3</cp:revision>
  <dc:subject/>
  <dc:title>1. dia</dc:title>
</cp:coreProperties>
</file>