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E79-2795-4470-8AF3-B04D8113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565-0D6B-48F7-A321-11ECF655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721-398C-4AA3-B25E-B4807871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DE6-775C-422C-9E4C-A0FE10F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38B-55E7-4075-8DED-17C219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F66-C5AB-41E5-AA87-9CFE1E5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898-89D5-4C97-AA17-27CE91B1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136-889A-4BF9-A832-54F3686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373-7E53-439A-86E0-F3D7D98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6C5-7D81-45A6-B856-275870D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472-BD34-4041-91EF-2C702CE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25C-1D43-4F24-B12B-1DF2CEB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238F-B93F-411D-A974-130D4EB88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ff"/>
                </a:solidFill>
                <a:latin typeface="Times New Roman"/>
              </a:rPr>
              <a:t>Erőművek és veszélyes hulladékaik</a:t>
            </a:r>
            <a:endParaRPr b="0" lang="en-US" sz="7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267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árzó és más káros anyagok keletkezése és hulladék elhelye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A szén elégetésekor keletkező kénszennyezés csökkentésére: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1 atom kén + 1 molekula </a:t>
            </a:r>
            <a:r>
              <a:rPr b="1" i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 1 molekula kéndixid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+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észkö + Víz + Kéndioxid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Kalciumszulfit + Víz + Széndiox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a (OH)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+    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+    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alciumhidroxid + Kéndioxid </a:t>
            </a:r>
            <a:r>
              <a:rPr b="1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Kalciumszulfit +Ví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Keletkezik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Kalciumszulfit (CaSO</a:t>
            </a:r>
            <a:r>
              <a:rPr b="1" i="1" lang="hu-H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), felvesz a levegöböl további Oxigént: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+  4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2 (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x  2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)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alciumszulfit+ Oxigén+Víz+Kalciumszulfát+Dihidrá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Gip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z üvegházhatás keletkezése</a:t>
            </a:r>
            <a:endParaRPr b="0" lang="en-US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Erőmű7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Üvegházhatás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okozó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Erőmű88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i káros az emberre?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gővel: Belégzés útján bekerülő idegen gáz anyagok. (A normál légkörben csak vulkáni katasztrófák idején fordult elő eddig a környezetükb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yadékkal: Párák és csapadék formájában lecsapódó vízben oldott és nem oldott természet idegen anyag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ilárd részek: Pernye, hamu formában kikerülő idegen anyagok. Gyakran a tüzelőanyagokban levő nehézfém-vegyületek dúsulnak fel a kihullási körzetben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örnyezetben a genetikai károsodás veszélye is fennál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alaj és rétegvíz leszívása a kitermelés idejér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rőmű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829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ignit külszíni bányászata (Mátraalján)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rőmű777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Erőmű égéstermék tisztítás fokozata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rőmű" descr="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Atomreaktor biztonsági zónáj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tom1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Nagy aktivitású hulladék elhelyezés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rőmű4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A katalizátor kazetta szerkezete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rőmű2" descr=""/>
          <p:cNvPicPr/>
          <p:nvPr/>
        </p:nvPicPr>
        <p:blipFill>
          <a:blip r:embed="rId1"/>
          <a:stretch/>
        </p:blipFill>
        <p:spPr>
          <a:xfrm>
            <a:off x="0" y="0"/>
            <a:ext cx="46958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Erőmű22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Füstgáz tisztítás katalizátorral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24280" y="2133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őreakciók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NO+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O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8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lékreakci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O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(Ammóniumszulfá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rőmű66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ennyi kéndioxid keletkezik a fűtőolaj égetésekor?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00 liter fűtőolaj 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1,8 tonna kéntartalma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36 k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mol S-atom + 1 mol Oxigén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1 mol Kéndioxid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32 g + 32 g </a:t>
            </a:r>
            <a:r>
              <a:rPr b="1" lang="hu-H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 64 g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36 kg kénböl (=1125 mol kén) 72 kg szabad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eletkezik, vízgözzel találkozva kénessav jön létre.  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A lignitnek, a barna és más szénféleségeknek is van kéntartalma!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1:02:58Z</dcterms:created>
  <dc:creator>Cech Vilmos</dc:creator>
  <dc:description/>
  <dc:language>en-US</dc:language>
  <cp:lastModifiedBy>Cech Vilmos</cp:lastModifiedBy>
  <dcterms:modified xsi:type="dcterms:W3CDTF">2002-05-06T20:50:29Z</dcterms:modified>
  <cp:revision>7</cp:revision>
  <dc:subject/>
  <dc:title>Erőművek és veszélyes hulladékaik</dc:title>
</cp:coreProperties>
</file>