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62F-3322-44E5-B334-3535F7D6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7E3-1606-4F18-91E8-8030385A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288-F517-4D26-B254-DA6E7E9C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C07-E72E-484A-B1FD-2BCC1EB1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15B-21C8-4CD7-AB41-38145689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291-7954-463A-A7F9-5F96A93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B9F-CBF0-4124-8D27-8D6658EE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CB6-0F22-4BC9-860D-AB1C4CF5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BF9-A1C1-4837-A54D-C5CD5E1F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A17-6670-418A-992B-8203F37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2D7-6840-4145-8ABC-88491B9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583-FF0B-4046-880A-8C3C829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A3F3-2263-4CA0-BFDC-0DEF9F614862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Times New Roman"/>
              </a:rPr>
              <a:t>Környezetvédelem az Európai Unióban</a:t>
            </a:r>
            <a:endParaRPr b="0" lang="en-US" sz="6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z EU környezeti jogalkotása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teljes környezeti joganyag mintegy 300 irány-elvből, rendeletből, határozatból és ajánlásból áll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Unió tevékenysége a környezeti jog minden területére kiterjed.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Általános politika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A környezeti hatásvizsgálatok és információkhoz szabad a hozzáférés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tevékenység környezetre gyakorolt hatásait előzetesen meg kell becsülni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inden termék útját „bölcsőtől a sírig” végig kell követni környezeti szempontból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vegőtisztaság-védele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Levegőminőségi határértékeket vezetett be a kén-dioxidra, a lebegő szilárd szennyezőkre, a nitrogén-dioxidra, koromra és az ólomra. Keretirányelvet fogadtak el 1996-ba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közlekedési légszennyezés (üvegházhatás) csökkentésére szigorúbb üzemanyag-minőségi és kipufogógáz-kibocsátási normákat vezettek be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Vegyi anyagokra vonatkozó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(1980) 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szabályok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z anyagokat kategóriákba sorolják: toxikosságuk, veszélyességük,gyúlékonyságuk alapjá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Betiltott anyagok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zbeszt, néhány műtrágya, PCBs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rmészet-, zaj- és rezgések elleni védele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adarakról szóló irányelv: élőhely és a vadon élő állatok kereskedelméről szóló egyezmén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zajkibocsátási előírások a technikai felszerelések-re, gépek és közlekedési eszközökre vonatkozó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zajkibocsátás oka az emberi egészség védelme és munkahelyi biztonság garantál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Vízminőség védele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legfontosabb vízminőségvédelmi jogszabályok a fürdővizekre, a veszélyes anyagok által okozott szennyezésekre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felszín alatti vizek védelmére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Ivóvízre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települési szennyvízre, és a Nitrátosodás elleni tevékenységre vonatkoznak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elővigyázatosság sokkal ésszerűbb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, mint a „csővégi” megoldások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ulladékgazdálkodás, nukleáris biztonság, polgári védele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hulladék fogalmának szigorú meghatároz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hulladékkezelés előnybe helyezi a keletkezés megelőzését, az újrahasználatá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csomagolóanyagok szigorú szabályoz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veszélyes hulladékok szállításának nemzetközi szabályozás alá vonása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Részletesen szabályozzák a sugárzó anyagok használatát, kezelésé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Előírások a radioaktív hulladékok szállít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Polgári védelem: ellenőrzés és szervezett védel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bővítés hatásai a környezetpolitikára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csatlakozásra váró országoktól a felzárkózást „hosszútávon” várják el. A fenntarthatóság garan-ciáit, a mielőbbi tényleges alkalmazást elvárjá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Egyes országok sajátosságai és jellemzői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- Közép-Kelet-Európa fajokban gazdag vadvilágának, 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tájainak, erdőinek védelm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Közlekedési, energia- és vízellátó szektor fenntartható 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fejleszté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Határozott fellépés az energiafelhasználás hatékonysága, a megújítható erőforrások felé, atomenergia biztonság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fenntartható mg.rendszer maradjon, ne a túl intenzív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ovábbi környezeti szempontok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ezután létesítendő beruházások már az új követelmények szerint épülhetne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lőnybe kell részesíteni a hatékony környezetvédelmi eszközöket, módszereket.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Jogi szabályozás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magyar Köztársaság elismeri és érvényesíti mindenki jogát az egészséges környezetre.”(18.§), emberi jogként meghatározva a testi és lelki egészséget, amelyet hazánk „az épített és természetes környezet védelmével valósít meg”(71/D.§)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z állam a természetvédelem jogszabályokkal biztosított szintjét nem csökkentheti”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gyarország környezeti állapota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termelési szerkezet átalakulásával és a fogyasztás átmeneti csökkenésével a környezet állapota javul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Csökkent az ország energiafogyasztása, a környe-zetre a terhelő hatás csökken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mezőgazdaságban használt vegyi anyagok jelentős csökkenés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Jelentős eredmények: Az élővilág gazdagsága, természetes élőhelyek és társulások magas szám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Negatív vonás: Gazdaságunk szerkezete viszonylag elmaradott.Egy főre jutó szennyezés kibocsátás a szint miatt kedvezőbb az átlagnál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azánk legfontosabb teendői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9448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Levegő-minőség terén: Az összes kéndioxidkibo-csátás még másfélszerese az OECD átlagnál. Nitrogén-oxidok terén jobb a helyzet. Az ózonréteget károsító CFC-k és halonok felhasználása megszűn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Zajterhelést csökkenteni kell: Közlekedés, iparizajok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Vízminőség-védelem (legköltségesebb): Javulás a Balaton körzetében, lakossági ivóvízellátás javul. Fokozott szennyvíztisztítás kell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Hulladékgazdálkodás: Kommunális hulladék kezelés, fokozott ütemű veszélyes hulladék ártalmatlanítá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Átmeneti mentességi igények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környezet állapota nem rosszabb az átlagnál sok tekintetb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Négy fennmaradó igény az Uniótól: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1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veszélyes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hulladéko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égetésére.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2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 települési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szennyvíz-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elvezetés és -tisztítás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3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Nagy tüzelőberendezé-sek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légszennyező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kibocsátásának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csökkentése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4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csomagolási hulladéko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: 25-35% visszagyűj-tés, min. 50%-os hasznosítási arány elérése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imuttaták, hogy 4-5%-os gazd. növ. és fokozott környezetvédelmi ráfordítások mellett a négy igény  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megvalósítható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tratégiai kérdés a környezetvédelem!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agállamok deklarációja: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gazdasági fejlődés nem önmagáért való cél,…az élet minőség és az életszínvonalnak javulnia kell.”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Európai Közösségek számára megvalósítani:     az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áru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, a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személye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szolgáltatáso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,és a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tőke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szabad mozgását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6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egységes belsö piac létrehoz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fenntartható fejlödés megvalósulása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hu-HU" sz="1800" spc="-1" strike="noStrike">
                <a:solidFill>
                  <a:srgbClr val="ffff66"/>
                </a:solidFill>
                <a:latin typeface="Times New Roman"/>
              </a:rPr>
              <a:t>1990 Dublin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 környezetért felelösséggel tartozunk! Cél: a polgárok tiszta és egészséghez való jog biztosít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természeti erőforrások méltányosabb elosztásával javítani az emberi élet minőségé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ovábbi célok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életszínvonal emelése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szegénység enyhítése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várható élettartam növelése,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élelmezés biztonság javítására erőfeszítések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Tudatosult, hogy a Közösség 340 millió lakosa más iparosodott országokkal együtt a világ erőforrásainak aránytalanul nagy részét fogyasztja el. Az USA és Kanada fogyasztásának felét, de a fejlődő országokénál 10x többe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fejlödés úgy elégítse ki a jelen nemzedék igényeit, hogy az ne akadályozza a jövö nemzedékek lehetőségeit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A fenntartható fejlődés jellemzöi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- fenntartja az élet általános jellemzőit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- biztosítja a természeti eröforrások elérhetőségét,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- a környezeti tartós károkat elkerüli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Alapelvek 2. cikkelye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”a gazdasági tevékenység kiegyensúlyozott fejlesztése, a környezetet tiszteletben tartó, fenntartható, inflációnélküli növekedése” elősegítés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környezetvédelmi követelmények beépítése a Közösség politikájába, megvalósításáb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döntéseket a polgárokhoz közeli szinten kell meghozni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ovábbi célok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igyelembe kell venni a környezetpolitika megfogalmazásánál, hogy a gazdaság és a társadalom szorosan összefüggene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ontos a gazdasági és a társadalmi fejlődés, a régiók fejlesztés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Szükség van a felelősség megosztására a társadalom minden szintjé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Közösségnek -mint a világ egyik legnagyobb gazdasági és kereskedelmi szereplőjének felelősséget kell vállalnia a jelen és a jövö nemzedékeiér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z EU környezetpolitikája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9448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nemzeti politikáktól mentesen: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etikai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jóléti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és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gazdasági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megfontolások 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(Riói Környezeti és Fejlődés Konf.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özösségi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jog a környezetvédelmi jogforrások része, az egyedeknek joguk van az élethez, minden fajnak a túléléshez. 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(madárvédelmi irányelv, ivóvíz, jó levegő, zajmentesség)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jóléti érv nem korlátozódik a jelenlegi generációkra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Nemzetközi együttműködést kíván: határokat átlépő szennyezés a kockázataival és egészségügyi hatásokkal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Globális közjavak: ózonréteg, Föld éghajlata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 még gazdasági érvek dominálnak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Ma még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csak azokra az iparágakra terhelődnek költségek, amelyek felelős módon működnek, a </a:t>
            </a:r>
            <a:r>
              <a:rPr b="0" i="1" lang="hu-HU" sz="3200" spc="-1" strike="noStrike">
                <a:solidFill>
                  <a:srgbClr val="ffff66"/>
                </a:solidFill>
                <a:latin typeface="Times New Roman"/>
              </a:rPr>
              <a:t>felelőtlene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ezáltal </a:t>
            </a:r>
            <a:r>
              <a:rPr b="0" i="1" lang="hu-HU" sz="3200" spc="-1" strike="noStrike">
                <a:solidFill>
                  <a:srgbClr val="ffff66"/>
                </a:solidFill>
                <a:latin typeface="Times New Roman"/>
              </a:rPr>
              <a:t>anyagi előnyhöz jutna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Többletköltségek: egészségügyi + szennyezés felszámolás költségei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ökológiai modernizáció a gazdasági modernizálás rész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Együttdöntési eljárás (működés helyett)</a:t>
            </a:r>
            <a:r>
              <a:rPr b="0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vétójog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lapelvek 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(Maastrichti Szerz,)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1. Elövigyázatosság, 2.Megelözés, 3. „Szennyezö fizet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= magasszintü védelem bizt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Magasszintű védelem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Tudományos eredmények figyelembe vétel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igyelembe kell venni a régió gazdasági és társadal-mi helyzetét, megvalósítás </a:t>
            </a:r>
            <a:r>
              <a:rPr b="1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 már bevált legjobb gyakorlattal. Nem szolgálhat laza normák tartására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66"/>
                </a:solidFill>
                <a:latin typeface="Times New Roman"/>
              </a:rPr>
              <a:t>Elővigyázat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: A károsítás mindenképen el kell kerülni. A „csővégi” megoldás helyett ne termeljünk problémás anyagot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66"/>
                </a:solidFill>
                <a:latin typeface="Times New Roman"/>
              </a:rPr>
              <a:t>Megelőzés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: A szennyezés a keletkezés helyén kell megakadályozni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66"/>
                </a:solidFill>
                <a:latin typeface="Times New Roman"/>
              </a:rPr>
              <a:t>A szennyező fizet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: A környezeti kár költségeit a kár okozójának kell viselni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Fenntartható fejlődés </a:t>
            </a:r>
            <a:r>
              <a:rPr b="0" lang="en-US" sz="44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partnerséggel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nemzeti és regionális hatóságok cselekedjenek a leghatékonyabb munkamegosztás szerin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éggel kell párbeszédet folytatni és együttműködést kialakítani a feladatok megoldása érdekéb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9:11:18Z</dcterms:created>
  <dc:creator>Cech Vilmos</dc:creator>
  <dc:description/>
  <dc:language>en-US</dc:language>
  <cp:lastModifiedBy>Cech Vilmos</cp:lastModifiedBy>
  <dcterms:modified xsi:type="dcterms:W3CDTF">2001-10-23T19:00:02Z</dcterms:modified>
  <cp:revision>7</cp:revision>
  <dc:subject/>
  <dc:title>Környezetvédelem az Európai Unióban</dc:title>
</cp:coreProperties>
</file>