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C321-EE5A-4135-8CF3-C5C5C20B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D83C-2A47-493D-8A14-0F1E7D67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F2E7-F394-43C1-9F17-28A086B5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A54-2560-47F2-A57F-9A249B7E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CB4C-6A7E-4CB2-81E8-FF0DC5DF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04B5-6133-45DB-BF29-7D9AC3FA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B418-E3ED-4A7F-81C2-C5C60A76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2E43-A92A-47DF-A4AA-19FFA773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F3EE-439B-4A4E-A25A-838EBD4D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DF26-2A28-4A94-A85C-4F9FFC9B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D66F-BD93-40C8-891A-95A3F37D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1439-2953-4A46-8326-BC4DA711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7E4C-9942-4A21-AF3F-CF8EF31CF5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Mérések elektromágneses hullámokkal</a:t>
            </a:r>
            <a:br>
              <a:rPr sz="66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(Globális helymeghatározás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4956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Pap László: </a:t>
            </a:r>
            <a:r>
              <a:rPr b="1" i="1" lang="hu-HU" sz="2800" spc="-1" strike="noStrike">
                <a:solidFill>
                  <a:srgbClr val="ffff00"/>
                </a:solidFill>
                <a:latin typeface="Times New Roman"/>
              </a:rPr>
              <a:t>A technika csodája: a globális helymeghatározás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 c. Mindentudás Egyetemén elhangzott előadása ábráinak, képeinek felhasználásáv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összeállította: Cech Vilmo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imes New Roman"/>
              </a:rPr>
              <a:t>www.origo.hu/mindentudasegyeteme/pap/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0030131pap_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0030131pap_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0030131pap_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20030131pap_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0030131pap_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0030131pap_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20030131pap_16" descr=""/>
          <p:cNvPicPr/>
          <p:nvPr/>
        </p:nvPicPr>
        <p:blipFill>
          <a:blip r:embed="rId1"/>
          <a:stretch/>
        </p:blipFill>
        <p:spPr>
          <a:xfrm>
            <a:off x="-228600" y="28440"/>
            <a:ext cx="93726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20030131pap_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20030131pap_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20030131pap_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0030131pap_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0030131pap_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20030131pap_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20030131pap_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20030131pap_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0030131pap_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20030131pap_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0030131pap_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20030131pap_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20030131pap_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20030131pap_2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0030131pap_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20030131pap_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0030131pap_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20030131pap_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20030131pap_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20030131pap_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20030131pap_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20030131pap_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20030131pap_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20030131pap_3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20030131pap_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0030131pap_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0030131pap_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0030131pap_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0030131pap_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0030131pap_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0030131pap_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9T13:40:16Z</dcterms:created>
  <dc:creator>Cech Vilmos</dc:creator>
  <dc:description/>
  <dc:language>en-US</dc:language>
  <cp:lastModifiedBy>Cech Vilmos</cp:lastModifiedBy>
  <dcterms:modified xsi:type="dcterms:W3CDTF">2003-06-30T05:57:21Z</dcterms:modified>
  <cp:revision>3</cp:revision>
  <dc:subject/>
  <dc:title>Mérések elektromágneses hullámokkal (Globális helymeghatározás)</dc:title>
</cp:coreProperties>
</file>