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3F5-E97C-44C2-BB84-242A14C3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013-CA04-4D26-ACC2-874C0017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3B7-14B5-4022-98B9-535BF221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DF6-06B2-4ECA-B265-9A0D8546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7B6-5D42-426A-9DF7-79AD1D1E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918-7049-4877-AF63-33F7159A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ACC-1EAA-49F2-A794-2BE74FEC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550-C943-4188-A5BB-F00B2B9E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38C-DB24-4BAF-883C-D3DD97C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FD9-1FA4-48BA-B047-B25CF9F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867-5B8B-4729-A603-8E0D8BA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7FB-CAD8-4CF8-B6EC-D388806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415-BB81-4F33-8857-144103385E05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Times New Roman"/>
              </a:rPr>
              <a:t>Vízenergia</a:t>
            </a:r>
            <a:endParaRPr b="0" lang="en-US" sz="8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Nagy vízmennyiségre, kisebb esésre épített gát-erőmű rendszer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9" name="Vizerőmű8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Kisebb vízmennyiségre (7 500m</a:t>
            </a:r>
            <a:r>
              <a:rPr b="1" lang="en-US" sz="3600" spc="-1" strike="noStrike" baseline="30000">
                <a:solidFill>
                  <a:srgbClr val="ffff66"/>
                </a:solidFill>
                <a:latin typeface="Times New Roman"/>
              </a:rPr>
              <a:t>3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perc) létesített duzzasztó és áramfejlesztő rendszer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2" name="Vizerőmű9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vájci víztározó a gát fölött.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285 m magasságú összegyűjtött víztömeg rugalmasan engedhető az áramfejlesztőkre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5" name="Vizerőmű10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zennyeződést nem okoz, megújuló energia a duzzasztott víz. Kisvíz és nagy hideg esetén okozhat zavart a teljesítmény hiány.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" name="Vizerőmű1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Energiamegmaradás elve érvényesül!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függőlegesen eső, függőleges irányban mozgó test az energiamegmaradás legegyszerűbb példája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magasságát csakis a neházségi erő hatására változtató testnek esése következtében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 W</a:t>
            </a:r>
            <a:r>
              <a:rPr b="1" lang="hu-HU" sz="3200" spc="-1" strike="noStrike" baseline="-25000">
                <a:solidFill>
                  <a:srgbClr val="ffff99"/>
                </a:solidFill>
                <a:latin typeface="Times New Roman"/>
              </a:rPr>
              <a:t>kin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mozgási energiája van. Ezenkívül helyzeti energiával (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hu-HU" sz="3200" spc="-1" strike="noStrike" baseline="-25000">
                <a:solidFill>
                  <a:srgbClr val="ffff99"/>
                </a:solidFill>
                <a:latin typeface="Times New Roman"/>
              </a:rPr>
              <a:t>pot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) is rendelkezik. Ezek összege: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1/2mv</a:t>
            </a:r>
            <a:r>
              <a:rPr b="1" lang="hu-HU" sz="40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+ mgh = állandó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 illetve  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hu-HU" sz="4000" spc="-1" strike="noStrike" baseline="-25000">
                <a:solidFill>
                  <a:srgbClr val="ffff99"/>
                </a:solidFill>
                <a:latin typeface="Times New Roman"/>
              </a:rPr>
              <a:t>kin</a:t>
            </a: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 + W</a:t>
            </a:r>
            <a:r>
              <a:rPr b="1" lang="hu-HU" sz="4000" spc="-1" strike="noStrike" baseline="-25000">
                <a:solidFill>
                  <a:srgbClr val="ffff99"/>
                </a:solidFill>
                <a:latin typeface="Times New Roman"/>
              </a:rPr>
              <a:t>pot</a:t>
            </a: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 = állandó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99"/>
                </a:solidFill>
                <a:latin typeface="Times New Roman"/>
              </a:rPr>
              <a:t>A helyzeti energiából nyert mozgási energiát átalakítjuk mechanikai majd tovább villamos-energiává és az </a:t>
            </a:r>
            <a:r>
              <a:rPr b="1" i="1" lang="hu-HU" sz="4000" spc="-1" strike="noStrike">
                <a:solidFill>
                  <a:srgbClr val="ffff99"/>
                </a:solidFill>
                <a:latin typeface="Times New Roman"/>
              </a:rPr>
              <a:t>másutt használjuk fel!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ízkerék kezdeteitől a turbináig. Mindegyik típus a víz helyzeti és mozgási energiáit használja fel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0" name="Vizerőmű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Vizerőmű3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43600" y="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ljesítmény tartományok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91320" y="16761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különböző kialakítású, műszaki adottságú és elven működő turbinák más és más teljesítmény tartományokban működnek jó hatásfokkal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4" name="Vizerőmű4" descr=""/>
          <p:cNvPicPr/>
          <p:nvPr/>
        </p:nvPicPr>
        <p:blipFill>
          <a:blip r:embed="rId1"/>
          <a:stretch/>
        </p:blipFill>
        <p:spPr>
          <a:xfrm>
            <a:off x="0" y="-171360"/>
            <a:ext cx="5943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7" name="Vizerőmű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 Pelton-turbinának egyetlen kereke va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kerék átmérője gyakran a 4m-t is meghaladja. Azért, hogy a váltakozó generátort fix frekvenciájú adhasson, a forgási sebességnek állandónak kell lennie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Times New Roman"/>
              </a:rPr>
              <a:t>A maximális hatásfoka elérheti a 90%-ot is. A hatásfok értéke a terheléstől függ, mint minden más turbinánál i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0" name="Vizerőmű6" descr=""/>
          <p:cNvPicPr/>
          <p:nvPr/>
        </p:nvPicPr>
        <p:blipFill>
          <a:blip r:embed="rId1"/>
          <a:stretch/>
        </p:blipFill>
        <p:spPr>
          <a:xfrm>
            <a:off x="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3" name="Pelton%20turbina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Francis-turbina spirális lapátjai. A jobboldali kerék 84 magasról eső vizet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22 MW-nyi teljesítményt ad.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6" name="Vizerőmű7" descr=""/>
          <p:cNvPicPr/>
          <p:nvPr/>
        </p:nvPicPr>
        <p:blipFill>
          <a:blip r:embed="rId1"/>
          <a:stretch/>
        </p:blipFill>
        <p:spPr>
          <a:xfrm>
            <a:off x="0" y="122724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6:47:20Z</dcterms:created>
  <dc:creator>Cech Vilmos</dc:creator>
  <dc:description/>
  <dc:language>en-US</dc:language>
  <cp:lastModifiedBy>Cech Vilmos</cp:lastModifiedBy>
  <dcterms:modified xsi:type="dcterms:W3CDTF">2002-05-08T06:55:01Z</dcterms:modified>
  <cp:revision>9</cp:revision>
  <dc:subject/>
  <dc:title>Víz és szélenergia</dc:title>
</cp:coreProperties>
</file>