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2DB-F0FB-4E6C-B6C7-260F22D0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F42-2A0F-407B-9473-5115BA2A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FE2-1DB7-4923-BB52-FE0533C9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752-6D73-479A-AE51-3CFEE6AA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755-060B-4125-9A63-F06CD88E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C89-4DDC-4E6F-9F5D-84CCF54D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439-D637-41C2-8172-F175B010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2F5-BEA1-45A2-B69F-5CF661C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297-E00F-4692-A4B4-320638B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E22-A04C-4FF3-A981-1905E17C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D49-0671-4905-BD6D-141B6D35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4A3-BFFA-4929-A24A-30DBEE1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364C-23F7-4C41-97BA-35B8214944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öldmérés, térképezés, helymeghatározás, távérzékelés,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érinformatik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öldrajzi információs rendszere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odéziai helymeghatározá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öld alakj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szolút és relatív helymeghatároz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appontok, részletpont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értékek különbözőségére példák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Méret1" descr=""/>
          <p:cNvPicPr/>
          <p:nvPr/>
        </p:nvPicPr>
        <p:blipFill>
          <a:blip r:embed="rId1"/>
          <a:stretch/>
        </p:blipFill>
        <p:spPr>
          <a:xfrm>
            <a:off x="6985080" y="914400"/>
            <a:ext cx="2158920" cy="2133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3640" y="99072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gyiptomi uralkodók rendeletbe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ghatározott méret nagyság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0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4" name="Méret2" descr=""/>
          <p:cNvPicPr/>
          <p:nvPr/>
        </p:nvPicPr>
        <p:blipFill>
          <a:blip r:embed="rId2"/>
          <a:stretch/>
        </p:blipFill>
        <p:spPr>
          <a:xfrm>
            <a:off x="0" y="2438280"/>
            <a:ext cx="2158920" cy="195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345400" y="2352600"/>
            <a:ext cx="40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Henrik király ujjahegyétő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az orráig tartó távolsá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1 yard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228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Méret3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2158920" cy="2413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33720" y="3648240"/>
            <a:ext cx="431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Thomas Jefferson elren-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delte 1790-ben a 10-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számrendszer használatá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96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Méret5" descr=""/>
          <p:cNvPicPr/>
          <p:nvPr/>
        </p:nvPicPr>
        <p:blipFill>
          <a:blip r:embed="rId4"/>
          <a:stretch/>
        </p:blipFill>
        <p:spPr>
          <a:xfrm>
            <a:off x="0" y="4800600"/>
            <a:ext cx="215892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93840" y="5410080"/>
            <a:ext cx="669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z etalon méterrúdról áttértek a hullám-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ossz szerinti méretre. A Kripton-86 ato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arancsvörös hullámhossza = 1,650,763.7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öldkatasz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odézi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udomány a Föld mérésével és a felszínen levő méretek megmér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öldmérő 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birtokrendezési ügyekben eljáró műszaki ember. Budapesten és Kolozsváron nyerhettek képesítést.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ataszteri-, Bánya és föld mérnök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öld(m)értékek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 nagyságra és a hozadékra vonatkozó adatok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Csak Európa fejlettebb országaiba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ataszteri térképek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 kataszteri mérnökök által készített nagyméretű (1:500- 1:5000) birtoktérkép, a lehetséges hozadék értékéve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talajösszetételtől, helyétől, csapadék, és megközelítés függő érték = aranykorona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Közös mértékrendek kialakítás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talon iránti igény.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Hosszúság, terület. Hazánkban 1948-ig a kataszteri és telekkönyvi mérésekben a bécsi ölrendszet használták. Egysége a </a:t>
            </a:r>
            <a:r>
              <a:rPr b="1" i="1" lang="hu-HU" sz="2000" spc="-1" strike="noStrike">
                <a:solidFill>
                  <a:srgbClr val="ffff00"/>
                </a:solidFill>
                <a:latin typeface="Times New Roman"/>
              </a:rPr>
              <a:t>bécsi öl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volt. Továbbosztása hatos rendszerben: Öl hatodrésze a láb, ennek hatoda a hüvelyk, tovább osztva vonal.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 bécsö öl: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,896 4838 méter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terület: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 négyszögöl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3,5966 m2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nagyobb terület: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 kataszteri hold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600 öl2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Más régiók méretrendszerei: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mérföld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1609m, tengeri mérföld 1853,18m és rendetek más alaprendszer (vol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(ISO) International Standard Organisatio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zögmértékek: 360’, katonai 400 vonás stb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Területmeghatározá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Felmért terület mérethelyes ábrázolása, nagyságának kiszámítása, a koordináták transzformálása helyi rendszerből országosb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zintezés: egy útszakasz hossz- és keresztszelvénye-inek felvétele, mérethelyes ábrázolás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zögmérés, távmérés, magasságmérés: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- Teodolit, tahiméter-teodolit használata a gyakorlatba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apműveletek és eszközei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37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ontok megjelöl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gyenesek kitűz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zögkitűző eszközö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zögmér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ávolságmeghatároz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Hosszmérés, távmér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íkgeometria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i alapfogalma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derékszögű koordináta rendszerb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Országos háromszögelési hálóz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Vízszintes alappont meghatároz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agasságméré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Magasság fogal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Magasságmérés módszere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zintez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rigonometrikus magasságmér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Hidrosztatikai szintez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Barométeres magasságmér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ahimetria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Mérés és számít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itűzések - vízszintes és függőleges (épületek, műtárgyak, utak, csatornák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Lézerek a kitűzésb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Fotogrammetria -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lőnye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rgyak, jelenségek térbeli helyzetének, kiterjedésének és méreteinek -mérésre alkalmas- fényképek alapján történő meghatározása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- fényképek készítése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- a geometriai összefüggések adatainak megmérése,    - helymeghatározások és az adatok feldolgozása,       - részletesség átfogó szemléltetés mellett,                   - érzékeli a színeket és az árnyalatokat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- megismételhető mérések, több fotóból folyamatos rajz készíthető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- kevesebb munkaerőt igényel, gyors, időjárástól független, termelékenyebb, automatizálható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Fotogrammetria hátránya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evesebb terepmunkát igényel (illesztőpontok elhelyezése, meghatározása, elemek minősítés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Drága berendezések, mérő-rendszer létesít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rögzített adatok szelekciója, nem kívánt részek szelekciója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ét fajta rögzítés: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Földi és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Légi fotogrammetria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Feldolgozás:  grafikus és numerikus fotogrammet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OR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özösvadászatBarlangrajz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gtörtént vagy tervezett közösségi események ábrázolása, leírása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égi- és űr képrögzíté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zűrőkkel többszínű képrögzítés lehetősége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megfigyelt területek sugárzásának szelektálása, a képek elektrónikus feldolgozás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orábbi képadatokkal összehasonlíthatósága, az eltérések kiemel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Látható-, közeli infra-, távoli infra- és ultraibolya sugárzáskép rögzítése, megfigyel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Lehetőség a pontos - valós térkép készíthetősége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érinformatikai - réteg térkép készít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érinformatika és a globális helymeghatározá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intezett térképek városban épületek, utak, közművek szintbeli és szintalatti vezetése (telefon, kábel TV, csatorna, víz, villany, gáz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ológiai rétegvonalas térképek (szelvények helyet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zőgazdaság számára talajösszetétel kataszter rétegtérké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drogeológiai rétegtérkép, talajvizek és mg.talaj vízháztartás szempontjábó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rmikus vízháztartás régiónként.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globális rendszert megelőző mérési módszerek: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(Rádiós módszerek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rádiós iránymérő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rendszerek a helymeghatározást iránymérés alapján végzik. (II.Világháború ót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OMEGA: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(Amerikai Haditengerészet) A távolságok különbségét a klf.adóállomásokról beérkező jelek fázisai közötti különbségek mérésével határozták meg. (8 földi rádió adóállomássa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LORAN-C: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Már igen pontos atomórák adták a szinkronitást. Az adó által kisugárzott impulzusok beérkezési idejét mérték. Ez a befutott távolságtól függ. Az időkülönbségekből adótól való távolság mérés! A helyzetpontosság </a:t>
            </a:r>
            <a:r>
              <a:rPr b="0" lang="hu-HU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500m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TRANSIT: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hu-HU" sz="2800" spc="-1" strike="noStrike">
                <a:solidFill>
                  <a:srgbClr val="ffff00"/>
                </a:solidFill>
                <a:latin typeface="Times New Roman"/>
              </a:rPr>
              <a:t>Korszerűbb, ballisztikus rakétákhoz.)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A vevő helyzetét a vevő és a műholdak relatív sebességének mérésével -Doppler elv- határozta meg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PS=áttérés a idő és fény sebesség mérésre!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20. sz. elejéig hagyományos tengeri navigációs eszközök kielégítették az igényeke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légi navigáció és a rakétatechnika új megoldásokat követel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hagyományos geodéziai módszerek és eszközök még használatosak a helyi mérésekre.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Kisebb területek mérésér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GPS rendszer a felhasználó helyzetét távolság-mérés alapján határozza meg. Alapfeltétel az </a:t>
            </a: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idő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pontos mérése és az időjelet adó műholdak helyzetének pontos ismeret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0030131pap_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20030131pap_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20030131pap_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0030131pap_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OR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0030131pap_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ar  és Salaam és Tabora közötti karavánút egy Sebatele nevű benszülött rajzán. A pontozott vonalak a tényleges topográfiát jelölik egy modern térkép alapjá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Dar%20es%20Salam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334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OR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20030131pap_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0030131pap_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0030131pap_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0030131pap_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0030131pap_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Bor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0030131pap_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20030131pap_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OR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lima folyó felső vízvidéke, egy jugadir nyírfakéregre készített rajzán.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Kolima%20folyó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20030131pap_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20030131pap_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0030131pap_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20030131pap_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Észak-olaszországi Val Camonicában levő Bedolina melletti, egyetlen sziklafalon ábrázolt térkép síkra vetített képe</a:t>
            </a: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" name="Val%20Caminika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Catal-Hülyük-i (Kis Ázsia, Törökország) „térkép” épület falán (Kr.e.6200)</a:t>
            </a: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Catal-Hülyük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ngliai Stonehenge (Kr.e.1850) alaprajza</a:t>
            </a: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Stonehenge" descr=""/>
          <p:cNvPicPr/>
          <p:nvPr/>
        </p:nvPicPr>
        <p:blipFill>
          <a:blip r:embed="rId1"/>
          <a:stretch/>
        </p:blipFill>
        <p:spPr>
          <a:xfrm>
            <a:off x="914400" y="658800"/>
            <a:ext cx="716292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öldméré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gény a környezet pontosabb ismereté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ulajdoni viszonyok rögzítése, birtok nyilvántart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íz, föld, közösségi területek használatának rendez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ávolságok, területek nagyságának közös mértékkel való mér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gasságok, mélységek megmér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791320"/>
            <a:ext cx="28195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90080" y="5357880"/>
            <a:ext cx="51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eodézia kialaku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érképészeti ismerete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érkép fogalma, ismérvei, osztályozása, térképszerű ábrázolás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érképezés légi és űrfelvételekk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Általános térképek tartalma és ábrázolási módszere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ematikus térképek ábrázolási módszere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atonai térkép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érképészet a mezőgazdaságba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gatlan nyilvántartás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Üzemi földnyilvántart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ámítógépes térképezés AUTO C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05:49:59Z</dcterms:created>
  <dc:creator>Cech Vilmos</dc:creator>
  <dc:description/>
  <dc:language>en-US</dc:language>
  <cp:lastModifiedBy>IATT</cp:lastModifiedBy>
  <dcterms:modified xsi:type="dcterms:W3CDTF">2003-11-05T10:22:21Z</dcterms:modified>
  <cp:revision>19</cp:revision>
  <dc:subject/>
  <dc:title>Földmérés, térképezés, helymeghatározás, távérzékelés, Térinformatika</dc:title>
</cp:coreProperties>
</file>