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D94-F14E-4924-9AF4-442DF08E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C20-2B2B-4DB7-96E0-37CDC8E6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55A-C29C-4088-8D25-8D1A7DE5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3EE-4520-4DAA-91CC-5598C4AB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AA98-FBF0-419D-8F93-BE2BB2D5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C43-ACF3-4480-B570-43DBE0F2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08C-CD01-41CF-8CFC-CBEBF603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540-A467-460D-9A91-8E750886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BC6-8EDA-4888-8F10-BA2964D1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E2A-9717-4590-BF44-0269D1A5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95B-93F4-4FE8-BF61-EDF0ED2D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E87-B61B-4C24-9D35-13390B5E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BF35-749D-4032-B90E-D4BA17944890}" type="slidenum"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ff66"/>
                </a:solidFill>
                <a:latin typeface="Times New Roman"/>
              </a:rPr>
              <a:t>Földmérés</a:t>
            </a:r>
            <a:br>
              <a:rPr sz="6600"/>
            </a:br>
            <a:r>
              <a:rPr b="0" lang="en-US" sz="6600" spc="-1" strike="noStrike">
                <a:solidFill>
                  <a:srgbClr val="99ff66"/>
                </a:solidFill>
                <a:latin typeface="Times New Roman"/>
              </a:rPr>
              <a:t>2.</a:t>
            </a:r>
            <a:endParaRPr b="0" lang="en-US" sz="66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Times New Roman"/>
              </a:rPr>
              <a:t>Szintező asztal használata</a:t>
            </a:r>
            <a:endParaRPr b="0" lang="en-US" sz="44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3962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45" name="Szintezés1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Szintző22" descr=""/>
          <p:cNvPicPr/>
          <p:nvPr/>
        </p:nvPicPr>
        <p:blipFill>
          <a:blip r:embed="rId2"/>
          <a:stretch/>
        </p:blipFill>
        <p:spPr>
          <a:xfrm>
            <a:off x="0" y="358128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49" name="5.%20Mérés%20csónakkal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52" name="10.Távcsöves%20vizszintm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55" name="10.Szintező%20asztalosm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58" name="14.Területkitűzés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61" name="9.Távmérés-kerékkel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1:13:41Z</dcterms:created>
  <dc:creator>Cech Vilmos</dc:creator>
  <dc:description/>
  <dc:language>en-US</dc:language>
  <cp:lastModifiedBy>Cech Vilmos</cp:lastModifiedBy>
  <dcterms:modified xsi:type="dcterms:W3CDTF">2001-08-17T18:39:20Z</dcterms:modified>
  <cp:revision>4</cp:revision>
  <dc:subject/>
  <dc:title>Földmérés 2.</dc:title>
</cp:coreProperties>
</file>