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0B6-89FF-44ED-84E4-325FF685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A77-4814-4F34-A6F5-31E723B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04-439E-44E3-B4C4-2CA9FA45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837-E32F-4122-8F2B-E40B01A5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044-4CAD-499A-9E60-6521A36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39F-59A2-4B58-9AA9-4A96FB4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298-F688-4C03-A430-F461838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42F-84EC-4A66-B211-F72F190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22D-A5AD-476A-92CC-988EEAB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BDE-142A-4264-9826-8A94FB2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286-D554-419A-8A24-3862083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503-0D35-4703-B520-BB7AEE8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AA68-1B84-4FFE-ACB6-DB5519C64809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Világítástechnik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ermészetes és mesterséges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világítás hatása környezetünkben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gyteljesítményű, kettősspirálú halogén-izzólámpák és stúdiók és színpadok világításá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960" y="4343040"/>
            <a:ext cx="937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A lámpák bekapcsolásakor a névleges áram 10-12-szeresét veszik fel. Ez az érték egy 1 kW-os 220 V-os izzó esetében 60-70 A-t is elérhet. Az áramlökés 0,01-2 s alatt esik vissza a névleges értékre. Ezért célszerű a fényforrásokat külön-külön, egymás után, a legnagyobb teljesítményűtől a kisebbek felé sorban bekapcsolni. Igy elkerülhető a hálózat csúcsszerű túlterhelése s a biztosítók kioldása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Izzospirálcső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Színhőmérsékletmérés kék-vörös színintenzitás (arány) alapján. A műszerben két fényelemet helyeztek el, egyik kék, a másik vörös szűrővel láttak el. Normál napfénynél a két fényelem árama egyenlő. A skálára felvihetők a szükséges színkorrekciós szűrő száma, jel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2" name="Szinhőmérsékletmérés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zem érzékel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7fény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5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kásaink leggyakoribb fényforrás elhelyez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8" name="fény12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867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varó tükröződés lehetősé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1" name="Fény13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48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énysűrűség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gvilágítás erősség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4" name="Fény9b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86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ényáram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ényerősség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7" name="Fény9a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8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rmészetes fény leggyakoribb megvilágítás érték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0" name="Fény10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yen körülményektől függ a jó megvilágítá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3" name="Fény1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élda a világítás irányának fontosságá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Fény14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7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izzólámpa felépít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Fény15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496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gvilágítás típusok alkalmazási példákk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9" name="Fény33" descr=""/>
          <p:cNvPicPr/>
          <p:nvPr/>
        </p:nvPicPr>
        <p:blipFill>
          <a:blip r:embed="rId1"/>
          <a:stretch/>
        </p:blipFill>
        <p:spPr>
          <a:xfrm>
            <a:off x="190440" y="1143000"/>
            <a:ext cx="8724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ényáram erőssége a tér különböző része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2" name="Fény3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yhai megvilágításra példá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5" name="Fény40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4914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élda lakástervezés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8" name="Fény41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izzólámpa fénykibocsátása és a hősugárzá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Fény16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emünk érzékenysége és a fényforrás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Fényhulláhossz%20copy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énycsőben lejátszódó folyamat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Fény2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43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agasabb izzítási hőmérsékletet és hosszabb élettartamot lehetővé tevő „halogén körfolyamat”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Fény19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izzószál alakja és a foglalatok helye és formája az alkal-mazástól függenek. Az átlagos szórt fényhez a spirál széthú-zott. A foglalat „Edison” zsinór menetű.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pontszerű, pontos térbeli elhelyezést igénylő fény-források foglalatai bajonett, csapos, lábos megoldású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búrák általában gömb vagy henger alakúak. Soknak </a:t>
            </a: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fényvető, terelő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feladata is van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formának a </a:t>
            </a: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felületi hűtést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is elősegíteni kel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Kvarcüveget nagy hőmér-sékletnél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alkalmazn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0" name="Lámpaformák" descr=""/>
          <p:cNvPicPr/>
          <p:nvPr/>
        </p:nvPicPr>
        <p:blipFill>
          <a:blip r:embed="rId1"/>
          <a:stretch/>
        </p:blipFill>
        <p:spPr>
          <a:xfrm>
            <a:off x="0" y="1295280"/>
            <a:ext cx="4800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z izzószálakat a jobb fénykihasználás céljából kétszeres, ill. háromszoros spirál alakra készítik és helyezik a lámpabúrába.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izzólámpa fény-hasznosítását még csökkenti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gáztöltés okozta vesztesé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búra és a foglalat által elnyelt energia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lektród és tartók hűtőhat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Élettartamgörbe" descr=""/>
          <p:cNvPicPr/>
          <p:nvPr/>
        </p:nvPicPr>
        <p:blipFill>
          <a:blip r:embed="rId1"/>
          <a:stretch/>
        </p:blipFill>
        <p:spPr>
          <a:xfrm>
            <a:off x="0" y="1828800"/>
            <a:ext cx="518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fényhasznosítás a nagyobb molekulasúlyú gázok esetében kedvezőb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Fényhasznositás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3:10:01Z</dcterms:created>
  <dc:creator>Cech Vilmos</dc:creator>
  <dc:description/>
  <dc:language>en-US</dc:language>
  <cp:lastModifiedBy>Cech Vilmos</cp:lastModifiedBy>
  <dcterms:modified xsi:type="dcterms:W3CDTF">2001-08-09T05:18:07Z</dcterms:modified>
  <cp:revision>9</cp:revision>
  <dc:subject/>
  <dc:title>Megvilágitástechnika</dc:title>
</cp:coreProperties>
</file>