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8B7-DF96-45CC-B26A-CBB47AB8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DFA-6F11-42ED-B73B-AA48EAB4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F9E-A1D5-42C7-9772-EFDE9C87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A7C-B2FC-4B4C-BA74-78C9A576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37A-8D6F-41BA-BF60-6DCDC7D0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81A-A490-4C3F-BB44-13582C31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A20-7095-4A3D-AC21-58B3F22D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9F4-AEED-46CC-92BF-83BE1975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71E4-3C93-4BB8-A14B-2E6CF936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3FD-5FDA-408D-933C-A9A7FD91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3FB-66B9-4AF3-97B0-EC251577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A71-1A2A-4C61-8FFD-1B92C7FD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9197-9954-41C7-8D16-94B6E101F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Állatnemesíté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Húsmarhánál: „body building”-es küls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belga keresztezésű fehér-kék fajtához a hentesek is más módon nyúlnak hozzá: az izomcsoportokat az izompólyáknál választják szét. Eredmény nagyméretű elsőosztályú húsválaszté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z belga húsmarha igazi értéke: nagyobb (75-80%) színhús, csont kisebb arányú (13-15%), az izmok közötti faggyú is kisebb (4-6%). A hús szárazanyag tartalma kisebb, de vízmegtartó képessége jó, rostozata finom, fehérjetartalom hasonló a másokéhoz, és kevés a zsírtartal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96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Duplafarumarha1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lga fehér-kék fajta borjú, különleges izomzattal, csontozata erős, hizlalhat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38320" y="990720"/>
            <a:ext cx="3505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Más fajtákkal ke-resztezve csökken a császármetszéses ellés és a húsának faggyúzottsága. A tehenet fejni már nem lehet, teje csak a borjának nevelé-séhez elég. Elléskor a borjú súlya 44 kg  15-17 hónapos korára a bikaborjú eléri a 700 kg-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uplafarumarha2" descr=""/>
          <p:cNvPicPr/>
          <p:nvPr/>
        </p:nvPicPr>
        <p:blipFill>
          <a:blip r:embed="rId1"/>
          <a:stretch/>
        </p:blipFill>
        <p:spPr>
          <a:xfrm>
            <a:off x="0" y="984240"/>
            <a:ext cx="59436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nemesítés fő szempontjai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aporíthatóság biológiai, egészségügyi és infrastruktúra igén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lenállóképesség fokozása betegségekkel szem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rmészeti körülményekhez jobb viszonyu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akarmányértékes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dukció (tojás, hús, máj) hozam tulajdonságainak illeszkedése a „fizető” igényekhez (gazdaságossága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dukció szállíthatósága, tartósíthatósága és egyéb piaci szempont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aromfipár" descr=""/>
          <p:cNvPicPr/>
          <p:nvPr/>
        </p:nvPicPr>
        <p:blipFill>
          <a:blip r:embed="rId1"/>
          <a:stretch/>
        </p:blipFill>
        <p:spPr>
          <a:xfrm>
            <a:off x="685800" y="0"/>
            <a:ext cx="762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Példa a hibridekre: Bóly Rt. Baromfiüzeme hírdetésébő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19920" y="914400"/>
            <a:ext cx="3200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Shaver 288 jel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ojástermelés beólazott tojóra: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  -12 hó alatt 305 toj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Átlagos tojástömeg: 60,5 - 62,5 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gy tojásra felhasznált takarmány:  130 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ojóhibrid1" descr=""/>
          <p:cNvPicPr/>
          <p:nvPr/>
        </p:nvPicPr>
        <p:blipFill>
          <a:blip r:embed="rId1"/>
          <a:stretch/>
        </p:blipFill>
        <p:spPr>
          <a:xfrm>
            <a:off x="0" y="905040"/>
            <a:ext cx="63244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2. Példa a hibridekre: Bóly Rt. Baromfiüzeme hírdetésébő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23920" y="914400"/>
            <a:ext cx="4419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Shaver 579 jel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ojástermelés beólazott tojó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12 hónapos termelés alatt 300 - 305 toj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Átlagos tojás súly: 63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Egy tojásra felhasznált takarmány 144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Times New Roman"/>
              </a:rPr>
              <a:t>Forrás:Magyar baromfi 1997.januá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Tojóhibrid2" descr=""/>
          <p:cNvPicPr/>
          <p:nvPr/>
        </p:nvPicPr>
        <p:blipFill>
          <a:blip r:embed="rId1"/>
          <a:stretch/>
        </p:blipFill>
        <p:spPr>
          <a:xfrm>
            <a:off x="0" y="914400"/>
            <a:ext cx="4932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2392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2. Példa a hibridekre: Bóly Rt. Baromfiüzeme hírdetésébő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2952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Shaver star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42 napos élőtömeg 2,2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49 napos élőtömeg 2,5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ajlagos takarmány-fel-használás: 1,8 - 2,0 kg/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ojóhibrid3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endel-féle öröklési törvényszerűségek ismeretében sikerült különböző tulajdonságú állatfajtákat kitenyészt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ibák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öfi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770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6329520"/>
            <a:ext cx="35211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ússertéstenyész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rábban több hasznosítású igények: Igavonó - tejet - húst adó szarvasmar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Évszázadokkal ezelőtt: szarvasmarha csordákat lábon hajtottak Ny-Európa nyugati országaiba: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szürkemar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múlt században átvette helyét a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magyar tarka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asznosítás szerinti szakosodás, teljesítmény növelés: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tejelő holstein-friz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Mai igények: Nagyteljesítményű tejelő fajták vagy csak minőségi és mennyiségi húst biztosító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gazdaságos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ajtá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lőrelépés csak a genetikai tulajdonságok ismeretében előállított új fajták természetes és mesterséges keresztezésével lehetség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2:00:09Z</dcterms:created>
  <dc:creator>Cech Vilmos</dc:creator>
  <dc:description/>
  <dc:language>en-US</dc:language>
  <cp:lastModifiedBy>Cech Vilmos</cp:lastModifiedBy>
  <dcterms:modified xsi:type="dcterms:W3CDTF">2002-10-15T06:01:13Z</dcterms:modified>
  <cp:revision>8</cp:revision>
  <dc:subject/>
  <dc:title>Állatnemesítés</dc:title>
</cp:coreProperties>
</file>