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489-677D-40AC-B2F2-FB95338B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9E2-29D7-4492-9945-6173E2EB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59D-D1B2-4BA7-AF8C-FCE7E391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6F8-9916-4FF3-8C4C-DEEB60CF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5E4-7B21-4712-9090-8583BE3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431-316D-4D64-BA05-A3E434E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DAB-1274-4E97-A381-2D8A736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774-7ADB-4053-A93D-A7D97359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4A5-8653-44C5-AE76-2DCC1916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0F7-93E8-4A82-9A93-5559187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523-5E9B-4B86-8D49-4320A28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D61-251E-4AD4-B1FA-DB00783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E595-354F-4975-A787-A3329075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otecnológia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z állattenyésztés technológiai lépés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66680" y="1371240"/>
            <a:ext cx="0" cy="3809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1814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572000"/>
            <a:ext cx="457200" cy="45720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886200"/>
            <a:ext cx="457200" cy="45720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200400"/>
            <a:ext cx="457200" cy="45720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514600"/>
            <a:ext cx="457200" cy="45720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1905120"/>
            <a:ext cx="457200" cy="45720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élszerű egyedkiválasz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86200"/>
            <a:ext cx="70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ruházás, fenntartás, amortiz.,(ólak, itatók, etető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ápok, vitaminok költség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gészségügyi ellenőrzés, megelőzés k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905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tnevelés, munkabér, szállítási k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ústermelés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pl.: Sertéshú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924840" y="2601360"/>
            <a:ext cx="30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ltségek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alacfej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905120" cy="1481040"/>
          </a:xfrm>
          <a:prstGeom prst="rect">
            <a:avLst/>
          </a:prstGeom>
          <a:ln w="0">
            <a:noFill/>
          </a:ln>
        </p:spPr>
      </p:pic>
      <p:pic>
        <p:nvPicPr>
          <p:cNvPr id="97" name="Malacok" descr=""/>
          <p:cNvPicPr/>
          <p:nvPr/>
        </p:nvPicPr>
        <p:blipFill>
          <a:blip r:embed="rId2"/>
          <a:stretch/>
        </p:blipFill>
        <p:spPr>
          <a:xfrm>
            <a:off x="0" y="5229360"/>
            <a:ext cx="2362320" cy="1628640"/>
          </a:xfrm>
          <a:prstGeom prst="rect">
            <a:avLst/>
          </a:prstGeom>
          <a:ln w="0">
            <a:noFill/>
          </a:ln>
        </p:spPr>
      </p:pic>
      <p:pic>
        <p:nvPicPr>
          <p:cNvPr id="98" name="Tehénboci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1585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lléktermékek 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Szőr, bőr, vér, csont, zsír, bél,…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8560" y="2133720"/>
            <a:ext cx="656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úsfeldolgozá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35812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Félkésztermékek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(félserté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560" y="4724280"/>
            <a:ext cx="6562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észtermékek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onk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alám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olbás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onzerv,…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62320" y="1295280"/>
            <a:ext cx="0" cy="914400"/>
          </a:xfrm>
          <a:prstGeom prst="line">
            <a:avLst/>
          </a:prstGeom>
          <a:ln w="7632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191120"/>
            <a:ext cx="0" cy="685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alacfej" descr=""/>
          <p:cNvPicPr/>
          <p:nvPr/>
        </p:nvPicPr>
        <p:blipFill>
          <a:blip r:embed="rId1"/>
          <a:stretch/>
        </p:blipFill>
        <p:spPr>
          <a:xfrm>
            <a:off x="7010280" y="35053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z ökoszisztéma Shankey diagram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isszipáció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mezőgazdaság fontosabb tényezőinek hatása a technológiá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lapvető tényezők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 - Természeti erőforrások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- Mezőgazdasági eredetű forgóeszközök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Folyamatos ráfordítá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- Ipari eredetű állóeszközök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egyszeri felh. éves terhei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- Mezőgazdasági eredetű állóeszközö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egyszeri felhasználás éves terhei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- Humán tényező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829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zőgazdasá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yümölcsterm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Egyéni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mel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Folyamatos termés biztosítá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rdeke (Saját célr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Széles íz, zamat, méret választék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Vékony héj stb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gyüzem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termel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Egyszerre érjen be a term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rdek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A termés egyforma nagyságú,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ízű stb. legyen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Jól tűrjék a betakarító gépek,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   rendszerek, szállítás igény-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   bevételei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paprika, meggy,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 szilva, szőlő, paradics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914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286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286000"/>
            <a:ext cx="6858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86000"/>
            <a:ext cx="2286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8098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9625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114800"/>
            <a:ext cx="9903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udományos technikai korszakváltás a mezőgazdaságba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játosságai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7632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. A termelést ökológiai viszonyok befolyásoljá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talaj összetéte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miai érté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iológiai érté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izikai állapottól függ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gnagyobb nemzeti kincsünk!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. A biológiai élőlények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genetikai kapacit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 3.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növényekben, állatfajtákban rejlő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potenciális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lehetősé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ipari eredetű termékek alkalmazása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4. A termelőfolyamat elszakad a munkafolyamatoktól.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munkacsúcsok tervezhető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 eltolódnak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. Az élelmiszer termelők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differenciált természet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iszonyok között gazdálkodna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98108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98108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981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arszerű komplex termesztés-tartási technológiák kerülnek előtérb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redménye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vább csökken a természeti tényezők káros hatás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ban alkalmazkodó növény és állatfajták (hibridek) jelennek m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echnika korszerűbb eszközeivel kedvezőbb a termelési környezet, - feltétel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korrép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Rendsz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05280" y="761760"/>
            <a:ext cx="9448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gja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pró, kevés tápanyagot tartalmaz az induláshoz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Biotechnológia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 nemesített magot táppal és növényvédő-szerrel veszik körül. A „golyót” az optimális mélységbe „lövik”. A kezdeti nehézségeken a „hozott” anyagok átsegíti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erős egyedek!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Biztosabb a termé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Célgépe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 betakarításban, tárolásban, és a feldolgozás során. Eredmény: 15%-ot meghaladó cukortartalom,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5,3-5,6 t  cukor hektáronként!)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rtékes melléktermékek: takarmány több formá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z energiatartalmat tekintve 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cukorrépa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előnyben va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hibridkukoricá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val és a 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burgonyá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val szemben is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4320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Times New Roman"/>
              </a:rPr>
              <a:t>Sertéshús</a:t>
            </a:r>
            <a:r>
              <a:rPr b="1" lang="hu-H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„vertiku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81240" y="838080"/>
            <a:ext cx="9753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I. Szaporítóanyag tenyészt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egújabb kutatási eredmények alapján „hibrid”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más kedvező tulajdonságú fajták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II. Sertéshizlalá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alaptakarmány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keményítő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kukorica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gabona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Pl.: 10 éve: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A KAHYB-magyar fajta= 1 kg élősúly 3 kg takarmányból! 5 és fél hónapos korára 100 kg-os vágósúly 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III. Vágóhidak, feldolgozó üzemek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yors, szalagrendszerű,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zár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 higénikus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technológia!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A csatlakozó üzemekben is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nagy technológiai fegyelem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Hűtőtárolók, raktárak, segédüzemek, csomagolás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638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Malacfej" descr="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Malacok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7528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. Húsellátási szervez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80880" y="1142640"/>
            <a:ext cx="952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űtőlánc! Tárolók, pultok, háztartási hűtőszekrény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. Külkereskede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ágóálla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 félsertése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 feldolgozott termékek: sonka, kolbász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alámi, konzerv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tényező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technológiai eredménye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szerű feldolgozó rendszere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szerű csomagolás, tár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76920"/>
            <a:ext cx="533520" cy="53316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410080"/>
            <a:ext cx="533520" cy="5335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867280"/>
            <a:ext cx="533160" cy="5335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6324480"/>
            <a:ext cx="533520" cy="5335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412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79132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624852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1:04Z</dcterms:created>
  <dc:creator>Cech Vilmos</dc:creator>
  <dc:description/>
  <dc:language>en-US</dc:language>
  <cp:lastModifiedBy>Cech Vilmos</cp:lastModifiedBy>
  <dcterms:modified xsi:type="dcterms:W3CDTF">2002-10-15T06:10:33Z</dcterms:modified>
  <cp:revision>3</cp:revision>
  <dc:subject/>
  <dc:title>Biotecnológia II.</dc:title>
</cp:coreProperties>
</file>