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26B0-BFD5-45B5-80F9-B5C30A0C4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6831-6317-4902-B6DC-BF43A1426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330D-4CE9-4320-AB74-BE0DDB47E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240D-30ED-47DB-AC05-1B2AD7F35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0B39-4F80-457F-AE03-DB7F51A09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9C12-3189-4C4B-BD24-3D97ED845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8CA0-EC0E-44DB-A50C-8DD377904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9287-2922-4B94-A29B-CA4B2BF96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3C39-FC21-4EE8-93A7-E9780B785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B5EB-66B1-4885-9207-8C0814FF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E9D7-B9DC-4E78-89A0-DC14CBB7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4827-FF21-410E-AFA6-082149E4C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B719F-A7A9-40A1-9EBF-D579ABF71A1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ff00"/>
                </a:solidFill>
                <a:latin typeface="Times New Roman"/>
              </a:rPr>
              <a:t>Földmérés</a:t>
            </a:r>
            <a:br>
              <a:rPr sz="6600"/>
            </a:br>
            <a:endParaRPr b="0" lang="en-US" sz="66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400" spc="-1" strike="noStrike">
                <a:solidFill>
                  <a:srgbClr val="00ff00"/>
                </a:solidFill>
                <a:latin typeface="Times New Roman"/>
              </a:rPr>
              <a:t>827.  </a:t>
            </a:r>
            <a:r>
              <a:rPr b="0" lang="hu-HU" sz="3200" spc="-1" strike="noStrike">
                <a:solidFill>
                  <a:srgbClr val="00ff00"/>
                </a:solidFill>
                <a:latin typeface="Times New Roman"/>
              </a:rPr>
              <a:t> Al Ma’mun bagdadi kalifa rendeletére a Tadmur sivatagban arab csillagászok méréseket végeztek gnomon megfigyelések útján, hogy a Föld nagyságát meghatározzák. </a:t>
            </a:r>
            <a:r>
              <a:rPr b="0" lang="hu-HU" sz="4400" spc="-1" strike="noStrike">
                <a:solidFill>
                  <a:srgbClr val="00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5" name="3.Kitűzés,arabok" descr=""/>
          <p:cNvPicPr/>
          <p:nvPr/>
        </p:nvPicPr>
        <p:blipFill>
          <a:blip r:embed="rId1"/>
          <a:stretch/>
        </p:blipFill>
        <p:spPr>
          <a:xfrm>
            <a:off x="0" y="2438280"/>
            <a:ext cx="91440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8" name="7.Római%20szintkijelölés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04920" y="-360"/>
            <a:ext cx="975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Times New Roman"/>
              </a:rPr>
              <a:t>Katonai térképezés Szigetvár körzetében</a:t>
            </a:r>
            <a:endParaRPr b="0" lang="en-US" sz="44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1" name="8.Vármérés-gromával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Times New Roman"/>
              </a:rPr>
              <a:t>1806-63.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Az ország felmérése katonai szervezettel.</a:t>
            </a: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4" name="1.Szintezés,%20katona" descr=""/>
          <p:cNvPicPr/>
          <p:nvPr/>
        </p:nvPicPr>
        <p:blipFill>
          <a:blip r:embed="rId1"/>
          <a:stretch/>
        </p:blipFill>
        <p:spPr>
          <a:xfrm>
            <a:off x="0" y="914400"/>
            <a:ext cx="93726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7" name="10.Magasságmérés,%20továbbm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Times New Roman"/>
              </a:rPr>
              <a:t>1786-90.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Az u.n. II. József-féle gazdasági felmérés. Derékszög kitűzése a kereszttáblával</a:t>
            </a: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0" name="10.Szintezős%20kijelölés%20rúddal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Times New Roman"/>
              </a:rPr>
              <a:t>Folyómeder felméréshez használt távcsöves szintmérő műszer, mérőléc </a:t>
            </a:r>
            <a:endParaRPr b="0" lang="en-US" sz="44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3" name="4.Mérés%20távcsővel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ff00"/>
                </a:solidFill>
                <a:latin typeface="Times New Roman"/>
              </a:rPr>
              <a:t>1717-ben </a:t>
            </a:r>
            <a:r>
              <a:rPr b="0" lang="hu-HU" sz="3200" spc="-1" strike="noStrike">
                <a:solidFill>
                  <a:srgbClr val="00ff00"/>
                </a:solidFill>
                <a:latin typeface="Times New Roman"/>
              </a:rPr>
              <a:t>lezajlott kun betörés után az erdélyi szorosok megerősítése végett elrendelték azok feltérképezését. Műszerük asztrolábium volt.</a:t>
            </a:r>
            <a:r>
              <a:rPr b="0" lang="hu-HU" sz="4400" spc="-1" strike="noStrike">
                <a:solidFill>
                  <a:srgbClr val="00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6" name="6.Mérés%20gromával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0:31:48Z</dcterms:created>
  <dc:creator>Cech Vilmos</dc:creator>
  <dc:description/>
  <dc:language>en-US</dc:language>
  <cp:lastModifiedBy>User</cp:lastModifiedBy>
  <dcterms:modified xsi:type="dcterms:W3CDTF">2001-06-21T07:41:48Z</dcterms:modified>
  <cp:revision>7</cp:revision>
  <dc:subject/>
  <dc:title>Földmérés </dc:title>
</cp:coreProperties>
</file>