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C3D-3D62-45E3-AC89-52DB0179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E6E-84A3-48E8-9DEA-9A26B77B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D1A-9774-42B0-8BE7-6A9CD2EE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7CD-3B76-465F-91A8-07165BCE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2B8-0BC1-4181-B6F8-3A72FF91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ACC-40DF-41FC-BB9D-CB586CBC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5B0-FC6A-4F18-827D-D9DD8A6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260-1E14-473E-8051-00668712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5FA-F13A-4252-B9CA-48D783ED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0CB-409C-4E8B-B5FB-55208C23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BFE-303F-4FA0-8C21-9F8D4155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0D8-CF69-4DBC-8B0A-ED30953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C0C5-F384-483F-AC99-3365CC4E51A5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Times New Roman"/>
              </a:rPr>
              <a:t>Erőművek működése</a:t>
            </a:r>
            <a:endParaRPr b="0" lang="en-US" sz="7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TOKAMAK plazmaté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7" name="TOKAMAKbelső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zénpor tüzelésű erőmű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80880" y="1142640"/>
            <a:ext cx="2209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0,2 mm át-mérőjű fi-nom szén szemcsék levegővel keverve égethetők. Az égetési hőmérséklet magasabb (1200 </a:t>
            </a:r>
            <a:r>
              <a:rPr b="1" lang="hu-HU" sz="2400" spc="-1" strike="noStrike">
                <a:solidFill>
                  <a:srgbClr val="ffff66"/>
                </a:solidFill>
                <a:latin typeface="Symbol"/>
                <a:ea typeface="Symbol"/>
              </a:rPr>
              <a:t>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C) Csak nagy ipari kazánoknál gazdaságos!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0" name="Kazán%201" descr=""/>
          <p:cNvPicPr/>
          <p:nvPr/>
        </p:nvPicPr>
        <p:blipFill>
          <a:blip r:embed="rId1"/>
          <a:stretch/>
        </p:blipFill>
        <p:spPr>
          <a:xfrm>
            <a:off x="1752480" y="1181160"/>
            <a:ext cx="73915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99"/>
                </a:solidFill>
                <a:latin typeface="Times New Roman"/>
              </a:rPr>
              <a:t>Fluidágyas kazán: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81240" y="1295280"/>
            <a:ext cx="2895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10 mm-nél kisebb szénszemcsék égnek el a felfelé irányuló légáram-ban. A szénpor tüzeléshez képest alacsonyabb az égéshőmérséklet. Ezáltal kisebb a nitrogénoxidok képződése ezzel a savasesők keletkezése is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3" name="Kazán%202" descr=""/>
          <p:cNvPicPr/>
          <p:nvPr/>
        </p:nvPicPr>
        <p:blipFill>
          <a:blip r:embed="rId1"/>
          <a:stretch/>
        </p:blipFill>
        <p:spPr>
          <a:xfrm>
            <a:off x="2362320" y="1271520"/>
            <a:ext cx="67816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81240" y="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99"/>
                </a:solidFill>
                <a:latin typeface="Times New Roman"/>
              </a:rPr>
              <a:t>Villamosáram szállítása a felhasználás helyér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6" name="Erőműtőlfelh" descr=""/>
          <p:cNvPicPr/>
          <p:nvPr/>
        </p:nvPicPr>
        <p:blipFill>
          <a:blip r:embed="rId1"/>
          <a:stretch/>
        </p:blipFill>
        <p:spPr>
          <a:xfrm>
            <a:off x="0" y="990720"/>
            <a:ext cx="9215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5" name="Atomeuban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8" name="Atomeuban1" descr=""/>
          <p:cNvPicPr/>
          <p:nvPr/>
        </p:nvPicPr>
        <p:blipFill>
          <a:blip r:embed="rId1"/>
          <a:stretch/>
        </p:blipFill>
        <p:spPr>
          <a:xfrm>
            <a:off x="0" y="1143000"/>
            <a:ext cx="900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Mindkét reaktor nyomástartó edénybe zártan biztonságosan működik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A primér körből a hőt nátrium közeggel vezetik el a szekunder körbe ahonnan a 3. hűtőkört jelentő gőzgenerátorra vezetik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Víz moderátorral (neutron lassításra) működik, a hőelvezetés a nyomás alatt levő szekunderköri vízzel történik a generátorra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1" name="Reaktortipusok1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Atomeuban3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99"/>
                </a:solidFill>
                <a:latin typeface="Times New Roman"/>
              </a:rPr>
              <a:t>Nyomottvizes reakto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fűtéstechnika egyik legutóbbi nagy műszaki eredménye a túlhevített víz alkalmazása, amikor  a víz-körfolyamatban  nagy nyomás létrehozásával állandóan  folyadék állapotban lehet tartani a vizet 100 </a:t>
            </a:r>
            <a:r>
              <a:rPr b="0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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C felett is. Ezt alkalmazták sok atomreaktor hűtésénél is és a víz reaktorban való melegítésénél. Ezeket nevezik un. Nyomottvizes reaktoroknak. Az eljárást gyakran használják ipari fűtés rendszereknél is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z aktív zónában keletkező hőt a forrás megakadályozására nyomás alatt tartják, hőtartalmát a szekunderkörnek adják át hőcserélőn ahol a gőz képződik, amit a turbina fokozatokra vezetnek.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Reaktortipusok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99"/>
                </a:solidFill>
                <a:latin typeface="Times New Roman"/>
              </a:rPr>
              <a:t>Szabályozott termonukleáris fúzió egyik típusa a Tokamak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8088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A </a:t>
            </a:r>
            <a:r>
              <a:rPr b="1" i="1" lang="hu-HU" sz="2800" spc="-1" strike="noStrike">
                <a:solidFill>
                  <a:srgbClr val="ffff66"/>
                </a:solidFill>
                <a:latin typeface="Times New Roman"/>
              </a:rPr>
              <a:t>fúzió alapelve:</a:t>
            </a: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 Két könnyű atommag összeépülése, fúziója során nagyobb atommag jön létre, nagy energia felszabadulás mellett. A két atommagot közel kell vinni egymáshoz, hogy a vonzóerő legyőzze a taszítóerőt. A protonok hőmozgását növelik a taszítás legyőzésére. Több millió fokos hőmérséklet keletkezik, a plazmaállapot. A plazmát fenn kell tartani, lesugározni olyan hőmérsékletre, hogy a berendezés anyagai már kibírják. A nagy hőmér-sékletű plazmát mágneses térben lebegtetik és fenntartják amíg a sugárzott energia elvezethető. Nehéz a folyamatos energia sugárzás fenntartása. A berendezés tórusz alakú, tekercsekkel mágneses tér létesítése és fokuszált fenntartá-sa együttesen jelenti az energia termelés végleges megoldását.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OKAMAK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4" name="Tokamak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1T13:16:23Z</dcterms:created>
  <dc:creator>Cech Vilmos</dc:creator>
  <dc:description/>
  <dc:language>en-US</dc:language>
  <cp:lastModifiedBy>Cech Vilmos</cp:lastModifiedBy>
  <dcterms:modified xsi:type="dcterms:W3CDTF">2002-10-21T19:48:11Z</dcterms:modified>
  <cp:revision>7</cp:revision>
  <dc:subject/>
  <dc:title>Erőművek működése</dc:title>
</cp:coreProperties>
</file>