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5A0-2F40-47CD-9FA7-B0671C95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51A-4700-464D-9269-7D7D8A26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42A-D4D8-47D5-818D-0EAB7117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B91-BA87-4ACA-8C6B-A823A52E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83E-951C-42C3-85BF-702035E4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6F9-C50C-460D-9BC7-6CDB2B95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0D4-0576-45E7-8D1D-41D770D4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284-6ADD-4EC2-AAD2-93E4B2BA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D1A-04F5-4DFC-8D5E-0A4B8CEA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37A-25BB-4B46-B846-9F85C3DA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4FF-2E54-4825-85E5-A1685EB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110-4232-4919-96DA-B109642E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EDD0-9F44-4CC1-A270-7417434D3D81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99"/>
                </a:solidFill>
                <a:latin typeface="Times New Roman"/>
              </a:rPr>
              <a:t>Vízenergia 2.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99"/>
                </a:solidFill>
                <a:latin typeface="Times New Roman"/>
              </a:rPr>
              <a:t>Nagy vízmennyiségre, kisebb esésre épített gát-erőmű rendszer Kaplan turbinával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5" name="Vizerőmű8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Kisebb vízmennyiségre (7 500m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/perc) létesített duzzasztó és áramfejlesztő rendszer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8" name="Vizerőmű9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Svájci víztározó a gát fölött.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285 m magasságú összegyűjtött víztömeg rugalmasan engedhető az áramfejlesztőkre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1" name="Vizerőmű10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Times New Roman"/>
              </a:rPr>
              <a:t>A németországi Mosel folyót Trier és Koblenz között 10 vízlépcsővel energiatermelésre és  víziszállításra hasznosítják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4" name="Vizlépcső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975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A gát és vízerőmű rendszer max. 400 m</a:t>
            </a:r>
            <a:r>
              <a:rPr b="1" lang="hu-HU" sz="28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/s vízárammal. A vízszint különbség összesen 70 m, amit a 10 lépcsőn 6-9m-es esésekkel hasznosítanak</a:t>
            </a:r>
            <a:r>
              <a:rPr b="0" lang="hu-HU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7" name="Vizlépcső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Vizlépcső2" descr=""/>
          <p:cNvPicPr/>
          <p:nvPr/>
        </p:nvPicPr>
        <p:blipFill>
          <a:blip r:embed="rId2"/>
          <a:stretch/>
        </p:blipFill>
        <p:spPr>
          <a:xfrm>
            <a:off x="0" y="4191120"/>
            <a:ext cx="9144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43600" y="-360"/>
            <a:ext cx="3200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Víztárolós, csúcsra járó erőmű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62360" y="2209680"/>
            <a:ext cx="3733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Tóból vagy folyóból energia többlet idején magasan lévő tárolóba szivattyúzzák a vizet, amit a csúcsigény idején a turbinákra engednek. 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 Tó vagy folyó. 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 Tá-rozó felső tó 165 m-en  </a:t>
            </a: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3.</a:t>
            </a: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 Ejtőcső-rendszer, alján turbinaházzal és a  150 MW-nyi teljesítmé-nyű generátorokkal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1" name="Vizerőmű11" descr=""/>
          <p:cNvPicPr/>
          <p:nvPr/>
        </p:nvPicPr>
        <p:blipFill>
          <a:blip r:embed="rId1"/>
          <a:stretch/>
        </p:blipFill>
        <p:spPr>
          <a:xfrm>
            <a:off x="0" y="-81000"/>
            <a:ext cx="5943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19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Tározós erőmű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38680" y="121896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Csúcserőmű a Thüringiai hegy-oldalo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Az erőmű csúcstelje-sítménye 392 MW.  A gyors felfuttatása a gyorsan változó igényeket kielégíti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99"/>
                </a:solidFill>
                <a:latin typeface="Times New Roman"/>
              </a:rPr>
              <a:t>A hagyományos erőművek nem képe-sek gyorsan reagálni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4" name="Vizerőmű12" descr=""/>
          <p:cNvPicPr/>
          <p:nvPr/>
        </p:nvPicPr>
        <p:blipFill>
          <a:blip r:embed="rId1"/>
          <a:stretch/>
        </p:blipFill>
        <p:spPr>
          <a:xfrm>
            <a:off x="0" y="0"/>
            <a:ext cx="607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6:50:54Z</dcterms:created>
  <dc:creator>Cech Vilmos</dc:creator>
  <dc:description/>
  <dc:language>en-US</dc:language>
  <cp:lastModifiedBy>Cech Vilmos</cp:lastModifiedBy>
  <dcterms:modified xsi:type="dcterms:W3CDTF">2002-10-08T13:50:47Z</dcterms:modified>
  <cp:revision>9</cp:revision>
  <dc:subject/>
  <dc:title>Vízenergia 2.</dc:title>
</cp:coreProperties>
</file>