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BA5-241C-4CDD-9F29-BCF4C1D1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DFA-F021-477E-B9FB-CA70B73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224-341F-4965-AC0D-918014F1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63B-5B78-4DB1-ABF6-0492CC5D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A44-073D-4FDE-BBB1-53C62E40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CBE-5F5E-495C-95EC-69946B94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6BE-13FE-42D0-A36D-2CF9520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BD-FB26-4689-9DB3-381BAF4F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887-2C3D-439E-8524-F71CDE24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771-B7D1-4DA0-BB08-8C3EF0A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B00-99F9-407F-823C-58F6998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6E8-C193-4037-805D-169D035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C3BC-42E6-47BC-BD76-910BD0DB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Biotechnológ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echnikaszakos  hallgatók rész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Irta és összeállította: Cech Vi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ész és az egés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981080"/>
            <a:ext cx="4724280" cy="4191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590920"/>
            <a:ext cx="2438280" cy="2514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895480"/>
            <a:ext cx="3352680" cy="243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895480"/>
            <a:ext cx="2895480" cy="259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819520"/>
            <a:ext cx="2666880" cy="2514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2438280" cy="22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124080"/>
            <a:ext cx="2895840" cy="243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895480"/>
            <a:ext cx="2819160" cy="2514600"/>
          </a:xfrm>
          <a:prstGeom prst="ellipse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200400"/>
            <a:ext cx="236232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429000"/>
            <a:ext cx="1828800" cy="1752480"/>
          </a:xfrm>
          <a:prstGeom prst="ellipse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4495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962520"/>
            <a:ext cx="11430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3886200"/>
            <a:ext cx="1066680" cy="1066680"/>
          </a:xfrm>
          <a:prstGeom prst="ellipse">
            <a:avLst/>
          </a:prstGeom>
          <a:solidFill>
            <a:srgbClr val="ff00ff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lettudomá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981080"/>
            <a:ext cx="2514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iotechnológi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(bioipari technológi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2838600"/>
            <a:ext cx="22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kuláris  bioló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352680"/>
            <a:ext cx="182880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440" y="400356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énmérnök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47920" y="3809520"/>
            <a:ext cx="1981080" cy="30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504828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énrekombináció rekombináns 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52480" y="4419720"/>
            <a:ext cx="22100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562720" y="2743200"/>
            <a:ext cx="2209680" cy="13716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Újabb terület a biotechnológia területén: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énsebész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énsebészet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ológi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ársadalom - Biotechnoló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rténeti áttekint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 szakas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kológ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ermészet, térkitöl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nyezetvédelem (egyensúlyzava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technológi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vostudományb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llattenyésztésben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övénytermesztés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robiológiáb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technológiai eljárások és az üzem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3809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80988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88620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962520"/>
            <a:ext cx="1295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047760" y="3809880"/>
            <a:ext cx="7596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lógia - Társadalom - Biotechnoló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egfigyelés és rendszerez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XIX. sz. közepéi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Kísérletez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1944 [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ver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] -ig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Eredmények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Anyagcsere folyamatok, mint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miai folyamatok leírása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Vitaminok és más táplálkozási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aktorok megismerése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Vírusok felfedezése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z emberi test normális és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órtani megismer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Érthetővé válta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Szaporo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Mozg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Érzék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Ingerléken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klf. sejtek anyagcseréjével összefüggő mérhető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enség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szonként jelentkeztek a fejlett országokb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Új és ismert betegségek felismerése, kezelése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pl.: diabétes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orvosi diagnosztika fejlődése (mikrobiológia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kémia, sejttan, röntgen st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nemi betegségek megfékezé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szulfonamid származékok bevezetése (aszpirin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helyes táplálkozási normák kidolgozás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növény és állattenyésztés tudományos alapokra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ezé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mortalitás csökkent, egészségesebb életmó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ejtkép kialakulása a sejt felfedezésétől napjaink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ikroszkópfejl.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753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a molekuláris biológia kialakulá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953 - 197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53-ban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tso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c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DNS elmé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1950 - 60-as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 évek eredményei: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feloldóképesség növekedése!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Fénymikroszkóp,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Elektronmikroszkóp,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Röntgen-diffrakció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     molekula szerkez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6400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33360" y="3886200"/>
            <a:ext cx="15228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886200"/>
            <a:ext cx="99072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86200"/>
            <a:ext cx="10666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son%20és%20Crick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z új kérdésfeltevések eredménye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nukleinsavak nukleotid sorrendje hordozza az információ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z információ feldolgozó folyamatok hasonló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z anyagcserének közös elemei vann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nergia forgalom közös váltópénze az adenazintrifoszfát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 u="sng">
                <a:solidFill>
                  <a:srgbClr val="000000"/>
                </a:solidFill>
                <a:uFillTx/>
                <a:latin typeface="Times New Roman"/>
              </a:rPr>
              <a:t>Két új probléma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népesség gyors szaporodása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a növekvő létszám ellátása táplálékk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ukleotidok" descr=""/>
          <p:cNvPicPr/>
          <p:nvPr/>
        </p:nvPicPr>
        <p:blipFill>
          <a:blip r:embed="rId1"/>
          <a:stretch/>
        </p:blipFill>
        <p:spPr>
          <a:xfrm>
            <a:off x="4371840" y="3886200"/>
            <a:ext cx="4543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. Tulajdonságok átvitele és újak szintézi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TRIKCI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jelenség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kuláris megfejté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KOMBINÁCIÓS-D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idolgozás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TIKAI informáci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ldolgozásának sajátos mód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DNSelemek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2597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Biotechnológia fogalma (1917?)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reky Károly 1919: Élő szervezetek alkalmazása „termelés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: Élő szervezetek és termékeik felhasználása az emberi egészség és a környezet megváltoztatására (antropomorf)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Nem újszülött tudományá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Hagyományos felhasználáso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lelmiszerek előállításár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rmentáció (ős-mikrobiológusok) Kr.e. 9 000 körü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emesítés (ős-genetikusok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enyérfélék - növénynemesí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lkoholos italok (folyékony kenyér-sör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ttenyésztés - haszonállatok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rjesztett élelmiszerek (savanyúság, tejtermékek)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onzerválás (sózás, szárí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y sejt öröklési információjának különválasztása megfelelő enzimek segítségével, majd egy másik sejt DNS láncából a kedvezőbb információt tartalmazó részének kiemelés után az első sejtbe illesztik az új „kódot”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DNSvágása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élővilág és az élettelen közötti kapcsolat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Ökológ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rnyezetminőség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„indikátorai”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z élőlénye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plálkozási kapcsolatok az ökoszisztémáb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rmelők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utotróf szervezetek, fotoszintézisre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es növények, baktériumok és a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emotróf baktériumok: a fény ill. a kémiai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nergia hasznosításával szervetlenből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sanyagot állítanak elő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BIOMASS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87692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ökológia vizsgálati alapegysége a populá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vizsgált hely (környék) ökológiai tényezőinek hatásfoka határozza meg a népesség (populáció) létét és életfolyamata-inak milyenségét. Az optimum a legkedve-zőbb. A pesszimum határok között még aktívak, de már nem szaporodóképesek a populáció egyedei. A tűréshatárok közelében pedig az egyedeknek csupán a létfenntartásra van lehetőség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opuláció életfolyamatait befolyásoló tényezők hatá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ausgörbe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2720" y="5943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élet és működés lehetőségének ábrázolása az ökológiában és a technikai rendszerek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Ökológiaiopt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 flipV="1">
            <a:off x="1752120" y="388584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19520" y="3886200"/>
            <a:ext cx="75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81280" y="388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143000" y="388584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8862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8862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" y="15238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gyasztó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Közvetve vagy közvetlenül heterotrof növények és valamennyi állati szervez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plálkozási vagy a táplálékláncban elfoglalt helyzetük szerint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; 2; 3; . . .n-ed rendű fogyasz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övényevő állat 1.-rendű fogyasztó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Pl.: moszat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vízibolha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kárász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csuka   halászsa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vagy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ű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arvasmarh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   emb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Csúcsfogyaszt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334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3341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7009920" y="617184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77320" y="541008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172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172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rn alkalmazások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gyományos + mo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05280" y="990720"/>
            <a:ext cx="9448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Klasszikus mikrobiológi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XIX -XX.szd. Klasszikus genetika/biokémi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Modern fermentációs technikák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XX -XXI.szd.Molekuláris biológia -genetik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lkalmazásai: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ikrobiológiai: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netikai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Egészségügy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yógyszerhatóanyagok termeltetés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iagnosztikai módszer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NS-szintű immunizálá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„génterápia”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Ipar - mezőgazdaság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lapanyagok termeltetés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     -mol.markerek a nemesítésben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(pl.glycerol, aceton,butanol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nergiatermelés (biogáz,bioreaktoro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-xy-rezisztens élőlény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 -mikroszaporítás (növ.) klónozá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    - tárolá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Igazságügy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azonosítás, rokonságvizsgá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örténeti visszatekinté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04920" y="838080"/>
            <a:ext cx="9677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Őstörténet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orai alkalmazások: régészeti leletek, kultúrtörténet alapján (Kr.e 9 000 - 1 700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áziasítá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nemesítés-genetika) - nomádból letelepedett lakossá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lső álla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a kecske (szelekcióval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lső növény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(alakor, tönke, árpa, borsó, bükköny, lencse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en, olajos növények, gyümölcsfélék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Amerika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Mexikó: tökfélék, bab, kukorica (Kr.e.3000-2000)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Peru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bab, paprika, nád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É-Amerika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napraforgó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Babilónia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1000 körül növényporzás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(papok)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eresztez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Első fermentálók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Kr.e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:Sumérok, Babilóno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 sörgyártás élesztővel 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Egyiptom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kenyérgyártás élesztővel, joghurt készítés baci-val, sajtgyártás, bor-,sör-és ecetgyártás fermentációval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görög filozófusok, első tudósok véleménye:</a:t>
            </a:r>
            <a:br>
              <a:rPr sz="32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r.e. 400 körül: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 Szokratesz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m öröklődő tulajdonságok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s vannak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Hippokratesz: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”Férfi és női ondó”-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mlít,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Arisztotelész: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sak 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férfi örökí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a nő alapanyag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28960" y="20570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özépkor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r.u. 1100-1668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Ősnemzés t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(spontán generáció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668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rancesco Redi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yűvekkel kísérlet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673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nton von Leeuwenhoek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rotozoák, baktériumok leírása, fermentáció, spermiumok felfedezése, szekszuális szaporod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rszerű szemlé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630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William Harvey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„tojáselmélet”: növények és állatok ivarosan szaporod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665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Robert Hooke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”dugóelemzés”, a sejtelmélet előfutára (18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tapasztalatok tudományos feldolgozási kísérlet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ghonosodtak a tapasztalati módszerek, az ipari forradalom változásokat hozott az iparban és a mezőgazdaságban. A betegséget okozó mikróbák megismerésére irányuló törekvések az egészség érdek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724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növényi kereszteződést felismerik a búzában, tapasztalatok a „hibridnemesítésben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798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dward Jenner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vakcinációs eljárása, tehénhimlő - emberhimlő (Vaccinus- tehénbő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800: Hő-sterilizálás - „Napoleon-díj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39-1850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a sejtelmélet/osztódás elmélet szül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850: Semmelweis Igná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52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Párizs, nemzetközi „gabonashow” magyar fajtákkal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59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Darwin: Fajok eredete (London) 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65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Mendel: Kísérletek növényhibrideken (Brünn)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56-84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Pasteur: „pasztörizálás”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betegség terjedés bakteriális úton (1865)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- legyengített kórokozókkal immunizálás (1880)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- veszettség-vakcina kidolgozása (1884)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- Pasteur Intézet (1887)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73-95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R.Koch:- baktériumtelepek növesztés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garon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baktériumok, mint kórokozók azonosítása,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humán kórokozók azonosítása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882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Walter Fleming: -mitózis, kromoszóm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Tapasztalatok, ismeretek rendezése, követ-keztetések, új törvények megfogalmazása.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0528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83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ugust Weissmann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ermplasm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zülők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nlően járulnak az utódokho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84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Christian Gram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st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mikrobioló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87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R.J.Petri: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etricsész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születése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mikrobioló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92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Ivanovszkij: dohánymozaik vírus leírása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mikrobioló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93-1900: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kcinák fejlesztése, humán víruskórokozó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on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897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Eduárd Bucher kimutatja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rmetálá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 feltárt élesztősejtekben,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iokémia - enzimológi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szül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iotechnológia összetettsé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iokarikák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4:11:04Z</dcterms:created>
  <dc:creator>User</dc:creator>
  <dc:description/>
  <dc:language>en-US</dc:language>
  <cp:lastModifiedBy>Cech Vilmos</cp:lastModifiedBy>
  <cp:lastPrinted>2002-06-28T08:23:53Z</cp:lastPrinted>
  <dcterms:modified xsi:type="dcterms:W3CDTF">2002-10-15T14:12:07Z</dcterms:modified>
  <cp:revision>26</cp:revision>
  <dc:subject/>
  <dc:title>Biotechnológia</dc:title>
</cp:coreProperties>
</file>