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9.png" ContentType="image/png"/>
  <Override PartName="/ppt/media/image14.wmf" ContentType="image/x-wmf"/>
  <Override PartName="/ppt/media/image16.wmf" ContentType="image/x-wmf"/>
  <Override PartName="/ppt/media/image3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12.png" ContentType="image/png"/>
  <Override PartName="/ppt/media/image11.wmf" ContentType="image/x-wmf"/>
  <Override PartName="/ppt/media/image26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3498-6E8F-420F-889A-841316BC8BD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868320" y="733320"/>
            <a:ext cx="5002200" cy="37512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888840" y="4729320"/>
            <a:ext cx="503712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2186-BAFF-4492-9B36-9AD5CB47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81FB-D2BA-4734-82C3-F0AB2E56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377E8-7325-4E12-A19F-69037A98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4DB1-6753-47F9-BBA8-EB19F107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69F4-1BD9-4D32-B7A4-022A532C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2190-2EFC-4AF7-A80B-08BCE843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465C-F547-49BF-8B19-F776FA1C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9108-43FE-4781-9B1A-3D3E2C8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BFA6-2DCA-47C3-932D-59180675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6D0D-97D2-44ED-91FA-B567DEAB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A437-7FFC-489E-A142-1DC222D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2B26-C10B-47D0-8A5A-3D7C726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221-F34E-452D-87DF-A15F2E6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310A-3ED3-4385-B50F-C3F4A45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B3C6-7135-47E4-BF4C-902B5E3E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69E0-6C56-47CB-8D98-280D5F30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C739-5354-4C53-82BB-4FBE2ED4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5F89-8F8E-41C0-BB58-F6747FC7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43BD-2B30-4087-843B-5005868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6DF54-54E8-4BB4-A6A9-F38CCA7E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5FA7-2144-4990-BD34-4C9D0D6A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C1D4-3553-4B3C-8475-72239459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3786-410E-402D-B89D-6C4D8750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499B-5BCF-4DE3-9C40-6583BC24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435F-144E-4491-BA14-461F725C5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829-B3C1-4E25-9584-8FE8A46828F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6E39-26BE-45A0-8F2B-4010E726F8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D6DE-2D25-493B-95EB-A4C8147956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04720" y="23144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dattárházak</a:t>
            </a: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 és kiaknázásuk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1497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300" spc="-1" strike="noStrike">
                <a:solidFill>
                  <a:srgbClr val="000000"/>
                </a:solidFill>
                <a:latin typeface="Arial"/>
              </a:rPr>
              <a:t>dr. Abonyi Jáno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Veszprémi Egye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abonyij@fmt.vein.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www.fmt.vein.hu/softcomp/d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49480" y="3645000"/>
            <a:ext cx="650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</a:rPr>
              <a:t>Bevezetés, Definíció, Adminisztratív dolg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5043-29F3-4FFE-8FA8-C3A9743894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017926-0B8E-4187-AC65-DBBF6CCE5125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962000" y="1508040"/>
          <a:ext cx="6115320" cy="45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2000" y="1508040"/>
                    <a:ext cx="61153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39528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árház struktúrá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E22F-C0AD-4133-8BA7-016C871C2C4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3F4C8F-D865-421D-B10D-DAACEEEB783A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1"/>
          <a:stretch/>
        </p:blipFill>
        <p:spPr>
          <a:xfrm>
            <a:off x="2652840" y="0"/>
            <a:ext cx="64911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6BAF-2174-4A99-8DAF-6A680551560B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A7495C-D5BD-4387-89CA-F0A52F1F1ED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1"/>
          <a:srcRect l="4310" t="17911" r="2588" b="3367"/>
          <a:stretch/>
        </p:blipFill>
        <p:spPr>
          <a:xfrm>
            <a:off x="457200" y="2209680"/>
            <a:ext cx="822960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6B2BA-0264-4AAD-BF51-E6E484B67108}" type="slidenum">
              <a:t>1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F6B537-58D1-4F35-A169-2CBDFD2C880E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ikus tervezési folya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c3300"/>
                </a:solidFill>
                <a:latin typeface="Arial"/>
              </a:rPr>
              <a:t>Üzelti folyama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iválasztása, pl. megrendelés, számlá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üzleti folyamat</a:t>
            </a:r>
            <a:r>
              <a:rPr b="0" i="1" lang="hu-HU" sz="2800" spc="-1" strike="noStrike" u="sng">
                <a:solidFill>
                  <a:srgbClr val="cccce6"/>
                </a:solidFill>
                <a:uFillTx/>
                <a:latin typeface="Arial"/>
              </a:rPr>
              <a:t> </a:t>
            </a:r>
            <a:r>
              <a:rPr b="0" i="1" lang="hu-HU" sz="2800" spc="-1" strike="noStrike" u="sng">
                <a:solidFill>
                  <a:srgbClr val="cc3300"/>
                </a:solidFill>
                <a:uFillTx/>
                <a:latin typeface="Arial"/>
              </a:rPr>
              <a:t>elemi szintjeinek (grain ld granulálás~”sürítés”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feltárá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c3300"/>
                </a:solidFill>
                <a:latin typeface="Arial"/>
              </a:rPr>
              <a:t>Dimenzió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egválasztása, melyek a ténytábla minden rekordjában szerepel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cc3300"/>
                </a:solidFill>
                <a:latin typeface="Arial"/>
              </a:rPr>
              <a:t>Mértéke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elyek a ténytábla ad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978E-D80B-42D4-96D7-C95518EDB9CA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272BFA-84CC-496A-AC9C-E945C5A66D42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gvalósítási modell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állalati adat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 granuláltság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kai adatpartíciós mod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525D-C7B3-4D49-81B3-807F0CAFE6E7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FBD0F8-A9B3-4A6D-BAFE-270A7DFC1E25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-76320" y="2895480"/>
            <a:ext cx="4267440" cy="26305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4114800" y="3124080"/>
            <a:ext cx="0" cy="2057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4360" y="591840"/>
            <a:ext cx="777384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állalati adatmodell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Enterprise Data Model (ED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0" y="190476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ció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zleti koncep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. üzletegység, vásárló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zleti 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ények felméré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kai adatmodel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áló logikus adat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kai felhasználói adatmod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szletes ,Egyedek és reláci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zikai adat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zikai korlátok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l. tároló kapaci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52880" y="205740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ázisokból álló modell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23C31-65F6-4455-A98B-DCF94A1B6CBF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AE4F52-ADD3-4A33-80E2-8D86A277975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gyszerű vállalati adatmode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1600200" y="1413000"/>
            <a:ext cx="5867280" cy="49291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905120" y="1674720"/>
            <a:ext cx="365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2CF5C-60CE-4424-86E8-AF4847087B82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30E0CC-0CEA-4200-A99F-D2326A1669FE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19120" y="672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EDM előnyei, sikerének kulc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ól követhető, az integrációt propagáló fejlesz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zisztens adatdefiníciót támogat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zél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l általános célból fakadóan túl összetett fela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úl sok egység összehango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héz olyan embert találni aki a felelős részterületén kívül tevékenységének teljes üzletmenetre gyakorolt hatását mind jól átlá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CEEC-B689-4C0F-9C9D-5D11BA7E828C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218418-7E88-4D73-B2FB-37226DB367D2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 granuláltság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5866920" y="1828800"/>
            <a:ext cx="3048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nsúly az adattárolás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ltsége (adatelérési idő is) és a válaszadás lehetősége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ltigranulált adatmodel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tszintű tár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észletes ada-tok és összesí- tett adatok a felsőbb szi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943600" cy="41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5107-E3D3-4B41-AD73-B41099DA6A27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DFD7BF-5477-4393-8396-F42F85F4158F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568520" y="3808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Logikus adatparticiós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568520" y="16761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émakörök (Subject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ásd az adattárház definíciój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W1H szab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cc3300"/>
                </a:solidFill>
                <a:latin typeface="Arial"/>
              </a:rPr>
              <a:t>when, where, who, what, why és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elosztás cé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 rugalmas elérése, menedzsel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árház skálázható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árház hordozható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megvannak az egysége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k a kapcsolato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8342-ADCB-4F7B-860D-72DC3546C88C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F908BF-4857-47AA-B6E1-AE7E238E2F4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1371600" y="60948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ől volt sz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1600" y="1905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marL="308520" indent="-30852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tárházak struktúráj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2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árom kompon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vezési folyamat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gvalósítási modell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struktúra terve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S RW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FECA1-7F38-4905-A524-B260A60FB8FC}" type="slidenum">
              <a:t>10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296C8B-EFD4-4C8A-9C94-47D5A49ED701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68360" y="3808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ikus architektú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dattárhá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80060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attisztítá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s integrá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220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zűr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79680" y="5791320"/>
            <a:ext cx="15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ff"/>
                </a:solidFill>
                <a:latin typeface="Times New Roman"/>
              </a:rPr>
              <a:t>Adatbázis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dattárház, adatbázis sz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datbányászati al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Értéke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tefész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dás-bá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4870-4210-4FDE-8718-62FA552527D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8CF971-9FFA-4163-8B07-E18B545EBE1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3880" y="304920"/>
            <a:ext cx="678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dattárház definiálá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36512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támogató adatbázis melyet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külön üzemeltetn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zervezet működéséhez kapcsolódó adatbázis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mogató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nformáció feldolgozó egysé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ly egy megbízható, feldolgozott hisztorikus, elemzések céljából összegyűjtött adatokat tartalm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757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157573"/>
                </a:solidFill>
                <a:latin typeface="Arial"/>
              </a:rPr>
              <a:t>A data warehouse i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666699"/>
                </a:solidFill>
                <a:uFillTx/>
                <a:latin typeface="Arial"/>
              </a:rPr>
              <a:t>subject-orien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666699"/>
                </a:solidFill>
                <a:uFillTx/>
                <a:latin typeface="Arial"/>
              </a:rPr>
              <a:t> integra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666699"/>
                </a:solidFill>
                <a:uFillTx/>
                <a:latin typeface="Arial"/>
              </a:rPr>
              <a:t>time-vari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157573"/>
                </a:solidFill>
                <a:latin typeface="Arial"/>
              </a:rPr>
              <a:t>and </a:t>
            </a:r>
            <a:r>
              <a:rPr b="1" lang="en-US" sz="2400" spc="-1" strike="noStrike" u="sng">
                <a:solidFill>
                  <a:srgbClr val="666699"/>
                </a:solidFill>
                <a:uFillTx/>
                <a:latin typeface="Arial"/>
              </a:rPr>
              <a:t>nonvolat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57573"/>
                </a:solidFill>
                <a:latin typeface="Arial"/>
              </a:rPr>
              <a:t>collection of data in support of management’s decision-making process.”—W. H. In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0301-31F5-49B8-871C-FDDD6112014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1827A1-A2E2-49AE-AA88-4C734378476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438280" y="685800"/>
            <a:ext cx="6497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maorientá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268280"/>
            <a:ext cx="826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émakörök köré szervezett, pl.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vásárlók, termékek, eladás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ntéshozók számára szükség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ok modellezéséhez és elemzéséhez kötődik, nem a napi működéshez, illetve adatátvitelh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Egyszerű és tömö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ézetet nyújt a fontos témakörökben, de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nem tartalmazza azokat az adatokat, melyek nem fontosak a döntéshozatal szempontjábó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A6B0-38E3-4088-A996-4218178A83E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EDA1CF-8538-4D0B-B294-F152545AA17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rá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öbb, különböző jellegű adatforrás integrálásával épül f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ációs adatbázisok, különálló fájlok, on-line adatátviteli forrás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 tisztítási és adatintegrációs eszközöket alkalmaz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kor az adat bekerük az adattárházba konvertálód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konzisztenciát az elnevezési konvenciók, a struktúrák, stb. biztosítja a különböző adatforrások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0BC85-1F58-496F-82AF-EE2A51785E4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638177-4A8D-45C1-8C3D-2758386C75D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ővariá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időhorizont sokkal nagyob mint egy operációs adatbázis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ációs adatbázis: aktuális adato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l. az elmúlt na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ttárház: hisztorikus adatok elemzésé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l., az előző 5-10 é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n fontosabb (kulcs) struktúra tartalma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ő elemet (explicit vagy implicit mód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BE65-0C6A-4994-81DA-CDCAA9243DB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63FC8D-EADE-4020-9B29-FB09C964E6F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m “illékon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155736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izikailag külön tárolt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űködési környezetből transzformált adat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üzemvitelből adódó </a:t>
            </a: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adatfissítés nem fordul el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dattárház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cs szükség on-line adatátvitelre, adat mentésre és vissza, és konzisztenciát biztosítű eljárások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ak két fő adatkezelési mó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13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adattárház feltölté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adatok lekérdezése</a:t>
            </a:r>
            <a:r>
              <a:rPr b="0" i="1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3FC4-CF0A-4AB3-A55C-BF5991984B2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EE257C-CC07-4E03-98EE-19EB60739D7E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tárház vs. Heterogén Adatbázi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400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gyományos heterogén adatbázis integráci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666699"/>
                </a:solidFill>
                <a:latin typeface="Arial"/>
              </a:rPr>
              <a:t>Wrapper-ek/mediator-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heterogén adatbázisok felé illeszt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666699"/>
                </a:solidFill>
                <a:latin typeface="Arial"/>
              </a:rPr>
              <a:t>Lekérdezés alapú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egközelíté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1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mikor kliens oldalról lekérdezés érkezik, egy meta-könyvtár segítségével a lekérdezés a heterogén adatbázis egy eleméhez kapcsolódó lekérdezésre fordítódik, és az egyes lekérdezések eredményei egy globális válaszá integrálód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árház: </a:t>
            </a:r>
            <a:r>
              <a:rPr b="0" lang="hu-HU" sz="2800" spc="-1" strike="noStrike">
                <a:solidFill>
                  <a:srgbClr val="666699"/>
                </a:solidFill>
                <a:latin typeface="Arial"/>
              </a:rPr>
              <a:t>feltöltés-alapú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integritás biztosítás,  nagy teljesít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eterogén adatforrások információi a lekérdezés előtt kerülnek integrálásra és tárolód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rekt lekérdezésekhez és elemzés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EC54-CC97-4364-838A-1DEAFC4C99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69DA78-4739-44D2-8642-B16BDDF4D6FD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árház alkalmazá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505320" y="4022640"/>
            <a:ext cx="5943600" cy="2835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99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t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ervezeten belüli információ megosztás  hatékony eszkö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utomatikus (web, e-mail, intra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ját jelentések (infohoz való hozzáférés, munkamegosztás, teljes áttekin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tatisz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rpretá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színű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a (szignifiká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bányásza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24309-D3EB-48F5-A6E8-0FF9E9CE9A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158AE3-6DE5-44C4-82EE-172DC080897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201240"/>
            <a:ext cx="79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égfelhasználók igény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6476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pikus felhasznál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on-frequent user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érdekli őket az adattárház, csak időről időre információra van szükségü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re definiált, friss jelentéseket igénylő felhaszná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eciális érdeklődés, rendszeres időközönké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namikus, ad hoc lekérdezéseket igény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zleti elemz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fi felhaszná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ára minden adat fo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ecializált adatpiac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797360"/>
            <a:ext cx="83808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6560" y="4581360"/>
            <a:ext cx="31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ülönböző felhasznál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ülönböző igény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6BF5-51B0-407E-B19A-38BF508B06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C9938-F608-4C87-A276-269A60E5598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547200"/>
            <a:ext cx="72388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ől lesz sz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tárházak létrehozásának motiváci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árgy (és tanulásának) motiváci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árgy tematikája, adminisztratív dolg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az adattárhá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az OLA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82C4-92F5-415C-99CF-1E44928A57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CA0177-DF08-465B-B43B-4DC877DBFB9B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201240"/>
            <a:ext cx="9056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OLAP (On-line Analytic Process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8273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AP ötletét E.F. Codd, a relációs adatbázisok atyja 1993 -ban egy  Computerworld cikkben vetette f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odd rájött, hogy az OLTP elérte alkalmazásainak határát, rendkívül nagy számítási igény szükséges amikor relációs adatbázisokból végzünk lekérdezéseket. Rájött amit már a döntéstámogatással foglalkozó szakértők már régóta hangoztattak: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pusztán az operciós adatok nem alkalmasak a menedzserek kérdéseire választ adn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dáig 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relációs adatbáz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épes válaszolni tipikus kérdésekre mint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 Mi?, Mit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tárháza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múltbeli adatok összesítésével képesek válaszolni olyan kérdésekre min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Mi volt a teljes forgalom a keleti régióban a második negyedévben 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OLAP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célja az adatok elemzése és megértése alapján a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„Miért?, Mi lenne ha?”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érdések megválaszo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A0DE-01AC-414B-BD46-83A4F10D03A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022365-78E8-4FFE-A2D0-6EA147E73C25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808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AP I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9120" y="11250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LAP és az adattárház komplementer fogal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tárház tárolja és menedzse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OLAP stratégiai információvá alakítja az adato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LAP alapötlete, hogy a menedzserek képesek legyenek az adatok több dimenziót figyelembe vevő kezelése, és annak megértése, hogy azok miként fordulnak elő, illetve hogyan változ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lhasználási terület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iac szegmentálás, marketing kutatás, termelés tervezés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oldás a „multi-dimensional” azaz több  dimenziós adatbáz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A58BD-9905-48FF-9072-3257B44E6A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B5FDA8-0AEC-40AA-827C-9AFBFFFA62E1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odd 12 szabál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20760" y="134280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dimenziós áttekint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. Felhasználó számára áttekinthető támog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. Elérhető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4. Konzisztens naplók 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5. Kliens -szerver architektú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6. Általános dimenzió aggregá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 Dinamikus ritka mátrix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8. Multi-user támog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9. „Cross-dimensional operations”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0. Intuitív adatkezel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1. Rugalmas jelentése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2. Korláttalan dimenzió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BD8B-BFA4-4DDF-BB09-823B4D7EDF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9D7ECD-67D3-40E2-90AC-6C90725CFC2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TP vs. O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55640" y="1341360"/>
          <a:ext cx="7777080" cy="53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7770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0ECA-89FB-4E0F-9547-C959ECDB969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934A8-3197-4BA8-BD22-D49F72EBCB15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675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ikor hasznláljunk OLAP-o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560" y="17031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datok iránti igény nem tranzakciós hanem elemző jelleg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emzett információ nem elérhető közvetlen mó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lentős számítás és összesítés ig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őként numerikus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emek, melyek az adatpontokat definiálják nem változnak idő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8843-F1A7-41E3-A118-2C351BF405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192EAE-CEAB-438E-BA91-CBEA63B0DA73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7238880" cy="97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ért külön adattárhá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rendszer jó teljesítményt nyúj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lációs adatbázis—OLTP-re hangolva: elérési módok, indexel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tárház—OLAP-ra hangolva: összetett OLAP lekérdezések, többdimenziós nézet, konszolidáci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funkciók és különböző adato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666699"/>
                </a:solidFill>
                <a:uFillTx/>
                <a:latin typeface="Arial"/>
              </a:rPr>
              <a:t>Hiányzó adato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Döntéstámogató rendszer olyan </a:t>
            </a:r>
            <a:r>
              <a:rPr b="1" lang="hu-HU" sz="2000" spc="-1" strike="noStrike">
                <a:solidFill>
                  <a:srgbClr val="cc3300"/>
                </a:solidFill>
                <a:latin typeface="Arial"/>
              </a:rPr>
              <a:t>hisztoriku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datokat kíván melyeket egy tipikus relációs adatbázisban nem táro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666699"/>
                </a:solidFill>
                <a:uFillTx/>
                <a:latin typeface="Arial"/>
              </a:rPr>
              <a:t>Adat konszolidáci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 Pl. heterogén forrásból származó adatok aggregálása, összeg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666699"/>
                </a:solidFill>
                <a:uFillTx/>
                <a:latin typeface="Arial"/>
              </a:rPr>
              <a:t>Adat minőség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Különböző adatforrások általában inkonzisztens reprezentációt alkalmaznak, pl. idő formátum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435D-2090-4521-B9CD-82CD3AA406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5B45FF-5F5F-4138-B28D-4D48C40DEBF0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79080" y="830160"/>
            <a:ext cx="779292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ttárház vs. Heterogén Adatbázis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487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TP (on-line transaction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hagyományos relációs adatbázisok alapfel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pról napra történő működés: vásárlás, bank, gyártás, regisztráció, számlázás, st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AP (on-line analytical proces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z adattárházak alapfel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elemzés és döntéshoz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TP vs. OLA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3300"/>
                </a:solidFill>
                <a:latin typeface="Arial"/>
              </a:rPr>
              <a:t>Felhasználó és rendszer orientáltság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ásárló vs. p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3300"/>
                </a:solidFill>
                <a:latin typeface="Arial"/>
              </a:rPr>
              <a:t>Adat tartalom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ktuális, részletes vs. történet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konszolidá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3300"/>
                </a:solidFill>
                <a:latin typeface="Arial"/>
              </a:rPr>
              <a:t>Tervezési módszer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 (entity-relationship) + alkalmazás vs. csillag + témakö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3300"/>
                </a:solidFill>
                <a:latin typeface="Arial"/>
              </a:rPr>
              <a:t>Néz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ktuális, lokális vs. evolóciós, integrá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cc3300"/>
                </a:solidFill>
                <a:latin typeface="Arial"/>
              </a:rPr>
              <a:t>Hozzáférés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rissítés vs. csak olvasható de komplex lekérde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1CBD-7E8C-472A-9D04-07AF231E13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0ABFD-4F17-4D44-A6C8-BBF997118A40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piac szereplői és mér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41408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ortune 500 cégek felének van adattárház projektje, vagy tervezés alatt áll ily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nagyobb megoldás szállító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racle, IB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d Brick, Informix, Syba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IS cégek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usiness Objects, Cognos, SAS,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racle/IRI, Arbor, Comshare, Pil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2565360"/>
            <a:ext cx="228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bevéte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illi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,6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,7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,6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,6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09DA-3B01-43C7-8946-3FEF71D7F5C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362752-E442-4AA8-BD52-DB23244F8482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232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égek és termékek - Adattárhá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197000"/>
            <a:ext cx="883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18181"/>
                </a:solidFill>
                <a:latin typeface="Times New Roman"/>
              </a:rPr>
              <a:t>Cég</a:t>
            </a:r>
            <a:r>
              <a:rPr b="1" lang="hu-HU" sz="20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818181"/>
                </a:solidFill>
                <a:latin typeface="Times New Roman"/>
              </a:rPr>
              <a:t>Term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Arbor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Essbas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Gentia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Ge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IBM 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DB2 univers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Information Advantage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Decision Su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Informix 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Informix Meta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Microsoft 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MicroStrategy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DS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NCR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Ter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Oracle 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Expres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Pilot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D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Platinum technology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InfoBe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Red Brick systems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Red Brick Ware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SAS 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Arial;Arial"/>
              </a:rPr>
              <a:t>Warehouse administ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Seagate 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;Arial"/>
              </a:rPr>
              <a:t>Crystal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Sybase 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;Arial"/>
              </a:rPr>
              <a:t>IQ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AB3B-3540-4762-8597-0E798EF91D1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7E4931-911F-4346-9AD3-200211A5903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4920" y="201240"/>
            <a:ext cx="8178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égek és termékek - Adatelé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371600"/>
            <a:ext cx="8610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Cég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Term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Andyne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G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Brio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Brio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Business objects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Business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Cognos 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Impromptu, Powerplay,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IBM 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Intelligent Miner 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Integral Solutions 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Clementine data mining 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IQ software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Microsoft 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MS Query, access ,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Platinum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Forest &amp;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SAS 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Enterprise Miner, Reporter 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Arial;Arial"/>
              </a:rPr>
              <a:t>Seagate </a:t>
            </a:r>
            <a:r>
              <a:rPr b="0" i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;Arial"/>
              </a:rPr>
              <a:t>Crystal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Silicon Graphics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Min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8B6F-36C1-4227-8171-F87A152B66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F373E7-DC88-4824-B66F-0D96068EC25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 flipV="1">
            <a:off x="228600" y="5485320"/>
            <a:ext cx="7543800" cy="762120"/>
          </a:xfrm>
          <a:custGeom>
            <a:avLst/>
            <a:gdLst>
              <a:gd name="textAreaLeft" fmla="*/ 961200 w 7543800"/>
              <a:gd name="textAreaRight" fmla="*/ 6582600 w 7543800"/>
              <a:gd name="textAreaTop" fmla="*/ 96840 h 762120"/>
              <a:gd name="textAreaBottom" fmla="*/ 6652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96" y="21600"/>
                </a:lnTo>
                <a:lnTo>
                  <a:pt x="1804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12240" y="5638680"/>
            <a:ext cx="49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rmelés, Szolgáltatás =&gt; Adatbáz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8080" y="4723200"/>
            <a:ext cx="6324840" cy="762120"/>
          </a:xfrm>
          <a:custGeom>
            <a:avLst/>
            <a:gdLst>
              <a:gd name="textAreaLeft" fmla="*/ 849960 w 6324840"/>
              <a:gd name="textAreaRight" fmla="*/ 5474880 w 6324840"/>
              <a:gd name="textAreaTop" fmla="*/ 102240 h 762120"/>
              <a:gd name="textAreaBottom" fmla="*/ 6598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24" y="21600"/>
                </a:lnTo>
                <a:lnTo>
                  <a:pt x="2076" y="216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81240" y="4952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attárhá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447920" y="3962520"/>
            <a:ext cx="5105160" cy="761760"/>
          </a:xfrm>
          <a:custGeom>
            <a:avLst/>
            <a:gdLst>
              <a:gd name="textAreaLeft" fmla="*/ 775080 w 5105160"/>
              <a:gd name="textAreaRight" fmla="*/ 4330080 w 5105160"/>
              <a:gd name="textAreaTop" fmla="*/ 115560 h 761760"/>
              <a:gd name="textAreaBottom" fmla="*/ 64620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847" y="21600"/>
                </a:lnTo>
                <a:lnTo>
                  <a:pt x="2753" y="216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6200" y="396252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atok kinyerése, transzformá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103480" y="3199680"/>
            <a:ext cx="3794040" cy="762120"/>
          </a:xfrm>
          <a:custGeom>
            <a:avLst/>
            <a:gdLst>
              <a:gd name="textAreaLeft" fmla="*/ 655560 w 3794040"/>
              <a:gd name="textAreaRight" fmla="*/ 3138480 w 3794040"/>
              <a:gd name="textAreaTop" fmla="*/ 131760 h 762120"/>
              <a:gd name="textAreaBottom" fmla="*/ 630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031" y="21600"/>
                </a:lnTo>
                <a:lnTo>
                  <a:pt x="3569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5840" y="33526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atbányás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735280" y="2437560"/>
            <a:ext cx="2530440" cy="762120"/>
          </a:xfrm>
          <a:custGeom>
            <a:avLst/>
            <a:gdLst>
              <a:gd name="textAreaLeft" fmla="*/ 531360 w 2530440"/>
              <a:gd name="textAreaRight" fmla="*/ 1999080 w 2530440"/>
              <a:gd name="textAreaTop" fmla="*/ 159840 h 762120"/>
              <a:gd name="textAreaBottom" fmla="*/ 6022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82" y="21600"/>
                </a:lnTo>
                <a:lnTo>
                  <a:pt x="501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55840" y="2590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14880" y="1523880"/>
            <a:ext cx="1371600" cy="9144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55840" y="1981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ö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915400" y="1219320"/>
            <a:ext cx="0" cy="487656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4560" y="525780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cc"/>
                </a:solidFill>
                <a:latin typeface="Times New Roman"/>
              </a:rPr>
              <a:t>N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99cc"/>
                </a:solidFill>
                <a:latin typeface="Times New Roman"/>
              </a:rPr>
              <a:t>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200" y="396252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Times New Roman"/>
              </a:rPr>
              <a:t>Tisztított,</a:t>
            </a:r>
            <a:br>
              <a:rPr sz="2400"/>
            </a:br>
            <a:r>
              <a:rPr b="1" lang="en-GB" sz="2400" spc="-1" strike="noStrike">
                <a:solidFill>
                  <a:srgbClr val="008080"/>
                </a:solidFill>
                <a:latin typeface="Times New Roman"/>
              </a:rPr>
              <a:t>feldolgozott</a:t>
            </a:r>
            <a:br>
              <a:rPr sz="2400"/>
            </a:br>
            <a:r>
              <a:rPr b="1" lang="en-GB" sz="2400" spc="-1" strike="noStrike">
                <a:solidFill>
                  <a:srgbClr val="008080"/>
                </a:solidFill>
                <a:latin typeface="Times New Roman"/>
              </a:rPr>
              <a:t>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520" y="1752480"/>
            <a:ext cx="16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Hasznos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formáció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3240" y="266688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udás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prezentáz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éma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októl az információ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5CD68-F9C0-496C-B27D-27BE12A9FB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F700C3-3BA6-46B3-9D19-18B473FC8BF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Cégek és termékek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atbányás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1981080"/>
            <a:ext cx="6702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Cég 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818181"/>
                </a:solidFill>
                <a:latin typeface="Times New Roman"/>
              </a:rPr>
              <a:t>Term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Angoss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KnowledgeSee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Business objects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Buisness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Datamind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Datacrun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IBM 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Intelligent 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Integral Solutions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Cleme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Magnify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Arial;Arial"/>
              </a:rPr>
              <a:t>Mindmaker</a:t>
            </a:r>
            <a:r>
              <a:rPr b="1" i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Arial;Arial"/>
              </a:rPr>
              <a:t>Mind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Pilot software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SAS 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Arial;Arial"/>
              </a:rPr>
              <a:t>Enterprise 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Thinking Machines 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;Arial"/>
              </a:rPr>
              <a:t>Darw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D3373-3D51-4216-9688-E47553936A3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DE15BB-5188-46D8-99E7-BBCE61C7089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87272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2133720" cy="1009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371600"/>
            <a:ext cx="2971800" cy="468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NC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 Oracle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Computer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Cognos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 Micro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 Microsoft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 I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 Informix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Hyper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 SAP Ame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 SPS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1285920" cy="9907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638680" y="228600"/>
            <a:ext cx="2905200" cy="996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228600" y="1447920"/>
            <a:ext cx="2133720" cy="1819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943600" y="1371600"/>
            <a:ext cx="3048120" cy="4776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S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IB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. Microso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. 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. Cog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. Computer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.  Micro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 Business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. Informat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. Seagate Softw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96440" y="270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8D10D-7E69-48B8-A3D0-780E7F904F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2A7879-D6A7-45C8-BAB8-1FA4B52C0A6A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189000"/>
            <a:ext cx="7238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Összefoglalás I. - Varázsszava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75248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IS: 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ecutive Information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SS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cision Suppo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DD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nowledge Discovery in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W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Ware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M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TP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-line Transaction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LAP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-line Analytica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DA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Dimensional Dat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2FFD-645A-4C68-B75C-B3EB5D514285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2CD0EA-F4AA-4D95-81CC-32B70433F907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26920" y="695160"/>
            <a:ext cx="7239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Összefoglalás II. - Miről volt szó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920" y="1990800"/>
            <a:ext cx="7239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z adattárház definíció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kor van igény erre a struktúrá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 az OLA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AP vs. OLT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D0F6-B3B3-4EAD-B5DA-A2A86C64F2F5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920237-3FA6-42D5-91DE-0B49FBAAB27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600" y="547200"/>
            <a:ext cx="72388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ől lesz sz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modell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lációs adatmodell (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ulti-dimenzionális adatmo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2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koc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12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cepcionális model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AP műve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 művetelek (SQL ismétl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12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556272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8A0A5-53C5-4AC7-9E9F-6D05948EDE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C754AC-7427-4B16-941C-1BEC3BD6A6D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33720" y="3808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báz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8288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atstruktúr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tok tulajdonságai alapján való rend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atmodel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zelhető adat egy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601"/>
              </a:spcAft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atbáz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szerezett, modellbe foglalt 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01"/>
              </a:spcAft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k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01"/>
              </a:spcAft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áló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601"/>
              </a:spcAft>
              <a:buClr>
                <a:srgbClr val="00007d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áció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45720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4191120"/>
            <a:ext cx="5029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nnyű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eresés,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nehéz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beszúrás, módosítás, törlés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örülménye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trukt. átalak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B737A-EF26-4FCF-845A-C6813A809E8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45A5E0-C461-459F-8EAD-5B4D06A6E38B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68520" y="228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odell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 valós világ absztrakciója és reflekc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Üzleti folyamat megjelení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tárház tervezése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zisztens adatkeze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megközelítésmó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lációs adatmodellezés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ER- Entity-relationsh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d, kapcso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imenziós adatmodellez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ték, tény, dimenz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59BDB-66E6-41D7-9909-F82607DCFC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5DA55B-4874-4423-9518-56E3CBBE94F5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elációs adatmodell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90720" y="1600200"/>
            <a:ext cx="7619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00000"/>
              </a:lnSpc>
              <a:spcAft>
                <a:spcPts val="601"/>
              </a:spcAft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áció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zonyos szempont alapján összetartozó dolgok csoportja </a:t>
            </a:r>
            <a:r>
              <a:rPr b="0" lang="en-US" sz="2400" spc="-1" strike="noStrike">
                <a:solidFill>
                  <a:srgbClr val="000000"/>
                </a:solidFill>
                <a:latin typeface="MT Symbol"/>
                <a:ea typeface="MT 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Aft>
                <a:spcPts val="601"/>
              </a:spcAft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adatoka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áblákb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árolj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Aft>
                <a:spcPts val="601"/>
              </a:spcAft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zlopok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ző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onos típusú, rendeltetésű adat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Aft>
                <a:spcPts val="601"/>
              </a:spcAft>
              <a:buClr>
                <a:srgbClr val="9999cc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28800" y="4419720"/>
          <a:ext cx="7086600" cy="164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419720"/>
                    <a:ext cx="70866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8305920" y="4038480"/>
            <a:ext cx="0" cy="38124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49080" y="3657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z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5029200"/>
            <a:ext cx="45720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4440" y="48006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k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600F-65A4-41EB-8195-AE20515E7D5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1A48D5-D71D-4A2A-96C0-DBAB6C373CC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5448240" cy="3338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28240"/>
            <a:ext cx="706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ációs adatmodell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810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d tí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sődleges kul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ttribútu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pcsol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dinali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-egy (1:1),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-több (1:m),…(n: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rlá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98640" y="563868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zociatív eg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96160" y="4724280"/>
            <a:ext cx="495360" cy="990720"/>
          </a:xfrm>
          <a:custGeom>
            <a:avLst/>
            <a:gdLst/>
            <a:ahLst/>
            <a:rect l="l" t="t" r="r" b="b"/>
            <a:pathLst>
              <a:path w="312" h="624">
                <a:moveTo>
                  <a:pt x="312" y="624"/>
                </a:moveTo>
                <a:cubicBezTo>
                  <a:pt x="180" y="584"/>
                  <a:pt x="48" y="544"/>
                  <a:pt x="24" y="480"/>
                </a:cubicBezTo>
                <a:cubicBezTo>
                  <a:pt x="0" y="416"/>
                  <a:pt x="136" y="320"/>
                  <a:pt x="168" y="240"/>
                </a:cubicBezTo>
                <a:cubicBezTo>
                  <a:pt x="200" y="160"/>
                  <a:pt x="208" y="40"/>
                  <a:pt x="21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0BF6B-7A30-433A-A84F-5792917C8B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416438-20AB-4C94-BA9E-A7D0C52A91C3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elációs adatmodell I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1696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Egyed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olyan dolog, melynek jellegzetes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ulajdonságai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vannak (adatot tudunk róla tárolni) 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-Főnév </a:t>
            </a:r>
            <a:br>
              <a:rPr sz="2400"/>
            </a:b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pl. a </a:t>
            </a:r>
            <a:r>
              <a:rPr b="0" i="1" lang="hu-HU" sz="2400" spc="-1" strike="noStrike">
                <a:solidFill>
                  <a:srgbClr val="cc3300"/>
                </a:solidFill>
                <a:latin typeface="Arial"/>
              </a:rPr>
              <a:t>K5-800901315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 sarz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Tulajdonság, attribútum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z egyedeket tulajdonságuk alapján különböztetjük meg: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-Melléknév </a:t>
            </a:r>
            <a:br>
              <a:rPr sz="2400"/>
            </a:b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pl. egy reaktor típusát a mérete, a térfogata, a reaktor keverőjének típusa stb. definiálhat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Kulcs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yed azon tulajdonsága(i) mely(ek) már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gyértelműen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határozzák, hogy az egyed mely értékéről van szó.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pl. a sarzs azonosító egyértelműen azonosítja a sarzs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C9FD4-1497-4E86-8096-F8F3E761E46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C93DD2-15AB-423D-BE59-AB10A3D7336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1408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dattárházak lehetőséget biztosítanak, hogy a termelő és üzleti folyamatokban keletkező adatokból, az üzleti döntések számára releváns információk legyenek kinyerhető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gyan építsünk adattárház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gyan rendezzük adataink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gyan nyerhetünk ki információ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4956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57840" y="4869000"/>
            <a:ext cx="22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mélem siker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laszt kapnu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FC72-4581-4B0D-86E9-3839E07337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F017AB-11AE-43FD-9516-8965E84488D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elációs adatmodell I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105264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apcsol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edek közti viszony, összefüggés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gy-egy kapcsol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z egyik egyedhalmaz minden eleméhez pontosan egy másik egyedhalmazbeli elem tartozik: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l. az operátorok neve és kódja között egyértelmű kapcsolat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gy-több kapcsol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gyedhalmaz egy eleméhez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gyedhalmaz több eleme is tartozhat: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l. egy művelet típust  több arra alkalmas berendezésben is végrehajthat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öbb-több kapcsol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gyedhalmaz bármely eleméhez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gyedhalmaz több eleme is tartozhat és fordítva: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pl. bármely kezelői eseményt az operátorok közül bármelyik végrehajt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24AF6-86A0-4EEC-A4E6-4F3BE23C41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CB3724-8E11-425D-9BC8-F78DC83E91BC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elációs adatmodell 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Adatmodell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dek, attribútumok, és kapcsolatok halmaza a a valós objektumok és azok kapcsolatának tükörképeké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Relációs adatmodell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yedeket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áblázatokka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djuk meg, ahol a táblázat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edhalmaz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képez. 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Egyedhalmaz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yed egy általános dolog megfogalmazásakor: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pl. sarzs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oszlopok (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mező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: az egyedhalmazra jellemző tulajdonságok, attribútumok,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pl. sarzs mé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orok (</a:t>
            </a: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rekordo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: az egyes egyed értékeit tartalmazzák</a:t>
            </a:r>
            <a:br>
              <a:rPr sz="2400"/>
            </a:b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pl. a </a:t>
            </a:r>
            <a:r>
              <a:rPr b="0" i="1" lang="hu-HU" sz="2400" spc="-1" strike="noStrike">
                <a:solidFill>
                  <a:srgbClr val="cc3300"/>
                </a:solidFill>
                <a:latin typeface="Arial"/>
              </a:rPr>
              <a:t>K5-800901315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 sarzs ad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Arial"/>
              </a:rPr>
              <a:t>Kapcsolatok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z egyedhalmazok közti viszony:</a:t>
            </a:r>
            <a:br>
              <a:rPr sz="2400"/>
            </a:b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pl. mely sarzsot mely mester receptúra alapján gyártott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B566-B9AC-4A9B-88AE-979EEE63E6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66A754-3075-4774-8856-ED55820137C5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elációs adatmodell V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5920" y="3048120"/>
          <a:ext cx="4491000" cy="12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048120"/>
                    <a:ext cx="44910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500280" y="4878360"/>
          <a:ext cx="5046840" cy="1274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878360"/>
                    <a:ext cx="50468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057400" y="1447920"/>
          <a:ext cx="4191120" cy="101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1447920"/>
                    <a:ext cx="41911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143000" y="2514600"/>
            <a:ext cx="0" cy="4572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840" y="205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u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2438280"/>
            <a:ext cx="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3434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4560" y="25909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cc"/>
                </a:solidFill>
                <a:latin typeface="Times New Roman"/>
              </a:rPr>
              <a:t>Sarzs tá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39240" y="9144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Times New Roman"/>
              </a:rPr>
              <a:t>Mester receptúra tá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1800" y="434340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Times New Roman"/>
              </a:rPr>
              <a:t>Kezelő tá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723920" y="2743200"/>
            <a:ext cx="381240" cy="2286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degen ku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71800" y="5638680"/>
            <a:ext cx="45720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gyed (rek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343400"/>
            <a:ext cx="0" cy="4572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3597120"/>
            <a:ext cx="22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ző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jellemz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50DA-75A1-4874-8088-E17E0288540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026B66-0D57-4825-B77F-0FF01CB4678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95280" y="457200"/>
            <a:ext cx="80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000000"/>
                </a:solidFill>
                <a:latin typeface="Arial"/>
              </a:rPr>
              <a:t>Relációs adatbázis tervezése</a:t>
            </a:r>
            <a:r>
              <a:rPr b="1" i="1" sz="46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1970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datbázis tervez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Információ gyűj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edek azonos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gyedek modellez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gyedekről rendelkezésre álló információk típu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Egyedek közti kapcsolatok feltár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Normalizálá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Felesleges kapcsolatok kiszűré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zköz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DL: Data Definition Languag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CD2F-F2FC-4109-B3AE-DA8441FB2A75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1CD86D-244E-4E8B-BF34-B157893DF1C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68360" y="404640"/>
            <a:ext cx="777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000" spc="-1" strike="noStrike">
                <a:solidFill>
                  <a:srgbClr val="3366ff"/>
                </a:solidFill>
                <a:latin typeface="Arial"/>
              </a:rPr>
              <a:t>Adatstruktúra helyessége 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2952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Beszúrási anomá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rekord felvitelekor már letárolt infót fel kell vin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Módosítási anomá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info egység módosításához több helyen is módosítani kell az adatbázis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Törlési anomál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info elem törlésekor más hozzá nem tartozó információk is elvesznek</a:t>
            </a:r>
            <a:br>
              <a:rPr sz="2000"/>
            </a:br>
            <a:br>
              <a:rPr sz="2000"/>
            </a:br>
            <a:r>
              <a:rPr b="0" lang="hu-HU" sz="2000" spc="-1" strike="noStrike">
                <a:solidFill>
                  <a:srgbClr val="cc3300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cc3300"/>
                </a:solidFill>
                <a:latin typeface="Arial"/>
              </a:rPr>
              <a:t> Összetartozó adatokat egy reláció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838080" y="5410080"/>
          <a:ext cx="7318440" cy="9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410080"/>
                    <a:ext cx="731844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F8AD-98D4-4695-9FE7-C81049CA595C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FE8F5E-A5E3-4706-ADC2-8158F081A39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468360" y="404640"/>
            <a:ext cx="828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600" spc="-1" strike="noStrike">
                <a:solidFill>
                  <a:srgbClr val="3366ff"/>
                </a:solidFill>
                <a:latin typeface="Arial"/>
              </a:rPr>
              <a:t>Adatstruktúra helyessége II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9640" y="105264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0000"/>
                </a:solidFill>
                <a:latin typeface="Arial"/>
              </a:rPr>
              <a:t>Első normál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mezője funkcionálisan függ a kulcsmezőtő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0000"/>
                </a:solidFill>
                <a:latin typeface="Arial"/>
              </a:rPr>
              <a:t>Második normálfo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ső NF + Minden mezője a teljes kulcstól függ, de nem annak részhalmazá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0000"/>
                </a:solidFill>
                <a:latin typeface="Arial"/>
              </a:rPr>
              <a:t>Harmadik normálfor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ásodik NF + nincs tranzitív függőség, azaz nem áll fenn az egyik nemkulcs mezőből egy másik nemkulcs mezőbe függősé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hu-HU" sz="2400" spc="-1" strike="noStrike">
                <a:solidFill>
                  <a:srgbClr val="cc3300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A megoldás: A reláció feldarabol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Hogyan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???? Mi is ez az eg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é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sz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15200" y="5334120"/>
            <a:ext cx="914400" cy="380880"/>
          </a:xfrm>
          <a:custGeom>
            <a:avLst/>
            <a:gdLst>
              <a:gd name="textAreaLeft" fmla="*/ 1429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7855-B60D-439D-99A9-EC33F4BD4B84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1802AB-38B6-4DDE-99E6-3E93E51C734D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057400" y="4572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600" spc="-1" strike="noStrike">
                <a:solidFill>
                  <a:srgbClr val="3366ff"/>
                </a:solidFill>
                <a:latin typeface="Arial"/>
              </a:rPr>
              <a:t>Első normálform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71360" y="24033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r>
              <a:rPr b="1" lang="hu-HU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72440" y="15238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96120" y="32767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i 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41120" y="16002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</a:t>
            </a: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95080" y="243828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Mester rec.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615640" y="33526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016520" y="2895480"/>
            <a:ext cx="30456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863520" y="1981080"/>
            <a:ext cx="38124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311800" y="2057400"/>
            <a:ext cx="30492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0400" y="2666880"/>
            <a:ext cx="1295280" cy="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73920" y="2133720"/>
            <a:ext cx="0" cy="11430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07080" y="2057400"/>
            <a:ext cx="45720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3000" y="38862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4240" y="55627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i 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29920" y="44197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</a:t>
            </a: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5720" y="396252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Mester rec.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82320" y="548640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723920" y="5181480"/>
            <a:ext cx="30492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4114800" y="4266720"/>
            <a:ext cx="533520" cy="30492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531120" y="4343040"/>
            <a:ext cx="479160" cy="2286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5029200"/>
            <a:ext cx="45720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200400" y="2666880"/>
            <a:ext cx="533520" cy="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5120" y="24382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48320" y="4343400"/>
            <a:ext cx="1904760" cy="914400"/>
          </a:xfrm>
          <a:prstGeom prst="ellipse">
            <a:avLst/>
          </a:prstGeom>
          <a:noFill/>
          <a:ln w="25560">
            <a:solidFill>
              <a:srgbClr val="99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73760" y="47242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3809880"/>
            <a:ext cx="7925040" cy="0"/>
          </a:xfrm>
          <a:prstGeom prst="line">
            <a:avLst/>
          </a:prstGeom>
          <a:ln w="28440">
            <a:solidFill>
              <a:srgbClr val="9999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5720" y="190512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Kulcs definiálás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9800" y="45720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Összetett kul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6C70-8A4C-4C54-B864-358361247AE6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297D3A-BC94-4A53-A8DD-DF70B773ED0B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68360" y="404640"/>
            <a:ext cx="7618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600" spc="-1" strike="noStrike">
                <a:solidFill>
                  <a:srgbClr val="3366ff"/>
                </a:solidFill>
                <a:latin typeface="Arial"/>
              </a:rPr>
              <a:t>Második normálform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32640" y="3733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13520" y="54100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i 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25160" y="426708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</a:t>
            </a: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34320" y="464832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Mester rec.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5160" y="51814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733920" y="5029200"/>
            <a:ext cx="30456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3124080" y="4114440"/>
            <a:ext cx="533520" cy="30492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67480" y="4191120"/>
            <a:ext cx="304920" cy="53316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53080" y="4191120"/>
            <a:ext cx="0" cy="9144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4191120"/>
            <a:ext cx="1905120" cy="914400"/>
          </a:xfrm>
          <a:prstGeom prst="ellipse">
            <a:avLst/>
          </a:prstGeom>
          <a:noFill/>
          <a:ln w="25560">
            <a:solidFill>
              <a:srgbClr val="99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68640" y="45720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2600" y="3733920"/>
            <a:ext cx="12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_</a:t>
            </a:r>
            <a:r>
              <a:rPr b="1" i="1" lang="hu-HU" sz="2400" spc="-1" strike="noStrike">
                <a:solidFill>
                  <a:srgbClr val="9999ff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65800" y="1371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7040" y="30481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i 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720" y="190512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</a:t>
            </a: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144792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Mester rec.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25120" y="297180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266720" y="2666880"/>
            <a:ext cx="30492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3657600" y="1752120"/>
            <a:ext cx="533520" cy="30492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073920" y="1828440"/>
            <a:ext cx="479160" cy="2286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2514600"/>
            <a:ext cx="45720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1828800"/>
            <a:ext cx="1904760" cy="914400"/>
          </a:xfrm>
          <a:prstGeom prst="ellipse">
            <a:avLst/>
          </a:prstGeom>
          <a:noFill/>
          <a:ln w="25560">
            <a:solidFill>
              <a:srgbClr val="9999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16560" y="22096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81480" y="2895480"/>
            <a:ext cx="609840" cy="12193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190512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Csak az összetett kulcs részhalmazától függ a </a:t>
            </a:r>
            <a:r>
              <a:rPr b="0" lang="hu-HU" sz="2400" spc="-1" strike="noStrike">
                <a:solidFill>
                  <a:srgbClr val="9999cc"/>
                </a:solidFill>
                <a:latin typeface="Times New Roman"/>
              </a:rPr>
              <a:t>sarzs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7FE7-876B-4A94-97B4-204B523D1635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632F7D-51DC-4553-8A41-E2AAEA5DBCCA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11280" y="533520"/>
            <a:ext cx="792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4600" spc="-1" strike="noStrike">
                <a:solidFill>
                  <a:srgbClr val="3366ff"/>
                </a:solidFill>
                <a:latin typeface="Arial"/>
              </a:rPr>
              <a:t>Harmadik normálform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71360" y="21747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r>
              <a:rPr b="1" lang="hu-HU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72440" y="129528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96120" y="30481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i 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41120" y="1371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</a:t>
            </a: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95080" y="220968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Mester rec.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15640" y="31240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016520" y="2666880"/>
            <a:ext cx="30456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3863520" y="1752480"/>
            <a:ext cx="38124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311800" y="1828800"/>
            <a:ext cx="30492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2438280"/>
            <a:ext cx="1295280" cy="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73920" y="1905120"/>
            <a:ext cx="0" cy="11430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07080" y="1828800"/>
            <a:ext cx="45720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200400" y="2438280"/>
            <a:ext cx="533520" cy="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22096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3480" y="2895480"/>
            <a:ext cx="249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Tranzitív függő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két nem kul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mező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6699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_</a:t>
            </a:r>
            <a:r>
              <a:rPr b="0" lang="hu-HU" sz="2400" spc="-1" strike="noStrike">
                <a:solidFill>
                  <a:srgbClr val="666699"/>
                </a:solidFill>
                <a:latin typeface="Times New Roman"/>
              </a:rPr>
              <a:t>i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6699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23640" y="476568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r>
              <a:rPr b="1" lang="hu-HU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24720" y="38862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13520" y="563868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i 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94480" y="3962520"/>
            <a:ext cx="12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1" i="1" lang="en-US" sz="2400" spc="-1" strike="noStrike">
                <a:solidFill>
                  <a:srgbClr val="9999ff"/>
                </a:solidFill>
                <a:latin typeface="Times New Roman"/>
              </a:rPr>
              <a:t>_</a:t>
            </a:r>
            <a:r>
              <a:rPr b="1" i="1" lang="hu-HU" sz="2400" spc="-1" strike="noStrike">
                <a:solidFill>
                  <a:srgbClr val="9999ff"/>
                </a:solidFill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47360" y="48006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Mester rec.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0240" y="563868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 mé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733920" y="5257800"/>
            <a:ext cx="30456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016520" y="4343400"/>
            <a:ext cx="380880" cy="4572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26200" y="4495680"/>
            <a:ext cx="0" cy="114300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59720" y="4419720"/>
            <a:ext cx="45720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352680" y="5029200"/>
            <a:ext cx="533520" cy="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8006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Műve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3200400"/>
            <a:ext cx="609840" cy="121932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48320" y="5257800"/>
            <a:ext cx="304560" cy="380880"/>
          </a:xfrm>
          <a:prstGeom prst="line">
            <a:avLst/>
          </a:prstGeom>
          <a:ln w="349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05680" y="56386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999ff"/>
                </a:solidFill>
                <a:latin typeface="Times New Roman"/>
              </a:rPr>
              <a:t>Sarzs</a:t>
            </a:r>
            <a:r>
              <a:rPr b="0" lang="en-US" sz="2400" spc="-1" strike="noStrike">
                <a:solidFill>
                  <a:srgbClr val="9999ff"/>
                </a:solidFill>
                <a:latin typeface="Times New Roman"/>
              </a:rPr>
              <a:t>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6B75-4C9B-4D66-9EEC-9C0B81F48CFA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42203C-F3A3-4FAC-8854-F83ED13938FE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9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menzionális adat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cepciók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ény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csolódó adategy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üzleti egységet, tranzakciót, eseményt jelö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lcs tábla, melyben numerikus adatok szerepel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3155-A940-4B95-88C6-D6488C0FA7F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301E8E-8D93-40FE-BBB1-F246DA996A0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Üzleti intelligencia környez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7840" y="1828800"/>
            <a:ext cx="869616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446B3-324C-4E6E-B0FA-5DF8F261479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36BC4EC-F457-422A-8606-51C95C44AC5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339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menzionális adat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2560" y="137124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cepciók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Dimenziók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ények hátterét definiálják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. idő, hely, üzletkötő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yakran nem numerikus egy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. termék márka, alkalma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mokban tengelyként ábrázo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éterek, melyekre OLAP elemzést szeretnénk vég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. Idő, Hely, Vásárló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47C28-DFB5-4846-A95F-8D7A3ECF7C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973B31-0E53-445C-AF6D-37684232915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68360" y="579600"/>
            <a:ext cx="820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800" spc="-1" strike="noStrike">
                <a:solidFill>
                  <a:srgbClr val="000000"/>
                </a:solidFill>
                <a:latin typeface="Arial"/>
              </a:rPr>
              <a:t>Információ granuláltság</a:t>
            </a:r>
            <a:br>
              <a:rPr sz="3800"/>
            </a:br>
            <a:r>
              <a:rPr b="1" sz="3800" spc="-1" strike="noStrike">
                <a:solidFill>
                  <a:srgbClr val="000000"/>
                </a:solidFill>
                <a:latin typeface="Arial"/>
              </a:rPr>
              <a:t>Dimenziók hierarchiáj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57640" y="3529080"/>
            <a:ext cx="3240" cy="3240"/>
          </a:xfrm>
          <a:prstGeom prst="rect">
            <a:avLst/>
          </a:prstGeom>
          <a:solidFill>
            <a:srgbClr val="ff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57640" y="3529080"/>
            <a:ext cx="3240" cy="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590920" y="1557360"/>
            <a:ext cx="4419360" cy="1873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2438280" y="2514600"/>
            <a:ext cx="19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acson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nuláltsá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sok rész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257800" y="25146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anuláltsá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 kevés rész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79080" y="5562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sarz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4040" y="55627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e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64160" y="5562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60280" y="46483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22480" y="3429000"/>
            <a:ext cx="11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Times New Roman"/>
              </a:rPr>
              <a:t>termé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Times New Roman"/>
              </a:rPr>
              <a:t>tí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56160" y="4648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99920" y="3429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Times New Roman"/>
              </a:rPr>
              <a:t>üzle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10840" y="46483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70240" y="34290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cc"/>
                </a:solidFill>
                <a:latin typeface="Times New Roman"/>
              </a:rPr>
              <a:t>gy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43400" y="510552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91320" y="510552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8880" y="510552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343400" y="426708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715000" y="426708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7162920" y="4267080"/>
            <a:ext cx="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5562720"/>
            <a:ext cx="15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Operátor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46483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Üzemvezet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16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99cc"/>
                </a:solidFill>
                <a:latin typeface="Times New Roman"/>
              </a:rPr>
              <a:t>Menedz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FDF0-D3FE-4556-B81E-E4B465D368F1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FCBF50-609E-4BF6-9D95-8EC8BC0EFD0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l.Dimenziók hirearhi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14479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3760" y="2438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440" y="24382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_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29800" y="35053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4320" y="3505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28560" y="3505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210400" y="3505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7640" y="4572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cou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20640" y="55627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 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2560" y="55627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 C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560" y="24382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92960" y="3505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659400" y="3505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30800" y="4648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8560" y="45720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8200" y="5562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3885840" y="18288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520" y="182880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2819160" y="281952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28195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476760" y="2819520"/>
            <a:ext cx="99036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67480" y="281952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236196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388620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19112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8229600" y="3886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610480" y="38862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057400" y="5105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51055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4876560" y="4952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562720" y="495288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04920" y="1523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960" y="25146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56386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7315200" y="5029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96080" y="50292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563832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00800" y="38862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8960" y="35812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9480" y="1905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9480" y="2971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948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087320" y="46483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29160" y="4648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f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46483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83BD-4187-4560-99BE-81CAD74D068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418E86-717A-45BC-A39A-530F87400ECB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További példa dimenziók hirearhiájá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71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544B-02B9-46AE-8358-E18C32F613FA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09D68E-2F85-4BC7-9B96-00368B3BCDE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339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menzionális adat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568520" y="15998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oncepciók I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cc3300"/>
                </a:solidFill>
                <a:latin typeface="Arial"/>
              </a:rPr>
              <a:t>Mértékek (Measu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tény numerikus értéke (pl. eladott mennyisé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E3287-898D-4C47-BBFB-4AE65008F3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B7F9AE-3450-4BAF-930C-7E6C5E2A30A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756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cepcionális modell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2120" y="1628640"/>
            <a:ext cx="838224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</a:rPr>
              <a:t>Csillag diag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Középen ténytábla körülötte dimenzió tábl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</a:rPr>
              <a:t>Hópihe sé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 csillag séma finomítása ahol a dimenziók hierarchiája normált, azaz kisebb dimenzió táblákra oszt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2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</a:rPr>
              <a:t>Tény konstelláció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Több ténytáb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sillag sémák összessége, ezért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alaxis sémának</a:t>
            </a:r>
            <a:r>
              <a:rPr b="0" lang="en-US" sz="2000" spc="-1" strike="noStrike">
                <a:solidFill>
                  <a:srgbClr val="cccce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hívj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koc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3E23-88EC-498B-AF14-1F8BEEF927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541DA4-A67C-4F5C-A69A-A02634E3F0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6713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lda csillag sémá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475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478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446640" y="227952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dások tény tá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490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493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460680" y="32446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60680" y="27795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94160" y="282564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89480" y="327492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460680" y="371016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88760" y="372096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60680" y="41734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88040" y="419724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460680" y="46386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488400" y="468936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60680" y="51037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88760" y="51339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60680" y="55688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70400" y="558000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EB64-1E93-47A5-A6BC-13F4046E7DA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80DE3D-2249-4065-B4CC-0308CAACD2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5640" y="609480"/>
            <a:ext cx="6713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lda hópihe sémá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512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515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3270240" y="2152800"/>
            <a:ext cx="217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adások tény táb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540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543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546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550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9275-B73E-4E8F-8B1B-4103CA2E36C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9A6C03-F075-4799-ACEF-D1566FFA06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446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lda galaxis sémá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287028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55880" y="1041480"/>
            <a:ext cx="1631880" cy="1967040"/>
            <a:chOff x="155880" y="1041480"/>
            <a:chExt cx="1631880" cy="1967040"/>
          </a:xfrm>
        </p:grpSpPr>
        <p:sp>
          <p:nvSpPr>
            <p:cNvPr id="556" name=""/>
            <p:cNvSpPr/>
            <p:nvPr/>
          </p:nvSpPr>
          <p:spPr>
            <a:xfrm>
              <a:off x="156600" y="145584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5880" y="104148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032440" y="3860640"/>
            <a:ext cx="1712160" cy="1718640"/>
            <a:chOff x="5032440" y="3860640"/>
            <a:chExt cx="1712160" cy="1718640"/>
          </a:xfrm>
        </p:grpSpPr>
        <p:sp>
          <p:nvSpPr>
            <p:cNvPr id="559" name=""/>
            <p:cNvSpPr/>
            <p:nvPr/>
          </p:nvSpPr>
          <p:spPr>
            <a:xfrm>
              <a:off x="5035680" y="426996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32440" y="386064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2664000" y="1955880"/>
            <a:ext cx="192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adások ténytáb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819520" y="241308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24890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819520" y="29462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332748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819520" y="332748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19520" y="378468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14480" y="380376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84600" y="424188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15920" y="429588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84600" y="469908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816640" y="474012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84600" y="515628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96120" y="518652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19320" y="5537160"/>
            <a:ext cx="121896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008080" y="447012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989000" y="501300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989000" y="538164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1565280" y="363852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1828800" y="218448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495680" y="408924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4419720" y="2565360"/>
            <a:ext cx="76176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110200" y="1349640"/>
            <a:ext cx="1293120" cy="1725120"/>
            <a:chOff x="5110200" y="1349640"/>
            <a:chExt cx="1293120" cy="1725120"/>
          </a:xfrm>
        </p:grpSpPr>
        <p:sp>
          <p:nvSpPr>
            <p:cNvPr id="584" name=""/>
            <p:cNvSpPr/>
            <p:nvPr/>
          </p:nvSpPr>
          <p:spPr>
            <a:xfrm>
              <a:off x="5110200" y="176544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63280" y="134964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34000" y="3784680"/>
            <a:ext cx="1279440" cy="1216440"/>
            <a:chOff x="234000" y="3784680"/>
            <a:chExt cx="1279440" cy="1216440"/>
          </a:xfrm>
        </p:grpSpPr>
        <p:sp>
          <p:nvSpPr>
            <p:cNvPr id="587" name=""/>
            <p:cNvSpPr/>
            <p:nvPr/>
          </p:nvSpPr>
          <p:spPr>
            <a:xfrm>
              <a:off x="234000" y="417852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2360" y="378468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935760" y="231768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2120" y="1422360"/>
            <a:ext cx="209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zállítások ténytáb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5760" y="186048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35760" y="193680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935760" y="239400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935760" y="2774880"/>
            <a:ext cx="160020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5760" y="277488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935760" y="323208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931440" y="325116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900840" y="368928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931800" y="376560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00840" y="414648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932880" y="418788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00840" y="460368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914520" y="463392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6552720" y="134568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666520" y="134604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828800" y="134604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6476760" y="2489040"/>
            <a:ext cx="53316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6171840" y="347976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400800" y="40132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8915400" y="302256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7542000" y="5232240"/>
            <a:ext cx="1332360" cy="1458720"/>
            <a:chOff x="7542000" y="5232240"/>
            <a:chExt cx="1332360" cy="1458720"/>
          </a:xfrm>
        </p:grpSpPr>
        <p:sp>
          <p:nvSpPr>
            <p:cNvPr id="612" name=""/>
            <p:cNvSpPr/>
            <p:nvPr/>
          </p:nvSpPr>
          <p:spPr>
            <a:xfrm>
              <a:off x="7549200" y="562500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42000" y="523224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 flipH="1">
            <a:off x="8534520" y="4622760"/>
            <a:ext cx="38088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534520" y="30225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791320" y="5613120"/>
            <a:ext cx="17524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8F4F-9476-4122-B03D-D7E26F469A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ECF610-9A44-4001-A11F-9CF681B9AA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öbbdimenziós adatkocka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440" y="156204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ladási mennyiség a termék, az idő, és a régió függvényé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78080" y="3130560"/>
            <a:ext cx="3263760" cy="2882880"/>
          </a:xfrm>
          <a:prstGeom prst="cube">
            <a:avLst>
              <a:gd name="adj" fmla="val 24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1600" y="41911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1600" y="44956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1600" y="48769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1600" y="5181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371600" y="54864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5791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36232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320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4812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5268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676520" y="312372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981080" y="312372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362320" y="312372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048120" y="312372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352680" y="312372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657600" y="312372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05120" y="33526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76520" y="35812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7600" y="38862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19720" y="33526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962520" y="35049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962520" y="38858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962520" y="4267080"/>
            <a:ext cx="6858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962520" y="457164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962520" y="487656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962520" y="510516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rot="16200000">
            <a:off x="347400" y="4528440"/>
            <a:ext cx="113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8720000">
            <a:off x="686880" y="2970000"/>
            <a:ext cx="106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gi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117160" y="6004080"/>
            <a:ext cx="59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5812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743200" y="3123720"/>
            <a:ext cx="6858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569480" y="2209680"/>
            <a:ext cx="449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menziók: Termék, Hely, 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gységek hierarhikus összegzé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055120" y="3276720"/>
            <a:ext cx="3557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131760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ará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égi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É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1760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1760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tegóri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szá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ó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1760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1760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rmék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áros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é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1760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17600"/>
                <a:tab algn="l" pos="2635200"/>
                <a:tab algn="l" pos="3952800"/>
                <a:tab algn="l" pos="5270400"/>
                <a:tab algn="l" pos="6588000"/>
                <a:tab algn="l" pos="7905600"/>
                <a:tab algn="l" pos="9223200"/>
                <a:tab algn="l" pos="10541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vatal       N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63868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0572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924680" y="3657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638680" y="4267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70572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4876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2468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9246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E4742-C1B4-48F2-A352-837727656C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CF3371-D224-4E3F-B779-34A7D04B4D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68520" y="3808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is az adattárház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630080"/>
            <a:ext cx="8137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36240" indent="-3362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ációs környezet, szemben az adatátvitel-orientált környe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an folyamatok, eszközök tervezése és implementálása, melyek alkalmasak döntéshozatalhoz szükséges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elj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ont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és 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áttekinthet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ációk adatokból történő kinyerésé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n oly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vékenység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gába foglal amit egy szervezetnek el kell végeznie, hogy egy adattárházat hozzon létre és üzemeltess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7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5C20-B9C6-417C-8DD5-5CF64E8D86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FD08DC-8D95-4FB3-9408-1D8BA98182C2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24000" y="457200"/>
            <a:ext cx="8064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öbbdimenziós adatkocka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181480" cy="242568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371600" y="4191120"/>
            <a:ext cx="1905120" cy="1676160"/>
          </a:xfrm>
          <a:prstGeom prst="cube">
            <a:avLst>
              <a:gd name="adj" fmla="val 25000"/>
            </a:avLst>
          </a:prstGeom>
          <a:solidFill>
            <a:srgbClr val="666699"/>
          </a:solidFill>
          <a:ln w="349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354120" y="4724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Times New Roman"/>
              </a:rPr>
              <a:t>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5486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Times New Roman"/>
              </a:rPr>
              <a:t>term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371600" y="586728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Times New Roman"/>
              </a:rPr>
              <a:t>berend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 rot="16200000">
            <a:off x="2210040" y="4800600"/>
            <a:ext cx="1676160" cy="457200"/>
          </a:xfrm>
          <a:prstGeom prst="parallelogram">
            <a:avLst>
              <a:gd name="adj" fmla="val 91654"/>
            </a:avLst>
          </a:prstGeom>
          <a:gradFill rotWithShape="0">
            <a:gsLst>
              <a:gs pos="0">
                <a:srgbClr val="666699"/>
              </a:gs>
              <a:gs pos="100000">
                <a:srgbClr val="00007d"/>
              </a:gs>
            </a:gsLst>
            <a:lin ang="5400000"/>
          </a:gradFill>
          <a:ln w="349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 rot="16200000">
            <a:off x="5791320" y="4800600"/>
            <a:ext cx="1676160" cy="457200"/>
          </a:xfrm>
          <a:prstGeom prst="parallelogram">
            <a:avLst>
              <a:gd name="adj" fmla="val 91654"/>
            </a:avLst>
          </a:prstGeom>
          <a:gradFill rotWithShape="0">
            <a:gsLst>
              <a:gs pos="0">
                <a:srgbClr val="666699"/>
              </a:gs>
              <a:gs pos="100000">
                <a:srgbClr val="00007d"/>
              </a:gs>
            </a:gsLst>
            <a:lin ang="5400000"/>
          </a:gradFill>
          <a:ln w="3492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35760" y="4724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Times New Roman"/>
              </a:rPr>
              <a:t>id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705720" y="5486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cc"/>
                </a:solidFill>
                <a:latin typeface="Times New Roman"/>
              </a:rPr>
              <a:t>term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5181480"/>
            <a:ext cx="1067040" cy="0"/>
          </a:xfrm>
          <a:prstGeom prst="line">
            <a:avLst/>
          </a:prstGeom>
          <a:ln w="76320">
            <a:solidFill>
              <a:srgbClr val="99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113360" y="4419720"/>
            <a:ext cx="227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80"/>
                </a:solidFill>
                <a:latin typeface="Times New Roman"/>
              </a:rPr>
              <a:t>Aggreg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80"/>
                </a:solidFill>
                <a:latin typeface="Times New Roman"/>
              </a:rPr>
              <a:t>a menedzser néz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6D1F-5A37-4096-A3CF-363ADD21AA31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85D2FB-1AC4-4FD5-A743-EF708CF14B4A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365200" y="533160"/>
            <a:ext cx="6778800" cy="89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lda adatkocká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4880" y="6191280"/>
            <a:ext cx="8001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378480" y="1486080"/>
            <a:ext cx="2403720" cy="788760"/>
          </a:xfrm>
          <a:custGeom>
            <a:avLst/>
            <a:gdLst>
              <a:gd name="textAreaLeft" fmla="*/ 88920 w 2403720"/>
              <a:gd name="textAreaRight" fmla="*/ 2314800 w 2403720"/>
              <a:gd name="textAreaTop" fmla="*/ 29160 h 788760"/>
              <a:gd name="textAreaBottom" fmla="*/ 630000 h 7887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jes éves TV elad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z U.S.A.-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539280" y="1600200"/>
            <a:ext cx="7349760" cy="4761000"/>
            <a:chOff x="539280" y="1600200"/>
            <a:chExt cx="7349760" cy="4761000"/>
          </a:xfrm>
        </p:grpSpPr>
        <p:sp>
          <p:nvSpPr>
            <p:cNvPr id="679" name=""/>
            <p:cNvSpPr/>
            <p:nvPr/>
          </p:nvSpPr>
          <p:spPr>
            <a:xfrm>
              <a:off x="3885840" y="16002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d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8615000">
              <a:off x="497520" y="2133000"/>
              <a:ext cx="1214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rmé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089840" y="3398040"/>
              <a:ext cx="1114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rszá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5778000" y="5900760"/>
              <a:ext cx="2111040" cy="460440"/>
              <a:chOff x="5778000" y="5900760"/>
              <a:chExt cx="2111040" cy="460440"/>
            </a:xfrm>
          </p:grpSpPr>
          <p:sp>
            <p:nvSpPr>
              <p:cNvPr id="683" name=""/>
              <p:cNvSpPr txBox="1"/>
              <p:nvPr/>
            </p:nvSpPr>
            <p:spPr>
              <a:xfrm>
                <a:off x="6327360" y="5900760"/>
                <a:ext cx="1561680" cy="4604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0">
                      <a:noFill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All, All, All</a:t>
                </a:r>
                <a:endParaRPr b="0" lang="en-US" sz="24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5777640" y="5961240"/>
                <a:ext cx="331560" cy="296640"/>
              </a:xfrm>
              <a:prstGeom prst="rightArrow">
                <a:avLst>
                  <a:gd name="adj1" fmla="val 50000"/>
                  <a:gd name="adj2" fmla="val 55891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"/>
            <p:cNvSpPr/>
            <p:nvPr/>
          </p:nvSpPr>
          <p:spPr>
            <a:xfrm>
              <a:off x="5570280" y="4424400"/>
              <a:ext cx="1015560" cy="893880"/>
            </a:xfrm>
            <a:prstGeom prst="cube">
              <a:avLst>
                <a:gd name="adj" fmla="val 24995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70280" y="3695760"/>
              <a:ext cx="1015560" cy="8953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70280" y="2968560"/>
              <a:ext cx="1015560" cy="8938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89120" y="4695840"/>
              <a:ext cx="1015920" cy="895320"/>
            </a:xfrm>
            <a:prstGeom prst="cube">
              <a:avLst>
                <a:gd name="adj" fmla="val 24995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289120" y="3968640"/>
              <a:ext cx="1015920" cy="8938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89120" y="3243240"/>
              <a:ext cx="1015920" cy="8920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006880" y="4968720"/>
              <a:ext cx="1017000" cy="893880"/>
            </a:xfrm>
            <a:prstGeom prst="cube">
              <a:avLst>
                <a:gd name="adj" fmla="val 24995"/>
              </a:avLst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006880" y="4243320"/>
              <a:ext cx="1017000" cy="8920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006880" y="3514680"/>
              <a:ext cx="1017000" cy="8953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0680" y="2962440"/>
              <a:ext cx="663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96000" y="1914480"/>
              <a:ext cx="663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93480" y="2266920"/>
              <a:ext cx="1017360" cy="893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14120" y="2538360"/>
              <a:ext cx="1014120" cy="895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1520" y="2811600"/>
              <a:ext cx="1015920" cy="893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039840" y="2266920"/>
              <a:ext cx="1014120" cy="893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57240" y="2538360"/>
              <a:ext cx="1017360" cy="895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76080" y="2811600"/>
              <a:ext cx="1017360" cy="893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82600" y="2266920"/>
              <a:ext cx="1017360" cy="893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01800" y="2538360"/>
              <a:ext cx="1017360" cy="895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319200" y="2811600"/>
              <a:ext cx="1017360" cy="893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27160" y="2266920"/>
              <a:ext cx="1017360" cy="893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47800" y="2538360"/>
              <a:ext cx="1014120" cy="895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65200" y="2811600"/>
              <a:ext cx="1014120" cy="893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573520" y="2266920"/>
              <a:ext cx="1014120" cy="89388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290920" y="2538360"/>
              <a:ext cx="1014120" cy="8953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08320" y="2811600"/>
              <a:ext cx="1017360" cy="893520"/>
            </a:xfrm>
            <a:prstGeom prst="cube">
              <a:avLst>
                <a:gd name="adj" fmla="val 24995"/>
              </a:avLst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1363320" y="3057480"/>
              <a:ext cx="4393440" cy="3074400"/>
              <a:chOff x="1363320" y="3057480"/>
              <a:chExt cx="4393440" cy="3074400"/>
            </a:xfrm>
          </p:grpSpPr>
          <p:sp>
            <p:nvSpPr>
              <p:cNvPr id="712" name=""/>
              <p:cNvSpPr/>
              <p:nvPr/>
            </p:nvSpPr>
            <p:spPr>
              <a:xfrm>
                <a:off x="1363320" y="5240520"/>
                <a:ext cx="1017000" cy="891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208600" y="5240520"/>
                <a:ext cx="1014840" cy="891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363320" y="451296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365120" y="3810600"/>
                <a:ext cx="1017000" cy="89208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208600" y="4512960"/>
                <a:ext cx="101484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208600" y="3785040"/>
                <a:ext cx="101484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052440" y="5240520"/>
                <a:ext cx="1017000" cy="891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052440" y="451296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052440" y="378504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895920" y="5240520"/>
                <a:ext cx="1017000" cy="891360"/>
              </a:xfrm>
              <a:prstGeom prst="cube">
                <a:avLst>
                  <a:gd name="adj" fmla="val 24995"/>
                </a:avLst>
              </a:prstGeom>
              <a:solidFill>
                <a:srgbClr val="ff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895920" y="451296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895920" y="378504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741920" y="5240520"/>
                <a:ext cx="1014840" cy="891360"/>
              </a:xfrm>
              <a:prstGeom prst="cube">
                <a:avLst>
                  <a:gd name="adj" fmla="val 24995"/>
                </a:avLst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741920" y="4512960"/>
                <a:ext cx="1014840" cy="894240"/>
              </a:xfrm>
              <a:prstGeom prst="cube">
                <a:avLst>
                  <a:gd name="adj" fmla="val 24995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741920" y="3785040"/>
                <a:ext cx="1014840" cy="894240"/>
              </a:xfrm>
              <a:prstGeom prst="cube">
                <a:avLst>
                  <a:gd name="adj" fmla="val 24995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365120" y="308268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211120" y="3082680"/>
                <a:ext cx="101484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054240" y="308268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98440" y="3082680"/>
                <a:ext cx="1017000" cy="894240"/>
              </a:xfrm>
              <a:prstGeom prst="cube">
                <a:avLst>
                  <a:gd name="adj" fmla="val 24995"/>
                </a:avLst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741920" y="3057480"/>
                <a:ext cx="1014840" cy="894240"/>
              </a:xfrm>
              <a:prstGeom prst="cube">
                <a:avLst>
                  <a:gd name="adj" fmla="val 24995"/>
                </a:avLst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3974760" y="1876320"/>
              <a:ext cx="1220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09360" y="206388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87560" y="264960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de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2320" y="236844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315520" y="190008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.n.é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78800" y="1881360"/>
              <a:ext cx="86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 .n.é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960000" y="1919160"/>
              <a:ext cx="86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 .n.é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4400" y="1938240"/>
              <a:ext cx="86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 .n.é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42280" y="235260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.S.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454800" y="31338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ana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86120" y="38005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xik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693120" y="456264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B9B9-EA29-4E46-9B72-4B9382E2686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CFCCA7-9073-4B9B-A2C6-F13BDAF396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23880" y="514440"/>
            <a:ext cx="6477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ábláktól az adatkocká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62120" y="1542600"/>
            <a:ext cx="815328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adatkocka, pl. </a:t>
            </a:r>
            <a:r>
              <a:rPr b="0" lang="hu-HU" sz="2800" spc="-1" strike="noStrike">
                <a:solidFill>
                  <a:srgbClr val="cc3300"/>
                </a:solidFill>
                <a:latin typeface="Arial"/>
              </a:rPr>
              <a:t>eladáso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lehetővé teszi, hogy több szempont figyelembevételével vizsgáljuk az adat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Dimenzió táblá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pl.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árucikk</a:t>
            </a:r>
            <a:r>
              <a:rPr b="0" lang="hu-HU" sz="2400" spc="-1" strike="noStrike">
                <a:solidFill>
                  <a:srgbClr val="ff6600"/>
                </a:solidFill>
                <a:latin typeface="Arial"/>
              </a:rPr>
              <a:t>(cikk_név, márkanév, típus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),</a:t>
            </a:r>
            <a:r>
              <a:rPr b="0" lang="hu-HU" sz="2400" spc="-1" strike="noStrike">
                <a:solidFill>
                  <a:srgbClr val="cccce6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lang="hu-HU" sz="2400" spc="-1" strike="noStrike">
                <a:solidFill>
                  <a:srgbClr val="cccce6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idő</a:t>
            </a:r>
            <a:r>
              <a:rPr b="0" lang="hu-HU" sz="2400" spc="-1" strike="noStrike">
                <a:solidFill>
                  <a:srgbClr val="ff6600"/>
                </a:solidFill>
                <a:latin typeface="Arial"/>
              </a:rPr>
              <a:t>(nap, hét, hónap, negyedév, év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)</a:t>
            </a:r>
            <a:r>
              <a:rPr b="0" lang="hu-HU" sz="2400" spc="-1" strike="noStrike">
                <a:solidFill>
                  <a:srgbClr val="cccce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3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ény tábl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tékeket (pl 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dollár_forgalo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és kapcsolatokat tartalmaz melyek a dimenzió táblákhoz kapcsolód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n-adatkockát </a:t>
            </a:r>
            <a:r>
              <a:rPr b="0" lang="hu-HU" sz="2800" spc="-1" strike="noStrike">
                <a:solidFill>
                  <a:srgbClr val="cc3300"/>
                </a:solidFill>
                <a:latin typeface="Arial"/>
              </a:rPr>
              <a:t>base cuboid</a:t>
            </a:r>
            <a:r>
              <a:rPr b="0" lang="hu-HU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nak hívjá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1C91-4167-4567-9C5F-8BB4EE97CBA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1DCD0B-D0D7-4592-9646-3C6B6B701E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4360" y="685440"/>
            <a:ext cx="815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 Black"/>
                <a:ea typeface="SimSun"/>
              </a:rPr>
              <a:t>Az adatkockához tartozó Cuboid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352680" y="2362320"/>
            <a:ext cx="15264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209680" y="3124080"/>
            <a:ext cx="15264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3124080"/>
            <a:ext cx="15228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495680" y="3124080"/>
            <a:ext cx="15264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05120" y="3886200"/>
            <a:ext cx="15228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410080" y="3962520"/>
            <a:ext cx="15264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48120" y="3962520"/>
            <a:ext cx="15228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352680" y="4876920"/>
            <a:ext cx="152640" cy="228600"/>
          </a:xfrm>
          <a:prstGeom prst="flowChartConnec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85280" y="19954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228564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90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29000" y="243828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980720" y="320040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1980720" y="32004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86000" y="3200400"/>
            <a:ext cx="8380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3124080" y="32004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81280" y="32004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32004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81080" y="39625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24080" y="403848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3428640" y="403848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524600" y="27399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ermé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032280" y="27576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á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03880" y="2681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rsz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45920" y="35434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ermék,dát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27360" y="35434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ermék,orsz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241960" y="35434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Dátum, osz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97680" y="499104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Termék, Dátum, Orsz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49120" y="2286000"/>
            <a:ext cx="19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0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(apex) cub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34360" y="290988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1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 cuboid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34360" y="3900600"/>
            <a:ext cx="159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 cuboid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32200" y="4738680"/>
            <a:ext cx="24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D(alap,base) cub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612BF-9578-4D69-8774-8684652853A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332944-A093-4087-BA6E-A1B3C065B60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676520" y="636120"/>
            <a:ext cx="6843600" cy="6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tékony adatkocka kezel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adatkocka cuboidok hálójaként értelmez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galsó cuboid az alap cub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gfelső cuboid (apex) csak egy c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ány cuboid fordul elő egy </a:t>
            </a:r>
            <a:r>
              <a:rPr b="0" lang="hu-HU" sz="2000" spc="-1" strike="noStrike">
                <a:solidFill>
                  <a:srgbClr val="00007d"/>
                </a:solidFill>
                <a:latin typeface="Arial"/>
              </a:rPr>
              <a:t>n-dimenz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cc3300"/>
                </a:solidFill>
                <a:latin typeface="Arial"/>
              </a:rPr>
              <a:t>L szintből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elépülő adatkockáb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kocka materializáció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0000"/>
                </a:solidFill>
                <a:latin typeface="Arial"/>
              </a:rPr>
              <a:t>full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terialization, Minden cuboid kiszámítása és táro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0000"/>
                </a:solidFill>
                <a:latin typeface="Arial"/>
              </a:rPr>
              <a:t>no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terializ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800000"/>
                </a:solidFill>
                <a:uFillTx/>
                <a:latin typeface="Arial"/>
              </a:rPr>
              <a:t>partial</a:t>
            </a:r>
            <a:r>
              <a:rPr b="0" lang="hu-HU" sz="20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materialization,</a:t>
            </a:r>
            <a:r>
              <a:rPr b="0" lang="hu-HU" sz="2000" spc="-1" strike="noStrike" u="sng">
                <a:solidFill>
                  <a:srgbClr val="666699"/>
                </a:solidFill>
                <a:uFillTx/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ak néhány cuboid materializációja, a lekérdezések gyakorisága, a méret, stb. alapj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4648320" y="3276720"/>
                <a:ext cx="21333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DFD55-45DD-4196-B440-0D48EB93F2F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5FD3E8-DFFA-4B06-91D0-970C27F838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993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pikus Olap Műveletek 0.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1447920" y="1255680"/>
            <a:ext cx="6933960" cy="52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223B-CD72-4D2D-A89C-0EB5294320B0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E5644E-0EEF-4EB2-9435-B810067D3A37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ikus OLAP Műveletek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666699"/>
                </a:solidFill>
                <a:latin typeface="Arial"/>
              </a:rPr>
              <a:t>Roll up (drill-up)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ok összeg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A hierarhikus dimenziók összesítése (nap vs. év) vagy dimenzió redució (pl. nem érdekel minket a h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666699"/>
                </a:solidFill>
                <a:latin typeface="Arial"/>
              </a:rPr>
              <a:t>Drill down (roll down)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roll-up ellentett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Nagyobb szintű összesítésből részletekre bontás, illetve új dimenziók beveze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303440" cy="50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FF2E-7B86-4AE1-B913-DFDE6047047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12F0A1-593E-4591-A270-17F4714EA6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95280" y="404640"/>
            <a:ext cx="723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ikus OLAP Műveletek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920" y="1523880"/>
            <a:ext cx="3352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6699"/>
                </a:solidFill>
                <a:latin typeface="Arial"/>
              </a:rPr>
              <a:t>Slice and dice: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Projekció és szelekci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6699"/>
                </a:solidFill>
                <a:latin typeface="Arial"/>
              </a:rPr>
              <a:t>Pivot (rotate):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 kocka átszervezése, megjelenítés, 3D mint 2D síkok halma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ás művele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6699"/>
                </a:solidFill>
                <a:latin typeface="Arial"/>
              </a:rPr>
              <a:t>drill across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Egynél több ténytábla haszná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666699"/>
                </a:solidFill>
                <a:latin typeface="Arial"/>
              </a:rPr>
              <a:t>drill through: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a kocka alsó szintjének és annak relációs táblájánal (SQL) kapcso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5334120" cy="44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59DF-DF97-456C-8746-50615EC7363E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7F34F4-AD9B-4117-AA1A-16973BB28F2D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520" y="609480"/>
            <a:ext cx="7238880" cy="8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AP lekérdezések hatékony keze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7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ározd meg, milyen műveleteket kell elégezni a cuboidok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7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anszformáld a drill, roll, műveleteket megfelelő SQL és/vagy OLAP műveletekké, dice = selection + pro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7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tározd meg, melyik materializált cuboid(ok) használata szüksé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8C89A-F4E7-4782-A4A6-4CEDA2782DF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30818EE-F16F-4FDD-99BC-37F1943C84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675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illag-Háló lekérdezési 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349880" y="3587760"/>
            <a:ext cx="215640" cy="216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40040" y="30542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901960" y="23684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816360" y="35877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49680" y="35877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454040" y="35877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40040" y="41972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349880" y="457848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349880" y="21398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349880" y="29019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64480" y="57974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950080" y="51116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264280" y="45021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397640" y="35877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254640" y="35877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264280" y="35877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559560" y="21398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825640" y="488304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682640" y="564516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9880" y="5721480"/>
            <a:ext cx="139680" cy="13968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19720" y="3048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419720" y="2286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19720" y="3809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19720" y="47242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10080" y="36576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400800" y="3657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6252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60020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4572000" y="2286000"/>
            <a:ext cx="198108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6705720" y="175248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886200" y="3809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>
            <a:off x="2971440" y="4343400"/>
            <a:ext cx="762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828800" y="495252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8862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048120" y="251460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981080" y="17524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0" y="380988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10080" y="46483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5880" y="5257800"/>
            <a:ext cx="7621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010280" y="5943600"/>
            <a:ext cx="3812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19720" y="5867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>
            <a:off x="1219320" y="57913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91440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4380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973440" y="1424160"/>
            <a:ext cx="1780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ipping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203840" y="2262240"/>
            <a:ext cx="163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-EX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727000" y="294804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479840" y="2795760"/>
            <a:ext cx="95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19720" y="1600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412080" y="1271520"/>
            <a:ext cx="175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 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79840" y="203364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374960" y="1652760"/>
            <a:ext cx="107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8060760" y="3481560"/>
            <a:ext cx="89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690600" y="3862440"/>
            <a:ext cx="208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46520" y="3252960"/>
            <a:ext cx="18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784400" y="3786120"/>
            <a:ext cx="186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94240" y="4395960"/>
            <a:ext cx="18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079680" y="500544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071480" y="5691240"/>
            <a:ext cx="119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297920" y="6224760"/>
            <a:ext cx="138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793320" y="6224760"/>
            <a:ext cx="11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574720" y="4167360"/>
            <a:ext cx="71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13320" y="4700520"/>
            <a:ext cx="128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93640" y="5462640"/>
            <a:ext cx="104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87280" y="6072120"/>
            <a:ext cx="100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60880" y="3710160"/>
            <a:ext cx="89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9348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T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99280" y="371016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U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7640" y="3481560"/>
            <a:ext cx="66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819520" y="3657600"/>
            <a:ext cx="75960" cy="129528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895480" y="4952880"/>
            <a:ext cx="3124440" cy="22860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6019920" y="3657240"/>
            <a:ext cx="1447560" cy="152388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419720" y="2209680"/>
            <a:ext cx="3047760" cy="144792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819520" y="2209680"/>
            <a:ext cx="1600200" cy="144792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600200" y="5943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circle is called a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Tahoma"/>
              </a:rPr>
              <a:t>foot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C11C-A538-4CB6-960C-8C0CD8E435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DF9FA5-F7E8-490F-8828-D625960F65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76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élda adattárház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95640" y="1697040"/>
            <a:ext cx="4647960" cy="46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09D66-CB38-4605-A19B-4C8186E7858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BC275D-185D-4F92-955B-3345DAA32A18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öbbdimenziós adatbázi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12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ultidimensional databases (MDD) nem teljesen új ötlet. Kb. 20 éve, az EXPRESS szoftvercso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b. a 90’-es évektől a relációs adatbázis szállítók felfrissítették a termékeik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ösképp, csillag és hópihe sémát alkalmazn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MDD az adatokat n-dimenziós adatkockában tárolja. Ez valójában ritka mátrixokat eredmény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multán módon vizsgálhatóak a különböző jellegű jellemzők, pl. termékek, régiók, eladások, költségek. A lényeg, az MDD-ben az idő szintén dimezi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MDD relációs adatbázisokkal szembeni legfőbb előnye, hogy a lekérdezések egyszerűségére, illetve sebességére van optimalizá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3D4C-4888-4267-983A-53CAE9614F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E17B2D-5B9A-418A-90D4-4CF0CC13E090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371600" y="547200"/>
            <a:ext cx="72388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ől volt sz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modell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lációs adatmodell (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ulti-dimenzionális adatmod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oncepcionális modelle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datkoc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LAP műve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7680-766F-4600-ACB4-CDDC1DF4BB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ACE119-15CB-4221-B5D2-184A86EB765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371600" y="547200"/>
            <a:ext cx="72388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ől lesz sz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ttárházak struktúrá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vezési folyamat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gvalósítási modell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tstruktúra terve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S RW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0237F-AF8E-429C-A379-C8B79BE095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528BE8-AA16-448F-B63F-379316D9F331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658800" y="1166760"/>
            <a:ext cx="8161200" cy="499896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539640" y="404640"/>
            <a:ext cx="820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ikus adattárház architektú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9C28-B225-4923-BC65-14DEC3E5F4EB}" type="slidenum">
              <a:t>7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77087A-E22A-4B92-B476-79827015173B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124080" y="2647800"/>
            <a:ext cx="2011320" cy="1600200"/>
          </a:xfrm>
          <a:prstGeom prst="flowChartMagneticDisk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19520" y="514440"/>
            <a:ext cx="5943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öbbszintű architektú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258920" y="372960"/>
            <a:ext cx="6705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50880" y="3181320"/>
            <a:ext cx="155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81680" y="1809720"/>
            <a:ext cx="1968480" cy="3568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2880" y="2959200"/>
            <a:ext cx="901440" cy="749160"/>
          </a:xfrm>
          <a:prstGeom prst="rightArrow">
            <a:avLst>
              <a:gd name="adj1" fmla="val 75009"/>
              <a:gd name="adj2" fmla="val 6016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1904400" y="2419200"/>
            <a:ext cx="1229400" cy="2197080"/>
            <a:chOff x="1904400" y="2419200"/>
            <a:chExt cx="1229400" cy="2197080"/>
          </a:xfrm>
        </p:grpSpPr>
        <p:sp>
          <p:nvSpPr>
            <p:cNvPr id="886" name=""/>
            <p:cNvSpPr/>
            <p:nvPr/>
          </p:nvSpPr>
          <p:spPr>
            <a:xfrm>
              <a:off x="1927440" y="2419200"/>
              <a:ext cx="1206360" cy="2197080"/>
            </a:xfrm>
            <a:prstGeom prst="rightArrow">
              <a:avLst>
                <a:gd name="adj1" fmla="val 75009"/>
                <a:gd name="adj2" fmla="val 5000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904400" y="2922480"/>
              <a:ext cx="11509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ns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fres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4876920" y="6000840"/>
            <a:ext cx="1904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AP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083720" y="2495520"/>
            <a:ext cx="1702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733920" y="1428840"/>
            <a:ext cx="1143000" cy="990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209680" y="1428840"/>
            <a:ext cx="932040" cy="914040"/>
            <a:chOff x="2209680" y="1428840"/>
            <a:chExt cx="932040" cy="914040"/>
          </a:xfrm>
        </p:grpSpPr>
        <p:sp>
          <p:nvSpPr>
            <p:cNvPr id="892" name=""/>
            <p:cNvSpPr/>
            <p:nvPr/>
          </p:nvSpPr>
          <p:spPr>
            <a:xfrm>
              <a:off x="2214360" y="2013840"/>
              <a:ext cx="920880" cy="32904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09680" y="1631160"/>
              <a:ext cx="932040" cy="568440"/>
            </a:xfrm>
            <a:custGeom>
              <a:avLst/>
              <a:gdLst/>
              <a:ahLst/>
              <a:rect l="l" t="t" r="r" b="b"/>
              <a:pathLst>
                <a:path w="769" h="413">
                  <a:moveTo>
                    <a:pt x="12" y="412"/>
                  </a:moveTo>
                  <a:lnTo>
                    <a:pt x="0" y="318"/>
                  </a:lnTo>
                  <a:lnTo>
                    <a:pt x="0" y="244"/>
                  </a:lnTo>
                  <a:lnTo>
                    <a:pt x="0" y="147"/>
                  </a:lnTo>
                  <a:lnTo>
                    <a:pt x="0" y="73"/>
                  </a:lnTo>
                  <a:lnTo>
                    <a:pt x="0" y="0"/>
                  </a:lnTo>
                  <a:lnTo>
                    <a:pt x="768" y="10"/>
                  </a:lnTo>
                  <a:lnTo>
                    <a:pt x="768" y="412"/>
                  </a:lnTo>
                  <a:lnTo>
                    <a:pt x="768" y="412"/>
                  </a:lnTo>
                </a:path>
              </a:pathLst>
            </a:custGeom>
            <a:solidFill>
              <a:srgbClr val="fcfeb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214360" y="1428840"/>
              <a:ext cx="920880" cy="3564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2284560" y="1809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24080" y="1886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0840" y="5924520"/>
            <a:ext cx="180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932520" y="6000840"/>
            <a:ext cx="2026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-E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70560" y="3089160"/>
            <a:ext cx="104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91320" y="2114640"/>
            <a:ext cx="755640" cy="679320"/>
          </a:xfrm>
          <a:prstGeom prst="cube">
            <a:avLst>
              <a:gd name="adj" fmla="val 24995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867280" y="4095720"/>
            <a:ext cx="679680" cy="679320"/>
          </a:xfrm>
          <a:prstGeom prst="cube">
            <a:avLst>
              <a:gd name="adj" fmla="val 24995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76720" y="4324320"/>
            <a:ext cx="291960" cy="2919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648320" y="4324320"/>
            <a:ext cx="291960" cy="2919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62520" y="4324320"/>
            <a:ext cx="291960" cy="2919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56520" y="5315040"/>
            <a:ext cx="10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5029200" y="2495160"/>
            <a:ext cx="68580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334120" y="4629240"/>
            <a:ext cx="45720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48120" y="4705200"/>
            <a:ext cx="671400" cy="6098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9880" y="4705200"/>
            <a:ext cx="671760" cy="6098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0" y="4705200"/>
            <a:ext cx="671400" cy="60984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228600" y="1276200"/>
            <a:ext cx="1587240" cy="3879720"/>
            <a:chOff x="228600" y="1276200"/>
            <a:chExt cx="1587240" cy="3879720"/>
          </a:xfrm>
        </p:grpSpPr>
        <p:sp>
          <p:nvSpPr>
            <p:cNvPr id="912" name=""/>
            <p:cNvSpPr/>
            <p:nvPr/>
          </p:nvSpPr>
          <p:spPr>
            <a:xfrm>
              <a:off x="907920" y="2571480"/>
              <a:ext cx="749160" cy="27324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28600" y="1276200"/>
              <a:ext cx="1587240" cy="387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74400" y="2571480"/>
              <a:ext cx="749520" cy="27324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2600" y="2876400"/>
              <a:ext cx="1343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tion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0720" y="1809720"/>
              <a:ext cx="109872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73120" y="4384440"/>
              <a:ext cx="699840" cy="457200"/>
            </a:xfrm>
            <a:prstGeom prst="flowChartMagneticDisk">
              <a:avLst/>
            </a:prstGeom>
            <a:solidFill>
              <a:srgbClr val="9a8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5400" y="3957480"/>
              <a:ext cx="700200" cy="457200"/>
            </a:xfrm>
            <a:prstGeom prst="flowChartMagneticDisk">
              <a:avLst/>
            </a:prstGeom>
            <a:solidFill>
              <a:srgbClr val="9a8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69840" y="3516120"/>
              <a:ext cx="700200" cy="457200"/>
            </a:xfrm>
            <a:prstGeom prst="flowChartMagneticDisk">
              <a:avLst/>
            </a:prstGeom>
            <a:solidFill>
              <a:srgbClr val="9a8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1905120" y="127620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410080" y="1352520"/>
            <a:ext cx="0" cy="4114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629400" y="1352520"/>
            <a:ext cx="0" cy="4114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588760" y="6000840"/>
            <a:ext cx="158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rot="5400000">
            <a:off x="952200" y="497196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5400000">
            <a:off x="3504960" y="4171680"/>
            <a:ext cx="152280" cy="3200400"/>
          </a:xfrm>
          <a:custGeom>
            <a:avLst/>
            <a:gdLst>
              <a:gd name="textAreaLeft" fmla="*/ 0 w 152280"/>
              <a:gd name="textAreaRight" fmla="*/ 5508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rot="5400000">
            <a:off x="5981400" y="520056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rot="5400000">
            <a:off x="7733880" y="4743360"/>
            <a:ext cx="152280" cy="2057400"/>
          </a:xfrm>
          <a:custGeom>
            <a:avLst/>
            <a:gdLst>
              <a:gd name="textAreaLeft" fmla="*/ 0 w 152280"/>
              <a:gd name="textAreaRight" fmla="*/ 5508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34120" y="1657440"/>
            <a:ext cx="15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AP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48120" y="2343240"/>
            <a:ext cx="3045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21C08-9455-4739-8400-734B014E8264}" type="slidenum">
              <a:t>7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9F009-0849-420E-95F7-3FFA4C9E8E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905120" y="6854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z adattárház felépít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árom tipikus kom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ga az adattárház, az adatokkal és a hozzá tartozó szoftver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gyűtjő (back end) szoftver mely a külső forrásokból származó adatokat konszolidálja, összegzi, és betölti az adattárházba </a:t>
            </a:r>
            <a:r>
              <a:rPr b="0" lang="hu-HU" sz="2400" spc="-1" strike="noStrike">
                <a:solidFill>
                  <a:srgbClr val="cc3300"/>
                </a:solidFill>
                <a:latin typeface="Arial"/>
              </a:rPr>
              <a:t>E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liens oldali (front-end) szoftver mely lehetővé teszi a felhasználóknak, hogy elérjék és elemezzék az adat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D450-A934-4F23-9D65-DEE79DC2DDD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E5AEED-EB95-42DE-B577-55E0F195F441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dattárház struktúrális elem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2492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87E29-50B7-436F-8D99-9E930533C69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ACFC13-33D2-43CD-B886-E956D2B2F06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 for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28600" y="1699920"/>
            <a:ext cx="470376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perációs(„operatív”~mű-ködési) adatbázi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isztorikus adat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ső adatforrások (Inter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platformok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módon strukturált informá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strukturált infó: Képek, multimédia szöv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505400" cy="32180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5334120" y="3733920"/>
            <a:ext cx="2971800" cy="60948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FCAF-142D-428C-AECD-D452C1449C7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AA3F06-9C03-44F1-BA1E-89912791159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xtrakció/propag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3529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orrások-ból az adatok gyűjté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elektív folyamat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releváns információ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lling (Extrakci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ushing (Propag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4211640" y="2057400"/>
            <a:ext cx="4932360" cy="37083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4952880" y="4648320"/>
            <a:ext cx="3200400" cy="22860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D9BE-56F5-493D-AF4C-6AC971A5ACD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94FDD0-4714-4DE9-BF51-00E9059F1967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" descr=""/>
          <p:cNvPicPr/>
          <p:nvPr/>
        </p:nvPicPr>
        <p:blipFill>
          <a:blip r:embed="rId1"/>
          <a:stretch/>
        </p:blipFill>
        <p:spPr>
          <a:xfrm>
            <a:off x="3952800" y="2057400"/>
            <a:ext cx="5191200" cy="370836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10920" y="591840"/>
            <a:ext cx="784692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zformáció/Tiszt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ód feloldá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pp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1: férfi, 2 nő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jtett üzleti szabályok felol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számlaszám, vonalkód felép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sztítás (clean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ányzó értékek pót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ormalizálás (pl. euró, dollá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zisztens reprezent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343400"/>
            <a:ext cx="3200400" cy="38088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2B84-2C8C-4FDA-9308-2C603B52835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FF5991-B1AF-4429-B2AD-C9B3512A3E9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ért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ált módon tárolt adatokhoz egyszerű hozzáfé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ülönböző formátumok, platfor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én adatforráso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ttiszt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ű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talak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rolás könnyen hozzáférhető és áttekinthető form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C1DA-2827-491D-9802-E9C57824B8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19AC92-1F29-4B0B-A643-11FE17228B9C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3952800" y="1676520"/>
            <a:ext cx="5191200" cy="370836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826920" y="591840"/>
            <a:ext cx="76312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inomítás-Ref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28600" y="1268280"/>
            <a:ext cx="40384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ész adathalmazok gener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ott me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formációk összegzése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summar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ranuláltság szintjét változtat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799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heti 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formációk aggreg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oportok gener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799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termékcsoportok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pp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799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1: férfi, 2 nő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ejtett üzleti szabályok felol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99960" indent="-79920"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számlaszám, vonalkód felép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sztítás (cleans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iányzó értékek pót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ormalizálás (pl. euró, dollá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-9972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nzisztens reprezent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9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952880" y="2819520"/>
            <a:ext cx="1905120" cy="38088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2C30-197C-47E1-B7DF-7805423417A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22850E-82E6-49E1-B569-821707F8D8A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" descr=""/>
          <p:cNvPicPr/>
          <p:nvPr/>
        </p:nvPicPr>
        <p:blipFill>
          <a:blip r:embed="rId1"/>
          <a:stretch/>
        </p:blipFill>
        <p:spPr>
          <a:xfrm>
            <a:off x="3952800" y="1676520"/>
            <a:ext cx="5191200" cy="370836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86200" y="591840"/>
            <a:ext cx="45720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p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4419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eciális döntésekhez sza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-aggregált információ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gfelhasználók hozzáférésének kontrolá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eciális információkhoz gyors hozzáfér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égfelhasználóknak interfé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árház kiegész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ensúly az adatpiacok száma és specializáltsága (egyszerűsége)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952880" y="2286000"/>
            <a:ext cx="1905120" cy="60948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19120" y="5538960"/>
            <a:ext cx="407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Gyakori probléma, hogy felépítése Osztály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ól osztályra  változik. Ezért az adattár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ázak integrációja bonyolult felad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95B52-7402-4541-94DE-93745983A8B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BDB413-D1FF-4A0A-BA89-23228AD7B02F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" descr=""/>
          <p:cNvPicPr/>
          <p:nvPr/>
        </p:nvPicPr>
        <p:blipFill>
          <a:blip r:embed="rId1"/>
          <a:stretch/>
        </p:blipFill>
        <p:spPr>
          <a:xfrm>
            <a:off x="3952800" y="1905120"/>
            <a:ext cx="5191200" cy="370836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886200" y="591840"/>
            <a:ext cx="45720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-ada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419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tegóriák segítségével struktúrálja az adattárház adat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éma orientált: a valós egyedek absztrakció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finiálja, hogy kell a transzformált adatot interpretál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 dátum 5/9/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aszidő becslésére alkalmas, pl. rekordo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rmaztatott változók számításának leír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8458200" y="1752480"/>
            <a:ext cx="457200" cy="396252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4E757-5DA7-4C8D-99C5-89FA7612925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55CC91-DCCC-4429-9338-8E68EC4ACB21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-adatok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476760" cy="401796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228600" y="3581280"/>
            <a:ext cx="46306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ípu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chnik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adattárház üzemeltetésé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le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üzleti elemzők és az adattárház kapcsolatát segíti, pl.Üzleti szakkifelyezés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800600" y="4343400"/>
            <a:ext cx="4343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rása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ál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umentált, ismertete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ál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yományok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ső ökölszabály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00F3-E41D-4B28-B016-FDE5B4356E6F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28D969-978D-4B95-AF8A-A3CFF93DA344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3952800" y="1676520"/>
            <a:ext cx="5191200" cy="370836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Operational Data Store (O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28600" y="1253880"/>
            <a:ext cx="4703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lalat egészét érintő döntéshozáshoz felhasználhat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prakészen tartható integrált a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éma orientá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egrá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prakész (current val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féleképpen értelmezhető (pl. e könyvelési 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llékony (ami ma naprakész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észl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858000" y="2666880"/>
            <a:ext cx="1371600" cy="838440"/>
          </a:xfrm>
          <a:prstGeom prst="rect">
            <a:avLst/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7756-C072-4041-871E-9BD8B282BC8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04EC03-DC7E-402F-9B7D-7F9F9A90A0DB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árház tervezési folya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Architektúra megválaszt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Implementációs mód megválasztá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Kivitelezés (rolling ou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AS Rapid Warehousing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E1B8-71AE-475A-8D62-ABAA7ED1F09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8C4502-3869-496A-96D9-C5F1FD0B0B95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68000" y="129960"/>
            <a:ext cx="905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ktúra megválasztása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" descr=""/>
          <p:cNvPicPr/>
          <p:nvPr/>
        </p:nvPicPr>
        <p:blipFill>
          <a:blip r:embed="rId1"/>
          <a:stretch/>
        </p:blipFill>
        <p:spPr>
          <a:xfrm>
            <a:off x="1447920" y="2359080"/>
            <a:ext cx="8124840" cy="4498920"/>
          </a:xfrm>
          <a:prstGeom prst="rect">
            <a:avLst/>
          </a:prstGeom>
          <a:ln w="0">
            <a:noFill/>
          </a:ln>
        </p:spPr>
      </p:pic>
      <p:sp>
        <p:nvSpPr>
          <p:cNvPr id="971" name=""/>
          <p:cNvSpPr/>
          <p:nvPr/>
        </p:nvSpPr>
        <p:spPr>
          <a:xfrm>
            <a:off x="298800" y="1066680"/>
            <a:ext cx="5929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obális adattárház architektú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gész vállalatot támogat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élreértés, hogy centralizál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láne nem fizikail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állalat informatikusa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üzemelt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FD32-86A6-475D-A1D9-7EAFA54258EB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DB90FF-1785-4014-BE48-E116301FDDD9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179280" y="576360"/>
            <a:ext cx="8772480" cy="55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9B8EE-F042-42F6-9E87-158B25D651F6}" type="slidenum">
              <a:t>8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59E3B5-1A72-45BD-8EEF-EABC7BB06DAA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142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ktúra megválasztása I. Adatpiac architektú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6162840" cy="4362480"/>
          </a:xfrm>
          <a:prstGeom prst="rect">
            <a:avLst/>
          </a:prstGeom>
          <a:ln w="0">
            <a:noFill/>
          </a:ln>
        </p:spPr>
      </p:pic>
      <p:sp>
        <p:nvSpPr>
          <p:cNvPr id="975" name=""/>
          <p:cNvSpPr/>
          <p:nvPr/>
        </p:nvSpPr>
        <p:spPr>
          <a:xfrm>
            <a:off x="5867280" y="1981080"/>
            <a:ext cx="288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ülönböző osztály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yi üzemelte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csi erőforrás ig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5600" y="4343400"/>
            <a:ext cx="30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összehangolá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őfeszítéseket igény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zzáférési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ogosultsá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DB7A-0E4D-45A8-8C4B-1295B3244076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FA1588-3B51-42E7-87EE-E2A58722F00D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685800" y="692280"/>
            <a:ext cx="7772400" cy="544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99B3B-9EC2-4BC1-889A-1FE7030B6CE6}" type="slidenum">
              <a:t>8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C2D337-79B2-4A0B-A1D2-6E96E833F36E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1295280"/>
            <a:ext cx="4419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OLTP: 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Hogyan vigyünk be és tároljunk adatokat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DSS: Decision Support System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, Hogyan nyerjünk ki információ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0000"/>
                </a:solidFill>
                <a:latin typeface="Arial"/>
              </a:rPr>
              <a:t>EIS: Executive Information System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, Hogyan használjuk az információ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függés és téma orientá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rend-adatok (időbelisé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ran nem normá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öbb forrás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822920" y="1523880"/>
          <a:ext cx="409248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2920" y="1523880"/>
                    <a:ext cx="409248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7628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árház funkció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4474-50FC-443C-AED3-516B9D0A383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307EE9-060E-4973-AD05-841DB866EC6E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0880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ét tűz közö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523880" y="19810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086600" y="19810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791320" y="19810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048120" y="198108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00200" y="2133720"/>
            <a:ext cx="3809880" cy="581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3300"/>
                </a:solidFill>
                <a:latin typeface="Times New Roman"/>
              </a:rPr>
              <a:t>Amit szeret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é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429000" y="4952880"/>
            <a:ext cx="365760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ink 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59280" y="3068640"/>
            <a:ext cx="2743200" cy="13737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  kivitelezhető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és has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33526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685800" y="21333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-21240" y="265104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elhasznál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lap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948440" y="54100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7948440" y="419076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523280" y="4708440"/>
            <a:ext cx="90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r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lap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73356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791320" y="60958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62520" y="58672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at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1599840" y="1676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657600" y="16765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658960" y="1447920"/>
            <a:ext cx="10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Igények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2C3E7-45D6-463A-9CDC-8F0C1273BBAE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07104F-E5FA-4876-AF30-F7AA79A7B33E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80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„csata” szereplői és szerepü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050920" y="1268280"/>
            <a:ext cx="4525920" cy="525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020F-0F02-4CC2-B280-0C7B21D8920B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D7E04D-D676-47A6-80A2-0C6F9707500A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4267080" cy="263016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4284720" y="2708280"/>
            <a:ext cx="0" cy="2057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754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-Down Implement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0" y="119808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83240" indent="-1832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formációs 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56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zleti koncepci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3240" indent="-1832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leti elem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56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Igények felmér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56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0000"/>
                </a:solidFill>
                <a:latin typeface="Arial"/>
              </a:rPr>
              <a:t>Tev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ékenység felmér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3240" indent="-1832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gikai adatmodell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56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0000"/>
                </a:solidFill>
                <a:latin typeface="Arial"/>
              </a:rPr>
              <a:t>Generáló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dat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56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Felhasználó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datmod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856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dek és reláció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3240" indent="-1832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zikai adatterv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560" indent="-268560"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zikai korlátok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pl. tároló kapacitá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19680" y="195264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ázisokból álló modell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4360" y="544500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Veszély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8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Túl általános célból fakadóan túl összetett felad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úl sok egység összehangol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1E77-04F0-41C1-9160-D3B8984CCF2F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73C8B2-8B1F-4A34-B72B-674D3D952EF1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Arial"/>
              </a:rPr>
              <a:t>Bottom-Up implementáci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4419720" cy="235440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788000" y="1484280"/>
            <a:ext cx="39621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136440" indent="-1364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ször adat piacokat hoznak lé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indent="-1364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épéseről lépésre bőví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indent="-1364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0000"/>
                </a:solidFill>
                <a:latin typeface="Arial"/>
              </a:rPr>
              <a:t>Rögtön hasznosuló ered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Lehetséges hátrány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indent="-1364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 redund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indent="-1364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konzisz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6440" indent="-13644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héz az adatpiacok integrá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37F5C-A7EE-44E2-9EF8-D178621BBDD8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767D03-84ED-42C3-A932-3B00EE30DFE9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539640" y="6922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Résztvevők </a:t>
            </a:r>
            <a:br>
              <a:rPr sz="44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AS Rapid Warehousing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143000" y="2205000"/>
            <a:ext cx="7238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1000"/>
          </a:bodyPr>
          <a:p>
            <a:pPr marL="158040" indent="-1580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sztán meghatározott felelőségi körö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ugalmas feladatkörö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9640" indent="-138600">
              <a:lnSpc>
                <a:spcPct val="10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s projekt, egy személy több szerepkö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8040" indent="-1580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0000"/>
                </a:solidFill>
                <a:latin typeface="Arial"/>
              </a:rPr>
              <a:t>Kulcsfeladatok és szereplő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zetői szponz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ojekt menedzs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tárház tervező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9640" indent="-138600">
              <a:lnSpc>
                <a:spcPct val="9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ogical és phys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tárház adminisztrátor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dat adminisztrátor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pítő csap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T szakértő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őségbiztosításért felelősö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9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8040" indent="-15804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1480">
              <a:lnSpc>
                <a:spcPct val="10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49999-2BCF-4CD1-8878-717BD355A603}" type="slidenum">
              <a:t>9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B23EAD-612D-4471-9336-055049BFCBE3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459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vezés és kivitelezés (rolling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Definiálni 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az architektúrát, </a:t>
            </a: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megtervezni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 a kapacitást, és </a:t>
            </a: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kiválasztani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 a tároló szervereket, az adatbázist és az OLAP szervereket, valamint az eszközö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Integrálni</a:t>
            </a: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 a szervereket, a tárolókat és a kliens eszközö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7d"/>
                </a:solidFill>
                <a:latin typeface="Times New Roman"/>
              </a:rPr>
              <a:t>Megtervezni az adatmodell sémáit és nézeteket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Definiálni a fizikai adattárház szerveződést, az adat elhelyezést, a részekre bontást és az elérési módszere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Times New Roman"/>
              </a:rPr>
              <a:t>A forrásokhoz kapcsolódni átjárók (gateway), ODBC meghajtók vagy egyéb wrapper-ek segítségé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atok kivonására, tisztítására, átalakítására, betöltésére és frissítésére script-eket tervezni és implementálni.E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 végfelhasználói (end-user) alkalmazások </a:t>
            </a:r>
            <a:r>
              <a:rPr b="0" i="1" lang="hu-HU" sz="2400" spc="-1" strike="noStrike">
                <a:solidFill>
                  <a:srgbClr val="00007d"/>
                </a:solidFill>
                <a:latin typeface="Times New Roman"/>
              </a:rPr>
              <a:t>megtervezés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és implementálá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-163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ivitelezni (roll out) az adattárházat és az alkalmazások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3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CCF1-047C-47C8-B9F0-47A8BC586947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8237C5-C806-4F1D-9BF8-2F04830B5C60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51544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ttárház tervezésének nézete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gy néz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7d"/>
                </a:solidFill>
                <a:latin typeface="Arial"/>
              </a:rPr>
              <a:t>Top-down</a:t>
            </a:r>
            <a:r>
              <a:rPr b="0" lang="hu-HU" sz="2400" spc="-1" strike="noStrike">
                <a:solidFill>
                  <a:srgbClr val="666699"/>
                </a:solidFill>
                <a:latin typeface="Arial"/>
              </a:rPr>
              <a:t>” n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engedi az adattárházhoz szükséges információk kiválasztás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7d"/>
                </a:solidFill>
                <a:latin typeface="Arial"/>
              </a:rPr>
              <a:t>Data source</a:t>
            </a:r>
            <a:r>
              <a:rPr b="0" lang="hu-HU" sz="2400" spc="-1" strike="noStrike">
                <a:solidFill>
                  <a:srgbClr val="666699"/>
                </a:solidFill>
                <a:latin typeface="Arial"/>
              </a:rPr>
              <a:t> (adat forrás) n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tárja a tárolandó és kezelendő információ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7d"/>
                </a:solidFill>
                <a:latin typeface="Arial"/>
              </a:rPr>
              <a:t>Adattárház</a:t>
            </a:r>
            <a:r>
              <a:rPr b="0" lang="hu-HU" sz="2400" spc="-1" strike="noStrike">
                <a:solidFill>
                  <a:srgbClr val="666699"/>
                </a:solidFill>
                <a:latin typeface="Arial"/>
              </a:rPr>
              <a:t> n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ény- és dimenziótáblákban gondolkod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lang="hu-HU" sz="2400" spc="-1" strike="noStrike">
                <a:solidFill>
                  <a:srgbClr val="00007d"/>
                </a:solidFill>
                <a:latin typeface="Arial"/>
              </a:rPr>
              <a:t>Business query</a:t>
            </a:r>
            <a:r>
              <a:rPr b="0" lang="hu-HU" sz="2400" spc="-1" strike="noStrike">
                <a:solidFill>
                  <a:srgbClr val="666699"/>
                </a:solidFill>
                <a:latin typeface="Arial"/>
              </a:rPr>
              <a:t>” né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égfelhasználó szemszögéből, azaz az alkalmazási oldalról indu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ABF0-8B7B-4532-B2D6-AF6092333AA5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9E17912-A566-40A6-8B71-C9146C0803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vezési módszertanok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p-down, bottom-up megközelítések vagy ezek kombináció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Top-dow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Általános terv alapú (átgondo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Bottom-u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Kísérletekre és prototípusokra épít  (gy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„software engineering” nézőpontbó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Waterfa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 (Vízesés): Struktúrált és szisztematikus elemzés minden lépés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Arial"/>
              </a:rPr>
              <a:t>Spira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 Gyors  generálása az egyre összetettebb egységeknek, visszatéré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83976-1ABD-41D5-B29C-EDB89B21CFEB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01DEF4-A5B9-425A-90AE-120ECBAEB9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vasolt megközelítésmó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292720" y="148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Tier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(Szi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B32E-B3A9-4FF9-A023-21A671E21919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582A61-4FF7-4588-8044-5A733A99F2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6847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eratív adattárház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791320" cy="377964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4495680" y="3656160"/>
            <a:ext cx="4648320" cy="320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ttárházak és kiaknázásu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D62E-7FDF-4F8E-B155-397572D17F74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BB348A-6A4D-4D37-B609-A4391EDC8396}" type="datetime1">
              <a:rPr lang="en-US"/>
              <a:t>07/28/26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0T17:12:34Z</dcterms:created>
  <dc:creator>Janos Abonyi</dc:creator>
  <dc:description/>
  <dc:language>en-US</dc:language>
  <cp:lastModifiedBy>Dr. Péterfia Tamás</cp:lastModifiedBy>
  <cp:lastPrinted>2002-02-07T08:42:45Z</cp:lastPrinted>
  <dcterms:modified xsi:type="dcterms:W3CDTF">2009-02-27T10:15:42Z</dcterms:modified>
  <cp:revision>477</cp:revision>
  <dc:subject/>
  <dc:title>No Slide Title</dc:title>
</cp:coreProperties>
</file>