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26.wmf" ContentType="image/x-wmf"/>
  <Override PartName="/ppt/media/image25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.wmf" ContentType="image/x-wmf"/>
  <Override PartName="/ppt/media/image28.png" ContentType="image/png"/>
  <Override PartName="/ppt/media/image31.wmf" ContentType="image/x-wmf"/>
  <Override PartName="/ppt/media/image2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37.wmf" ContentType="image/x-wmf"/>
  <Override PartName="/ppt/media/image38.wmf" ContentType="image/x-wmf"/>
  <Override PartName="/ppt/media/image39.wmf" ContentType="image/x-wmf"/>
  <Override PartName="/ppt/media/image43.wmf" ContentType="image/x-wmf"/>
  <Override PartName="/ppt/media/image51.jpeg" ContentType="image/jpeg"/>
  <Override PartName="/ppt/media/image45.wmf" ContentType="image/x-wmf"/>
  <Override PartName="/ppt/media/image47.wmf" ContentType="image/x-wmf"/>
  <Override PartName="/ppt/media/image36.wmf" ContentType="image/x-wmf"/>
  <Override PartName="/ppt/media/image14.wmf" ContentType="image/x-wmf"/>
  <Override PartName="/ppt/media/image53.png" ContentType="image/png"/>
  <Override PartName="/ppt/media/image48.wmf" ContentType="image/x-wmf"/>
  <Override PartName="/ppt/media/image30.png" ContentType="image/png"/>
  <Override PartName="/ppt/media/image46.wmf" ContentType="image/x-wmf"/>
  <Override PartName="/ppt/media/image50.jpeg" ContentType="image/jpeg"/>
  <Override PartName="/ppt/media/image13.png" ContentType="image/png"/>
  <Override PartName="/ppt/media/image44.wmf" ContentType="image/x-wmf"/>
  <Override PartName="/ppt/media/image52.jpeg" ContentType="image/jpeg"/>
  <Override PartName="/ppt/media/image41.wmf" ContentType="image/x-wmf"/>
  <Override PartName="/ppt/media/image8.png" ContentType="image/png"/>
  <Override PartName="/ppt/media/image35.wmf" ContentType="image/x-wmf"/>
  <Override PartName="/ppt/media/image34.wmf" ContentType="image/x-wmf"/>
  <Override PartName="/ppt/media/image32.wmf" ContentType="image/x-wmf"/>
  <Override PartName="/ppt/media/image12.png" ContentType="image/png"/>
  <Override PartName="/ppt/media/image42.wmf" ContentType="image/x-wmf"/>
  <Override PartName="/ppt/media/image9.png" ContentType="image/png"/>
  <Override PartName="/ppt/media/image40.wmf" ContentType="image/x-wmf"/>
  <Override PartName="/ppt/media/image7.png" ContentType="image/png"/>
  <Override PartName="/ppt/media/image11.png" ContentType="image/png"/>
  <Override PartName="/ppt/media/image29.wmf" ContentType="image/x-wm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57A1-6CBB-4B5E-839C-945F58B57FB6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D431-CCF0-4547-9057-1B779007CC5E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lnök ur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isztelt hallgatóság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Szakmai hátteret biztosíto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840A-066F-4E03-94A1-0E5B08AA3AE1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6A46-8141-4843-8334-5EA8043CCAF3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Mégegyszer: a gyakran látogatott lapok kategóriá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Gyakori elemhalmazok bányászatának alapvető lépése, hogy meghatározzunk ilyen küszöbérték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A5DF-B0DE-44A7-B188-EBE84787A80D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bányászó algoritmusok ennek felhasználásával keresik meg az 1 elem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2 elemű és több elemű gyakori elemhalmazokat, melyek egy újabb listát alkotn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módszerünk ezeket a gyakori elemhalmazokat jeleníti meg és mutat meg összefüggéseket elemhalmazok közöt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C7F9-1BAB-4690-B16D-CFE653520F79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E3AA-9E17-40CE-A267-7E75B90C87F2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C623-C449-44D8-B7C1-FC26F128A234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0A15-1E25-4794-A291-8A11DF813F1C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ABF0-3FD2-445D-A42B-0763CDB39894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268A-6F9B-4EFC-B2DA-DDFFB4754884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7538-81EE-4C7D-8AA6-2AC9CCA866C7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Példa, melyet a prezentációban végig használ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lapvető fogalom tisztázá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Vázolni a saját módszert és ennek eredményét a galaxis sémá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515E-0185-46D4-A7D8-681512B01495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4068-89EF-4E0A-B425-C14F1212765F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660D-6451-4B53-9527-30F1F8459CA6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E0BA-B4B0-44B0-A509-FA550F1B79AF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F9DC-ADCF-4CEC-A9D0-1017CAE8BEA2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Célunk az volt, hogy egy olyan mértéket állapítsunk meg, mellyel bármely két elemhalmaz közötti távolságot meg tudjunk határozn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zt a gyakoriságokra alapozva oldottuk meg. Nézzük meg, hogyan határozzuk meg két elemhalmaz (AB és AC) közötti távolságo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képletbe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ört számlálója: a két elemhalmaz közös előfordulá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ört nevezője: a két elemhalmaz előfordulása külön-külö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Érezhető, hogy a számláló mindig kisebb mint a nevező, így 0 és 1 közötti értéket kapunk, mind a törtre mind a mérték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iszámoljuk minden lehetséges elemhalmaz párra a távolságokat, összegyűjtjük egy mátrixba, amely a megjelenítési módszer alapvető követelmén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BB13-ABCF-41BD-BE3F-169E0CF206F4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Régóta használt módszer a statisztikában és az adatelemzés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Lényege, hogy többdimenziós adatsort levetít egy kisebb dimenziós adatsorra úgy hogy az adatok közötti távolságot próbálja megőrizn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Hibafüggvé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adatok közötti távolságok négyezetes eltéréseit foglalja magáb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2A56-691F-4495-B0E3-EE996936AC38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ehát eljutottunk oda, hogy megvannak az elemhalmazaink, tudjuk a közöttük lévő távolságokat, van egy módszerünk, ami ezek alapján képes megjeleníteni őket. Ezek után nem tarthat vissza semmi sem hogy ezt a gyakorlatban is használjuk, kipróbálju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Ha hierarchikusan képzeljük el az elemhalmazok ős és szuper kapcsolatait, akkor értelem szerűen adódik, hogy a megjelenítést az 1-halmazokkal kezdjü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zek a tulajdonságok jelennek me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Fontos, hogy a távolság milyen kapcsolatban van a gyakoriságg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4ADD-6280-437F-9487-EACBADDC4BBA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részgalaxisok alapja 2 halmazok vagy több halmazo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részgalaxis megjelenési módja kétféle lehet. Az egyik ez a csillag séma. A másik pedig, amikor a Sammon leképezést elvégezzük a 2 elemhalmazra és a szuperhalmazai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A569-2564-4E36-B8FC-241AF60FACAD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9D31-3475-4D9C-95F7-CCDEF76A4E18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C453-9D27-4BC2-83E5-7E8FD0C0ACAE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46CA-09C9-4EBA-918A-3BD0B264B157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épzeljünk el egy árúcikkeket forgalmazó portált, ahol az egyes cikkek kategórikusan rendezett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íváncsiak vagyunk arra, hogy az egyes felhasználók milyen lapokat tekintenek meg a portál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ranzakciók vagy böngészési történetek halma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datbányászat a képbe: hogy meg tudjuk válaszoln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zen belül pedig arra, hogy mely lapokat, termékeket tekintették vagy vásárolták meg együtt. Mely oldakat fordulnak elő gyakran egymás mellett egy felhasználói böngészés történet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Hogyan viszonyulnak egymáshoz ezek a gyakran látogatott lapcsoportok, vannak-e közös vagy eltérő vonás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ezek közötti kapcsolatokat fogjuk megjeleníteni, melyhez … van szüksé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EBDC-FCBB-4F4C-B2BE-C2CC52B83D73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Főol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Fő kategóriá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Bőrápolá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Borotválkozás –i szer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Borotválkozás utáni szer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Napozó szer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szerver a háttérben összegyűjti ezeket az információkat minden egyes felhasználóról és összegyűj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Hogyan történik a tárolás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547A-3B96-40E0-9029-25CF98E7E2F3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Főoldal, megtetszett, regisztrá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Lássuk a szereplőke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portál minden egyes elérhető része egy elemnek felel meg: lapok, kategóriák, terméke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Sorszámozá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gy felhasználó böngészés története egy tranzakci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Több felhasználó történetét egy adatbázisban összefogva megkapjuk az adatbányászat kiinduló adatbázisát, a tranzakciók halmaz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22F5-CBE3-438F-BA54-3FDFFFBFDC5E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0166-9089-4603-BCA9-821D66D3C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C098-325B-44D3-BABA-5B88222A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8DFC-D8CD-4362-B6A0-20A1EF06A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C37D-1D36-4FA6-9228-17F028B85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51BB-9B89-433A-833E-631C02BD7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0C2F-7EB9-44CD-98C0-C82A7A33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8776-AA48-4919-B597-F99BE22E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0AE3-15DE-486F-B80B-A3B63AE0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9273-7FA1-4072-B00B-94DC7856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6D8A-88A0-496B-BA7F-E27B5193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617C-000A-47F3-987C-F3C9CCA7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9B56-8979-4838-B29D-64A94B4A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7B3F-6F25-4A36-84C0-2877C4EB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DB4F-C630-4E21-9597-6AC57264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8EDD-3670-4A7F-BE24-BAAAE9C1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E4BD-7FB9-422E-99F5-62E13013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506D-3B70-4DF0-8B5B-4D07666BA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1639-50D9-4B09-A61E-0FE86245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7FCA-A738-41B8-9E13-A660E33A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49A7-4C29-4B9F-94F6-AF8A3948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471D-8FCB-429F-81D9-82508580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822F-97E2-45AF-9CC1-4DE01C70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85F7-E299-4293-84CB-9DE341DD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85F7-9780-4258-B330-427E001B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037A-7481-4CEA-80C5-9B4D3195B606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A307-EB18-4B9F-A202-1BDEF6F29909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azelle.com/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8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25.wmf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image" Target="../media/image42.wmf"/><Relationship Id="rId7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0"/>
          <p:cNvSpPr/>
          <p:nvPr/>
        </p:nvSpPr>
        <p:spPr>
          <a:xfrm>
            <a:off x="684360" y="981000"/>
            <a:ext cx="7777080" cy="2303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5960" y="98100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Gyakori elemhalmazok és asszociációs szabályok megjelenítése </a:t>
            </a:r>
            <a:br>
              <a:rPr sz="4400"/>
            </a:b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Bittábla alapú megoldás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4392720" y="4076640"/>
            <a:ext cx="460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bonyi Já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nnon Egye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lyamatmérnöki Intézeti Tanszé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1785960" y="5786280"/>
            <a:ext cx="5832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Garamond"/>
              </a:rPr>
              <a:t>www.fmt.uni-pannon.hu/softco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-108000" y="4071960"/>
            <a:ext cx="4608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Garamond"/>
              </a:rPr>
              <a:t>Péterfia Tam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000000"/>
                </a:solidFill>
                <a:latin typeface="Verdana"/>
              </a:rPr>
              <a:t>Pécsi Tudományegyetem TTK Informatika Tanszé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616120" y="1600200"/>
          <a:ext cx="914400" cy="1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6120" y="1600200"/>
                    <a:ext cx="914400" cy="1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Elemhalmazok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28760" y="85716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1080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 = {e</a:t>
            </a:r>
            <a:r>
              <a:rPr b="0" lang="hu-HU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hu-HU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, …, e</a:t>
            </a:r>
            <a:r>
              <a:rPr b="0" lang="hu-HU" sz="2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hu-HU" sz="2600" spc="-1" strike="noStrike">
                <a:solidFill>
                  <a:srgbClr val="3333cc"/>
                </a:solidFill>
                <a:latin typeface="Arial"/>
              </a:rPr>
              <a:t>elemek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egy adatbázisban (pl. terméke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 részhalmazai: </a:t>
            </a:r>
            <a:r>
              <a:rPr b="1" lang="hu-HU" sz="2800" spc="-1" strike="noStrike">
                <a:solidFill>
                  <a:srgbClr val="a50021"/>
                </a:solidFill>
                <a:latin typeface="Arial"/>
              </a:rPr>
              <a:t>elemhalmazok - kosarak 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T = {t</a:t>
            </a:r>
            <a:r>
              <a:rPr b="0" lang="hu-HU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hu-HU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, …t</a:t>
            </a:r>
            <a:r>
              <a:rPr b="0" lang="hu-HU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}: </a:t>
            </a:r>
            <a:r>
              <a:rPr b="0" lang="hu-HU" sz="2600" spc="-1" strike="noStrike">
                <a:solidFill>
                  <a:srgbClr val="3333cc"/>
                </a:solidFill>
                <a:latin typeface="Arial"/>
              </a:rPr>
              <a:t>tranzakciók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(rekordok) halma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X elemhalmaz </a:t>
            </a:r>
            <a:r>
              <a:rPr b="0" lang="hu-HU" sz="2600" spc="-1" strike="noStrike">
                <a:solidFill>
                  <a:srgbClr val="3333cc"/>
                </a:solidFill>
                <a:latin typeface="Arial"/>
              </a:rPr>
              <a:t>előfordul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hu-HU" sz="2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-ben, ha az X része t</a:t>
            </a:r>
            <a:r>
              <a:rPr b="0" lang="hu-HU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-n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hu-HU" sz="2600" spc="-1" strike="noStrike">
                <a:solidFill>
                  <a:srgbClr val="3333cc"/>
                </a:solidFill>
                <a:latin typeface="Arial"/>
              </a:rPr>
              <a:t>gyakorisága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u-HU" sz="2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zon T tranzakciók száma, melyekben X előfordul, (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támogatottság, support, supp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) kiszámítás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gyakoriság(X) = |{t</a:t>
            </a:r>
            <a:r>
              <a:rPr b="0" lang="hu-HU" sz="2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| X eleme t</a:t>
            </a:r>
            <a:r>
              <a:rPr b="0" lang="hu-HU" sz="2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, ahol t</a:t>
            </a:r>
            <a:r>
              <a:rPr b="0" lang="hu-HU" sz="2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eleme T}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gyakoriság küszöb: </a:t>
            </a:r>
            <a:r>
              <a:rPr b="1" lang="el-GR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GYAKORI elemhalmaz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10920" y="1285560"/>
            <a:ext cx="8002440" cy="422892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1080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iválasztunk egy tetszőleges elemhalmazt, pl. x = {24,130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gszámoljuk, hány tranzakcióban van benne ez az elemhalmaz, vagyis ez a két elem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ez az előfordulás - darabszá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gadjuk a gyakoriságot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őfordulás / összes darabszám = százalékos érté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 gyakori, ha a gyakorisága nagyobb, mint egy általunk megadott küszöbérték: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7" descr="Gyakorisag_hatar"/>
          <p:cNvPicPr/>
          <p:nvPr/>
        </p:nvPicPr>
        <p:blipFill>
          <a:blip r:embed="rId1"/>
          <a:stretch/>
        </p:blipFill>
        <p:spPr>
          <a:xfrm>
            <a:off x="3000240" y="5724360"/>
            <a:ext cx="3206880" cy="847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Gyakori elemhalmazok keresés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324000" y="1557360"/>
            <a:ext cx="3744720" cy="46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0800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={2,25,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45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2,63,87,109,125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2={90,96,98,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2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3={35,121,127,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2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4={14,56,90,123,127,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2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5={9,111,114,118, 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2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6={74,97,126,128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7={92,96,120,128, 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2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8={83,88,125,126,128, 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2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9={28,128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0={30,60,88,110,123, 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2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1={57,68,107,119,128, 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2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2={123, 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2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3={14,16,49,69,74,86,105,110,123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4={99,113,118,122,124,128, 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2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5={55,117,125,127,128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6={100,127, 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2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7={112,118,119, 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2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8={91,107,128, 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2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9={68,90,98,128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20={16,42,104,108,112,122, 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2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21={107,108,117,118,127,128, 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2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2916360" y="1557360"/>
            <a:ext cx="3744720" cy="46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0800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={2,25,45,62,63,87,109,125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2={90,96,98,129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3={35,121,127,129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4={14,56,90,123,127,129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5={9,111,114,118, 129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6={74,97,126,128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7={92,96,120,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28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2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8={83,88,125,126,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28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2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9={28,128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0={30,60,88,110,123, 129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1={57,68,107,119,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28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2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2={123, 129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3={14,16,49,69,74,86,105,110,123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4={99,113,118,122,124,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28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2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5={55,117,125,127,128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6={100,127, 129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7={112,118,119, 129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8={91,107,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28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2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9={68,90,98,128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20={16,42,104,108,112,122, 129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21={107,108,117,118,127,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28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2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5435640" y="1557360"/>
            <a:ext cx="3313080" cy="46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0800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={2,25,45,62,63,87,109,125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2={90,96,98,129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3={35,121,127,129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4={14,56,90,123,127,129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5={9,111,114,118, 129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6={74,97,126,128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7={92,96,120,128, 129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8={83,88,125,126,128, 129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9={28,128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0={30,60,88,110,123, 129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1={57,68,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07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119,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28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2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2={123, 129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3={14,16,49,69,74,86,105,110,123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4={99,113,118,122,124,128, 129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5={55,117,125,127,128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6={100,127, 129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7={112,118,119, 129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8={91,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07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28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2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19={68,90,98,128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20={16,42,104,108,112,122, 129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21={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07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108,117,118,127,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28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2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522360" y="618480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akori 1-halmaz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2827440" y="618480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akori 2-halmaz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5799240" y="616572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akori 3-halmaz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1045440" y="2637000"/>
            <a:ext cx="1175760" cy="28371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1={24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2={129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3={45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4={134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5={136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={4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7={43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8={212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9={44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3638520" y="2565360"/>
            <a:ext cx="1746000" cy="33858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53={128,129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54={24,13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55={24,45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56={45,13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57={24,134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58={130,134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59={45,134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0={24,136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1={130,136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62={45,136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6304680" y="2565360"/>
            <a:ext cx="2303640" cy="31114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104={107,128,12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105={24,45,13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106={24,130,134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107={24,130,136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108={24,45,134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109={24,45,136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110={45,130,134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111={45,130,136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112={24,40,13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385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385" fill="hold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39" dur="615" fill="hold"/>
                                        <p:tgtEl>
                                          <p:spTgt spid="227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40" dur="615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41" dur="385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42" dur="615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43" dur="385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385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7" dur="385" fill="hold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48" dur="615" fill="hold"/>
                                        <p:tgtEl>
                                          <p:spTgt spid="226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49" dur="615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50" dur="385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51" dur="615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52" dur="385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385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385" fill="hold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57" dur="615" fill="hold"/>
                                        <p:tgtEl>
                                          <p:spTgt spid="225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58" dur="615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59" dur="385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60" dur="615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61" dur="385">
                                          <p:stCondLst>
                                            <p:cond delay="61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A hagyományos Apriori algoritmus </a:t>
            </a:r>
            <a:br>
              <a:rPr sz="28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rcRect l="5532" t="4686" r="3667" b="729"/>
          <a:stretch/>
        </p:blipFill>
        <p:spPr>
          <a:xfrm>
            <a:off x="33480" y="838080"/>
            <a:ext cx="9005760" cy="5513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36" name="Rectangle 5"/>
          <p:cNvSpPr/>
          <p:nvPr/>
        </p:nvSpPr>
        <p:spPr>
          <a:xfrm>
            <a:off x="179280" y="5734080"/>
            <a:ext cx="115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179280" y="5805360"/>
            <a:ext cx="11527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330066"/>
                </a:solidFill>
                <a:latin typeface="Arial"/>
              </a:rPr>
              <a:t>A jelölt halmazok (jelöltek) felállítása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427640" cy="31669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708360" y="2205000"/>
            <a:ext cx="54356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Mi a mi hozzájárulásunk?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1080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Új megközelítés az elemhalmazok és az asszociációs szabályok megjelenítéséb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PRIORI módszer helyett BitTábla alapú elrendezé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Jie Dong-Min Han 2006-ban publikált megoldásának javítása-fejleszté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330066"/>
                </a:solidFill>
                <a:latin typeface="Arial"/>
              </a:rPr>
              <a:t>A gyakori elemhalmazok </a:t>
            </a:r>
            <a:br>
              <a:rPr sz="3000"/>
            </a:br>
            <a:r>
              <a:rPr b="1" lang="hu-HU" sz="3000" spc="-1" strike="noStrike">
                <a:solidFill>
                  <a:srgbClr val="330066"/>
                </a:solidFill>
                <a:latin typeface="Arial"/>
              </a:rPr>
              <a:t>BitTábla alapú előállítása I.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28760" y="10717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108000" anchor="t">
            <a:normAutofit/>
          </a:bodyPr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egyen egy kis mintapél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0 a,c,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 b,c,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30 a,b,c,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40 b,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Átalakítv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(a)  2(b)  3(c)  4(d)   5(e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0     1       0      1      1       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     0       1      1      0       1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30     1       1      1      0       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40     0       1      0      0       1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m   2       3      3      1       3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 továbbiakban a  4.oszlop kimarad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rt 0.25 a gyakoriság (a 0,5 helyet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500" spc="-1" strike="noStrike">
                <a:solidFill>
                  <a:srgbClr val="330066"/>
                </a:solidFill>
                <a:latin typeface="Arial"/>
              </a:rPr>
              <a:t>A gyakori elemhalmazok </a:t>
            </a:r>
            <a:br>
              <a:rPr sz="3500"/>
            </a:br>
            <a:r>
              <a:rPr b="1" lang="hu-HU" sz="3500" spc="-1" strike="noStrike">
                <a:solidFill>
                  <a:srgbClr val="330066"/>
                </a:solidFill>
                <a:latin typeface="Arial"/>
              </a:rPr>
              <a:t>BitTábla alapú előállítása II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57120" y="1213920"/>
            <a:ext cx="8501040" cy="478188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1080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u-HU" sz="2100" spc="-1" strike="noStrike">
                <a:solidFill>
                  <a:srgbClr val="a50021"/>
                </a:solidFill>
                <a:latin typeface="Arial"/>
              </a:rPr>
              <a:t>Az oszlopok bináris szorzatával,  az alacsony támogatottságúak kihagyásával keletkezik, nem halmazokban való kereséssel</a:t>
            </a:r>
            <a:r>
              <a:rPr b="1" lang="hu-H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1-2   1-3   1-5   2-3   2-5   3-5    </a:t>
            </a:r>
            <a:r>
              <a:rPr b="0" lang="hu-HU" sz="2100" spc="-1" strike="noStrike">
                <a:solidFill>
                  <a:srgbClr val="a50021"/>
                </a:solidFill>
                <a:latin typeface="Arial"/>
              </a:rPr>
              <a:t>az eredeti indexérté-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10   0        1      0      0       0      0    </a:t>
            </a:r>
            <a:r>
              <a:rPr b="0" lang="hu-HU" sz="2100" spc="-1" strike="noStrike">
                <a:solidFill>
                  <a:srgbClr val="a50021"/>
                </a:solidFill>
                <a:latin typeface="Arial"/>
              </a:rPr>
              <a:t>kek vannak feltüntet-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20   0        0      0      1       1      1    </a:t>
            </a:r>
            <a:r>
              <a:rPr b="0" lang="hu-HU" sz="2100" spc="-1" strike="noStrike">
                <a:solidFill>
                  <a:srgbClr val="a50021"/>
                </a:solidFill>
                <a:latin typeface="Arial"/>
              </a:rPr>
              <a:t>ve!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30   1        1      1      1       1      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40   0        0      0      0       1      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Sum  1        2      1      2       3      2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z 1-2  és 1-5 kiesik, mert 0.25 a gyakoriság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500" spc="-1" strike="noStrike">
                <a:solidFill>
                  <a:srgbClr val="330066"/>
                </a:solidFill>
                <a:latin typeface="Arial"/>
              </a:rPr>
              <a:t>A gyakori elemhalmazok </a:t>
            </a:r>
            <a:br>
              <a:rPr sz="3500"/>
            </a:br>
            <a:r>
              <a:rPr b="1" lang="hu-HU" sz="3500" spc="-1" strike="noStrike">
                <a:solidFill>
                  <a:srgbClr val="330066"/>
                </a:solidFill>
                <a:latin typeface="Arial"/>
              </a:rPr>
              <a:t>BitTábla alapú előállítása III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1080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olytatv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/3-2/3       1/3-2/5      1/3-3/5  2/3-2/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0     0               0                0             0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     0               0                0             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30     1               1                1             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40     0               0                0             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m  1               1                1             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z első 3 oszlop kiesik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330066"/>
                </a:solidFill>
                <a:latin typeface="Arial"/>
              </a:rPr>
              <a:t>A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 vil</a:t>
            </a:r>
            <a:r>
              <a:rPr b="1" lang="hu-HU" sz="3000" spc="-1" strike="noStrike">
                <a:solidFill>
                  <a:srgbClr val="330066"/>
                </a:solidFill>
                <a:latin typeface="Arial"/>
              </a:rPr>
              <a:t>ág (szerintünk) legrövidebb gyakori elemhalmazkereső programja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14280" y="1196640"/>
            <a:ext cx="6429600" cy="53751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10800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7e9ce8"/>
                </a:solidFill>
                <a:latin typeface="Arial"/>
              </a:rPr>
              <a:t>%BitTable algorith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[N,n]=size(A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items{1}=find(sum(A,1)/N&gt;=suppp)'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i{1}=A(:,items{1}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k=2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7e9ce8"/>
                </a:solidFill>
                <a:latin typeface="Arial"/>
              </a:rPr>
              <a:t>%k-th items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669999"/>
                </a:solidFill>
                <a:latin typeface="Arial"/>
              </a:rPr>
              <a:t>while</a:t>
            </a: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 ~isempty(items{k-1}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i{k}=[]; items{k}=[]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u-HU" sz="1500" spc="-1" strike="noStrike">
                <a:solidFill>
                  <a:srgbClr val="669999"/>
                </a:solidFill>
                <a:latin typeface="Arial"/>
              </a:rPr>
              <a:t>for</a:t>
            </a: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 i=1:size(items{k-1},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hu-HU" sz="1500" spc="-1" strike="noStrike">
                <a:solidFill>
                  <a:srgbClr val="669999"/>
                </a:solidFill>
                <a:latin typeface="Arial"/>
              </a:rPr>
              <a:t>for</a:t>
            </a: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 j=1:max(find(items{1}&lt;min(items{k-1}(i,:)))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A=(Ai{k-1}(:,i).*Ai{1}(:,j)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hu-HU" sz="1500" spc="-1" strike="noStrike">
                <a:solidFill>
                  <a:srgbClr val="669999"/>
                </a:solidFill>
                <a:latin typeface="Arial"/>
              </a:rPr>
              <a:t>if</a:t>
            </a: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 sum(AA)/N&gt;=supp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Ai{k}=[Ai{k} AA ]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items{k}=[items{k}; [j items{k-1}(i,:)]]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hu-HU" sz="1500" spc="-1" strike="noStrike">
                <a:solidFill>
                  <a:srgbClr val="669999"/>
                </a:solidFill>
                <a:latin typeface="Arial"/>
              </a:rPr>
              <a:t>e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hu-HU" sz="1500" spc="-1" strike="noStrike">
                <a:solidFill>
                  <a:srgbClr val="669999"/>
                </a:solidFill>
                <a:latin typeface="Arial"/>
              </a:rPr>
              <a:t>e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669999"/>
                </a:solidFill>
                <a:latin typeface="Arial"/>
              </a:rPr>
              <a:t>    </a:t>
            </a:r>
            <a:r>
              <a:rPr b="1" lang="hu-HU" sz="1500" spc="-1" strike="noStrike">
                <a:solidFill>
                  <a:srgbClr val="669999"/>
                </a:solidFill>
                <a:latin typeface="Arial"/>
              </a:rPr>
              <a:t>e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k=k+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669999"/>
                </a:solidFill>
                <a:latin typeface="Arial"/>
              </a:rPr>
              <a:t>e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6886440" y="1214280"/>
            <a:ext cx="2043360" cy="5357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08000" anchor="t">
            <a:no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1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hu-HU" sz="1000" spc="-1" strike="noStrike">
                <a:solidFill>
                  <a:srgbClr val="000000"/>
                </a:solidFill>
                <a:latin typeface="Verdana"/>
              </a:rPr>
              <a:t>items{1} 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hu-HU" sz="1000" spc="-1" strike="noStrike">
                <a:solidFill>
                  <a:srgbClr val="000000"/>
                </a:solidFill>
                <a:latin typeface="Verdana"/>
              </a:rPr>
              <a:t>     </a:t>
            </a:r>
            <a:r>
              <a:rPr b="1" lang="hu-HU" sz="1000" spc="-1" strike="noStrike">
                <a:solidFill>
                  <a:srgbClr val="000000"/>
                </a:solidFill>
                <a:latin typeface="Verdana"/>
              </a:rPr>
              <a:t>1</a:t>
            </a:r>
            <a:br>
              <a:rPr sz="1000"/>
            </a:br>
            <a:r>
              <a:rPr b="1" lang="hu-HU" sz="1000" spc="-1" strike="noStrike">
                <a:solidFill>
                  <a:srgbClr val="000000"/>
                </a:solidFill>
                <a:latin typeface="Verdana"/>
              </a:rPr>
              <a:t>     2</a:t>
            </a:r>
            <a:br>
              <a:rPr sz="1000"/>
            </a:br>
            <a:r>
              <a:rPr b="1" lang="hu-HU" sz="1000" spc="-1" strike="noStrike">
                <a:solidFill>
                  <a:srgbClr val="000000"/>
                </a:solidFill>
                <a:latin typeface="Verdana"/>
              </a:rPr>
              <a:t>     3</a:t>
            </a:r>
            <a:br>
              <a:rPr sz="1000"/>
            </a:br>
            <a:r>
              <a:rPr b="1" lang="hu-HU" sz="1000" spc="-1" strike="noStrike">
                <a:solidFill>
                  <a:srgbClr val="000000"/>
                </a:solidFill>
                <a:latin typeface="Verdana"/>
              </a:rPr>
              <a:t>    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Verdana"/>
              </a:rPr>
              <a:t>items{2} 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hu-HU" sz="1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hu-HU" sz="1000" spc="-1" strike="noStrike">
                <a:solidFill>
                  <a:srgbClr val="000000"/>
                </a:solidFill>
                <a:latin typeface="Verdana"/>
              </a:rPr>
              <a:t>1     3</a:t>
            </a:r>
            <a:br>
              <a:rPr sz="1000"/>
            </a:br>
            <a:r>
              <a:rPr b="1" lang="hu-HU" sz="1000" spc="-1" strike="noStrike">
                <a:solidFill>
                  <a:srgbClr val="000000"/>
                </a:solidFill>
                <a:latin typeface="Verdana"/>
              </a:rPr>
              <a:t>     2     3</a:t>
            </a:r>
            <a:br>
              <a:rPr sz="1000"/>
            </a:br>
            <a:r>
              <a:rPr b="1" lang="hu-HU" sz="1000" spc="-1" strike="noStrike">
                <a:solidFill>
                  <a:srgbClr val="000000"/>
                </a:solidFill>
                <a:latin typeface="Verdana"/>
              </a:rPr>
              <a:t>     2     5</a:t>
            </a:r>
            <a:br>
              <a:rPr sz="1000"/>
            </a:br>
            <a:r>
              <a:rPr b="1" lang="hu-HU" sz="1000" spc="-1" strike="noStrike">
                <a:solidFill>
                  <a:srgbClr val="000000"/>
                </a:solidFill>
                <a:latin typeface="Verdana"/>
              </a:rPr>
              <a:t>     3    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Verdana"/>
              </a:rPr>
              <a:t>items{3}  =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hu-HU" sz="1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hu-HU" sz="1000" spc="-1" strike="noStrike">
                <a:solidFill>
                  <a:srgbClr val="000000"/>
                </a:solidFill>
                <a:latin typeface="Verdana"/>
              </a:rPr>
              <a:t>2     3    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Verdana"/>
              </a:rPr>
              <a:t>Ai{1}  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hu-HU" sz="1000" spc="-1" strike="noStrike">
                <a:solidFill>
                  <a:srgbClr val="000000"/>
                </a:solidFill>
                <a:latin typeface="Verdana"/>
              </a:rPr>
              <a:t>     </a:t>
            </a:r>
            <a:r>
              <a:rPr b="1" lang="hu-HU" sz="1000" spc="-1" strike="noStrike">
                <a:solidFill>
                  <a:srgbClr val="000000"/>
                </a:solidFill>
                <a:latin typeface="Verdana"/>
              </a:rPr>
              <a:t>1     0     1     0</a:t>
            </a:r>
            <a:br>
              <a:rPr sz="1000"/>
            </a:br>
            <a:r>
              <a:rPr b="1" lang="hu-HU" sz="1000" spc="-1" strike="noStrike">
                <a:solidFill>
                  <a:srgbClr val="000000"/>
                </a:solidFill>
                <a:latin typeface="Verdana"/>
              </a:rPr>
              <a:t>     0     1     1     1</a:t>
            </a:r>
            <a:br>
              <a:rPr sz="1000"/>
            </a:br>
            <a:r>
              <a:rPr b="1" lang="hu-HU" sz="1000" spc="-1" strike="noStrike">
                <a:solidFill>
                  <a:srgbClr val="000000"/>
                </a:solidFill>
                <a:latin typeface="Verdana"/>
              </a:rPr>
              <a:t>     1     1     1     1</a:t>
            </a:r>
            <a:br>
              <a:rPr sz="1000"/>
            </a:br>
            <a:r>
              <a:rPr b="1" lang="hu-HU" sz="1000" spc="-1" strike="noStrike">
                <a:solidFill>
                  <a:srgbClr val="000000"/>
                </a:solidFill>
                <a:latin typeface="Verdana"/>
              </a:rPr>
              <a:t>     0     1     0    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Verdana"/>
              </a:rPr>
              <a:t>Ai{2} 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hu-HU" sz="1000" spc="-1" strike="noStrike">
                <a:solidFill>
                  <a:srgbClr val="000000"/>
                </a:solidFill>
                <a:latin typeface="Verdana"/>
              </a:rPr>
              <a:t>     </a:t>
            </a:r>
            <a:r>
              <a:rPr b="1" lang="hu-HU" sz="1000" spc="-1" strike="noStrike">
                <a:solidFill>
                  <a:srgbClr val="000000"/>
                </a:solidFill>
                <a:latin typeface="Verdana"/>
              </a:rPr>
              <a:t>1     0     0     0</a:t>
            </a:r>
            <a:br>
              <a:rPr sz="1000"/>
            </a:br>
            <a:r>
              <a:rPr b="1" lang="hu-HU" sz="1000" spc="-1" strike="noStrike">
                <a:solidFill>
                  <a:srgbClr val="000000"/>
                </a:solidFill>
                <a:latin typeface="Verdana"/>
              </a:rPr>
              <a:t>     0     1     1     1</a:t>
            </a:r>
            <a:br>
              <a:rPr sz="1000"/>
            </a:br>
            <a:r>
              <a:rPr b="1" lang="hu-HU" sz="1000" spc="-1" strike="noStrike">
                <a:solidFill>
                  <a:srgbClr val="000000"/>
                </a:solidFill>
                <a:latin typeface="Verdana"/>
              </a:rPr>
              <a:t>     1     1     1     1</a:t>
            </a:r>
            <a:br>
              <a:rPr sz="1000"/>
            </a:br>
            <a:r>
              <a:rPr b="1" lang="hu-HU" sz="1000" spc="-1" strike="noStrike">
                <a:solidFill>
                  <a:srgbClr val="000000"/>
                </a:solidFill>
                <a:latin typeface="Verdana"/>
              </a:rPr>
              <a:t>     0     0     1    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Verdana"/>
              </a:rPr>
              <a:t>Ai{3} 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hu-HU" sz="1000" spc="-1" strike="noStrike">
                <a:solidFill>
                  <a:srgbClr val="000000"/>
                </a:solidFill>
                <a:latin typeface="Verdana"/>
              </a:rPr>
              <a:t>     </a:t>
            </a:r>
            <a:r>
              <a:rPr b="1" lang="hu-HU" sz="1000" spc="-1" strike="noStrike">
                <a:solidFill>
                  <a:srgbClr val="000000"/>
                </a:solidFill>
                <a:latin typeface="Verdana"/>
              </a:rPr>
              <a:t>0</a:t>
            </a:r>
            <a:br>
              <a:rPr sz="1000"/>
            </a:br>
            <a:r>
              <a:rPr b="1" lang="hu-HU" sz="1000" spc="-1" strike="noStrike">
                <a:solidFill>
                  <a:srgbClr val="000000"/>
                </a:solidFill>
                <a:latin typeface="Verdana"/>
              </a:rPr>
              <a:t>     1</a:t>
            </a:r>
            <a:br>
              <a:rPr sz="1000"/>
            </a:br>
            <a:r>
              <a:rPr b="1" lang="hu-HU" sz="1000" spc="-1" strike="noStrike">
                <a:solidFill>
                  <a:srgbClr val="000000"/>
                </a:solidFill>
                <a:latin typeface="Verdana"/>
              </a:rPr>
              <a:t>     1</a:t>
            </a:r>
            <a:br>
              <a:rPr sz="1000"/>
            </a:br>
            <a:r>
              <a:rPr b="1" lang="hu-HU" sz="1000" spc="-1" strike="noStrike">
                <a:solidFill>
                  <a:srgbClr val="000000"/>
                </a:solidFill>
                <a:latin typeface="Verdana"/>
              </a:rPr>
              <a:t>    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artalo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1080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datbányászat a gazdasági informatika „kalapácsa”  és „szitája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Web-log (böngészés történet) elemzé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Gyakori elemhalmaz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BitTábla alapú algoritm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A világ legrövidebb gyakori elemhalmaz kereső programj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Összegzés, következtetése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zövegdoboz 5"/>
          <p:cNvSpPr/>
          <p:nvPr/>
        </p:nvSpPr>
        <p:spPr>
          <a:xfrm>
            <a:off x="605880" y="6286680"/>
            <a:ext cx="58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Akinek k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lapács van a kezében az mindent szögnek lá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„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Életszerű” péld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1080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www.gazelle.com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MS-WebView-1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9,602 </a:t>
            </a: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tranzakció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97 </a:t>
            </a:r>
            <a:r>
              <a:rPr b="1" lang="hu-HU" sz="3000" spc="-1" strike="noStrike">
                <a:solidFill>
                  <a:srgbClr val="000000"/>
                </a:solidFill>
                <a:latin typeface="Arial"/>
              </a:rPr>
              <a:t>termé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67 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maximális kosármér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átlagos látogatáshoss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Kompetitív futásidő – </a:t>
            </a:r>
            <a:br>
              <a:rPr sz="3900"/>
            </a:br>
            <a:r>
              <a:rPr b="1" lang="hu-HU" sz="3900" spc="-1" strike="noStrike">
                <a:solidFill>
                  <a:srgbClr val="330066"/>
                </a:solidFill>
                <a:latin typeface="Arial"/>
              </a:rPr>
              <a:t>igazolt alkalmazhatóság 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13840" y="1643040"/>
            <a:ext cx="4357800" cy="452592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1080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Rendkívül egyszerű implementáció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Transzparens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Kisebb memóriaigény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000000"/>
                </a:solidFill>
                <a:latin typeface="Arial"/>
              </a:rPr>
              <a:t>Bináris – decimáli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000000"/>
                </a:solidFill>
                <a:latin typeface="Arial"/>
              </a:rPr>
              <a:t>Ritka mátrixok (MATLAB-ban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Az induló állapot előállítása után a  szorzás-tömörítés-kosárkészítés egy menetben megtörténik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Arial"/>
              </a:rPr>
              <a:t>Bit-sztring technikák bevethetők (csoportosítás, vizualizáció Tanimoto hasonlóságmérték alapjá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4500720" y="1857240"/>
            <a:ext cx="4848120" cy="43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5"/>
          <p:cNvSpPr/>
          <p:nvPr/>
        </p:nvSpPr>
        <p:spPr>
          <a:xfrm>
            <a:off x="1979640" y="1700280"/>
            <a:ext cx="5256360" cy="4260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Garamond"/>
              </a:rPr>
              <a:t>Köszönöm 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Garamond"/>
              </a:rPr>
              <a:t>figyelmet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6" descr="Gal_sub5von1"/>
          <p:cNvPicPr/>
          <p:nvPr/>
        </p:nvPicPr>
        <p:blipFill>
          <a:blip r:embed="rId1"/>
          <a:stretch/>
        </p:blipFill>
        <p:spPr>
          <a:xfrm>
            <a:off x="3348000" y="4941720"/>
            <a:ext cx="2303640" cy="19130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Gal_sub5"/>
          <p:cNvPicPr/>
          <p:nvPr/>
        </p:nvPicPr>
        <p:blipFill>
          <a:blip r:embed="rId2"/>
          <a:stretch/>
        </p:blipFill>
        <p:spPr>
          <a:xfrm>
            <a:off x="6877080" y="4962600"/>
            <a:ext cx="2266920" cy="1895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Gal_main"/>
          <p:cNvPicPr/>
          <p:nvPr/>
        </p:nvPicPr>
        <p:blipFill>
          <a:blip r:embed="rId3"/>
          <a:stretch/>
        </p:blipFill>
        <p:spPr>
          <a:xfrm>
            <a:off x="3564000" y="0"/>
            <a:ext cx="1898640" cy="17035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Gal_sub5von5"/>
          <p:cNvPicPr/>
          <p:nvPr/>
        </p:nvPicPr>
        <p:blipFill>
          <a:blip r:embed="rId4"/>
          <a:stretch/>
        </p:blipFill>
        <p:spPr>
          <a:xfrm>
            <a:off x="7093080" y="0"/>
            <a:ext cx="2050920" cy="17035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0" descr="Gal_sub5von7"/>
          <p:cNvPicPr/>
          <p:nvPr/>
        </p:nvPicPr>
        <p:blipFill>
          <a:blip r:embed="rId5"/>
          <a:stretch/>
        </p:blipFill>
        <p:spPr>
          <a:xfrm>
            <a:off x="0" y="4965840"/>
            <a:ext cx="2268360" cy="18921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1" descr="Gal_sub5von5"/>
          <p:cNvPicPr/>
          <p:nvPr/>
        </p:nvPicPr>
        <p:blipFill>
          <a:blip r:embed="rId6"/>
          <a:stretch/>
        </p:blipFill>
        <p:spPr>
          <a:xfrm>
            <a:off x="0" y="0"/>
            <a:ext cx="2050920" cy="17035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3" descr="Gal_sub14"/>
          <p:cNvPicPr/>
          <p:nvPr/>
        </p:nvPicPr>
        <p:blipFill>
          <a:blip r:embed="rId7"/>
          <a:stretch/>
        </p:blipFill>
        <p:spPr>
          <a:xfrm>
            <a:off x="7283520" y="2492280"/>
            <a:ext cx="1860480" cy="16779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4" descr="Gal_sub37"/>
          <p:cNvPicPr/>
          <p:nvPr/>
        </p:nvPicPr>
        <p:blipFill>
          <a:blip r:embed="rId8"/>
          <a:stretch/>
        </p:blipFill>
        <p:spPr>
          <a:xfrm>
            <a:off x="0" y="2492280"/>
            <a:ext cx="1979640" cy="1708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3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9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12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3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3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6">
                                  <p:stCondLst>
                                    <p:cond delay="22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2">
                                  <p:stCondLst>
                                    <p:cond delay="26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8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1">
                                  <p:stCondLst>
                                    <p:cond delay="34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3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3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 gyakori elemhalmazok előállításának algoritmus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10800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000000"/>
                </a:solidFill>
                <a:latin typeface="Arial"/>
              </a:rPr>
              <a:t>MI KELL HOZZÁ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Def: BINTABLA                   először mxn elemű bin tömb; a vásárlási tranzakciók bináris</a:t>
            </a:r>
            <a:br>
              <a:rPr sz="1500"/>
            </a:b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                                     megjelenítése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Def: OSZLOPSUM              n elemű numerikus tömb; a mindenkori BINTABLA oszlo-</a:t>
            </a:r>
            <a:br>
              <a:rPr sz="1500"/>
            </a:b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                                      painak összeg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Def: MINSUPP                    konstans; megadja, legalább mekkorának kell lennie az</a:t>
            </a:r>
            <a:br>
              <a:rPr sz="1500"/>
            </a:b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                                     OSZLOPSUMna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Def: KOSAR (I) (j,k)            max n elemű numerikus tömb;  (ezek a kosarak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Def: OSZLOPSUMMAK (I) max n elemű numerikus tömb; az I-dik lépésben az egyes</a:t>
            </a:r>
            <a:br>
              <a:rPr sz="1500"/>
            </a:b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                                     oszlopok összesenjei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Def: XIK                              változó; azt mutatja, hányadik kosárszámlálásnál tartun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Def: SZORZATBINTABLA  m x z elemű bin tömb; a bináris szorzatok megjelenítés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Def: SZ_BINT_OSUM        max z elemű numerikus tömb; az I-dik lépésben az egyes</a:t>
            </a:r>
            <a:br>
              <a:rPr sz="1500"/>
            </a:b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                                     szorzatoszlopok összesenjei. (</a:t>
            </a:r>
            <a:r>
              <a:rPr b="1" lang="hu-HU" sz="1100" spc="-1" strike="noStrike">
                <a:solidFill>
                  <a:srgbClr val="000000"/>
                </a:solidFill>
                <a:latin typeface="Arial"/>
              </a:rPr>
              <a:t>SZORZATBINTÁBLA oszlopsumma</a:t>
            </a: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A gyakori elemhalmazok </a:t>
            </a:r>
            <a:br>
              <a:rPr sz="3000"/>
            </a:b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előállításának algoritmusa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1080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0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ináris tábla beolvasás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MINSUPP-nak értékadá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XIK=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A” Ciklus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;  j=1- n-ig  // Ez csak az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 előkészítés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az első/induló tábla alapján/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OSZLOPSUM(j) előállítása </a:t>
            </a:r>
            <a:br>
              <a:rPr sz="900"/>
            </a:b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KOSAR(XIK) (j,1)= j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OSZLOPSUMMAK (I) (j)=  OSZLOPSUM(j)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A” Ciklus vége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B” Ciklus 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// Az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első induló tömörítés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következik /MINSUPP egybevetés az OSZLOPSUM(j) elemeivel/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//Ha MINSUPP &lt;  OSZLOPSUM(j) akkor nem történik semmi, ha nagyobb, az egészet /balra toljuk/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Olvas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: OSZLOPSUM(j) j= 1- tábla vége  // az eredeti n csökkenni fog a kiesett oszlopok számával /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Ha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MINSUPP &gt;  OSZLOPSUM(j)  akkor  tábla végéig    </a:t>
            </a: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TED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BINTABLA(j oszlop)= BINTABLA(j+1 oszlop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KOSAR(XIK) (j,k)= KOSAR(XIK) (j+1,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OSZLOPSUMMAK(XIK) (j)= OSZLOPSUMMAK(XIK) (j+1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TEDD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vé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Menj Olvas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-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B” Ciklus vége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  // újból „zárt” a bináris tábla; az új n érték várhatóan kisebb, mint az //</a:t>
            </a:r>
            <a:br>
              <a:rPr sz="900"/>
            </a:b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VÉG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Ha KOSAR(XIK) (j,k) minden (j,k) tömbje azonos elemekből áll, akkor </a:t>
            </a: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VÉGE_KÉS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XIK= XIK + 1     //Felkészülünk az új kosarakra //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 //Szorzás, vizsgálat, tömörítés, kosárkészítés/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TEDD1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Szorozd végig j=1, z-ig,, aztán j=2,z-ig, majd j=3,z-ig  a BINTABLA oszlop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Szorzá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SZORZATBINTABLA(aktuális j) oszlop= BINTABLA(akt j)oszlop x BINTABLA(akt z)oszlo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SZ_BINT_OSUM képzés   // Support ellenőrzéshez /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Ha SZ_BINT_OSUM &lt; MINSUPP , SZORZATBINTABLA indexe marad (nem lép)  // Tábla sűrítés  //</a:t>
            </a:r>
            <a:br>
              <a:rPr sz="900"/>
            </a:b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vissza Szorzás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-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KOSAR(XIK) (j; k) // j = SZORZATBINTABLA(aktuális</a:t>
            </a: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// -ban k= KOSAR(XIK-1) // Képződnek a kosarak az indexekből/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OSZLOPSUMMAK(I) (j) = SZ_BINT_OSUM(j)     // Kosarak előfordulási száma /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SZORZATBINTABLA j indexe 1-el n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TEDD1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 Vé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SZORZATBINTABLA visszaírása BINTABLA-b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Menj a </a:t>
            </a:r>
            <a:r>
              <a:rPr b="1" lang="hu-HU" sz="900" spc="-1" strike="noStrike">
                <a:solidFill>
                  <a:srgbClr val="000000"/>
                </a:solidFill>
                <a:latin typeface="Arial"/>
              </a:rPr>
              <a:t>VÉGE</a:t>
            </a: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-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lemhalmazokra alkalmazott mérték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1080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halmazok közötti távolság meghatározása előfordulással, gyakoriság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Mertek"/>
          <p:cNvPicPr/>
          <p:nvPr/>
        </p:nvPicPr>
        <p:blipFill>
          <a:blip r:embed="rId1"/>
          <a:stretch/>
        </p:blipFill>
        <p:spPr>
          <a:xfrm>
            <a:off x="900000" y="2565360"/>
            <a:ext cx="7417080" cy="7192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Mertek_pelda"/>
          <p:cNvPicPr/>
          <p:nvPr/>
        </p:nvPicPr>
        <p:blipFill>
          <a:blip r:embed="rId2"/>
          <a:stretch/>
        </p:blipFill>
        <p:spPr>
          <a:xfrm>
            <a:off x="611280" y="3573360"/>
            <a:ext cx="7920000" cy="1224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Mertek_matrix"/>
          <p:cNvPicPr/>
          <p:nvPr/>
        </p:nvPicPr>
        <p:blipFill>
          <a:blip r:embed="rId3"/>
          <a:stretch/>
        </p:blipFill>
        <p:spPr>
          <a:xfrm>
            <a:off x="1258920" y="5157720"/>
            <a:ext cx="7129440" cy="1224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9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08189E-008 L -0.00399 -0.24427 E">
                                      <p:cBhvr>
                                        <p:cTn id="327" dur="5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82211E-007 L 0.00017 -0.26926 E">
                                      <p:cBhvr>
                                        <p:cTn id="329" dur="5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330066"/>
                </a:solidFill>
                <a:latin typeface="Arial"/>
              </a:rPr>
              <a:t>Asszociációs szabályok</a:t>
            </a:r>
            <a:br>
              <a:rPr sz="2000"/>
            </a:br>
            <a:r>
              <a:rPr b="1" i="1" lang="hu-HU" sz="1300" spc="-1" strike="noStrike">
                <a:solidFill>
                  <a:srgbClr val="330066"/>
                </a:solidFill>
                <a:latin typeface="Arial"/>
              </a:rPr>
              <a:t>Ad</a:t>
            </a:r>
            <a:r>
              <a:rPr b="1" lang="hu-HU" sz="1300" spc="-1" strike="noStrike">
                <a:solidFill>
                  <a:srgbClr val="330066"/>
                </a:solidFill>
                <a:latin typeface="Arial"/>
              </a:rPr>
              <a:t>attárházak és kiaknázásuk c. tárgy</a:t>
            </a:r>
            <a:br>
              <a:rPr sz="2000"/>
            </a:br>
            <a:r>
              <a:rPr b="1" lang="hu-HU" sz="2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i="1" lang="hu-HU" sz="2000" spc="-1" strike="noStrike">
                <a:solidFill>
                  <a:srgbClr val="330066"/>
                </a:solidFill>
                <a:latin typeface="Arial"/>
              </a:rPr>
              <a:t>Pach Ferenc Péter</a:t>
            </a:r>
            <a:br>
              <a:rPr sz="2000"/>
            </a:br>
            <a:br>
              <a:rPr sz="1300"/>
            </a:b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26920" y="1484280"/>
            <a:ext cx="756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ott </a:t>
            </a:r>
            <a:r>
              <a:rPr b="1" i="1" lang="en-US" sz="1800" spc="-1" strike="noStrike">
                <a:solidFill>
                  <a:srgbClr val="2413a5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féle termé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ottak a vásárlások (tranzakciók): a vásárlói kosarak tartalma, pl. </a:t>
            </a:r>
            <a:r>
              <a:rPr b="1" i="1" lang="en-US" sz="1800" spc="-1" strike="noStrike">
                <a:solidFill>
                  <a:srgbClr val="2413a5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sá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iváció: </a:t>
            </a:r>
            <a:r>
              <a:rPr b="1" lang="en-US" sz="1800" spc="-1" strike="noStrike">
                <a:solidFill>
                  <a:srgbClr val="2413a5"/>
                </a:solidFill>
                <a:latin typeface="Arial"/>
              </a:rPr>
              <a:t>szabályszerűség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eltárá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zupermark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 vásárlók 10% - a vásárol egyszerre sajtot és b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b lo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z a látogató, aki felkeresi a CNN weboldalát, az 60%-os valószínűséggel  1 hónapon belül felkeresi az ABC News weboldalá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érdé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lyik termékeket szokták („nagy” valószínűséggel) együt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ásároln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l.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ilyen részegységeket szoktak gyakran egyszerre vásárolni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egy PC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ásárlás sorá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0066"/>
                </a:solidFill>
                <a:latin typeface="Arial"/>
              </a:rPr>
              <a:t>Alapfogalmak 1.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6920" y="1916280"/>
            <a:ext cx="8137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 = {e1, e2, …, em} </a:t>
            </a:r>
            <a:r>
              <a:rPr b="0" lang="hu-HU" sz="1800" spc="-1" strike="noStrike">
                <a:solidFill>
                  <a:srgbClr val="3333cc"/>
                </a:solidFill>
                <a:latin typeface="Arial"/>
              </a:rPr>
              <a:t>elemek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egy adatbázisban (pl. termék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 részhalmazai: </a:t>
            </a:r>
            <a:r>
              <a:rPr b="0" lang="hu-HU" sz="1800" spc="-1" strike="noStrike">
                <a:solidFill>
                  <a:srgbClr val="3333cc"/>
                </a:solidFill>
                <a:latin typeface="Arial"/>
              </a:rPr>
              <a:t>elemhalmaz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 = {t1, t2, …tn}: </a:t>
            </a:r>
            <a:r>
              <a:rPr b="0" lang="hu-HU" sz="1800" spc="-1" strike="noStrike">
                <a:solidFill>
                  <a:srgbClr val="3333cc"/>
                </a:solidFill>
                <a:latin typeface="Arial"/>
              </a:rPr>
              <a:t>tranzakciók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rekordok) halma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X elemhalmaz </a:t>
            </a:r>
            <a:r>
              <a:rPr b="0" lang="hu-HU" sz="1800" spc="-1" strike="noStrike">
                <a:solidFill>
                  <a:srgbClr val="3333cc"/>
                </a:solidFill>
                <a:latin typeface="Arial"/>
              </a:rPr>
              <a:t>előfordu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ti -ben, ha az X része ti-n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hu-HU" sz="1800" spc="-1" strike="noStrike">
                <a:solidFill>
                  <a:srgbClr val="3333cc"/>
                </a:solidFill>
                <a:latin typeface="Arial"/>
              </a:rPr>
              <a:t>gyakoriság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u-HU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on T tranzakciók száma, melyekben X előfordul, (</a:t>
            </a:r>
            <a:r>
              <a:rPr b="0" lang="hu-HU" sz="1800" spc="-1" strike="noStrike">
                <a:solidFill>
                  <a:srgbClr val="a50021"/>
                </a:solidFill>
                <a:latin typeface="Arial"/>
              </a:rPr>
              <a:t>támogatottság, support, supp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) kiszámítás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a50021"/>
                </a:solidFill>
                <a:latin typeface="Arial"/>
              </a:rPr>
              <a:t>gyakoriság(X) = |{ti | X eleme ti,  ahol ti eleme T}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ázalékos formában: osztjuk |T|-vel, íg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(X) valószínű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0066"/>
                </a:solidFill>
                <a:latin typeface="Arial"/>
              </a:rPr>
              <a:t>Alapfogalmak </a:t>
            </a:r>
            <a:r>
              <a:rPr b="0" i="1" lang="en-US" sz="3300" spc="-1" strike="noStrike">
                <a:solidFill>
                  <a:srgbClr val="330066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330066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5280" y="162864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hu-HU" sz="1800" spc="-1" strike="noStrike">
                <a:solidFill>
                  <a:srgbClr val="3333cc"/>
                </a:solidFill>
                <a:latin typeface="Arial"/>
              </a:rPr>
              <a:t>gyakori elemhalmaz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ha meghaladja az ún. minimális gyakoriságot (gyakoriság küszöb,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):  tehát h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a50021"/>
                </a:solidFill>
                <a:latin typeface="Arial"/>
              </a:rPr>
              <a:t>gyakoriság(X) &gt; </a:t>
            </a:r>
            <a:r>
              <a:rPr b="0" lang="el-GR" sz="1800" spc="-1" strike="noStrike">
                <a:solidFill>
                  <a:srgbClr val="a50021"/>
                </a:solidFill>
                <a:latin typeface="Arial"/>
              </a:rPr>
              <a:t>σ</a:t>
            </a:r>
            <a:r>
              <a:rPr b="0" lang="hu-HU" sz="1800" spc="-1" strike="noStrike">
                <a:solidFill>
                  <a:srgbClr val="a50021"/>
                </a:solidFill>
                <a:latin typeface="Arial"/>
              </a:rPr>
              <a:t> szig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3333cc"/>
                </a:solidFill>
                <a:latin typeface="Arial"/>
              </a:rPr>
              <a:t>Minimális gyakorisá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objektív, adat vezérelt, vagy pedig szubjektív, a felhasználó határozza m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Példa 1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Mik lesznek az elemek? Milyen gyakori elemhalmazokat és szabályokat fedezünk f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826920" y="4653000"/>
          <a:ext cx="3168720" cy="166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4653000"/>
                    <a:ext cx="3168720" cy="16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4213800" y="4365720"/>
            <a:ext cx="4326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= {tej, kenyér, sör, tojás, kóla, pelenka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067280" y="4869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{sör, pelenka} elemhalmaz gyakorisága: 3 (6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 pl.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= 50 %, akkor ez gyakori elemhalmaz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0066"/>
                </a:solidFill>
                <a:latin typeface="Arial"/>
              </a:rPr>
              <a:t>Alapfogalmak 3.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gyakori elemhalmazok hátránya: nem mutatják meg az elemhalmaz elemei között fennálló kapcsolatoka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Ezért: </a:t>
            </a:r>
            <a:r>
              <a:rPr b="0" lang="hu-HU" sz="1700" spc="-1" strike="noStrike">
                <a:solidFill>
                  <a:srgbClr val="a50021"/>
                </a:solidFill>
                <a:latin typeface="Arial"/>
              </a:rPr>
              <a:t>asszociációs szabályokat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 generálhatunk a gyakori elemhalmazokbó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A {sör, pelenka} gyakori elemhalmazból pl. a következő szabályokat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-Ha valaki vesz sört, akkor bizonyos valószínűséggel pelenkát is vásárol: </a:t>
            </a:r>
            <a:r>
              <a:rPr b="0" lang="hu-HU" sz="1700" spc="-1" strike="noStrike" u="sng">
                <a:solidFill>
                  <a:srgbClr val="000000"/>
                </a:solidFill>
                <a:uFillTx/>
                <a:latin typeface="Arial"/>
              </a:rPr>
              <a:t>Sör -&gt; Pelenk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-Ha valaki vesz pelenkát, akkor bizonyos valószínűséggel sört is vásárol: </a:t>
            </a:r>
            <a:r>
              <a:rPr b="0" lang="hu-HU" sz="1700" spc="-1" strike="noStrike" u="sng">
                <a:solidFill>
                  <a:srgbClr val="000000"/>
                </a:solidFill>
                <a:uFillTx/>
                <a:latin typeface="Arial"/>
              </a:rPr>
              <a:t>Pelenka -&gt; Sö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Az ilyen X -&gt; Y </a:t>
            </a:r>
            <a:r>
              <a:rPr b="1" lang="hu-HU" sz="1700" spc="-1" strike="noStrike">
                <a:solidFill>
                  <a:srgbClr val="0000cc"/>
                </a:solidFill>
                <a:latin typeface="Arial"/>
              </a:rPr>
              <a:t>implikációt</a:t>
            </a: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 hívjuk </a:t>
            </a:r>
            <a:r>
              <a:rPr b="1" lang="hu-HU" sz="1700" spc="-1" strike="noStrike">
                <a:solidFill>
                  <a:srgbClr val="3333cc"/>
                </a:solidFill>
                <a:latin typeface="Arial"/>
              </a:rPr>
              <a:t>asszociációs szabálynak</a:t>
            </a: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Előzmény - X és következmény rész - 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a50021"/>
                </a:solidFill>
                <a:latin typeface="Arial"/>
              </a:rPr>
              <a:t>Bizonyosság (konfidencia, conf)</a:t>
            </a:r>
            <a:r>
              <a:rPr b="0" lang="hu-HU" sz="17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mutató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700" spc="-1" strike="noStrike">
                <a:solidFill>
                  <a:srgbClr val="a50021"/>
                </a:solidFill>
                <a:latin typeface="Arial"/>
              </a:rPr>
              <a:t>bizonyosság(X-&gt;Y) = gyakoriság(X</a:t>
            </a:r>
            <a:r>
              <a:rPr b="0" lang="hu-HU" sz="1700" spc="-1" strike="noStrike">
                <a:solidFill>
                  <a:srgbClr val="a50021"/>
                </a:solidFill>
                <a:latin typeface="Euclid Symbol"/>
                <a:ea typeface="Euclid Symbol"/>
              </a:rPr>
              <a:t></a:t>
            </a:r>
            <a:r>
              <a:rPr b="0" lang="hu-HU" sz="1700" spc="-1" strike="noStrike">
                <a:solidFill>
                  <a:srgbClr val="a50021"/>
                </a:solidFill>
                <a:latin typeface="Arial"/>
              </a:rPr>
              <a:t> Y)/gyakoriság(X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ADATBÁNYÁSZAT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1080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lyan összetett (általában rejtett), statisztikai módon alátámasztott szabályszerűségek felismerésére van lehetőség, amelyek fontos alapot képezhetnek egy-egy lényeges üzleti döntés meghozataláná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773280" y="122400"/>
            <a:ext cx="6911640" cy="129528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576000" y="1773360"/>
            <a:ext cx="791820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Times New Roman"/>
              </a:rPr>
              <a:t>Számítsuk ki a bizonyosságát az előbbi szabályoknak, felhasználva a példa vásárlói kosarakat tartalmazó táblázatot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Times New Roman"/>
              </a:rPr>
              <a:t>Conf(Sör -&gt; Pelenka) = supp(Sör, Pelenka)/supp(Sör) = 3/3 (100 %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Times New Roman"/>
              </a:rPr>
              <a:t>Conf(Pelenka -&gt; Sör) = supp(Sör, Pelenka)/supp(Pelenka) = ¾ (75 %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Times New Roman"/>
              </a:rPr>
              <a:t>Melyik az „erősebb szabály” 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3333cc"/>
                </a:solidFill>
                <a:latin typeface="Times New Roman"/>
              </a:rPr>
              <a:t>Bizonyos</a:t>
            </a:r>
            <a:r>
              <a:rPr b="0" lang="hu-HU" sz="1700" spc="-1" strike="noStrike">
                <a:solidFill>
                  <a:srgbClr val="000000"/>
                </a:solidFill>
                <a:latin typeface="Times New Roman"/>
              </a:rPr>
              <a:t> egy szabály, ha bizonyossága meghaladja a </a:t>
            </a:r>
            <a:r>
              <a:rPr b="0" lang="hu-HU" sz="1700" spc="-1" strike="noStrike">
                <a:solidFill>
                  <a:srgbClr val="3333cc"/>
                </a:solidFill>
                <a:latin typeface="Times New Roman"/>
              </a:rPr>
              <a:t>minimális bizonyosságot</a:t>
            </a:r>
            <a:r>
              <a:rPr b="0" lang="hu-HU" sz="17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l-GR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hu-HU" sz="1700" spc="-1" strike="noStrike">
                <a:solidFill>
                  <a:srgbClr val="000000"/>
                </a:solidFill>
                <a:latin typeface="Times New Roman"/>
              </a:rPr>
              <a:t>)gamm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a50021"/>
                </a:solidFill>
                <a:latin typeface="Times New Roman"/>
              </a:rPr>
              <a:t>Érvényes </a:t>
            </a:r>
            <a:r>
              <a:rPr b="0" lang="hu-HU" sz="1700" spc="-1" strike="noStrike">
                <a:solidFill>
                  <a:srgbClr val="000000"/>
                </a:solidFill>
                <a:latin typeface="Times New Roman"/>
              </a:rPr>
              <a:t>(fontos) szabály: </a:t>
            </a:r>
            <a:r>
              <a:rPr b="1" lang="hu-HU" sz="1700" spc="-1" strike="noStrike">
                <a:solidFill>
                  <a:srgbClr val="000000"/>
                </a:solidFill>
                <a:latin typeface="Times New Roman"/>
              </a:rPr>
              <a:t>ha gyakori és bizonyos 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898560" y="2662200"/>
          <a:ext cx="3238560" cy="1239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98560" y="2662200"/>
                    <a:ext cx="323856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4211640" y="2492280"/>
            <a:ext cx="1141560" cy="12398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5"/>
          <a:stretch/>
        </p:blipFill>
        <p:spPr>
          <a:xfrm>
            <a:off x="5435640" y="2421000"/>
            <a:ext cx="108108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24000" y="1484280"/>
            <a:ext cx="8640720" cy="40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ézzük meg melyek a „fontos” szabályok, bizonyosság (min_confidence), illetve más mértékek számítása is lehetsé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pl. korreláció, PS - Piatetsky-Shapiro </a:t>
            </a:r>
            <a:r>
              <a:rPr b="0" lang="hu-HU" sz="1800" spc="-1" strike="noStrike">
                <a:solidFill>
                  <a:srgbClr val="a50021"/>
                </a:solidFill>
                <a:latin typeface="Arial"/>
              </a:rPr>
              <a:t>érdekességi mérték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stb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8360" y="2492280"/>
            <a:ext cx="7920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élrevezethető lehet egy szabály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l. 500 ember kávé (80 %) és tea (20 %) fogyasztását elemezzük (mindkettőt 15%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ea -&gt; kávé szabály bizonyossága 75 % , viszont 80 % csak kávét iszik, tehát a tea fogyasztás a kávé fogyasztását csökkenti, így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enti szabály félrevezető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úl sok az évényes (supp + conf) szabályunk, de melyek az igazán fontosak? -&gt; </a:t>
            </a:r>
            <a:r>
              <a:rPr b="0" lang="hu-HU" sz="1800" spc="-1" strike="noStrike">
                <a:solidFill>
                  <a:srgbClr val="a50021"/>
                </a:solidFill>
                <a:latin typeface="Arial"/>
              </a:rPr>
              <a:t>Érdekességi mutató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szabályok száma gyakoriság és a bizonyosság mértékének beállításával szabályozhat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330066"/>
                </a:solidFill>
                <a:latin typeface="Arial"/>
              </a:rPr>
              <a:t>Asszociációs szabályok kiválasztása – érdekességi mutatók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641988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Criticism to Support and Confidence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002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1: (Aggarwal &amp; Yu, PODS9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ng 5000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7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3000 play basketbal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7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3750 eat cereal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 (szumma 75%-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7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0 both play basket ball and eat cere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lay basketb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t cere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40%, 66.7%]  is misleading because the overall percentage of students eating cereal is 75% which is higher than 66.7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lay basketb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eat cere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20%, 33.3%] is far more accurate, although with lower support and conf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284720" y="4797360"/>
          <a:ext cx="3459240" cy="144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4797360"/>
                    <a:ext cx="345924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989760" cy="43480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330066"/>
                </a:solidFill>
                <a:latin typeface="Arial"/>
              </a:rPr>
              <a:t>Asszociációs szabályok kiválasztása – érdekességi mutatók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330066"/>
                </a:solidFill>
                <a:latin typeface="Arial"/>
              </a:rPr>
              <a:t>Asszociációs szabályok kiválasztása – érdekességi mutatók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79311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LIF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bizonyosság/gyakoriság: Lift(X=&gt;Y) = bizony.(X=&gt;Y)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gyakor.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a50021"/>
                </a:solidFill>
                <a:latin typeface="Arial"/>
              </a:rPr>
              <a:t>       </a:t>
            </a:r>
            <a:r>
              <a:rPr b="0" lang="hu-HU" sz="1800" spc="-1" strike="noStrike">
                <a:solidFill>
                  <a:srgbClr val="a50021"/>
                </a:solidFill>
                <a:latin typeface="Arial"/>
              </a:rPr>
              <a:t>bizonyosság(X-&gt;Y) = gyakoriság(X</a:t>
            </a:r>
            <a:r>
              <a:rPr b="0" lang="hu-HU" sz="1800" spc="-1" strike="noStrike">
                <a:solidFill>
                  <a:srgbClr val="a50021"/>
                </a:solidFill>
                <a:latin typeface="Euclid Symbol"/>
                <a:ea typeface="Euclid Symbol"/>
              </a:rPr>
              <a:t></a:t>
            </a:r>
            <a:r>
              <a:rPr b="0" lang="hu-HU" sz="1800" spc="-1" strike="noStrike">
                <a:solidFill>
                  <a:srgbClr val="a50021"/>
                </a:solidFill>
                <a:latin typeface="Arial"/>
              </a:rPr>
              <a:t> Y)/gyakoriság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0" lang="hu-HU" sz="1800" spc="-1" strike="noStrike">
                <a:solidFill>
                  <a:srgbClr val="a50021"/>
                </a:solidFill>
                <a:latin typeface="Arial"/>
              </a:rPr>
              <a:t>=&gt; </a:t>
            </a:r>
            <a:r>
              <a:rPr b="1" lang="hu-HU" sz="1800" spc="-1" strike="noStrike">
                <a:solidFill>
                  <a:srgbClr val="a50021"/>
                </a:solidFill>
                <a:latin typeface="Arial"/>
              </a:rPr>
              <a:t>gyakoriság(X</a:t>
            </a:r>
            <a:r>
              <a:rPr b="1" lang="hu-HU" sz="1800" spc="-1" strike="noStrike">
                <a:solidFill>
                  <a:srgbClr val="a50021"/>
                </a:solidFill>
                <a:latin typeface="Euclid Symbol"/>
                <a:ea typeface="Euclid Symbol"/>
              </a:rPr>
              <a:t></a:t>
            </a:r>
            <a:r>
              <a:rPr b="1" lang="hu-HU" sz="1800" spc="-1" strike="noStrike">
                <a:solidFill>
                  <a:srgbClr val="a50021"/>
                </a:solidFill>
                <a:latin typeface="Arial"/>
              </a:rPr>
              <a:t> Y)/gyakoriság(X)* gyakoriság(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feltétel és a következmény egymástól független, ha a LIFT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R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covariancia analízis: (Rule Interes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Korreláció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A feltétel és következmény független, ha a mutató közel esik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gymásh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Természetes tényez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Hozzáadott érté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Jaccard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hu-HU" sz="1800" spc="-1" strike="noStrike">
                <a:solidFill>
                  <a:srgbClr val="a50021"/>
                </a:solidFill>
                <a:latin typeface="Arial"/>
              </a:rPr>
              <a:t>ez </a:t>
            </a:r>
            <a:r>
              <a:rPr b="1" lang="hu-HU" sz="1800" spc="-1" strike="noStrike" u="sng">
                <a:solidFill>
                  <a:srgbClr val="a50021"/>
                </a:solidFill>
                <a:uFillTx/>
                <a:latin typeface="Arial"/>
              </a:rPr>
              <a:t>majdnem</a:t>
            </a:r>
            <a:r>
              <a:rPr b="1" lang="hu-HU" sz="1800" spc="-1" strike="noStrike">
                <a:solidFill>
                  <a:srgbClr val="a50021"/>
                </a:solidFill>
                <a:latin typeface="Arial"/>
              </a:rPr>
              <a:t> a relatív gyakorisá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7093080" y="2421000"/>
          <a:ext cx="795240" cy="49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3080" y="2421000"/>
                    <a:ext cx="79524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Iceberg Queries</a:t>
            </a:r>
            <a:r>
              <a:rPr b="1" lang="hu-HU" sz="2600" spc="-1" strike="noStrike">
                <a:solidFill>
                  <a:srgbClr val="330066"/>
                </a:solidFill>
                <a:latin typeface="Arial"/>
              </a:rPr>
              <a:t> (jéghegy csúcsa)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cc"/>
                </a:solidFill>
                <a:latin typeface="Arial"/>
              </a:rPr>
              <a:t>Icerberg quer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pute aggregates over one or a set of attributes only for those whose aggregate values is above certain threshold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.Csak akkor számol összesítéseket az attributumokra, ha mindegyik adott küszöbérték felet van</a:t>
            </a:r>
            <a:r>
              <a:rPr b="0" lang="hu-HU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a50021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0981"/>
                </a:solidFill>
                <a:latin typeface="Arial"/>
              </a:rPr>
              <a:t>sele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.custID, P.itemID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.q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0981"/>
                </a:solidFill>
                <a:latin typeface="Arial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urchase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0981"/>
                </a:solidFill>
                <a:latin typeface="Arial"/>
              </a:rPr>
              <a:t>group b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.custID, P.item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70981"/>
                </a:solidFill>
                <a:latin typeface="Arial"/>
              </a:rPr>
              <a:t>hav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.qty) &gt;=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cc"/>
                </a:solidFill>
                <a:latin typeface="Arial"/>
              </a:rPr>
              <a:t>Comput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iceberg queries efficiently </a:t>
            </a:r>
            <a:r>
              <a:rPr b="0" lang="en-US" sz="2500" spc="-1" strike="noStrike">
                <a:solidFill>
                  <a:srgbClr val="0000cc"/>
                </a:solidFill>
                <a:latin typeface="Arial"/>
              </a:rPr>
              <a:t>by Apriori</a:t>
            </a:r>
            <a:r>
              <a:rPr b="0" lang="en-US" sz="2500" spc="-1" strike="noStrike">
                <a:solidFill>
                  <a:srgbClr val="7e9ce8"/>
                </a:solidFill>
                <a:latin typeface="Arial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rst compute lower dimensions</a:t>
            </a:r>
            <a:r>
              <a:rPr b="0" lang="hu-H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őször az alacsonyabb dimenziókra szá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n compute higher dimensions only when </a:t>
            </a:r>
            <a:r>
              <a:rPr b="0" lang="en-US" sz="2100" spc="-1" strike="noStrike">
                <a:solidFill>
                  <a:srgbClr val="0000cc"/>
                </a:solidFill>
                <a:latin typeface="Arial"/>
              </a:rPr>
              <a:t>all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lower ones are above the threshol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Multiple-Level Association Rules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s often form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hierarc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s at the lower level are expected to have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lower supp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 regarding itemsets a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priate levels could be quite usef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database can be encoded based on dimensions and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explore shared multi-level m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ÉLELEM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enyér                                              t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arna      félbarna     fehér                3,5%    2,8%    1,5%    0,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Mining </a:t>
            </a:r>
            <a:r>
              <a:rPr b="1" lang="en-US" sz="2600" spc="-1" strike="noStrike" u="sng">
                <a:solidFill>
                  <a:srgbClr val="330066"/>
                </a:solidFill>
                <a:uFillTx/>
                <a:latin typeface="Arial"/>
              </a:rPr>
              <a:t>Multi-Level </a:t>
            </a: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Associations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top_dow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gressive deepening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approa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find high-level strong 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k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bread  [20%, 60%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find their lower-level “weaker” 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% milk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wheat bread [6%, 50%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tions at mining multiple-level association r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-crossed association r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%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ilk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cc3300"/>
                </a:solidFill>
                <a:latin typeface="Arial"/>
              </a:rPr>
              <a:t>Wonde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whea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on rules with multiple, alternative hierarch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%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ilk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cc3300"/>
                </a:solidFill>
                <a:latin typeface="Arial"/>
              </a:rPr>
              <a:t>Wonder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0066"/>
                </a:solidFill>
                <a:uFillTx/>
                <a:latin typeface="Arial"/>
              </a:rPr>
              <a:t>Multi-leve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l Association: Uniform Support vs. Reduced Support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a50021"/>
                </a:solidFill>
                <a:latin typeface="Arial"/>
              </a:rPr>
              <a:t>Uniform Suppor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egyforma minimum támogatás minden szint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e minimum support threshold.   No need to examine itemsets containing any item whose ancestors do not have minimum sup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level items do not occur as frequently. If support thresho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o high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iss low level assoc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o low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enerate too many high level assoc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a50021"/>
                </a:solidFill>
                <a:latin typeface="Arial"/>
              </a:rPr>
              <a:t>Reduced Suppor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csökkentett minimum támogatás alacsonyabb szint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re are 4 search strategi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-by-level in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-cross filtering by k-item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-cross filtering by singl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led level-cross filtering by single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330066"/>
                </a:solidFill>
                <a:uFillTx/>
                <a:latin typeface="Arial"/>
              </a:rPr>
              <a:t>Multi-Dimensional</a:t>
            </a: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 Association: Concepts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ng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dimensional rul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a50021"/>
                </a:solidFill>
                <a:latin typeface="Arial"/>
              </a:rPr>
              <a:t>buys(X, “milk”)  </a:t>
            </a:r>
            <a:r>
              <a:rPr b="0" lang="en-US" sz="2100" spc="-1" strike="noStrike">
                <a:solidFill>
                  <a:srgbClr val="a50021"/>
                </a:solidFill>
                <a:latin typeface="Symbol"/>
                <a:ea typeface="Symbol"/>
              </a:rPr>
              <a:t></a:t>
            </a:r>
            <a:r>
              <a:rPr b="0" lang="en-US" sz="2100" spc="-1" strike="noStrike">
                <a:solidFill>
                  <a:srgbClr val="a50021"/>
                </a:solidFill>
                <a:latin typeface="Arial"/>
              </a:rPr>
              <a:t>   buys(X, “bread”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ulti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mensional rules: </a:t>
            </a:r>
            <a:r>
              <a:rPr b="0" lang="en-US" sz="2600" spc="-1" strike="noStrike">
                <a:solidFill>
                  <a:srgbClr val="000000"/>
                </a:solidFill>
                <a:latin typeface="Math B"/>
                <a:ea typeface="Math B"/>
              </a:rPr>
              <a:t>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2 dimensions or predic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-dimension association rules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o repeated predicat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a50021"/>
                </a:solidFill>
                <a:latin typeface="Arial"/>
              </a:rPr>
              <a:t>age(X,”19-25”)  </a:t>
            </a:r>
            <a:r>
              <a:rPr b="0" lang="en-US" sz="2100" spc="-1" strike="noStrike">
                <a:solidFill>
                  <a:srgbClr val="a50021"/>
                </a:solidFill>
                <a:latin typeface="Symbol"/>
                <a:ea typeface="Symbol"/>
              </a:rPr>
              <a:t></a:t>
            </a:r>
            <a:r>
              <a:rPr b="0" lang="en-US" sz="2100" spc="-1" strike="noStrike">
                <a:solidFill>
                  <a:srgbClr val="a50021"/>
                </a:solidFill>
                <a:latin typeface="Arial"/>
              </a:rPr>
              <a:t> occupation(X,“student”) </a:t>
            </a:r>
            <a:r>
              <a:rPr b="0" lang="en-US" sz="2100" spc="-1" strike="noStrike">
                <a:solidFill>
                  <a:srgbClr val="a50021"/>
                </a:solidFill>
                <a:latin typeface="Symbol"/>
                <a:ea typeface="Symbol"/>
              </a:rPr>
              <a:t></a:t>
            </a:r>
            <a:r>
              <a:rPr b="0" lang="en-US" sz="2100" spc="-1" strike="noStrike">
                <a:solidFill>
                  <a:srgbClr val="a50021"/>
                </a:solidFill>
                <a:latin typeface="Arial"/>
              </a:rPr>
              <a:t>   buys(X,“coke”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ybrid-dimension association rules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peated predicat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a50021"/>
                </a:solidFill>
                <a:latin typeface="Arial"/>
              </a:rPr>
              <a:t>age(X,”19-25”) </a:t>
            </a:r>
            <a:r>
              <a:rPr b="0" lang="en-US" sz="2100" spc="-1" strike="noStrike">
                <a:solidFill>
                  <a:srgbClr val="a50021"/>
                </a:solidFill>
                <a:latin typeface="Symbol"/>
                <a:ea typeface="Symbol"/>
              </a:rPr>
              <a:t></a:t>
            </a:r>
            <a:r>
              <a:rPr b="0" lang="en-US" sz="2100" spc="-1" strike="noStrike">
                <a:solidFill>
                  <a:srgbClr val="a50021"/>
                </a:solidFill>
                <a:latin typeface="Arial"/>
              </a:rPr>
              <a:t>  buys(X, “popcorn”) </a:t>
            </a:r>
            <a:r>
              <a:rPr b="0" lang="en-US" sz="2100" spc="-1" strike="noStrike">
                <a:solidFill>
                  <a:srgbClr val="a50021"/>
                </a:solidFill>
                <a:latin typeface="Symbol"/>
                <a:ea typeface="Symbol"/>
              </a:rPr>
              <a:t></a:t>
            </a:r>
            <a:r>
              <a:rPr b="0" lang="en-US" sz="2100" spc="-1" strike="noStrike">
                <a:solidFill>
                  <a:srgbClr val="a50021"/>
                </a:solidFill>
                <a:latin typeface="Arial"/>
              </a:rPr>
              <a:t> buys(X, “coke”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tegorical Attribu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 number of possible values, no ordering among val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antitative Attribu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umeric, implicit ordering among val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KERESKEDELEM ÉRDEKE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0040" y="1285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1080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ásárlói csoportok, viselkedési minták azonosítá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fogyasztók demográfiai jellemzői közötti kapcsolatok  feltárá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resztértékesítés egyes termékek esetéb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gyasztói igények pontos felméré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övedelmező fogyasztói szegmensek beazonosítá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ásárlómegtartás, vásárlói hűség növelé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Techniques for Mining MD</a:t>
            </a:r>
            <a:r>
              <a:rPr b="1" lang="hu-HU" sz="2400" spc="-1" strike="noStrike">
                <a:solidFill>
                  <a:srgbClr val="330066"/>
                </a:solidFill>
                <a:latin typeface="Arial"/>
              </a:rPr>
              <a:t>im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 Associations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arch for frequent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predicate se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{</a:t>
            </a:r>
            <a:r>
              <a:rPr b="0" lang="en-US" sz="2000" spc="-1" strike="noStrike" u="sng">
                <a:solidFill>
                  <a:srgbClr val="a50021"/>
                </a:solidFill>
                <a:uFillTx/>
                <a:latin typeface="Arial"/>
              </a:rPr>
              <a:t>ag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, occupation, buys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3-predicate 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s can be categorized by how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ag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re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. Using static discretization of quantitative attribu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tative attributes are statically discretized by using predefined concept hierarch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eric values are replaced by ranges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Lásd OL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. Quantitative association ru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tative attributes are dynamically discretized into “bins”based on the distribution of the data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 the confidence or compactness of the rules mined is max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3. Distance-based association ru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dynamic discretization process that considers the distance between data p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562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Mining Distance-based Association Rul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7715160" cy="45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ance-based partitioning, more meaningful discretization consider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density/number of points in a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closeness” of points in a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11280" y="2781360"/>
            <a:ext cx="74880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[X] is a set of N tuples t1, t2, …, tN , projected on the attribute set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ameter of S[X]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:distance metric, e.g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uclidean dist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r Manhat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  <a:ea typeface="Arial"/>
              </a:rPr>
              <a:t>Euklideszi távolság, </a:t>
            </a:r>
            <a:r>
              <a:rPr b="1" i="1" lang="hu-HU" sz="1200" spc="-1" strike="noStrike">
                <a:solidFill>
                  <a:srgbClr val="000000"/>
                </a:solidFill>
                <a:latin typeface="Arial"/>
                <a:ea typeface="Arial"/>
              </a:rPr>
              <a:t>ED.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  <a:ea typeface="Arial"/>
              </a:rPr>
              <a:t>bináris adatokra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Arial"/>
              </a:rPr>
              <a:t> érvényes legegyszerűbb formulával az euklideszi távolság, aho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Arial"/>
              </a:rPr>
              <a:t> azoknak a fragmentumoknak a száma, amelyeket az első objektumban amplifikálni tudtunk, de a másodikban ne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  <a:ea typeface="Arial"/>
              </a:rPr>
              <a:t> pedig azoknak a száma, amelyeket a második objektumban amplifikáltunk, de az elsőből hiányozn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  <a:ea typeface="Arial"/>
              </a:rPr>
              <a:t>Euklideszi távolságról még a következőkben is lesz sz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132000" y="3429000"/>
          <a:ext cx="288000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3429000"/>
                    <a:ext cx="28800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7812000" y="5157720"/>
            <a:ext cx="70812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atbányász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042920" y="1916280"/>
          <a:ext cx="2089080" cy="64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916280"/>
                    <a:ext cx="208908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468360" y="263700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1   Manhattan (Rectilinear, City Blo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2   Euclid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x (Supremum, “sup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N dimenziós tér pontjainak távolsága (”vektorok” távolsá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9640" y="3860640"/>
            <a:ext cx="835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7.Fejezet Osztályozás és előrejelzé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nuló adathalmaz, minta : felügyelt tanul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intapopulációból véletlenszerűen választjuk 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 osztályozási címkék ismer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lügyelet nélküli tanulás: klaszterez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-199800"/>
            <a:ext cx="7543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Tenure: kinev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333360"/>
            <a:ext cx="806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  <a:ea typeface="Arial"/>
              </a:rPr>
              <a:t>Classification Process (1): Model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2036880" y="1774800"/>
            <a:ext cx="1698480" cy="1506600"/>
            <a:chOff x="2036880" y="1774800"/>
            <a:chExt cx="1698480" cy="1506600"/>
          </a:xfrm>
        </p:grpSpPr>
        <p:pic>
          <p:nvPicPr>
            <p:cNvPr id="335" name="" descr=""/>
            <p:cNvPicPr/>
            <p:nvPr/>
          </p:nvPicPr>
          <p:blipFill>
            <a:blip r:embed="rId1"/>
            <a:stretch/>
          </p:blipFill>
          <p:spPr>
            <a:xfrm>
              <a:off x="2036880" y="1774800"/>
              <a:ext cx="1698480" cy="15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2138400" y="2218680"/>
              <a:ext cx="1482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i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37" name=""/>
          <p:cNvGraphicFramePr/>
          <p:nvPr/>
        </p:nvGraphicFramePr>
        <p:xfrm>
          <a:off x="289080" y="3825720"/>
          <a:ext cx="5437080" cy="2495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080" y="3825720"/>
                    <a:ext cx="5437080" cy="24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 flipH="1">
            <a:off x="306000" y="3111480"/>
            <a:ext cx="1644840" cy="7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736800" y="3111480"/>
            <a:ext cx="2025720" cy="7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483960" y="1627920"/>
            <a:ext cx="1865880" cy="8240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rot="20460000">
            <a:off x="4235400" y="2074680"/>
            <a:ext cx="1657440" cy="483840"/>
          </a:xfrm>
          <a:prstGeom prst="rightArrow">
            <a:avLst>
              <a:gd name="adj1" fmla="val 50000"/>
              <a:gd name="adj2" fmla="val 85671"/>
            </a:avLst>
          </a:prstGeom>
          <a:solidFill>
            <a:srgbClr val="2597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951880" y="5316840"/>
            <a:ext cx="3051720" cy="1189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ank = ‘professor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ears &gt;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enured = ‘yes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6478560" y="3216240"/>
            <a:ext cx="1889280" cy="1506600"/>
            <a:chOff x="6478560" y="3216240"/>
            <a:chExt cx="1889280" cy="1506600"/>
          </a:xfrm>
        </p:grpSpPr>
        <p:pic>
          <p:nvPicPr>
            <p:cNvPr id="345" name="" descr=""/>
            <p:cNvPicPr/>
            <p:nvPr/>
          </p:nvPicPr>
          <p:blipFill>
            <a:blip r:embed="rId4"/>
            <a:stretch/>
          </p:blipFill>
          <p:spPr>
            <a:xfrm>
              <a:off x="6478560" y="3216240"/>
              <a:ext cx="1889280" cy="15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6735960" y="3660120"/>
              <a:ext cx="1356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assifi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Model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 flipH="1">
            <a:off x="5946480" y="4621320"/>
            <a:ext cx="531720" cy="71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369280" y="4543560"/>
            <a:ext cx="577800" cy="79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143840" y="2576520"/>
            <a:ext cx="546120" cy="592200"/>
          </a:xfrm>
          <a:prstGeom prst="downArrow">
            <a:avLst>
              <a:gd name="adj1" fmla="val 50000"/>
              <a:gd name="adj2" fmla="val 27119"/>
            </a:avLst>
          </a:prstGeom>
          <a:solidFill>
            <a:srgbClr val="2597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-36756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95280" y="6524280"/>
            <a:ext cx="822960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447920" y="228600"/>
            <a:ext cx="7488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  <a:ea typeface="Arial"/>
              </a:rPr>
              <a:t>Classification Process (2): Use the Model in Pre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4444920" y="1569960"/>
            <a:ext cx="1889280" cy="1506600"/>
            <a:chOff x="4444920" y="1569960"/>
            <a:chExt cx="1889280" cy="1506600"/>
          </a:xfrm>
        </p:grpSpPr>
        <p:pic>
          <p:nvPicPr>
            <p:cNvPr id="354" name="" descr=""/>
            <p:cNvPicPr/>
            <p:nvPr/>
          </p:nvPicPr>
          <p:blipFill>
            <a:blip r:embed="rId1"/>
            <a:stretch/>
          </p:blipFill>
          <p:spPr>
            <a:xfrm>
              <a:off x="4444920" y="1569960"/>
              <a:ext cx="1889280" cy="15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4702320" y="2196720"/>
              <a:ext cx="1356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assifi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2157480" y="2735280"/>
            <a:ext cx="1698480" cy="1506600"/>
            <a:chOff x="2157480" y="2735280"/>
            <a:chExt cx="1698480" cy="1506600"/>
          </a:xfrm>
        </p:grpSpPr>
        <p:pic>
          <p:nvPicPr>
            <p:cNvPr id="357" name="" descr=""/>
            <p:cNvPicPr/>
            <p:nvPr/>
          </p:nvPicPr>
          <p:blipFill>
            <a:blip r:embed="rId2"/>
            <a:stretch/>
          </p:blipFill>
          <p:spPr>
            <a:xfrm>
              <a:off x="2157480" y="2735280"/>
              <a:ext cx="1698480" cy="15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2259000" y="3179160"/>
              <a:ext cx="1482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s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59" name=""/>
          <p:cNvGraphicFramePr/>
          <p:nvPr/>
        </p:nvGraphicFramePr>
        <p:xfrm>
          <a:off x="457200" y="4800600"/>
          <a:ext cx="5438880" cy="1765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4800600"/>
                    <a:ext cx="5438880" cy="17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 flipH="1">
            <a:off x="426600" y="4071960"/>
            <a:ext cx="1644840" cy="7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857760" y="4071960"/>
            <a:ext cx="2025360" cy="7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792920" y="5000760"/>
            <a:ext cx="546120" cy="591840"/>
          </a:xfrm>
          <a:prstGeom prst="downArrow">
            <a:avLst>
              <a:gd name="adj1" fmla="val 50000"/>
              <a:gd name="adj2" fmla="val 27103"/>
            </a:avLst>
          </a:prstGeom>
          <a:solidFill>
            <a:srgbClr val="2597b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523200" y="2173320"/>
            <a:ext cx="941400" cy="766800"/>
          </a:xfrm>
          <a:custGeom>
            <a:avLst/>
            <a:gdLst/>
            <a:ahLst/>
            <a:rect l="l" t="t" r="r" b="b"/>
            <a:pathLst>
              <a:path w="593" h="483">
                <a:moveTo>
                  <a:pt x="0" y="34"/>
                </a:moveTo>
                <a:lnTo>
                  <a:pt x="200" y="0"/>
                </a:lnTo>
                <a:lnTo>
                  <a:pt x="159" y="58"/>
                </a:lnTo>
                <a:lnTo>
                  <a:pt x="515" y="306"/>
                </a:lnTo>
                <a:lnTo>
                  <a:pt x="555" y="248"/>
                </a:lnTo>
                <a:lnTo>
                  <a:pt x="592" y="448"/>
                </a:lnTo>
                <a:lnTo>
                  <a:pt x="392" y="482"/>
                </a:lnTo>
                <a:lnTo>
                  <a:pt x="433" y="424"/>
                </a:lnTo>
                <a:lnTo>
                  <a:pt x="77" y="176"/>
                </a:lnTo>
                <a:lnTo>
                  <a:pt x="37" y="234"/>
                </a:lnTo>
                <a:lnTo>
                  <a:pt x="0" y="34"/>
                </a:lnTo>
              </a:path>
            </a:pathLst>
          </a:custGeom>
          <a:solidFill>
            <a:srgbClr val="2597b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6647040" y="3187800"/>
            <a:ext cx="1780920" cy="815760"/>
            <a:chOff x="6647040" y="3187800"/>
            <a:chExt cx="1780920" cy="815760"/>
          </a:xfrm>
        </p:grpSpPr>
        <p:pic>
          <p:nvPicPr>
            <p:cNvPr id="366" name="" descr=""/>
            <p:cNvPicPr/>
            <p:nvPr/>
          </p:nvPicPr>
          <p:blipFill>
            <a:blip r:embed="rId5"/>
            <a:stretch/>
          </p:blipFill>
          <p:spPr>
            <a:xfrm>
              <a:off x="6647040" y="3187800"/>
              <a:ext cx="1780920" cy="81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6655320" y="3414240"/>
              <a:ext cx="1751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nseen 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6303240" y="4262400"/>
            <a:ext cx="2458800" cy="45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Jeff, Professor,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6167160" y="3903840"/>
            <a:ext cx="471240" cy="39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448840" y="3903840"/>
            <a:ext cx="363240" cy="34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360600" y="2031840"/>
            <a:ext cx="901800" cy="594000"/>
          </a:xfrm>
          <a:custGeom>
            <a:avLst/>
            <a:gdLst/>
            <a:ahLst/>
            <a:rect l="l" t="t" r="r" b="b"/>
            <a:pathLst>
              <a:path w="568" h="374">
                <a:moveTo>
                  <a:pt x="567" y="59"/>
                </a:moveTo>
                <a:lnTo>
                  <a:pt x="503" y="220"/>
                </a:lnTo>
                <a:lnTo>
                  <a:pt x="478" y="165"/>
                </a:lnTo>
                <a:lnTo>
                  <a:pt x="138" y="318"/>
                </a:lnTo>
                <a:lnTo>
                  <a:pt x="163" y="373"/>
                </a:lnTo>
                <a:lnTo>
                  <a:pt x="0" y="314"/>
                </a:lnTo>
                <a:lnTo>
                  <a:pt x="64" y="153"/>
                </a:lnTo>
                <a:lnTo>
                  <a:pt x="89" y="208"/>
                </a:lnTo>
                <a:lnTo>
                  <a:pt x="429" y="55"/>
                </a:lnTo>
                <a:lnTo>
                  <a:pt x="404" y="0"/>
                </a:lnTo>
                <a:lnTo>
                  <a:pt x="567" y="59"/>
                </a:lnTo>
              </a:path>
            </a:pathLst>
          </a:custGeom>
          <a:solidFill>
            <a:srgbClr val="2597b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6"/>
          <a:stretch/>
        </p:blipFill>
        <p:spPr>
          <a:xfrm>
            <a:off x="7719840" y="5738760"/>
            <a:ext cx="720720" cy="6285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6221160" y="4959360"/>
            <a:ext cx="1526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ur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-41004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6021360"/>
            <a:ext cx="8229600" cy="1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Arial"/>
              </a:rPr>
              <a:t>Training data: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5280" y="1052640"/>
            <a:ext cx="792180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ollection of records (objects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Each record contains a set of features and the cla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hat it belongs to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Az első négy oszlop a tulajdonsághalmaz,  vesz számítógépet vagy sem, az az osztályoz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3849840" y="6180120"/>
          <a:ext cx="2654280" cy="48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9840" y="6180120"/>
                    <a:ext cx="265428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 rot="5368800">
            <a:off x="4008600" y="3731760"/>
            <a:ext cx="457200" cy="4087800"/>
          </a:xfrm>
          <a:custGeom>
            <a:avLst/>
            <a:gdLst>
              <a:gd name="textAreaLeft" fmla="*/ 0 w 457200"/>
              <a:gd name="textAreaRight" fmla="*/ 164880 w 457200"/>
              <a:gd name="textAreaTop" fmla="*/ 106560 h 4087800"/>
              <a:gd name="textAreaBottom" fmla="*/ 3981240 h 408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522760" y="5661000"/>
            <a:ext cx="1281240" cy="433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2195640" y="2205000"/>
          <a:ext cx="5400720" cy="3384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2205000"/>
                    <a:ext cx="540072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7.fej.Osztályozá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„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visszatartó” módsze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egy ellenőrző halmazt is használ, ami a 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pontosságo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mé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z azon mintáknak az aránya, amelyet a modell helyesen osztályozott.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mintahalmazon az illeszkedés túl jó lenne (overfit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osztályozási módszerek összehasonlítása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becslési pontosság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gyorsaság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robusztusság: hiányzó vagy zajos adatok esetén a pontos becslés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képessége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skálázhatóság: nagy méretű adathalmaz esetén a modellfelépítés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hatékonysága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értelmezhető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66"/>
                </a:solidFill>
                <a:latin typeface="Arial"/>
              </a:rPr>
              <a:t>7.fej. Osztályozás döntési fa indukció segítségével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786924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ttributumkiválasztás: információnyereség mértéke szer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39640" y="0"/>
            <a:ext cx="77169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  <a:ea typeface="Arial"/>
              </a:rPr>
              <a:t>Classification by Decision Tree In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0880" y="1523880"/>
            <a:ext cx="8382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Decision tre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flow-chart-like tree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nal node denotes a test on an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anch represents an outcome of the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af nodes represent class labels or class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Decision tree generation consists of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wo phas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ee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7600" indent="-284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At start, all the training examples are at the roo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57600" indent="-284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artition examples recursively based on selected attribu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ee pru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7600" indent="-284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Identify and remove branches that reflect noise or outli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Use of decision tree: Classifying an unknown samp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st the attribute values of the sample against the decision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23640" y="692280"/>
            <a:ext cx="75438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66"/>
                </a:solidFill>
                <a:latin typeface="Arial"/>
              </a:rPr>
              <a:t>7.fej.Döntési fa: Tanuló adathalmaz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8000" y="1052640"/>
            <a:ext cx="8121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gy min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95280" y="260280"/>
            <a:ext cx="43434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  <a:ea typeface="Arial"/>
              </a:rPr>
              <a:t>Training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1905120" y="1600200"/>
          <a:ext cx="693396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600200"/>
                    <a:ext cx="693396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304920" y="1905120"/>
            <a:ext cx="1752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follows an  example from Quinlan’s ID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VÁSÁRLÓI SZOKÁSOK VIZSGÁLATA</a:t>
            </a:r>
            <a:br>
              <a:rPr sz="3100"/>
            </a:br>
            <a:r>
              <a:rPr b="1" i="1" lang="en-US" sz="3100" spc="-1" strike="noStrike">
                <a:solidFill>
                  <a:srgbClr val="330066"/>
                </a:solidFill>
                <a:latin typeface="Arial"/>
              </a:rPr>
              <a:t>ÉS A PROFIT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1080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tárolt vásárlói tranzakciók elemzése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egbúvó (lehetséges) összefüggések feltárása és hasznosítá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vásárlói szokások megértése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rán szerzett tudás üzletstratégiába való beépítésével profitnövekedés érhető 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7543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330066"/>
                </a:solidFill>
                <a:latin typeface="Arial"/>
              </a:rPr>
              <a:t>Döntési fa: vesz-e számítógépet?-re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8000" y="404280"/>
            <a:ext cx="822960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68360" y="333360"/>
            <a:ext cx="779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70981"/>
                </a:solidFill>
                <a:latin typeface="Times New Roman"/>
                <a:ea typeface="Arial"/>
              </a:rPr>
              <a:t>Output: A Decision Tree for “</a:t>
            </a:r>
            <a:r>
              <a:rPr b="0" i="1" lang="en-US" sz="3000" spc="-1" strike="noStrike">
                <a:solidFill>
                  <a:srgbClr val="170981"/>
                </a:solidFill>
                <a:latin typeface="Times New Roman"/>
                <a:ea typeface="Arial"/>
              </a:rPr>
              <a:t>buys_computer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531960" y="1901880"/>
            <a:ext cx="744480" cy="45828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299760" y="287640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693080" y="3790800"/>
            <a:ext cx="1203120" cy="458280"/>
          </a:xfrm>
          <a:prstGeom prst="rect">
            <a:avLst/>
          </a:prstGeom>
          <a:solidFill>
            <a:srgbClr val="00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187960" y="3790800"/>
            <a:ext cx="1806480" cy="4582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dit ra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186920" y="475776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750400" y="4757760"/>
            <a:ext cx="59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511680" y="4772160"/>
            <a:ext cx="61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876200" y="4786200"/>
            <a:ext cx="1288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2308320" y="2394000"/>
            <a:ext cx="992160" cy="132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3900600" y="2440080"/>
            <a:ext cx="1440" cy="54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565520" y="2470320"/>
            <a:ext cx="1489320" cy="13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144880" y="2819520"/>
            <a:ext cx="837360" cy="45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=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077800" y="2936880"/>
            <a:ext cx="66348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1479240" y="4344840"/>
            <a:ext cx="493560" cy="51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608200" y="4390920"/>
            <a:ext cx="420840" cy="42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5454360" y="4390920"/>
            <a:ext cx="344520" cy="45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434280" y="4405320"/>
            <a:ext cx="328320" cy="3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30280" y="522936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815160" y="518328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516640" y="519912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044880" y="519912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02040" y="329400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85480" y="5634000"/>
            <a:ext cx="489960" cy="45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270040" y="5634000"/>
            <a:ext cx="489960" cy="45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747520" y="5634000"/>
            <a:ext cx="591840" cy="458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519240" y="5634000"/>
            <a:ext cx="591840" cy="458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606120" y="3794040"/>
            <a:ext cx="591840" cy="458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352680" y="2971800"/>
            <a:ext cx="1067040" cy="304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0..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94920" y="6444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606096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0920" y="692280"/>
            <a:ext cx="7529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  <a:ea typeface="Arial"/>
              </a:rPr>
              <a:t>Information Gain (ID3/C4.5)</a:t>
            </a:r>
            <a:br>
              <a:rPr sz="3200"/>
            </a:br>
            <a:r>
              <a:rPr b="1" lang="hu-HU" sz="2000" spc="-1" strike="noStrike">
                <a:solidFill>
                  <a:srgbClr val="330066"/>
                </a:solidFill>
                <a:latin typeface="Arial"/>
                <a:ea typeface="Arial"/>
              </a:rPr>
              <a:t>Információ nyeresé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54160" y="1523880"/>
            <a:ext cx="86612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 the attribute with the highest information gain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(293.old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ume there are two classes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20000"/>
              </a:lnSpc>
              <a:spcBef>
                <a:spcPts val="6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t the set of exampl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onta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elements of cla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elements of cla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20000"/>
              </a:lnSpc>
              <a:spcBef>
                <a:spcPts val="6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amount of information, needed to decide if an arbitrary example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elong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defined a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 ( az adott minta osztályozásához szükséges információ nagysá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1600200" y="4876920"/>
          <a:ext cx="5486400" cy="78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876920"/>
                    <a:ext cx="548640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-36756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606096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39640" y="260280"/>
            <a:ext cx="6705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  <a:ea typeface="Arial"/>
              </a:rPr>
              <a:t>Information Gain in Decision Tree In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1752480"/>
            <a:ext cx="80773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ume that using attribute A a s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will be partitioned into se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, …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}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10000"/>
              </a:lnSpc>
              <a:spcBef>
                <a:spcPts val="6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ontai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example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the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  <a:ea typeface="Arial"/>
              </a:rPr>
              <a:t>entropy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r the expected information needed to classify objects in all subtre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1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encoding information that would be gained by branching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br>
              <a:rPr sz="1800"/>
            </a:br>
            <a:r>
              <a:rPr b="0" i="1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E= entrópia ,az A alapján várható informáci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3276720" y="4292640"/>
                <a:ext cx="31366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ν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3276720" y="5445000"/>
                <a:ext cx="30985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ain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94920" y="-7812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95280" y="6453360"/>
            <a:ext cx="8229600" cy="1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11280" y="1197000"/>
            <a:ext cx="779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  <a:ea typeface="Arial"/>
              </a:rPr>
              <a:t>Attribute Selection by Information Gain Computation</a:t>
            </a:r>
            <a:r>
              <a:rPr b="1" lang="hu-HU" sz="3200" spc="-1" strike="noStrike">
                <a:solidFill>
                  <a:srgbClr val="330066"/>
                </a:solidFill>
                <a:latin typeface="Arial"/>
                <a:ea typeface="Arial"/>
              </a:rPr>
              <a:t>:PÉL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" y="1981080"/>
            <a:ext cx="3965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328"/>
                </a:solidFill>
                <a:latin typeface="Arial"/>
                <a:ea typeface="Arial"/>
              </a:rPr>
              <a:t>Class P: buys_computer = “y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328"/>
                </a:solidFill>
                <a:latin typeface="Arial"/>
                <a:ea typeface="Arial"/>
              </a:rPr>
              <a:t>Class N: buys_computer = “n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328"/>
                </a:solidFill>
                <a:latin typeface="Arial"/>
                <a:ea typeface="Arial"/>
              </a:rPr>
              <a:t>I(p, n) = I(9, 5) =0.940</a:t>
            </a:r>
            <a:r>
              <a:rPr b="0" lang="hu-HU" sz="1800" spc="-1" strike="noStrike">
                <a:solidFill>
                  <a:srgbClr val="121328"/>
                </a:solidFill>
                <a:latin typeface="Arial"/>
                <a:ea typeface="Arial"/>
              </a:rPr>
              <a:t> (293.old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328"/>
                </a:solidFill>
                <a:latin typeface="Arial"/>
                <a:ea typeface="Arial"/>
              </a:rPr>
              <a:t>Compute the entropy for</a:t>
            </a:r>
            <a:r>
              <a:rPr b="0" lang="en-US" sz="2200" spc="-1" strike="noStrike">
                <a:solidFill>
                  <a:srgbClr val="121328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121328"/>
                </a:solidFill>
                <a:latin typeface="Arial"/>
                <a:ea typeface="Arial"/>
              </a:rPr>
              <a:t>age</a:t>
            </a:r>
            <a:r>
              <a:rPr b="0" lang="en-US" sz="2200" spc="-1" strike="noStrike">
                <a:solidFill>
                  <a:srgbClr val="121328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1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Szum pi=9 szum ni=5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Összesen 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797360" y="1600200"/>
            <a:ext cx="39657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21328"/>
                </a:solidFill>
                <a:latin typeface="Arial"/>
                <a:ea typeface="Arial"/>
              </a:rPr>
              <a:t>H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=0,94-0,69=0,2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21328"/>
                </a:solidFill>
                <a:latin typeface="Arial"/>
                <a:ea typeface="Arial"/>
              </a:rPr>
              <a:t>Similarly</a:t>
            </a:r>
            <a:r>
              <a:rPr b="0" lang="hu-HU" sz="2200" spc="-1" strike="noStrike">
                <a:solidFill>
                  <a:srgbClr val="121328"/>
                </a:solidFill>
                <a:latin typeface="Arial"/>
                <a:ea typeface="Arial"/>
              </a:rPr>
              <a:t> hasonlóképp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762120" y="4648320"/>
          <a:ext cx="3354120" cy="143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648320"/>
                    <a:ext cx="3354120" cy="14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4572000" y="1676520"/>
                <a:ext cx="403848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g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2,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4,0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3,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4952880" y="4800600"/>
                <a:ext cx="359424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a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ncom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a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tuden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a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edi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ating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4800600" y="3657600"/>
                <a:ext cx="40384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a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ge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g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5438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Példa: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Életkor &lt;= 30  I(2,3)=0,9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31-40   I(4,0)=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&gt;40      I(3,2)=0,97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I(életkor)= 5/14*0,94+4/14*0+5/14*0,971=</a:t>
            </a:r>
            <a:br>
              <a:rPr sz="3000"/>
            </a:b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               = 0,694 (ld előbbi old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23640" y="-720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95280" y="6308640"/>
            <a:ext cx="822960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360" bIns="453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11280" y="914400"/>
            <a:ext cx="779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  <a:ea typeface="Arial"/>
              </a:rPr>
              <a:t>Extracting Classification Rules from Trees</a:t>
            </a:r>
            <a:r>
              <a:rPr b="1" lang="hu-HU" sz="3200" spc="-1" strike="noStrike">
                <a:solidFill>
                  <a:srgbClr val="330066"/>
                </a:solidFill>
                <a:latin typeface="Arial"/>
                <a:ea typeface="Arial"/>
              </a:rPr>
              <a:t>  </a:t>
            </a:r>
            <a:r>
              <a:rPr b="1" lang="hu-HU" sz="1800" spc="-1" strike="noStrike">
                <a:solidFill>
                  <a:srgbClr val="330066"/>
                </a:solidFill>
                <a:latin typeface="Arial"/>
                <a:ea typeface="Arial"/>
              </a:rPr>
              <a:t>Osztályozási szabályok kinyerése fábó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0920" y="1484280"/>
            <a:ext cx="86104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resent the knowledge in the form of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  <a:ea typeface="Arial"/>
              </a:rPr>
              <a:t>IF-TH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e rule is created for each path from the root to a leaf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: A gyökértől a levélig egy szabályt alkot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attribute-value pair along a path forms a con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leaf node holds the class prediction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; a levél tartalmazza az osztály előrejelzé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ules are easier for humans to under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“&lt;=30”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ud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”   TH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ys_compu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“&lt;=30”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ud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”  TH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ys_compu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“31…40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ys_compu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“&gt;40”  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edit_ra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cell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”   TH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ys_comput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“&gt;40”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edit_ra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i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”  TH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ys_compu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-36756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6453000"/>
            <a:ext cx="8229600" cy="1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223920" y="252000"/>
            <a:ext cx="7696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16040" y="5678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990720" y="380880"/>
            <a:ext cx="7848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  <a:ea typeface="Arial"/>
              </a:rPr>
              <a:t>Bayesian Classification: Why?</a:t>
            </a:r>
            <a:br>
              <a:rPr sz="3200"/>
            </a:br>
            <a:r>
              <a:rPr b="1" lang="hu-HU" sz="1800" spc="-1" strike="noStrike">
                <a:solidFill>
                  <a:srgbClr val="330066"/>
                </a:solidFill>
                <a:latin typeface="Arial"/>
                <a:ea typeface="Arial"/>
              </a:rPr>
              <a:t>B.osztályo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24000" y="1268280"/>
            <a:ext cx="86868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babilistic lear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Valószínűségen alapuló tanulá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culate explicit probabilities for hypothesis, among the most practical approaches to certain types of learning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cremen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fokozat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training example can incrementally increase/decrease the probability that a hypothesis is correct.  Prior knowledge can be combined with observed data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az előzetes ismeretek kombinálhatók a megfigyelt adatok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babilistic predi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 Predict multiple hypotheses, weighted by their probabilitie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nd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Even when Bayesian methods are computationally intractable, they can provide a standard of optimal decision making against which other methods can be meas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50560" y="-720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8360" y="645336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26920" y="260280"/>
            <a:ext cx="4343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  <a:ea typeface="Arial"/>
              </a:rPr>
              <a:t>Bayesian Theo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24000" y="1052640"/>
            <a:ext cx="80769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iven training dat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D, </a:t>
            </a: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steriori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probabilit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a hypothesis h, P(h|D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llows the Bayes theo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Az </a:t>
            </a:r>
            <a:r>
              <a:rPr b="0" i="1" lang="hu-H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 </a:t>
            </a:r>
            <a:r>
              <a:rPr b="1" i="1" lang="hu-H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iori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valószínűség: P(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P (maximum posteriori) hypo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actical difficulty: require initial knowledge of many probabilities, significant computational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3132000" y="2060640"/>
                <a:ext cx="22226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2050920" y="3500280"/>
                <a:ext cx="46864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≡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94920" y="-720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79280" y="6453360"/>
            <a:ext cx="8229600" cy="1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549360"/>
            <a:ext cx="779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  <a:ea typeface="Arial"/>
              </a:rPr>
              <a:t>Play-tennis example: estimating P(x</a:t>
            </a:r>
            <a:r>
              <a:rPr b="1" lang="en-US" sz="3200" spc="-1" strike="noStrike" baseline="-25000">
                <a:solidFill>
                  <a:srgbClr val="330066"/>
                </a:solidFill>
                <a:latin typeface="Arial"/>
                <a:ea typeface="Arial"/>
              </a:rPr>
              <a:t>i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  <a:ea typeface="Arial"/>
              </a:rPr>
              <a:t>|C)</a:t>
            </a:r>
            <a:br>
              <a:rPr sz="3200"/>
            </a:br>
            <a:r>
              <a:rPr b="1" lang="hu-HU" sz="1800" spc="-1" strike="noStrike">
                <a:solidFill>
                  <a:srgbClr val="330066"/>
                </a:solidFill>
                <a:latin typeface="Arial"/>
                <a:ea typeface="Arial"/>
              </a:rPr>
              <a:t>p= játszik, n=nem játszik sunny=napos hot=nagy meleg</a:t>
            </a:r>
            <a:br>
              <a:rPr sz="1800"/>
            </a:br>
            <a:r>
              <a:rPr b="1" lang="hu-HU" sz="1800" spc="-1" strike="noStrike">
                <a:solidFill>
                  <a:srgbClr val="330066"/>
                </a:solidFill>
                <a:latin typeface="Arial"/>
                <a:ea typeface="Arial"/>
              </a:rPr>
              <a:t> high= magas páratartalom false= nincs szé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228600" y="1523880"/>
          <a:ext cx="3505320" cy="289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350532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3708360" y="1341360"/>
          <a:ext cx="5105160" cy="522288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utlo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(sunny|p) = 2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(sunny|n) = 3/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(overcast|p) = 4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(overcast|n) =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(rain|p) = 3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(rain|n) = 2/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mp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(hot|p) = 2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(hot|n) = 2/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(mild|p) = 4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(mild|n) = 2/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(cool|p) = 3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(cool|n) = 1/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id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(high|p) = 3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(high|n) = 4/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(normal|p) = 6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(normal|n) = 2/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n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(true|p) = 3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(true|n) = 3/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(false|p) = 6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(false|n) = 2/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990720" y="4952880"/>
          <a:ext cx="1904760" cy="1041480"/>
        </p:xfrm>
        <a:graphic>
          <a:graphicData uri="http://schemas.openxmlformats.org/drawingml/2006/table">
            <a:tbl>
              <a:tblPr/>
              <a:tblGrid>
                <a:gridCol w="190476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(p) = 9/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(n) = 5/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23640" y="-684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6021360"/>
            <a:ext cx="8229600" cy="1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143000" y="685800"/>
            <a:ext cx="779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Arial"/>
              </a:rPr>
              <a:t>Bayesian classifica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04920" y="1676520"/>
            <a:ext cx="8458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e classification problem may be formalized using </a:t>
            </a:r>
            <a:r>
              <a:rPr b="0" lang="en-US" sz="3000" spc="-1" strike="noStrike">
                <a:solidFill>
                  <a:srgbClr val="a50021"/>
                </a:solidFill>
                <a:latin typeface="Arial"/>
                <a:ea typeface="Arial"/>
              </a:rPr>
              <a:t>a-posteriori probabiliti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P(C|X)  = prob. that the sample tupl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X=&lt;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,…,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&gt; is of class 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.g. P(class=N | outlook=sunny,windy=true,…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Pl: Nem teniszezikI(amennyiben) napos, szeles, …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hu-HU" sz="3000" spc="-1" strike="noStrike">
                <a:solidFill>
                  <a:srgbClr val="000000"/>
                </a:solidFill>
                <a:latin typeface="Arial"/>
                <a:ea typeface="Arial"/>
              </a:rPr>
              <a:t>ötle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assign to sample</a:t>
            </a:r>
            <a:r>
              <a:rPr b="0" lang="en-US" sz="3000" spc="-1" strike="noStrike">
                <a:solidFill>
                  <a:srgbClr val="cccc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a50021"/>
                </a:solidFill>
                <a:latin typeface="Arial"/>
                <a:ea typeface="Arial"/>
              </a:rPr>
              <a:t>X</a:t>
            </a:r>
            <a:r>
              <a:rPr b="0" lang="en-US" sz="3000" spc="-1" strike="noStrike">
                <a:solidFill>
                  <a:srgbClr val="cccc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e class label</a:t>
            </a:r>
            <a:r>
              <a:rPr b="0" lang="en-US" sz="3000" spc="-1" strike="noStrike">
                <a:solidFill>
                  <a:srgbClr val="cccc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a50021"/>
                </a:solidFill>
                <a:latin typeface="Arial"/>
                <a:ea typeface="Arial"/>
              </a:rPr>
              <a:t>C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uch that</a:t>
            </a:r>
            <a:r>
              <a:rPr b="0" lang="en-US" sz="3000" spc="-1" strike="noStrike">
                <a:solidFill>
                  <a:srgbClr val="cccc00"/>
                </a:solidFill>
                <a:latin typeface="Arial"/>
                <a:ea typeface="Arial"/>
              </a:rPr>
              <a:t> </a:t>
            </a:r>
            <a:r>
              <a:rPr b="0" lang="en-US" sz="3000" spc="-1" strike="noStrike">
                <a:solidFill>
                  <a:srgbClr val="a50021"/>
                </a:solidFill>
                <a:latin typeface="Arial"/>
                <a:ea typeface="Arial"/>
              </a:rPr>
              <a:t>P(C|X) is maxim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30"/>
          <p:cNvSpPr/>
          <p:nvPr/>
        </p:nvSpPr>
        <p:spPr>
          <a:xfrm>
            <a:off x="250920" y="260280"/>
            <a:ext cx="8785080" cy="6626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33"/>
          <p:cNvGrpSpPr/>
          <p:nvPr/>
        </p:nvGrpSpPr>
        <p:grpSpPr>
          <a:xfrm>
            <a:off x="755640" y="907920"/>
            <a:ext cx="4824360" cy="3384720"/>
            <a:chOff x="755640" y="907920"/>
            <a:chExt cx="4824360" cy="3384720"/>
          </a:xfrm>
        </p:grpSpPr>
        <p:sp>
          <p:nvSpPr>
            <p:cNvPr id="173" name="AutoShape 5"/>
            <p:cNvSpPr/>
            <p:nvPr/>
          </p:nvSpPr>
          <p:spPr>
            <a:xfrm>
              <a:off x="2771640" y="1268280"/>
              <a:ext cx="2808360" cy="1657440"/>
            </a:xfrm>
            <a:prstGeom prst="irregularSeal2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6"/>
            <p:cNvSpPr/>
            <p:nvPr/>
          </p:nvSpPr>
          <p:spPr>
            <a:xfrm>
              <a:off x="755640" y="907920"/>
              <a:ext cx="1584360" cy="503280"/>
            </a:xfrm>
            <a:prstGeom prst="flowChartAlternateProcess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elhasználó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7"/>
            <p:cNvSpPr/>
            <p:nvPr/>
          </p:nvSpPr>
          <p:spPr>
            <a:xfrm>
              <a:off x="971640" y="2060640"/>
              <a:ext cx="1225440" cy="2232000"/>
            </a:xfrm>
            <a:prstGeom prst="can">
              <a:avLst>
                <a:gd name="adj" fmla="val 25000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zerv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emzé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latt lév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b portá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1"/>
            <p:cNvSpPr/>
            <p:nvPr/>
          </p:nvSpPr>
          <p:spPr>
            <a:xfrm>
              <a:off x="2556000" y="1197000"/>
              <a:ext cx="50328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2"/>
            <p:cNvSpPr/>
            <p:nvPr/>
          </p:nvSpPr>
          <p:spPr>
            <a:xfrm flipH="1">
              <a:off x="2340000" y="2852640"/>
              <a:ext cx="720720" cy="50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39"/>
          <p:cNvGrpSpPr/>
          <p:nvPr/>
        </p:nvGrpSpPr>
        <p:grpSpPr>
          <a:xfrm>
            <a:off x="2571840" y="3286080"/>
            <a:ext cx="6408720" cy="3384720"/>
            <a:chOff x="2571840" y="3286080"/>
            <a:chExt cx="6408720" cy="3384720"/>
          </a:xfrm>
        </p:grpSpPr>
        <p:sp>
          <p:nvSpPr>
            <p:cNvPr id="179" name="Rectangle 37"/>
            <p:cNvSpPr/>
            <p:nvPr/>
          </p:nvSpPr>
          <p:spPr>
            <a:xfrm>
              <a:off x="2571840" y="3286080"/>
              <a:ext cx="6408720" cy="3384720"/>
            </a:xfrm>
            <a:prstGeom prst="rect">
              <a:avLst/>
            </a:prstGeom>
            <a:solidFill>
              <a:srgbClr val="cccc00">
                <a:alpha val="5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WordArt 38"/>
            <p:cNvSpPr txBox="1"/>
            <p:nvPr/>
          </p:nvSpPr>
          <p:spPr>
            <a:xfrm>
              <a:off x="2716200" y="6023160"/>
              <a:ext cx="2160720" cy="546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Impact"/>
                </a:rPr>
                <a:t>Adatbányászat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181" name="Group 34"/>
          <p:cNvGrpSpPr/>
          <p:nvPr/>
        </p:nvGrpSpPr>
        <p:grpSpPr>
          <a:xfrm>
            <a:off x="684360" y="4221000"/>
            <a:ext cx="4103640" cy="2232360"/>
            <a:chOff x="684360" y="4221000"/>
            <a:chExt cx="4103640" cy="2232360"/>
          </a:xfrm>
        </p:grpSpPr>
        <p:sp>
          <p:nvSpPr>
            <p:cNvPr id="182" name="AutoShape 8"/>
            <p:cNvSpPr/>
            <p:nvPr/>
          </p:nvSpPr>
          <p:spPr>
            <a:xfrm>
              <a:off x="684360" y="4869000"/>
              <a:ext cx="1871640" cy="1584360"/>
            </a:xfrm>
            <a:prstGeom prst="flowChartMultidocumen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nzakció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almaz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9"/>
            <p:cNvSpPr/>
            <p:nvPr/>
          </p:nvSpPr>
          <p:spPr>
            <a:xfrm>
              <a:off x="2700360" y="4221000"/>
              <a:ext cx="2087640" cy="648000"/>
            </a:xfrm>
            <a:prstGeom prst="flowChartPredefinedProcess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emhalmaz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0"/>
            <p:cNvSpPr/>
            <p:nvPr/>
          </p:nvSpPr>
          <p:spPr>
            <a:xfrm flipV="1">
              <a:off x="2771640" y="5084280"/>
              <a:ext cx="576360" cy="50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3"/>
            <p:cNvSpPr/>
            <p:nvPr/>
          </p:nvSpPr>
          <p:spPr>
            <a:xfrm>
              <a:off x="1332000" y="4365720"/>
              <a:ext cx="0" cy="43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4"/>
            <p:cNvSpPr/>
            <p:nvPr/>
          </p:nvSpPr>
          <p:spPr>
            <a:xfrm>
              <a:off x="1835280" y="4365720"/>
              <a:ext cx="0" cy="43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29"/>
          <p:cNvSpPr/>
          <p:nvPr/>
        </p:nvSpPr>
        <p:spPr>
          <a:xfrm>
            <a:off x="539640" y="333360"/>
            <a:ext cx="84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36"/>
          <p:cNvGrpSpPr/>
          <p:nvPr/>
        </p:nvGrpSpPr>
        <p:grpSpPr>
          <a:xfrm>
            <a:off x="6948360" y="3716280"/>
            <a:ext cx="2087640" cy="2459160"/>
            <a:chOff x="6948360" y="3716280"/>
            <a:chExt cx="2087640" cy="2459160"/>
          </a:xfrm>
        </p:grpSpPr>
        <p:sp>
          <p:nvSpPr>
            <p:cNvPr id="189" name="AutoShape 14"/>
            <p:cNvSpPr/>
            <p:nvPr/>
          </p:nvSpPr>
          <p:spPr>
            <a:xfrm>
              <a:off x="6985080" y="3716280"/>
              <a:ext cx="2050920" cy="1943280"/>
            </a:xfrm>
            <a:custGeom>
              <a:avLst/>
              <a:gdLst>
                <a:gd name="textAreaLeft" fmla="*/ 468000 w 2050920"/>
                <a:gd name="textAreaRight" fmla="*/ 1582920 w 2050920"/>
                <a:gd name="textAreaTop" fmla="*/ 443520 h 1943280"/>
                <a:gd name="textAreaBottom" fmla="*/ 1499760 h 194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emzés,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Tudás 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>
              <a:off x="6948360" y="4005360"/>
              <a:ext cx="79236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8"/>
            <p:cNvSpPr/>
            <p:nvPr/>
          </p:nvSpPr>
          <p:spPr>
            <a:xfrm flipV="1">
              <a:off x="6948360" y="4941720"/>
              <a:ext cx="79236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31"/>
            <p:cNvSpPr/>
            <p:nvPr/>
          </p:nvSpPr>
          <p:spPr>
            <a:xfrm>
              <a:off x="8234280" y="5805360"/>
              <a:ext cx="1843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35"/>
          <p:cNvGrpSpPr/>
          <p:nvPr/>
        </p:nvGrpSpPr>
        <p:grpSpPr>
          <a:xfrm>
            <a:off x="2484360" y="3429000"/>
            <a:ext cx="4392720" cy="2592360"/>
            <a:chOff x="2484360" y="3429000"/>
            <a:chExt cx="4392720" cy="2592360"/>
          </a:xfrm>
        </p:grpSpPr>
        <p:sp>
          <p:nvSpPr>
            <p:cNvPr id="194" name="AutoShape 10"/>
            <p:cNvSpPr/>
            <p:nvPr/>
          </p:nvSpPr>
          <p:spPr>
            <a:xfrm>
              <a:off x="4932360" y="3429000"/>
              <a:ext cx="1944720" cy="1079640"/>
            </a:xfrm>
            <a:prstGeom prst="flowChartInternalStorag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yako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emhalmaz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11"/>
            <p:cNvSpPr/>
            <p:nvPr/>
          </p:nvSpPr>
          <p:spPr>
            <a:xfrm>
              <a:off x="4932360" y="4653000"/>
              <a:ext cx="1944720" cy="1368360"/>
            </a:xfrm>
            <a:prstGeom prst="flowChartInternalStorag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sszociáció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zabály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5"/>
            <p:cNvSpPr/>
            <p:nvPr/>
          </p:nvSpPr>
          <p:spPr>
            <a:xfrm flipV="1">
              <a:off x="4284720" y="3789000"/>
              <a:ext cx="360360" cy="2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6"/>
            <p:cNvSpPr/>
            <p:nvPr/>
          </p:nvSpPr>
          <p:spPr>
            <a:xfrm>
              <a:off x="4284720" y="5013360"/>
              <a:ext cx="35856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32"/>
            <p:cNvSpPr/>
            <p:nvPr/>
          </p:nvSpPr>
          <p:spPr>
            <a:xfrm>
              <a:off x="2484360" y="3645000"/>
              <a:ext cx="1843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8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94920" y="-684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606096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24000" y="549360"/>
            <a:ext cx="779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  <a:ea typeface="Arial"/>
              </a:rPr>
              <a:t>Estimating a-posteriori probabilities</a:t>
            </a:r>
            <a:br>
              <a:rPr sz="3200"/>
            </a:br>
            <a:r>
              <a:rPr b="1" lang="hu-HU" sz="1800" spc="-1" strike="noStrike">
                <a:solidFill>
                  <a:srgbClr val="330066"/>
                </a:solidFill>
                <a:latin typeface="Arial"/>
                <a:ea typeface="Arial"/>
              </a:rPr>
              <a:t>Az a posteriori valószínűségek becsl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50920" y="1268280"/>
            <a:ext cx="81788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  <a:ea typeface="Arial"/>
              </a:rPr>
              <a:t>Bayes theor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(C|X) = P(X|C)·P(C) / P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(X) 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or all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(C) = relative freq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(relatív gyakoriság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class C s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such that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  <a:ea typeface="Arial"/>
              </a:rPr>
              <a:t>P(C|X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maximum =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such that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  <a:ea typeface="Arial"/>
              </a:rPr>
              <a:t>P(X|C)·P(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max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computing P(X|C) is unfeasible!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 nem megvalósítható a számít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23640" y="-684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95280" y="6453360"/>
            <a:ext cx="8229600" cy="1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24000" y="620640"/>
            <a:ext cx="7792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  <a:ea typeface="Arial"/>
              </a:rPr>
              <a:t>Naïve Bayesian Classification</a:t>
            </a:r>
            <a:br>
              <a:rPr sz="3200"/>
            </a:br>
            <a:r>
              <a:rPr b="1" lang="hu-HU" sz="1800" spc="-1" strike="noStrike">
                <a:solidFill>
                  <a:srgbClr val="330066"/>
                </a:solidFill>
                <a:latin typeface="Arial"/>
                <a:ea typeface="Arial"/>
              </a:rPr>
              <a:t>N. B osztályo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79280" y="1341360"/>
            <a:ext cx="81788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ïve assumption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 (feltételezé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  <a:ea typeface="Arial"/>
              </a:rPr>
              <a:t>attribute independence</a:t>
            </a:r>
            <a:r>
              <a:rPr b="0" lang="hu-HU" sz="1800" spc="-1" strike="noStrike">
                <a:solidFill>
                  <a:srgbClr val="a50021"/>
                </a:solidFill>
                <a:latin typeface="Arial"/>
                <a:ea typeface="Arial"/>
              </a:rPr>
              <a:t> (függetlensé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…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|C) = P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|C)·…·P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|C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i-th attribute is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  <a:ea typeface="Arial"/>
              </a:rPr>
              <a:t>categorical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|C) is estimated as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ve freq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 (relatív gyakoriság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samples having value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s i-th attribute in class C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i-th attribute is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  <a:ea typeface="Arial"/>
              </a:rPr>
              <a:t>continuou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|C) is estimated thru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aussian density function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(G sűrűség függvény)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utationally easy in both case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: mindkét esetben könnyű a számol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000" y="6588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68360" y="6524640"/>
            <a:ext cx="8229600" cy="1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95280" y="333360"/>
            <a:ext cx="779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  <a:ea typeface="Arial"/>
              </a:rPr>
              <a:t>Play-tennis example: classifying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80880" y="1600200"/>
            <a:ext cx="81788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 unseen sample X = &lt;rain, hot, high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(páratartalom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als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(szél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(X|p)·P(p) =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(rain|p)·P(hot|p)·P(high|p)·P(false|p)·P(p) = 3/9·2/9·3/9·6/9·9/14 =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0.0105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(X|n)·P(n) =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(rain|n)·P(hot|n)·P(high|n)·P(false|n)·P(n) = 2/5·2/5·4/5·2/5·5/14 = </a:t>
            </a:r>
            <a:r>
              <a:rPr b="0" lang="it-IT" sz="1800" spc="-1" strike="noStrike">
                <a:solidFill>
                  <a:srgbClr val="a50021"/>
                </a:solidFill>
                <a:latin typeface="Arial"/>
                <a:ea typeface="Arial"/>
              </a:rPr>
              <a:t>0.0182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  <a:ea typeface="Arial"/>
              </a:rPr>
              <a:t>X 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lassified in class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  <a:ea typeface="Arial"/>
              </a:rPr>
              <a:t>n</a:t>
            </a:r>
            <a:r>
              <a:rPr b="0" lang="en-US" sz="1800" spc="-1" strike="noStrike">
                <a:solidFill>
                  <a:srgbClr val="7e9ce8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don’t pl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Bayes-zel számolva mi jön ki az</a:t>
            </a:r>
            <a:br>
              <a:rPr sz="1800"/>
            </a:b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X=(életkor&lt;=30, jövedelem=közepes, diák=igen, hitelképesség=elfogadható)-r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OLDJUK meg (304.old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23640" y="-864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24000" y="6597720"/>
            <a:ext cx="8229600" cy="1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39640" y="115920"/>
            <a:ext cx="6782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Arial"/>
              </a:rPr>
              <a:t>Association-Based Classification</a:t>
            </a:r>
            <a:br>
              <a:rPr sz="2800"/>
            </a:br>
            <a:r>
              <a:rPr b="1" lang="hu-HU" sz="1800" spc="-1" strike="noStrike">
                <a:solidFill>
                  <a:srgbClr val="0000cc"/>
                </a:solidFill>
                <a:latin typeface="Arial"/>
                <a:ea typeface="Arial"/>
              </a:rPr>
              <a:t>Asszociációs(társítási) szabályok bányászatán alapuló osztályozás</a:t>
            </a:r>
            <a:r>
              <a:rPr b="1" lang="en-US" sz="1800" spc="-1" strike="noStrike">
                <a:solidFill>
                  <a:srgbClr val="7e9ce8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50920" y="1268280"/>
            <a:ext cx="838188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veral methods for association-based classification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3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RCS: Quantitative association mining and clustering of association rules (Lent et al’9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 beats C4.5 in (mainly) scalability and also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ociative classification: (Liu et al’98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mines high support and high confidence rules in the form of “cond_set =&gt; y”, where y is a class label</a:t>
            </a:r>
            <a:br>
              <a:rPr sz="1800"/>
            </a:br>
            <a:r>
              <a:rPr b="1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A cond-set a tételek (vagy attributum-érték párok) egy halmaza, </a:t>
            </a:r>
            <a:br>
              <a:rPr sz="1800"/>
            </a:br>
            <a:r>
              <a:rPr b="1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y egy osztályozási címke.</a:t>
            </a:r>
            <a:br>
              <a:rPr sz="1800"/>
            </a:br>
            <a:r>
              <a:rPr b="1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Gyakori egy szabály, ha a </a:t>
            </a:r>
            <a:r>
              <a:rPr b="1" i="1" lang="hu-H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galapozottsága s</a:t>
            </a:r>
            <a:r>
              <a:rPr b="1" i="1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(az adathalmaz mintáinak s %-a tartalmazza a condset-et, ) és y osztályba tartozik.</a:t>
            </a:r>
            <a:br>
              <a:rPr sz="1800"/>
            </a:br>
            <a:r>
              <a:rPr b="1" i="1" lang="hu-H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ecíz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 egy szabály, ahol a szabály c </a:t>
            </a:r>
            <a:r>
              <a:rPr b="1" i="1" lang="hu-H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gbízhatóságú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, ha az adott adathalmaz condset-et tartalmazó mintáinak c %-a tartozik az y osztályho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2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A legnagyobb megbízhatóságú szabályt választjuk </a:t>
            </a:r>
            <a:r>
              <a:rPr b="1" i="1" lang="hu-H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ehetséges szabálynak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 (possible rule)</a:t>
            </a:r>
            <a:br>
              <a:rPr sz="18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AEP (Classification by aggregating emerging patterns) (Dong et al’99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erging patterns (EPs): the itemsets whose support increases significantly from one class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3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ne Eps based on minimum support and growth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94920" y="-7992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95280" y="6524640"/>
            <a:ext cx="8229600" cy="1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24000" y="189000"/>
            <a:ext cx="779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  <a:ea typeface="Arial"/>
              </a:rPr>
              <a:t>Other Classification Methods</a:t>
            </a:r>
            <a:br>
              <a:rPr sz="3200"/>
            </a:br>
            <a:r>
              <a:rPr b="1" lang="hu-HU" sz="1800" spc="-1" strike="noStrike">
                <a:solidFill>
                  <a:srgbClr val="330066"/>
                </a:solidFill>
                <a:latin typeface="Arial"/>
                <a:ea typeface="Arial"/>
              </a:rPr>
              <a:t>Egyéb osztályozási módsze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24000" y="907920"/>
            <a:ext cx="807696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-nearest neighb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lassifier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  <a:ea typeface="Arial"/>
              </a:rPr>
              <a:t> </a:t>
            </a:r>
            <a:r>
              <a:rPr b="0" lang="hu-HU" sz="1800" spc="-1" strike="noStrike">
                <a:solidFill>
                  <a:srgbClr val="ff0066"/>
                </a:solidFill>
                <a:latin typeface="Arial"/>
                <a:ea typeface="Arial"/>
              </a:rPr>
              <a:t>: legközelebbi szomszé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A tanuló mintákat n-dimenziós numerikus attributumok írják le. Mindegyik minta(elem) egy pontnak felel meg az n-dimenziós térben.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Adott ismeretlen minta esetén megkeresik a legközelebbi szomszéd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Euklidészi távolság alapján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A legköz szo. kereső un 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ust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 tanuló, mert nem épít fel előre semmilyen osztályozási „részeredményt”.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Mohó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(itt „buzgó”)  tanuló eljárás  a döntési fa indukci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e-based reas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netic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gh set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zzy 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ppro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23640" y="-7992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6021360"/>
            <a:ext cx="8229600" cy="1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24000" y="476280"/>
            <a:ext cx="7580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  <a:ea typeface="Arial"/>
              </a:rPr>
              <a:t>The </a:t>
            </a:r>
            <a:r>
              <a:rPr b="1" i="1" lang="en-US" sz="3200" spc="-1" strike="noStrike">
                <a:solidFill>
                  <a:srgbClr val="330066"/>
                </a:solidFill>
                <a:latin typeface="Arial"/>
                <a:ea typeface="Arial"/>
              </a:rPr>
              <a:t>k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  <a:ea typeface="Arial"/>
              </a:rPr>
              <a:t>-Nearest Neighbor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24000" y="1052640"/>
            <a:ext cx="792468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instances correspond to points i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-D sp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nearest neighbor are defined in terms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uclidean dist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target function could b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crete- or real- valu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discrete-valued,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NN returns the most common value among the k training examples nearest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onoroi 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the decision surface induced by 1-NN for a typical set of training exampl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62120" y="4876920"/>
            <a:ext cx="3581280" cy="1752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572000" y="4876920"/>
            <a:ext cx="3505320" cy="1752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752480" y="5181480"/>
            <a:ext cx="1371600" cy="129564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982520" y="5257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15680" y="54864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01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830240" y="571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439720" y="5791320"/>
            <a:ext cx="3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1010"/>
                </a:solidFill>
                <a:latin typeface="Times New Roman"/>
              </a:rPr>
              <a:t>x</a:t>
            </a:r>
            <a:r>
              <a:rPr b="1" i="1" lang="en-US" sz="1600" spc="-1" strike="noStrike">
                <a:solidFill>
                  <a:srgbClr val="001010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286000" y="6248520"/>
            <a:ext cx="2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01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592360" y="5105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010"/>
                </a:solidFill>
                <a:latin typeface="Times New Roman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033720" y="5143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010"/>
                </a:solidFill>
                <a:latin typeface="Times New Roman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356840" y="53722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01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585800" y="6134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677960" y="4876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010"/>
                </a:solidFill>
                <a:latin typeface="Times New Roman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109320" y="575316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01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945400" y="475920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181480" y="5181480"/>
            <a:ext cx="609840" cy="609840"/>
          </a:xfrm>
          <a:prstGeom prst="line">
            <a:avLst/>
          </a:prstGeom>
          <a:ln w="7632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5791320" y="5409720"/>
            <a:ext cx="1295280" cy="381240"/>
          </a:xfrm>
          <a:prstGeom prst="line">
            <a:avLst/>
          </a:prstGeom>
          <a:ln w="7632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791320" y="5867280"/>
            <a:ext cx="0" cy="381240"/>
          </a:xfrm>
          <a:prstGeom prst="line">
            <a:avLst/>
          </a:prstGeom>
          <a:ln w="7632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791320" y="6248520"/>
            <a:ext cx="1447560" cy="228600"/>
          </a:xfrm>
          <a:prstGeom prst="line">
            <a:avLst/>
          </a:prstGeom>
          <a:ln w="7632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4952520" y="6248520"/>
            <a:ext cx="838440" cy="152280"/>
          </a:xfrm>
          <a:prstGeom prst="line">
            <a:avLst/>
          </a:prstGeom>
          <a:ln w="7632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781680" y="5486400"/>
            <a:ext cx="228600" cy="914400"/>
          </a:xfrm>
          <a:prstGeom prst="line">
            <a:avLst/>
          </a:prstGeom>
          <a:ln w="7632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326640" y="552132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777280" y="601668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939200" y="540720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453800" y="533088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23640" y="-684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68360" y="645336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57200" y="122400"/>
            <a:ext cx="754380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900" spc="-1" strike="noStrike">
                <a:solidFill>
                  <a:srgbClr val="330066"/>
                </a:solidFill>
                <a:latin typeface="Arial"/>
                <a:ea typeface="Arial"/>
              </a:rPr>
              <a:t>Voronoi Diagram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5486400" cy="31860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226800" y="2243160"/>
            <a:ext cx="216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query point q</a:t>
            </a:r>
            <a:r>
              <a:rPr b="0" lang="sv-SE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286000" y="2514600"/>
            <a:ext cx="2971800" cy="85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26000" y="3124080"/>
            <a:ext cx="2974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nearest neighbor q</a:t>
            </a:r>
            <a:r>
              <a:rPr b="0" lang="sv-SE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971800" y="3429000"/>
            <a:ext cx="2057400" cy="606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68000" y="-43884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68360" y="659772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5720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900" spc="-1" strike="noStrike">
                <a:solidFill>
                  <a:srgbClr val="330066"/>
                </a:solidFill>
                <a:latin typeface="Arial"/>
                <a:ea typeface="Arial"/>
              </a:rPr>
              <a:t>3-Nearest Neighbor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5715000" cy="514836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226800" y="2243160"/>
            <a:ext cx="216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query point q</a:t>
            </a:r>
            <a:r>
              <a:rPr b="0" lang="sv-SE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286000" y="2514600"/>
            <a:ext cx="27432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-101520" y="342900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3 nearest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743200" y="3886200"/>
            <a:ext cx="24382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819520" y="3733920"/>
            <a:ext cx="19810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819520" y="3581280"/>
            <a:ext cx="297180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94000" y="3962520"/>
            <a:ext cx="9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7e9ce8"/>
                </a:solidFill>
                <a:latin typeface="Tahoma"/>
              </a:rPr>
              <a:t>2x</a:t>
            </a: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v-SE" sz="2400" spc="-1" strike="noStrike">
                <a:solidFill>
                  <a:srgbClr val="330066"/>
                </a:solidFill>
                <a:latin typeface="Tahoma"/>
              </a:rPr>
              <a:t>1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78920" y="-7992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68360" y="642132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5720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900" spc="-1" strike="noStrike">
                <a:solidFill>
                  <a:srgbClr val="330066"/>
                </a:solidFill>
                <a:latin typeface="Arial"/>
                <a:ea typeface="Arial"/>
              </a:rPr>
              <a:t>7-Nearest Neighbor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5943600" cy="509292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226800" y="2243160"/>
            <a:ext cx="216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query point q</a:t>
            </a:r>
            <a:r>
              <a:rPr b="0" lang="sv-SE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286000" y="2514600"/>
            <a:ext cx="29718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-101520" y="342900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7 nearest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94000" y="3962520"/>
            <a:ext cx="9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7e9ce8"/>
                </a:solidFill>
                <a:latin typeface="Tahoma"/>
              </a:rPr>
              <a:t>3x</a:t>
            </a: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v-SE" sz="2400" spc="-1" strike="noStrike">
                <a:solidFill>
                  <a:srgbClr val="330066"/>
                </a:solidFill>
                <a:latin typeface="Tahoma"/>
              </a:rPr>
              <a:t>4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94920" y="-684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68360" y="652464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900" spc="-1" strike="noStrike">
                <a:solidFill>
                  <a:srgbClr val="330066"/>
                </a:solidFill>
                <a:latin typeface="Arial"/>
                <a:ea typeface="Arial"/>
              </a:rPr>
              <a:t>Nearest Neighbor (continuous)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6248160" cy="469116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1715040" y="1481040"/>
            <a:ext cx="29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ahoma"/>
              </a:rPr>
              <a:t>1-nearest neigh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956720" y="476280"/>
            <a:ext cx="730080" cy="561672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eb-log  elemzé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Picture 6" descr="Store01"/>
          <p:cNvPicPr/>
          <p:nvPr/>
        </p:nvPicPr>
        <p:blipFill>
          <a:blip r:embed="rId1"/>
          <a:stretch/>
        </p:blipFill>
        <p:spPr>
          <a:xfrm>
            <a:off x="1042920" y="404640"/>
            <a:ext cx="6048360" cy="60087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Store02_2"/>
          <p:cNvPicPr/>
          <p:nvPr/>
        </p:nvPicPr>
        <p:blipFill>
          <a:blip r:embed="rId2"/>
          <a:stretch/>
        </p:blipFill>
        <p:spPr>
          <a:xfrm>
            <a:off x="2916360" y="2781360"/>
            <a:ext cx="4752720" cy="25668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0" descr="Store03"/>
          <p:cNvPicPr/>
          <p:nvPr/>
        </p:nvPicPr>
        <p:blipFill>
          <a:blip r:embed="rId3"/>
          <a:stretch/>
        </p:blipFill>
        <p:spPr>
          <a:xfrm>
            <a:off x="1547640" y="333360"/>
            <a:ext cx="6046920" cy="57308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2" descr="Store05"/>
          <p:cNvPicPr/>
          <p:nvPr/>
        </p:nvPicPr>
        <p:blipFill>
          <a:blip r:embed="rId4"/>
          <a:stretch/>
        </p:blipFill>
        <p:spPr>
          <a:xfrm>
            <a:off x="1258920" y="981000"/>
            <a:ext cx="5111640" cy="4753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3" descr="Store06"/>
          <p:cNvPicPr/>
          <p:nvPr/>
        </p:nvPicPr>
        <p:blipFill>
          <a:blip r:embed="rId5"/>
          <a:stretch/>
        </p:blipFill>
        <p:spPr>
          <a:xfrm>
            <a:off x="1403280" y="1413000"/>
            <a:ext cx="5329440" cy="1684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4" descr="Store07"/>
          <p:cNvPicPr/>
          <p:nvPr/>
        </p:nvPicPr>
        <p:blipFill>
          <a:blip r:embed="rId6"/>
          <a:stretch/>
        </p:blipFill>
        <p:spPr>
          <a:xfrm>
            <a:off x="1619280" y="404640"/>
            <a:ext cx="5918040" cy="5548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5" descr="Store09"/>
          <p:cNvPicPr/>
          <p:nvPr/>
        </p:nvPicPr>
        <p:blipFill>
          <a:blip r:embed="rId7"/>
          <a:stretch/>
        </p:blipFill>
        <p:spPr>
          <a:xfrm>
            <a:off x="1258920" y="3357720"/>
            <a:ext cx="4753080" cy="14158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6" descr="Store10"/>
          <p:cNvPicPr/>
          <p:nvPr/>
        </p:nvPicPr>
        <p:blipFill>
          <a:blip r:embed="rId8"/>
          <a:stretch/>
        </p:blipFill>
        <p:spPr>
          <a:xfrm>
            <a:off x="2556000" y="1916280"/>
            <a:ext cx="482436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9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68000" y="-7848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68360" y="652464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68360" y="11592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000" spc="-1" strike="noStrike">
                <a:solidFill>
                  <a:srgbClr val="330066"/>
                </a:solidFill>
                <a:latin typeface="Arial"/>
                <a:ea typeface="Arial"/>
              </a:rPr>
              <a:t>When to Consider Nearest Neighbors</a:t>
            </a:r>
            <a:br>
              <a:rPr sz="3000"/>
            </a:br>
            <a:r>
              <a:rPr b="1" lang="hu-HU" sz="1800" spc="-1" strike="noStrike">
                <a:solidFill>
                  <a:srgbClr val="330066"/>
                </a:solidFill>
                <a:latin typeface="Arial"/>
                <a:ea typeface="Arial"/>
              </a:rPr>
              <a:t>Mikor kell(jó) a legköz sz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68360" y="1413000"/>
            <a:ext cx="7772400" cy="35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Instances map to points in R</a:t>
            </a:r>
            <a:r>
              <a:rPr b="0" lang="sv-SE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Less than 20 attributes per in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Lots of train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Advantag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Training is very fa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Learn complex targe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Do not loos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Disadvantag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Slow at query 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Arial"/>
              </a:rPr>
              <a:t>Easily fooled by irrelevant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94920" y="-22284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95280" y="6524640"/>
            <a:ext cx="8229600" cy="1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55640" y="836640"/>
            <a:ext cx="289548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Arial"/>
              </a:rPr>
              <a:t>Fuzzy Set 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  <a:ea typeface="Arial"/>
              </a:rPr>
              <a:t>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68360" y="2565360"/>
            <a:ext cx="822960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zzy logic uses truth values between 0.0 and 1.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o represent the degree of membership (such as using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fuzzy membership grap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tribute values are converted to fuzzy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.g., income is mapped into the discrete categories {low, medium, high} with fuzzy values calcu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a given new sample, more than one fuzzy value may apply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Egy új példányra egynél több fuzzy értéket lehet talál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applicable rule contributes a vote for membership in the categ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ically, the truth values for each predicted category are sum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3492360" y="333360"/>
            <a:ext cx="5315040" cy="21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50560" y="-36576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95280" y="6381720"/>
            <a:ext cx="8229600" cy="1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95280" y="260280"/>
            <a:ext cx="77868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  <a:ea typeface="Arial"/>
              </a:rPr>
              <a:t>Classification Accuracy: Estimating Error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09480" y="1569960"/>
            <a:ext cx="822960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artition: Training-and-test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1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use two independent data sets, e.g., training set (2/3), test set(1/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1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used for data set with large number of s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Cross-valid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1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ivide the data set into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subs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1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us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-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subsamples as training data and one sub-sample as test data ---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fold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  <a:ea typeface="Arial"/>
              </a:rPr>
              <a:t>(dosszié, irattartó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ross-valid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1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r data set with moderate s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Bootstrapping (leave-one-out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1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or small size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23640" y="-684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68360" y="6381720"/>
            <a:ext cx="8229600" cy="1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5702040" y="1282680"/>
            <a:ext cx="3200760" cy="4289040"/>
            <a:chOff x="5702040" y="1282680"/>
            <a:chExt cx="3200760" cy="4289040"/>
          </a:xfrm>
        </p:grpSpPr>
        <p:grpSp>
          <p:nvGrpSpPr>
            <p:cNvPr id="575" name=""/>
            <p:cNvGrpSpPr/>
            <p:nvPr/>
          </p:nvGrpSpPr>
          <p:grpSpPr>
            <a:xfrm>
              <a:off x="5702040" y="1901520"/>
              <a:ext cx="3200760" cy="3124440"/>
              <a:chOff x="5702040" y="1901520"/>
              <a:chExt cx="3200760" cy="3124440"/>
            </a:xfrm>
          </p:grpSpPr>
          <p:sp>
            <p:nvSpPr>
              <p:cNvPr id="576" name=""/>
              <p:cNvSpPr/>
              <p:nvPr/>
            </p:nvSpPr>
            <p:spPr>
              <a:xfrm>
                <a:off x="6007320" y="2587320"/>
                <a:ext cx="2895480" cy="2438640"/>
              </a:xfrm>
              <a:prstGeom prst="rect">
                <a:avLst/>
              </a:prstGeom>
              <a:solidFill>
                <a:srgbClr val="d8d8e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369640" y="1901520"/>
                <a:ext cx="0" cy="251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5702040" y="4416120"/>
                <a:ext cx="2667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702400" y="1901520"/>
                <a:ext cx="0" cy="251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702400" y="1901520"/>
                <a:ext cx="2667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235200" y="2130120"/>
                <a:ext cx="200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alse Positiv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295680" y="3390840"/>
                <a:ext cx="193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rue Positiv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372000" y="4533840"/>
                <a:ext cx="212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alse Negativ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4" name=""/>
            <p:cNvSpPr/>
            <p:nvPr/>
          </p:nvSpPr>
          <p:spPr>
            <a:xfrm>
              <a:off x="7608960" y="5051160"/>
              <a:ext cx="112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ctu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916240" y="1282680"/>
              <a:ext cx="152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redicte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18600" y="54936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Evaluation of Classificatio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44600" y="1434960"/>
            <a:ext cx="4952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Set: examples with class values for lear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et: examples with class values for evaluat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on: Hypotheses are used to infer classification of examples in the test set; inferred classification is compared to known clas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cy: percentage of examples in the test set that are classified correc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23640" y="-7848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68360" y="6524640"/>
            <a:ext cx="8229600" cy="1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57200" y="457200"/>
            <a:ext cx="7499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Arial"/>
              </a:rPr>
              <a:t>How to choose feature space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685800" y="23623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85800" y="63244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914400" y="5715000"/>
            <a:ext cx="76320" cy="7632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914400" y="6019920"/>
            <a:ext cx="76320" cy="7596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219320" y="6019920"/>
            <a:ext cx="75960" cy="7596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05120" y="5257800"/>
            <a:ext cx="75960" cy="7632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219320" y="5562720"/>
            <a:ext cx="75960" cy="7596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rot="16200000">
            <a:off x="-379440" y="27417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819520" y="62485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124080" y="4572000"/>
            <a:ext cx="76320" cy="7632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676520" y="5029200"/>
            <a:ext cx="75960" cy="7632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523880" y="5334120"/>
            <a:ext cx="76320" cy="7596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371600" y="5715000"/>
            <a:ext cx="76320" cy="7632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981080" y="5029200"/>
            <a:ext cx="76320" cy="7632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143000" y="5181480"/>
            <a:ext cx="76320" cy="7632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438280" y="3886200"/>
            <a:ext cx="7632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209680" y="4800600"/>
            <a:ext cx="7632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819520" y="3581280"/>
            <a:ext cx="75960" cy="152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200400" y="3352680"/>
            <a:ext cx="76320" cy="152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743200" y="4343400"/>
            <a:ext cx="7632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895480" y="3809880"/>
            <a:ext cx="76320" cy="152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990720" y="1981080"/>
            <a:ext cx="75960" cy="152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352680" y="3809880"/>
            <a:ext cx="76320" cy="152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286000" y="4267080"/>
            <a:ext cx="76320" cy="152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590920" y="5410080"/>
            <a:ext cx="75960" cy="7632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895480" y="5943600"/>
            <a:ext cx="76320" cy="7632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438280" y="4114800"/>
            <a:ext cx="76320" cy="7632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438280" y="4495680"/>
            <a:ext cx="76320" cy="7632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676520" y="4267080"/>
            <a:ext cx="75960" cy="7632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666880" y="3962520"/>
            <a:ext cx="76320" cy="7596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133720" y="3733920"/>
            <a:ext cx="75960" cy="7596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048120" y="4419720"/>
            <a:ext cx="75960" cy="7596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828800" y="4572000"/>
            <a:ext cx="7632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447920" y="4952880"/>
            <a:ext cx="75960" cy="152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981080" y="4038480"/>
            <a:ext cx="76320" cy="152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676520" y="5334120"/>
            <a:ext cx="7596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981080" y="5181480"/>
            <a:ext cx="76320" cy="152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819520" y="3124080"/>
            <a:ext cx="75960" cy="152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809880" y="4419720"/>
            <a:ext cx="7632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048120" y="5257800"/>
            <a:ext cx="7596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447920" y="3962520"/>
            <a:ext cx="7596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438280" y="5562720"/>
            <a:ext cx="7632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666880" y="3124080"/>
            <a:ext cx="76320" cy="152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819520" y="3276720"/>
            <a:ext cx="7596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971800" y="3429000"/>
            <a:ext cx="7632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3581280"/>
            <a:ext cx="76320" cy="152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276720" y="3733920"/>
            <a:ext cx="7596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143000" y="1828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4724280"/>
            <a:ext cx="76320" cy="7632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362320" y="2057400"/>
            <a:ext cx="75960" cy="7632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514600" y="182880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k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4572000" y="243792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572000" y="6324480"/>
            <a:ext cx="3657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257800" y="2971800"/>
            <a:ext cx="7632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86400" y="2743200"/>
            <a:ext cx="7632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238880" y="5791320"/>
            <a:ext cx="7632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2743200"/>
            <a:ext cx="7632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257800" y="3352680"/>
            <a:ext cx="76320" cy="152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848720" y="5791320"/>
            <a:ext cx="7596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715000" y="3276720"/>
            <a:ext cx="7632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162920" y="5410080"/>
            <a:ext cx="75960" cy="152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543800" y="5257800"/>
            <a:ext cx="7632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467480" y="5715000"/>
            <a:ext cx="7632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772400" y="5257800"/>
            <a:ext cx="7632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952880" y="3352680"/>
            <a:ext cx="76320" cy="152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486400" y="3124080"/>
            <a:ext cx="76320" cy="152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8229600" y="5105520"/>
            <a:ext cx="7632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8153280" y="5562720"/>
            <a:ext cx="7632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410080" y="3581280"/>
            <a:ext cx="76320" cy="152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867280" y="3048120"/>
            <a:ext cx="7632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410080"/>
            <a:ext cx="75960" cy="7632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105520" y="5181480"/>
            <a:ext cx="75960" cy="7632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410080" y="5181480"/>
            <a:ext cx="76320" cy="7632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181480" y="5867280"/>
            <a:ext cx="76320" cy="7632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410080" y="5562720"/>
            <a:ext cx="76320" cy="7596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562720" y="4876920"/>
            <a:ext cx="75960" cy="7596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876920" y="5029200"/>
            <a:ext cx="75960" cy="7632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181480" y="5715000"/>
            <a:ext cx="76320" cy="7632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486400" y="5410080"/>
            <a:ext cx="76320" cy="7632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800600" y="5410080"/>
            <a:ext cx="76320" cy="76320"/>
          </a:xfrm>
          <a:prstGeom prst="ellipse">
            <a:avLst/>
          </a:prstGeom>
          <a:solidFill>
            <a:srgbClr val="33cc33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781680" y="6248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oste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rot="16200000">
            <a:off x="3513960" y="2962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r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öngészés-történet elemzé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1080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main/home.j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Category: Skin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Subcategory: Sun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/Products/LegCare/Med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rticles/dpt_about.j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main/login.j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main/registration.j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main/login.j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940360" y="1557360"/>
            <a:ext cx="1511280" cy="452592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1080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2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1835280" y="4149720"/>
            <a:ext cx="65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9"/>
          <p:cNvSpPr/>
          <p:nvPr/>
        </p:nvSpPr>
        <p:spPr>
          <a:xfrm>
            <a:off x="3780000" y="1557360"/>
            <a:ext cx="3456000" cy="4681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0800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t1={2,25,45,62,63,87,109,125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t2={90,96,98,129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t3={35,121,127,129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t4={14,56,90,123,127,129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t5={9,111,114,118,129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t6={74,97,126,128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t7={92,96,120,128,129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t8={83,88,125,126,128,129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t9={28,128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t10={30,60,88,110,123,129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t11={57,68,107,119,128,129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t12={123,129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t13={14,16,49,69,74,86,105,110,123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t14={99,113,118,122,124,128,129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t15={55,117,125,127,128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t16={100,127,129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t17={112,118,119,129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t18={91,107,128,129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t19={68,90,98,128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t20={16,42,104,108,112,122,129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t21={107,108,117,118,118,127,128,129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2987640" y="3284640"/>
            <a:ext cx="5327640" cy="647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080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{2, 24, 31, 32, 43, 60, 127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0"/>
          <p:cNvSpPr/>
          <p:nvPr/>
        </p:nvSpPr>
        <p:spPr>
          <a:xfrm>
            <a:off x="596880" y="6113520"/>
            <a:ext cx="53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glátogatott oldalak és sorszámaik – az ELEM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1122840" y="6165720"/>
            <a:ext cx="549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számokból tranzakció halmazok – elemhalmaz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5760" y="6491160"/>
            <a:ext cx="59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zakciókat tartalmazó lista – az adatbányászat alap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05413E-006 L -0.59063 2.05413E-006 E">
                                      <p:cBhvr>
                                        <p:cTn id="143" dur="5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330066"/>
                </a:solidFill>
                <a:latin typeface="Arial"/>
              </a:rPr>
              <a:t>Gyakori elemhalmzok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28760" y="92880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1080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 vásárlói kosár elemzé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ott </a:t>
            </a:r>
            <a:r>
              <a:rPr b="1" i="1" lang="en-US" sz="2600" spc="-1" strike="noStrike">
                <a:solidFill>
                  <a:srgbClr val="2413a5"/>
                </a:solidFill>
                <a:latin typeface="Aria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féle termé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ottak a vásárlások (tranzakciók): a vásárlói kosarak tartalma, pl. </a:t>
            </a:r>
            <a:r>
              <a:rPr b="1" i="1" lang="en-US" sz="2600" spc="-1" strike="noStrike">
                <a:solidFill>
                  <a:srgbClr val="2413a5"/>
                </a:solidFill>
                <a:latin typeface="Arial"/>
              </a:rPr>
              <a:t>n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b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osá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tiváció: </a:t>
            </a:r>
            <a:r>
              <a:rPr b="1" lang="en-US" sz="2600" spc="-1" strike="noStrike">
                <a:solidFill>
                  <a:srgbClr val="2413a5"/>
                </a:solidFill>
                <a:latin typeface="Arial"/>
              </a:rPr>
              <a:t>szabályszerűsége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eltárás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zupermarke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a vásárlók 10% - a vásárol egyszerre sajtot és bo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érdés: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Melyik termékeket szokták </a:t>
            </a:r>
            <a:br>
              <a:rPr sz="2200"/>
            </a:b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(„nagy” valószínűséggel) együtt vásárolni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09:52:41Z</dcterms:created>
  <dc:creator>Pungocskologus</dc:creator>
  <dc:description/>
  <dc:language>en-US</dc:language>
  <cp:lastModifiedBy>Dr. Péterfia Tamás</cp:lastModifiedBy>
  <dcterms:modified xsi:type="dcterms:W3CDTF">2009-04-17T09:38:06Z</dcterms:modified>
  <cp:revision>110</cp:revision>
  <dc:subject/>
  <dc:title>1. dia</dc:title>
</cp:coreProperties>
</file>