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E99-6DC5-4C34-B8B1-2B1B19F5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452-C1C9-468E-9AF0-B783D4AE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C5F-C949-4FD4-A40F-B3BA791D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214-E7B7-44EE-9545-E85F00DF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6B85-138F-4367-BB02-93AE78F3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7F1A-F603-495A-B94A-1A9D97A7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AC8A-B0D5-4806-AE26-C3DF1028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A032-A793-4D8D-9538-73DCB183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3659-C063-44F7-BB37-6D8D483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7D80-2374-4E6B-A470-927226C8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FB30-3396-424C-BEEC-D9EA4117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323-B2E5-4181-B9A8-1049BE03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AF50-D609-4D92-BB60-0C532E6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EA7-F21F-41EA-BCAB-362254B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4AE6-1D0F-4B3F-A333-B18A7677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1B33-CD7E-42CE-BCD5-734055BD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F16A-F4D1-4DA2-885E-41A29BBD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D0CB-7091-487E-A96A-87C38949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C8A5-6A8F-483B-BE8F-11F19C6D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7500-FDAF-4705-9F4B-17A4297C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E3BB-5B64-449E-B41F-3E95310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DB17-1187-4126-BBEF-4DD2D8B3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53E-1928-4F58-9EDF-97DFF93C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326A-2C6B-49CF-80CF-2EE2A55D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07E1-2D32-4D9C-9AF4-AF2E4AB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F2E4-A4D1-44E8-AF6F-12F1E5C1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DAAF-857A-4529-9009-0435C72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26C9-A1A4-43C4-81F0-10174DB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E0A9-63A3-4002-86B9-41CCF7EF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193C-44E9-4E97-80E5-B8969881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CEC1-BE53-45EC-8F03-AB0D822D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6629-72C8-41C6-8BC0-116974E3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0F56-FB09-45F1-8828-6CD3D03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C45-C47F-44F7-8193-EC6690F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3231-E490-4AB8-B730-E2E91C3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5FFA0-4269-4C39-839E-2F65D01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87EA-0DAC-4DDD-9AB6-8070A719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D8F4-8D04-4EA0-AA2F-4EF0EAC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B1519-CB5B-4030-9F83-717DA53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AD9E-372B-46B1-9B84-853EC94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0FCA-B9DD-42BB-BCD4-6A395C66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65B5-F47C-4100-9A42-9316691F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E16B-D839-4AAB-9B61-E29D4C53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77B-FFE4-41E9-8768-908D678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018-6559-429F-A93A-3B5F475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8F9-F64E-4B14-90CE-F0DA794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4FD-5084-4FF8-B64A-1A694B31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DC8-91B2-407F-AC6A-B20FDCE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AFF4-4B4D-424C-A969-1E1CB97EAF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65C5-6940-4FFC-86D3-2F6BA141E7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6472-52B2-4760-AFF3-407FE7E2DD9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5F48-08E2-46B5-9677-B1847E9BC8A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5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80808"/>
                </a:solidFill>
                <a:latin typeface="Tahoma"/>
              </a:rPr>
              <a:t>Introduction into</a:t>
            </a:r>
            <a:br>
              <a:rPr sz="4000"/>
            </a:br>
            <a:r>
              <a:rPr b="1" lang="en-GB" sz="4000" spc="-1" strike="noStrike">
                <a:solidFill>
                  <a:srgbClr val="080808"/>
                </a:solidFill>
                <a:latin typeface="Tahoma"/>
              </a:rPr>
              <a:t>Retail and Wholesale Management</a:t>
            </a:r>
            <a:br>
              <a:rPr sz="4000"/>
            </a:b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RWHM)</a:t>
            </a:r>
            <a:br>
              <a:rPr sz="2400"/>
            </a:br>
            <a:r>
              <a:rPr b="0" lang="en-GB" sz="2000" spc="-1" strike="noStrike">
                <a:solidFill>
                  <a:srgbClr val="080808"/>
                </a:solidFill>
                <a:latin typeface="Tahoma"/>
              </a:rPr>
              <a:t>(Business Economics in Commerce)</a:t>
            </a:r>
            <a:br>
              <a:rPr sz="2000"/>
            </a:br>
            <a:r>
              <a:rPr b="1" lang="en-GB" sz="2400" spc="-1" strike="noStrike" u="sng">
                <a:solidFill>
                  <a:srgbClr val="cc0000"/>
                </a:solidFill>
                <a:uFillTx/>
                <a:latin typeface="Tahoma"/>
              </a:rPr>
              <a:t>An overview of the contents and structure of the subject</a:t>
            </a:r>
            <a:br>
              <a:rPr sz="2400"/>
            </a:b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Tahoma"/>
              </a:rPr>
              <a:t>made by</a:t>
            </a:r>
            <a:br>
              <a:rPr sz="2200"/>
            </a:br>
            <a:br>
              <a:rPr sz="2200"/>
            </a:b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Mr. </a:t>
            </a:r>
            <a:r>
              <a:rPr b="1" i="1" lang="hu-HU" sz="2800" spc="-1" strike="noStrike">
                <a:solidFill>
                  <a:srgbClr val="000099"/>
                </a:solidFill>
                <a:latin typeface="Times New Roman"/>
              </a:rPr>
              <a:t>Csaba Sólyom</a:t>
            </a:r>
            <a:br>
              <a:rPr sz="28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nior lecturer of the BBS-FCCT</a:t>
            </a:r>
            <a:br>
              <a:rPr sz="1600"/>
            </a:br>
            <a:r>
              <a:rPr b="1" lang="fr-FR" sz="1600" spc="-1" strike="noStrike">
                <a:solidFill>
                  <a:srgbClr val="006699"/>
                </a:solidFill>
                <a:latin typeface="Arial"/>
              </a:rPr>
              <a:t>Chevalier de l’Ordre des Palmes Académiques de France</a:t>
            </a:r>
            <a:br>
              <a:rPr sz="1800"/>
            </a:br>
            <a:endParaRPr b="1" lang="en-US" sz="1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2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Economic and Commercial policy of the state</a:t>
            </a:r>
            <a:r>
              <a:rPr b="1" lang="en-GB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ermanent and short term objectives and tools of the state in its economic policy – the economic growth, and the macro-economic equilibrium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mmercial politics of the st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conomic and Commercial policy of the E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sequences of the EU membership and the globalisation of the world econom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mportant directives of the EU on Commer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. Basic problems of management in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Vision and mission of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rategies of the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thods of strategy development (BCG, SWOT, Porter analysi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business policy of a retail and wholesale  company, guidelines, strategies and tactic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. Basic problems of management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usiness planning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tents and form of business plans various figures used for analyzing the efficiency of the company pla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lationships of strategy, business planning and planning of goods turnover (purchasing, inventory control and sale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. Goods turnover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Sales analysis and sales planning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rends, seasonality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tructure of sales, assortmen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Means of the analysis and planning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ales promotion and its metho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urchase of goods as a key element of goods turno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Principals and methods of purchase techniqu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ommon purchasing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coring mode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Inventory contro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An integrated system of planning the turnover of goo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5. Pricing and cost control, the profitability of the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e policy – strategy and tactics of trade enterprises in pric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role of the prices from macro-economics point of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ules and guidelines of the state in pric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ing strategies, and price behaviour of the trade enterpri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ing policy on the company level – maximizing the value of price margin on the company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ing policy of the goods merchandised from the company – pricing and sales prices control from various aspects of the company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5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Pricing and cost control in the trade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sts of the company – definition of cost control in retail and wholesale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asic notions in cost contr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Various cost types in the trade companies, how to group various cost types (cost centres, variable and fixed costs etc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to analyze the costs of the enterprise: ratios, and typical figures of cost analysi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terrelations of costs and business results – costs and benefi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Cost p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nning and control of 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the trading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mpan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ies</a:t>
            </a: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6. Utilisation of Resour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Human Resources</a:t>
            </a: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balance of labour needs and human resources, planning of labour need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labour productivity, its measurement and its determining factors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territorial productivity in retail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alaries, analysis and planning of labour costs,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Fixed assets, depreci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vestmen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to control the development of growth in busines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nalysis of retail chains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ocation-Analysi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easibility studies of new investments in retail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7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Financing of Trade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pital needs of trade companies at various stages of the development of the compan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pitalisation of a trade compan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sh-Management, Liquidity and their relationship on short and long ru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79280" y="5445000"/>
            <a:ext cx="8785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e103"/>
                </a:solidFill>
                <a:latin typeface="Arial Black"/>
              </a:rPr>
              <a:t>Thank </a:t>
            </a:r>
            <a:r>
              <a:rPr b="0" lang="hu-HU" sz="3600" spc="-1" strike="noStrike">
                <a:solidFill>
                  <a:srgbClr val="ffe103"/>
                </a:solidFill>
                <a:latin typeface="Arial Black"/>
              </a:rPr>
              <a:t>y</a:t>
            </a:r>
            <a:r>
              <a:rPr b="0" lang="en-GB" sz="3600" spc="-1" strike="noStrike">
                <a:solidFill>
                  <a:srgbClr val="ffe103"/>
                </a:solidFill>
                <a:latin typeface="Arial Black"/>
              </a:rPr>
              <a:t>ou for </a:t>
            </a:r>
            <a:r>
              <a:rPr b="0" lang="hu-HU" sz="3600" spc="-1" strike="noStrike">
                <a:solidFill>
                  <a:srgbClr val="ffe103"/>
                </a:solidFill>
                <a:latin typeface="Arial Black"/>
              </a:rPr>
              <a:t>y</a:t>
            </a:r>
            <a:r>
              <a:rPr b="0" lang="en-GB" sz="3600" spc="-1" strike="noStrike">
                <a:solidFill>
                  <a:srgbClr val="ffe103"/>
                </a:solidFill>
                <a:latin typeface="Arial Black"/>
              </a:rPr>
              <a:t>our attention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Education Goals and Learning Outcom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981000"/>
            <a:ext cx="9144000" cy="551664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achieve a certain knowledge and skills in the management of trade compan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learn how to analyze the various business activities of a trade enterprise focusing on retail operation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learn how to calculate revenue and costs in the different business activities in retailing and at wholesale compan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develop skills and competences how to treat and solve typical company problems within a trading enterprise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develop argumentation skills to be effective in the talks with merchandising partners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ahoma"/>
              </a:rPr>
              <a:t>The subject RWHM comprises</a:t>
            </a:r>
            <a:r>
              <a:rPr b="1" lang="de-DE" sz="2400" spc="-1" strike="noStrike">
                <a:solidFill>
                  <a:srgbClr val="006699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Qualitative and quantitative analysis of business position of the trading company (analysis of macro and micro environment in the past and possibilities in the futur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Analysis of the strategic opportunities of trading companies, how to define and formulate the strategy of an SME or a big international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Business planning in retail and service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ahoma"/>
              </a:rPr>
              <a:t>Analysis and Planning of merchandising operations – purchasing, inventory control, sales processes, Efficiency factors of merchandising in a retail company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Measuring profitability in retail and wholesale companies, the key factors determining the profitability of a fir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Cash Management of retail and wholesale companies, financing </a:t>
            </a:r>
            <a:r>
              <a:rPr b="0" lang="hu-HU" sz="2000" spc="-1" strike="noStrike">
                <a:solidFill>
                  <a:srgbClr val="660033"/>
                </a:solidFill>
                <a:latin typeface="Tahoma"/>
              </a:rPr>
              <a:t>trade</a:t>
            </a: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 activities, how to estimate the capital needs of trading enterprises and foresee the market value and price of a retail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lationships of RWHM to other subject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usiness Econom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counting and Analysis of balance shee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nance oper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Business Mathema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Statis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Operations Resear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Basics of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Human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Logis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ahoma"/>
              </a:rPr>
              <a:t>SME (KALYPSO business simulatio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ahoma"/>
              </a:rPr>
              <a:t>Case studies in Business operations (BML Simulatio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Tahoma"/>
              </a:rPr>
              <a:t>       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64120" y="1334520"/>
            <a:ext cx="7943040" cy="4563720"/>
            <a:chOff x="564120" y="1334520"/>
            <a:chExt cx="7943040" cy="4563720"/>
          </a:xfrm>
        </p:grpSpPr>
        <p:sp>
          <p:nvSpPr>
            <p:cNvPr id="527" name=""/>
            <p:cNvSpPr/>
            <p:nvPr/>
          </p:nvSpPr>
          <p:spPr>
            <a:xfrm>
              <a:off x="5561280" y="3111840"/>
              <a:ext cx="210096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Tahoma"/>
                </a:rPr>
                <a:t>Business methods and techniques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49400" y="2317320"/>
              <a:ext cx="2831040" cy="155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99"/>
                  </a:solidFill>
                  <a:latin typeface="Arial"/>
                </a:rPr>
                <a:t>Economics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10520" y="3574440"/>
              <a:ext cx="2857680" cy="156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Arial"/>
                </a:rPr>
                <a:t>Business Economics and Management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49040" y="2214360"/>
              <a:ext cx="2099880" cy="61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Tahoma"/>
                </a:rPr>
                <a:t>Economic theory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74600" y="4543920"/>
              <a:ext cx="2060640" cy="63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Tahoma"/>
                </a:rPr>
                <a:t>Economic philosophy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882600" y="2526480"/>
              <a:ext cx="1666080" cy="56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82600" y="3093840"/>
              <a:ext cx="167832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95920" y="3113280"/>
              <a:ext cx="1678320" cy="17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3855600" y="2545920"/>
              <a:ext cx="1693080" cy="178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855960" y="3626640"/>
              <a:ext cx="1705320" cy="70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68200" y="4350960"/>
              <a:ext cx="170640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4120" y="5426280"/>
              <a:ext cx="794304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6699"/>
                  </a:solidFill>
                  <a:latin typeface="Arial"/>
                </a:rPr>
                <a:t>Source</a:t>
              </a:r>
              <a:r>
                <a:rPr b="1" lang="hu-HU" sz="1600" spc="-1" strike="noStrike">
                  <a:solidFill>
                    <a:srgbClr val="006699"/>
                  </a:solidFill>
                  <a:latin typeface="Arial Narrow"/>
                </a:rPr>
                <a:t>: Dr. Henner Schierenbeck: Grundzüge der Betriebswirtschaftslehre, Oldenbourg 2003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13400" y="1334520"/>
              <a:ext cx="6621840" cy="60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Relationships of Economics and Business Economics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5440" y="1312920"/>
            <a:ext cx="9009720" cy="5400000"/>
            <a:chOff x="55440" y="1312920"/>
            <a:chExt cx="9009720" cy="5400000"/>
          </a:xfrm>
        </p:grpSpPr>
        <p:sp>
          <p:nvSpPr>
            <p:cNvPr id="544" name=""/>
            <p:cNvSpPr/>
            <p:nvPr/>
          </p:nvSpPr>
          <p:spPr>
            <a:xfrm>
              <a:off x="203400" y="1723680"/>
              <a:ext cx="255204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Tahoma"/>
                </a:rPr>
                <a:t>Factors independent from the economic system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07120" y="1806480"/>
              <a:ext cx="3486600" cy="46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Tahoma"/>
                </a:rPr>
                <a:t>Factors depending from the economic system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2640" y="2449440"/>
              <a:ext cx="2332440" cy="78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Combination of economic resources , (labour,  equipment, materials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2640" y="3888720"/>
              <a:ext cx="237060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Principle of profitability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9680" y="5380920"/>
              <a:ext cx="2410200" cy="75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Principle of financial equilibrium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54720" y="2423520"/>
              <a:ext cx="945360" cy="37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6699"/>
                  </a:solidFill>
                  <a:latin typeface="Tahoma"/>
                </a:rPr>
                <a:t>Plants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28240" y="2423520"/>
              <a:ext cx="1205280" cy="172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Arial Narrow"/>
                </a:rPr>
                <a:t>Enterprise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42640" y="4385160"/>
              <a:ext cx="122976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Public service companies and non-profit institutions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63120" y="2436120"/>
              <a:ext cx="3902040" cy="48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Individual business planning capability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63120" y="3027600"/>
              <a:ext cx="3899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profit maximization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080" y="3659400"/>
              <a:ext cx="3875760" cy="48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private property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9040" y="4359240"/>
              <a:ext cx="386280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Economic planning under political supervision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02360" y="5030640"/>
              <a:ext cx="384948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plan fulfilment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15680" y="5635800"/>
              <a:ext cx="382320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defending public property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67320" y="1312920"/>
              <a:ext cx="7064280" cy="40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Tahoma"/>
                </a:rPr>
                <a:t>Factors of company performance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440" y="6370200"/>
              <a:ext cx="77889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Source:</a:t>
              </a:r>
              <a:r>
                <a:rPr b="1" lang="hu-HU" sz="1600" spc="-1" strike="noStrike">
                  <a:solidFill>
                    <a:srgbClr val="006699"/>
                  </a:solidFill>
                  <a:latin typeface="Arial Narrow"/>
                </a:rPr>
                <a:t> Dr. Henner Schierenbeck: Grundzüge der Betriebswirtschaftslehre, Oldenbourg 2003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1. The role of commerce in the national economy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„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ommerce” as a notion from institutional and from functional asp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role and function of the industry „Commerce” in the national economy: marketing and distribution fun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role of commerce in the national economy (contribution to GDP, contribution to employment, capacity investments in commerce on the national economy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fundaments of the growing share of commerce in the production of GDP and national income of the count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oncentration in trading, the important tendencies of the development of trade on the level of the national econom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1. The role of commerce in the national economy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haracteristics of the macro- and micro environment of trading compan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overall market, regional markets and market segments in the national economy, the turnover of goo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living standard of the population in Hungary, interrelations between living standard and the level of development of Commerce in the countr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consumption of the population as the main demand factor for the commercial sector of the national econom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Income of the population and the forms of incomes they earn, nominal and real incom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2. The socio-economic and natural environment of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haracteristics and the development trends of the social and economic environment of the retail companie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upply channels and sales channels in internal and international trade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ocial responsibility of firms in retail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Environmental problems caused by trade companies (additional transport needs for goods and people, waste, packaging of good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importance to discover the Ianus sides of market economy: competition and co-operation of firms as two sides of the same th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7-11-13T05:45:40Z</dcterms:modified>
  <cp:revision>79</cp:revision>
  <dc:subject/>
  <dc:title>A kereskedelem szerepe a nemzetgazdaságban</dc:title>
</cp:coreProperties>
</file>