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BA6-E561-4C87-840C-B8243DDB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BDC-24EA-4C9E-924F-02D94AAE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DF3-572A-4ED7-B868-46631827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E95-C60F-49DF-AAFC-3E6A2EC4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C167-7536-428F-A003-F4644851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4A36-25F5-46A5-BAE8-117C8656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9AE0-1117-4CAE-A198-116845C8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BD00-2C22-4182-BD71-32EC6510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ED5D-89A9-4A79-98CC-DB3317C9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06D3-106F-4DD0-8BCD-95AF3095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414F-44B0-4117-8BEE-30FEF5D0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623-0292-447D-92EA-ED8BCABD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E198-C225-466D-A758-42C691CC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3ABB-A359-458F-8C80-993CD7C2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3D3B-E842-4C31-ABEF-6DF87C37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9545-B7F8-4A53-A61D-8F640184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80BA-6CC7-4F46-AB45-7F6746DF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3BEB-854D-48BC-B0A0-5D94F940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E246-88B8-4A74-97B4-7BBBDFEA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2797-F52A-480E-8B6E-665B9DF9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6308-8B6B-4584-BD56-52404331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E1DA-BC19-43C6-8FAF-763833F0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AA2-8015-4697-A09C-367084D6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4905-1148-4A1E-9B6C-83EFA5A9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FADA-9DF5-485D-B2FC-E0DBDA11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C427-145D-4E1E-8352-30FDF207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1FB1-86FB-428A-AC28-03B87E38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7652-F3C4-4AD4-8A4F-9810D437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2049-5566-45E1-8D63-6CB0EB41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EA42C-A54F-436C-AC34-50355D7B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3ED4-6A1D-4FAA-B7B6-4FBB0265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CBA4-EA5D-41CE-B63E-5DB4FD0A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ADB4A-C8F6-44D9-BF1E-9ACAD9FE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66D-941B-4C0C-8871-9283C897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801C5-D10D-4B0F-8FF0-0268B410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47EF2-3492-4B95-93A2-90345734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25B48-72AB-4186-BFFD-0C958551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569B6-8384-4000-BE21-9710F097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BF55-0275-4D17-8634-60581DAF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AEC3-9830-4878-8C58-D1B8F24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C41A6-E744-4922-9A85-1D6C1D81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5898-ED4F-40D1-B6D2-97975BC9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09B2-3B03-47DD-82EF-57DD7C40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9F9D-B4EA-484A-975D-EA2352F3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6DA-CABB-4425-942D-30CE4D55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DC83D-F706-4F80-9EF5-776D2785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FBDF-863A-4B13-8A54-FB39974C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3AC52-D652-4866-85FB-1507648D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FA653-8EE2-47C9-944A-C3B13F3E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C60C-E78A-41C1-B151-5F60CAFF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F3933-CA8F-491C-B740-D324AF35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39113-9804-4A74-B7EE-6A8A9458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1D213-78DE-43FB-90B1-83210E5D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1956E-33F0-49A7-85BD-1D752A96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B1BF6-BF1E-4388-9D28-F426B0FA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BA4-6A10-4868-A028-AEE2DB2D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F97C-62CE-430D-9676-7A4182E5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814CB-9EEC-4D48-991B-E5B49417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D0886-335D-4462-983C-96002800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99D16-459A-47D2-A9A3-60C142A4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D49AD-BF92-4F3E-857A-E5AB4821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C0FCE-EF4B-440A-A2BE-EFCAEDF3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CA981-72E7-4AB3-BC51-BCD89D31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64A25-2C7F-48DC-92FB-180A1BBB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EFAF-D98E-4A58-9EF8-E364E39A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83A86-AF09-44AB-8A87-405E553E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2F1-F90B-438E-B23B-A9352BE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9DACC-FBAB-431E-A899-50566952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464F5-5C2B-4B6A-B2ED-AE66B6CF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AC41-836D-49A5-B280-FE56EB90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0DC-149A-4F62-8604-8C022A1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A0C-1637-486B-9213-C48A84D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0054-914A-4675-9D52-BD00DC1576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3E88-5BF2-4959-9A93-FBB7EC8CA32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BF93-38AB-45C3-B361-2DFEF6A3E83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5945-6D25-4206-A718-6635428D9BA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7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28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0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7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8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1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2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8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2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65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66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7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8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9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0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1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2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3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4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5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6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7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615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27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628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635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0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7C9B-B4D9-4895-8CAE-68464AD7FC4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682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93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5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0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4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5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6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8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1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9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0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1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2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3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4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5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6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8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9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30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731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2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3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4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5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6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7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8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9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0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1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2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43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6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7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8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9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1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2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3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4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5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6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80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2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92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793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799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800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F071-D3B9-484E-A732-1E0F5F4D169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ales Turnover of Goods and Services,</a:t>
            </a:r>
            <a:br>
              <a:rPr sz="3600"/>
            </a:br>
            <a:r>
              <a:rPr b="1" lang="hu-HU" sz="36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he Features of the Market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hu-HU" sz="3600" spc="-1" strike="noStrike">
                <a:solidFill>
                  <a:srgbClr val="66ff66"/>
                </a:solidFill>
                <a:latin typeface="Arial"/>
              </a:rPr>
              <a:t>T</a:t>
            </a:r>
            <a:r>
              <a:rPr b="1" lang="en-GB" sz="3600" spc="-1" strike="noStrike">
                <a:solidFill>
                  <a:srgbClr val="66ff66"/>
                </a:solidFill>
                <a:latin typeface="Arial"/>
              </a:rPr>
              <a:t>he Main Tasks of Commerce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99ff"/>
                </a:solidFill>
                <a:latin typeface="Arial"/>
              </a:rPr>
              <a:t>(Domestic and/or Foreign Trade)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66ccff"/>
                </a:solidFill>
                <a:latin typeface="Arial"/>
              </a:rPr>
              <a:t>(Retail and/or Wholesale Trading)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59120" y="4581360"/>
            <a:ext cx="532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made by 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Mr.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Csaba Sólyom</a:t>
            </a:r>
            <a:br>
              <a:rPr sz="1800"/>
            </a:b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enior lecturer of the Budapest Business School</a:t>
            </a:r>
            <a:br>
              <a:rPr sz="1800"/>
            </a:b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2006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Tahoma"/>
              </a:rPr>
              <a:t>Further sales turnover groupings:</a:t>
            </a: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Individual sales for the population or  Institutional sa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Cash sales or credit sales (sales against  Bon, consumer credit etc.)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Sales  </a:t>
            </a: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The notion sales will be understood and defined on different way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Sales policies, selective sales policies, instruments of sales polic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Purchasing and sales business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Marketing, multinational Marketing, Marketing-Mix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Verdana"/>
              </a:rPr>
              <a:t>Shopping decisions of the consumer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Routine shopping decis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Impulsive shopping decis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Experience orientation – Experience purcha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Lifestyle-concep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4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One-Stop-Shopping</a:t>
            </a: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omparison of enterpris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On the level of goods and artic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On the level of territo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0" name=""/>
          <p:cNvSpPr/>
          <p:nvPr/>
        </p:nvSpPr>
        <p:spPr>
          <a:xfrm>
            <a:off x="-74520" y="2980800"/>
            <a:ext cx="93628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Recommended literature: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Árva, Diczházi, Kiss: Globalization and foreign investments in Hungary Euro-Midi 2002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250920" y="5013360"/>
            <a:ext cx="86421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103"/>
                </a:solidFill>
                <a:latin typeface="Clarendon"/>
              </a:rPr>
              <a:t>Thank You for Your attention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The most important types of grouping the needs from economic aspect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the volume of the needs: total, effektiv und latent, What kind of rules are represented in the development of the need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the fulfilment of the needs production tools, and consumer goods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the type of the needs: individual and collective needs, physical and non physical need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Maslows theory: there are primary, secondary etc. need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behaviour of the people elastic and non elastic need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its visibility in business life: open, and latent need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Need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 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Purchasing funds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       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Purchasing power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            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onsumer demand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                  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Sales turnov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onsump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      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 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Nee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395280" y="1197000"/>
            <a:ext cx="0" cy="367200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468360" y="4869000"/>
            <a:ext cx="43927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63640" y="76500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32360" y="148428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940360" y="213372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04000" y="285264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04000" y="350028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236000" y="422100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Market – the meeting point of Demand and Offer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Market types (market par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Markets of production tools and consumer good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Markets of goods and servic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Inner market of a country and foreign markets (foreign trade markets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Market behaviour of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population of a country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entrepreneurs, enterprises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non profit sectors of the economy, of the state owned enterprises and institutions of the countr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A stronghold, a monopoly or oligopoly position of customers or suppliers on the market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Deman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20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ustomers wish well-defined goods and service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20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ustomers have well-defined price image they would like to se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20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ustomers have also mostly well-defined timing idea about the shopping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Factors influencing the volume, structure of the demand appearing on the mark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Volume und structure of the needs of consumers, 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Income facilities of the population and of the enterprises in the country, Purchasing funds and purchase power, dispon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b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ility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 income, and free dispon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ibility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 income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Development of prices in the national economy, relations of product and service prices to each other, price-elasticity of demand, substitution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-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elasticity of the demand on prices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value and structure of global offer on the market (prolonged demand in time)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echnical and scientific development and the duration of products (the curve of their life-cycle)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Demographic factors, social and historical traditions determining consumer behaviour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How we can divide the demand into group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Purchasing power, set of article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Indices of purchasing power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Factors of purchasing pow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onsumer freedom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onsumer sovereign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Demanding power of consumer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Offering power of suppliers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The offers on the market and its ele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Assort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Qual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Transport condition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Price and payment terms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Price as a sovereign, and stand-alone category of the mark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Sales, sales of goo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Net principle (all shops and gastronomy units are included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Product principle (all goods and services as rents and lottery (Toto-lotto) games are included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Activity principle (all activities are included if they show the features of trading activity irrespectively what people say about this activity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Territorial (geographical) principle (all trading activities are included which will be run within the borders oif the country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6-12-27T15:51:01Z</dcterms:modified>
  <cp:revision>66</cp:revision>
  <dc:subject/>
  <dc:title>A kereskedelem szerepe a nemzetgazdaságban</dc:title>
</cp:coreProperties>
</file>