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6116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CE49-6055-473E-B30F-96036073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39D7-9D51-4F8D-84DE-A951C138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3739-8CA1-4590-9D6B-F74068F9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9598-F706-4E12-8167-9C5A028E6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8316-D74D-4700-9D0F-CE8E1F7B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D2A9-AB0D-4A9D-A7D2-1B1A25D0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75EB-6FB3-4744-8CA4-B6365384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0624-34FD-4695-854C-0F28490A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FB07-2866-4D4C-8291-B64089F3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A4CE-3499-4BC5-9369-D0A7849C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664D-1B0B-4A46-AE21-B0A1B15E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987C-526C-46FA-A417-7D1DA7A8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7BAB-841A-4777-83A6-3B7F0F96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E686-461D-40CF-8F6F-9367113E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14B2-9780-4A49-8D98-01EA923B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73FC-DFCD-4520-976B-ABF7FDBE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FFD5-37BB-4AE4-838E-2BFF8E84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9EF38-A235-4E13-BEC7-2CC6A7C2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070C3-55EB-4F82-BE6E-D9263C08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0B98C-D47A-4B25-9E2D-9C0D7255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BE811-D357-46B7-9851-08D37DD4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D855C-75F9-4DCC-AB55-86F9B466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9AB-2819-42CB-9837-9A3662A4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C58A1-E835-4704-80CC-48869B56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DC300-FBF8-4ABB-A4DC-FCC220F0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8C290-0F4D-435A-A1D5-25C98A95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57F39-46DB-4411-B4ED-04427A62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042A2-BC6B-4BAE-AB12-E16D8183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F4549-73F6-45DD-BFB9-B380FB31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F72F6-ED9C-4F9D-9B26-74AD9DF1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5D375-22E0-48AE-A32E-2EC5AF881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B918B-23F3-4368-BE63-B0567838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D2952-4820-4FEF-9246-DA898B47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A039-5DDD-46C7-8AD6-A913A8B0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4B776-5FF9-4444-9BEB-2FED6537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6A7D7-D75F-4CD8-9C97-0D3669E4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7CFE3-C90C-44C4-A10E-B38AD29C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13633-A4C0-4D07-A65C-9A69F084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038E2-D5A6-43E8-8621-0CE24387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EB81E-4AA1-410D-BE81-1BA36049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556AC-722F-4323-BC8B-1B782029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06FF9-8997-4617-8A7E-8CB5B49C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C5B2A-792A-4B33-8D40-FD0AE90D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37D34-223C-40EF-9362-90EF4B0A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8DDA-05C2-4B00-9CB3-A3657825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72CB0-3334-4466-BE13-35E9BE0E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B8C4C-BF3D-4FF9-A3C0-3CCEEFDB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E039C-70F0-4D28-8CA4-98340C07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F51AD-7416-4820-9FD0-FCE4804E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20EF2-C058-4A21-B754-C8B3E61A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66FBC-DDD0-495F-9888-648C6D79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7FAF8-3081-480A-BD7B-F03F6436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E4B59-910D-42BB-BBA4-F4CA3CE2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5EA7D-0F96-4E73-8107-74F6B9A6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818B8-AFFE-4909-BAA5-631D9A58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D0D5-4CFB-4D4E-88D8-C7869D91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EB72E-430A-461C-A4A7-DC9A740F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B64D7-894F-403C-8F58-ACCE2815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04083-497D-49F6-9087-D9775B69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D33D6-3F0E-47A0-8B19-3E9B0981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6D5B7-9106-4136-B712-B0880698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B1B4B-4CCF-4CA4-8EDB-8376BD80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19029-09A3-431B-A4EC-30927760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58FA3-BC09-44A1-8A5C-41F64A6D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049CE-1D6C-464F-B9AC-80B9C80E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1895F-3CFC-40CB-9251-D87999C4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CF89-1043-4C07-BA0D-2EAFE94E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4F804-EEAB-457C-8C20-5A5ACBCA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384C0-E6DE-4EDA-9D02-0A9E5B67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A9F58-C889-4125-9D60-69845625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9847-B227-489D-BAC0-2C0FFABA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EA32-97A4-4CC0-B0B3-5F810A57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4BFE-EAE6-44D5-B77B-A598E72C8298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CBE3-54EC-45E0-AC94-62B00A129162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3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4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7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0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7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0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7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5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72CD-81EA-4E2A-B30D-207EB7D67006}" type="slidenum">
              <a:rPr b="0" lang="hu-H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9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0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0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0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1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1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2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2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2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3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3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3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3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4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7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7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7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7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8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8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0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0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56BE-2274-49B3-A414-9F9AB6B80A63}" type="slidenum">
              <a:rPr b="0" lang="hu-H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72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74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79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485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8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489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493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497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91A0-6FE7-4AEE-9567-8EFADE60CF2B}" type="slidenum">
              <a:rPr b="0" lang="hu-H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556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557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571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575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579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583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587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7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3EE1-AA31-4D12-A43F-1DA3474A996C}" type="slidenum">
              <a:rPr b="0" lang="hu-H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8200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2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Strategies of Small Enterprises in Retailing</a:t>
            </a: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000"/>
            </a:br>
            <a:r>
              <a:rPr b="0" lang="en-US" sz="2600" spc="-1" strike="noStrike">
                <a:solidFill>
                  <a:srgbClr val="006666"/>
                </a:solidFill>
                <a:latin typeface="Arial"/>
              </a:rPr>
              <a:t>Challenges and Chances</a:t>
            </a:r>
            <a:endParaRPr b="1" lang="en-US" sz="2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1258920" y="4365360"/>
            <a:ext cx="61466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Mr. Csaba Sólyom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senior lecturer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udapest Business School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Faculty of Commerce, Catering and Tourism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18400" cy="7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Arial"/>
              </a:rPr>
              <a:t>Strategic chances of the SME </a:t>
            </a:r>
            <a:r>
              <a:rPr b="1" lang="hu-HU" sz="3200" spc="-1" strike="noStrike">
                <a:solidFill>
                  <a:srgbClr val="cbcbcb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cbcbcb"/>
                </a:solidFill>
                <a:latin typeface="Arial"/>
              </a:rPr>
              <a:t>4</a:t>
            </a:r>
            <a:r>
              <a:rPr b="1" lang="hu-HU" sz="3200" spc="-1" strike="noStrike">
                <a:solidFill>
                  <a:srgbClr val="cbcbcb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vantages of franchise for franchise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tion of business ris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ility for business capital need re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nchisor provides training for franchis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simple way of management (franchisor provides assistance in purchasing, advertisement, sales-promotion methods etc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sts of franchise for franchise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have to pay entrance fee, royal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nchisor prescribes shop design, assortment of goods, purchase sources, sales-metho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nchisor may control the business of franchis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nchisee has to report regular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18400" cy="7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Arial"/>
              </a:rPr>
              <a:t>Strategic chances of the SME </a:t>
            </a:r>
            <a:r>
              <a:rPr b="1" lang="hu-HU" sz="3200" spc="-1" strike="noStrike">
                <a:solidFill>
                  <a:srgbClr val="cbcbcb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cbcbcb"/>
                </a:solidFill>
                <a:latin typeface="Arial"/>
              </a:rPr>
              <a:t>5</a:t>
            </a:r>
            <a:r>
              <a:rPr b="1" lang="hu-HU" sz="3200" spc="-1" strike="noStrike">
                <a:solidFill>
                  <a:srgbClr val="cbcbcb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-national companies make occasionally errors in their business operation which can be utilize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1500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incipal „think global act local” is not always hold (Fundy, Sweet point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e regulations, laws should support small firm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?   Privatization of pharmacies, tax prefere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?   To ensure low unemployment rate, to try to maintain a free competition on the marke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18400" cy="7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Arial"/>
              </a:rPr>
              <a:t>Strategic chances of the SME </a:t>
            </a:r>
            <a:r>
              <a:rPr b="1" lang="hu-HU" sz="3200" spc="-1" strike="noStrike">
                <a:solidFill>
                  <a:srgbClr val="cbcbcb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cbcbcb"/>
                </a:solidFill>
                <a:latin typeface="Arial"/>
              </a:rPr>
              <a:t>6</a:t>
            </a:r>
            <a:r>
              <a:rPr b="1" lang="hu-HU" sz="3200" spc="-1" strike="noStrike">
                <a:solidFill>
                  <a:srgbClr val="cbcbcb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all size enterprises can utilize local production and service capacities and provide a real competition to TNE-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latin sausage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all shops for construction against Praktiker, OBI, Brico-St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exible opening hours of small shops in Budap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personal service level, personal contacts have an increasing role in sal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all firms should reduce risk by having complex business profil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Renault Baumgartner)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18400" cy="7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Arial"/>
              </a:rPr>
              <a:t>Strategic chances of the SME </a:t>
            </a:r>
            <a:r>
              <a:rPr b="1" lang="hu-HU" sz="3200" spc="-1" strike="noStrike">
                <a:solidFill>
                  <a:srgbClr val="cbcbcb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cbcbcb"/>
                </a:solidFill>
                <a:latin typeface="Arial"/>
              </a:rPr>
              <a:t>7</a:t>
            </a:r>
            <a:r>
              <a:rPr b="1" lang="hu-HU" sz="3200" spc="-1" strike="noStrike">
                <a:solidFill>
                  <a:srgbClr val="cbcbcb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all size enterprises should co-operate, set up common purchase companies, allianc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BA, Coop Hungar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p chain extended their market share in Hungary from 5 % to 1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erage spendings of customers increase steadily from 800 HUF to 1000 HUF.  (Hypermarkets 2800, 39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Arial"/>
              </a:rPr>
              <a:t>Strategic options - Conclusions</a:t>
            </a:r>
            <a:r>
              <a:rPr b="0" lang="hu-HU" sz="44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0" lang="hu-HU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153280" cy="484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kind of strategy could we offer for small entrepreneurs?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quire and enhance theoretical background and practical skills in management sciences.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The role of knowledge is grow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up the ability of answering challenges - perhaps establish partner relationships with trans-national enterprises (TNE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up co-operations among small size firms in purchasing, in marketing and sales activities,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sure an efficient support of small enterprises in the state’s economic and trading policy, an important task of governmen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0920" y="3789000"/>
            <a:ext cx="86421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THANK YOU FOR YOUR ATTENTION!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hu-HU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1532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Arial"/>
              </a:rPr>
              <a:t>What I would like to speak of!!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ion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 small enterpri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 estimates for the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21. century (after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Lusch&amp;Dunne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velopment of retailing in Hungary 1980-2002, (facts, trend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hallenges for small retailing enterprises - the threa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hances of small retail enterpri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ategic options for small enterpri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cbcb"/>
                </a:solidFill>
                <a:latin typeface="Arial"/>
              </a:rPr>
              <a:t>Definition of small enterprise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143000" y="1750680"/>
            <a:ext cx="7238880" cy="465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riteria in the statistics: </a:t>
            </a: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mber of employees  KSH 10, EU 100 employ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lume of annual sales  KSH 100 Million HU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 of fixed asse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       EU   10 Million 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cc00"/>
                </a:solidFill>
                <a:latin typeface="Arial"/>
              </a:rPr>
              <a:t>Criteria from the management aspec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all enterprises: Owner and manager is the same person both are Hungari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dium size firms: Owner and manager are different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e enterprises: extended ownership from abroad, firm belongs to international chain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26560" y="713880"/>
            <a:ext cx="8317080" cy="7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Arial"/>
              </a:rPr>
              <a:t>Estimates – the retail industry after 2000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verage annual growth min 3.1 %,  average 5.1 %, max 7.9 %in the 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cio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conomic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needs and wants, but less time, time saving shopping grow, Internet, mail order houses like Otto, Qu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parents then chil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er incomes, but less flexi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k but less family harmon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gmented market grow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ical environment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, EAN, ED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stom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, risk are becoming important cost fac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ce naturally becomes the cost fac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ortment of goods and servic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inant, intercept, competitive, opportunist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55280" y="713880"/>
            <a:ext cx="8388360" cy="7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Arial"/>
              </a:rPr>
              <a:t>Development of retailing in Hungary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erage annual growth 3-4 % Fallback in the early 9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golden ages for sme-s 1988-199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tional companies push for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 enterprises disappear gradu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44720" y="713880"/>
            <a:ext cx="7718400" cy="7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Arial"/>
              </a:rPr>
              <a:t>Positive and negative myth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ailing is eas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is 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ctronic comme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18400" cy="7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Arial"/>
              </a:rPr>
              <a:t>Strategic chances of the SME </a:t>
            </a:r>
            <a:r>
              <a:rPr b="1" lang="hu-HU" sz="3200" spc="-1" strike="noStrike">
                <a:solidFill>
                  <a:srgbClr val="cbcbcb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cbcbcb"/>
                </a:solidFill>
                <a:latin typeface="Arial"/>
              </a:rPr>
              <a:t>1</a:t>
            </a:r>
            <a:r>
              <a:rPr b="1" lang="hu-HU" sz="3200" spc="-1" strike="noStrike">
                <a:solidFill>
                  <a:srgbClr val="cbcbcb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-national companies cannot cover the whole market, becau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mand is not big enough for them (Penny-Market, ARAL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profitabil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return on investment is not big enough to meet their requirements, (ARAL pump stat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is high need for personal services, for personal sales activity (Distribution of computer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mand small, risk is high, only a flexible small firm can survive (special needs for very high level hifi etc.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18400" cy="7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Arial"/>
              </a:rPr>
              <a:t>Strategic chances of the SME </a:t>
            </a:r>
            <a:r>
              <a:rPr b="1" lang="hu-HU" sz="3200" spc="-1" strike="noStrike">
                <a:solidFill>
                  <a:srgbClr val="cbcbcb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cbcbcb"/>
                </a:solidFill>
                <a:latin typeface="Arial"/>
              </a:rPr>
              <a:t>2</a:t>
            </a:r>
            <a:r>
              <a:rPr b="1" lang="hu-HU" sz="3200" spc="-1" strike="noStrike">
                <a:solidFill>
                  <a:srgbClr val="cbcbcb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-national companies do not want to cover the whole market, becau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mand is changing too rapidly, and needs special knowledge from the sales forc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fitability of the branch is low, or it needs a high level personal sales involv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-national companies set up a distributor chain, they offer co-operation for small size firms (car retail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18400" cy="7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Arial"/>
              </a:rPr>
              <a:t>Strategic chances of the SME </a:t>
            </a:r>
            <a:r>
              <a:rPr b="1" lang="hu-HU" sz="3200" spc="-1" strike="noStrike">
                <a:solidFill>
                  <a:srgbClr val="cbcbcb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cbcbcb"/>
                </a:solidFill>
                <a:latin typeface="Arial"/>
              </a:rPr>
              <a:t>3</a:t>
            </a:r>
            <a:r>
              <a:rPr b="1" lang="hu-HU" sz="3200" spc="-1" strike="noStrike">
                <a:solidFill>
                  <a:srgbClr val="cbcbcb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-national companies offer franchise for small firms, why?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1500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anchisor get entrance fee, royalty from franchis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1500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anchisor may save capital, because franchisee invest into the business (own sho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1500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anchisor can extend his system more quickly compared to own invest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1500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anchisor can reduce risk, because franchisee is also an entrepreneur (MOL,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HEL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MV franchise syste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7T08:24:52Z</dcterms:created>
  <dc:creator>D&amp;T Prague</dc:creator>
  <dc:description/>
  <dc:language>en-US</dc:language>
  <cp:lastModifiedBy> bgf-kvifk</cp:lastModifiedBy>
  <cp:lastPrinted>2001-04-25T20:00:18Z</cp:lastPrinted>
  <dcterms:modified xsi:type="dcterms:W3CDTF">2007-12-12T22:53:46Z</dcterms:modified>
  <cp:revision>75</cp:revision>
  <dc:subject/>
  <dc:title>CEprocurement.com</dc:title>
</cp:coreProperties>
</file>