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662-FF65-40ED-A71D-C6E1A74A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B1F-7BC8-4F43-BABD-EBE4D989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927-8F8F-4916-B2AE-87D3A7FB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D29-F984-4045-92B3-D9A33E55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A315-F433-4A4E-9DD2-D9791C3C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6797-B287-4C96-A968-403ACFAA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3DEB-D976-41AC-8A40-3DEE0455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53A7-BCE9-470D-BE0B-BEBA9100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E978-31BD-4A14-BEEB-2DDA2903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DF21-BFAB-49C9-997F-05F0346C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E990-54F5-4AE4-A6F1-54D3967A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8D00-96A4-4BE9-A1B2-A76C34A6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49C4-23F2-4080-9F8F-C358F1EA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6DAD-AA71-4F27-9F2F-B6D7ADC7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98EC-7464-4FAE-AF0C-4C1E9F2C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2916-82CE-4217-9B3E-CA8F0BEE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49B4-30C1-4F46-B867-172DA445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28799-9E2F-4E2C-8CCF-BCA6F450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F7939-4738-4450-B92E-B30B927D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89064-3208-4AC5-AB69-B067E10A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AD09D-5568-4050-A1AA-871663D1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AC073-9445-43A8-9A6E-8813BFBF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693-7ADC-4003-913E-F7AE9767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DC09B-3981-4F41-935A-FAD271AB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DB116-803E-4207-8296-14A6DF3D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ABC3E-5489-4941-B9EC-F094661C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59F23-534B-4C7D-8804-B72C8CA0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80F9E-88EF-4072-B8C6-0CB3675E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FAE30-9883-4BCC-9E28-85F60E3E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E61C7-CFD7-434D-9207-428D46FB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BD047-52DC-49CC-8DA4-3B73CD20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FEA8B-20F0-467A-8D6D-3D3ED71F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116C3-ECAC-4598-B444-17E0B1B4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B84C-518F-4E23-98F7-7253E42F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4B43E-7F19-4D14-B9EA-7F3A01AF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994C7-3AAE-4EA4-9D4B-C9142B46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1F8AA-E5AB-42BA-9F9B-E4D2C1D1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298CC-7FF0-4236-9053-9A918DD1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6E437-C238-4689-804C-AC48E064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84EFF-EC7C-45BB-B55F-8C79CCBF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7021F-C37F-42B8-9CC8-B52E834F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16391-85D6-471A-96FE-03037BD2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B5C7A-0AE6-4064-BBF5-DB16B360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05991-977C-4536-9072-1FE4C1B1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582-5E2B-4125-8FD5-898012BB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53969-1795-497E-82B1-BE3FC0F4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616E7-A79B-40F8-A2DF-F74A64BD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E05BC-83C0-4AEA-A096-BA2449EF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251C6-46A1-4DBB-A9AA-8DD63640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8AE12-D373-4F0C-AC1F-1690A586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C63E2-FE69-40E6-9C30-E5B61C57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A3F31-527B-48F1-9EDF-D64C6C10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59881-1002-4534-837B-6F6F0DD2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A60C1-DDFA-4250-AF3D-4E7E9741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9D2AB-8CD2-4F49-ABEB-46AA21AE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316-1703-489B-B6B5-F60B172B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B2068-A137-4C96-AD23-96297EA4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4E0-D018-449E-BF9C-7537043F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878-F1D3-4AC7-AD45-CCF26C59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5708-15CC-4818-BE8D-5D1CE0BB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5641-CDD2-462C-831B-B4908A573DE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1ED4-EEDB-469F-9223-379ED0310AF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6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7BE9-DEF1-42A0-ABB7-40CB69E82B5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4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4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DB1D-0284-448E-A66E-CE2EBFE8B4F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16B8-9B20-425D-BFE3-CF760555A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endParaRPr b="1" lang="en-US" sz="43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he Economic and Commercial Politics of the State and of the EU</a:t>
            </a:r>
            <a:br>
              <a:rPr sz="4000"/>
            </a:br>
            <a:br>
              <a:rPr sz="4000"/>
            </a:br>
            <a:r>
              <a:rPr b="1" i="1" lang="en-GB" sz="3800" spc="-1" strike="noStrike">
                <a:solidFill>
                  <a:srgbClr val="990000"/>
                </a:solidFill>
                <a:latin typeface="Times New Roman"/>
              </a:rPr>
              <a:t>Mr. </a:t>
            </a:r>
            <a:r>
              <a:rPr b="1" i="1" lang="hu-HU" sz="3800" spc="-1" strike="noStrike">
                <a:solidFill>
                  <a:srgbClr val="990000"/>
                </a:solidFill>
                <a:latin typeface="Times New Roman"/>
              </a:rPr>
              <a:t>Csaba Sólyom</a:t>
            </a:r>
            <a:br>
              <a:rPr sz="3800"/>
            </a:br>
            <a:r>
              <a:rPr b="0" lang="en-GB" sz="1500" spc="-1" strike="noStrike">
                <a:solidFill>
                  <a:srgbClr val="003366"/>
                </a:solidFill>
                <a:latin typeface="Tahoma"/>
              </a:rPr>
              <a:t>senior lecturer</a:t>
            </a:r>
            <a:br>
              <a:rPr sz="1500"/>
            </a:br>
            <a:r>
              <a:rPr b="0" lang="en-GB" sz="1500" spc="-1" strike="noStrike">
                <a:solidFill>
                  <a:srgbClr val="003366"/>
                </a:solidFill>
                <a:latin typeface="Tahoma"/>
              </a:rPr>
              <a:t>of the BBS FCCT Institute of Commerce</a:t>
            </a:r>
            <a:br>
              <a:rPr sz="1500"/>
            </a:br>
            <a:r>
              <a:rPr b="0" lang="en-GB" sz="1500" spc="-1" strike="noStrike">
                <a:solidFill>
                  <a:srgbClr val="003366"/>
                </a:solidFill>
                <a:latin typeface="Tahoma"/>
              </a:rPr>
              <a:t>awarded by the French </a:t>
            </a:r>
            <a:r>
              <a:rPr b="0" lang="fr-FR" sz="1500" spc="-1" strike="noStrike">
                <a:solidFill>
                  <a:srgbClr val="003366"/>
                </a:solidFill>
                <a:latin typeface="Tahoma"/>
              </a:rPr>
              <a:t>„l‘Ordre des Palmes Académiques”</a:t>
            </a:r>
            <a:r>
              <a:rPr b="0" lang="en-GB" sz="1500" spc="-1" strike="noStrike">
                <a:solidFill>
                  <a:srgbClr val="003366"/>
                </a:solidFill>
                <a:latin typeface="Tahoma"/>
              </a:rPr>
              <a:t> </a:t>
            </a:r>
            <a:br>
              <a:rPr sz="3000"/>
            </a:br>
            <a:br>
              <a:rPr sz="3000"/>
            </a:br>
            <a:r>
              <a:rPr b="1" lang="en-GB" sz="2200" spc="-1" strike="noStrike">
                <a:solidFill>
                  <a:srgbClr val="cc0000"/>
                </a:solidFill>
                <a:latin typeface="Tahoma"/>
              </a:rPr>
              <a:t>Budapest, </a:t>
            </a:r>
            <a:r>
              <a:rPr b="1" lang="hu-HU" sz="2200" spc="-1" strike="noStrike">
                <a:solidFill>
                  <a:srgbClr val="cc0000"/>
                </a:solidFill>
                <a:latin typeface="Tahoma"/>
              </a:rPr>
              <a:t>November</a:t>
            </a:r>
            <a:r>
              <a:rPr b="1" lang="en-GB" sz="2200" spc="-1" strike="noStrike">
                <a:solidFill>
                  <a:srgbClr val="cc0000"/>
                </a:solidFill>
                <a:latin typeface="Tahoma"/>
              </a:rPr>
              <a:t> 2007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HISTORY OF THE EUROPEAN UNION</a:t>
            </a:r>
            <a:endParaRPr b="0" lang="en-US" sz="19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0" y="339840"/>
          <a:ext cx="9144000" cy="6470640"/>
        </p:xfrm>
        <a:graphic>
          <a:graphicData uri="http://schemas.openxmlformats.org/drawingml/2006/table">
            <a:tbl>
              <a:tblPr/>
              <a:tblGrid>
                <a:gridCol w="539640"/>
                <a:gridCol w="1079640"/>
                <a:gridCol w="2952720"/>
                <a:gridCol w="4572000"/>
              </a:tblGrid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trac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ganisation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mber states, events, project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i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ropean Coal and Steel Community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rance, Fed Republic of Germany, Italy, Benelux countrie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om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ropean Economic Community (EEC or „Common Market”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rance, Fed Republic of Germany, Italy, Benelux countrie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6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ification contract, EEC =&gt; 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rance, Fed Republic of Germany, Italy, Benelux countrie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ropean Community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ustoms union, common foreign trade policy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K, Denmark, and Ireland join the EC, 9 member countries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reece join the EC =&gt; 10 member countries in the 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pain, Portugal joins the 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ified European Document, common market for goods, services, capital and labour, harmonisation of law start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astrich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ropean Union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creasing the integration, program for the Economic and political union, single currency, European nationality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stria, Sweden, Finland joins the EU, EU-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msterdam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firmation of the Maastricht treaty, decision on EURO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c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gal, and police co-operation, common foreign and security policy of the EU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roduction of European single currency the EUR, EMU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hen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 new member states join the EU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entral Eastern European join the EU, EU-15 =&gt; EU25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omania and Bulgaria join the EU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forming  treaty of the EU, European Constitution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636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O-OPERATION FIELDS AND FORMS IN THE EU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0" y="404640"/>
          <a:ext cx="9144000" cy="6583680"/>
        </p:xfrm>
        <a:graphic>
          <a:graphicData uri="http://schemas.openxmlformats.org/drawingml/2006/table">
            <a:tbl>
              <a:tblPr/>
              <a:tblGrid>
                <a:gridCol w="1476360"/>
                <a:gridCol w="7667640"/>
              </a:tblGrid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Economic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Customs union, common Commercial politics, quotas for imports,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Free internal market for goods, services, labour and capital transfer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Common agricultural politics, control of agricultural market, and protection of environment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Economic and monetary union, single European currency ,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European Monetary Union (EMU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European Central Bank, (ECB), European Investment Bank (EIB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Common research and development (EURATOM) to boost competitiveness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8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Arial Narrow"/>
                        </a:rPr>
                        <a:t>Political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Arial Narrow"/>
                        </a:rPr>
                        <a:t>European citizenship,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Arial Narrow"/>
                        </a:rPr>
                        <a:t>European Commission, European Committee, European Parliament,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Arial Narrow"/>
                        </a:rPr>
                        <a:t>Court of the European Community, European Audit Offic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Arial Narrow"/>
                        </a:rPr>
                        <a:t>European Ombudsman, EUROPOL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Arial Narrow"/>
                        </a:rPr>
                        <a:t>Common foreign &amp; security policy, Common Foreign Policy High Representativ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 Narrow"/>
                        </a:rPr>
                        <a:t>Legal and administrativ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 Narrow"/>
                        </a:rPr>
                        <a:t>Community law, its sources are multinational treaties, they overwrite national law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 Narrow"/>
                        </a:rPr>
                        <a:t>Community law directly determining natural persons and  states, Harmonisation of law is obligatory for the member states.  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 Narrow"/>
                        </a:rPr>
                        <a:t>Internal and police cooperation, the schengen border control co-operation treaty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 Narrow"/>
                        </a:rPr>
                        <a:t>Harmonizing the tax systems of the member states, Common quality control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STITUTIONS OF THE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987640" y="314172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1480" y="2795760"/>
            <a:ext cx="578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277920"/>
            <a:ext cx="9144000" cy="64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99"/>
                </a:solidFill>
                <a:uFillTx/>
                <a:latin typeface="Arial Narrow"/>
              </a:rPr>
              <a:t>European Commission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– practically the „government of the EU” having 20 commissioners, one president and two vice-presidents of the Commission,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99"/>
                </a:solidFill>
                <a:uFillTx/>
                <a:latin typeface="Arial Narrow"/>
              </a:rPr>
              <a:t>European Union Council or Council of Ministers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– the council of ministers consists of the ministers of the member states, the president of this council is the host country with a rotation of half a year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99"/>
                </a:solidFill>
                <a:uFillTx/>
                <a:latin typeface="Arial Narrow"/>
              </a:rPr>
              <a:t>European Council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– the council of presidents or prime ministers of the member states the main decision making organ in the EU. 2 regular, and 1-3 exceptional sessions are held annually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99"/>
                </a:solidFill>
                <a:uFillTx/>
                <a:latin typeface="Arial Narrow"/>
              </a:rPr>
              <a:t>European Parliament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– representing the citizens of the EU its legislation and political power is gradually increasing to the European Council passing guidelines, and the EU budget.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99"/>
                </a:solidFill>
                <a:uFillTx/>
                <a:latin typeface="Arial Narrow"/>
              </a:rPr>
              <a:t>The Court of the European Community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(Strasbourg)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99"/>
                </a:solidFill>
                <a:uFillTx/>
                <a:latin typeface="Arial Narrow"/>
              </a:rPr>
              <a:t>European Audit Office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99"/>
                </a:solidFill>
                <a:uFillTx/>
                <a:latin typeface="Arial Narrow"/>
              </a:rPr>
              <a:t>European Central Bank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(ECB)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99"/>
                </a:solidFill>
                <a:uFillTx/>
                <a:latin typeface="Arial Narrow"/>
              </a:rPr>
              <a:t>European Investment Bank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(EIB)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99"/>
                </a:solidFill>
                <a:uFillTx/>
                <a:latin typeface="Arial Narrow"/>
              </a:rPr>
              <a:t>Economic and Social Committee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99"/>
                </a:solidFill>
                <a:uFillTx/>
                <a:latin typeface="Arial Narrow"/>
              </a:rPr>
              <a:t>Committee of the Regions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99"/>
                </a:solidFill>
                <a:uFillTx/>
                <a:latin typeface="Arial Narrow"/>
              </a:rPr>
              <a:t>European Ombudsman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99"/>
                </a:solidFill>
                <a:uFillTx/>
                <a:latin typeface="Arial Narrow"/>
              </a:rPr>
              <a:t>EUROPOL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– EU police information center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99"/>
                </a:solidFill>
                <a:uFillTx/>
                <a:latin typeface="Arial Narrow"/>
              </a:rPr>
              <a:t>EURATOM</a:t>
            </a:r>
            <a:r>
              <a:rPr b="1" lang="en-GB" sz="1800" spc="-1" strike="noStrike">
                <a:solidFill>
                  <a:srgbClr val="006699"/>
                </a:solidFill>
                <a:latin typeface="Arial Narrow"/>
              </a:rPr>
              <a:t> – common European nuclear research center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CONOMIC POLICY OF THE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351360"/>
            <a:ext cx="9144000" cy="66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The Role of the State in the Market Economy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To insure frames and conditions for Economic development (eg. infrastructure)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Organisation of the national economy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99"/>
                </a:solidFill>
                <a:latin typeface="Tahoma"/>
              </a:rPr>
              <a:t>The Economic policy its general features, common and specific objectives</a:t>
            </a:r>
            <a:endParaRPr b="0" lang="en-US" sz="22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99"/>
                </a:solidFill>
                <a:latin typeface="Tahoma"/>
              </a:rPr>
              <a:t>Common objectives:</a:t>
            </a:r>
            <a:endParaRPr b="0" lang="en-US" sz="22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Economic growth (GDP, GNI)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Maintaining major equilibri</a:t>
            </a:r>
            <a:r>
              <a:rPr b="1" lang="hu-HU" sz="1800" spc="-1" strike="noStrike">
                <a:solidFill>
                  <a:srgbClr val="006699"/>
                </a:solidFill>
                <a:latin typeface="Tahoma"/>
              </a:rPr>
              <a:t>um</a:t>
            </a: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 of the national economy</a:t>
            </a: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6699"/>
                </a:solidFill>
                <a:latin typeface="Tahoma"/>
              </a:rPr>
              <a:t>&gt; External equilibrium of the country:  Balance of payment =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8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+ foreign trade balance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8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+ balance of services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8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+ balance of tourism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8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+ balance of capital transfer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8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&gt; Balance of the state budge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8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&gt; Balance of demand and supply (energy, agriculture)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99"/>
                </a:solidFill>
                <a:latin typeface="Tahoma"/>
              </a:rPr>
              <a:t>Relation of equilibrium and economic growth (sustainable)</a:t>
            </a: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CONOMIC POLICY OF THE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The Tools of the State and the EU Economic Policy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1.   Prescription tools of economic policy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876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Production policy (eg. Energy policy, environmental policy),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876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Cost accounting prescription,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876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Labour employment and labour cost policy,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876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Foreign trade policy, customs policies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876"/>
              </a:spcBef>
              <a:buClr>
                <a:srgbClr val="333399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Tools for restricting and supporting entrepreneurs behaviour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876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Regulation </a:t>
            </a:r>
            <a:r>
              <a:rPr b="1" lang="hu-HU" sz="2000" spc="-1" strike="noStrike">
                <a:solidFill>
                  <a:srgbClr val="333399"/>
                </a:solidFill>
                <a:latin typeface="Tahoma"/>
              </a:rPr>
              <a:t>of</a:t>
            </a: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 system behaviour, Taxing policies,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876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Competition rules and fusion control,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876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State budget policies (agricultural supports (40 %), structural and cohesion funds, regional policies,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876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Currency exchange, credit policies, (partly belong to the competence of the ECB),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876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Development and information policies (European projects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3.   Tools for harmonizing the behaviour of economic partners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LICY OF COMMERCE IN THE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Tahoma"/>
              </a:rPr>
              <a:t>The Policy of Commerce in the EU</a:t>
            </a: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Tahoma"/>
              </a:rPr>
              <a:t>1.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</a:rPr>
              <a:t>Support of the common market development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buClr>
                <a:srgbClr val="99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</a:rPr>
              <a:t>Decrease and cancel of internal customs,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buClr>
                <a:srgbClr val="99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</a:rPr>
              <a:t>Build up a common customs system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buClr>
                <a:srgbClr val="99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</a:rPr>
              <a:t>Import quota for certain goods (steel, textile etc.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buClr>
                <a:srgbClr val="99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</a:rPr>
              <a:t>Customs preference treaties with developing countries 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99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</a:rPr>
              <a:t>Decrease of foreign trade barriers in the GATT and in the WTO rounds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buClr>
                <a:srgbClr val="99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</a:rPr>
              <a:t>Interests of EU against USA, Japan, China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1001"/>
              </a:spcBef>
              <a:buClr>
                <a:srgbClr val="99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</a:rPr>
              <a:t>Regulating service, capital and labour flow through the borders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99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</a:rPr>
              <a:t>Improving the competitiveness of the EU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001"/>
              </a:spcBef>
              <a:buClr>
                <a:srgbClr val="99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</a:rPr>
              <a:t>Increasing the European integration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324000" y="4723920"/>
            <a:ext cx="864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e103"/>
                </a:solidFill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7:32:23Z</dcterms:created>
  <dc:creator>Gaál Bence</dc:creator>
  <dc:description/>
  <dc:language>en-US</dc:language>
  <cp:lastModifiedBy> bgf-kvifk</cp:lastModifiedBy>
  <dcterms:modified xsi:type="dcterms:W3CDTF">2007-11-12T22:06:41Z</dcterms:modified>
  <cp:revision>112</cp:revision>
  <dc:subject/>
  <dc:title>A kereskedelem szerepe a nemzetgazdaságban</dc:title>
</cp:coreProperties>
</file>