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0C4C-B5C2-4375-B277-03674AD4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423-9716-4D83-8372-F2588FC0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631-EC72-4966-997A-44E261A7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A4CA-42F1-4FC4-9BB6-5A1CB04D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31CB-8336-42C5-A610-6A04670F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464B-529E-4C66-820B-39F51B7E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7E36-4696-4BA5-AA9C-C78B057E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6E90-1103-4381-890C-76E49186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9C47-DBB4-482C-89E9-AE89D3B4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4421-719E-4E54-BDB1-87985154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B7D9-19BD-42A2-B5D9-4B3D9E6C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6B2-EB74-4796-AF51-405546B3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1C86-1250-4C81-9F80-132D2375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034C-DDB8-4A2B-9952-3FC18588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16CA-AC9B-40C8-93A2-9F436064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328D-2D34-493C-9780-08BA5C7D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2EFD-984E-4CB7-8CE1-BCE0DB62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1B013-26CC-4FFF-B492-727497A9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74ED0-5192-4ABB-A23C-9C817170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7084B-7F00-4A7C-BD34-8705A305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E4FFA-2CAF-49B1-A054-67B647CB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DDC19-0141-42AD-BEE8-1CC926CD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375-280C-4784-8B2A-84F63686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93C65-C93D-4EEA-BF44-C2D59DDA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76AC2-D6D9-452A-8F1E-AF4996F5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38C1D-CA16-4C15-B3E5-66C3E683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20F81-9E4B-4E90-853E-8326EC0B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1C516-F909-4FCD-A073-5BBA94FD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3B52A-B2C9-4CD1-B18F-E9BF5AD5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C327F-8F4A-4AAE-A2FD-533104F2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977BF-5A64-4E3D-B975-5FC8FF20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FB8B6-E798-4EA0-8C88-D9081B95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6003C-7BCB-449F-A65B-41C58720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9786-5858-4956-BB87-FF7CD8DA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168BE-B049-4BC4-AEA4-7138C230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17962-DB51-48DF-A004-7FD76537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4521A-706B-4F24-A651-6729859F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26A31-B0BB-494D-96D7-E5D16291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A403A-5AA4-4514-A4C7-9A40B9A9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2EEE6-5442-4CB2-8B5D-83207D6D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D3A8E-6264-411E-BCAB-9F1342AD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0D355-8194-4E2A-9246-6DD2AFFE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CA08F-A627-4747-B29C-6CA84496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196C6-7515-4ECB-8877-9868C585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D5C-7B65-4E58-BB32-4D7D041A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561A7-48FF-46AF-9DD3-006DBB92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BFD39-C821-4149-BB08-1A161A38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57E3D-ED68-4C4A-8931-C74FED9C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96037-7A23-45EC-B1BE-E14BA55F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072DF-734C-4A7F-8493-FE168AC0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86C81-888E-4762-ABCF-5E7EBFCB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FA38D-CCD1-4753-A7B0-BF0F4084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FE4FC-D417-48D6-AFD2-69C2EEB2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83C68-9611-43D8-9213-957796CF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741AA-464E-4999-8EE1-B597AC51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265-0299-4C71-9CED-9CD2C7F3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C53F1-5FF9-4148-8EE4-C7B1EB9F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E0A-C4D5-4FD8-9F6F-99AACAB5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85C-B987-437A-9B74-0039286A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CC7-7760-410D-8616-72DEAB2C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ED3C-1F41-4649-8188-5402EF3CBD8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D763-68E8-42F9-9C52-62BF124E2C0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6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6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7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485B-3292-467A-B1ED-723F9239104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4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4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4801-D660-4635-9A18-D996302ACE9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8D00-4428-4B09-AC37-02379381F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u-HU" sz="44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en-GB" sz="3800" spc="-1" strike="noStrike">
                <a:solidFill>
                  <a:srgbClr val="800080"/>
                </a:solidFill>
                <a:latin typeface="Tahoma"/>
              </a:rPr>
              <a:t>Inventory Management of the Retail and Wholesale Companies</a:t>
            </a:r>
            <a:r>
              <a:rPr b="1" lang="hu-HU" sz="4400" spc="-1" strike="noStrike">
                <a:solidFill>
                  <a:srgbClr val="800080"/>
                </a:solidFill>
                <a:latin typeface="Tahoma"/>
              </a:rPr>
              <a:t> </a:t>
            </a:r>
            <a:br>
              <a:rPr sz="4400"/>
            </a:br>
            <a:br>
              <a:rPr sz="3400"/>
            </a:br>
            <a:br>
              <a:rPr sz="3100"/>
            </a:br>
            <a:r>
              <a:rPr b="1" i="1" lang="en-GB" sz="3800" spc="-1" strike="noStrike">
                <a:solidFill>
                  <a:srgbClr val="990000"/>
                </a:solidFill>
                <a:latin typeface="Times New Roman"/>
              </a:rPr>
              <a:t>Mr. </a:t>
            </a:r>
            <a:r>
              <a:rPr b="1" i="1" lang="hu-HU" sz="3800" spc="-1" strike="noStrike">
                <a:solidFill>
                  <a:srgbClr val="990000"/>
                </a:solidFill>
                <a:latin typeface="Times New Roman"/>
              </a:rPr>
              <a:t>Csaba Sólyom</a:t>
            </a:r>
            <a:br>
              <a:rPr sz="3800"/>
            </a:br>
            <a:r>
              <a:rPr b="0" lang="en-GB" sz="1500" spc="-1" strike="noStrike">
                <a:solidFill>
                  <a:srgbClr val="990000"/>
                </a:solidFill>
                <a:latin typeface="Tahoma"/>
              </a:rPr>
              <a:t>senior lecturer </a:t>
            </a:r>
            <a:br>
              <a:rPr sz="1500"/>
            </a:br>
            <a:r>
              <a:rPr b="0" lang="en-GB" sz="1500" spc="-1" strike="noStrike">
                <a:solidFill>
                  <a:srgbClr val="990000"/>
                </a:solidFill>
                <a:latin typeface="Tahoma"/>
              </a:rPr>
              <a:t>BBS-FCCT Institute of Commerce</a:t>
            </a:r>
            <a:br>
              <a:rPr sz="1500"/>
            </a:br>
            <a:r>
              <a:rPr b="0" lang="en-GB" sz="1500" spc="-1" strike="noStrike">
                <a:solidFill>
                  <a:srgbClr val="990000"/>
                </a:solidFill>
                <a:latin typeface="Tahoma"/>
              </a:rPr>
              <a:t>awarded by the French </a:t>
            </a:r>
            <a:r>
              <a:rPr b="0" lang="fr-FR" sz="1500" spc="-1" strike="noStrike">
                <a:solidFill>
                  <a:srgbClr val="990000"/>
                </a:solidFill>
                <a:latin typeface="Tahoma"/>
              </a:rPr>
              <a:t>„l’ Ordre des Palmes Académiques”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en-GB" sz="2200" spc="-1" strike="noStrike">
                <a:solidFill>
                  <a:srgbClr val="990000"/>
                </a:solidFill>
                <a:latin typeface="Tahoma"/>
              </a:rPr>
              <a:t>Budapest, November, 2007.</a:t>
            </a:r>
            <a:r>
              <a:rPr b="1" lang="hu-HU" sz="22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49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Stockturn frequencies and days in the German food retail sector 2004-2005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08000" y="1557360"/>
          <a:ext cx="8856720" cy="4600440"/>
        </p:xfrm>
        <a:graphic>
          <a:graphicData uri="http://schemas.openxmlformats.org/drawingml/2006/table">
            <a:tbl>
              <a:tblPr/>
              <a:tblGrid>
                <a:gridCol w="3959280"/>
                <a:gridCol w="1728720"/>
                <a:gridCol w="1584360"/>
                <a:gridCol w="1584360"/>
              </a:tblGrid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Figures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Self service shops under 400 sqm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Supermarket above 400 sqm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Discount shops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751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verage sales value ( €)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 290 00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3 813 00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 714 00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751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verage shop</a:t>
                      </a: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-</a:t>
                      </a: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floor in sqm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988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558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751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Sales value on 1 sqm ( € / sqm</a:t>
                      </a:r>
                      <a:r>
                        <a:rPr b="1" lang="en-GB" sz="2000" spc="-1" strike="noStrike" baseline="30000">
                          <a:solidFill>
                            <a:srgbClr val="000099"/>
                          </a:solidFill>
                          <a:latin typeface="Arial Narrow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4 188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3 948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4 86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751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Building costs and hiring fees in the percentage of sales valu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7,2 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7,2 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4,6 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751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Average stockturn frequencie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12,4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26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751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verage stockturn day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36,5 = 37 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9,4 = 30 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3,8 = 14 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751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verage inventory value (€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29 00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307 50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75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02 41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324000" y="4797360"/>
            <a:ext cx="864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e103"/>
                </a:solidFill>
                <a:latin typeface="Times New Roman"/>
              </a:rPr>
              <a:t>Thanks for your attention!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404640"/>
            <a:ext cx="914400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Basics of Inventory Control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spcAft>
                <a:spcPts val="150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The definition of stocks and their role in Commerce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spcAft>
                <a:spcPts val="150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Inventory control has to overcome geographical and time differences of production and consumption,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spcAft>
                <a:spcPts val="150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Aspects of inventory control: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Stocks should be high for satisfying marketing aspects (assortment of goods should be wide and deep)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Stocks should be low to minimize capital needs,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150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Stocks should be low for minimizing stockholding costs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spcAft>
                <a:spcPts val="150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Grouping of stocks and its possibilities: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On stock size: 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minimal, maximum, security stocks,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On stock movements: c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urrent,  incurrent, moving and not moving stocks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150"/>
              </a:spcAft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On stock ownership: 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own stock, foreign stock, consignation warehouse</a:t>
            </a: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10000"/>
              </a:lnSpc>
              <a:spcBef>
                <a:spcPts val="1225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Recording and Measuring Inventories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1049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Measuring stocks – inventory at date, average inventory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876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Taking an inventory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876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Computerized inventory record and control systems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876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What is the average inventory value, and how to calculate it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388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1049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Methods of calculating the inventory value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876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Systems using accounting prices – booking price differences between actual purchase price and accounting price of goods, advantages and disadvantages of this tools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876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Systems using moving average prices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876"/>
              </a:spcBef>
              <a:spcAft>
                <a:spcPts val="125"/>
              </a:spcAft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The principle of this system, and the way how it works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876"/>
              </a:spcBef>
              <a:spcAft>
                <a:spcPts val="125"/>
              </a:spcAft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Technical requirements to be fulfilled for the successful running of this system – online data processing of purchase invoices, and attached transport and other costs and sales transactions parallel to physical goods turnover,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Inventory analysis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BC analysis of inventory value for articles evaluation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Definition of stockturn frequency and stockturn days: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 Narrow"/>
              </a:rPr>
              <a:t>Calculation of stockturn frequency or stockturn days for article groups or shops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 Narrow"/>
              </a:rPr>
              <a:t>Overcoming the different pricing in sales value and inventory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Factors influencing the stockturn frequency on the firm level: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 Narrow"/>
              </a:rPr>
              <a:t>The sales value determined by volume and prices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 Narrow"/>
              </a:rPr>
              <a:t>The structure of sales turnover – the share of slow and fast moving articles within the sales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 Narrow"/>
              </a:rPr>
              <a:t>The implemented inventory control and article reorder policy of the firm =&gt; average stock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dvantages, threads and conditions for fast stockturn frequency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Stockholding efficiency</a:t>
            </a:r>
            <a:r>
              <a:rPr b="1" lang="hu-H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sales value / average inventory value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Stockholding reaction in % =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(inventory difference / sales value difference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Elasticity of inventory =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percentage change in inventory / percentage change in net sales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225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Inventory costs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Stockholding costs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Stock handling costs (handling of goods, transport, costs of warehouse operations like commissioning,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Losses in logistic processes 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Maintenance costs of warehouses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Warehouse hiring fees,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dministration costs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Stock-out costs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dditional purchase costs because of stock-outs,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Losses because of missing sales turnover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225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Financing Inventories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99"/>
                </a:solidFill>
                <a:latin typeface="Tahoma"/>
              </a:rPr>
              <a:t>What is inventory financing, and what kind of costs are related to it</a:t>
            </a:r>
            <a:endParaRPr b="0" lang="en-US" sz="22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99"/>
                </a:solidFill>
                <a:latin typeface="Tahoma"/>
              </a:rPr>
              <a:t>Possibilities for covering inventory financing problems</a:t>
            </a:r>
            <a:endParaRPr b="0" lang="en-US" sz="22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99"/>
                </a:solidFill>
                <a:latin typeface="Tahoma"/>
              </a:rPr>
              <a:t>Merchandizing firm should contribute financing stocks </a:t>
            </a:r>
            <a:endParaRPr b="0" lang="en-US" sz="19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GB" sz="1900" spc="-1" strike="noStrike">
                <a:solidFill>
                  <a:srgbClr val="000099"/>
                </a:solidFill>
                <a:latin typeface="Tahoma"/>
              </a:rPr>
              <a:t>–</a:t>
            </a:r>
            <a:r>
              <a:rPr b="1" lang="en-GB" sz="1900" spc="-1" strike="noStrike">
                <a:solidFill>
                  <a:srgbClr val="000099"/>
                </a:solidFill>
                <a:latin typeface="Tahoma"/>
              </a:rPr>
              <a:t>&gt; trading firm finance the purchase of goods merchandized, </a:t>
            </a:r>
            <a:endParaRPr b="0" lang="en-US" sz="19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99"/>
                </a:solidFill>
                <a:latin typeface="Tahoma"/>
              </a:rPr>
              <a:t>Co-financing of purchases by the supplier </a:t>
            </a:r>
            <a:endParaRPr b="0" lang="en-US" sz="19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GB" sz="1900" spc="-1" strike="noStrike">
                <a:solidFill>
                  <a:srgbClr val="000099"/>
                </a:solidFill>
                <a:latin typeface="Tahoma"/>
              </a:rPr>
              <a:t>-&gt; up to the terms of payment deadline set by the supplier,  manufacturer and/or supplier should finance inventories or contribute to their financing.  </a:t>
            </a:r>
            <a:endParaRPr b="0" lang="en-US" sz="19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99"/>
                </a:solidFill>
                <a:latin typeface="Tahoma"/>
              </a:rPr>
              <a:t>Customer co-financing </a:t>
            </a:r>
            <a:endParaRPr b="0" lang="en-US" sz="19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GB" sz="1900" spc="-1" strike="noStrike">
                <a:solidFill>
                  <a:srgbClr val="000099"/>
                </a:solidFill>
                <a:latin typeface="Tahoma"/>
              </a:rPr>
              <a:t>-&gt; some part of delivery value will be paid by the customer in advance</a:t>
            </a:r>
            <a:endParaRPr b="0" lang="en-US" sz="19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GB" sz="1900" spc="-1" strike="noStrike">
                <a:solidFill>
                  <a:srgbClr val="000099"/>
                </a:solidFill>
                <a:latin typeface="Tahoma"/>
              </a:rPr>
              <a:t>-&gt; obligations of trading entreprises putting a certain capital into inventories. Capital investment duties fo merchandizing firms will decrease.</a:t>
            </a:r>
            <a:endParaRPr b="0" lang="en-US" sz="19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876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Inventory reordering policies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Fixed reorder times with optimized reorder quantity (t, T);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-&gt; this system can be applied only if sales are stable, don’t increase or decrease, and the optimal reorder quantity is important,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Fix reorder times with stockpiling to S value (t, S); 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-&gt; flexibility is given by variable reorder quantity,  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Reordering if inventory reach the s level, reorder quantity is fixed and optimized  (s, T);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-&gt; the variety of s inventory level ensures flexibility of this policy with optimal reorder quantity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Reordering if inventory reach the s level but the reorder quantity is S-s as inventory will be filled up to S (s, S)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-&gt; this policy is flexible in time and quantity, and is the most frequently used policy in the praxis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10000"/>
              </a:lnSpc>
              <a:spcBef>
                <a:spcPts val="1225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Inventory planning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1100"/>
              </a:spcBef>
              <a:spcAft>
                <a:spcPts val="139"/>
              </a:spcAft>
              <a:buClr>
                <a:srgbClr val="000099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99"/>
                </a:solidFill>
                <a:latin typeface="Arial Narrow"/>
              </a:rPr>
              <a:t>First the average inventory requirement is planned from sales volume, and structure and using the stockturn frequency data from the previous period. This value will be further refined. </a:t>
            </a:r>
            <a:endParaRPr b="0" lang="en-US" sz="22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1100"/>
              </a:spcBef>
              <a:spcAft>
                <a:spcPts val="139"/>
              </a:spcAft>
              <a:buClr>
                <a:srgbClr val="000099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99"/>
                </a:solidFill>
                <a:latin typeface="Arial Narrow"/>
              </a:rPr>
              <a:t>On the basis of purchase information the inventory reordering policies will be checked and its parameters modified if necessary. These modifications are necessary if stock-outs occurred too frequently or the inventory level was too high. </a:t>
            </a:r>
            <a:endParaRPr b="0" lang="en-US" sz="2200" spc="-1" strike="noStrike">
              <a:solidFill>
                <a:srgbClr val="006699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1100"/>
              </a:spcBef>
              <a:spcAft>
                <a:spcPts val="139"/>
              </a:spcAft>
              <a:buClr>
                <a:srgbClr val="000099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99"/>
                </a:solidFill>
                <a:latin typeface="Arial Narrow"/>
              </a:rPr>
              <a:t>We have to calculate the consequences of the modified parameters on:</a:t>
            </a:r>
            <a:endParaRPr b="0" lang="en-US" sz="22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Average stock</a:t>
            </a:r>
            <a:r>
              <a:rPr b="1" lang="hu-HU" sz="2000" spc="-1" strike="noStrike">
                <a:solidFill>
                  <a:srgbClr val="000099"/>
                </a:solidFill>
                <a:latin typeface="Arial Narrow"/>
              </a:rPr>
              <a:t>t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urn frequency and average stockturn days,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Using the modified stockturn frequencies the new average inventories will be calculated,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spcAft>
                <a:spcPts val="125"/>
              </a:spcAft>
              <a:buClr>
                <a:srgbClr val="000099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An investigation on necessary capital bounded in inventories should be made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VENTORY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225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30920" y="1140480"/>
            <a:ext cx="8281800" cy="5362560"/>
            <a:chOff x="430920" y="1140480"/>
            <a:chExt cx="8281800" cy="5362560"/>
          </a:xfrm>
        </p:grpSpPr>
        <p:sp>
          <p:nvSpPr>
            <p:cNvPr id="576" name=""/>
            <p:cNvSpPr/>
            <p:nvPr/>
          </p:nvSpPr>
          <p:spPr>
            <a:xfrm>
              <a:off x="430920" y="1377360"/>
              <a:ext cx="720" cy="457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30920" y="3585240"/>
              <a:ext cx="8143560" cy="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920" y="2481120"/>
              <a:ext cx="4968720" cy="72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400000" y="1377360"/>
              <a:ext cx="720" cy="22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639520" y="3585240"/>
              <a:ext cx="720" cy="236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0920" y="4531680"/>
              <a:ext cx="2208240" cy="7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22600" y="1929240"/>
              <a:ext cx="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574840" y="1219680"/>
              <a:ext cx="720" cy="47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39520" y="5478120"/>
              <a:ext cx="5934960" cy="72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00000" y="2481120"/>
              <a:ext cx="2622240" cy="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022600" y="2481120"/>
              <a:ext cx="551880" cy="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30920" y="1140480"/>
              <a:ext cx="151740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660066"/>
                  </a:solidFill>
                  <a:latin typeface="Tahoma"/>
                </a:rPr>
                <a:t>Goods inflow</a:t>
              </a:r>
              <a:endParaRPr b="0" lang="en-US" sz="15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6320" y="2639160"/>
              <a:ext cx="441684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Tahoma"/>
                </a:rPr>
                <a:t>Average stockturn days</a:t>
              </a:r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742920" y="1140480"/>
              <a:ext cx="165708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660066"/>
                  </a:solidFill>
                  <a:latin typeface="Tahoma"/>
                </a:rPr>
                <a:t>Goods sold</a:t>
              </a:r>
              <a:endParaRPr b="0" lang="en-US" sz="15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540760" y="2639160"/>
              <a:ext cx="2346120" cy="78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Average terms of payment given to customers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17400" y="1180080"/>
              <a:ext cx="165708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660066"/>
                  </a:solidFill>
                  <a:latin typeface="Tahoma"/>
                </a:rPr>
                <a:t>Cash inflow</a:t>
              </a:r>
              <a:endParaRPr b="0" lang="en-US" sz="15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69160" y="4689360"/>
              <a:ext cx="193212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Tahoma"/>
                </a:rPr>
                <a:t>Terms of payment given by supplier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329640" y="4847040"/>
              <a:ext cx="455472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Tahoma"/>
                </a:rPr>
                <a:t>Average time of cash bounded in inventory (cash cycle)</a:t>
              </a:r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69160" y="3742920"/>
              <a:ext cx="69012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6699"/>
                  </a:solidFill>
                  <a:latin typeface="Tahoma"/>
                </a:rPr>
                <a:t>0 day</a:t>
              </a: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77400" y="3821760"/>
              <a:ext cx="565884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6699"/>
                  </a:solidFill>
                  <a:latin typeface="Tahoma"/>
                </a:rPr>
                <a:t>A nap                                       B nap                                                  C nap</a:t>
              </a: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501640" y="6030000"/>
              <a:ext cx="621108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8000"/>
                  </a:solidFill>
                  <a:latin typeface="Tahoma"/>
                </a:rPr>
                <a:t>Cash outflow                                                         Cash inflow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0" y="52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Goods- and Capital-stockturn Relationships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7:32:23Z</dcterms:created>
  <dc:creator>Gaál Bence</dc:creator>
  <dc:description/>
  <dc:language>en-US</dc:language>
  <cp:lastModifiedBy> bgf-kvifk</cp:lastModifiedBy>
  <dcterms:modified xsi:type="dcterms:W3CDTF">2007-12-10T13:17:47Z</dcterms:modified>
  <cp:revision>107</cp:revision>
  <dc:subject/>
  <dc:title>A kereskedelem szerepe a nemzetgazdaságban</dc:title>
</cp:coreProperties>
</file>