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6084-10D3-46C2-9034-43E11654E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0B7E-08A7-49E9-A000-62F833400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FC96-FECD-48A3-8958-59D82F78D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A430-7784-4CAC-B8FD-B8235C896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EBF0E-EEF2-4496-98E9-EEB865CEF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25827-7088-4176-BACD-E883EDC78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D8EE0-C928-4003-AF6C-8483668F7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A7DBB-B6D8-4A16-8851-C2DB03743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9E326-D7D9-41CA-AEFB-AC24C1F82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1901A-F74D-4DB8-8EDE-2D91AD3F8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22964-0866-43D9-888B-B02DB18C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9E3A-50E7-46D4-9E66-174C6AB93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C816E-B3CF-45A7-9B66-47BD1B93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66D49-D6AA-48E0-9DD7-50864ADD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F8296-546E-42DB-A2DC-86D67ACA8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8C294-1AE5-4CDC-B53B-F02EBAAAD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4C88C-2331-415B-82E4-AA848A2AE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DD261-6601-485C-84A3-402382A24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814BC-C8BA-43F5-BC42-345337B7F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A238B-0CF7-445C-90D6-703588FE3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5B1DD-EB21-4720-A5FD-4957721F1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D8689-B006-4EF7-879B-194E8B4F9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22D7-864E-43FF-BBD7-1690D0805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FC434-14B4-4B91-8801-E49AB2A42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68FB4-7C03-4FE8-8F5A-D84346F1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A7DB9-B7D7-4FC9-9A55-68A949E0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79148-81A5-4F64-9730-134C3A04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06489-04EA-442C-97A3-895F079B8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CF72D-80DB-4B2A-8889-EDF82B4EA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16F19-D6FA-49DF-82CB-9B3C7D1C9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B492-8460-49D1-9C42-5D444CC94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32E1-D118-4A82-953B-A05F6225D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F2E0-8517-45E6-AF65-1F3BB1D42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0CA2-5438-4AC7-B19E-9EB993AC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EDA6-8D65-457C-BA21-C21C113F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46D4-9E67-4C23-8638-20677B8C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AD407-0B2B-4410-A98D-27293D95D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42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3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6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9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52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56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57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9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60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63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5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8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69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1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72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4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75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7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78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0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3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6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17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9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1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4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25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7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28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0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3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6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37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9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40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2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43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5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1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52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54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41581-1A42-44F4-8BAD-CA6B206D187F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218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19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222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23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27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28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3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34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6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37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2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43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5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46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4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85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7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88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90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92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93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5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96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8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99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1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02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3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4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05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6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7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08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0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11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2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3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14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6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17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9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20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2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23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4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325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326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34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35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336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3B47-E402-43DA-A5CF-DCBCE82CA7DC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br>
              <a:rPr sz="4100"/>
            </a:br>
            <a:r>
              <a:rPr b="0" lang="hu-HU" sz="4100" spc="-1" strike="noStrike">
                <a:solidFill>
                  <a:srgbClr val="800080"/>
                </a:solidFill>
                <a:latin typeface="Tahoma"/>
              </a:rPr>
              <a:t> </a:t>
            </a:r>
            <a:r>
              <a:rPr b="1" lang="en-GB" sz="4200" spc="-1" strike="noStrike">
                <a:solidFill>
                  <a:srgbClr val="800080"/>
                </a:solidFill>
                <a:latin typeface="Tahoma"/>
              </a:rPr>
              <a:t>Pricing and Price Policies in Commerce</a:t>
            </a:r>
            <a:r>
              <a:rPr b="0" lang="hu-HU" sz="4100" spc="-1" strike="noStrike">
                <a:solidFill>
                  <a:srgbClr val="800080"/>
                </a:solidFill>
                <a:latin typeface="Tahoma"/>
              </a:rPr>
              <a:t> </a:t>
            </a:r>
            <a:br>
              <a:rPr sz="4100"/>
            </a:br>
            <a:br>
              <a:rPr sz="3200"/>
            </a:br>
            <a:br>
              <a:rPr sz="2900"/>
            </a:br>
            <a:r>
              <a:rPr b="0" i="1" lang="en-GB" sz="3500" spc="-1" strike="noStrike">
                <a:solidFill>
                  <a:srgbClr val="990000"/>
                </a:solidFill>
                <a:latin typeface="Times New Roman"/>
              </a:rPr>
              <a:t>Mr. Csaba Sólyom</a:t>
            </a:r>
            <a:br>
              <a:rPr sz="3500"/>
            </a:br>
            <a:r>
              <a:rPr b="1" lang="en-GB" sz="1400" spc="-1" strike="noStrike">
                <a:solidFill>
                  <a:srgbClr val="990000"/>
                </a:solidFill>
                <a:latin typeface="Tahoma"/>
              </a:rPr>
              <a:t>senior lecturer </a:t>
            </a:r>
            <a:br>
              <a:rPr sz="1400"/>
            </a:br>
            <a:r>
              <a:rPr b="1" lang="en-GB" sz="1400" spc="-1" strike="noStrike">
                <a:solidFill>
                  <a:srgbClr val="990000"/>
                </a:solidFill>
                <a:latin typeface="Tahoma"/>
              </a:rPr>
              <a:t>BBS-FCCT Institute of Commerce</a:t>
            </a:r>
            <a:br>
              <a:rPr sz="1400"/>
            </a:br>
            <a:r>
              <a:rPr b="1" lang="en-GB" sz="1400" spc="-1" strike="noStrike">
                <a:solidFill>
                  <a:srgbClr val="990000"/>
                </a:solidFill>
                <a:latin typeface="Tahoma"/>
              </a:rPr>
              <a:t>awarded by the French </a:t>
            </a:r>
            <a:r>
              <a:rPr b="1" lang="fr-FR" sz="1400" spc="-1" strike="noStrike">
                <a:solidFill>
                  <a:srgbClr val="990000"/>
                </a:solidFill>
                <a:latin typeface="Tahoma"/>
              </a:rPr>
              <a:t>„l’ Ordre des Palmes Académiques”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GB" sz="2000" spc="-1" strike="noStrike">
                <a:solidFill>
                  <a:srgbClr val="990000"/>
                </a:solidFill>
                <a:latin typeface="Tahoma"/>
              </a:rPr>
              <a:t>Budapest, November, 2007.</a:t>
            </a:r>
            <a:r>
              <a:rPr b="0" lang="hu-HU" sz="2000" spc="-1" strike="noStrike">
                <a:solidFill>
                  <a:srgbClr val="99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EVKSZVG-ÁRPOLITIK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9280" y="642240"/>
            <a:ext cx="8713800" cy="57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76320" bIns="0" anchor="ctr">
            <a:spAutoFit/>
          </a:bodyPr>
          <a:p>
            <a:pPr marL="457200" indent="-457200">
              <a:lnSpc>
                <a:spcPct val="110000"/>
              </a:lnSpc>
              <a:spcBef>
                <a:spcPts val="1400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Tahoma"/>
              </a:rPr>
              <a:t>A termékszintű árpolit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A haszonkulcs fogalma:</a:t>
            </a: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 alulról ill. felülről számított haszonkulc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A haszonkulcs nagyságát meghatározó tényező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1001"/>
              </a:spcBef>
              <a:buClr>
                <a:srgbClr val="000099"/>
              </a:buClr>
              <a:buFont typeface="Tahoma"/>
              <a:buChar char="•"/>
              <a:tabLst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Árucikk jellemző tulajdonsá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1001"/>
              </a:spcBef>
              <a:buClr>
                <a:srgbClr val="000099"/>
              </a:buClr>
              <a:buFont typeface="Tahoma"/>
              <a:buChar char="•"/>
              <a:tabLst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Forgalmazási lánc hoss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1001"/>
              </a:spcBef>
              <a:buClr>
                <a:srgbClr val="000099"/>
              </a:buClr>
              <a:buFont typeface="Tahoma"/>
              <a:buChar char="•"/>
              <a:tabLst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Ráfordítások (élőmunka, ért. költsége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1001"/>
              </a:spcBef>
              <a:buClr>
                <a:srgbClr val="000099"/>
              </a:buClr>
              <a:buFont typeface="Tahoma"/>
              <a:buChar char="•"/>
              <a:tabLst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Raktározási költség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1001"/>
              </a:spcBef>
              <a:buClr>
                <a:srgbClr val="000099"/>
              </a:buClr>
              <a:buFont typeface="Tahoma"/>
              <a:buChar char="•"/>
              <a:tabLst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Forgási sebessé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1001"/>
              </a:spcBef>
              <a:buClr>
                <a:srgbClr val="000099"/>
              </a:buClr>
              <a:buFont typeface="Tahoma"/>
              <a:buChar char="•"/>
              <a:tabLst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Forgalmazott áru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1001"/>
              </a:spcBef>
              <a:buClr>
                <a:srgbClr val="000099"/>
              </a:buClr>
              <a:buFont typeface="Tahoma"/>
              <a:buChar char="•"/>
              <a:tabLst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Üzlet helye, profil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EVKSZVG-ÁRPOLITIK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467640"/>
            <a:ext cx="9144000" cy="63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76320" bIns="0" anchor="ctr">
            <a:spAutoFit/>
          </a:bodyPr>
          <a:p>
            <a:pPr marL="457200" indent="-45720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Árak az áru piaci életútjának függvényében,</a:t>
            </a: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5000"/>
              </a:lnSpc>
              <a:spcBef>
                <a:spcPts val="751"/>
              </a:spcBef>
              <a:buClr>
                <a:srgbClr val="000099"/>
              </a:buClr>
              <a:buFont typeface="Tahoma"/>
              <a:buChar char="•"/>
              <a:tabLst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Behatoló á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5000"/>
              </a:lnSpc>
              <a:spcBef>
                <a:spcPts val="751"/>
              </a:spcBef>
              <a:buClr>
                <a:srgbClr val="000099"/>
              </a:buClr>
              <a:buFont typeface="Tahoma"/>
              <a:buChar char="•"/>
              <a:tabLst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Lefölöző á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5000"/>
              </a:lnSpc>
              <a:spcBef>
                <a:spcPts val="751"/>
              </a:spcBef>
              <a:buClr>
                <a:srgbClr val="000099"/>
              </a:buClr>
              <a:buFont typeface="Tahoma"/>
              <a:buChar char="•"/>
              <a:tabLst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Árcsökken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5000"/>
              </a:lnSpc>
              <a:spcBef>
                <a:spcPts val="751"/>
              </a:spcBef>
              <a:buClr>
                <a:srgbClr val="000099"/>
              </a:buClr>
              <a:buFont typeface="Tahoma"/>
              <a:buChar char="•"/>
              <a:tabLst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Áremel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Árdöntések a kereslet árrugalmasságának függvényében, engedmény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751"/>
              </a:spcBef>
              <a:buClr>
                <a:srgbClr val="000099"/>
              </a:buClr>
              <a:buFont typeface="Tahoma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Nyílt engedmény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5000"/>
              </a:lnSpc>
              <a:spcBef>
                <a:spcPts val="751"/>
              </a:spcBef>
              <a:buClr>
                <a:srgbClr val="000099"/>
              </a:buClr>
              <a:buFont typeface="Tahoma"/>
              <a:buChar char="•"/>
              <a:tabLst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Viszonteladói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5000"/>
              </a:lnSpc>
              <a:spcBef>
                <a:spcPts val="751"/>
              </a:spcBef>
              <a:buClr>
                <a:srgbClr val="000099"/>
              </a:buClr>
              <a:buFont typeface="Tahoma"/>
              <a:buChar char="•"/>
              <a:tabLst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Mennyiségi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5000"/>
              </a:lnSpc>
              <a:spcBef>
                <a:spcPts val="751"/>
              </a:spcBef>
              <a:buClr>
                <a:srgbClr val="000099"/>
              </a:buClr>
              <a:buFont typeface="Tahoma"/>
              <a:buChar char="•"/>
              <a:tabLst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Szezoná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5000"/>
              </a:lnSpc>
              <a:spcBef>
                <a:spcPts val="751"/>
              </a:spcBef>
              <a:buClr>
                <a:srgbClr val="000099"/>
              </a:buClr>
              <a:buFont typeface="Tahoma"/>
              <a:buChar char="•"/>
              <a:tabLst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Fizeté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751"/>
              </a:spcBef>
              <a:buClr>
                <a:srgbClr val="000099"/>
              </a:buClr>
              <a:buFont typeface="Tahoma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Burkolt engedmény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5000"/>
              </a:lnSpc>
              <a:spcBef>
                <a:spcPts val="751"/>
              </a:spcBef>
              <a:buClr>
                <a:srgbClr val="000099"/>
              </a:buClr>
              <a:buFont typeface="Tahoma"/>
              <a:buChar char="•"/>
              <a:tabLst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Ingyenes mellékszolgáltatás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5000"/>
              </a:lnSpc>
              <a:spcBef>
                <a:spcPts val="751"/>
              </a:spcBef>
              <a:buClr>
                <a:srgbClr val="000099"/>
              </a:buClr>
              <a:buFont typeface="Tahoma"/>
              <a:buChar char="•"/>
              <a:tabLst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Package ár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EVKSZVG-ÁRPOLITIK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481680"/>
            <a:ext cx="9144000" cy="62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76320" bIns="76320" anchor="ctr">
            <a:spAutoFit/>
          </a:bodyPr>
          <a:p>
            <a:pPr>
              <a:lnSpc>
                <a:spcPct val="110000"/>
              </a:lnSpc>
              <a:spcBef>
                <a:spcPts val="1199"/>
              </a:spcBef>
              <a:buClr>
                <a:srgbClr val="000099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Az árengedmények hatása az árréstömeg nagyságára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buClr>
                <a:srgbClr val="000099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Az árengedmények és a hitelka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buClr>
                <a:srgbClr val="000099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Fizetési engedmények és kamatláb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Példa: 2 000 000 Ft-os vásárlás esetén felajánlott 7/10, nettó/30 %-os skontó éves kamatláb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30 – 10 = 20 n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360 / 20 nap = 18 időszak a 360 napos évb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18 időszak x 7 % engedmény = 126 %-os éves kama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E vásárlásnál az árengedmény 2 000 000 x 0,07 = 140 000 Ft. Ha a vevő évi 6 %-os kamatláb mellett vehet fel bankkölcsönt, hogy számláját a skontó  igénybevételével kifizethesse, ez 2 000 000 x 0,06 x 20 / 360 = 6 667 Ft-ba kerül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6 667 Ft  kamatköltség van a pénzügyi műveletek ráfordításai közöt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140 000 Ft-os árengedmény pedig az egyéb bevételek között szerepeltethető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Érdemes kiszámolni az engedmény eredménynövelő, és a hitelkamat ráfordítás egyenlegének hatását döntéshozatal előtt, majd ezt felhasználva dönteni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EVKSZVG-ÁRPOLITIK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654480"/>
            <a:ext cx="9144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76320" bIns="76320" anchor="ctr">
            <a:spAutoFit/>
          </a:bodyPr>
          <a:p>
            <a:pPr marL="457200" indent="-457200">
              <a:lnSpc>
                <a:spcPct val="110000"/>
              </a:lnSpc>
              <a:spcBef>
                <a:spcPts val="901"/>
              </a:spcBef>
              <a:buClr>
                <a:srgbClr val="000099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Részletfizetések - a kamatjövedelem meghatározása</a:t>
            </a: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5000"/>
              </a:lnSpc>
              <a:spcBef>
                <a:spcPts val="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K = 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 Narrow"/>
              </a:rPr>
              <a:t>2  x  R  x 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5000"/>
              </a:lnSpc>
              <a:spcBef>
                <a:spcPts val="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       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Ö * (n + 1)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ahol 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K  = a tényleges éves kamatláb nagyság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R  = az éves részletfizetések száma (pl.: havi=12, kéthatvi=6, negyedéves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V = a kamathozam, amely a vevő részletekben kifizetett törlesztései és a készpénzes eladási ár hitelezett részének (a részletekben törleszthető kölcsön) különbségével egyenlő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Ö = a vevőnek adott kölcsön összege (készpénzes eladási ár mínusz vásárláskor azonnal befizetett összeg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13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n  = a törlesztő befizetések száma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012"/>
              </a:spcBef>
              <a:buClr>
                <a:srgbClr val="000099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Az árleszállítás hatásának mérése</a:t>
            </a: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876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       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 Narrow"/>
              </a:rPr>
              <a:t>Árleszállítás forintban kifejezett abszolút összege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 x 100 = az árleszállítás százalé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                 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Összes eladás forintban kifejezett érté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        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azaz:        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 Narrow"/>
              </a:rPr>
              <a:t>          25000            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 x 100 = 1,7 % árleszállít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                         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(1350000 + 125000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EVKSZVG-ÁRPOLITIK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95280" y="666000"/>
            <a:ext cx="8569440" cy="28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457200" indent="-457200">
              <a:lnSpc>
                <a:spcPct val="11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Az árrés alakításának menedzsment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0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Beszerzési hibá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0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Árképzési hibá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0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Készletezési hibá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0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Promóciós hibá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0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Versenytársak váratlan akció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EVKSZVG-ÁRPOLITIK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0" y="1413000"/>
          <a:ext cx="9144000" cy="4906800"/>
        </p:xfrm>
        <a:graphic>
          <a:graphicData uri="http://schemas.openxmlformats.org/drawingml/2006/table">
            <a:tbl>
              <a:tblPr/>
              <a:tblGrid>
                <a:gridCol w="3492360"/>
                <a:gridCol w="1440000"/>
                <a:gridCol w="1152360"/>
                <a:gridCol w="1511640"/>
                <a:gridCol w="1547640"/>
              </a:tblGrid>
              <a:tr h="106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orgal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változá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lőző év = 100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üze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árréssz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űködé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öltségszin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forgalom %-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Üze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redményszin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forgalom %-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elmiszer kiskereskedel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19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-4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il kiskereskedel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42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-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pő kiskereskedel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3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-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útor kiskereskedel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35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5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öldség-gyümölcs kiskereskedel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3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-0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Óra és ékszer kiskereskedel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44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6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-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önyv kiskereskedel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32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-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4" name=""/>
          <p:cNvSpPr/>
          <p:nvPr/>
        </p:nvSpPr>
        <p:spPr>
          <a:xfrm>
            <a:off x="0" y="5277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 német kiskereskedelem jövedelmezőségi adatai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755640" y="468072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Köszönöm a figyelmet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EVKSZVG-ÁRPOLITIK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10000"/>
              </a:lnSpc>
              <a:spcBef>
                <a:spcPts val="1049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154080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960" rIns="90000" tIns="76320" bIns="76320" anchor="ctr">
            <a:spAutoFit/>
          </a:bodyPr>
          <a:p>
            <a:pPr marL="457200" indent="-45720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99"/>
                </a:solidFill>
                <a:latin typeface="Tahoma"/>
              </a:rPr>
              <a:t>Definition of sales prices,</a:t>
            </a:r>
            <a:r>
              <a:rPr b="1" lang="hu-HU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99"/>
                </a:solidFill>
                <a:latin typeface="Tahoma"/>
              </a:rPr>
              <a:t>T</a:t>
            </a:r>
            <a:r>
              <a:rPr b="1" lang="en-GB" sz="2400" spc="-1" strike="noStrike">
                <a:solidFill>
                  <a:srgbClr val="000099"/>
                </a:solidFill>
                <a:latin typeface="Tahoma"/>
              </a:rPr>
              <a:t>he importance and role of pri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ahoma"/>
              </a:rPr>
              <a:t>Sales price</a:t>
            </a:r>
            <a:r>
              <a:rPr b="1" lang="en-GB" sz="2400" spc="-1" strike="noStrike">
                <a:solidFill>
                  <a:srgbClr val="000099"/>
                </a:solidFill>
                <a:latin typeface="Tahoma"/>
              </a:rPr>
              <a:t> = </a:t>
            </a:r>
            <a:r>
              <a:rPr b="1" lang="en-GB" sz="2000" spc="-1" strike="noStrike">
                <a:solidFill>
                  <a:srgbClr val="000099"/>
                </a:solidFill>
                <a:latin typeface="Tahoma"/>
              </a:rPr>
              <a:t>the price value of goods set for the customer in the invoice (including discounts or additional charges related to the goods delivered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ahoma"/>
              </a:rPr>
              <a:t>Price proposal</a:t>
            </a:r>
            <a:r>
              <a:rPr b="1" lang="en-GB" sz="2400" spc="-1" strike="noStrike">
                <a:solidFill>
                  <a:srgbClr val="000099"/>
                </a:solidFill>
                <a:latin typeface="Tahoma"/>
              </a:rPr>
              <a:t> = A </a:t>
            </a:r>
            <a:r>
              <a:rPr b="1" lang="en-GB" sz="2000" spc="-1" strike="noStrike">
                <a:solidFill>
                  <a:srgbClr val="000099"/>
                </a:solidFill>
                <a:latin typeface="Tahoma"/>
              </a:rPr>
              <a:t>unit price for a certain article included in the offer of a supplier or a limit price in an inquiry of a customer, or a unit price in a catalogue of offered goo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EVKSZVG-ÁRPOLITIK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10000"/>
              </a:lnSpc>
              <a:spcBef>
                <a:spcPts val="1049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799920"/>
            <a:ext cx="9144000" cy="55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960" rIns="90000" tIns="76320" bIns="76320" anchor="ctr">
            <a:spAutoFit/>
          </a:bodyPr>
          <a:p>
            <a:pPr marL="457200" indent="-457200">
              <a:lnSpc>
                <a:spcPct val="110000"/>
              </a:lnSpc>
              <a:spcBef>
                <a:spcPts val="1001"/>
              </a:spcBef>
              <a:buClr>
                <a:srgbClr val="000099"/>
              </a:buClr>
              <a:buFont typeface="Tahoma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99"/>
                </a:solidFill>
                <a:latin typeface="Tahoma"/>
              </a:rPr>
              <a:t>Piaci egyensúlyteremtő szer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001"/>
              </a:spcBef>
              <a:buClr>
                <a:srgbClr val="000099"/>
              </a:buClr>
              <a:buFont typeface="Tahoma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99"/>
                </a:solidFill>
                <a:latin typeface="Tahoma"/>
              </a:rPr>
              <a:t>Információs és orientációs szer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001"/>
              </a:spcBef>
              <a:buClr>
                <a:srgbClr val="000099"/>
              </a:buClr>
              <a:buFont typeface="Tahoma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99"/>
                </a:solidFill>
                <a:latin typeface="Tahoma"/>
              </a:rPr>
              <a:t>Jövedelemdifferenciáló szer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001"/>
              </a:spcBef>
              <a:buClr>
                <a:srgbClr val="000099"/>
              </a:buClr>
              <a:buFont typeface="Tahoma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99"/>
                </a:solidFill>
                <a:latin typeface="Tahoma"/>
              </a:rPr>
              <a:t>Innováció ösztönző szer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99"/>
                </a:solidFill>
                <a:latin typeface="Tahoma"/>
              </a:rPr>
              <a:t>Az árpolitika és a marketing-politika kapcsol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001"/>
              </a:spcBef>
              <a:buClr>
                <a:srgbClr val="000099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99"/>
                </a:solidFill>
                <a:latin typeface="Tahoma"/>
              </a:rPr>
              <a:t>Árpolitika, mint a marketing-politika rész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001"/>
              </a:spcBef>
              <a:buClr>
                <a:srgbClr val="000099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99"/>
                </a:solidFill>
                <a:latin typeface="Tahoma"/>
              </a:rPr>
              <a:t>Az árpolitika, mint a marketing-politika önálló fejeze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001"/>
              </a:spcBef>
              <a:buClr>
                <a:srgbClr val="000099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99"/>
                </a:solidFill>
                <a:latin typeface="Tahoma"/>
              </a:rPr>
              <a:t>Az árpolitika befolyásolja a vállalati szintű árrés-tömeget =&gt; nyereség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001"/>
              </a:spcBef>
              <a:buClr>
                <a:srgbClr val="000099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99"/>
                </a:solidFill>
                <a:latin typeface="Tahoma"/>
              </a:rPr>
              <a:t>Az árpolitika szorosan összefügg a költségszerkezett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001"/>
              </a:spcBef>
              <a:buClr>
                <a:srgbClr val="000099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99"/>
                </a:solidFill>
                <a:latin typeface="Tahoma"/>
              </a:rPr>
              <a:t>Az árpolitika visszahat az árucikkek forgalmazásának értékelésé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EVKSZVG-ÁRPOLITIK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10000"/>
              </a:lnSpc>
              <a:spcBef>
                <a:spcPts val="1049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455760"/>
            <a:ext cx="9144000" cy="62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960" rIns="90000" tIns="76320" bIns="76320" anchor="ctr">
            <a:spAutoFit/>
          </a:bodyPr>
          <a:p>
            <a:pPr marL="457200" indent="-457200" algn="ctr">
              <a:lnSpc>
                <a:spcPct val="110000"/>
              </a:lnSpc>
              <a:spcBef>
                <a:spcPts val="140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A kereskedelmi vállalati árpolitika sajátossága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001"/>
              </a:spcBef>
              <a:buClr>
                <a:srgbClr val="000099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Nagymennyiségű – gyakran több ezerféle – árucikk árát kell kezelni, ezért az árpolitikána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901"/>
              </a:spcBef>
              <a:buClr>
                <a:srgbClr val="000099"/>
              </a:buClr>
              <a:buFont typeface="Tahoma"/>
              <a:buChar char="•"/>
              <a:tabLst>
                <a:tab algn="l" pos="228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áttekinthetőnek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901"/>
              </a:spcBef>
              <a:buClr>
                <a:srgbClr val="000099"/>
              </a:buClr>
              <a:buFont typeface="Tahoma"/>
              <a:buChar char="•"/>
              <a:tabLst>
                <a:tab algn="l" pos="228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rugalmasnak é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1001"/>
              </a:spcBef>
              <a:buClr>
                <a:srgbClr val="000099"/>
              </a:buClr>
              <a:buFont typeface="Tahoma"/>
              <a:buChar char="•"/>
              <a:tabLst>
                <a:tab algn="l" pos="228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az árváltozásokat könnyen, gyorsan kivitelezhetőnek</a:t>
            </a: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228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kell lennie, ezért használnak haszonkulcsokat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001"/>
              </a:spcBef>
              <a:buClr>
                <a:srgbClr val="000099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A forgalmazott árucikk tömeg miatt az árpolitika többszintű =&gt; vállalati szinten a cél az árréstömeg maximuma, ehhez pedig a forgalom árrésszint szerinti összetételének szerepe döntő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001"/>
              </a:spcBef>
              <a:buClr>
                <a:srgbClr val="000099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Figyelembe kell venni, hogy a termelők gyakran a fogyasztói árat is meg akarják határozni, ezért a gyakorlatban kétféle haszonkulcs számítási módszer használato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001"/>
              </a:spcBef>
              <a:buClr>
                <a:srgbClr val="000099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Az árak, az engedmények és a részletfizetés a fogyasztók vásárlás-ösztönzésének kiemelkedő eszközei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EVKSZVG-ÁRPOLITIK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480240"/>
            <a:ext cx="9144000" cy="63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0" anchor="ctr">
            <a:spAutoFit/>
          </a:bodyPr>
          <a:p>
            <a:pPr marL="457200" indent="-457200">
              <a:lnSpc>
                <a:spcPct val="110000"/>
              </a:lnSpc>
              <a:spcBef>
                <a:spcPts val="140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Tahoma"/>
              </a:rPr>
              <a:t>Az árkialakítás/ármagatartás jogi szabály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A versenytörvény tiltj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001"/>
              </a:spcBef>
              <a:buClr>
                <a:srgbClr val="000099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Tisztességtelen versenyeszközök használatát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001"/>
              </a:spcBef>
              <a:buClr>
                <a:srgbClr val="000099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Fogyasztók megtévesztésé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001"/>
              </a:spcBef>
              <a:buClr>
                <a:srgbClr val="000099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Gazdasági erőfölénnyel való visszaélést, árkart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001"/>
              </a:spcBef>
              <a:buClr>
                <a:srgbClr val="000099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Tisztességtelen ár alkalmazásá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Az ártörvény előírj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001"/>
              </a:spcBef>
              <a:buClr>
                <a:srgbClr val="000099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Hatósági árak alkalmazásának lehetőségeit és korlátait, átmeneti árkorlátozások lehetőségé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001"/>
              </a:spcBef>
              <a:buClr>
                <a:srgbClr val="000099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Árfeltüntetés kötelezettségé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001"/>
              </a:spcBef>
              <a:buClr>
                <a:srgbClr val="000099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Áremelés bejelentési kötelezettségé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001"/>
              </a:spcBef>
              <a:buClr>
                <a:srgbClr val="000099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Árképzésben figyelembe vehető és figyelembe nem vehető tényező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001"/>
              </a:spcBef>
              <a:buClr>
                <a:srgbClr val="000099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Árkalkuláció kötelező eleme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EVKSZVG-ÁRPOLITIK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835280" y="475560"/>
            <a:ext cx="54673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  <a:ea typeface="Times New Roman"/>
              </a:rPr>
              <a:t>Importáru árképzési sé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0" y="1197000"/>
          <a:ext cx="9144000" cy="5661000"/>
        </p:xfrm>
        <a:graphic>
          <a:graphicData uri="http://schemas.openxmlformats.org/drawingml/2006/table">
            <a:tbl>
              <a:tblPr/>
              <a:tblGrid>
                <a:gridCol w="5076720"/>
                <a:gridCol w="1511280"/>
                <a:gridCol w="1152720"/>
                <a:gridCol w="1403280"/>
              </a:tblGrid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Kalkulációs tét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Devizaérté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Devi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Forintérté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+ Deviza vételá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1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D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100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+ Devizában felmerült fuvarköltség Ft érték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1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D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10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+ Egyéb devizában felmerült költség Ft érté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1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D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1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= Határparitásos á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1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D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12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+ Vám, vámpótlék 8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96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+ Vámkezelési illeték 2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24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+ Statisztikai illeték 3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36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+ Importengedélyezési illeték 1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12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+ Külkereskedelmi árrés vagy bizományosi dí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2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= Import bekerülési á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1568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+ ÁFA 2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392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= Nagykereskedő által fizetendő össze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196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EVKSZVG-ÁRPOLITIK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0" y="907920"/>
          <a:ext cx="9144000" cy="5854680"/>
        </p:xfrm>
        <a:graphic>
          <a:graphicData uri="http://schemas.openxmlformats.org/drawingml/2006/table">
            <a:tbl>
              <a:tblPr/>
              <a:tblGrid>
                <a:gridCol w="4948200"/>
                <a:gridCol w="1498680"/>
                <a:gridCol w="1347840"/>
                <a:gridCol w="1349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Kalkulációs tét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Termel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Nagykeresked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Kiskeresked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+ Termelői á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0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+ Környezetvédelmi termékdíj F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5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+ Jövedéki adó 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= Nagykereskedelmi nettó beszerzési á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15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15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+ ÁFA 25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87,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= Nagykereskedelmi bruttó beszerzési á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437,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+ Nagykereskedelmi árr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= Nagykereskedelmi nettó eladási á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45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45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+ ÁFA 25 %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62,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= Nagykereskedelmi bruttó eladási á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812,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+ Kiskereskedelmi árr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= Nettó fogyasztói á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05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+ ÁFA 2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512,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= Fogyasztói á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562,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7" name=""/>
          <p:cNvSpPr/>
          <p:nvPr/>
        </p:nvSpPr>
        <p:spPr>
          <a:xfrm>
            <a:off x="1835280" y="4021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Belföldi áru árképzési sé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EVKSZVG-ÁRPOLITIK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0" y="305640"/>
            <a:ext cx="9144000" cy="62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76320" bIns="0" anchor="ctr">
            <a:spAutoFit/>
          </a:bodyPr>
          <a:p>
            <a:pPr marL="457200" indent="-457200">
              <a:lnSpc>
                <a:spcPct val="105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Tahoma"/>
              </a:rPr>
              <a:t>A vállalati szintű árpolitika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Ár – árrés-tömeg – árrés-színvonal és nyereség kapcsola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él: vállalati szintű árréstömeg maximalizálás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z árrés-tömeg befolyásoló tényező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876"/>
              </a:spcBef>
              <a:buClr>
                <a:srgbClr val="0000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Értékesítési árak változá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876"/>
              </a:spcBef>
              <a:buClr>
                <a:srgbClr val="0000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Beszerzési árak változá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876"/>
              </a:spcBef>
              <a:buClr>
                <a:srgbClr val="0000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Értékesítés volumenének alakulá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876"/>
              </a:spcBef>
              <a:buClr>
                <a:srgbClr val="0000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Értékesítés összetételének változása a magasabb ill. alacsonyabb árrés-színvonalú áruk, árucsoportok fel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Vállalati árstratégia, árképzési elv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876"/>
              </a:spcBef>
              <a:buClr>
                <a:srgbClr val="0000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Vállalkozás pozícionálá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876"/>
              </a:spcBef>
              <a:buClr>
                <a:srgbClr val="0000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arketing stratégia (árukör, promóció, vevőkiszolgálás, földrajzi hely, hírnév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876"/>
              </a:spcBef>
              <a:buClr>
                <a:srgbClr val="0000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Költségek illetve versenytársak árainak figyelembe véte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EVKSZVG-ÁRPOLITIK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39640" y="804240"/>
            <a:ext cx="8209080" cy="52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76320" bIns="0" anchor="ctr">
            <a:spAutoFit/>
          </a:bodyPr>
          <a:p>
            <a:pPr marL="457200" indent="-457200">
              <a:lnSpc>
                <a:spcPct val="11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Kereslet-orientált árképz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1100"/>
              </a:spcBef>
              <a:buClr>
                <a:srgbClr val="000099"/>
              </a:buClr>
              <a:buFont typeface="Tahoma"/>
              <a:buAutoNum type="arabicPeriod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Tahoma"/>
              </a:rPr>
              <a:t>Laksűrűség, háztartások kereslete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1100"/>
              </a:spcBef>
              <a:buClr>
                <a:srgbClr val="000099"/>
              </a:buClr>
              <a:buFont typeface="Tahoma"/>
              <a:buAutoNum type="arabicPeriod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Tahoma"/>
              </a:rPr>
              <a:t>Kereslet árrugalmassága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1100"/>
              </a:spcBef>
              <a:buClr>
                <a:srgbClr val="000099"/>
              </a:buClr>
              <a:buFont typeface="Tahoma"/>
              <a:buAutoNum type="arabicPeriod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Tahoma"/>
              </a:rPr>
              <a:t>Vevőhitelezés, részletfizeté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1100"/>
              </a:spcBef>
              <a:buClr>
                <a:srgbClr val="000099"/>
              </a:buClr>
              <a:buFont typeface="Tahoma"/>
              <a:buAutoNum type="arabicPeriod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Tahoma"/>
              </a:rPr>
              <a:t>Vonzáskö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Kínálat-orientált árképz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1100"/>
              </a:spcBef>
              <a:buClr>
                <a:srgbClr val="000099"/>
              </a:buClr>
              <a:buFont typeface="Tahoma"/>
              <a:buAutoNum type="arabicPeriod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Tahoma"/>
              </a:rPr>
              <a:t>Induló haszonkulcsok meghatározása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1100"/>
              </a:spcBef>
              <a:buClr>
                <a:srgbClr val="000099"/>
              </a:buClr>
              <a:buFont typeface="Tahoma"/>
              <a:buAutoNum type="arabicPeriod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Tahoma"/>
              </a:rPr>
              <a:t>Árarányok, ársorok kialakítá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1100"/>
              </a:spcBef>
              <a:buClr>
                <a:srgbClr val="000099"/>
              </a:buClr>
              <a:buFont typeface="Tahoma"/>
              <a:buAutoNum type="arabicPeriod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Tahoma"/>
              </a:rPr>
              <a:t>Versenyző árképzé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4T17:32:23Z</dcterms:created>
  <dc:creator>Gaál Bence</dc:creator>
  <dc:description/>
  <dc:language>en-US</dc:language>
  <cp:lastModifiedBy> bgf-kvifk</cp:lastModifiedBy>
  <dcterms:modified xsi:type="dcterms:W3CDTF">2008-02-20T05:15:26Z</dcterms:modified>
  <cp:revision>136</cp:revision>
  <dc:subject/>
  <dc:title>A kereskedelem szerepe a nemzetgazdaságban</dc:title>
</cp:coreProperties>
</file>