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7EC-6D62-4A52-BBCF-C47AAA3A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97C-B6AC-4A01-A779-B934CA30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84B-1E57-48F8-88B6-C6115463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8CC-FD40-48A3-9EB9-F19D8472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F8C3-7C9F-4157-A709-1BDC31BD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96BD-BCFA-44E1-8026-71D312EE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6BC5-7E4E-4BA6-B124-67E560F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DCB2-36C3-49C3-9DE2-16B05BE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939E-F40B-4124-A011-0F273F6D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EBE0-A748-4FC2-B6BF-4D09B2B5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5519-B57B-497B-A4DC-2E78B9E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B53-AE79-414C-BBB4-2CEE043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A23D-CFD8-45B2-BCB7-04FE999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3747-0D96-4130-B2E2-D365949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1EB1-DB54-499E-8DC3-E165839A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3869-CF8C-4911-A035-C0E6A30E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1877-7C8F-4CFC-B6AA-A95F5987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AE15-3DE3-460D-9AF1-096071A4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4F45-5C9C-4B96-9232-6AD8ACFB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C377-BD2A-4633-976D-314F8F75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2C7FC-348E-45C3-A174-18BB56E2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7D14-A51F-4D4A-B807-F137B88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A14-C1EA-4F23-A36D-AC36C4D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80F45-EB04-41C3-A7D4-99AE682E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6E63-6D0F-4569-AD62-B473D5C5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5092-6037-4282-97E5-99379CB0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0980-54BA-4B63-AC54-E377EB6C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AE10-2656-4BFF-8C1C-DB5040E3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3FB3-9023-4642-AF73-4BC2708F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288C-5DD3-4BB8-831C-C69E6648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B2F-A6F0-4189-9A87-29084CEB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950-AEE3-4EAA-BEFA-68A0B2A2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549-81A7-4F65-80AE-E45A3E81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586-00D1-4ACE-A9B2-8DF52A7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CEF-D9A0-49F6-84D9-1021680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6EE-AC3F-4F20-8705-F7D67B4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8BB6-486F-41C2-89C0-3E1174C4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1EEF-420F-4146-B856-47E640EBF38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9271-D5BC-4FD5-BFA4-24FADF8198A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80"/>
                </a:solidFill>
                <a:latin typeface="Tahoma"/>
              </a:rPr>
              <a:t>Net Profits and Break Even Analysis in Commerce</a:t>
            </a:r>
            <a:br>
              <a:rPr sz="3600"/>
            </a:br>
            <a:br>
              <a:rPr sz="2800"/>
            </a:br>
            <a:r>
              <a:rPr b="0" i="1" lang="en-GB" sz="3400" spc="-1" strike="noStrike">
                <a:solidFill>
                  <a:srgbClr val="990000"/>
                </a:solidFill>
                <a:latin typeface="Times New Roman"/>
              </a:rPr>
              <a:t>Mr. Csaba Sólyom</a:t>
            </a:r>
            <a:br>
              <a:rPr sz="3400"/>
            </a:br>
            <a:r>
              <a:rPr b="1" lang="en-GB" sz="1300" spc="-1" strike="noStrike">
                <a:solidFill>
                  <a:srgbClr val="990000"/>
                </a:solidFill>
                <a:latin typeface="Tahoma"/>
              </a:rPr>
              <a:t>senior lecturer </a:t>
            </a:r>
            <a:br>
              <a:rPr sz="1300"/>
            </a:br>
            <a:r>
              <a:rPr b="1" lang="en-GB" sz="1300" spc="-1" strike="noStrike">
                <a:solidFill>
                  <a:srgbClr val="990000"/>
                </a:solidFill>
                <a:latin typeface="Tahoma"/>
              </a:rPr>
              <a:t>BBS-FCCT Institute of Commerce</a:t>
            </a:r>
            <a:br>
              <a:rPr sz="1300"/>
            </a:br>
            <a:r>
              <a:rPr b="1" lang="en-GB" sz="1300" spc="-1" strike="noStrike">
                <a:solidFill>
                  <a:srgbClr val="990000"/>
                </a:solidFill>
                <a:latin typeface="Tahoma"/>
              </a:rPr>
              <a:t>awarded by the French </a:t>
            </a:r>
            <a:r>
              <a:rPr b="1" lang="fr-FR" sz="1300" spc="-1" strike="noStrike">
                <a:solidFill>
                  <a:srgbClr val="990000"/>
                </a:solidFill>
                <a:latin typeface="Tahoma"/>
              </a:rPr>
              <a:t>„l’ Ordre des Palmes Académiques”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GB" sz="1900" spc="-1" strike="noStrike">
                <a:solidFill>
                  <a:srgbClr val="990000"/>
                </a:solidFill>
                <a:latin typeface="Tahoma"/>
              </a:rPr>
              <a:t>Budapest, November, 2007.</a:t>
            </a:r>
            <a:r>
              <a:rPr b="0" lang="hu-HU" sz="19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NYERESÉ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51240"/>
            <a:ext cx="91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204560"/>
            <a:ext cx="9144000" cy="28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457200" indent="-457200" algn="ctr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fedezeti pont meghatározása, jellemző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Árbevétel ill. az árréstömeg  y = f(x) 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monoton nem csökkenő függv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Összköltség 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        z = g(x) 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monoton nem csökkenő függv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Az x</a:t>
            </a:r>
            <a:r>
              <a:rPr b="1" lang="hu-HU" sz="22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 fedezeti pontban az f(x</a:t>
            </a:r>
            <a:r>
              <a:rPr b="1" lang="hu-HU" sz="22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) = g(x</a:t>
            </a:r>
            <a:r>
              <a:rPr b="1" lang="hu-HU" sz="22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hu-HU" sz="22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 mennyiség értékesítése esetén árréstömeg = összkölt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NYERESÉ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51240"/>
            <a:ext cx="91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113840"/>
            <a:ext cx="914400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457200" indent="-457200" algn="ctr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edezeti pont meghatározása, jellemző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 Narrow"/>
              </a:rPr>
              <a:t>Többváltozós eset: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sokféle árucikket forgalmaznak – ez a helyzet a kereskedelemben - a fedezeti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pont egy vektorváltozó, amely egy többváltozós egyenlet vagy egyenletrendszer megoldása. Ilyen megoldás általában igen sok van =&gt;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 Narrow"/>
              </a:rPr>
              <a:t>megoldáshalmaz v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okféle árucikk értékesítése esetén árréstömeg = összköltség egyenlet megoldása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öbbféle árucikk különböző mennyiségeinek összességéből á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 fedezeti pont ilyenkor áruválaszték (árucikkek) és a választékhoz tartozó értékesítési mennyiségek különféle kombinációja mellett érhető 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 kereskedelemben tehát a fedezeti pontot sokféle áruösszetétel és ezek értékesítési mennyisége határozza meg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NYERESÉ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45456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0" y="476280"/>
          <a:ext cx="917244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7244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NYERESÉ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51240"/>
            <a:ext cx="91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819720"/>
            <a:ext cx="914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457200" indent="-457200" algn="ctr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 Narrow"/>
              </a:rPr>
              <a:t>A fedezeti pont gyakorlati jelentősége a vállalat gazdálkodásáb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Az árrés nyújt fedezetet a költségekre =&gt; az ELÁBÉ nem költség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f(x) és g(x) nem mindig monoton függvények, hol van ekkor a fedezeti p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A fedezeti pontban a vállalkozás már nem vesztesé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A fedezeti pont meghatározza azt a minimális értékesítést, amit el kell ér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Ha a költségek = fix + változó költség, akk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NYERESÉ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351240"/>
            <a:ext cx="91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6880"/>
            <a:ext cx="914400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457200" indent="-457200" algn="ctr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fedezeti pont gyakorlati jelentősége a vállalat gazdálkodásáb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fedezeti ponthoz tartozó mennyiség kiszámítása (egy árucikk eseté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dezeti ponthoz tartozó mennyiség 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     ___    összes állandó (fix) költség                 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ajlagos árrés – egy darabra jutó változó költsé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z elérendő nyereséghez szükséges mennyiség kiszámítása (egy árucikk eseté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z elérendő nyereséghez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Összes állandó (fix) költség + Tervezett profit           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zükséges mennyiség     Eladási ár – Beszerzési ár – egy darabra jutó változó költ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NYERESÉ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51240"/>
            <a:ext cx="91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21200"/>
            <a:ext cx="9144000" cy="63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marL="457200" indent="-457200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fedezeti hozzájárulás mérték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állalati fedezet = árbevétel - közvetlen költségek (általános e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állalati fedezet = árréstömeg – áruforgalmazás közvetlen költségei (kereskedelmi vállalatná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fedezeti hozzájárulás mértékének meghatározás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lkerülhető költ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lkerülhetetlen költség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fajlagos fedezet fogalma, értelme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96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kár a nyereséghez, akár a fedezethez való hozzájárulást vizsgáljuk,  a hozzájárulás mértékére vonatkozó jellegzetes kérdések kereskedelmi vállalatnál a következ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964"/>
              </a:spcBef>
              <a:buClr>
                <a:srgbClr val="000000"/>
              </a:buClr>
              <a:buFont typeface="Arial Narrow"/>
              <a:buChar char="•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Érdemes-e új terméket felvenni az áruválasztékba? (fajlagos fedeze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964"/>
              </a:spcBef>
              <a:buClr>
                <a:srgbClr val="000000"/>
              </a:buClr>
              <a:buFont typeface="Arial Narrow"/>
              <a:buChar char="•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eg kell-e szüntetni az „x” részleget (divíziót)? (fedezeti hozzájárulá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964"/>
              </a:spcBef>
              <a:buClr>
                <a:srgbClr val="000000"/>
              </a:buClr>
              <a:buFont typeface="Arial Narrow"/>
              <a:buChar char="•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gyes részlegeket át kell szervezni? (fedezeti hozzájárulá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NYERESÉ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51240"/>
            <a:ext cx="91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87840"/>
            <a:ext cx="9144000" cy="52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marL="457200" indent="-457200" algn="ctr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Az árrés-számítás és a fedezetszámítás eredményeinek értékelés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mutatók gazdasági tartalmának összefüggése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fedezeti hozzájárulás és az árréstöm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z áru  fajlagos fedezettartalma és az áru egységére jutó árré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fedezeti színvonal és az árrés-színv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z áruforgalmazás közvetlen költségeinek aránya a kereskedelemben =&gt; ezért használja a gyakorlat elsősorban az árrésvizsgálat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755640" y="468072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7-11-25T23:24:32Z</dcterms:modified>
  <cp:revision>144</cp:revision>
  <dc:subject/>
  <dc:title>A kereskedelem szerepe a nemzetgazdaságban</dc:title>
</cp:coreProperties>
</file>