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7CAE-12E6-4577-8670-ABB29A52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771-4676-4C63-965A-762078A5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4386-7866-4984-A9FD-C82B0F8A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89FF-F396-4FE2-8B80-F6757625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FA7F-C5AF-4904-BAE1-67AA0BF2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6E38-F4A3-4E62-BC4C-568F3EE6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5123-06C1-419D-B973-66A87010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4310-3780-467D-A2D7-3B9D27D8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C668-4EFF-4926-86E9-0D36B3E2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0820-612A-409B-8307-037B0F17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4F99-6A86-48A2-9BA7-558203C2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6894-460E-4969-8077-E5B594E6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C4F6-775F-4ECE-9677-BC533DEC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9B70-5128-435F-B522-9C64BAE3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D272-F599-4B0E-AE26-F3290897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4A80-5BD1-49D2-A804-6EFB0599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6B50-6906-40CA-8AC7-4FAB06E5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79376-265A-4698-9A6E-7CB15AED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1081D-D421-4F9F-B2C7-CABF5CC6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9479A-DA2A-454B-BCEC-FAAD15D9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44768-3285-4867-948C-8F701B69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F2F28-DDE1-446A-A839-3BD85180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DA84-CAFF-4201-B243-2838A238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5C0E1-AA08-482E-ACB0-63987A09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31F28-3B9A-4676-9445-2E5EAC87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E2131-51A1-4835-A620-CAF5CF74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BEBDF-5F2A-45FF-9C78-F50986DD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0DF74-8FBA-425D-B3EC-86F74AA8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E7DFA-9B50-46E3-93A8-339E638D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E837D-E6FA-4AAA-AB86-F4DA4CF1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4E5B0-079E-487C-880D-C57E5D0A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887F3-FE6C-49EF-BB0E-E68A2B61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E0BF6-093F-4938-8CD9-A594B9F4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1F91-8614-40F3-B550-DEDA8685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27A34-57CA-496F-92D8-98745784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3D80A-AFC4-43AD-8008-E2ACCBD0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8A965-6B4D-429A-A20A-C2350DF1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2BDDD-4B2A-4755-B5B5-487C30FB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E962C-C1B0-43C9-BDE8-AFB3576F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2AE8B-75D2-4032-BD55-3D61620D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A2CEE-77E1-4B1D-B1B7-54A83388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36B35-7A7A-4F55-A6EB-6727E0AC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C2F70-FC97-410A-9F5A-B16636E3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C479B-F1C5-4A8B-9FF3-D9D2CA4E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E50-7997-4416-B789-7C87E6C2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4019F-C764-4DC1-8156-BF8D09EC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7A070-2BA1-41AF-B46A-117BD8AE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EDDCD-B351-4986-87B4-0361E202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3C190-3B20-425E-87AC-3C1577FE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DF672-B28D-4A82-A853-3BB72774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D8BE4-AEE5-426A-BD9E-B3AA7745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91B11-0879-4FA9-99E6-4D02DCD9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B9A88-90E6-47CC-9903-94530FCA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00505-9974-4D7B-9DEC-915299AD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31146-C2B9-4703-BC2F-763E3F08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5089-6482-4214-A089-56D156EB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A9CA7-DA0A-4DA2-9DEB-51456F84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E9689-9728-457B-B5B0-6E4E4BA4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75199-8DC7-4AF4-9DB9-937D220F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6CF91-0110-42C9-BC6C-5171B85A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F0A87-9C50-46E2-B718-68C43FC5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DB19A-8EC1-4124-9D39-DC4E071A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8AF46-E9DC-4219-95CD-D1F581D2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90D5F-C0C7-4B38-8413-0F58411D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B9FD0-107A-40D4-BCCA-3EE2AEA6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41B09-F00F-46CD-8DE5-176DDDBA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7FEB-F011-4D97-83E6-C2676564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F74E6-3912-41B4-BF6B-68125250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C2279-4849-4B39-B0F7-DD2778E5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EF9D8-BD74-4B2F-AADD-5BF570CB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CC194-7EB3-494A-B186-FF214DD3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7C4D9-750E-49AB-BCD9-4BA6614C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C97DA-9D48-4F0B-B439-CFBB79E3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C5DD1-DB74-4CE1-A9B1-E12B1AA7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808D2-10C1-4259-AF2C-59464AB2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49CC7-1667-481B-A675-A4A77CF9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3556F-C976-48EC-8E14-FF2862A3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8B77-B5EC-4D7E-9379-55364350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53FAD-BF1A-491C-8447-C9691739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9E5B8-65C0-45DA-A11A-B6AD39E3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535D0-F65F-4D08-AA7B-0DF9C144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BEFCD-BC80-44BC-9CA4-0ADA9318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0AD2C-1EEA-4CAD-BAA7-C01D89CD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A95-417D-498B-B496-E17F701F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E789-61F7-4D53-8114-1A4EC5C95CD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2126-85EA-427A-A6CD-B322F39EE4F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6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6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7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7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8D45-101B-4B98-8159-295CA3BB0BB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4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4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D0E0-BF69-49F3-8437-A97D189C37B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1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55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6CDC-ABBA-4785-BBD3-3CFCEC015B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9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4BE2-B5D5-4840-8877-982A9C71C7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83EF-5970-4E4C-9D25-9C0CBBAE2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hu-HU" sz="44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en-GB" sz="3800" spc="-1" strike="noStrike">
                <a:solidFill>
                  <a:srgbClr val="800080"/>
                </a:solidFill>
                <a:latin typeface="Tahoma"/>
              </a:rPr>
              <a:t>Purchasing at Retail and Wholesale Companies</a:t>
            </a:r>
            <a:r>
              <a:rPr b="1" lang="hu-HU" sz="4400" spc="-1" strike="noStrike">
                <a:solidFill>
                  <a:srgbClr val="800080"/>
                </a:solidFill>
                <a:latin typeface="Tahoma"/>
              </a:rPr>
              <a:t> </a:t>
            </a:r>
            <a:br>
              <a:rPr sz="4400"/>
            </a:br>
            <a:br>
              <a:rPr sz="3400"/>
            </a:br>
            <a:br>
              <a:rPr sz="3100"/>
            </a:br>
            <a:r>
              <a:rPr b="1" i="1" lang="en-GB" sz="3800" spc="-1" strike="noStrike">
                <a:solidFill>
                  <a:srgbClr val="990000"/>
                </a:solidFill>
                <a:latin typeface="Times New Roman"/>
              </a:rPr>
              <a:t>Mr. Csaba Sólyom</a:t>
            </a:r>
            <a:br>
              <a:rPr sz="3800"/>
            </a:br>
            <a:r>
              <a:rPr b="0" lang="en-GB" sz="1500" spc="-1" strike="noStrike">
                <a:solidFill>
                  <a:srgbClr val="990000"/>
                </a:solidFill>
                <a:latin typeface="Tahoma"/>
              </a:rPr>
              <a:t>senior lecturer </a:t>
            </a:r>
            <a:br>
              <a:rPr sz="1500"/>
            </a:br>
            <a:r>
              <a:rPr b="0" lang="en-GB" sz="1500" spc="-1" strike="noStrike">
                <a:solidFill>
                  <a:srgbClr val="990000"/>
                </a:solidFill>
                <a:latin typeface="Tahoma"/>
              </a:rPr>
              <a:t>BBS-FCCT Institute of Commerce</a:t>
            </a:r>
            <a:br>
              <a:rPr sz="1500"/>
            </a:br>
            <a:r>
              <a:rPr b="0" lang="en-GB" sz="1500" spc="-1" strike="noStrike">
                <a:solidFill>
                  <a:srgbClr val="990000"/>
                </a:solidFill>
                <a:latin typeface="Tahoma"/>
              </a:rPr>
              <a:t>awarded by the French </a:t>
            </a:r>
            <a:r>
              <a:rPr b="0" lang="fr-FR" sz="1500" spc="-1" strike="noStrike">
                <a:solidFill>
                  <a:srgbClr val="990000"/>
                </a:solidFill>
                <a:latin typeface="Tahoma"/>
              </a:rPr>
              <a:t>„l’ Ordre des Palmes Académiques”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1" lang="en-GB" sz="2200" spc="-1" strike="noStrike">
                <a:solidFill>
                  <a:srgbClr val="990000"/>
                </a:solidFill>
                <a:latin typeface="Tahoma"/>
              </a:rPr>
              <a:t>Budapest, November, 2007.</a:t>
            </a:r>
            <a:r>
              <a:rPr b="1" lang="hu-HU" sz="22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VENTORY-PURCHAS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A beszerzés folyamata-1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 beszerzés folyamata, stratégiája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z áruforgalmi szervezet struktúrája és funkciói: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z áruforgalmi vezető (kereskedelmi igazgató), feladatai: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a fogyasztói kereslet becslése a hozzájuk tartozó árucsoport vagy árufőcsoport profilokban,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az értékesítés becslése a következő szezonra,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az értékesítéshez szükséges árualap- ill. készletigény megfogalmazása,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az értékesítéshez szükséges árukészlet érték meghatározása.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árubeszerzők, áruházi osztályvezetők vagy az üzletvezetők munkájának támogatása a megfelelő szállítók kiválasztásában.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az árubeszerzők munkájának felügyelete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VENTORY-PURCHAS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Verdana"/>
              </a:rPr>
              <a:t>A beszerzés folyamata-2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99"/>
                </a:solidFill>
                <a:latin typeface="Tahoma"/>
              </a:rPr>
              <a:t>Az árubeszerzők feladatai: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Tahoma"/>
              </a:rPr>
              <a:t>Árubeszerzés a megcélzott konkrét vevőkör részére.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Tahoma"/>
              </a:rPr>
              <a:t>Szállítási szerződésben az áruvisszavétel, a reklamációk, a vevőszolgálat, a fizetési feltételek meghatározása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Tahoma"/>
              </a:rPr>
              <a:t>Az árucsoport áruforgalmi vezetőjével együtt vizsgája a készlet értékét, ismeri a piacot, és beszámol tapasztalatairól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spcAft>
                <a:spcPts val="99"/>
              </a:spcAft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Tahoma"/>
              </a:rPr>
              <a:t>Lebontja konkrét választékra és mennyiségre az áruforgalmi vezető által pénzben megadott értéket.</a:t>
            </a:r>
            <a:r>
              <a:rPr b="0" lang="hu-HU" sz="16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99"/>
                </a:solidFill>
                <a:latin typeface="Tahoma"/>
              </a:rPr>
              <a:t>Az üzletvezetők, áruházi osztályvezetők feladatai</a:t>
            </a:r>
            <a:r>
              <a:rPr b="1" lang="hu-HU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Tahoma"/>
              </a:rPr>
              <a:t>a vezetés középszintjét jelentik,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Tahoma"/>
              </a:rPr>
              <a:t>döntően az értékesítésért felelősek.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Tahoma"/>
              </a:rPr>
              <a:t>a beszerzésnél a választék kialakításában vesznek részt.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Tahoma"/>
              </a:rPr>
              <a:t>az áruforgalomban az  eladás  szervezése, irányítása, a készletgazdálkodás felügyelete a feladatatuk,</a:t>
            </a:r>
            <a:r>
              <a:rPr b="1" lang="hu-HU" sz="18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VENTORY-PURCHAS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0" y="1018800"/>
            <a:ext cx="8964720" cy="47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76320" bIns="0" anchor="ctr">
            <a:spAutoFit/>
          </a:bodyPr>
          <a:p>
            <a:pPr marL="457200" indent="-457200" algn="ctr">
              <a:lnSpc>
                <a:spcPct val="110000"/>
              </a:lnSpc>
              <a:spcBef>
                <a:spcPts val="1349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A beszerzési döntéshozatal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239"/>
              </a:spcBef>
              <a:spcAft>
                <a:spcPts val="139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A kereskedelmi cégek beszerzési és a szállítók értékesítési árpolitikájának összehangolása</a:t>
            </a:r>
            <a:endParaRPr b="0" lang="en-US" sz="22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239"/>
              </a:spcBef>
              <a:spcAft>
                <a:spcPts val="139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A kereskedelmi cég számára elfogadható szállítási és fizetési feltételek meghatározása </a:t>
            </a:r>
            <a:endParaRPr b="0" lang="en-US" sz="22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239"/>
              </a:spcBef>
              <a:spcAft>
                <a:spcPts val="139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A konkurens kereskedelmi cégek várható viselkedésének becslése a beszerzési piacon</a:t>
            </a:r>
            <a:endParaRPr b="0" lang="en-US" sz="22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239"/>
              </a:spcBef>
              <a:spcAft>
                <a:spcPts val="139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A beszerzési döntéseket megalapozó scoring modellek és technikák alkalmazása a döntéshozatal megalapozására.</a:t>
            </a:r>
            <a:endParaRPr b="0" lang="en-US" sz="22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964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-27000"/>
            <a:ext cx="9144000" cy="360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VENTORY-PURCHAS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 scoring modell-1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graphicFrame>
        <p:nvGraphicFramePr>
          <p:cNvPr id="1076" name=""/>
          <p:cNvGraphicFramePr/>
          <p:nvPr/>
        </p:nvGraphicFramePr>
        <p:xfrm>
          <a:off x="0" y="981000"/>
          <a:ext cx="9144000" cy="5813640"/>
        </p:xfrm>
        <a:graphic>
          <a:graphicData uri="http://schemas.openxmlformats.org/drawingml/2006/table">
            <a:tbl>
              <a:tblPr/>
              <a:tblGrid>
                <a:gridCol w="4859280"/>
                <a:gridCol w="1225440"/>
                <a:gridCol w="1079640"/>
                <a:gridCol w="1008000"/>
                <a:gridCol w="97164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0-tól 5 pontig adható pontok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Kiértékelési kritériumok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Súlytényezők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Pontszámok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Súlyozott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pontok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Rész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összegek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(1) Fedezeti hozzájárulás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- hozampotenciál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- Kereskedelmi haszonkulcs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- Forgási sebesség (fordulatszám)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- Árutárolás, mozgatás költségei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- egy négyzetméterre jutó forgalom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- cikkbevezetési engedmények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- a gyártó mellékszolgáltatásai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- választék összetételi effektusok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- a helyettesítő termékek veszteségei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- a komplementer termékek nyereséghozama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Összesen (1)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VENTORY-PURCHAS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 scoring modell-2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graphicFrame>
        <p:nvGraphicFramePr>
          <p:cNvPr id="1079" name=""/>
          <p:cNvGraphicFramePr/>
          <p:nvPr/>
        </p:nvGraphicFramePr>
        <p:xfrm>
          <a:off x="0" y="907920"/>
          <a:ext cx="8964720" cy="6000840"/>
        </p:xfrm>
        <a:graphic>
          <a:graphicData uri="http://schemas.openxmlformats.org/drawingml/2006/table">
            <a:tbl>
              <a:tblPr/>
              <a:tblGrid>
                <a:gridCol w="5218200"/>
                <a:gridCol w="938160"/>
                <a:gridCol w="792000"/>
                <a:gridCol w="1152720"/>
                <a:gridCol w="86364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Kiértékelési kritériumok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Súly-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tényezők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Pont-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számok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Súlyozott pontok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Rész-összegek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(2) Vevői áruelfogadás értékelése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- Ismertségi fok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- újdonsági fok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- termékminőség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- Fogyasztói ár ill. az ár és teljesítmény hányados a gyártónál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- termék imázs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- a piackutatási eredmények minősége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- az árucsomagolás vonzereje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Összesen (2)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(3) A termelő vásárlás-ösztönzési hozzájárulásának értékelése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- reklám hozzájárulás a termelő részéről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- a promóció formája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- a gyártó marketing együttműködési készsége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- a gyártó együttműködési készsége a forgalmazásban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Összesen (3)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Σ</a:t>
                      </a:r>
                      <a:r>
                        <a:rPr b="1" lang="hu-HU" sz="16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 (1) – ( 3)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VENTORY-PURCHA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79280" y="670680"/>
            <a:ext cx="89647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marL="457200" indent="-457200" algn="ctr">
              <a:lnSpc>
                <a:spcPct val="110000"/>
              </a:lnSpc>
              <a:spcBef>
                <a:spcPts val="1225"/>
              </a:spcBef>
              <a:spcAft>
                <a:spcPts val="176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Tahoma"/>
              </a:rPr>
              <a:t>A beszerzési politika eszköztára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49"/>
              </a:spcBef>
              <a:spcAft>
                <a:spcPts val="150"/>
              </a:spcAft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Tahoma"/>
              </a:rPr>
              <a:t>Beszerzési terv – választék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49"/>
              </a:spcBef>
              <a:spcAft>
                <a:spcPts val="150"/>
              </a:spcAft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Tahoma"/>
              </a:rPr>
              <a:t>Beszerzési út, beszerzési mód kiválasztása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49"/>
              </a:spcBef>
              <a:spcAft>
                <a:spcPts val="150"/>
              </a:spcAft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Tahoma"/>
              </a:rPr>
              <a:t>Beszerzési taktikák, tárgyalás a szállítóval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49"/>
              </a:spcBef>
              <a:spcAft>
                <a:spcPts val="150"/>
              </a:spcAft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Tahoma"/>
              </a:rPr>
              <a:t>A beszerzési pozíció,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49"/>
              </a:spcBef>
              <a:spcAft>
                <a:spcPts val="150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Tahoma"/>
              </a:rPr>
              <a:t>A beszerzés költségei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49"/>
              </a:spcBef>
              <a:spcAft>
                <a:spcPts val="150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Tahoma"/>
              </a:rPr>
              <a:t>A beszerzés biztonsága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49"/>
              </a:spcBef>
              <a:spcAft>
                <a:spcPts val="150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Tahoma"/>
              </a:rPr>
              <a:t>A beszerzés hatékonysága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49"/>
              </a:spcBef>
              <a:spcAft>
                <a:spcPts val="150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Tahoma"/>
              </a:rPr>
              <a:t>Alvállalkozók alkalmazása „outsourcing”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VENTORY-PURCHAS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1225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430920" y="1140480"/>
            <a:ext cx="8281800" cy="5362560"/>
            <a:chOff x="430920" y="1140480"/>
            <a:chExt cx="8281800" cy="5362560"/>
          </a:xfrm>
        </p:grpSpPr>
        <p:sp>
          <p:nvSpPr>
            <p:cNvPr id="1086" name=""/>
            <p:cNvSpPr/>
            <p:nvPr/>
          </p:nvSpPr>
          <p:spPr>
            <a:xfrm>
              <a:off x="430920" y="1377360"/>
              <a:ext cx="720" cy="457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30920" y="3585240"/>
              <a:ext cx="8143560" cy="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30920" y="2481120"/>
              <a:ext cx="4968720" cy="72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400000" y="1377360"/>
              <a:ext cx="720" cy="22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39520" y="3585240"/>
              <a:ext cx="720" cy="236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30920" y="4531680"/>
              <a:ext cx="2208240" cy="7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022600" y="1929240"/>
              <a:ext cx="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574840" y="1219680"/>
              <a:ext cx="720" cy="47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639520" y="5478120"/>
              <a:ext cx="5934960" cy="72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400000" y="2481120"/>
              <a:ext cx="2622240" cy="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8022600" y="2481120"/>
              <a:ext cx="551880" cy="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30920" y="1140480"/>
              <a:ext cx="1517400" cy="4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660066"/>
                  </a:solidFill>
                  <a:latin typeface="Tahoma"/>
                </a:rPr>
                <a:t>Goods inflow</a:t>
              </a:r>
              <a:endParaRPr b="0" lang="en-US" sz="15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06320" y="2639160"/>
              <a:ext cx="4416840" cy="4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Tahoma"/>
                </a:rPr>
                <a:t>Average stockturn days</a:t>
              </a:r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742920" y="1140480"/>
              <a:ext cx="1657080" cy="4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660066"/>
                  </a:solidFill>
                  <a:latin typeface="Tahoma"/>
                </a:rPr>
                <a:t>Goods sold</a:t>
              </a:r>
              <a:endParaRPr b="0" lang="en-US" sz="15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540760" y="2639160"/>
              <a:ext cx="2346120" cy="78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Average terms of payment given to customers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917400" y="1180080"/>
              <a:ext cx="1657080" cy="4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660066"/>
                  </a:solidFill>
                  <a:latin typeface="Tahoma"/>
                </a:rPr>
                <a:t>Cash inflow</a:t>
              </a:r>
              <a:endParaRPr b="0" lang="en-US" sz="15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69160" y="4689360"/>
              <a:ext cx="1932120" cy="63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Tahoma"/>
                </a:rPr>
                <a:t>Terms of payment given by supplier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329640" y="4847040"/>
              <a:ext cx="4554720" cy="4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Tahoma"/>
                </a:rPr>
                <a:t>Average time of cash bounded in inventory (cash cycle)</a:t>
              </a:r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69160" y="3742920"/>
              <a:ext cx="690120" cy="4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6699"/>
                  </a:solidFill>
                  <a:latin typeface="Tahoma"/>
                </a:rPr>
                <a:t>0 day</a:t>
              </a: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777400" y="3821760"/>
              <a:ext cx="5658840" cy="4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6699"/>
                  </a:solidFill>
                  <a:latin typeface="Tahoma"/>
                </a:rPr>
                <a:t>A nap                                       B nap                                                  C nap</a:t>
              </a: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501640" y="6030000"/>
              <a:ext cx="6211080" cy="4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8000"/>
                  </a:solidFill>
                  <a:latin typeface="Tahoma"/>
                </a:rPr>
                <a:t>Cash outflow                                                         Cash inflow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0" y="52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Goods- and Capital-stockturn Relationships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324000" y="4797360"/>
            <a:ext cx="864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e103"/>
                </a:solidFill>
                <a:latin typeface="Times New Roman"/>
              </a:rPr>
              <a:t>Thanks for your attention!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RWHM-PURCHASING</a:t>
            </a:r>
            <a:r>
              <a:rPr b="0" lang="hu-H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10000"/>
              </a:lnSpc>
              <a:spcBef>
                <a:spcPts val="1225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Beszerzés a kereskedelemben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 beszerzés feladata: 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árualap biztosítás az értékesítéshez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1199"/>
              </a:spcBef>
              <a:spcAft>
                <a:spcPts val="150"/>
              </a:spcAft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Beszerzési stratégia, üzletpolitika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1199"/>
              </a:spcBef>
              <a:spcAft>
                <a:spcPts val="150"/>
              </a:spcAft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Beszerzési piackutatás: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z árualapok és kínálat felmérése a beszerzési piacokon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 beszerzési piacokon uralkodó trendek vizsgálata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2" marL="1295280" indent="-3808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termékek,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2" marL="1295280" indent="-3808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szállítók, és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2" marL="1295280" indent="-3808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beszerzési utak felmérése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 versenytársak beszerzési magatartásának vizsgálata</a:t>
            </a:r>
            <a:r>
              <a:rPr b="1" lang="en-US" sz="20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1199"/>
              </a:spcBef>
              <a:spcAft>
                <a:spcPts val="150"/>
              </a:spcAft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Beszerzési döntések előkészítése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1199"/>
              </a:spcBef>
              <a:spcAft>
                <a:spcPts val="150"/>
              </a:spcAft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Beszerzési alku, beszerzés lebonyolítása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VENTORY-PURCHAS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 beszerzés információs adatbázisa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Szakma és ország-információk a beszerzési piacokról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Áruinformációk a beszerzési piacokról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Információk a lehetséges szállítókról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1400"/>
              </a:spcBef>
              <a:spcAft>
                <a:spcPts val="176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Információk a szállítók marketingpolitikájáról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901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a szállítók választékpolitikája,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901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a szállítók áruelosztási rendszere, logisztikájuk,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901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a szállítók árpolitikái, a szállítóktól kapható engedmény típusok: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2" marL="1295280" indent="-380880">
              <a:lnSpc>
                <a:spcPct val="110000"/>
              </a:lnSpc>
              <a:spcBef>
                <a:spcPts val="799"/>
              </a:spcBef>
              <a:spcAft>
                <a:spcPts val="99"/>
              </a:spcAft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Kereskedelmi, viszonteladói engedmény 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  <a:p>
            <a:pPr lvl="2" marL="1295280" indent="-380880">
              <a:lnSpc>
                <a:spcPct val="110000"/>
              </a:lnSpc>
              <a:spcBef>
                <a:spcPts val="799"/>
              </a:spcBef>
              <a:spcAft>
                <a:spcPts val="99"/>
              </a:spcAft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Mennyiségi engedmény, kumulatív mennyiségi engedmény 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  <a:p>
            <a:pPr lvl="2" marL="1295280" indent="-380880">
              <a:lnSpc>
                <a:spcPct val="110000"/>
              </a:lnSpc>
              <a:spcBef>
                <a:spcPts val="799"/>
              </a:spcBef>
              <a:spcAft>
                <a:spcPts val="99"/>
              </a:spcAft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Promóciós engedmény 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  <a:p>
            <a:pPr lvl="2" marL="1295280" indent="-380880">
              <a:lnSpc>
                <a:spcPct val="110000"/>
              </a:lnSpc>
              <a:spcBef>
                <a:spcPts val="799"/>
              </a:spcBef>
              <a:spcAft>
                <a:spcPts val="99"/>
              </a:spcAft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Szezonális engedmény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  <a:p>
            <a:pPr lvl="2" marL="1295280" indent="-3808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Fizetési engedmény (skontó)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VENTORY-PURCHAS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10000"/>
              </a:lnSpc>
              <a:spcBef>
                <a:spcPts val="9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 beszerzés információs adatbázisa (folytatás)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675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a szállítók szállítási és fizetési feltételrendszerei,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675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a szállítók tárgyalási politikája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675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a szállítók akciós és reklámpolitikája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 szállítók ingyenes ill. térítésköteles mellékszolgáltatásai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675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garancia,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675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jótállás,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675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tanácsadás,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675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beüzemelés,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675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házhozszállítás stb.,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 vevőreklamációk kezelése a szállítóknál,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 gyártó ill. a szállító vevőszolgálata a piacon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Információk a kereskedelmi cég versenytársainak beszerzési politikájáról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VENTORY-PURCHAS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1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A beszerzési információk feldolgozása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11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 beszerzésről szóló piaci információk rendszerezése,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9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 kereskedelmi vállalkozás beszerzési alkupozíciójának vizsgálata és meghatározása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(multinacionális cégek nagyon erős pozícióban vannak míg a hazai kereskedelmi cégeké viszonylag gyenge)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1199"/>
              </a:spcBef>
              <a:spcAft>
                <a:spcPts val="150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 beszerzés alapelvei (az öt megfelelő elve):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876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Megfelelő minőség.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876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Megfelelő ár.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876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Megfelelő mennyiség.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876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Megfelelő idő.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876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Megfelelő szállító.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VENTORY-PURCHAS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1225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A beszerzési stratégia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50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 beszerzési stratégia és taktika meghatározása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 centralizált és a decentralizált beszerzési rendszer fogalma, előnyei és hátrányai, alkalmazásának gyakorlata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 beszerzési csatorna meghatározása,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 direkt ill. indirekt beszerzés értelme,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 beszerzési társaságok lényege, szerepe, jelentőségük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 beszerzendő áruválaszték meghatározása, az ipari és kereskedelmi márkák lényege, szerepük és jelentőségük a beszerzésben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 beszerzési alkupozíció meghatározása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"/>
          <p:cNvGrpSpPr/>
          <p:nvPr/>
        </p:nvGrpSpPr>
        <p:grpSpPr>
          <a:xfrm>
            <a:off x="309600" y="1393920"/>
            <a:ext cx="7421400" cy="4211280"/>
            <a:chOff x="309600" y="1393920"/>
            <a:chExt cx="7421400" cy="4211280"/>
          </a:xfrm>
        </p:grpSpPr>
        <p:sp>
          <p:nvSpPr>
            <p:cNvPr id="731" name=""/>
            <p:cNvSpPr/>
            <p:nvPr/>
          </p:nvSpPr>
          <p:spPr>
            <a:xfrm>
              <a:off x="351000" y="1393920"/>
              <a:ext cx="7380000" cy="4170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1000" y="5149800"/>
              <a:ext cx="7380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1000" y="4730760"/>
              <a:ext cx="7380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51000" y="4314960"/>
              <a:ext cx="7380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51000" y="3895560"/>
              <a:ext cx="7380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1000" y="3481560"/>
              <a:ext cx="7380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1000" y="3062160"/>
              <a:ext cx="7380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1000" y="2646360"/>
              <a:ext cx="7380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51000" y="2227320"/>
              <a:ext cx="7380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51000" y="1812960"/>
              <a:ext cx="7380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51000" y="1393920"/>
              <a:ext cx="7380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1000" y="1393920"/>
              <a:ext cx="7380000" cy="41702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33520" y="5448240"/>
              <a:ext cx="245880" cy="115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147680" y="5435640"/>
              <a:ext cx="247680" cy="1285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763640" y="5445000"/>
              <a:ext cx="246240" cy="1191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378160" y="5413320"/>
              <a:ext cx="245880" cy="1508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992320" y="5457960"/>
              <a:ext cx="249480" cy="1062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10080" y="5423040"/>
              <a:ext cx="244440" cy="1411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22800" y="5445000"/>
              <a:ext cx="245880" cy="1191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6960" y="5423040"/>
              <a:ext cx="249480" cy="1411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54720" y="5448240"/>
              <a:ext cx="244440" cy="115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67440" y="5413320"/>
              <a:ext cx="245880" cy="1508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681960" y="5384880"/>
              <a:ext cx="249120" cy="1792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299360" y="5375160"/>
              <a:ext cx="245880" cy="1890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3520" y="5343480"/>
              <a:ext cx="245880" cy="104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47680" y="5316480"/>
              <a:ext cx="247680" cy="119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763640" y="5346720"/>
              <a:ext cx="246240" cy="982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378160" y="5316480"/>
              <a:ext cx="245880" cy="968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992320" y="5375160"/>
              <a:ext cx="249480" cy="82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610080" y="5338800"/>
              <a:ext cx="244440" cy="842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222800" y="5372280"/>
              <a:ext cx="245880" cy="72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36960" y="5319720"/>
              <a:ext cx="249480" cy="103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454720" y="5362560"/>
              <a:ext cx="244440" cy="856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67440" y="5307120"/>
              <a:ext cx="245880" cy="106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81960" y="5253120"/>
              <a:ext cx="249120" cy="131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99360" y="5246640"/>
              <a:ext cx="245880" cy="1285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33520" y="5256360"/>
              <a:ext cx="245880" cy="871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147680" y="5234040"/>
              <a:ext cx="247680" cy="82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763640" y="5256360"/>
              <a:ext cx="246240" cy="90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78160" y="5227560"/>
              <a:ext cx="245880" cy="889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992320" y="5284800"/>
              <a:ext cx="249480" cy="90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10080" y="5256360"/>
              <a:ext cx="244440" cy="82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222800" y="5294160"/>
              <a:ext cx="245880" cy="781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36960" y="5230800"/>
              <a:ext cx="249480" cy="889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54720" y="5272200"/>
              <a:ext cx="244440" cy="90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67440" y="5205240"/>
              <a:ext cx="245880" cy="101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81960" y="5157720"/>
              <a:ext cx="249120" cy="95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99360" y="5153040"/>
              <a:ext cx="245880" cy="936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33520" y="4821120"/>
              <a:ext cx="245880" cy="4352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147680" y="4805280"/>
              <a:ext cx="247680" cy="4287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763640" y="4778280"/>
              <a:ext cx="246240" cy="478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378160" y="4830840"/>
              <a:ext cx="245880" cy="396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992320" y="4849920"/>
              <a:ext cx="249480" cy="434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610080" y="4815000"/>
              <a:ext cx="244440" cy="441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222800" y="4869000"/>
              <a:ext cx="245880" cy="4251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836960" y="4768920"/>
              <a:ext cx="249480" cy="461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454720" y="4859280"/>
              <a:ext cx="244440" cy="412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67440" y="4789440"/>
              <a:ext cx="245880" cy="415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81960" y="4721400"/>
              <a:ext cx="249120" cy="436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299360" y="4600440"/>
              <a:ext cx="245880" cy="552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33520" y="4667400"/>
              <a:ext cx="245880" cy="15372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147680" y="4689360"/>
              <a:ext cx="247680" cy="11592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63640" y="4610160"/>
              <a:ext cx="246240" cy="16812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378160" y="4714920"/>
              <a:ext cx="245880" cy="11592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992320" y="4714920"/>
              <a:ext cx="249480" cy="1350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610080" y="4689360"/>
              <a:ext cx="244440" cy="12564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222800" y="4721400"/>
              <a:ext cx="245880" cy="1476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6960" y="4603680"/>
              <a:ext cx="249480" cy="16524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454720" y="4727520"/>
              <a:ext cx="244440" cy="13176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067440" y="4648320"/>
              <a:ext cx="245880" cy="14112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681960" y="4576680"/>
              <a:ext cx="249120" cy="14472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99360" y="4437000"/>
              <a:ext cx="245880" cy="16344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33520" y="4529160"/>
              <a:ext cx="245880" cy="138240"/>
            </a:xfrm>
            <a:prstGeom prst="rect">
              <a:avLst/>
            </a:prstGeom>
            <a:solidFill>
              <a:srgbClr val="ff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147680" y="4573440"/>
              <a:ext cx="247680" cy="115920"/>
            </a:xfrm>
            <a:prstGeom prst="rect">
              <a:avLst/>
            </a:prstGeom>
            <a:solidFill>
              <a:srgbClr val="ff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763640" y="4503600"/>
              <a:ext cx="246240" cy="106560"/>
            </a:xfrm>
            <a:prstGeom prst="rect">
              <a:avLst/>
            </a:prstGeom>
            <a:solidFill>
              <a:srgbClr val="ff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378160" y="4592520"/>
              <a:ext cx="245880" cy="122400"/>
            </a:xfrm>
            <a:prstGeom prst="rect">
              <a:avLst/>
            </a:prstGeom>
            <a:solidFill>
              <a:srgbClr val="ff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92320" y="4616280"/>
              <a:ext cx="249480" cy="98640"/>
            </a:xfrm>
            <a:prstGeom prst="rect">
              <a:avLst/>
            </a:prstGeom>
            <a:solidFill>
              <a:srgbClr val="ff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610080" y="4600440"/>
              <a:ext cx="244440" cy="88920"/>
            </a:xfrm>
            <a:prstGeom prst="rect">
              <a:avLst/>
            </a:prstGeom>
            <a:solidFill>
              <a:srgbClr val="ff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222800" y="4635360"/>
              <a:ext cx="245880" cy="86040"/>
            </a:xfrm>
            <a:prstGeom prst="rect">
              <a:avLst/>
            </a:prstGeom>
            <a:solidFill>
              <a:srgbClr val="ff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836960" y="4529160"/>
              <a:ext cx="249480" cy="74520"/>
            </a:xfrm>
            <a:prstGeom prst="rect">
              <a:avLst/>
            </a:prstGeom>
            <a:solidFill>
              <a:srgbClr val="ff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454720" y="4641840"/>
              <a:ext cx="244440" cy="85680"/>
            </a:xfrm>
            <a:prstGeom prst="rect">
              <a:avLst/>
            </a:prstGeom>
            <a:solidFill>
              <a:srgbClr val="ff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067440" y="4551480"/>
              <a:ext cx="245880" cy="96840"/>
            </a:xfrm>
            <a:prstGeom prst="rect">
              <a:avLst/>
            </a:prstGeom>
            <a:solidFill>
              <a:srgbClr val="ff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81960" y="4484520"/>
              <a:ext cx="249120" cy="92160"/>
            </a:xfrm>
            <a:prstGeom prst="rect">
              <a:avLst/>
            </a:prstGeom>
            <a:solidFill>
              <a:srgbClr val="ff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299360" y="4343400"/>
              <a:ext cx="245880" cy="93600"/>
            </a:xfrm>
            <a:prstGeom prst="rect">
              <a:avLst/>
            </a:prstGeom>
            <a:solidFill>
              <a:srgbClr val="ff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33520" y="4500720"/>
              <a:ext cx="245880" cy="28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147680" y="4529160"/>
              <a:ext cx="247680" cy="4428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763640" y="4468680"/>
              <a:ext cx="246240" cy="3492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378160" y="4551480"/>
              <a:ext cx="245880" cy="410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992320" y="4579920"/>
              <a:ext cx="249480" cy="3636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610080" y="4573440"/>
              <a:ext cx="244440" cy="2700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222800" y="4603680"/>
              <a:ext cx="245880" cy="3168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836960" y="4491000"/>
              <a:ext cx="249480" cy="3816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454720" y="4613400"/>
              <a:ext cx="244440" cy="28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67440" y="4510080"/>
              <a:ext cx="245880" cy="4140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681960" y="4449600"/>
              <a:ext cx="249120" cy="3492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99360" y="4295880"/>
              <a:ext cx="245880" cy="4752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3520" y="4400640"/>
              <a:ext cx="245880" cy="1000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147680" y="4424400"/>
              <a:ext cx="247680" cy="1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763640" y="4368960"/>
              <a:ext cx="246240" cy="997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378160" y="4456080"/>
              <a:ext cx="245880" cy="954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992320" y="4484520"/>
              <a:ext cx="249480" cy="954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610080" y="4484520"/>
              <a:ext cx="244440" cy="88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222800" y="4522680"/>
              <a:ext cx="245880" cy="810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36960" y="4410000"/>
              <a:ext cx="249480" cy="810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454720" y="4513320"/>
              <a:ext cx="244440" cy="1000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067440" y="4413240"/>
              <a:ext cx="245880" cy="968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681960" y="4343400"/>
              <a:ext cx="249120" cy="1062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299360" y="4192560"/>
              <a:ext cx="245880" cy="1033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3520" y="4135320"/>
              <a:ext cx="245880" cy="26532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147680" y="4170240"/>
              <a:ext cx="247680" cy="25416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763640" y="4110120"/>
              <a:ext cx="246240" cy="25884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78160" y="4195800"/>
              <a:ext cx="245880" cy="26028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992320" y="4205160"/>
              <a:ext cx="249480" cy="27936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610080" y="4227480"/>
              <a:ext cx="244440" cy="25704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222800" y="4254480"/>
              <a:ext cx="245880" cy="26820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836960" y="4129200"/>
              <a:ext cx="249480" cy="28080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454720" y="4221000"/>
              <a:ext cx="244440" cy="29232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067440" y="4170240"/>
              <a:ext cx="245880" cy="24300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681960" y="4071960"/>
              <a:ext cx="249120" cy="27144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299360" y="3933720"/>
              <a:ext cx="245880" cy="25884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3520" y="3946680"/>
              <a:ext cx="245880" cy="1886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147680" y="3949560"/>
              <a:ext cx="247680" cy="2206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763640" y="3905280"/>
              <a:ext cx="246240" cy="2048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78160" y="3968640"/>
              <a:ext cx="245880" cy="2271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992320" y="3975120"/>
              <a:ext cx="249480" cy="2300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610080" y="4029120"/>
              <a:ext cx="244440" cy="1983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222800" y="4038480"/>
              <a:ext cx="245880" cy="2160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36960" y="3905280"/>
              <a:ext cx="249480" cy="223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454720" y="3984480"/>
              <a:ext cx="244440" cy="2365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67440" y="3930480"/>
              <a:ext cx="245880" cy="2397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681960" y="3860640"/>
              <a:ext cx="249120" cy="2113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299360" y="3741840"/>
              <a:ext cx="245880" cy="191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33520" y="3849840"/>
              <a:ext cx="245880" cy="96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147680" y="3849840"/>
              <a:ext cx="247680" cy="9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763640" y="3801960"/>
              <a:ext cx="246240" cy="103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378160" y="3860640"/>
              <a:ext cx="245880" cy="1080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992320" y="3860640"/>
              <a:ext cx="249480" cy="1144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610080" y="3911760"/>
              <a:ext cx="244440" cy="117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222800" y="3921120"/>
              <a:ext cx="245880" cy="117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836960" y="3789360"/>
              <a:ext cx="249480" cy="115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454720" y="3879720"/>
              <a:ext cx="244440" cy="104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067440" y="3824280"/>
              <a:ext cx="245880" cy="106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681960" y="3776760"/>
              <a:ext cx="249120" cy="83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299360" y="3641760"/>
              <a:ext cx="245880" cy="100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3520" y="3635280"/>
              <a:ext cx="245880" cy="2145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147680" y="3641760"/>
              <a:ext cx="247680" cy="2080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763640" y="3591000"/>
              <a:ext cx="246240" cy="210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378160" y="3654360"/>
              <a:ext cx="245880" cy="2062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92320" y="3657600"/>
              <a:ext cx="249480" cy="2030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610080" y="3713040"/>
              <a:ext cx="244440" cy="1987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222800" y="3703680"/>
              <a:ext cx="245880" cy="217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836960" y="3575160"/>
              <a:ext cx="249480" cy="214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454720" y="3664080"/>
              <a:ext cx="244440" cy="21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067440" y="3613320"/>
              <a:ext cx="245880" cy="210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681960" y="3571920"/>
              <a:ext cx="249120" cy="2048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299360" y="3446640"/>
              <a:ext cx="245880" cy="1951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33520" y="3213000"/>
              <a:ext cx="245880" cy="42228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147680" y="3241800"/>
              <a:ext cx="247680" cy="39996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763640" y="3203640"/>
              <a:ext cx="246240" cy="38736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378160" y="3279600"/>
              <a:ext cx="245880" cy="37476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992320" y="3276720"/>
              <a:ext cx="249480" cy="38088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610080" y="3313080"/>
              <a:ext cx="244440" cy="39996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22800" y="3276720"/>
              <a:ext cx="245880" cy="42696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36960" y="3146400"/>
              <a:ext cx="249480" cy="42876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454720" y="3225960"/>
              <a:ext cx="244440" cy="43812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067440" y="3165480"/>
              <a:ext cx="245880" cy="44784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681960" y="3152880"/>
              <a:ext cx="249120" cy="41904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299360" y="3049560"/>
              <a:ext cx="245880" cy="39708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33520" y="1393920"/>
              <a:ext cx="245880" cy="181908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147680" y="1393920"/>
              <a:ext cx="247680" cy="184788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763640" y="1393920"/>
              <a:ext cx="246240" cy="18097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378160" y="1393920"/>
              <a:ext cx="245880" cy="188568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92320" y="1393920"/>
              <a:ext cx="249480" cy="188280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610080" y="1393920"/>
              <a:ext cx="244440" cy="191916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222800" y="1393920"/>
              <a:ext cx="245880" cy="188280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836960" y="1393920"/>
              <a:ext cx="249480" cy="175248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454720" y="1393920"/>
              <a:ext cx="244440" cy="183204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67440" y="1393920"/>
              <a:ext cx="245880" cy="177156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681960" y="1393920"/>
              <a:ext cx="249120" cy="175896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299360" y="1393920"/>
              <a:ext cx="245880" cy="165564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51000" y="1393920"/>
              <a:ext cx="1440" cy="417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9600" y="556416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9600" y="514980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9600" y="473076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09600" y="431496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9600" y="389556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9600" y="348156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9600" y="306216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09600" y="264636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09600" y="222732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09600" y="181296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9600" y="139392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51000" y="5564160"/>
              <a:ext cx="7380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351000" y="556380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965160" y="556380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1581120" y="556380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2195640" y="556380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2809800" y="556380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3427560" y="556380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4040280" y="556380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 flipV="1">
            <a:off x="4654440" y="55638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5272200" y="55638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5884920" y="55638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6499080" y="55638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7116840" y="55638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7731000" y="55638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72040" y="4957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,4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186560" y="49356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,3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799280" y="49356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,5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449440" y="4944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,5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031200" y="49816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,4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645360" y="49546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,6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261320" y="49975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,2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875840" y="49165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,1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522760" y="4981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,9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105960" y="49165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,0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720480" y="48560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,5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334640" y="47926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,2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04800" y="41767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,4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218960" y="42022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,1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832040" y="41450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,2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449440" y="4232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,2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63960" y="4260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,7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676680" y="4260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,2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294080" y="4299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,4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908600" y="4186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,7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522760" y="428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7,0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138720" y="41893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5,8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753240" y="4119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,5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367400" y="3968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,2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1560" y="3921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216080" y="39560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3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828800" y="3895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,9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44620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5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060720" y="3990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5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673440" y="40132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,7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290840" y="40417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2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905360" y="3914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4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519880" y="40068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7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135480" y="39560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8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750000" y="3857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0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364520" y="37195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,6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1560" y="36352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2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216080" y="36352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0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828800" y="3587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0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446200" y="36482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0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060720" y="36482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,9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673440" y="3697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,8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290840" y="3706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2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905360" y="3575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1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519880" y="3666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2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13548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1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750000" y="3562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,9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64520" y="3427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,7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72040" y="33386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,1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218960" y="33577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,6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832040" y="331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,3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449440" y="338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,0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063960" y="338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,2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676680" y="3430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,6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261320" y="34052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,3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875840" y="32796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,3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490000" y="33606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,5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105960" y="33066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,7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720480" y="32796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,0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67400" y="31622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,5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22440" y="2217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235160" y="223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849680" y="2214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3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467080" y="2252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081600" y="2249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694320" y="2268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311720" y="2249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926240" y="2185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538960" y="2224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156360" y="2195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3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770880" y="218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385040" y="213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1560" y="5486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0%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-11880" y="50706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-11880" y="4651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0%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-11880" y="42354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30%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-11880" y="38178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40%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-11880" y="34020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-11880" y="29829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60%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-11880" y="25671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70%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-11880" y="21495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80%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-11880" y="17334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-84960" y="13143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rot="18900000">
            <a:off x="56160" y="5889600"/>
            <a:ext cx="59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JANUARY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rot="18900000">
            <a:off x="584280" y="5927400"/>
            <a:ext cx="68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FEBRUARY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rot="18900000">
            <a:off x="1397160" y="5838480"/>
            <a:ext cx="46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MARCH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rot="18900000">
            <a:off x="2098800" y="5805360"/>
            <a:ext cx="36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APRIL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rot="18900000">
            <a:off x="2792880" y="5771880"/>
            <a:ext cx="27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MAY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rot="18900000">
            <a:off x="3359160" y="578952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JUNE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18900000">
            <a:off x="3997440" y="5779800"/>
            <a:ext cx="30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JULY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rot="18900000">
            <a:off x="4413240" y="5867280"/>
            <a:ext cx="52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AUGUST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rot="18900000">
            <a:off x="4805280" y="5963760"/>
            <a:ext cx="77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SEPTEMBER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rot="18900000">
            <a:off x="5559480" y="5904000"/>
            <a:ext cx="62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OCTOBER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rot="18900000">
            <a:off x="6084360" y="5941800"/>
            <a:ext cx="72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NOVEMBER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rot="18900000">
            <a:off x="6707520" y="5938200"/>
            <a:ext cx="715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DECEMBER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837560" y="1432080"/>
            <a:ext cx="1206360" cy="4198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872480" y="1477800"/>
            <a:ext cx="81000" cy="8280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031600" y="1444680"/>
            <a:ext cx="43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GYÉB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872480" y="1778040"/>
            <a:ext cx="81000" cy="810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8047080" y="1743120"/>
            <a:ext cx="81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P TOTAL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872480" y="2073240"/>
            <a:ext cx="81000" cy="824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8042760" y="2038320"/>
            <a:ext cx="70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A TOTAL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872480" y="2371680"/>
            <a:ext cx="81000" cy="82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031600" y="233856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872480" y="2668680"/>
            <a:ext cx="81000" cy="8100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8029800" y="263376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872480" y="2967120"/>
            <a:ext cx="81000" cy="8244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8058600" y="2932200"/>
            <a:ext cx="995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NNY MARKET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872480" y="3263760"/>
            <a:ext cx="81000" cy="81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8030520" y="322884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AR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872480" y="3562200"/>
            <a:ext cx="81000" cy="8280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039520" y="3527280"/>
            <a:ext cx="54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ISERS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872480" y="3857760"/>
            <a:ext cx="81000" cy="8244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056440" y="3824280"/>
            <a:ext cx="92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CH/SMATC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8019000" y="39751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872480" y="4157640"/>
            <a:ext cx="81000" cy="81000"/>
          </a:xfrm>
          <a:prstGeom prst="rect">
            <a:avLst/>
          </a:prstGeom>
          <a:solidFill>
            <a:srgbClr val="66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034840" y="412272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872480" y="4452840"/>
            <a:ext cx="81000" cy="828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8032680" y="4417920"/>
            <a:ext cx="43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872480" y="4753080"/>
            <a:ext cx="81000" cy="81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046360" y="4718160"/>
            <a:ext cx="72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SPAR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872480" y="5048280"/>
            <a:ext cx="81000" cy="824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8031960" y="5013360"/>
            <a:ext cx="36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A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872480" y="5346720"/>
            <a:ext cx="81000" cy="824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8040960" y="531324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CHAN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d6e9"/>
                </a:solidFill>
                <a:latin typeface="Tahoma"/>
              </a:rPr>
              <a:t>A kereskedelmi láncok részesedése az élelmiszer kereskedelemben 2002.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VENTORY-PURCHAS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Áruválaszték és beszerzési utak vizsgálata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1046880"/>
            <a:ext cx="9144000" cy="56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76320" bIns="0" anchor="ctr">
            <a:spAutoFit/>
          </a:bodyPr>
          <a:p>
            <a:pPr marL="457200" indent="-457200">
              <a:lnSpc>
                <a:spcPct val="110000"/>
              </a:lnSpc>
              <a:spcBef>
                <a:spcPts val="876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99"/>
                </a:solidFill>
                <a:latin typeface="Tahoma"/>
              </a:rPr>
              <a:t>A beszerzési piackutatás, és stratégia alapján =&gt; beszerzési politika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876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99"/>
                </a:solidFill>
                <a:latin typeface="Tahoma"/>
              </a:rPr>
              <a:t>Áruinformációk, árualapok a beszerzési piacon 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876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99"/>
                </a:solidFill>
                <a:latin typeface="Tahoma"/>
              </a:rPr>
              <a:t>Az ipari és kereskedelmi márkák szerepe a választékban,</a:t>
            </a:r>
            <a:r>
              <a:rPr b="0" lang="hu-HU" sz="20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876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99"/>
                </a:solidFill>
                <a:latin typeface="Tahoma"/>
              </a:rPr>
              <a:t>Áruválaszték kialakítás szempontrendszere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88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Tahoma"/>
              </a:rPr>
              <a:t>új áruk felvétele, belistázás, polcdíj, belistázási díj stb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88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Tahoma"/>
              </a:rPr>
              <a:t>választék szűkítés =&gt; diszkontüzlet, kilistázás és feltételei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88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Tahoma"/>
              </a:rPr>
              <a:t>meglevők áruk helyettesíthetősége,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88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Tahoma"/>
              </a:rPr>
              <a:t>a szempontrendszer együttes kezelése, a scoring modell,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876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99"/>
                </a:solidFill>
                <a:latin typeface="Tahoma"/>
              </a:rPr>
              <a:t>A beszerzési utak vizsgálata –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88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Tahoma"/>
              </a:rPr>
              <a:t>közvetlen,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88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Tahoma"/>
              </a:rPr>
              <a:t>közvetett beszerzési lehetőségek,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88"/>
              </a:spcBef>
              <a:spcAft>
                <a:spcPts val="113"/>
              </a:spcAft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Tahoma"/>
              </a:rPr>
              <a:t>közös beszerzési társaságok szerepe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876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Tahoma"/>
              </a:rPr>
              <a:t>A beszerzési kapcsolatok vizsgálata, a beszerzési alku politika,</a:t>
            </a:r>
            <a:r>
              <a:rPr b="1" lang="hu-HU" sz="20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VENTORY-PURCHAS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A szállítók elemzése, kiválasztása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 szállítók elemzésének lényege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 szállító kiválasztásának fő kritériumai: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Mi a célpiac igénye, milyen a szállító árujának továbbértékesíthetősége?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Milyen az áru és a gyártó hírneve?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Milyen a szállító hírneve?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Milyen a szállítás megbízhatósága és gyorsasága? Mérésükre a rendeléstől a szállításig eltelt idő hossza és ingadozása ad lehetőséget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z áru hazai vagy importtermék-e?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 szállító jellemző szállítási és a fizetési feltételei, fuvarparitás.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 szezonális vásárlás esetleges előnyei,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 szállítónál elérhető árengedmények, kedvezmények, akciók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7:32:23Z</dcterms:created>
  <dc:creator>Gaál Bence</dc:creator>
  <dc:description/>
  <dc:language>en-US</dc:language>
  <cp:lastModifiedBy> bgf-kvifk</cp:lastModifiedBy>
  <dcterms:modified xsi:type="dcterms:W3CDTF">2007-11-28T15:00:38Z</dcterms:modified>
  <cp:revision>106</cp:revision>
  <dc:subject/>
  <dc:title>A kereskedelem szerepe a nemzetgazdaságban</dc:title>
</cp:coreProperties>
</file>