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4DB-D3D6-4791-8F74-D4663AB8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CBC-76E7-4F88-B7C6-7C093049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589-A6E0-4045-ADB1-BC0D71CD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753-A853-4ECA-A39E-B38F6D73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6A7-8A0F-46E5-B74B-BFC1ECE6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1F5A-6BEB-475B-9D40-C6EBF4EC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1854-5024-4B3E-8D36-0FD15A5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2BA5-E8F9-43CB-AAD6-843CD3E0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A19-1273-4D98-8669-A0FCA023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237B-1AAF-452E-BC07-4FCA271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D291-25CC-41EA-9BF3-DF36A34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08B-EDF1-4592-8472-BEBE0522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4F35-3CDC-48D4-85C2-D392617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D592-07DA-442B-99CE-00A4DF6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09BE-174F-4D6D-88E6-133E5D41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34EA-5976-4C30-B875-8858A53C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E3D-6862-4126-8F44-840AF076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8C65-2AC4-4BA5-816B-0D8A65EA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9FD8-5A85-4FB6-9089-92C6C13E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46B7-8E31-4132-A109-71F284CF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0C7A-AA7E-4322-BB84-A0BE90DD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929B-C9C0-48DC-BADD-E3415A4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A99-7EFA-4396-97CE-58E30B18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01C9-2BE8-45CE-AC99-C52E0047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CF09-FB61-4CB1-BC96-045A90E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BA8F-62D7-4295-9140-5AF0573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3143-708B-47F6-AB2B-E6DE8B83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E192-8F21-4FAA-B41C-ED70635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EE35-F2E0-4E8E-9FDB-9E44F0F4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235A-B844-4643-B6A2-A411003C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A6D5-880E-4C36-870C-F4B28EF4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055F-6ED3-4C7E-B77C-C32A7F71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F462-00DF-412F-8FB6-49061A40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0A3-B8E7-4896-BDC8-C53FFEF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21C7-0F5E-478E-9CC6-10FF4FB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F7B5-1564-49BE-8EB7-D0FAF23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379C-E74A-4848-8FA1-2A3C7411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C9F3-1344-4C27-900F-0065E8E1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915C-CD44-49A1-B48B-FF61557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7980-FFF9-44D3-B172-2681136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A9860-CD68-4B2E-B189-4A493954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28CC-0458-4FA8-A580-0DDF61CB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27384-52B4-4B87-AEBD-FC6D235D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702-9178-4DFA-857F-42FBD686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C44-0B98-483B-BFA2-00D7FF3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E71-948D-4CC1-84EE-07B62144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8C1-6650-40FD-A4B6-C3A7B85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7C9-293A-40EA-AED1-8556445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9389-33CA-43C8-A3CB-15BCA17EEE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3A6E-6528-4723-B644-E305A61D14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F223-8E6A-4BE1-A587-6EA6B9EB7BB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FA94-346F-414E-80D9-3BBE1760F31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000" spc="-1" strike="noStrike">
                <a:solidFill>
                  <a:srgbClr val="800080"/>
                </a:solidFill>
                <a:latin typeface="Tahoma"/>
              </a:rPr>
              <a:t>Sales Management in Commerce</a:t>
            </a:r>
            <a:br>
              <a:rPr sz="4400"/>
            </a:br>
            <a:r>
              <a:rPr b="1" lang="en-GB" sz="2400" spc="-1" strike="noStrike">
                <a:solidFill>
                  <a:srgbClr val="800080"/>
                </a:solidFill>
                <a:latin typeface="Tahoma"/>
              </a:rPr>
              <a:t>(Sales Analysis and Planning of the Trade Companies)</a:t>
            </a:r>
            <a:br>
              <a:rPr sz="4400"/>
            </a:br>
            <a:br>
              <a:rPr sz="3300"/>
            </a:br>
            <a:br>
              <a:rPr sz="3000"/>
            </a:br>
            <a:r>
              <a:rPr b="1" i="1" lang="en-GB" sz="3700" spc="-1" strike="noStrike">
                <a:solidFill>
                  <a:srgbClr val="990000"/>
                </a:solidFill>
                <a:latin typeface="Times New Roman"/>
              </a:rPr>
              <a:t>Mr. Csaba Sólyom</a:t>
            </a:r>
            <a:br>
              <a:rPr sz="3700"/>
            </a:br>
            <a:r>
              <a:rPr b="0" lang="en-GB" sz="1400" spc="-1" strike="noStrike">
                <a:solidFill>
                  <a:srgbClr val="990000"/>
                </a:solidFill>
                <a:latin typeface="Tahoma"/>
              </a:rPr>
              <a:t>senior lecturer </a:t>
            </a:r>
            <a:br>
              <a:rPr sz="1400"/>
            </a:br>
            <a:r>
              <a:rPr b="0" lang="en-GB" sz="1400" spc="-1" strike="noStrike">
                <a:solidFill>
                  <a:srgbClr val="990000"/>
                </a:solidFill>
                <a:latin typeface="Tahoma"/>
              </a:rPr>
              <a:t>BBS-FCCT Institute of Commerce</a:t>
            </a:r>
            <a:br>
              <a:rPr sz="1400"/>
            </a:br>
            <a:r>
              <a:rPr b="0" lang="en-GB" sz="1400" spc="-1" strike="noStrike">
                <a:solidFill>
                  <a:srgbClr val="990000"/>
                </a:solidFill>
                <a:latin typeface="Tahoma"/>
              </a:rPr>
              <a:t>awarded by the French </a:t>
            </a:r>
            <a:r>
              <a:rPr b="0" lang="fr-FR" sz="1400" spc="-1" strike="noStrike">
                <a:solidFill>
                  <a:srgbClr val="990000"/>
                </a:solidFill>
                <a:latin typeface="Tahoma"/>
              </a:rPr>
              <a:t>„l’ Ordre des Palmes Académiques”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Budapest, November, 2007.</a:t>
            </a:r>
            <a:r>
              <a:rPr b="1" lang="hu-HU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Analyzing the Structure of Sales Turnover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Main objectives of these investigation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The sales analysis of articles, article groups or sales turnover of shops and firms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Analysis of assortment wideness and deepness of goods in the retail company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Analysis of concentration within the sales turnover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612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Analysis of sales turnover on the level of shops, organisational entities, divisions, regions etc.</a:t>
            </a:r>
            <a:r>
              <a:rPr b="1" lang="en-GB" sz="1400" spc="-1" strike="noStrike">
                <a:solidFill>
                  <a:srgbClr val="0066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Methods, and figures  commonly used in structure analysi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The identification and structural analysis of sales on the level of article item, article group, shops, region, division by indexes indicating the share of the item within the total sale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Measurement methods for the concentration of sales turnover within the firm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Concentration table (decilis)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Lorenz curve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Concentration ratio = the share of the biggest sales value of an article from the total sales value of the company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ABC analysis of sales turnover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Sales Development Influencing Factors-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Factors influencing sales turnover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Number of customers per day or customers per month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value per custom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Development of opening hours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Influence of average and standard deviation of assortment’s wideness and deepness on sales turnov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Interrelationships of sales turnover development and average inventory changes – the stockturn frequenc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tockturn frequency = sales value / average stock value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tockturn days = average stock value * number of days of the period / sales value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Sales Development Influencing Factors-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Development of trade performance figures related to sales turnover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turnover per square meter sales territory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turnover per working hour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turnover per sales person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Figures representing the relationships of sales turnover and profitability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Gross profit ratio = gross profit value / sales valu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Gross profit contribution = gross profit value / average inventory valu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Sales elasticity on prices 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= sales changes percentage / price changes percentag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Sales Analysis Process and Data Presentation-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etting up an initial working hypothesis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Data collection, sorting and check on compatibility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Calculation of data errors, especially relative error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Calculation of figures and indexes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etting up statistical tables and diagram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Formulating the evaluations and conclusions of sales analysi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4508640"/>
          <a:ext cx="633744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508640"/>
                    <a:ext cx="63374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Sales Analysis Process and Data Presentation-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4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Evaluation =&gt; new conclusions =&gt; modified working hypothesis =&gt; new data collection =&gt; data check =&gt;  calculation of new figures and indexes =&gt; new tables and diagrams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4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Sales analysis = iterative process =&gt; conclusion will be refined this is the real challenge of analysis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4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Main methods of data presentation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5000"/>
              </a:lnSpc>
              <a:spcBef>
                <a:spcPts val="876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tatistical tables, 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in which the identification of its rows and columns should be defined clearly, as the measure units used in the table. It is important to put checksums into the tables.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5000"/>
              </a:lnSpc>
              <a:spcBef>
                <a:spcPts val="876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Graphical presentation, 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have increasing emphasis because of the majority of people are visual types and understand diagrams better than any other presentations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Sales Planning in Commerc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Company strategy =&gt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business plan content =&gt;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marketing and sales strategy =&gt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sales policies (tactical mean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The sales planning process is based on the Marketing Information Syst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Planning steps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Analysis and Evaluation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Forecast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Plann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he Problem of Sales Forecasting in Commerce</a:t>
            </a: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What to forecast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Market potential and the market siz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The sales potential of the company – the sales opportunities on the basis of supply sources and the market share of the fir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Observe the life cycle of goods merchandised, because this may limit sales expectatio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Tahoma"/>
              </a:rPr>
              <a:t>Introduction phase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Tahoma"/>
              </a:rPr>
              <a:t>Growth phase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Tahoma"/>
              </a:rPr>
              <a:t>Maturity phase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Tahoma"/>
              </a:rPr>
              <a:t>Decline phas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You have to choose the forecasting method and techniques depending from the market position and the company size.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Sales Forecasting</a:t>
            </a: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Qualitative methods</a:t>
            </a: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Jury of executive opinio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Delphi technique of market research companies and exper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Survey of buyer’s intention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Quantitative metho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On the basis of analytical trends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Forecasting on moving averages: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+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= (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+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-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+ … +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-k+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) / k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Exponential smoothing: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+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= a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+ a(1 - a)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-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+ a(1 – a)</a:t>
            </a:r>
            <a:r>
              <a:rPr b="1" lang="en-GB" sz="1800" spc="-1" strike="noStrike" baseline="30000">
                <a:solidFill>
                  <a:srgbClr val="006699"/>
                </a:solidFill>
                <a:latin typeface="Arial Narrow"/>
              </a:rPr>
              <a:t>2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+ … + a(1-a)</a:t>
            </a:r>
            <a:r>
              <a:rPr b="1" lang="en-GB" sz="1800" spc="-1" strike="noStrike" baseline="30000">
                <a:solidFill>
                  <a:srgbClr val="006699"/>
                </a:solidFill>
                <a:latin typeface="Arial Narrow"/>
              </a:rPr>
              <a:t>t-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10000"/>
              </a:lnSpc>
              <a:spcBef>
                <a:spcPts val="675"/>
              </a:spcBef>
              <a:spcAft>
                <a:spcPts val="224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Box-Jenkins models: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= β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-1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+ β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2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-2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+ … + β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k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 y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-k  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+ u</a:t>
            </a:r>
            <a:r>
              <a:rPr b="1" lang="en-GB" sz="1800" spc="-1" strike="noStrike" baseline="-25000">
                <a:solidFill>
                  <a:srgbClr val="006699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110000"/>
              </a:lnSpc>
              <a:spcBef>
                <a:spcPts val="7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Correlations and regression analysis</a:t>
            </a: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Advantage: you can use the relationships among influencing factors and results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110000"/>
              </a:lnSpc>
              <a:spcBef>
                <a:spcPts val="700"/>
              </a:spcBef>
              <a:buClr>
                <a:srgbClr val="0066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There are problems when the independent variables of the regression function are not independent (problem of multi-colinearity)</a:t>
            </a:r>
            <a:r>
              <a:rPr b="1" lang="en-GB" sz="1400" spc="-1" strike="noStrike">
                <a:solidFill>
                  <a:srgbClr val="006699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Implementing econometric models</a:t>
            </a:r>
            <a:r>
              <a:rPr b="1" lang="hu-HU" sz="1400" spc="-1" strike="noStrike">
                <a:solidFill>
                  <a:srgbClr val="006699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Sales Cost Estimations</a:t>
            </a: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When picking up an article into assortment it is necessary to analyze the profitability of the merchandize, sales budget will be set up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budget planning comprise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variable costs of sales activitie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fixed costs of sales activit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most important items of the sales budget: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Labour costs (salaries, commissions, bonuses etc.)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Travelling and telecommunication costs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Promotion costs (advertisement, leaflet and brochures costs, exhibition costs etc.)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Associated services costs (packing, installation etc.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Costs of customer services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Administrations and overhead cos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24000" y="5229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e103"/>
                </a:solidFill>
                <a:latin typeface="Times New Roman"/>
              </a:rPr>
              <a:t>Thanks for your attention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he Definition of „Sales”:</a:t>
            </a: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sales of goods and services against documents (invoices or blocs) irrespectively from its payment time and payment form, when the customer will pay the bill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Special features of sales activities in Commerce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7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Assortment of goods are wide and deep, article type numbers  merchandised go from 800 to 120000 in retail firms, and move between  200 and 30000 in the wholesale companie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7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There are a lot of various sales methods and techniques used in Commerce: traditional, self-service, cash &amp; carry, electronic sales etc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7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The distribution chain chosen is an important part of sales managem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he Contents of Sales Management activity in Commerce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Analysis and Planning Processe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75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Definition of sales objectives,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75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Calculation of sales forecasts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75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Forecasts for sales costs estimation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Sales Management Process – the role of personal sale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The Sales Management Environm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99040" y="1075680"/>
            <a:ext cx="7900560" cy="5579280"/>
            <a:chOff x="599040" y="1075680"/>
            <a:chExt cx="7900560" cy="5579280"/>
          </a:xfrm>
        </p:grpSpPr>
        <p:sp>
          <p:nvSpPr>
            <p:cNvPr id="523" name=""/>
            <p:cNvSpPr/>
            <p:nvPr/>
          </p:nvSpPr>
          <p:spPr>
            <a:xfrm>
              <a:off x="599040" y="1075680"/>
              <a:ext cx="7900560" cy="5579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1600" y="3713400"/>
              <a:ext cx="75520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99"/>
                  </a:solidFill>
                  <a:latin typeface="Arial"/>
                </a:rPr>
                <a:t>Factors influencing the Sales Management System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23200" y="1481400"/>
              <a:ext cx="3369240" cy="10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"/>
                </a:rPr>
                <a:t>Social and cultural factors</a:t>
              </a:r>
              <a:r>
                <a:rPr b="0" lang="en-GB" sz="1600" spc="-1" strike="noStrike">
                  <a:solidFill>
                    <a:srgbClr val="006699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006699"/>
                  </a:solidFill>
                  <a:latin typeface="Arial Narrow"/>
                </a:rPr>
                <a:t>(distribution of the population and  house-holds from the point of age, education, geographical place., cultural habits)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64160" y="2698560"/>
              <a:ext cx="3252960" cy="8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"/>
                </a:rPr>
                <a:t>Political and legal issues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99"/>
                  </a:solidFill>
                  <a:latin typeface="Arial Narrow"/>
                </a:rPr>
                <a:t>(competition law, pricing rules, defending consumer rights)  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98160" y="2698560"/>
              <a:ext cx="3136680" cy="8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"/>
                </a:rPr>
                <a:t>Development of Sales Techniques</a:t>
              </a:r>
              <a:r>
                <a:rPr b="0" lang="en-GB" sz="1800" spc="-1" strike="noStrike">
                  <a:solidFill>
                    <a:srgbClr val="006699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99"/>
                  </a:solidFill>
                  <a:latin typeface="Arial Narrow"/>
                </a:rPr>
                <a:t>(techniques, logistics, communication)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6699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0080" y="4321800"/>
              <a:ext cx="3137040" cy="9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"/>
                </a:rPr>
                <a:t>Competition conditions, actions of competitors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99"/>
                  </a:solidFill>
                  <a:latin typeface="Arial Narrow"/>
                </a:rPr>
                <a:t>(monopoly-positions, market relations)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98160" y="4321800"/>
              <a:ext cx="3020760" cy="9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"/>
                </a:rPr>
                <a:t>Economic Environment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99"/>
                  </a:solidFill>
                  <a:latin typeface="Arial Narrow"/>
                </a:rPr>
                <a:t>(incomes and purchasing power of population, inflation, household savings and debts, unemployment)</a:t>
              </a:r>
              <a:r>
                <a:rPr b="0" lang="en-GB" sz="1200" spc="-1" strike="noStrike">
                  <a:solidFill>
                    <a:srgbClr val="006699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The Sales Analysis Objectiv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Investigation of the company’s present position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Analysis of sales development in time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Analysis of the sales influencing factors and their relationships to sales value and sales structure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Discovering the negative trends in sales developmen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Estimating and forecasting the profitability of the actual sales campaigns in the retail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Information on the expected development factors (trend, seasonal indexes, weekly cycles (supposed they will be dominant in the future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Verdana"/>
              </a:rPr>
              <a:t>Other special objectiv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Contents of The Sales Analysis Proces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nalysis of sales turnover value and volum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nalysis of sales value development in tim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nalysis of sales structure (shares of various goods, shops etc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nalysis of interrelationships between sales development and its influencing factor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Calculation and analysis of sales turnover representing figur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nalysis of the sales turnover and the figures of performance and profitabilit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Comparisons of sales turnover figures of our company to the similar figures of other firms in the same branch and to the averages figures of firms in the same branc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nalysis of sales and marketing campaigns of retail firms on the basis of hypothesis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Analyzing Sales volumes and valu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most important figures related to sales values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value on current prices = (unit sales price * sales volume) + price add-on – discounts + other servic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value per da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Number of customers per day =&gt; sales value per customer important indicator of sales efficienc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2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Number of visitors per da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ales value on fixed prices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 calculated from sales value on current prices –&gt; dividing it by price index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Interrelationships of value, volume and price indexes – calculation of price development outcomes on sales value change in percentage and in value chang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Direct and indirect methods of sales figures in the retail companies (Data content of invoices and cash system data files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Some Data of the 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Top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Hungarian Retail Companies in 2005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1052640"/>
          <a:ext cx="9144000" cy="5682960"/>
        </p:xfrm>
        <a:graphic>
          <a:graphicData uri="http://schemas.openxmlformats.org/drawingml/2006/table">
            <a:tbl>
              <a:tblPr/>
              <a:tblGrid>
                <a:gridCol w="2556000"/>
                <a:gridCol w="1152360"/>
                <a:gridCol w="1800360"/>
                <a:gridCol w="1917720"/>
                <a:gridCol w="17175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Number of shop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Sales (incl. VAT)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(billion EUR)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Sales (incl. VAT) (billion HUF)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Sales per shop (billion HUF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esco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,83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66,6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8,18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etro Cash</a:t>
                      </a:r>
                      <a:r>
                        <a:rPr b="1" lang="hu-HU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&amp;</a:t>
                      </a:r>
                      <a:r>
                        <a:rPr b="1" lang="hu-HU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arr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,03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62,6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0,20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or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4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07,10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5,30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Profi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1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8,2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52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3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27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8,8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52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ucha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7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91,2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9,12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Penn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4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51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30,0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87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Plu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41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04,5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63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Lid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20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1,00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oop Hungar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 96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,51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85,0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07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dm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14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5,70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19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Rossman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4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13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3,1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,23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Sales Development Analysis-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788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Calculations of sales development indexes and index series (basis and chain indexes; plan and plan fulfilment indexes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788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The main factors influencing sales value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788"/>
              </a:spcBef>
              <a:buClr>
                <a:srgbClr val="0066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Trend effects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788"/>
              </a:spcBef>
              <a:buClr>
                <a:srgbClr val="0066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Seasonal development effects,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788"/>
              </a:spcBef>
              <a:buClr>
                <a:srgbClr val="0066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Cyclic development effects and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788"/>
              </a:spcBef>
              <a:buClr>
                <a:srgbClr val="0066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Random development effec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788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Trend calculation methods – problems of time series analysi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Moving average trend calculations, its advantages and disadvantages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The analytical trend calculations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buClr>
                <a:srgbClr val="00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 Narrow"/>
              </a:rPr>
              <a:t>The calculation method =&gt; minimizing the sum of square of differences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buClr>
                <a:srgbClr val="00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 Narrow"/>
              </a:rPr>
              <a:t>The most important analytical trend functions (linear, exponential, parabolic, hyperbolic, logistical functions, Fourier series)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buClr>
                <a:srgbClr val="00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 Narrow"/>
              </a:rPr>
              <a:t>Advantages and disadvantages of analytical trends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SAL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ales Development Analysis-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Measurement of seasonal changes in sales value, the definition and calculation of seasonal index, fix and variable seasonalit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necessity and meaning of seasonal corrections in time series in the practical life of trading enterprises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Estimating the cycle effects within sales turnover development (calculation of moving average minus analytical trend valu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Estimation of sales forecasting value exactness and random error on the basis of  trend calculations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The interpretation of confidence intervals in sales forecasting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Understanding the confidence path in sales forecasts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10000"/>
              </a:lnSpc>
              <a:spcBef>
                <a:spcPts val="901"/>
              </a:spcBef>
              <a:buClr>
                <a:srgbClr val="0066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The implementation of statistical tes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nalyzing and maintaining the compatibility of data in sales analysi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7-11-28T10:10:16Z</dcterms:modified>
  <cp:revision>90</cp:revision>
  <dc:subject/>
  <dc:title>A kereskedelem szerepe a nemzetgazdaságban</dc:title>
</cp:coreProperties>
</file>