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2D42-F577-4A09-B315-157417106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36B8-726A-4FCE-80B7-253F8E88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09A0-E00E-4162-8672-42B7D9D2C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974A-2FB7-4295-993F-D632C85E8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AEA3-6229-41A9-BA65-ED606875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42EE-F45D-4D9D-A013-1F92F408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A59D5-68FF-4D1C-95F9-460C4DE3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FED6-0153-4D91-99AA-D94DF219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B86A3-4F38-4BC1-9FE0-CC61E4E3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1815D-62A5-42B0-A79F-2D1312F2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B445-F6B2-4135-93C9-8245C5D7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EC00-ED7D-4263-BFFC-5B53E036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B66C-F0F0-45D4-98A6-3EE0E9EF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30AE-6DBF-4518-9E67-A4C4F058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DF73E-2115-4243-BFA4-577F16DA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2C1F-F22F-4563-9512-19790615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DB9A-0749-4582-908E-E9506F5FA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4243-ED31-475C-A92F-CE08E856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54BF-F49B-4A4B-98AD-6E9CC2D7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5750-9124-44D4-851B-F86AFAFB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EC8A-DF5A-4FA6-A91D-6A0697E2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390C-CF51-4F72-ABE4-2E59C985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8A57-83A7-470B-99F9-E8B7BFD7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45A9-CF50-49AB-A467-73EDD7A5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CF97-E828-4120-AE4C-BAB035F2D989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4750-5E9D-4D12-90BA-CE95E75DCAFE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400" spc="-1" strike="noStrike">
                <a:solidFill>
                  <a:srgbClr val="ffff00"/>
                </a:solidFill>
                <a:latin typeface="Times New Roman"/>
              </a:rPr>
              <a:t>Data structures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EA33-8D90-4755-BBD4-D8FD00E906A3}" type="slidenum">
              <a:t>1</a:t>
            </a:fld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2AE2-5562-4B9A-94A7-644241485A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3ED0-4612-4998-8C13-0873592117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3A5F-5C33-4C7D-AD7B-A67EFF18EA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4A02-8D68-4FDD-B97A-2CF4369602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49F7-9597-4709-A64A-4D32383996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0C7C-5E79-4353-8F6E-0F0411A6C1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CBF3-71CB-48DD-99B9-3199FA3A30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4220-672F-401F-80B5-D58F33E43D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FEE2-4320-45D6-8E77-350B5DB5C2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080B-1847-45E3-9C02-684AAE1E20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Data and infor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153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These are philosophical catego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We are not able to give exact defin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In everyday life we use these concept as synony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We only</a:t>
            </a:r>
            <a:r>
              <a:rPr b="0" i="1" lang="hu-H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have </a:t>
            </a:r>
            <a:r>
              <a:rPr b="0" i="1" lang="hu-HU" sz="3200" spc="-1" strike="noStrike">
                <a:solidFill>
                  <a:srgbClr val="ffffff"/>
                </a:solidFill>
                <a:latin typeface="Times New Roman"/>
              </a:rPr>
              <a:t>ideas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 about these word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32C2-C90A-462D-82E9-47D4FA92D190}" type="slidenum">
              <a:t>2</a:t>
            </a:fld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033E-4D11-4F5C-90E2-A1D6C09A63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7191-217E-4A04-96E1-078BC73E2F2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E253-40F0-4676-AF54-0125CABD4A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1AE6-2845-45E7-9F8B-0AD46A029C0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B06D-A649-457A-BEF7-B3C91A7D497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247D-0852-47B4-B9BE-A6AA5C38DB4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BEB9-B652-4714-B1BA-503C00D2170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3F6A-E5DA-4153-8B32-A451C28ADF3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619A-3B44-4009-A546-F13BAA1B2DD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EB19-5872-4FCC-B885-95E28157AB2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352080"/>
            <a:ext cx="7467480" cy="6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itions of Infor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407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formation is 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.. data processed for a purpose”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R. Curt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r" pos="742968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.. knowledge derived from data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r" pos="742968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.. data placed within a context”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D. Kroen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r" pos="742968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.. the amount of uncertainty that is reduced when a message is received”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Shannon and Wea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300"/>
              </a:spcBef>
              <a:buNone/>
              <a:tabLst>
                <a:tab algn="r" pos="742968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.. a difference that makes a difference”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fc0128"/>
                </a:solidFill>
                <a:latin typeface="Times New Roman"/>
              </a:rPr>
              <a:t>G. Bate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E128-8441-4B8F-9AED-D99AC8E028B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C40A-04C7-4448-BCFC-5533B208AE5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B575-2022-4CD0-9C79-6B7FAC45FC5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227C-3CA7-4043-9F30-852D1D0EA5D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5268-A3FE-4347-878B-44CDA78BFB9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2770-813B-470C-9DA2-617D19FE579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CEA7-AB41-459E-A86A-E9D229127D3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1A4A-54ED-48DD-8100-C9D37BFBD6D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60B1-04F1-4ED3-A3C2-0BB4F262546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38CD-37DF-44A7-A7C2-9481404028C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F7A3-65EC-4E66-955E-7BFC357E990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780B-D5A5-4830-B3D1-B2F6A52B41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A748-E00E-4A59-9A09-1DF7A7A78B5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A54E-EF56-4C31-A254-9B916D9F2DD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E71F-075A-45EC-944E-9FBA8C4424B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877A-4042-4528-B168-89377935028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A510-3C42-43F5-917F-9EC6305C7D0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BBBD-628E-484E-8ED9-C76728A03D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4A50-867F-49CB-9192-B1ED5A72D0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C47B-0084-47AA-99C5-7620B6F810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DF0A-D38C-4508-B44C-1622A69684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72D6-4D3E-4B63-9F1D-CF941DC094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1T19:14:44Z</dcterms:created>
  <dc:creator>Nagy Csaba</dc:creator>
  <dc:description/>
  <dc:language>en-US</dc:language>
  <cp:lastModifiedBy>Administrator</cp:lastModifiedBy>
  <dcterms:modified xsi:type="dcterms:W3CDTF">2004-02-18T11:19:31Z</dcterms:modified>
  <cp:revision>76</cp:revision>
  <dc:subject/>
  <dc:title>Fundamentals of database systems</dc:title>
</cp:coreProperties>
</file>