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834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5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ftr" idx="2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Algorithm: Definition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33360"/>
            <a:ext cx="7775640" cy="43434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 algorithm for solving a problem is a 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finit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sequence of 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unambiguou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executabl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steps/instructions, which if followed would ultimately 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terminat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nd give the solution of the probl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Finite set of step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Unambiguou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Executab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Termina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152280"/>
            <a:ext cx="5105520" cy="75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spAutoFit/>
          </a:bodyPr>
          <a:p>
            <a:pPr>
              <a:lnSpc>
                <a:spcPct val="90000"/>
              </a:lnSpc>
              <a:spcBef>
                <a:spcPts val="2999"/>
              </a:spcBef>
              <a:buClr>
                <a:srgbClr val="ffff00"/>
              </a:buClr>
              <a:buSzPct val="6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 u="sng">
                <a:solidFill>
                  <a:srgbClr val="660066"/>
                </a:solidFill>
                <a:uFillTx/>
                <a:latin typeface="Arial"/>
              </a:rPr>
              <a:t>Hardwar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9" dur="1" fill="hold"/>
                                  <p:tgtEl>
                                    <p:spTgt spid="78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Reasons for Using Binary Number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liability: Computers store information using electronic de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===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ternal representation using electronic quantities such as voltage, current, charge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uilding decimal computer would require 10 different distinct and stable leve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or example: If voltage can vary between 0 and 90 volts. One may use 0, 10, 20, …. as different dig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81" dur="1" fill="hold"/>
                                  <p:tgtEl>
                                    <p:spTgt spid="11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Reasons for Using Binary Number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erfectly fine, in absence of other constrai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nstraint: voltage is not reliable. Specially for old pieces of equipment. If a device storing 6 as 60Volts, loses 10% of its value, then the result is 54V or near the number 5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binary number gives us much more error margi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00" dur="1" fill="hold"/>
                                  <p:tgtEl>
                                    <p:spTgt spid="11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Reasons for Using Binary Number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dditionally many devices have only two stat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agnetized/demagnetiz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harged/discharged capaci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24" dur="1" fill="hold"/>
                                  <p:tgtEl>
                                    <p:spTgt spid="11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Reasons for Using Binary Number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roblem gets more severe for real numb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Your CD player uses approximation and doesn’t represent exact frequency/volume etc. for aud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Your CD player still works because approximations are usually good enough: Your ear is not sensitive enough to notice the differe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nce we have digital data, besides getting reliability we can apply other algorithms, for example compression, which makes it easier to handle the da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48" dur="1" fill="hold"/>
                                  <p:tgtEl>
                                    <p:spTgt spid="11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660066"/>
                </a:solidFill>
                <a:latin typeface="Arial"/>
              </a:rPr>
              <a:t>Boolean Algebra and Gate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Computer operations are based on logic circu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ogic is based on Boolean Algeb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ogic Circuits hav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inputs (each with value 0 or 1 --- false or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outpu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Output depends only on input: Combinatorial Circu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Basic building blocks for circuit: G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Combinatorial circuits are circuits formed using gat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Output depends only on the inp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8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8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8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8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97" dur="1" fill="hold"/>
                                  <p:tgtEl>
                                    <p:spTgt spid="118">
                                      <p:txEl>
                                        <p:pRg st="10" end="1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660066"/>
                </a:solidFill>
                <a:latin typeface="Arial"/>
              </a:rPr>
              <a:t>Gate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1373040" y="2367000"/>
          <a:ext cx="5294520" cy="2976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3040" y="2367000"/>
                    <a:ext cx="5294520" cy="297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883080" y="4795920"/>
            <a:ext cx="181512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2520" rIns="182520" tIns="46080" bIns="4608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Truth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06" dur="1" fill="hold"/>
                                  <p:tgtEl>
                                    <p:spTgt spid="12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660066"/>
                </a:solidFill>
                <a:latin typeface="Arial"/>
              </a:rPr>
              <a:t>Gate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1373040" y="2367000"/>
          <a:ext cx="3710160" cy="2495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3040" y="2367000"/>
                    <a:ext cx="3710160" cy="24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15" dur="1" fill="hold"/>
                                  <p:tgtEl>
                                    <p:spTgt spid="12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660066"/>
                </a:solidFill>
                <a:latin typeface="Arial"/>
              </a:rPr>
              <a:t>Gate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N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373040" y="2576520"/>
          <a:ext cx="6386760" cy="2606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3040" y="2576520"/>
                    <a:ext cx="6386760" cy="260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24" dur="1" fill="hold"/>
                                  <p:tgtEl>
                                    <p:spTgt spid="12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660066"/>
                </a:solidFill>
                <a:latin typeface="Arial"/>
              </a:rPr>
              <a:t>Gate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N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50840" y="2436840"/>
          <a:ext cx="4672080" cy="3478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0840" y="2436840"/>
                    <a:ext cx="4672080" cy="347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33" dur="1" fill="hold"/>
                                  <p:tgtEl>
                                    <p:spTgt spid="13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660066"/>
                </a:solidFill>
                <a:latin typeface="Arial"/>
              </a:rPr>
              <a:t>Gate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X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1000080" y="2476440"/>
          <a:ext cx="6080040" cy="3873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0080" y="2476440"/>
                    <a:ext cx="6080040" cy="387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42" dur="1" fill="hold"/>
                                  <p:tgtEl>
                                    <p:spTgt spid="13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Hardware: Goal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2200" y="1752120"/>
            <a:ext cx="7775640" cy="43434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ive physical realization of machines on which algorithms can be implem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ome simple steps in the construction of a compu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o understand that the computers are essentially devices computing logical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o illustrate how complex systems can be built by incrementally realizing and putting together well defined par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o describe a computer as a general purpose mach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8" dur="1" fill="hold"/>
                                  <p:tgtEl>
                                    <p:spTgt spid="8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660066"/>
                </a:solidFill>
                <a:latin typeface="Arial"/>
              </a:rPr>
              <a:t>Combinatorial Circuits</a:t>
            </a: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Half Ad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A circuit which adds two bits and produces sum and car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1447920" y="3505320"/>
          <a:ext cx="3809880" cy="2935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3505320"/>
                    <a:ext cx="3809880" cy="293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5334120" y="3733920"/>
            <a:ext cx="3352680" cy="10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S=A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=A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56" dur="1" fill="hold"/>
                                  <p:tgtEl>
                                    <p:spTgt spid="14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685440" y="15998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Full Add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A circuit which adds two bits and a carry (from previous stage), and produces sum and carry (for next stag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70" dur="1" fill="hold"/>
                                  <p:tgtEl>
                                    <p:spTgt spid="14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6" name=""/>
          <p:cNvGraphicFramePr/>
          <p:nvPr/>
        </p:nvGraphicFramePr>
        <p:xfrm>
          <a:off x="1754280" y="378000"/>
          <a:ext cx="4441680" cy="6072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4280" y="378000"/>
                    <a:ext cx="4441680" cy="607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660066"/>
                </a:solidFill>
                <a:latin typeface="Arial"/>
              </a:rPr>
              <a:t>Universality</a:t>
            </a: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It can shown that all combinatorial circuits can be realized using  NAND gates on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NAND is a UNIVERSAL g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imilarly using AND and NOT gates, one can build all combinatorial circui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How can we obtain Or gate using NAND gat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94" dur="1" fill="hold"/>
                                  <p:tgtEl>
                                    <p:spTgt spid="14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660066"/>
                </a:solidFill>
                <a:latin typeface="Arial"/>
              </a:rPr>
              <a:t>What goes inside a gate?</a:t>
            </a: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Gates need to be made of physical compon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Gates are made of what physicists call transisto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A transistor is formed by sandwiching a p-type silicon between two n-type silicon or vice vers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13" dur="1" fill="hold"/>
                                  <p:tgtEl>
                                    <p:spTgt spid="15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Memory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-360" y="990720"/>
            <a:ext cx="8915400" cy="58672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emory Element: Flip Flop.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tate: 0 or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hange state: based on circuit at each TIME STE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emory is the functional unit of computer that stores instructions and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imary Memory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AM (Random Access Memor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ead/write, volat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OM (Read only memor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ead only, perman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emory is divided into fixed size units called cel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arlier no fixed size. Currently 8 bits --- called by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ach memory cell has an address. Note that k bits can be used to address 2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emory cells/by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xample, 10 address bits are needed to address 1024 (1KB) memory cells. 20 address bits for 1MB memory cel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3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3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3">
                                      <p:txEl>
                                        <p:pRg st="10" end="1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67" dur="1" fill="hold"/>
                                  <p:tgtEl>
                                    <p:spTgt spid="153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Memory and Register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62120" y="990360"/>
            <a:ext cx="8076960" cy="55623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ince Flip Flops have their state dependent on their previous state, they can be used in computers as memory ele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single Flip Flop is one bit of mem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series of Flip Flops can be used to form a multi-bit mem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register is a collection of basic memory cells. Essentially, it is similar to memory location, except that it is in the CPU itself (and thus can be accessed fast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91" dur="1" fill="hold"/>
                                  <p:tgtEl>
                                    <p:spTgt spid="15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Memory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61760" y="990720"/>
            <a:ext cx="8381880" cy="58672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coder circuits in memory is used to determine which memory location is being accessed. It is essentially a combinatorial circuit which converts the coded input address into output lines (one for each memory location) exactly one of which is 1, based on memory location being addres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sually, two registers are used for accessing the memo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R: Memory address register --- for address of the memory being acces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DR: Memory Data register --- for data to be written to the memory or read from the 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structions fetch and store are used to read/write a memory loc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20" dur="1" fill="hold"/>
                                  <p:tgtEl>
                                    <p:spTgt spid="157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CPU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62120" y="990360"/>
            <a:ext cx="8076960" cy="55623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at we need is a general purpose compu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mputer runs a STORED progr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is stored program can be arbitra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basic architecture we discuss is called von-Neumann Architect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64" dur="1" fill="hold"/>
                                  <p:tgtEl>
                                    <p:spTgt spid="15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CPU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61760" y="990360"/>
            <a:ext cx="7924680" cy="55623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e take a top level vie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ach subsystem can be built using logical circu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is abstraction makes it easy to understand how the computer work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83" dur="1" fill="hold"/>
                                  <p:tgtEl>
                                    <p:spTgt spid="16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Hardware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447920" y="2362320"/>
            <a:ext cx="160020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520" rIns="18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809880" y="2362320"/>
            <a:ext cx="182880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520" rIns="18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324480" y="2362320"/>
            <a:ext cx="16002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520" rIns="18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809880" y="4724280"/>
            <a:ext cx="190512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520" rIns="18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722600" y="2573280"/>
            <a:ext cx="1630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Input De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084560" y="2725560"/>
            <a:ext cx="117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CP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523200" y="2666880"/>
            <a:ext cx="1325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OutputDe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14800" y="4975200"/>
            <a:ext cx="16002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520" rIns="182520" tIns="46080" bIns="4608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Storage (Memor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048120" y="28954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2520" rIns="18252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8195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2520" rIns="18252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419720" y="34290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2520" rIns="18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876920" y="34290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2520" rIns="18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61760" y="990360"/>
            <a:ext cx="7924680" cy="55623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o execute an instruction such as adding two numbers A and B, and placing the result in C, the following steps may be performed by the CPU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1.Place the address of first number A in the Memory Address Register (MAR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2. Issue a “fetch” instruction to the memory uni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3. Transfer the contents of Memory Data Register (MDR) to register R1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4. Place the address of second number B in M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5. Issue a “fetch” instruction to the memory uni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6. Transfer the contents of MDR to register R2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7. Issue an instruction to the ALU to perform “addition” on R1 and R2, and place the result in R3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8. Transfer the contents of R3 to MD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9. Place the address of C in M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10. Issue a “store” instruction to the memory uni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3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3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3">
                                      <p:txEl>
                                        <p:pRg st="10" end="1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42" dur="1" fill="hold"/>
                                  <p:tgtEl>
                                    <p:spTgt spid="16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761760" y="990360"/>
            <a:ext cx="7924680" cy="55623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mportant Components of CPU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ntrol Unit --- brain of the CPU. It decides which operations are to be performed and wh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ithmetic Logic Unit (ALU): Consists of logical circuits for doing addition, multiplication etc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trol signals are used to select which operation is to be d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uses: The buses are wires which connect different parts of the CPU and the parts of the CPU to other components of the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43" dur="indefinite" restart="never" nodeType="tmRoot">
          <p:childTnLst>
            <p:seq>
              <p:cTn id="744" dur="indefinite" nodeType="mainSeq">
                <p:childTnLst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4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71" dur="1" fill="hold"/>
                                  <p:tgtEl>
                                    <p:spTgt spid="164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761760" y="990360"/>
            <a:ext cx="7924680" cy="55623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struction Exec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PU repeatedly executes the instruction cyc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. Fetch the instruction from memor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. Decode the instr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. Execute the instruction (including the setting up for the next instruction to be execu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72" dur="indefinite" restart="never" nodeType="tmRoot">
          <p:childTnLst>
            <p:seq>
              <p:cTn id="773" dur="indefinite" nodeType="mainSeq">
                <p:childTnLst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5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05" dur="1" fill="hold"/>
                                  <p:tgtEl>
                                    <p:spTgt spid="165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761760" y="990360"/>
            <a:ext cx="7924680" cy="55623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. Fetch the instruction from memor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gram Counter (PC) contains the address of next i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lace the address on M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nd fetch i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t the instruction from M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nsfer to Instruction Register (I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. Decode the instr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nerate list of micro instructions to be execu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06" dur="indefinite" restart="never" nodeType="tmRoot">
          <p:childTnLst>
            <p:seq>
              <p:cTn id="807" dur="indefinite" nodeType="mainSeq">
                <p:childTnLst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6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54" dur="1" fill="hold"/>
                                  <p:tgtEl>
                                    <p:spTgt spid="16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761760" y="990360"/>
            <a:ext cx="7924680" cy="55623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. Execute the instruction (including the setting up for the next instruction to be execu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sequencer keeps track of which microinstruction is to be executed in which or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 example, for addition we need to send load instruction to the various registers, send instruction to ALU for adding,  and then transfer the result to appropriate place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t up for next instruction to be execu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rmally current instruction +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y be different if control instructions (If then Else, etc.) are us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55" dur="indefinite" restart="never" nodeType="tmRoot">
          <p:childTnLst>
            <p:seq>
              <p:cTn id="856" dur="indefinite" nodeType="mainSeq">
                <p:childTnLst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82" dur="1" fill="hold"/>
                                  <p:tgtEl>
                                    <p:spTgt spid="16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883" dur="1" fill="hold"/>
                                  <p:tgtEl>
                                    <p:spTgt spid="167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884" dur="1" fill="hold"/>
                                  <p:tgtEl>
                                    <p:spTgt spid="167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761760" y="990360"/>
            <a:ext cx="7924680" cy="55623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ipher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-- Keyboard, Monitor, printers, speakers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-- disk drives, tapes (secondary memor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/O devices used vary a lot from computer to computer. Also one keeps adding/removing devices from the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asy addition/removal/replacement of I/O devices should be allow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sign of computer should be flexible to allow thi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sometimes leads to suboptimal design. However it is better to have flexibility than optimality in such ca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85" dur="indefinite" restart="never" nodeType="tmRoot">
          <p:childTnLst>
            <p:seq>
              <p:cTn id="886" dur="indefinite" nodeType="mainSeq">
                <p:childTnLst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8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8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23" dur="1" fill="hold"/>
                                  <p:tgtEl>
                                    <p:spTgt spid="168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Analogue/Digital Computer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2200" y="1752120"/>
            <a:ext cx="7775640" cy="43434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p to now whatever we have discussed could be discussed in context of analogue comput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ow we will concentrate mostly on binary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y binary computer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hysical components ---- transistors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liability of hardware compon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7" dur="1" fill="hold"/>
                                  <p:tgtEl>
                                    <p:spTgt spid="9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660066"/>
                </a:solidFill>
                <a:latin typeface="Arial"/>
              </a:rPr>
              <a:t>Binary Number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7543800" cy="33530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Decimal number syste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789 = 7</a:t>
            </a:r>
            <a:r>
              <a:rPr b="0" i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i="1" lang="en-GB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+ 8</a:t>
            </a:r>
            <a:r>
              <a:rPr b="0" i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i="1" lang="en-GB" sz="2400" spc="-1" strike="noStrike" baseline="30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+ 9</a:t>
            </a:r>
            <a:r>
              <a:rPr b="0" i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i="1" lang="en-GB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Binary number syste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1001 = 1</a:t>
            </a:r>
            <a:r>
              <a:rPr b="0" i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GB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+ 0</a:t>
            </a:r>
            <a:r>
              <a:rPr b="0" i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GB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+ 0</a:t>
            </a:r>
            <a:r>
              <a:rPr b="0" i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GB" sz="2400" spc="-1" strike="noStrike" baseline="30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+ 1</a:t>
            </a:r>
            <a:r>
              <a:rPr b="0" i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GB" sz="2400" spc="-1" strike="noStrike" baseline="30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=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1" dur="1" fill="hold"/>
                                  <p:tgtEl>
                                    <p:spTgt spid="98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660066"/>
                </a:solidFill>
                <a:latin typeface="Arial"/>
              </a:rPr>
              <a:t>Decimal to Binary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7543800" cy="47246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43/2   -----&gt;    Quotient:  21     Remainder  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21/2   -----&gt;    Quotient:  10     Remainder  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10/2   -----&gt;    Quotient:    5     Remainder  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5/2   -----&gt;     Quotient:    2     Remainder  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2/2   -----&gt;     Quotient:    1     Remainder  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1/2   -----&gt;     Quotient:    0     Remainder  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(43)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 = (101011)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7543800" y="2590560"/>
            <a:ext cx="0" cy="236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82520" rIns="18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0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55" dur="1" fill="hold"/>
                                  <p:tgtEl>
                                    <p:spTgt spid="100">
                                      <p:txEl>
                                        <p:pRg st="10" end="1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660066"/>
                </a:solidFill>
                <a:latin typeface="Arial"/>
              </a:rPr>
              <a:t>Decimal to Binary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7543800" cy="243864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n=(….b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…b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304920" y="3352680"/>
                <a:ext cx="7924680" cy="129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emainder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i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Remainder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64" dur="1" fill="hold"/>
                                  <p:tgtEl>
                                    <p:spTgt spid="10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660066"/>
                </a:solidFill>
                <a:latin typeface="Arial"/>
              </a:rPr>
              <a:t>Binary Number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Using k bits, we can represent numbers from 0 to 2</a:t>
            </a:r>
            <a:r>
              <a:rPr b="0" i="1" lang="en-GB" sz="24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-1 (if only doing non-negative numbe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Addition, Subtraction etc on binary numbers in a way similar to that of decimal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0+0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1+0 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0+1 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1+1 = </a:t>
            </a: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 with carry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Example: Add   1011  and 1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03" dur="1" fill="hold"/>
                                  <p:tgtEl>
                                    <p:spTgt spid="10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Representation of Data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077320" cy="54100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umbers are not the only information that needs to be processes by comput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on numeric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xts --- Roman alphabet, punctuation characters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SCII: Codes for each symb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t uses 7 bit code for each charac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xample A is represented using 100000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ther data can be represented using binary numbers in similar 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structions: ADD, SUB can be assigned co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ames of people, Sentences in a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ven analogue data can be represented using approxim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udio, Video ---&gt; Via a process of digitiz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2" dur="1" fill="hold"/>
                                  <p:tgtEl>
                                    <p:spTgt spid="108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31T02:27:32Z</dcterms:created>
  <dc:creator>CDTL</dc:creator>
  <dc:description/>
  <dc:language>en-US</dc:language>
  <cp:lastModifiedBy>Nagy Csaba</cp:lastModifiedBy>
  <cp:lastPrinted>2000-07-20T05:33:54Z</cp:lastPrinted>
  <dcterms:modified xsi:type="dcterms:W3CDTF">2001-02-12T06:57:36Z</dcterms:modified>
  <cp:revision>94</cp:revision>
  <dc:subject/>
  <dc:title>Lecture Title</dc:title>
</cp:coreProperties>
</file>