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60C3-D90F-4A41-AD4A-7AD9BD5D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6C0A-7854-4EE5-A136-14AD21980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CED-51FF-4EDC-BE46-B56EE766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86BB-230D-4C89-8D0A-C87703DD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9D45-5F95-45F4-95FF-3F6C747C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A415-3DD4-4D9D-870A-218A1CA4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EBFD-C10F-4027-A86E-794E1280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1901-F593-47BE-BA93-ED09D52FC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5B61-7309-40DE-914B-68F61E45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E6C2-03BB-4CD7-9735-B7B63AFA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57E0-B3E2-4F25-8F01-F23499F2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B080-1D58-4896-8B55-3560DC02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EF70-3C98-48BD-9874-2C791CD1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9375-04C2-4CDF-BDA9-F95BD41C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C04F-4F25-48A1-83AE-B74A1F1B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9825-2687-41E5-8F10-DC465B2D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5DF0-011A-4596-AAA9-5CDE434F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41A3-1306-46B3-9646-40432720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08F8-4F6B-41A8-A486-FD8C6B43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227-7D08-43C2-A014-22533B89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465-19F6-4FA4-91DD-05AAB349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388-EEE8-44BD-9C6C-6A1E18C9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671-A0B6-46DD-AFE6-9E9C0488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6A12-C61B-43F7-AD6D-501772E8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A49F-C47A-43E5-A254-740B07366309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6787-80EF-4DBE-81CE-A6D70B0BAA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B083-EB72-4B1C-B242-665231D5578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D8B4-5135-45CF-A791-BFEF361897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837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Algorithms</a:t>
            </a: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2A5B-4130-4ACC-AFB8-06BBC1BC1FC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PseudoCod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2560" y="1752120"/>
            <a:ext cx="8004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where between human language such as English and Computer langu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ecise enough to describe what is meant without being tedio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B5D-5744-4352-8B89-3C248AC2D325}" type="slidenum">
              <a:t>10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2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Flow Char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low Charts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low charts is a pictorial representation showing all the step of a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895480" y="3429000"/>
            <a:ext cx="5029200" cy="3200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3657600"/>
            <a:ext cx="990360" cy="6094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4572000"/>
            <a:ext cx="990360" cy="838080"/>
          </a:xfrm>
          <a:prstGeom prst="diamond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4572000"/>
            <a:ext cx="990720" cy="838080"/>
          </a:xfrm>
          <a:prstGeom prst="diamond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81680" y="4648320"/>
            <a:ext cx="99072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648320" y="5867280"/>
            <a:ext cx="1676160" cy="6858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2" idx="2"/>
            <a:endCxn id="233" idx="0"/>
          </p:cNvCxnSpPr>
          <p:nvPr/>
        </p:nvCxnSpPr>
        <p:spPr>
          <a:xfrm>
            <a:off x="3771720" y="4266720"/>
            <a:ext cx="1080" cy="305640"/>
          </a:xfrm>
          <a:prstGeom prst="straightConnector1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3" idx="3"/>
            <a:endCxn id="234" idx="1"/>
          </p:cNvCxnSpPr>
          <p:nvPr/>
        </p:nvCxnSpPr>
        <p:spPr>
          <a:xfrm>
            <a:off x="4266720" y="4990680"/>
            <a:ext cx="762840" cy="1080"/>
          </a:xfrm>
          <a:prstGeom prst="straightConnector1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4" idx="2"/>
            <a:endCxn id="236" idx="0"/>
          </p:cNvCxnSpPr>
          <p:nvPr/>
        </p:nvCxnSpPr>
        <p:spPr>
          <a:xfrm flipH="1">
            <a:off x="5486040" y="5410080"/>
            <a:ext cx="38880" cy="457920"/>
          </a:xfrm>
          <a:prstGeom prst="straightConnector1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4" idx="3"/>
            <a:endCxn id="235" idx="1"/>
          </p:cNvCxnSpPr>
          <p:nvPr/>
        </p:nvCxnSpPr>
        <p:spPr>
          <a:xfrm>
            <a:off x="6019920" y="4990680"/>
            <a:ext cx="762480" cy="1080"/>
          </a:xfrm>
          <a:prstGeom prst="straightConnector1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542D-02C2-44B5-A84C-74FA9DB1A5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ing  a Flow Char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, familiarize the participants with the flow chart symbo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the process flow chart and fill it out in detail about each ele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alyze the flow chart.  Determine which steps add value and which don’t in the process of simplifying the wor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D210-F807-4B9F-A22F-DD436B84C8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low chart techniq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symb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efined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-page conn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3581280" y="1447920"/>
          <a:ext cx="44532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447920"/>
                    <a:ext cx="44532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55D-604A-4E57-952D-7A6B2F226F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Easy examp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1905120"/>
            <a:ext cx="914400" cy="60948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hav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 id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2971800"/>
            <a:ext cx="1218960" cy="6094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rai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 h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4038480"/>
            <a:ext cx="1905120" cy="1371600"/>
          </a:xfrm>
          <a:prstGeom prst="flowChartDecision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d m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 ca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 nam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91520" y="4343400"/>
            <a:ext cx="914400" cy="609480"/>
          </a:xfrm>
          <a:prstGeom prst="flowChart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57600" y="5867280"/>
            <a:ext cx="1447920" cy="68580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are m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dea out lo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47242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3400" y="3657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9720" y="54864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3932280"/>
            <a:ext cx="62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21360" y="4145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20960" y="53182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B0D6-7BC5-4A9C-8379-314BC54E10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Example: Adding two number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2200" y="1752480"/>
            <a:ext cx="777564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Input: Two positive m digit decim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, a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Arial"/>
              </a:rPr>
              <a:t>m-1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, …., a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Arial"/>
              </a:rPr>
              <a:t>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000099"/>
                </a:solidFill>
                <a:latin typeface="Arial"/>
              </a:rPr>
              <a:t>               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, b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Arial"/>
              </a:rPr>
              <a:t>m-1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, …., b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utput: c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Arial"/>
              </a:rPr>
              <a:t>m+1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, c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, …., c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718-805E-40B0-94D8-253669DC6600}" type="slidenum">
              <a:t>15</a:t>
            </a:fld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2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ep 1: Set the value of carry to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ep 2: Set the value of i to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ep 3: Repeat  steps 4 through 6 until the value of i is &gt; 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4: Add a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b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the current value of carry, to get 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5: If 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&lt; 10, then let c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reset carry to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lse (i.e. 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1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et c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=x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10 and reset carry to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tep 6: Increase the value of i by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ep 7: Set c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+1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 the value of car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ep 8: Print the final answer c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+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…., c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ep 9: Sto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6516-AA64-4BFF-906D-4CD89F11ED78}" type="slidenum">
              <a:t>1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1" dur="1" fill="hold"/>
                                  <p:tgtEl>
                                    <p:spTgt spid="262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I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F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x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 to b </a:t>
            </a: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……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……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ndf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xecute the instructions ….., first using x=a, then using x=a+1, …, and finally using x=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609480"/>
            <a:ext cx="449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Iteration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1167-567B-43A8-AFF5-50EE05076EAF}" type="slidenum">
              <a:t>17</a:t>
            </a:fld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2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Example: Divisibilit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03080" y="3611160"/>
            <a:ext cx="7824600" cy="17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positive integer n is divisible by m if for some positive integer i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,  m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 =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009800" y="1952640"/>
                <a:ext cx="674496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visible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"/>
          <p:cNvSpPr/>
          <p:nvPr/>
        </p:nvSpPr>
        <p:spPr>
          <a:xfrm>
            <a:off x="4572000" y="4419720"/>
            <a:ext cx="2743200" cy="1523880"/>
          </a:xfrm>
          <a:prstGeom prst="diamond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472428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Is n divisible by m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8" idx="3"/>
          </p:cNvCxnSpPr>
          <p:nvPr/>
        </p:nvCxnSpPr>
        <p:spPr>
          <a:xfrm>
            <a:off x="7315200" y="5181120"/>
            <a:ext cx="1296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5943600" y="59436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47242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19920" y="60958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D96D-392D-4873-A8D1-66FDDF1FF04F}" type="slidenum">
              <a:t>18</a:t>
            </a:fld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2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visible(m,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For i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 To n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m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=n, Then Output True and S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se  do nothing (continue with next i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Output False and S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57CE-04A4-4B07-86A6-7E0EB572DF1F}" type="slidenum">
              <a:t>19</a:t>
            </a:fld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27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Algorithm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2200" y="1752480"/>
            <a:ext cx="777564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explain to a </a:t>
            </a:r>
            <a:r>
              <a:rPr b="0" lang="en-GB" sz="2400" spc="-1" strike="noStrike">
                <a:solidFill>
                  <a:srgbClr val="99ff99"/>
                </a:solidFill>
                <a:latin typeface="Arial"/>
              </a:rPr>
              <a:t>dum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echanical/computing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evice how to solve a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solve a problem using basic set of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rimitive instruction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exity of solving probl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DA25-7CFB-47AA-9EEA-2AC3B98D0B11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2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682560" y="1752120"/>
            <a:ext cx="8004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communicate the algorithm to comput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 way to represent the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yntax --- 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mantics --- mea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ex  task --- Programming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more English 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5123-2F48-4DD1-ACAA-F7C397BB3B9E}" type="slidenum">
              <a:t>20</a:t>
            </a:fld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7" dur="1" fill="hold"/>
                                  <p:tgtEl>
                                    <p:spTgt spid="2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Subprogram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752120"/>
            <a:ext cx="8004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blems already shown to be doable, can be used as primitive (already known) instr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plifies the process of writing algorithms/progr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ularity, Abstraction, division of lab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ex tasks can be divided and each part solved separately and combined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routines, procedures, modul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B64-F732-4756-A6B1-7E8FCAA1F8BE}" type="slidenum">
              <a:t>21</a:t>
            </a:fld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6" dur="1" fill="hold"/>
                                  <p:tgtEl>
                                    <p:spTgt spid="27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number n is a prime iff it has no positive factors except for 1 and 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other words, n is not divisible by any positive number m such that 1 &lt; m &lt; 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Example: Prime Number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49B-0DA8-495F-87E5-D3AEAA83D137}" type="slidenum">
              <a:t>22</a:t>
            </a:fld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0" dur="1" fill="hold"/>
                                  <p:tgtEl>
                                    <p:spTgt spid="2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ime(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For m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 To n-1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f Divisible(m,n) Then Output Fal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nd S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se do nothing (continue with next m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F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Output True and S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AC3-7FDE-471D-BDAC-FADDBB6C4BA8}" type="slidenum">
              <a:t>23</a:t>
            </a:fld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4" dur="1" fill="hold"/>
                                  <p:tgtEl>
                                    <p:spTgt spid="28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Recurs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752120"/>
            <a:ext cx="8004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 a means of solving bigger problems using smaller subproblems/subparts which may be of same ki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lve simplest cases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lve bigger problems using smaller (simpler) subproble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str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3EA-1C37-46B9-8F53-50229435D00E}" type="slidenum">
              <a:t>24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8" dur="1" fill="hold"/>
                                  <p:tgtEl>
                                    <p:spTgt spid="28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= F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n-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+F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n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Example: Fibonacci Number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2F3D-37E3-46D0-B07E-2435FF271CC1}" type="slidenum">
              <a:t>25</a:t>
            </a:fld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2" dur="1" fill="hold"/>
                                  <p:tgtEl>
                                    <p:spTgt spid="28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ibonacci(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n=1 or n=2, Then Fibonacci(n)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se Fibonacci(n)=Fibonacci(n-1)+Fibonacci(n-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338-DB53-492E-88C3-0D353794489C}" type="slidenum">
              <a:t>26</a:t>
            </a:fld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6" dur="1" fill="hold"/>
                                  <p:tgtEl>
                                    <p:spTgt spid="28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ree Pegs A, B and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g A initially has n disks, all of different size, stacked one over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rger disks are below smaller dis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blem is to move  the n disks to Peg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move only one disk at a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maller disk should be above larger di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use Peg B as intermed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Example: Tower of Hano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9B77-764E-4593-BCD6-3B5AC85F4380}" type="slidenum">
              <a:t>27</a:t>
            </a:fld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5" dur="1" fill="hold"/>
                                  <p:tgtEl>
                                    <p:spTgt spid="28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xample for 3 disks (disk 3 is largest, disk 1 is smalle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1) Move disk 1 from Peg A to Peg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2) Move disk 2 from Peg A to Peg 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3) Move disk 1 from Peg C to Peg 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4) Move disk 3 from Peg A to Peg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5) Move disk 1 from Peg B to Peg 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6) Move disk 2 from Peg B to Peg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7) Move disk 1 from Peg A to Peg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Example: Tower of Hanoi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4D05-D53D-42A5-9246-718E097597AF}" type="slidenum">
              <a:t>28</a:t>
            </a:fld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9" dur="1" fill="hold"/>
                                  <p:tgtEl>
                                    <p:spTgt spid="28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anoi(n,A,B,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* Move top n disks from A to C via B *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If n=1, Then move top disk on Peg A to Peg 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If n&gt;1, Then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a) Hanoi (n-1,A,C,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* That is move top n-1 disks on Peg A to Peg B using Peg C as intermediate Peg. *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b) Move the current top disk on Peg A to Peg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c) Hanoi(n-1,B,A,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* That is move top n-1 disks on Peg B to Peg C u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g A as intermediate Peg. *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BE9A-330B-40AE-95EE-4BED7729AD40}" type="slidenum">
              <a:t>29</a:t>
            </a:fld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8" dur="1" fill="hold"/>
                                  <p:tgtEl>
                                    <p:spTgt spid="290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2200" y="1752480"/>
            <a:ext cx="777564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develop framework for instructing computers to perform tas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introduce notion of algorithm as means of specifying how to solve a probl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introduce and appreciate approaches for defining and solving very complex tasks in terms of simpler tas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71EA-0A0A-4A09-A9DB-9DAC30A06ABC}" type="slidenum">
              <a:t>3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arch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3, 28, 19, 74, 76, 14, 12, 18, 22, 5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874-78D2-4E2C-A96F-FBBCA6F6D42D}" type="slidenum">
              <a:t>30</a:t>
            </a:fld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7" dur="1" fill="hold"/>
                                  <p:tgtEl>
                                    <p:spTgt spid="2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arch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st of numbers: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….,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number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stion: Is x in the lis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quential Search(x,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….,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i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 To n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x=A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n output Yes and St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lse do nothing (continue with next i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dF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utput No and 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3410-1FE5-417C-9AE3-B3B198935CBC}" type="slidenum">
              <a:t>31</a:t>
            </a:fld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21" dur="1" fill="hold"/>
                                  <p:tgtEl>
                                    <p:spTgt spid="294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Binary Search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st is sor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at is 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….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n we can do bet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4BED-6B86-412A-B2C6-EC5E739F68F7}" type="slidenum">
              <a:t>32</a:t>
            </a:fld>
          </a:p>
        </p:txBody>
      </p:sp>
    </p:spTree>
  </p:cSld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0" dur="1" fill="hold"/>
                                  <p:tgtEl>
                                    <p:spTgt spid="2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Binary Search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,  4,  9,  11,  14, 43,  7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05D1-1F7A-4195-9815-0F9B32FD8199}" type="slidenum">
              <a:t>33</a:t>
            </a:fld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9" dur="1" fill="hold"/>
                                  <p:tgtEl>
                                    <p:spTgt spid="2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Binary Search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put Sorted List 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….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number 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stion: Is x in the li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 First =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st =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 While First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La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d =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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first+last)/2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 x=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n output Yes and St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se If x&lt;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hen Last=mid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se If x &gt; A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i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n First=mid+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dW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. Output False and Stop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32F-2EC1-41F8-B2AC-D7F2EF1E2645}" type="slidenum">
              <a:t>34</a:t>
            </a:fld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8" dur="1" fill="hold"/>
                                  <p:tgtEl>
                                    <p:spTgt spid="300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ime Complexity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quential Sear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st Case:  n compari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st Case:   1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verage Case: n/2 compari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inary Sear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orst Case: approximately log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 compari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st Case:   1 compari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verage Case: approximately log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omparis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BDC-12EE-41B8-A9C1-B214954CDE0C}" type="slidenum">
              <a:t>35</a:t>
            </a:fld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62" dur="1" fill="hold"/>
                                  <p:tgtEl>
                                    <p:spTgt spid="3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haracteristics of Algorithm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rrec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lexity --- time, space (memory), any other m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se of understa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se of co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se of maintain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404-2148-4549-AA39-CF68C09EBA09}" type="slidenum">
              <a:t>36</a:t>
            </a:fld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1" dur="1" fill="hold"/>
                                  <p:tgtEl>
                                    <p:spTgt spid="3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Logo?</a:t>
            </a:r>
            <a:r>
              <a:rPr b="1" lang="en-GB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ll-featured computer programming language derived from LIS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 language for lea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 tool to teach the </a:t>
            </a: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process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of learning and thin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n environment where students assume the </a:t>
            </a: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role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of teach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454-3065-41C5-A61A-A3BD9B565BA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Sequen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forward 50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right 90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forward 50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right 90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forward 50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right 90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forward 50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right 9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211720" y="3048120"/>
            <a:ext cx="172260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BCFE-0D86-4F6F-8FEB-3C58AFC00D2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Ite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repeat 4 [forward 50 right 90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211720" y="3048120"/>
            <a:ext cx="172260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8BF4-4BE6-4E2A-AADD-C99DD0B423A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2200" y="1752480"/>
            <a:ext cx="777564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uter Science can be considered as the study of algorithms inclu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ir formal proper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ir hardware and software realis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i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9CB-90CD-45AC-AD34-D69B313F8418}" type="slidenum">
              <a:t>4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21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oced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to squar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repeat 4 [forward 50 right 90]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211720" y="3048120"/>
            <a:ext cx="1722600" cy="18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FED4-DE3D-4EA9-A087-0E7672CFD86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oced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 Century Schoolbook"/>
              </a:rPr>
              <a:t>You could draw a fla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forward 60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squar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back 6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6095880" y="2590920"/>
            <a:ext cx="126684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EEC-0BD9-4762-869A-100ECD85726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Further Iter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New Century Schoolbook"/>
              </a:rPr>
              <a:t>You could make a circle of squares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repeat 12[square right 30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257800" y="4038480"/>
            <a:ext cx="2209680" cy="21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71CE-F5B6-4691-806C-B8C566890BC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oced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to hous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squar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forward 50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right 90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triangl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to triangl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repeat 3 [forward 50 left 120]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150516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2B00-DE19-48CE-B598-B66CA45734D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assing Values into Procedur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to square :size</a:t>
            </a:r>
            <a:br>
              <a:rPr sz="3200"/>
            </a:b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repeat 4 [forward :size right 90]</a:t>
            </a:r>
            <a:br>
              <a:rPr sz="28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square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square 20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029200" y="3505320"/>
            <a:ext cx="2666880" cy="26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722-CA6A-4FD9-8C4B-21BAE6E62DB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Recur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to desig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clearscree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right 30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polyspi 5 120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en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to polyspi :size :angl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if :size &gt; 205 [stop]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forward :size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right :angle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polyspi :size+5 :angle+.12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6095880" y="838080"/>
            <a:ext cx="3048120" cy="30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A5E2-2F8F-4023-A067-0FB6ED0F951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Real Life Examp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2200" y="1752480"/>
            <a:ext cx="777564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ok: Recipe for preparing a d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per T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ions: How to go to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yugati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ailway s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EA7-9E42-4C44-8B8F-3779050D4FFA}" type="slidenum">
              <a:t>5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2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Real Life Exampl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2200" y="1752480"/>
            <a:ext cx="777564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ecise Instr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b can often be done even if the instructions are not followed precis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ifications may be done by the person following the instru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uters need to be told in precise manner what to do. Instructions cannot be vague or ambiguo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511-EEAF-4E05-9653-84936EC6463D}" type="slidenum">
              <a:t>6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" dur="1" fill="hold"/>
                                  <p:tgtEl>
                                    <p:spTgt spid="2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ecff"/>
                </a:solidFill>
                <a:latin typeface="Arial"/>
              </a:rPr>
              <a:t>Algorithm: Defini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2200" y="1752480"/>
            <a:ext cx="7775640" cy="43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 algorithm for solving a problem is a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ini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equence of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nambiguou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xecutabl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steps/instructions, which if followed would ultimately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erminat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nd give the solution of the probl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inite set of step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nambiguou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xecutab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ermin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652A-7FE3-4607-8CB1-5685436B5FAE}" type="slidenum">
              <a:t>7</a:t>
            </a:fld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4" dur="1" fill="hold"/>
                                  <p:tgtEl>
                                    <p:spTgt spid="2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Operations of Algorithm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quence of steps/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Iteration : repeating t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election: the continue of task depend on a cond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4E1E-DDFC-41F9-A6B1-9C95559F1F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ccecff"/>
                </a:solidFill>
                <a:latin typeface="Arial"/>
              </a:rPr>
              <a:t>Main description of Alg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low Ch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seudo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0965-ADF9-4356-840E-DCBA3BBAA1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1T02:27:32Z</dcterms:created>
  <dc:creator>CDTL</dc:creator>
  <dc:description/>
  <dc:language>en-US</dc:language>
  <cp:lastModifiedBy>CSNAGY</cp:lastModifiedBy>
  <cp:lastPrinted>2000-06-13T03:03:08Z</cp:lastPrinted>
  <dcterms:modified xsi:type="dcterms:W3CDTF">2004-04-14T10:42:45Z</dcterms:modified>
  <cp:revision>96</cp:revision>
  <dc:subject/>
  <dc:title>Lecture Title</dc:title>
</cp:coreProperties>
</file>