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F9E5-59DA-4876-A24E-C8BBE841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E4D1-5CF0-4553-97CE-400CFDD2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DA36-53B7-41C9-B388-8E89996C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EA1-7FE2-4E84-8A0E-DC242CB1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A30D-7EE8-4AC2-9330-057B5CD7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850C-6EA0-489E-A6ED-95DC3DE4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D9D6-250D-4BCA-A33F-177C3F7B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D45C-FCEB-4D61-8376-C3D957DB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1111-EE33-42B3-99D6-7854F55B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3474-DF5B-4F95-9EE2-D6E18D64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A0F5-B5A8-4D3B-8301-4E7346B6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F134-5639-4325-92D7-55675933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5D6A-D651-41AC-8121-44C8E7DD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6673-17E8-48F3-B262-603E57C2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5028-63FF-4D18-9D12-9199B5DD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06BC-C208-400C-BF51-B7ED6BD9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50ED-4095-4E29-A2BC-BBE9BE9B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F429D-7FEE-444A-9C4F-161367A2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7BA97-7FFD-4C70-9E64-01568711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B1788-6B70-4EEE-8917-D6F1DBBF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3AC7F-62A4-4FA1-975F-89B747DE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5044F-8CF4-4FFE-B748-DE10517D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10D8-4F65-494D-8B74-DAF9EEF8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25607-726A-4BBF-876E-968AD0EA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B682A-8C56-47A5-A8C1-50FD80F1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18A6D-EA0B-46C3-9292-DD3F6719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9B8BF-32DF-4E03-9E31-7362712B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44FC0-7B56-4D47-8AC7-E7E07D60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E2543-56AE-4017-8A50-F5FDE442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A8E3C-981A-4F29-8DA0-CF836ED1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3ADFF-B970-470F-BF79-B6B22C78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9638D-64E1-4C5F-B43C-BD567AC2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56C86-6D05-4433-A144-8A95B87A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A157-5963-4BAE-B919-30BCC020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AF8B8-CB1D-452A-BE59-B7123E97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7180E-FEF8-4BFB-B0AF-4258C7FA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48193-4439-4DF3-BC95-B146124A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C6430-84EE-43B4-B49E-388D0518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D6E23-96B6-4F2E-B1FC-B9895CED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3A144-0152-4823-9AE0-56C4EE5E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20D92-BDAC-4EDB-85D0-FA191CAA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157DC-9FBD-4DF6-AFFF-F0871D65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586C2-70BE-475D-A863-9706DD6B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1C78-D785-46FB-A0A0-11718058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4F61-FA1F-4279-A546-5F0A7FCE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33E8-429E-4CBB-BC8D-F205B107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1C89-DAE6-4507-91A4-73A43BD8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082D-C5C1-4052-B9BD-73C5E2F5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607D-6DA4-46E9-A775-8C739DB30EB1}" type="slidenum">
              <a:rPr b="0" lang="hu-H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5E1F-DCF6-4667-A91A-ED2F583DA10D}" type="slidenum">
              <a:rPr b="0" lang="hu-H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6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6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7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7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3490-38D0-40D0-BC43-9810391EC7FE}" type="slidenum">
              <a:rPr b="0" lang="hu-H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4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4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5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9FF7-4A7B-4498-9A2D-5D7D9491F9DA}" type="slidenum">
              <a:rPr b="0" lang="hu-H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5000"/>
              </a:lnSpc>
              <a:spcBef>
                <a:spcPts val="6001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80808"/>
                </a:solidFill>
                <a:latin typeface="Tahoma"/>
              </a:rPr>
              <a:t>Introduction into</a:t>
            </a:r>
            <a:br>
              <a:rPr sz="4000"/>
            </a:br>
            <a:r>
              <a:rPr b="1" lang="en-GB" sz="4000" spc="-1" strike="noStrike">
                <a:solidFill>
                  <a:srgbClr val="080808"/>
                </a:solidFill>
                <a:latin typeface="Tahoma"/>
              </a:rPr>
              <a:t>Retail and Wholesale Management</a:t>
            </a:r>
            <a:br>
              <a:rPr sz="4000"/>
            </a:br>
            <a:r>
              <a:rPr b="1" lang="en-GB" sz="4000" spc="-1" strike="noStrike">
                <a:solidFill>
                  <a:srgbClr val="080808"/>
                </a:solidFill>
                <a:latin typeface="Tahoma"/>
              </a:rPr>
              <a:t>(RWHM)</a:t>
            </a:r>
            <a:br>
              <a:rPr sz="4300"/>
            </a:br>
            <a:r>
              <a:rPr b="0" lang="en-GB" sz="39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080808"/>
                </a:solidFill>
                <a:latin typeface="Tahoma"/>
              </a:rPr>
              <a:t>(Business Economics in Commerce)</a:t>
            </a:r>
            <a:br>
              <a:rPr sz="2600"/>
            </a:br>
            <a:br>
              <a:rPr sz="2400"/>
            </a:br>
            <a:r>
              <a:rPr b="1" lang="en-GB" sz="2400" spc="-1" strike="noStrike" u="sng">
                <a:solidFill>
                  <a:srgbClr val="cc0000"/>
                </a:solidFill>
                <a:uFillTx/>
                <a:latin typeface="Tahoma"/>
              </a:rPr>
              <a:t>An overview of the contents and structure of the subject</a:t>
            </a:r>
            <a:br>
              <a:rPr sz="2400"/>
            </a:br>
            <a:br>
              <a:rPr sz="3000"/>
            </a:br>
            <a:r>
              <a:rPr b="1" lang="en-GB" sz="2200" spc="-1" strike="noStrike">
                <a:solidFill>
                  <a:srgbClr val="000099"/>
                </a:solidFill>
                <a:latin typeface="Tahoma"/>
              </a:rPr>
              <a:t>made by</a:t>
            </a:r>
            <a:br>
              <a:rPr sz="2200"/>
            </a:br>
            <a:br>
              <a:rPr sz="2200"/>
            </a:br>
            <a:r>
              <a:rPr b="1" i="1" lang="en-GB" sz="3500" spc="-1" strike="noStrike">
                <a:solidFill>
                  <a:srgbClr val="000099"/>
                </a:solidFill>
                <a:latin typeface="Times New Roman"/>
              </a:rPr>
              <a:t>Mr. </a:t>
            </a:r>
            <a:r>
              <a:rPr b="1" i="1" lang="hu-HU" sz="3500" spc="-1" strike="noStrike">
                <a:solidFill>
                  <a:srgbClr val="000099"/>
                </a:solidFill>
                <a:latin typeface="Times New Roman"/>
              </a:rPr>
              <a:t>Csaba Sólyom</a:t>
            </a:r>
            <a:br>
              <a:rPr sz="3500"/>
            </a:br>
            <a:r>
              <a:rPr b="1" lang="en-GB" sz="2200" spc="-1" strike="noStrike">
                <a:solidFill>
                  <a:srgbClr val="000099"/>
                </a:solidFill>
                <a:latin typeface="Tahoma"/>
              </a:rPr>
              <a:t>senior lecturer of the BBS-FCCT</a:t>
            </a:r>
            <a:br>
              <a:rPr sz="2200"/>
            </a:br>
            <a:r>
              <a:rPr b="1" lang="fr-FR" sz="2000" spc="-1" strike="noStrike">
                <a:solidFill>
                  <a:srgbClr val="006699"/>
                </a:solidFill>
                <a:latin typeface="Verdana"/>
              </a:rPr>
              <a:t>Chevalier de l’Ordre des Palmes Académiques de France</a:t>
            </a:r>
            <a:r>
              <a:rPr b="1" lang="en-GB" sz="4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INTRO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0000"/>
                </a:solidFill>
                <a:latin typeface="Tahoma"/>
              </a:rPr>
              <a:t>2. </a:t>
            </a: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Economic and Commercial policy of the state</a:t>
            </a:r>
            <a:r>
              <a:rPr b="1" lang="en-GB" sz="4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ermanent and short term objectives and tools of the state in its economic policy – the economic growth, and the macro-economic equilibrium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commercial politics of the stat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conomic and Commercial policy of the E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sequences of the EU membership and the globalisation of the world economy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mportant directives of the EU on Commer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TRO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3. Basic problems of management in trading compan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Vision and mission of trading compan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rategies of the trading compan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thods of strategy development (BCG, SWOT, Porter analysis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business policy of a retail and wholesale  company, guidelines, strategies and tactic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TRO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3. Basic problems of management in retail compan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usiness planning in retail compan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tents and form of business plans various figures used for analyzing the efficiency of the company pla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lationships of strategy, business planning and planning of goods turnover (purchasing, inventory control and sales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TRO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0000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. Goods turnover in retail compan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Sales analysis and sales planning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Trends, seasonality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Structure of sales, assortmen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Means of the analysis and planning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Sales promotion and its method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Purchase of goods as a key element of goods turnove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Principals and methods of purchase techniqu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Common purchasing compani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Scoring model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Inventory contro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An integrated system of planning the turnover of good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INTRO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5. Pricing and cost control, the profitability of the trading compan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Price policy – strategy and tactics of trade enterprises in pric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The role of the prices from macro-economics point of view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Rules and guidelines of the state in pric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Pricing strategies, and price behaviour of the trade enterpris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Pricing policy on the company level – maximizing the value of price margin on the company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Pricing policy of the goods merchandised from the company – pricing and sales prices control from various aspects of the company managem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TRO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0000"/>
                </a:solidFill>
                <a:latin typeface="Tahoma"/>
              </a:rPr>
              <a:t>5</a:t>
            </a: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. </a:t>
            </a: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Pricing and cost control in the trade compan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sts of the company – definition of cost control in retail and wholesale compani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Basic notions in cost contro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Various cost types in the trade companies, how to group various cost types (cost centres, variable and fixed costs etc.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How to analyze the costs of the enterprise: ratios, and typical figures of cost analysis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Interrelations of costs and business results – costs and benefit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99"/>
                </a:solidFill>
                <a:latin typeface="Arial"/>
              </a:rPr>
              <a:t>Cost p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lanning and control of </a:t>
            </a:r>
            <a:r>
              <a:rPr b="1" lang="hu-HU" sz="2000" spc="-1" strike="noStrike">
                <a:solidFill>
                  <a:srgbClr val="000099"/>
                </a:solidFill>
                <a:latin typeface="Arial"/>
              </a:rPr>
              <a:t>the trading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mpan</a:t>
            </a:r>
            <a:r>
              <a:rPr b="1" lang="hu-HU" sz="2000" spc="-1" strike="noStrike">
                <a:solidFill>
                  <a:srgbClr val="000099"/>
                </a:solidFill>
                <a:latin typeface="Arial"/>
              </a:rPr>
              <a:t>ies</a:t>
            </a:r>
            <a:r>
              <a:rPr b="0" lang="en-GB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TRO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6. Utilisation of Resourc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Human Resources</a:t>
            </a:r>
            <a:r>
              <a:rPr b="1" lang="en-GB" sz="1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The balance of labour needs and human resources, planning of labour needs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The labour productivity, its measurement and its determining factors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The territorial productivity in retailing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Salaries, analysis and planning of labour costs,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Fixed assets, depreci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Investment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How to control the development of growth in busines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Analysis of retail chains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Location-Analysi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Feasibility studies of new investments in retail compani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TRO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0000"/>
                </a:solidFill>
                <a:latin typeface="Tahoma"/>
              </a:rPr>
              <a:t>7. </a:t>
            </a: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Financing of Trade Compan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6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apital needs of trade companies at various stages of the development of the company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6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apitalisation of a trade compan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6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ash-Management, Liquidity and their relationship on short and long ru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179280" y="5445000"/>
            <a:ext cx="8785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e103"/>
                </a:solidFill>
                <a:latin typeface="Arial Black"/>
              </a:rPr>
              <a:t>Thank </a:t>
            </a:r>
            <a:r>
              <a:rPr b="0" lang="hu-HU" sz="3600" spc="-1" strike="noStrike">
                <a:solidFill>
                  <a:srgbClr val="ffe103"/>
                </a:solidFill>
                <a:latin typeface="Arial Black"/>
              </a:rPr>
              <a:t>y</a:t>
            </a:r>
            <a:r>
              <a:rPr b="0" lang="en-GB" sz="3600" spc="-1" strike="noStrike">
                <a:solidFill>
                  <a:srgbClr val="ffe103"/>
                </a:solidFill>
                <a:latin typeface="Arial Black"/>
              </a:rPr>
              <a:t>ou for </a:t>
            </a:r>
            <a:r>
              <a:rPr b="0" lang="hu-HU" sz="3600" spc="-1" strike="noStrike">
                <a:solidFill>
                  <a:srgbClr val="ffe103"/>
                </a:solidFill>
                <a:latin typeface="Arial Black"/>
              </a:rPr>
              <a:t>y</a:t>
            </a:r>
            <a:r>
              <a:rPr b="0" lang="en-GB" sz="3600" spc="-1" strike="noStrike">
                <a:solidFill>
                  <a:srgbClr val="ffe103"/>
                </a:solidFill>
                <a:latin typeface="Arial Black"/>
              </a:rPr>
              <a:t>our attention!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99"/>
                </a:solidFill>
                <a:latin typeface="Tahoma"/>
              </a:rPr>
              <a:t>Education Goals and Learning Outcome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TRO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981000"/>
            <a:ext cx="9144000" cy="5516640"/>
          </a:xfrm>
          <a:prstGeom prst="rect">
            <a:avLst/>
          </a:prstGeom>
          <a:noFill/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400"/>
              </a:spcBef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 Narrow"/>
              </a:rPr>
              <a:t>To achieve a certain knowledge and skills in the management of trade companies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1400"/>
              </a:spcBef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 Narrow"/>
              </a:rPr>
              <a:t>To learn how to analyze the various business activities of a trade enterprise focusing on retail operations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1400"/>
              </a:spcBef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 Narrow"/>
              </a:rPr>
              <a:t>To learn how to calculate revenue and costs in the different business activities in retailing and at wholesale companies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1400"/>
              </a:spcBef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 Narrow"/>
              </a:rPr>
              <a:t>To develop skills and competences how to treat and solve typical company problems within a trading enterprise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1400"/>
              </a:spcBef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 Narrow"/>
              </a:rPr>
              <a:t>To develop argumentation skills to be effective in the talks with merchandising partners 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TRO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6699"/>
                </a:solidFill>
                <a:latin typeface="Tahoma"/>
              </a:rPr>
              <a:t>The subject RWHM comprises</a:t>
            </a:r>
            <a:r>
              <a:rPr b="1" lang="de-DE" sz="2400" spc="-1" strike="noStrike">
                <a:solidFill>
                  <a:srgbClr val="006699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Qualitative and quantitative analysis of business position of the trading company (analysis of macro and micro environment in the past and possibilities in the future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ahoma"/>
              </a:rPr>
              <a:t>Analysis of the strategic opportunities of trading companies, how to define and formulate the strategy of an SME or a big international company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ahoma"/>
              </a:rPr>
              <a:t>Business planning in retail and service compani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ahoma"/>
              </a:rPr>
              <a:t>Analysis and Planning of merchandising operations – purchasing, inventory control, sales processes, Efficiency factors of merchandising in a retail company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33"/>
                </a:solidFill>
                <a:latin typeface="Tahoma"/>
              </a:rPr>
              <a:t>Measuring profitability in retail and wholesale companies, the key factors determining the profitability of a firm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33"/>
                </a:solidFill>
                <a:latin typeface="Tahoma"/>
              </a:rPr>
              <a:t>Cash Management of retail and wholesale companies, financing </a:t>
            </a:r>
            <a:r>
              <a:rPr b="0" lang="hu-HU" sz="2000" spc="-1" strike="noStrike">
                <a:solidFill>
                  <a:srgbClr val="660033"/>
                </a:solidFill>
                <a:latin typeface="Tahoma"/>
              </a:rPr>
              <a:t>trade</a:t>
            </a:r>
            <a:r>
              <a:rPr b="0" lang="en-GB" sz="2000" spc="-1" strike="noStrike">
                <a:solidFill>
                  <a:srgbClr val="660033"/>
                </a:solidFill>
                <a:latin typeface="Tahoma"/>
              </a:rPr>
              <a:t> activities, how to estimate the capital needs of trading enterprises and foresee the market value and price of a retail company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TRO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Relationships of RWHM to other subject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usiness Economic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ccounting and Analysis of balance shee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Finance opera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00"/>
                </a:solidFill>
                <a:latin typeface="Tahoma"/>
              </a:rPr>
              <a:t>Business Mathematic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00"/>
                </a:solidFill>
                <a:latin typeface="Tahoma"/>
              </a:rPr>
              <a:t>Statistic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00"/>
                </a:solidFill>
                <a:latin typeface="Tahoma"/>
              </a:rPr>
              <a:t>Operations Research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Basics of Managem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Market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Human Managem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Logistic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33"/>
                </a:solidFill>
                <a:latin typeface="Tahoma"/>
              </a:rPr>
              <a:t>SME (KALYPSO business simulation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33"/>
                </a:solidFill>
                <a:latin typeface="Tahoma"/>
              </a:rPr>
              <a:t>Case studies in Business operations (BML Simulation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99"/>
                </a:solidFill>
                <a:latin typeface="Tahoma"/>
              </a:rPr>
              <a:t>        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564120" y="1334520"/>
            <a:ext cx="7943040" cy="4563720"/>
            <a:chOff x="564120" y="1334520"/>
            <a:chExt cx="7943040" cy="4563720"/>
          </a:xfrm>
        </p:grpSpPr>
        <p:sp>
          <p:nvSpPr>
            <p:cNvPr id="527" name=""/>
            <p:cNvSpPr/>
            <p:nvPr/>
          </p:nvSpPr>
          <p:spPr>
            <a:xfrm>
              <a:off x="5561280" y="3111840"/>
              <a:ext cx="2100960" cy="104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99"/>
                  </a:solidFill>
                  <a:latin typeface="Tahoma"/>
                </a:rPr>
                <a:t>Business methods and techniques</a:t>
              </a:r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049400" y="2317320"/>
              <a:ext cx="2831040" cy="1559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99"/>
                  </a:solidFill>
                  <a:latin typeface="Arial"/>
                </a:rPr>
                <a:t>Economics</a:t>
              </a:r>
              <a:endParaRPr b="0" lang="en-US" sz="20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010520" y="3574440"/>
              <a:ext cx="2857680" cy="1562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99"/>
                  </a:solidFill>
                  <a:latin typeface="Arial"/>
                </a:rPr>
                <a:t>Business Economics and Management</a:t>
              </a:r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49040" y="2214360"/>
              <a:ext cx="2099880" cy="61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99"/>
                  </a:solidFill>
                  <a:latin typeface="Tahoma"/>
                </a:rPr>
                <a:t>Economic theory</a:t>
              </a:r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574600" y="4543920"/>
              <a:ext cx="2060640" cy="63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99"/>
                  </a:solidFill>
                  <a:latin typeface="Tahoma"/>
                </a:rPr>
                <a:t>Economic philosophy</a:t>
              </a:r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3882600" y="2526480"/>
              <a:ext cx="1666080" cy="56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882600" y="3093840"/>
              <a:ext cx="167832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895920" y="3113280"/>
              <a:ext cx="1678320" cy="17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3855600" y="2545920"/>
              <a:ext cx="1693080" cy="178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3855960" y="3626640"/>
              <a:ext cx="1705320" cy="70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868200" y="4350960"/>
              <a:ext cx="1706400" cy="56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64120" y="5426280"/>
              <a:ext cx="7943040" cy="47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6699"/>
                  </a:solidFill>
                  <a:latin typeface="Arial"/>
                </a:rPr>
                <a:t>Source</a:t>
              </a:r>
              <a:r>
                <a:rPr b="1" lang="hu-HU" sz="1600" spc="-1" strike="noStrike">
                  <a:solidFill>
                    <a:srgbClr val="006699"/>
                  </a:solidFill>
                  <a:latin typeface="Arial Narrow"/>
                </a:rPr>
                <a:t>: Dr. Henner Schierenbeck: Grundzüge der Betriebswirtschaftslehre, Oldenbourg 2003</a:t>
              </a: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13400" y="1334520"/>
              <a:ext cx="6621840" cy="60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Arial"/>
                </a:rPr>
                <a:t>Relationships of Economics and Business Economics</a:t>
              </a:r>
              <a:endParaRPr b="0" lang="en-US" sz="20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TRO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TRO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55440" y="1312920"/>
            <a:ext cx="9009720" cy="5400000"/>
            <a:chOff x="55440" y="1312920"/>
            <a:chExt cx="9009720" cy="5400000"/>
          </a:xfrm>
        </p:grpSpPr>
        <p:sp>
          <p:nvSpPr>
            <p:cNvPr id="544" name=""/>
            <p:cNvSpPr/>
            <p:nvPr/>
          </p:nvSpPr>
          <p:spPr>
            <a:xfrm>
              <a:off x="203400" y="1723680"/>
              <a:ext cx="2552040" cy="59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6699"/>
                  </a:solidFill>
                  <a:latin typeface="Tahoma"/>
                </a:rPr>
                <a:t>Factors independent from the economic system</a:t>
              </a:r>
              <a:endParaRPr b="0" lang="en-US" sz="1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07120" y="1806480"/>
              <a:ext cx="3486600" cy="46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6699"/>
                  </a:solidFill>
                  <a:latin typeface="Tahoma"/>
                </a:rPr>
                <a:t>Factors depending from the economic system</a:t>
              </a:r>
              <a:endParaRPr b="0" lang="en-US" sz="1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42640" y="2449440"/>
              <a:ext cx="2332440" cy="78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6699"/>
                  </a:solidFill>
                  <a:latin typeface="Arial Narrow"/>
                </a:rPr>
                <a:t>Combination of economic resources , (labour,  equipment, materials</a:t>
              </a:r>
              <a:endParaRPr b="0" lang="en-US" sz="1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42640" y="3888720"/>
              <a:ext cx="2370600" cy="72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6699"/>
                  </a:solidFill>
                  <a:latin typeface="Arial Narrow"/>
                </a:rPr>
                <a:t>Principle of profitability</a:t>
              </a:r>
              <a:endParaRPr b="0" lang="en-US" sz="1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9680" y="5380920"/>
              <a:ext cx="2410200" cy="75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6699"/>
                  </a:solidFill>
                  <a:latin typeface="Arial Narrow"/>
                </a:rPr>
                <a:t>Principle of financial equilibrium</a:t>
              </a:r>
              <a:endParaRPr b="0" lang="en-US" sz="1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54720" y="2423520"/>
              <a:ext cx="945360" cy="37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006699"/>
                  </a:solidFill>
                  <a:latin typeface="Tahoma"/>
                </a:rPr>
                <a:t>Plants</a:t>
              </a:r>
              <a:endParaRPr b="0" lang="en-US" sz="12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28240" y="2423520"/>
              <a:ext cx="1205280" cy="172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99"/>
                  </a:solidFill>
                  <a:latin typeface="Arial Narrow"/>
                </a:rPr>
                <a:t>Enterprise</a:t>
              </a:r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42640" y="4385160"/>
              <a:ext cx="1229760" cy="177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6699"/>
                  </a:solidFill>
                  <a:latin typeface="Arial Narrow"/>
                </a:rPr>
                <a:t>Public service companies and non-profit institutions</a:t>
              </a:r>
              <a:endParaRPr b="0" lang="en-US" sz="1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63120" y="2436120"/>
              <a:ext cx="3902040" cy="48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99"/>
                  </a:solidFill>
                  <a:latin typeface="Arial Narrow"/>
                </a:rPr>
                <a:t>Individual business planning capability</a:t>
              </a: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63120" y="3027600"/>
              <a:ext cx="38998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99"/>
                  </a:solidFill>
                  <a:latin typeface="Arial Narrow"/>
                </a:rPr>
                <a:t>Principle of profit maximization</a:t>
              </a: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76080" y="3659400"/>
              <a:ext cx="3875760" cy="48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99"/>
                  </a:solidFill>
                  <a:latin typeface="Arial Narrow"/>
                </a:rPr>
                <a:t>Principle of private property</a:t>
              </a: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9040" y="4359240"/>
              <a:ext cx="3862800" cy="45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99"/>
                  </a:solidFill>
                  <a:latin typeface="Arial Narrow"/>
                </a:rPr>
                <a:t>Economic planning under political supervision</a:t>
              </a: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02360" y="5030640"/>
              <a:ext cx="3849480" cy="45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99"/>
                  </a:solidFill>
                  <a:latin typeface="Arial Narrow"/>
                </a:rPr>
                <a:t>Principle of plan fulfilment</a:t>
              </a: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15680" y="5635800"/>
              <a:ext cx="3823200" cy="51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99"/>
                  </a:solidFill>
                  <a:latin typeface="Arial Narrow"/>
                </a:rPr>
                <a:t>Principle of defending public property</a:t>
              </a: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967320" y="1312920"/>
              <a:ext cx="7064280" cy="40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Tahoma"/>
                </a:rPr>
                <a:t>Factors of company performance</a:t>
              </a:r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5440" y="6370200"/>
              <a:ext cx="778896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99"/>
                  </a:solidFill>
                  <a:latin typeface="Arial Narrow"/>
                </a:rPr>
                <a:t>Source:</a:t>
              </a:r>
              <a:r>
                <a:rPr b="1" lang="hu-HU" sz="1600" spc="-1" strike="noStrike">
                  <a:solidFill>
                    <a:srgbClr val="006699"/>
                  </a:solidFill>
                  <a:latin typeface="Arial Narrow"/>
                </a:rPr>
                <a:t> Dr. Henner Schierenbeck: Grundzüge der Betriebswirtschaftslehre, Oldenbourg 2003</a:t>
              </a: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TRO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1. The role of commerce in the national economy</a:t>
            </a: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„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Commerce” as a notion from institutional and from functional aspec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The role and function of the industry „Commerce” in the national economy: marketing and distribution func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The role of commerce in the national economy (contribution to GDP, contribution to employment, capacity investments in commerce on the national economy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The fundaments of the growing share of commerce in the production of GDP and national income of the countr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Concentration in trading, the important tendencies of the development of trade on the level of the national economy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WHM-INTRO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1. The role of commerce in the national economy</a:t>
            </a: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Characteristics of the macro- and micro environment of trading compani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The overall market, regional markets and market segments in the national economy, the turnover of good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The living standard of the population in Hungary, interrelations between living standard and the level of development of Commerce in the country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The consumption of the population as the main demand factor for the commercial sector of the national econom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Income of the population and the forms of incomes they earn, nominal and real incom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WHM-INTRO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Tahoma"/>
              </a:rPr>
              <a:t>2. The socio-economic and natural environment of trading compan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Characteristics and the development trends of the social and economic environment of the retail companies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Supply channels and sales channels in internal and international trade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Social responsibility of firms in retail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Environmental problems caused by trade companies (additional transport needs for goods and people, waste, packaging of good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5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The importance to discover the Ianus sides of market economy: competition and co-operation of firms as two sides of the same th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7:32:23Z</dcterms:created>
  <dc:creator>Gaál Bence</dc:creator>
  <dc:description/>
  <dc:language>en-US</dc:language>
  <cp:lastModifiedBy> bgf-kvifk</cp:lastModifiedBy>
  <dcterms:modified xsi:type="dcterms:W3CDTF">2007-11-13T05:46:08Z</dcterms:modified>
  <cp:revision>78</cp:revision>
  <dc:subject/>
  <dc:title>A kereskedelem szerepe a nemzetgazdaságban</dc:title>
</cp:coreProperties>
</file>