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5E3-B7B3-422E-BC0B-8CF1CDFA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CF7-CCEC-44D3-9649-A889C00F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807-8396-4234-9951-1D8ED25B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3B8-CDFA-467D-80F1-59B17934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BE3C-B9D6-4A8D-BEBA-B77105AE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83A-D7A5-48B3-A1BF-7064B0F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5F5-32EE-47FA-8195-59FA48E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299-3FAC-46BF-92E2-BF3CDC1F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1B9D-88F6-476C-AD62-E74F4FEF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F55-6105-4078-BC40-3A5F865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63B1-772C-479D-9E56-788C754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811-B14D-4B9F-9AF8-1EB73E6A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2B6B-F79F-4FCF-B7A8-E00B991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E2A2-C8C2-40D2-843A-671DDCA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3913-4A29-4501-A6A0-32C5BF90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BB90-7109-4E1F-8915-DA4EFE6B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63C1-07DF-43D5-A96C-A30BC06F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6955-9FE5-44E1-A6C2-588EB20C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8FF4-5F52-471E-89AB-32610187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A8DB-DCF9-4EC6-BCA2-D044152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71A7-335B-4D92-A185-9334DD9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3AC8-E9C8-4241-9502-EB99C5DC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8BD-D83E-4A59-B256-68BE8476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E633-E2E7-4DDC-8BA3-E09AEE8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C397-B27E-4538-A1F6-BCCF8BE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0709-A12A-4E81-98E8-0377E38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E219-A14B-4DEB-BABB-D8E81ED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2BB9-5602-48E8-A70B-029993F2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18FE-7B46-4242-BE58-D27CEBB4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674B-4637-45A4-9658-2EC46B9B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A076-C2F3-4873-916F-2BC87267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3276-EEE0-4871-835A-CA2544A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2548-0594-484F-A3F7-5387A42E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16F-11BA-4BA3-91B3-E303BEB6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5D2C-E30D-4846-810F-2C19853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23CC-A2BC-4D71-AD61-B62FFF7D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1259-3635-4E5F-88AF-6C91FC96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1E82-A840-49F8-94B0-CEDA3C8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B27F-1B19-404B-B07E-C584949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EE04-5BDA-453A-A0AA-330DEB0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1378-9641-4D8D-BF24-4F4148B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ED8C-C805-46AF-9B5E-92A081B4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D354-A234-4275-81D7-955EB2A9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C0FB-A951-4534-AB73-DE3C36F7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84D-F3A2-4D67-87F8-34F7D9AB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9918C-E4E6-47F8-BC98-14AC66AF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A079-04A4-4665-813C-B85F6CD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55E9-DF5D-4D3E-BA0B-6866F734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9F1F-95E3-4B3C-9125-52BD86CC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D0B9-CEC5-4436-B93B-8679E88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D9A9-4B60-4165-8C3F-7CACEDD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C450-E185-4E8B-8C89-C6250980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462A-F664-4AD4-A92B-753B4B9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B753-4C13-48C4-9FFF-14B899A8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B8ED-373D-4D88-8BD3-D5E4A1AE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E83-B95F-45A1-81CA-7DFBE35D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2AE0-D59A-48D2-9E69-2DFF7864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D21A-57E3-4270-84A3-8321C173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9DBD-F29B-462D-80D2-0859917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98132-E496-4538-A15A-71EBB864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C892-FB64-46B8-BCDA-80BEC2CF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378B-3EED-41D7-9E39-7AFBE1F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C26D-3F44-4948-BBC5-BC2E9997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55607-ED06-464F-8081-C3E7930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00C34-5C33-4E9E-9CBD-0A45F54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7741-94DF-4F59-9182-6418FF1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B43-624C-4071-B568-C02B6D51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CE52-190A-47BA-99C1-ED21E845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51B3-CD4D-4450-822D-A3AA6DA7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7232-845D-4FF2-93B1-3F6432BA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B6D-FBF9-436D-B7CF-D390660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3F7-8776-46AD-93B2-AAFD373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51BF-F8CF-48D0-954F-01D5BF4D20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9E4C-F87E-4FEF-9883-67512B9ACF2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339-A651-4A1F-A83C-12D6A54657F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8275-D174-49D4-9DDA-08A35A40427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1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DD41-32D6-4CA5-AAF9-BAA50E1B4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9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3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31B-929E-4C0D-A7BF-2D84243859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54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Retail and Wholesale Management</a:t>
            </a: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Tahoma"/>
              </a:rPr>
              <a:t>(RWHM)</a:t>
            </a:r>
            <a:br>
              <a:rPr sz="40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(Business Economics in Commerce)</a:t>
            </a:r>
            <a:br>
              <a:rPr sz="2400"/>
            </a:br>
            <a:br>
              <a:rPr sz="2400"/>
            </a:b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An overview of the contents and structure of the subject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made by</a:t>
            </a:r>
            <a:br>
              <a:rPr sz="2000"/>
            </a:br>
            <a:br>
              <a:rPr sz="2000"/>
            </a:b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r.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Csaba Sólyom</a:t>
            </a:r>
            <a:br>
              <a:rPr sz="3200"/>
            </a:b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senior lecturer of the BBS-FCCT</a:t>
            </a:r>
            <a:br>
              <a:rPr sz="2000"/>
            </a:br>
            <a:r>
              <a:rPr b="0" lang="fr-FR" sz="1800" spc="-1" strike="noStrike">
                <a:solidFill>
                  <a:srgbClr val="ffccff"/>
                </a:solidFill>
                <a:latin typeface="Arial"/>
              </a:rPr>
              <a:t>Chevalier de l’Ordre des Palmes Académiques de France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Goods turnover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ales analysis and sales planning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rends, seasonality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tructure of sales, assortmen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Means of the analysis and plann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ales promotion and its meth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urchase of goods as a key element of goods turno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Principals and methods of purchase techniqu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ommon purchasing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coring mode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Inventory contr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An integrated system of planning the turnover of goo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4. Pricing and cost control, the profitability of the retail compa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ice policy – strategy and tactics of trade enterprises in pric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role of the prices from macro-economics point of view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Rules and guidelines of the state in pric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icing strategies, and price behaviour of the trade enterpris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icing policy on the company level – maximizing the value of price margin on the company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icing policy of the goods merchandised from the company – pricing and sales prices control from various aspects of the company managemen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4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Pricing and cost control in the trade enterpri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sts of the company – definition of cost control in retail and wholesale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asic notions in cost contr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Various cost types in the trade companies, how to group various cost types (cost centres, variable and fixed costs etc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to analyze the costs of the enterprise: ratios, and typical figures of cost analysi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rrelations of costs and business results – costs and benefi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lanning and control of company costs</a:t>
            </a: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0000"/>
                </a:solidFill>
                <a:latin typeface="Tahoma"/>
              </a:rPr>
              <a:t>5. </a:t>
            </a: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Utilisation of Resour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Human Resources, planning of labour need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ductivity of labour and its determining facto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rritorial productivity in retail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alaries, analysis and planning of labour costs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ixed assets, depreci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vestme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How to control the development of growth in busin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alysis of retail chains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cation-Analys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easibility studies of new investments in retail compan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6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Financing of Trade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pital needs of trade companies at various stages of the development of the compan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pitalisation of a trade compan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sh-Management, Liquidity and their relationship on short and long ru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79280" y="4797360"/>
            <a:ext cx="878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Thank You for Your attention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Education Goals and Learning Outcom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achieve a certain knowledge and skills in the management of trade compan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learn how to analyze the various business activities of a trade enterprise focusing on retail operation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learn how to calculate revenue and costs in the different business activities in retailing and at wholesale compan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develop skills and competences how to treat and solve typical company problems within a trading enterprise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develop argumentation skills to be effective in the talks with merchandising partners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ahoma"/>
              </a:rPr>
              <a:t>The subject RWHM comprises</a:t>
            </a:r>
            <a:r>
              <a:rPr b="1" lang="de-DE" sz="2400" spc="-1" strike="noStrike">
                <a:solidFill>
                  <a:srgbClr val="006699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Qualitative and quantitative analysis of business position of the trading company (analysis of macro and micro environment in the past and possibilities in the futur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Analysis of the strategic opportunities of trading companies, how to define and formulate the strategy of an SME or a big internationa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Business planning in retail and service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ahoma"/>
              </a:rPr>
              <a:t>Analysis and Planning of merchandising operations – purchasing, inventory control, sales processes, Efficiency factors of merchandising in a retail company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Measuring profitability in retail and wholesale companies, the key factors determining the profitability of a fir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Cash Management of retail and wholesale companies, financing </a:t>
            </a:r>
            <a:r>
              <a:rPr b="0" lang="hu-HU" sz="2000" spc="-1" strike="noStrike">
                <a:solidFill>
                  <a:srgbClr val="660033"/>
                </a:solidFill>
                <a:latin typeface="Tahoma"/>
              </a:rPr>
              <a:t>trade</a:t>
            </a: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 activities, how to estimate the capital needs of trading enterprises and foresee the market value and price of a retai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Contacts of RWHM to other subjects of the cours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usiness Econom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counting and Analysis of balance shee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nance oper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Business Mathema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Operations Resear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Basics of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Human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Logis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ahoma"/>
              </a:rPr>
              <a:t>SME (KALYPSO business simulatio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ahoma"/>
              </a:rPr>
              <a:t>Case studies in Business operations (BML Simulatio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</a:rPr>
              <a:t>1. The role of commerce in the national economy</a:t>
            </a: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„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Commerce” as a notion from institutional and from functional aspec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he role and function of the industry „Commerce” in the national economy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he fundaments of the growing share of commerce in the production of GDP and national income of the count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Concentration in trading, the important tendencies of the development of trade on the level of the national economy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Characteristics of the macro- and micro environment of trading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he overall market, regional markets and market segments in the national economy, the turnover of go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he living standard of the population in Hungary, interrelations between living standard and the level of development of Commerce in the country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The consumption of the population as the main demand factor for the commercial sector of the national econom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Income of the population and the forms of incomes the</a:t>
            </a:r>
            <a:r>
              <a:rPr b="1" lang="hu-HU" sz="2000" spc="-1" strike="noStrike">
                <a:solidFill>
                  <a:srgbClr val="000099"/>
                </a:solidFill>
                <a:latin typeface="Arial Narrow"/>
              </a:rPr>
              <a:t>y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ear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2. The socio-economic and natural environment of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haracteristics and the development trends of the social and economic environment of the retail compani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pply channels and sales channels in internal and international trade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responsibility of firms in retail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vironmental problems caused by trade companies (additional transport needs for goods and people, vaste, packaging of goo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importance to discover the Ianus sides of market economy: competition and co-operation of firms as two sides of the same th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Economic policy and the development of the N</a:t>
            </a: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ational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conomy</a:t>
            </a:r>
            <a:r>
              <a:rPr b="1" lang="en-GB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oals and means of the state in its economic policy, growth, and equilibrium as main and standard objectiv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rade politics of the st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sequences of the EU membership and the globalisation of the world econom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mportant directives of the EU on Commer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Basic problems of management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Vision, Mission of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rategies of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thods of strategy development (BCG, SWOT, Porter analysi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usiness policy of a retail company, guidelines, strategy and tactic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WLH-EINF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Basic problems of management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usiness planning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tents and form of business plans various figures used for analyzing the efficiency of the company pla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Relationships of strategy, business planning and planning of goods turnover (purchasing, inventory control and sale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6-12-27T11:58:21Z</dcterms:modified>
  <cp:revision>71</cp:revision>
  <dc:subject/>
  <dc:title>A kereskedelem szerepe a nemzetgazdaságban</dc:title>
</cp:coreProperties>
</file>