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FAA-80BC-4849-B1C2-9ACBB895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719-0F90-49B5-A78A-725C20C2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93B-5868-4FBC-B25E-773C4AB8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F6B-8411-4A92-9674-D5E0C1AB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494-8E7C-484E-8A45-B6B42089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D9CD-23EC-450B-8A38-9FB1FD4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3255-9C78-4414-BAB2-649FE24B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0CF1-0BC4-49B3-ADA9-15EA61A1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7E5B-1386-47A4-8039-1462B783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D27A-9C96-4B89-8356-B98A3D68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6B2A-1805-4219-AD77-5531045C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A77-5D63-4631-B521-A8E4A05B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750F-9CEC-49B0-8AE6-AD1E1808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FBEE-C423-41E6-AAD5-CA562C7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C706-1C4C-49AA-862E-F7E745B6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6F03-9EB6-4C1E-8173-B2DA596E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FCA0-6D9E-4096-AF5A-D1BB2054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3F7D-324A-4ABF-B383-EAB33987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12667-6D89-4F60-A867-04D26578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43D6-CA21-49CB-BE52-BC7C4336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2963-8900-4154-9E74-50D7B579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A6A8F-9CBC-4698-8CAA-008A9890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6E4-9513-4E71-9221-350F822B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620A-7AE7-4258-AC27-BCBB186C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4FEC-56BC-4AEF-A6BC-CC94E2D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8A46-C571-4321-B3D2-10FF1D4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2686-5463-462C-B9DA-58467BD3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C600-6DE3-4790-B488-7F573A68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246D-F676-40B1-BAD3-AB87A6C6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5925-FE2E-4519-B6B9-C497F8B9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4FBD-81AC-40F8-A4DC-DB1B7E32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0D2A-189A-456C-B2AA-EE589577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0D92-34C4-4712-80D6-42E08AC3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B89-2893-4886-A512-581A3031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C37A-7ACE-4BA6-A042-39BAEFBC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D839-ADD8-4B9C-B139-5AF98F8B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9FA1-7013-4BA0-883F-6CD9649A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05E92-8CC9-41F7-BD71-74ACD000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3C30-2A65-4A92-820D-30B60CDB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02815-7F4F-40D5-AB55-CF6FF61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5127-9CB2-487D-B989-4C2C1579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636C-5793-454A-901C-CD6DDB2B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E367-2347-4080-AA19-C19162DC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85E68-E075-417D-925A-D9BFCE1B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2C2-8C3C-43C7-81E1-B38EE3A5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FA872-8717-4D4A-A041-85885CD0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A1829-7B3C-4455-92F0-B86F7EF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7734-6CA3-48EB-94D4-394485CF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372FB-3B10-4E2D-8289-21AA0373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2DF7E-C265-40AC-B203-29E12DA0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EFA3-1536-45D5-B515-C3FCAA0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51E71-5BFA-4C67-8A1B-E1EA76D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29DB6-A247-4760-A1CD-9E158DD1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1A0C7-1CC5-45A1-AF71-DDC44AB1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F2BB-1F50-401F-813C-4AE93EC4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70E-7EAC-466A-AAAB-3E71959E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73978-735B-480A-9F60-69C0CECC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739CA-FD19-4E03-A0C2-AD91B7C1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502A-0EF6-4A93-9035-2F93338E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D2529-FCB3-4B9D-BE6D-676C4544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94D3D-7744-428A-A12F-4B49A955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69AC-B3F0-42DC-AD28-F85CD72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B5F0E-AC95-4CF9-B720-37D2F9F1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C3A50-2822-4BED-98A0-497A0D5C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C350-9740-4F5E-87B7-23628CCE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C0EE-7DE1-4854-8C02-B6630B3E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FF6-3838-4F36-8F90-6E6E0729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CDCB-30BF-44A7-9B15-C1CBF1AE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9E930-A4A9-418A-9D22-E6E5D461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EB048-10AD-4930-B2D4-7809EE23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6B8-4B55-4863-9097-13F91513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3E2-A199-4ADD-9671-A738528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92DB-55DD-4063-83AE-4653228E8EB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7F3B-5C11-4A3F-98D9-D2DC577144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7550-2DAA-485D-A46E-DA2CC9416FF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673B-94D4-41F1-9B99-CDD50B2D1D8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7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28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7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8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1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2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8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65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66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8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9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0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1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2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3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4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5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6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7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615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27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28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635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0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C4F8-7E4C-4990-988A-A7B174FFDFA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682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93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5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0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5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6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1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9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0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1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2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3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4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6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9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30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2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3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4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5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6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7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8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9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0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1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2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669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43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6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7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8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9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1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2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3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4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99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80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92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793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799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800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0083-6510-4F68-AA7D-4704CBD7122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ales Turnover of Goods and Services,</a:t>
            </a:r>
            <a:br>
              <a:rPr sz="3600"/>
            </a:br>
            <a:r>
              <a:rPr b="1" lang="hu-HU" sz="36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he Features of the Market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hu-HU" sz="3600" spc="-1" strike="noStrike">
                <a:solidFill>
                  <a:srgbClr val="66ff66"/>
                </a:solidFill>
                <a:latin typeface="Arial"/>
              </a:rPr>
              <a:t>T</a:t>
            </a:r>
            <a:r>
              <a:rPr b="1" lang="en-GB" sz="3600" spc="-1" strike="noStrike">
                <a:solidFill>
                  <a:srgbClr val="66ff66"/>
                </a:solidFill>
                <a:latin typeface="Arial"/>
              </a:rPr>
              <a:t>he Main Tasks of Commerc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99ff"/>
                </a:solidFill>
                <a:latin typeface="Arial"/>
              </a:rPr>
              <a:t>(Domestic and/or Foreign Trade)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66ccff"/>
                </a:solidFill>
                <a:latin typeface="Arial"/>
              </a:rPr>
              <a:t>(Retail and/or Wholesale Trading)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59120" y="4581360"/>
            <a:ext cx="532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made by 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Mr.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Csaba Sólyom</a:t>
            </a:r>
            <a:br>
              <a:rPr sz="1800"/>
            </a:b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enior lecturer of the Budapest Business School</a:t>
            </a:r>
            <a:br>
              <a:rPr sz="1800"/>
            </a:b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2006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Tahoma"/>
              </a:rPr>
              <a:t>Further sales turnover groupings:</a:t>
            </a: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Individual sales for the population or  Institutional sa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Tahoma"/>
              </a:rPr>
              <a:t>Cash sales or credit sales (sales against  Bon, consumer credit etc.)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Sales  </a:t>
            </a: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The notion sales will be understood and defined on different way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Sales policies, selective sales policies, instruments of sales polic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Purchasing and sales business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rketing, multinational Marketing, Marketing-Mix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Verdana"/>
              </a:rPr>
              <a:t>Shopping decisions of the consumer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Routine shopping decis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Impulsive shopping decis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Experience orientation – Experience purcha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1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Lifestyle-concep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4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One-Stop-Shopping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mparison of enterpris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On the level of goods and artic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On the level of territo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0" name=""/>
          <p:cNvSpPr/>
          <p:nvPr/>
        </p:nvSpPr>
        <p:spPr>
          <a:xfrm>
            <a:off x="-74520" y="2980800"/>
            <a:ext cx="93628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Recommended literature: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Árva, Diczházi, Kiss: Globalization and foreign investments in Hungary Euro-Midi 2002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250920" y="5013360"/>
            <a:ext cx="86421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103"/>
                </a:solidFill>
                <a:latin typeface="Clarendon"/>
              </a:rPr>
              <a:t>Thank You for Your attention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The most important types of grouping the needs from economic aspec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the volume of the needs: total, effektiv und latent, What kind of rules are represented in the development of the need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the fulfilment of the needs production tools, and consumer goods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the type of the needs: individual and collective needs, physical and non physical need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Maslows theory: there are primary, secondary etc. need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behaviour of the people elastic and non elastic need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According to its visibility in business life: open, and latent need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Need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urchasing funds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     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urchasing power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          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nsumer demand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                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Sales turnov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nsum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      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   </a:t>
            </a: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Nee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395280" y="1197000"/>
            <a:ext cx="0" cy="367200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468360" y="4869000"/>
            <a:ext cx="439272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63640" y="76500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32360" y="148428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940360" y="213372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04000" y="285264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04000" y="350028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236000" y="4221000"/>
            <a:ext cx="504720" cy="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Market – the meeting point of Demand and Offer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Market types (market par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Markets of production tools and consumer good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Markets of goods and servic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Inner market of a country and foreign markets (foreign trade markets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Market behaviour of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population of a country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entrepreneurs, enterprises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non profit sectors of the economy, of the state owned enterprises and institutions of the countr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A stronghold, a monopoly or oligopoly position of customers or suppliers on the market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Deman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20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ustomers wish well-defined goods and service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20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ustomers have well-defined price image they would like to se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20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ustomers have also mostly well-defined timing idea about the shopping</a:t>
            </a:r>
            <a:r>
              <a:rPr b="1" lang="hu-HU" sz="32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Factors influencing the volume, structure of the demand appearing on the mark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Volume und structure of the needs of consumers,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Income facilities of the population and of the enterprises in the country, Purchasing funds and purchase power, dispon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b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ility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 income, and free dispon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ibility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 income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Development of prices in the national economy, relations of product and service prices to each other, price-elasticity of demand, substitution</a:t>
            </a:r>
            <a:r>
              <a:rPr b="1" lang="hu-HU" sz="2000" spc="-1" strike="noStrike">
                <a:solidFill>
                  <a:srgbClr val="006699"/>
                </a:solidFill>
                <a:latin typeface="Tahoma"/>
              </a:rPr>
              <a:t>-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elasticity of the demand on prices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he value and structure of global offer on the market (prolonged demand in time)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echnical and scientific development and the duration of products (the curve of their life-cycle)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0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Demographic factors, social and historical traditions determining consumer behaviour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How we can divide the demand into group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urchasing power, set of article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Indices of purchasing power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Factors of purchasing pow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nsumer freedom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Consumer sovereign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Demanding power of consumer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Offering power of suppliers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The offers on the market and its ele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Assort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Qual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Transport condition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rice and payment terms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Verdana"/>
              </a:rPr>
              <a:t>Price as a sovereign, and stand-alone category of the mark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KVGV-NAKM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Sales, sales of goo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Net principle (all shops and gastronomy units are included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Product principle (all goods and services as rents and lottery (Toto-lotto) games are included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Activity principle (all activities are included if they show the features of trading activity irrespectively what people say about this activity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Territorial (geographical) principle (all trading activities are included which will be run within the borders oif the country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6-12-27T15:51:01Z</dcterms:modified>
  <cp:revision>66</cp:revision>
  <dc:subject/>
  <dc:title>A kereskedelem szerepe a nemzetgazdaságban</dc:title>
</cp:coreProperties>
</file>