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D3C-2ED2-4AA7-80BD-7FC70F13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76F-1C2B-4BFD-87F8-FA909E97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457-28AA-4584-8E50-D1B0399A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701-745C-4015-9147-EFC0BFEE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42E-A485-4C3D-B513-6B2AC935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5A8-DEA7-4CCE-B822-CF8DD27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4C8-B6A0-4289-A2FB-109E54E5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D98-AFCE-42FB-8D45-39D2323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37B-7319-4EB7-B02B-4EFB44A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D24-2CB7-4DC0-ACCB-1FC6248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FFB-0384-46AC-BB1B-83378DB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36D-36FD-418D-A049-C9EF70B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CD6E-1CC8-48C3-A8E2-3475FC6C920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let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í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elmények feltá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chitekturáli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lement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zt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be hel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elt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ban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volú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emen kívül hel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45400" cy="4886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ízesés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5120" y="1247760"/>
            <a:ext cx="7675560" cy="436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voluciós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8240" y="2262240"/>
            <a:ext cx="8869320" cy="233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Újrafelhasználás alapú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3280" y="1790640"/>
            <a:ext cx="867888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nkrementális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305760" cy="5619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pirális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2560" y="1138320"/>
            <a:ext cx="77803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21:47Z</dcterms:created>
  <dc:creator>Dr. Juhász István</dc:creator>
  <dc:description/>
  <dc:language>en-US</dc:language>
  <cp:lastModifiedBy>Dr. Juhász István</cp:lastModifiedBy>
  <dcterms:modified xsi:type="dcterms:W3CDTF">2010-09-15T09:24:07Z</dcterms:modified>
  <cp:revision>9</cp:revision>
  <dc:subject/>
  <dc:title>1. dia</dc:title>
</cp:coreProperties>
</file>