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E233-5EC9-41A4-B073-CB1E93A1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2A7A-B93C-49C0-8507-5AFC8817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4F3E-DC15-4AC1-B214-F5D3AE50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7138-313A-4848-A073-173FE17F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96FC-CB81-4CF3-9805-9718E99F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023-775C-47EE-915D-4C1A12AE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5F8F-DBDE-4FCB-9236-3FEB5BBC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6874-914B-444A-A2BC-065CD34B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C9AB-B47C-401E-9960-0C7ABE2A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C32B-1191-4560-A80E-CE7CFD0E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6F2-1FC8-4854-9DEB-8C87187A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DB6-0C24-4270-A094-AEC50D32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D600-794E-44D6-8AB4-5BA86E427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848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991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77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985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920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064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odel Driven Architecture</a:t>
            </a:r>
            <a:br>
              <a:rPr sz="4000"/>
            </a:b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letcik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77612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íz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vetelmények feltár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em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rchitekturális terv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v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mplementá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szt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Üzembe hely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Üzemelte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arbantar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volú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Üzemen kívül hely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9134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l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IM - Computation Independ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IM - Platform Independ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SM – Platform Specifi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latform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zform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33400" y="1341360"/>
            <a:ext cx="5677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Lehman törv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9767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84836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129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8036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54160" y="2862360"/>
            <a:ext cx="68374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7680" y="2986200"/>
            <a:ext cx="685008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27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1:40:47Z</dcterms:created>
  <dc:creator>Dr. Juhász István</dc:creator>
  <dc:description/>
  <dc:language>en-US</dc:language>
  <cp:lastModifiedBy>Dr. Juhász István</cp:lastModifiedBy>
  <dcterms:modified xsi:type="dcterms:W3CDTF">2010-11-19T09:48:24Z</dcterms:modified>
  <cp:revision>9</cp:revision>
  <dc:subject/>
  <dc:title>1. dia</dc:title>
</cp:coreProperties>
</file>