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784-4E0D-4A7D-A641-66FADEF6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A0C-94DD-4558-A801-3E42BDEA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6E1-A355-4AD4-9740-5984CF8F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EAE-8348-4867-9042-A8ED38C1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7F4-8CC6-4809-BEDD-A8A46DA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EC0-E2B7-4BB4-84E6-A6615127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987-445F-498C-89D2-3BD4EDDD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2A4-7D87-4FCC-BF97-F51AA774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958-E045-4970-9220-383E90D7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A3A-8A4C-464B-8140-D38C5A3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353-3227-4E9B-85C6-5271DF7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BA2-2AED-4B15-BECA-283A783D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6CC9-FBEF-4A1D-931D-EC0D678A0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Webszolgálta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-alkalmazásokat képeznek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kra, objektumokra, adatbázisokr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zleti függvények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rvice Oriente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OA összetevő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ferencia architektú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llalati módszer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rányítási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jlesztési foly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zolgálta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nálló enti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r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án csatol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használóik program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ációjuk nem ism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íróik egy-egy szerződést definiál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llapotmentesek vagy állapotőrz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1571760"/>
            <a:ext cx="48765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81120" y="1467000"/>
            <a:ext cx="5983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16040" y="1057320"/>
            <a:ext cx="77137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41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9760" y="1757520"/>
            <a:ext cx="63244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52600" y="1224000"/>
            <a:ext cx="62388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57400" y="1119240"/>
            <a:ext cx="68310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DB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.NE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lóz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&lt;-&gt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-üzenet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lt;-&gt;| CORB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J2E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SA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é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nterprise Service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43000" y="2781360"/>
            <a:ext cx="505800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5905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329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9325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 Manif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orientation is a paradigm that fram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-oriented architecture (SOA) is a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 results from applying servic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en applying service orientation to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consistently deliver sustainabl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, with increased agilit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 cost effectiveness, 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hanging business nee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3250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our work we have come to priorit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ver technic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ver project-specific 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rinsic interoper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ver custom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ared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ver specific-purpos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plem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ver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olutionary refin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ver pursuit of initia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r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at is, while we value the items on the right, w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items on the left mo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 follow these princip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the social and power structure of the organiz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at SOA ultimately demands change on many lev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pe of SOA adoption can vary. Keep efforts mana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ithin meaningful bounda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and standards alone will neither give you SOA nor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ice orientation paradigm for you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A can be realized through a variety of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a uniform set of enterprise standard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licies base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 industry, de facto,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rsue uniformity on the outside while 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versity on the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services through collaboration with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chnology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service usage by considering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nd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scope of ut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that services satisfy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nd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 services and their organizatio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o real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the different aspects of a system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at different 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implicit dependencies and publish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dependencies to increase robus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duce the impact of cha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very level of abstraction, organize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around a cohesiv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nageabl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functiona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abván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SDL – Web Service Description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DDI  – Universal Description, Discovery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nd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AP – Simple Object Access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Webszolgáltatások architektúr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724040"/>
            <a:ext cx="70563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definitions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messag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portTyp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types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binding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servi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documentatio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impor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DDI adat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fehér olda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sárga olda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zöld olda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DDI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DDI BR (Business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DDI adat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1362240"/>
            <a:ext cx="79912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DDI API műve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ká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e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kérd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zton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P üzenet rész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envelop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header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body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&lt;faul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5:44:09Z</dcterms:created>
  <dc:creator>Dr. Juhász István</dc:creator>
  <dc:description/>
  <dc:language>en-US</dc:language>
  <cp:lastModifiedBy>Dr. Juhász István</cp:lastModifiedBy>
  <dcterms:modified xsi:type="dcterms:W3CDTF">2010-12-06T19:45:29Z</dcterms:modified>
  <cp:revision>8</cp:revision>
  <dc:subject/>
  <dc:title>Model Driven Architecture MDA</dc:title>
</cp:coreProperties>
</file>