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6910-D796-4C07-B082-816C396231C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9FA-2E10-49CF-8D1A-FDBE04EFD65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C3E7-3B1E-449B-9244-F6EC9BDF411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616E-3BDA-4F4E-82E5-01AD7F2B302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F5E8-7F70-4CCB-94F6-4957E8B5D63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9BDC-32B3-43C7-AE47-8190192E798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16D3-4EFB-4369-A577-990D45B7B1E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4861-8142-4329-87A1-7E3E255BBD7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9079-D89E-4F44-B084-282BFE6E2C7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F908-0327-4DD6-850C-749B984C720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E2C8-7B4B-40A8-986E-EFEDB60737E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7B98-682C-4CB4-8DE0-E3968E89763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4F0-7CA5-424C-8F2A-856113DC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938-F8B6-4A6B-A83A-BDAF1059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808-C0DE-4EEC-A110-1DF2BE3A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EAB-8A18-4FDC-A4F4-9A6EB6B9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39C-A138-49C0-9E2E-A274A37C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1C8-BF55-4787-81E7-A98F4D17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C98-3697-4063-B868-48743E73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C01-4AA2-4A32-837A-E6127051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016-9BAC-4CD8-9901-19150729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775-0A82-433D-80AA-1B6FDAF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7BC-B624-4934-B4B4-211D0DF9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B62-6A19-406E-9097-D63F78E9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EAB-1FF9-412E-9059-FF5E5FCB5E0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84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eresztező vonatko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38040" y="2276640"/>
            <a:ext cx="8467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evere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nchronized void put (SensorRecord rec) throws Interrupted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f (numberOfEntries == buf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 (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ore [back] = new SensorRecord (rec.sensorId,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c.sensorVal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 = back + 1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back == buf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 = 0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OfEntries = numberOfEntries + 1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notify (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//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erminoló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1280" y="1731960"/>
            <a:ext cx="9037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spektusdefiní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spektus-összeszöv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85720" y="2421000"/>
            <a:ext cx="79250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38160" y="1542960"/>
            <a:ext cx="72676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2384280"/>
            <a:ext cx="903600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61920" y="1038240"/>
            <a:ext cx="72201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METAMODELLEZ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verything is…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…an object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…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719360" y="57240"/>
            <a:ext cx="57690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523880" y="620640"/>
            <a:ext cx="6096240" cy="4210200"/>
          </a:xfrm>
          <a:prstGeom prst="rect">
            <a:avLst/>
          </a:prstGeom>
          <a:ln w="0">
            <a:noFill/>
          </a:ln>
        </p:spPr>
      </p:pic>
      <p:sp>
        <p:nvSpPr>
          <p:cNvPr id="78" name="Szövegdoboz 1"/>
          <p:cNvSpPr/>
          <p:nvPr/>
        </p:nvSpPr>
        <p:spPr>
          <a:xfrm>
            <a:off x="1908000" y="48132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nem egy pipa (Magrit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2"/>
          <p:cNvSpPr/>
          <p:nvPr/>
        </p:nvSpPr>
        <p:spPr>
          <a:xfrm>
            <a:off x="32400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gy képet nem szabad felcserélni a dologgal, amit az ember megérinthet. Meg tudja tömni az én pipámat ? Természetesen nem. Ez csak egy vázlat. Ahogy rá is írtam a képre, hogy ez nem egy pipa, az úgy is van. A narancsszelet másolata egyáltalán nem ehető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990720" y="1200240"/>
            <a:ext cx="71625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680" y="1028880"/>
            <a:ext cx="9134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ntológiák használ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udományter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sterséges intellig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emantikus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oftverfejlesz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tamodell és ontoló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metamodell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lőír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és a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goldá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erülethe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tarto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ontológia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leír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és a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blém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erülethe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tarto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echnoló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ntológia-vezérelt szoftverfejlesz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író nyelv az UML(-profil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hings should be made as simple as possible, but no simpl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ture wasn’t designed but debugged into perfe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06360" y="1023840"/>
            <a:ext cx="67327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01760" y="1266840"/>
            <a:ext cx="65419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600200" y="1700280"/>
            <a:ext cx="5943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Élet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61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íz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vetelmények feltá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e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chitekturális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plement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zt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embe hely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emelt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rban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volú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emen kívül hely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ntoló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adott szakterület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ategóriái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fogalmak, objektumok, osztályok) é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ztük lévő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apcsolatokna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leírása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jelentésükk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együtt. Egy formá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galomdefiníció-együttes. A definíci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üggetlenek az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olvasótó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eír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ormalizmustó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az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lkalmazá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rnyezettő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veti a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zárt vilá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feltét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spektusorientált szoftverfejlesz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AOS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9:32:25Z</dcterms:created>
  <dc:creator>Dr. Juhász István</dc:creator>
  <dc:description/>
  <dc:language>en-US</dc:language>
  <cp:lastModifiedBy>Kollár Lajos</cp:lastModifiedBy>
  <dcterms:modified xsi:type="dcterms:W3CDTF">2011-12-13T15:17:55Z</dcterms:modified>
  <cp:revision>10</cp:revision>
  <dc:subject/>
  <dc:title>1. dia</dc:title>
</cp:coreProperties>
</file>