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702-612B-4C75-A24A-11AA888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0FE-BE71-458B-BB33-BB50914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997-9D0D-42A0-99AE-203D540A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EC8-2284-4565-B78A-559453FD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F19-E4D7-4DD2-9BAB-ABB15953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404-5AFB-4507-B8B1-BD652FB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6BF-156F-4B95-BBD3-6F2B768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9B1-A0FB-45D0-87E5-F6A1013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9FA-42F4-4925-B901-3B46C27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75A-9283-4425-AB66-BE8B276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97E-129B-4214-BB97-25D482F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736-D6AA-40A5-96B8-0C9217A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88D-BA2F-4924-AA34-69301987DC9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pikus nézőpon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 rendszernek kínált szolgáltatások biztosítói és a rendszer szolgáltatásainak igénybe vevő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 specifikált rendszerrel közvetlen kapcsolatban leendő rendszere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 rendszerre érvényes szabályzatok és szabványo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z üzleti és a nem funkcionális követelmények forrás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 rendszer fejlesztőinek, kezelőinek és karbantartóinak követelményeit tükröző tervezői nézőponto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arketinges és egyéb nézőpontok, amelyek újabb követelményeket generálnak a terméknek a megrendelők által elvárt képességei alapján, és arról, hogyan képviselje a rendszer a vállalat külső arculat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400" y="1409760"/>
            <a:ext cx="8018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gatókönyv tartal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Linotype-Roman"/>
              </a:rPr>
              <a:t>1. annak leírása, mit vár a rendszer, illetve a felhasználó a forgatókönyv kezdeté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Linotype-Roman"/>
              </a:rPr>
              <a:t>2. a forgatókönyvbeli események normális menetének leírás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Linotype-Roman"/>
              </a:rPr>
              <a:t>3. leírás arról, mi romolhat el, és ezt hogyan kezeli a rendsz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Linotype-Roman"/>
              </a:rPr>
              <a:t>4. információk egyéb tevékenységekről, amelyek ugyanabban az időben mehetnek vég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Linotype-Roman"/>
              </a:rPr>
              <a:t>5. a rendszer állapotának leírása a forgatókönyv befejeződése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81200" y="600120"/>
            <a:ext cx="57816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1480" y="642960"/>
            <a:ext cx="7602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0640" y="2095560"/>
            <a:ext cx="7904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 valid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iditás ellenőrz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lentmondásmentesség ellenőr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jesség ellenőr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valósíthatósági ellenőrz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ifikál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0200" y="666720"/>
            <a:ext cx="77454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az éppen megadott funkció vagy egyed leírá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bemeneteit és azt, hogy azok honnan szárma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kimeneteit és azt, hogy azok hova kerül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utalást arra, milyen egyéb egyedek használtak (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gény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b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a végrehajtandó művelet leírá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funkcionális megközelítés használata esetén egy előfeltételt, amely kĳelöli, minek kell teljesülnie a függvény hívása előtt, és egy utófeltételt, amely azt adja meg, minek kell teljesülnie a függvény hívása u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7. a művelet mellékhatásainak leírását (ha vann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A követelménydokumentum cé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A termék felhasználási terü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Definíciók, betűszavak és egyéb rövidít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 Hivatk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 A dokumentum hátralevő részének áttekin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ltalános le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A termék áttekin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A termék funkci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Használati jellem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Általános megszorí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 Feltételezések és függő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ális 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ggel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árgymut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ősz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zet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ójegyzé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használói követelmények definí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ndszer felép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szerkövetelmény-specif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szermodel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szerevolú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gymutat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280" y="895320"/>
            <a:ext cx="88948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01760" y="1014480"/>
            <a:ext cx="6541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valósíthatósági tanulm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1. Hogyan birkózna meg a vállalat a feladattal, ha a rendszert nem valósítanák m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2. Milyen problémák merülnek fel a jelenlegi folyamatokkal kapcsolatban, és</a:t>
            </a: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hogyan segíthetné elő ezek csillapítását egy új rendsz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3. Hogyan járul hozzá a rendszer közvetlenül az üzleti célokhoz és követelményekhe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4. Átvihető-e információ más vállalati rendszerekbe, és viszo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5. Igényel-e a rendszer olyan technológiát, amelyet előzőleg még nem használtak a vállalaton belü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Linotype-Roman"/>
              </a:rPr>
              <a:t>6. Mit kell támogatnia a rendszernek, és mit n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4600" y="585720"/>
            <a:ext cx="5916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0:02:44Z</dcterms:created>
  <dc:creator>Dr. Juhász István</dc:creator>
  <dc:description/>
  <dc:language>en-US</dc:language>
  <cp:lastModifiedBy>Dr. Juhász István</cp:lastModifiedBy>
  <dcterms:modified xsi:type="dcterms:W3CDTF">2010-09-15T09:24:46Z</dcterms:modified>
  <cp:revision>10</cp:revision>
  <dc:subject/>
  <dc:title>1. dia</dc:title>
</cp:coreProperties>
</file>