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3648-819D-49E1-8153-4D04177A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106-A96A-4D03-B441-4C8CBF54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B77-AEB9-4CB4-8D9F-7FAA7EAE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073-9B72-4510-885A-5C8DF75C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AF3E-1F79-4667-B809-E62F1A71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1DE-FEB7-4325-83C2-A7049A20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75A-B46D-407D-BCFF-24490373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287B-4716-4D26-B159-CA92C40E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C03-27C6-480C-9044-64B554C2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187-B5DF-4929-8702-086F496B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D560-0E04-4CB8-98D8-341A5B74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30F-502A-4134-AD34-EF0F578F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D65F-1FA3-451E-8FA8-86DAB8332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95520" y="1914480"/>
            <a:ext cx="59529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ltoztatás igények rögzítése és karbantar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változtatási igényeket Változtatási kérelem adatlapon kell eljuttatni a megrendelő projektvezetőjéhez, aki azt továbbítja a szállító projektvezetőjéhez. A szállító projektvezetője által átvett változtatási igények nem jelentik azt, hogy azok megoldásán bárki dolgozna vagy dolgoznia kellene. A változtatási kérelmeket a megbízó projektvezetője hagyja jóvá vagy utasítja el. Döntéséhez egyeztethet a szállító projektvezetőjével, és az illetékes szakértőkkel. Amennyiben egy változtatás kérelem elbírálásra került, úgy azt megváltoztatni nem lehet, legfeljebb törölni és a módosítási igény szerint újat felvenni.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748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áltoztatás döntési folyama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változtatási kérelem alapján a szállító elkészíti a megoldási alternatíváit, illetve a változtatás kihatásait a projekt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változtatási igényeket jóvá kell hagyatni. A jóváhagyás több lépcsős iteratív folyamat. A döntési folyamat lépései az alábbiak szerint kell, hogy működjen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.szint A szállító oldali tanácsadó értékelése alapj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 a projekt terjedelmét nem befolyásolja és a kérelem teljesíthető, akkor a feladat elvégzése megkezdődh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 a projekt terjedelmét befolyásolja, akkor a szállító projekt vezető ajánlatot ad a megrendelő projektvezetőnek arra, hogy a változtatás milyen költségekkel és egyéb hatásokkal fog járni. Ennek alapján a megrendelő projektvezető döntése alapján a változta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iadott feladattá válik va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IB döntést igény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064880"/>
            <a:ext cx="89647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I. szint A PIB döntése alapj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iadott feladattá vál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zárásra kerül, mint nem elfogadott változtatás kére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lyan változtatási kérelemre nem adható ki feladat, amelyen nem szerepel a megfelelő jóváhagyási szint (azaz mindkét oldali projektvezető aláírása illetve szükség esetén PIB jegyzőkönyv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5280" y="895320"/>
            <a:ext cx="88948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6840" y="1380960"/>
            <a:ext cx="715176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58760" y="1671480"/>
            <a:ext cx="7027920" cy="35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35080" y="785880"/>
            <a:ext cx="6875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6600" y="866880"/>
            <a:ext cx="901224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54000" y="1695600"/>
            <a:ext cx="723744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135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82720" y="728640"/>
            <a:ext cx="738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43000" y="847800"/>
            <a:ext cx="5058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5265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0560" y="642960"/>
            <a:ext cx="57628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09760" y="1100160"/>
            <a:ext cx="63244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28640" y="1028880"/>
            <a:ext cx="5886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3400" y="1171440"/>
            <a:ext cx="74786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74138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vetelmények kezel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vetelmények azonos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yomon követhető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áltoztatáskeze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utomatikus keze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240" y="1357200"/>
            <a:ext cx="90313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11080" y="2962440"/>
            <a:ext cx="75232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 adminisztrációs r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z adminisztrációs rend kialakításának célja, hogy a projekt eredményei, munkaanyagai, az előrehaladással kapcsolatos információk minden érintett számára elérhetők és visszakereshetők legyenek, ezzel hatékonyabbá téve a projekt megvalósulásának kontrollját és a projekten belüli kommunikáció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dokumentációk névkonvenció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projekt során előállított valamennyi eredmény termék dokumentumnak azonos stílusban, egységes template szerint kell készülnie, és az azonosíthatóság céljából a láblécben tartalmazniuk kell az alábbi mezők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dokumentum ne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ldalszám / összes oldalszá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dokumentum készítésének dátum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dokumentum készítőjének ne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fájl neve elérési útt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kumentum státusza (pl.: munkaanyag, végleg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projekt során keletkező dokumentumok nevének tükrözniük kell a dokumentum tartalmát. A fájlnevekre a következő általános konvenciók vonatkozna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fájlnévnek a dokumentum típusára, ill. tartalmára utaló magyar szavakat vagy szótöredékeket kell tartalmazni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m lehet a fájlnévben szóköz, írásjel és ékezetes bet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fájlnévben elhelyezett verziószámot aláhúzás jellel kell elhatárol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ltoztatáskezel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áltoztatáskezelés alatt azt az eljárást értjük, amely szabályozza a hivatalosan elfogadott termékek (átadott dokumentumok, paraméterezett rendszer) tartalmának változtatására vonatkozó megrendelői igények lekezelését.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1:51:48Z</dcterms:created>
  <dc:creator>Dr. Juhász István</dc:creator>
  <dc:description/>
  <dc:language>en-US</dc:language>
  <cp:lastModifiedBy>Dr. Juhász István</cp:lastModifiedBy>
  <dcterms:modified xsi:type="dcterms:W3CDTF">2010-09-27T19:14:56Z</dcterms:modified>
  <cp:revision>8</cp:revision>
  <dc:subject/>
  <dc:title>1. dia</dc:title>
</cp:coreProperties>
</file>