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30B-A355-4787-B8BC-ABB3D41F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A61-F4A6-4B27-A185-FACE9F89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74E-D3E5-4CB3-A964-D4A31E90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78B-38EB-4E44-8D3B-F5EEE87D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F1F-4860-4893-B7DF-25B2FFEB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9A7-B16F-400C-81DC-F67EBFD7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648-AF9F-4D21-8DFC-BCADBAC9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CC4-5B70-44C3-818E-D74DD383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B57-A367-4234-BE9D-5ACC578C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ADB-B9E7-4DD5-A22E-B2D717F6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C142-F72F-4DB8-ADE6-9F153969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713-EEA3-4657-9A5C-88733890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1756-68AB-4342-B18F-40E625A6B31A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Létezik-e olyan általános alkalmazás-architektúra, amely a tervezendő rendszer számára mintául szolgál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 Hogyan osztjuk szét a rendszert processzorok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3. Milyen architekturális stílus lenne a rendszer számára megfelelő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4. Milyen alapvető megoldásokat alkalmazunk a rendszer strukturálásá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5. Hogyan lehet a rendszer szerkezeti egységeit modulokra felbonta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6. Milyen stratégiát kell alkalmazni az egységek működésének vezérlésével kapcsolatb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7. Hogyan értékelik majd ki az architekturális terv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8. Hogyan kell a rendszer-architektúrát dokumentál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rchitekturális modell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kus szerkezeti mod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namikus folyamatmod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észmod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csolatmod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sztási mod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4883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786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820872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3516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883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8066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4:45:09Z</dcterms:created>
  <dc:creator>Dr. Juhász István</dc:creator>
  <dc:description/>
  <dc:language>en-US</dc:language>
  <cp:lastModifiedBy>Dr. Juhász István</cp:lastModifiedBy>
  <dcterms:modified xsi:type="dcterms:W3CDTF">2009-10-06T10:03:46Z</dcterms:modified>
  <cp:revision>5</cp:revision>
  <dc:subject/>
  <dc:title>1. dia</dc:title>
</cp:coreProperties>
</file>