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4938-9B6A-4605-A257-CEDE97BDDE0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C20-30E9-4A07-B609-090E06CBF7A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0321-EC52-45C7-90FD-1B3DC28FFB6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B4AD-6F72-4FEA-90F0-B7268657789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BF11-8380-4F2A-9C14-D35A2166A55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4265-F5C4-4C53-ABEC-D54B1362DAD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FFE3-C2B1-409B-A455-48FBFC67A77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6E76-BEB2-455C-89ED-23B1FC23B1C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DF7-B982-434F-92B6-62C806D2D3F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741D-4CC3-41EB-A36A-8033BF813F8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4AE-04CC-4675-9B05-5E8356212F3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D093-4865-4351-8E9B-D07B9DCDFC4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DADD-444A-4AB5-9D27-F0D50378BAE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C9E0-3F59-4374-B140-3BFC3B1A95E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DD4F-12BF-4F39-959B-0716D60FB5D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33BA-4888-47DB-95CF-6A92C03E39F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371E-D3CA-4ACC-B876-4CA869A8E28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900E-03AB-49C6-93E8-95C7C2F25BE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2C0D-357C-4A4F-B948-801F82E6AC7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220-987E-4898-BC2B-9850697D0D7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41A8-32B9-4366-AFED-BA7AE11B6F2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1B7-3FCC-4856-9D3D-2A183BE7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BDA-70E9-4E42-A095-333D1CC4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761-5A27-4D8A-AADD-331908DC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EC4-70CC-485E-8881-096E7449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1A5-D618-425F-AED2-E9ACAD3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7CD-AFF6-4610-995D-794EEE9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B2A-2A3E-489F-BA28-EB19A85A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5E8-15CF-43A3-8407-AD0CEEFC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AB9-6153-46C0-83B7-294544C8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E67-52C2-4597-9997-EE3CC94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F5C-E092-48D7-8CA0-5AEDBE9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F6F-627A-4D00-8736-8846770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AB19-5DD0-4A26-9CFE-4ADD357EF1C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ott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nyö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őforrás meg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ílt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nku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káláz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batű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51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55640" y="1809720"/>
            <a:ext cx="77770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4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lkalmazásarchitektúr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ranzakció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semény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elv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006560" y="1515960"/>
            <a:ext cx="7526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915840" y="1023840"/>
            <a:ext cx="73137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47760" y="2962440"/>
            <a:ext cx="84502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95280" y="1881360"/>
            <a:ext cx="8497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056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ott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trány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onyolult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bezhető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eterogeni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jósolhatatlan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719360" y="1071720"/>
            <a:ext cx="57070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90840" y="1000080"/>
            <a:ext cx="5962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585800" y="1081080"/>
            <a:ext cx="59724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25440" y="2962440"/>
            <a:ext cx="84945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ztes termék (midlewa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mmunikáció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ranzakció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konvert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zton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313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58920" y="2038320"/>
            <a:ext cx="68421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55344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59:45Z</dcterms:created>
  <dc:creator>Dr. Juhász István</dc:creator>
  <dc:description/>
  <dc:language>en-US</dc:language>
  <cp:lastModifiedBy>Kollár Lajos</cp:lastModifiedBy>
  <dcterms:modified xsi:type="dcterms:W3CDTF">2013-11-19T14:59:31Z</dcterms:modified>
  <cp:revision>9</cp:revision>
  <dc:subject/>
  <dc:title>1. dia</dc:title>
</cp:coreProperties>
</file>