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DF35-6862-4D21-9808-23E8B7EB2E9D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6885-BD27-4BA0-97DC-035723078C7C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6545-2960-4FD1-9204-49475EB53D8D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F2FF-8A79-4BEB-909E-C0A7CF5574AD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A90E-BBCC-40F6-A1B8-2DFB544DE19A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0152-064A-45C4-AECE-DE93586A309C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DEDB-3A38-4013-A0EE-1B71DD357612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A7F3-CEE1-4DC0-9F67-A637E86E34A5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240B-DDE6-4821-9865-4FA941A0341A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C26B-E3C1-440A-B12F-BD1F1DAA0407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E3BB-B782-4B25-907A-4D7176F05AD3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0BE5-B4E7-4AF2-A05B-48025F2DEC6C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0FBB-334D-444A-B03D-74E5379684E0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07F2-632B-4E2C-9896-F20449095BF7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C42A-412A-4F13-B0F9-75EDF0FDA30A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BB5A-AB93-4D83-BC27-3E5596F29720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8D17-3BAA-469A-99D4-1E7E3090DA0D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44D5-FA4B-473D-AF69-F7C3564FF4E2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C5F6-B78F-4DF0-85CD-953C23BAFFBF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3909-3198-499A-A721-0DD3D4D09E07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99E4-5F08-41C3-9A93-8A847E6A8515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BB3F-3CE6-43A5-BAD5-3AF18663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4B03-15FD-4F89-BDD3-B3F9073A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F29E-F3A0-4293-A0FD-B229047BF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E51F-6044-4262-B162-2E0F9654C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E0CE-3710-4678-9A4E-DA4C6F47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2D16-37D1-4F5F-B974-D9A8AB5D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C0ED-F3F5-4D23-97ED-29617960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4D6E-CC06-41B6-B1AC-AF47F126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E43A-9733-4204-893C-B6EAB0A1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B23B-F59F-4FC4-BBE9-3EFCB88C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C514-A67E-4452-86A5-CC870E58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6B34-2900-4CB9-A692-CA160960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FC83-02EA-4CDE-B1CA-4D6954A08A67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692360" y="404640"/>
            <a:ext cx="60483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271520" y="2381400"/>
            <a:ext cx="660240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914400" y="333000"/>
            <a:ext cx="8229600" cy="60800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6000" spc="-1" strike="noStrike">
                <a:solidFill>
                  <a:srgbClr val="ff0000"/>
                </a:solidFill>
                <a:latin typeface="Arial"/>
              </a:rPr>
              <a:t>Ez jó színösszeállítá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6000" spc="-1" strike="noStrike">
                <a:solidFill>
                  <a:srgbClr val="ff0000"/>
                </a:solidFill>
                <a:latin typeface="Arial"/>
              </a:rPr>
              <a:t>Ez jó színösszeállítá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6000" spc="-1" strike="noStrike">
                <a:solidFill>
                  <a:srgbClr val="ff0000"/>
                </a:solidFill>
                <a:latin typeface="Arial"/>
              </a:rPr>
              <a:t>Ez jó színösszeállítá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6000" spc="-1" strike="noStrike">
                <a:solidFill>
                  <a:srgbClr val="ff0000"/>
                </a:solidFill>
                <a:latin typeface="Arial"/>
              </a:rPr>
              <a:t>Ez jó színösszeállítá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6000" spc="-1" strike="noStrike">
                <a:solidFill>
                  <a:srgbClr val="ff0000"/>
                </a:solidFill>
                <a:latin typeface="Arial"/>
              </a:rPr>
              <a:t>Ez jó színösszeállítá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8229600" cy="5721480"/>
          </a:xfrm>
          <a:prstGeom prst="rect">
            <a:avLst/>
          </a:prstGeom>
          <a:solidFill>
            <a:srgbClr val="dfb9e5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6600" spc="-1" strike="noStrike">
                <a:solidFill>
                  <a:srgbClr val="cc99ff"/>
                </a:solidFill>
                <a:latin typeface="Arial"/>
              </a:rPr>
              <a:t>Ez is jó Ez is jó Ez is jó Ez is jó Ez is jó Ez is jó Ez is jó Ez is jó Ez is jó Ez is jó Ez is jó Ez is jó Ez is j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207280" cy="41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20872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Felhasználói dokumentáci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unkcionális leír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lepítési dokument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evezető kéziköny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referencia kéziköny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dminisztrátori kéziköny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neptun-2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neptun-23"/>
          <p:cNvPicPr/>
          <p:nvPr/>
        </p:nvPicPr>
        <p:blipFill>
          <a:blip r:embed="rId1"/>
          <a:stretch/>
        </p:blipFill>
        <p:spPr>
          <a:xfrm>
            <a:off x="-914400" y="-685800"/>
            <a:ext cx="1097280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944640" y="1143000"/>
            <a:ext cx="7256520" cy="4572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958680" y="549360"/>
            <a:ext cx="75740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439560" y="233280"/>
            <a:ext cx="826632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35164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71380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Felhasználói felület tervezési alapelv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elhasználói jártassá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onziszt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inimális meglepe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isszaállíthatósá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elhasználói útmutat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elhasználói sokfélesé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Interakció fajtá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zvetlen manipulá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en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űrl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arancsnyel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rmészetes nyel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812952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676520" y="1971720"/>
            <a:ext cx="579276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6:11:06Z</dcterms:created>
  <dc:creator>Dr. Juhász István</dc:creator>
  <dc:description/>
  <dc:language>en-US</dc:language>
  <cp:lastModifiedBy>Kollár Lajos</cp:lastModifiedBy>
  <dcterms:modified xsi:type="dcterms:W3CDTF">2013-11-19T14:59:43Z</dcterms:modified>
  <cp:revision>9</cp:revision>
  <dc:subject/>
  <dc:title>1. dia</dc:title>
</cp:coreProperties>
</file>