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FF2-F995-4B5B-8818-81BD2CAF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E06-8AED-465E-B05D-402468B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2C2-F4EF-45EC-BC88-C10DC7E1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222-3A22-420E-8F70-29FA79A1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D05-4824-40A4-B139-F2E106A4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FAA-C8ED-46BE-8B0B-F01DAD10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6CC-C408-4F2E-AB98-563B953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5EA-ACAA-46F7-BF59-0D97A58E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43A-B25E-4A02-8C14-3CD7DDDA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1CF-0DAC-456F-9D5E-BF29F7A0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824-216F-49BE-9DAE-63FD23BA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863-C3F5-4D72-8849-416C299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F83A-C0E5-4154-8FEC-6B16EE70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gile processes promote sustainable development.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sponsors, developers, and users should be able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 maintain a constant pace indefinit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tinuous attention to technical excellence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d good design enhances ag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mplicity--the art of maximizing the amount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f work not done--is essent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best architectures, requirements, and designs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merge from self-organizing te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 regular intervals, the team reflects on how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 become more effective, then tunes and adjusts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ts behavior according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087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használói dokument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cionális leí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ítési doku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zető kézikön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ia kézikön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ztrátori kézikön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ktumorientált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rendszer összefüggéseinek és                         használati módjainak megértése és meghatároz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rendszer architektúrájának  megtervezé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rendszer legfontosabb objektumainak azonosít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rvezési modellek fejleszté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jektuminterfészek meghatároz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848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anifesto for Agile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e are uncovering better ways of developing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ftware by doing it and helping others do it.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rough this work we have come to value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ndividuals and interaction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ver processes and tool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Working softwar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ver comprehensive documentatio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ustomer collaboratio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ver contract negotiatio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sponding to chang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ver following a pl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at is, while there is value in the items on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e right, we value the items on the left more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gilemanifest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nt Beck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ke Beedle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ie van Bennekum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istair Cockburn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ard Cunningham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ames Grenning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im Highsmith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drew Hunt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n Jeffries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n Kern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rian Mar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bert C. Martin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eve Mellor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n Schwaber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ff Sutherland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ave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rinciples behind the Agile Manif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ur highest priority is to satisfy the customer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rough early and continuous delivery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f valuabl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elcome changing requirements, even late in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velopment. Agile processes harness change for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customer's competitive advan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iver working software frequently, from 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uple of weeks to a couple of months, with 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ference to the shorter timesc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usiness people and developers must work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gether daily throughout the pro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uild projects around motivated individuals.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ive them the environment and support they need,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d trust them to get the job d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he most efficient and effective method of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onveying information to and within a development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am is face-to-face convers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orking software is the primary measure of prog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2:51:41Z</dcterms:created>
  <dc:creator>Dr. Juhász István</dc:creator>
  <dc:description/>
  <dc:language>en-US</dc:language>
  <cp:lastModifiedBy>Dr. Juhász István</cp:lastModifiedBy>
  <dcterms:modified xsi:type="dcterms:W3CDTF">2010-10-21T16:30:00Z</dcterms:modified>
  <cp:revision>9</cp:revision>
  <dc:subject/>
  <dc:title>1. dia</dc:title>
</cp:coreProperties>
</file>