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D411-AE88-4BA4-AE2B-4D59FBED1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FDEF-614B-4BD4-A31B-D6D22BFD1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F411-2802-4296-9CE3-18B8AE9EF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2E79-5CE2-4357-A4FA-2A7B60114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7867-8539-4863-9B79-70BD5C3F3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D7D6-89FC-40F8-99B1-F1E196C9B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BEC3-3AD2-4F26-9191-4B83729E8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D963-095A-47CB-B94B-03FF67B5C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F125-BB44-4E62-9A65-EB6FB37B8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192A-017A-450C-BAEC-3B6A9A1E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D2DF-F3B3-40DF-92E7-6EBF3583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4627-AF9C-4B7E-AC32-E7204166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E1095-F519-4E7B-B60B-14133CB670AF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Manifesto for Agile Softwar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We are uncovering better ways of developing 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oftware by doing it and helping others do it. 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hrough this work we have come to value: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Individuals and interactions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over processes and tools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Working software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over comprehensive documentation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Customer collaboration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over contract negotiation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Responding to change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over following a plan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hat is, while there is value in the items on 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he right, we value the items on the left more.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871380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74170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04800" y="2143080"/>
            <a:ext cx="61344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100320" y="1514520"/>
            <a:ext cx="2943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77760" y="2414520"/>
            <a:ext cx="718992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Principles behind the Agile Manife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Our highest priority is to satisfy the customer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hrough early and continuous delivery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of valuable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Welcome changing requirements, even late in 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evelopment. Agile processes harness change for 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he customer's competitive advant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eliver working software frequently, from a 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ouple of weeks to a couple of months, with a 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reference to the shorter timesca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Business people and developers must work 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ogether daily throughout the projec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Build projects around motivated individuals. 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Give them the environment and support they need, 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nd trust them to get the job don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he most efficient and effective method of 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conveying information to and within a development 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eam is face-to-face convers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Working software is the primary measure of progres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gile processes promote sustainable development. 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he sponsors, developers, and users should be able 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o maintain a constant pace indefinite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ontinuous attention to technical excellence 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nd good design enhances agil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implicity--the art of maximizing the amount 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of work not done--is essenti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he best architectures, requirements, and designs 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merge from self-organizing team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t regular intervals, the team reflects on how 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o become more effective, then tunes and adjusts 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ts behavior according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7344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77708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esztelés XP-b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PalatinoLinotype-Roman"/>
              </a:rPr>
              <a:t>1. előrehozott teszteléssel történő fejlesz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PalatinoLinotype-Roman"/>
              </a:rPr>
              <a:t>2. inkrementális tesztfejlesztés a forgatókönyvek alapj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PalatinoLinotype-Roman"/>
              </a:rPr>
              <a:t>3. felhasználók bevonása a tesztek fejlesztésébe és a validálás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PalatinoLinotype-Roman"/>
              </a:rPr>
              <a:t>4. automatizált tesztelőeszközök használ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áros programoz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PalatinoLinotype-Roman"/>
              </a:rPr>
              <a:t>1. Támogatja a rendszerre vonatkozó közös tulajdon és felelősségtudat érzésé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PalatinoLinotype-Roman"/>
              </a:rPr>
              <a:t>2. Úgy működik, mint valamilyen informális átvizsgálási folyamat, mert minden egyes kódsort legalább két ember átnéz. A kód áttekintése és vizsgálata nagyon eredményes lehet a szoftverhibák nagy százalékának a felderí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éséb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PalatinoLinotype-Roman"/>
              </a:rPr>
              <a:t>3. Segít a kódátszervezésben, ami a szoftver tökéletesítésének egy folyamata. Az XP egyik alapelve, hogy a szoftver folyamatos kódátszervezést igényel.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7138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4T15:56:26Z</dcterms:created>
  <dc:creator>Dr. Juhász István</dc:creator>
  <dc:description/>
  <dc:language>en-US</dc:language>
  <cp:lastModifiedBy>Dr. Juhász István</cp:lastModifiedBy>
  <dcterms:modified xsi:type="dcterms:W3CDTF">2010-11-11T09:17:41Z</dcterms:modified>
  <cp:revision>7</cp:revision>
  <dc:subject/>
  <dc:title>1. dia</dc:title>
</cp:coreProperties>
</file>