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C232-3563-4810-88B6-B29BDF2F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5C79-AE4C-4F1A-8CE7-08D0E255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5E08-D078-49CF-83E1-BA8AEF30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3B55-C7E8-4606-B830-C58AE68A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D57F-C472-478E-823B-1B31020C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03EE-1221-4BF5-94FE-5489D4AB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2BEE-850E-43F4-A175-490F1CAA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18C-7F58-4695-AB87-18E10E92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564-7246-4C84-BF27-29DD47BC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E62-2B5E-49AD-89EC-8B1C2666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FA87-9D58-41AD-9A3D-EC0CDA9B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A0F-D774-4C1E-9E32-DA7710F8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3BB3-D3CE-4545-8F94-BBFC849DBEFF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8388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351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mponensek „újrafelhasználhatóbbá” téte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lkalmazásspecifikus metódusok eltávol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evek általánosabbra történő átnevez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unkcionalitás még teljesebbé tétele érdekében új metódusok felvé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tódusok kivételkezelésének következetessé té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„beállító” interfész felvétele, hogy a komponens adaptálható legyen a különböz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ituációk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üggetlenség növelésének érdekében a szükséges komponensek integrá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2305080"/>
            <a:ext cx="8532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799128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2257560"/>
            <a:ext cx="71298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73566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79214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704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25560" y="1928880"/>
            <a:ext cx="72946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19360" y="2505240"/>
            <a:ext cx="5707080" cy="18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33400" y="2081160"/>
            <a:ext cx="56772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85760" y="2343240"/>
            <a:ext cx="69739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1360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295360"/>
            <a:ext cx="774072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4:59:58Z</dcterms:created>
  <dc:creator>Dr. Juhász István</dc:creator>
  <dc:description/>
  <dc:language>en-US</dc:language>
  <cp:lastModifiedBy>Dr. Juhász István</cp:lastModifiedBy>
  <dcterms:modified xsi:type="dcterms:W3CDTF">2010-11-15T20:10:19Z</dcterms:modified>
  <cp:revision>8</cp:revision>
  <dc:subject/>
  <dc:title>1. dia</dc:title>
</cp:coreProperties>
</file>