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2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CC7C-663B-4B05-8E67-621F9D2DCABD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1DEA-7119-4575-A555-491F41098632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72F3-574B-4E83-8DE2-793D32965DC8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9404-4E95-4CF6-BD5A-C9EEE97C9E41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4FBF-F862-4F77-A6FF-ABFF6445934B}" type="slidenum"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EA0-2328-4DC7-A877-B00B0F5F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843-89C1-4E97-AD00-B8A1E13F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276-3D9B-4C01-9BEC-73580BCF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AA8-629D-4F56-932A-8DCE7B8D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1EA-FB25-4F2D-B83D-ED236150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C44-B2E2-4728-9D6F-E43C162C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CC1-EEFD-48DA-A1D1-7A2C23E8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664-10B0-49A9-9064-A14F460A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53C-D9CF-4CB8-B6DD-B2E85753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2F3-CC6F-4F4A-A5C9-6C0074E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7C0-7EBA-4BE2-A016-B39693FD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8D6-23C4-47FA-9B75-6D41859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D411-9928-48DC-A4D8-A901A2C69410}" type="slidenum">
              <a:rPr b="0" lang="hu-HU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61960" y="5943600"/>
            <a:ext cx="8089920" cy="762120"/>
          </a:xfrm>
          <a:prstGeom prst="rect">
            <a:avLst/>
          </a:prstGeom>
          <a:solidFill>
            <a:srgbClr val="ccccff">
              <a:alpha val="5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85800" y="6095880"/>
            <a:ext cx="492120" cy="533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295280" y="6095880"/>
            <a:ext cx="68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NYAGISMERET I.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2008/2009 I. félév. Debrecen, 2008. szeptember 15.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93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04920" y="1676520"/>
            <a:ext cx="5449320" cy="3949560"/>
            <a:chOff x="304920" y="1676520"/>
            <a:chExt cx="5449320" cy="3949560"/>
          </a:xfrm>
        </p:grpSpPr>
        <p:sp>
          <p:nvSpPr>
            <p:cNvPr id="54" name=""/>
            <p:cNvSpPr/>
            <p:nvPr/>
          </p:nvSpPr>
          <p:spPr>
            <a:xfrm>
              <a:off x="304920" y="1676520"/>
              <a:ext cx="5449320" cy="394956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84480" y="1793160"/>
              <a:ext cx="5302800" cy="375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5105520" y="2781360"/>
            <a:ext cx="40384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rof. Tóth Lászl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etemi tanár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0-9-322-690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laszlo@bzlogi.hu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ANYAGISMERET I. (4 kredit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</a:t>
            </a: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Mechanikai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 tulajdonsága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2052720" y="4437000"/>
            <a:ext cx="56167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1197000"/>
            <a:ext cx="65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galmassági modul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lyási hatá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zakító szilárdsá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Keménysé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epedés terjedéssel szembeni ellenállá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Kifáradással szembeni ellenállá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Kúszással szembeni ellenállá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sillapítá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felhasználási tulajdonsága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d00"/>
                </a:solidFill>
                <a:latin typeface="Arial"/>
              </a:rPr>
              <a:t>Gazdaságossági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6000" y="2781360"/>
            <a:ext cx="4038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űrűsé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1413000"/>
            <a:ext cx="4038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Ár és rendelkezésre áll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Újrahasznosíthatósá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708280"/>
            <a:ext cx="4038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d00"/>
                </a:solidFill>
                <a:latin typeface="Arial"/>
              </a:rPr>
              <a:t>Általános fizikai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3933720"/>
            <a:ext cx="4038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d00"/>
                </a:solidFill>
                <a:latin typeface="Arial"/>
              </a:rPr>
              <a:t>Termikus, hőtani sajátosságok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05360"/>
            <a:ext cx="40384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Hővezeté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Hőtágul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Fajhő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felhasználási tulajdonsága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d00"/>
                </a:solidFill>
                <a:latin typeface="Arial"/>
              </a:rPr>
              <a:t>Villamos és mágnese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1520" y="2781360"/>
            <a:ext cx="4038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ációs hajl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orróziós hajl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opá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1413000"/>
            <a:ext cx="442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Ellenáll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Dielektromos állandó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Mágneses permeabilit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800" y="2708280"/>
            <a:ext cx="42544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a2d00"/>
                </a:solidFill>
                <a:latin typeface="Arial"/>
              </a:rPr>
              <a:t>Környezettel szem-beni ellenállá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933720"/>
            <a:ext cx="43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a2d00"/>
                </a:solidFill>
                <a:latin typeface="Arial"/>
              </a:rPr>
              <a:t>Gyárthatóság, tech-  nológiai jellemzők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4005360"/>
            <a:ext cx="40384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geszthetősé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dzhetősé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gmunkálhatósá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öszörülhetősé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felhasználási tulajdonsága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2d00"/>
                </a:solidFill>
                <a:latin typeface="Arial"/>
              </a:rPr>
              <a:t>Esztétikai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4038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zí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xtúr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apintá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573360"/>
            <a:ext cx="42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ULAJDONSÁGOK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3645000"/>
            <a:ext cx="40388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érhető mennyiségek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zámmal jellemezhetők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menziójuk va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kiválasztási alapstratégi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Alapelv: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z adott célra még megfelelő legolcsóbb anyagot válasszuk?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gen?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Nem?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gen is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és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nem is!!!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kiválasztási stratégiá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142640"/>
            <a:ext cx="87487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Ismerjük meg az üzemeltetési körülményeket és válasszunk ennek figyelembevételével anyagot!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Tűzzünk ki finomított célokat (pl. erőművek hatásfokának javítása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Újítsuk ismereteinket a tapasztalatok, követel-mények figyelembevételével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(pl. atomerőműi anyagok elridegedésének tapasztalatai Cu, Ni, P hatása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Vegyünk figyelembe minden létező anyagot és meghatározott kritériumok szerint szűkítsük a választékot! (ASHBY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836640"/>
            <a:ext cx="9144000" cy="5084640"/>
            <a:chOff x="0" y="836640"/>
            <a:chExt cx="9144000" cy="5084640"/>
          </a:xfrm>
        </p:grpSpPr>
        <p:graphicFrame>
          <p:nvGraphicFramePr>
            <p:cNvPr id="171" name=""/>
            <p:cNvGraphicFramePr/>
            <p:nvPr/>
          </p:nvGraphicFramePr>
          <p:xfrm>
            <a:off x="0" y="836640"/>
            <a:ext cx="9144000" cy="5084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36640"/>
                      <a:ext cx="9144000" cy="50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533520" y="51037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2005. December 31.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733920" y="762120"/>
            <a:ext cx="1066680" cy="47242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733920"/>
            <a:ext cx="2514600" cy="12189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1371600"/>
            <a:ext cx="533160" cy="38098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00000" y="765000"/>
            <a:ext cx="2743200" cy="1143000"/>
            <a:chOff x="900000" y="765000"/>
            <a:chExt cx="2743200" cy="1143000"/>
          </a:xfrm>
        </p:grpSpPr>
        <p:sp>
          <p:nvSpPr>
            <p:cNvPr id="178" name=""/>
            <p:cNvSpPr/>
            <p:nvPr/>
          </p:nvSpPr>
          <p:spPr>
            <a:xfrm>
              <a:off x="900000" y="765000"/>
              <a:ext cx="2743200" cy="1143000"/>
            </a:xfrm>
            <a:prstGeom prst="wedgeRoundRectCallout">
              <a:avLst>
                <a:gd name="adj1" fmla="val 60879"/>
                <a:gd name="adj2" fmla="val 97222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52280" y="917640"/>
              <a:ext cx="243828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Tervezve a 80-as években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724360" y="620640"/>
            <a:ext cx="2895480" cy="1143000"/>
            <a:chOff x="5724360" y="620640"/>
            <a:chExt cx="2895480" cy="1143000"/>
          </a:xfrm>
        </p:grpSpPr>
        <p:sp>
          <p:nvSpPr>
            <p:cNvPr id="181" name=""/>
            <p:cNvSpPr/>
            <p:nvPr/>
          </p:nvSpPr>
          <p:spPr>
            <a:xfrm>
              <a:off x="5724360" y="620640"/>
              <a:ext cx="2895480" cy="1143000"/>
            </a:xfrm>
            <a:prstGeom prst="wedgeRoundRectCallout">
              <a:avLst>
                <a:gd name="adj1" fmla="val -46708"/>
                <a:gd name="adj2" fmla="val 158888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52960" y="772920"/>
              <a:ext cx="243828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Tervezve a 70-es években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400800" y="2205000"/>
            <a:ext cx="2743200" cy="1143000"/>
            <a:chOff x="6400800" y="2205000"/>
            <a:chExt cx="2743200" cy="1143000"/>
          </a:xfrm>
        </p:grpSpPr>
        <p:sp>
          <p:nvSpPr>
            <p:cNvPr id="184" name=""/>
            <p:cNvSpPr/>
            <p:nvPr/>
          </p:nvSpPr>
          <p:spPr>
            <a:xfrm>
              <a:off x="6400800" y="2205000"/>
              <a:ext cx="2743200" cy="1143000"/>
            </a:xfrm>
            <a:prstGeom prst="wedgeRoundRectCallout">
              <a:avLst>
                <a:gd name="adj1" fmla="val -46708"/>
                <a:gd name="adj2" fmla="val 158888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17160" y="2357280"/>
              <a:ext cx="23097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Tervezve az 50-60-as években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411280" y="0"/>
            <a:ext cx="51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Nukleáris Erőművek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nyagok viselkedése függ: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ilyen atomok vannak benne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ilyen kötőerők ébrednek az atomok közöt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(Milyenek a környezeti feltételek)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ogyan, milyen formában helyezkednek el egymáshoz képest az atomok 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Atomok kölcsönhatás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Elsődleges (erős) kötése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onos köté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ovalens köté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émes köté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Másodlagos (gyenge) kötése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Van der Waals köté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UGÓ model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Elsődleges kötések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4247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Jellemző kötéstípus a </a:t>
            </a:r>
            <a:r>
              <a:rPr b="1" lang="hu-HU" sz="2400" spc="-1" strike="noStrike" u="sng">
                <a:solidFill>
                  <a:srgbClr val="ff3300"/>
                </a:solidFill>
                <a:uFillTx/>
                <a:latin typeface="Arial"/>
              </a:rPr>
              <a:t>FÉMEK</a:t>
            </a:r>
            <a:r>
              <a:rPr b="1" lang="hu-HU" sz="2400" spc="-1" strike="noStrike" u="sng">
                <a:solidFill>
                  <a:srgbClr val="0000cc"/>
                </a:solidFill>
                <a:uFillTx/>
                <a:latin typeface="Arial"/>
              </a:rPr>
              <a:t>-nél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(fémes és kovalens) és </a:t>
            </a:r>
            <a:r>
              <a:rPr b="1" lang="hu-HU" sz="2400" spc="-1" strike="noStrike" u="sng">
                <a:solidFill>
                  <a:srgbClr val="ff3300"/>
                </a:solidFill>
                <a:uFillTx/>
                <a:latin typeface="Arial"/>
              </a:rPr>
              <a:t>KERÁMIÁK</a:t>
            </a:r>
            <a:r>
              <a:rPr b="1" lang="hu-HU" sz="2400" spc="-1" strike="noStrike" u="sng">
                <a:solidFill>
                  <a:srgbClr val="0000cc"/>
                </a:solidFill>
                <a:uFillTx/>
                <a:latin typeface="Arial"/>
              </a:rPr>
              <a:t>-nál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(ionos és kovalen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fém-ionok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kitüntetett pontokban (az ún.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rácspontokban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helyhez kötöttek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a vegyérték-elektronok, mint szabad elektronok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lektrongáz, elektronfelhő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formájában viszonylag szabadon mozogna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zzel magyarázható a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jó hő- és villamos vezetőképessé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a fémek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nagy szilárdsága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és egyidejűleg viszonylag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jó alakíthatóság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 advTm="1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Szeptember 15.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559 </a:t>
            </a:r>
            <a:r>
              <a:rPr b="1" lang="hu-HU" sz="2400" spc="-1" strike="noStrike">
                <a:solidFill>
                  <a:srgbClr val="3333cc"/>
                </a:solidFill>
                <a:latin typeface="Arial"/>
              </a:rPr>
              <a:t>Izabella királyné halála Gyulafehérvárot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858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3333cc"/>
                </a:solidFill>
                <a:latin typeface="Arial"/>
              </a:rPr>
              <a:t>HUBAY Jenő zeneszerző születése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890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AGATHA Christie brit írónő születé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923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FEJES Endre író születés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929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Murray GELL-MANN amerikai fizikus születése </a:t>
            </a:r>
            <a:r>
              <a:rPr b="1" lang="hu-HU" sz="1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hu-HU" sz="1200" spc="-1" strike="noStrike">
                <a:solidFill>
                  <a:srgbClr val="0000cc"/>
                </a:solidFill>
                <a:latin typeface="Arial"/>
              </a:rPr>
              <a:t>Nd.1969</a:t>
            </a:r>
            <a:r>
              <a:rPr b="1" lang="hu-HU" sz="1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941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Id. ALBERT Flórián labdarugó, edző születés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1950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A budapesti egyetemet Eötvös Lórándról nevezik 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1978 </a:t>
            </a:r>
            <a:r>
              <a:rPr b="1" lang="hu-HU" sz="24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hu-HU" sz="2400" spc="-1" strike="noStrike">
                <a:solidFill>
                  <a:srgbClr val="3333cc"/>
                </a:solidFill>
                <a:latin typeface="Arial"/>
              </a:rPr>
              <a:t>MESSERSCHMITT repülőgéptervező halál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Ionos kötés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(erős elektronegatív és –pozitív elemek közöt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96960" y="1797120"/>
          <a:ext cx="558972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1797120"/>
                    <a:ext cx="558972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484360" y="1628640"/>
            <a:ext cx="0" cy="201636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6000" y="1557360"/>
            <a:ext cx="0" cy="2016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1700280"/>
            <a:ext cx="3311640" cy="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1341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11280" y="3141720"/>
            <a:ext cx="719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+11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3141720"/>
            <a:ext cx="649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+17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57360"/>
            <a:ext cx="2050920" cy="1079640"/>
          </a:xfrm>
          <a:prstGeom prst="wedgeRoundRectCallout">
            <a:avLst>
              <a:gd name="adj1" fmla="val 101083"/>
              <a:gd name="adj2" fmla="val 37500"/>
              <a:gd name="adj3" fmla="val 16667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1 elektr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 külső héjon +5.14 eV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48360" y="5300640"/>
            <a:ext cx="2016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eV=1.6x10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-19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J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1000000">
            <a:off x="2738520" y="1692360"/>
            <a:ext cx="2766960" cy="720720"/>
          </a:xfrm>
          <a:custGeom>
            <a:avLst/>
            <a:gdLst>
              <a:gd name="textAreaLeft" fmla="*/ 484200 w 2766960"/>
              <a:gd name="textAreaRight" fmla="*/ 2006280 w 27669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051830"/>
                <a:lnTo>
                  <a:pt x="19105" y="5565"/>
                </a:lnTo>
                <a:lnTo>
                  <a:pt x="17280" y="21600"/>
                </a:lnTo>
                <a:lnTo>
                  <a:pt x="10465" y="5565"/>
                </a:lnTo>
                <a:lnTo>
                  <a:pt x="12625" y="5565"/>
                </a:lnTo>
                <a:arcTo wR="7560" hR="21600" stAng="-4348170" swAng="-694395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48360" y="1557360"/>
            <a:ext cx="2051280" cy="1079640"/>
          </a:xfrm>
          <a:prstGeom prst="wedgeRoundRectCallout">
            <a:avLst>
              <a:gd name="adj1" fmla="val -141717"/>
              <a:gd name="adj2" fmla="val 15148"/>
              <a:gd name="adj3" fmla="val 16667"/>
            </a:avLst>
          </a:prstGeom>
          <a:solidFill>
            <a:srgbClr val="cc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7 elektr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 külső héj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-4.02 eV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19640" y="3213000"/>
            <a:ext cx="1296720" cy="1017000"/>
            <a:chOff x="3419640" y="3213000"/>
            <a:chExt cx="1296720" cy="1017000"/>
          </a:xfrm>
        </p:grpSpPr>
        <p:sp>
          <p:nvSpPr>
            <p:cNvPr id="208" name=""/>
            <p:cNvSpPr/>
            <p:nvPr/>
          </p:nvSpPr>
          <p:spPr>
            <a:xfrm>
              <a:off x="3419640" y="3213000"/>
              <a:ext cx="504720" cy="287280"/>
            </a:xfrm>
            <a:prstGeom prst="rightArrow">
              <a:avLst>
                <a:gd name="adj1" fmla="val 50000"/>
                <a:gd name="adj2" fmla="val 43922"/>
              </a:avLst>
            </a:prstGeom>
            <a:solidFill>
              <a:srgbClr val="ea2d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67280" y="3213000"/>
              <a:ext cx="504720" cy="289080"/>
            </a:xfrm>
            <a:prstGeom prst="leftArrow">
              <a:avLst>
                <a:gd name="adj1" fmla="val 50000"/>
                <a:gd name="adj2" fmla="val 43649"/>
              </a:avLst>
            </a:prstGeom>
            <a:solidFill>
              <a:srgbClr val="ea2d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64000" y="3789360"/>
              <a:ext cx="11523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vonzerő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0" y="4653000"/>
            <a:ext cx="2050920" cy="1079640"/>
          </a:xfrm>
          <a:prstGeom prst="wedgeRoundRectCallout">
            <a:avLst>
              <a:gd name="adj1" fmla="val 44736"/>
              <a:gd name="adj2" fmla="val -157939"/>
              <a:gd name="adj3" fmla="val 16667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Elektr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leadás miatt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,+KATI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93080" y="4005360"/>
            <a:ext cx="2050920" cy="1079280"/>
          </a:xfrm>
          <a:prstGeom prst="wedgeRoundRectCallout">
            <a:avLst>
              <a:gd name="adj1" fmla="val -81268"/>
              <a:gd name="adj2" fmla="val -104560"/>
              <a:gd name="adj3" fmla="val 16667"/>
            </a:avLst>
          </a:prstGeom>
          <a:solidFill>
            <a:srgbClr val="cc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Elektr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elvétel miatt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-, ANIO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Ionos kötések jellegzetessége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95280" y="1268280"/>
          <a:ext cx="4968720" cy="40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496872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967280" y="1125360"/>
                <a:ext cx="4176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nz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∈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∈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22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3225960"/>
          <a:ext cx="123840" cy="16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25960"/>
                    <a:ext cx="123840" cy="16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4822920" y="2762280"/>
            <a:ext cx="4321080" cy="954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Symbol"/>
                <a:ea typeface="Symbol"/>
              </a:rPr>
              <a:t></a:t>
            </a:r>
            <a:r>
              <a:rPr b="1" lang="hu-HU" sz="18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hu-H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hu-HU" sz="18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lang="hu-H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ér permittivitása, vagy másképpen a 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ákuum dielektromos állandója 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értéke 8,85x10-12 C</a:t>
            </a:r>
            <a:r>
              <a:rPr b="1" lang="hu-HU" sz="1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hu-H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/Nm</a:t>
            </a:r>
            <a:r>
              <a:rPr b="1" lang="hu-HU" sz="1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hu-H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2852640"/>
            <a:ext cx="431640" cy="360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800000">
            <a:off x="1682640" y="2397240"/>
            <a:ext cx="863640" cy="358560"/>
          </a:xfrm>
          <a:prstGeom prst="rightArrow">
            <a:avLst>
              <a:gd name="adj1" fmla="val 50000"/>
              <a:gd name="adj2" fmla="val 60216"/>
            </a:avLst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364000" y="4005360"/>
                <a:ext cx="302436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sz’t—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50872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, b, = 7 és 9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Ionos kötések jellegzetessége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8360" y="1125360"/>
          <a:ext cx="5400720" cy="47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540072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012000" y="1700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Energiamérleg: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932360" y="3406680"/>
                <a:ext cx="35272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Fda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755640" y="1773360"/>
          <a:ext cx="269568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26956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835600" y="1749600"/>
          <a:ext cx="2687760" cy="30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5600" y="1749600"/>
                    <a:ext cx="268776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187280" y="2060640"/>
          <a:ext cx="1787760" cy="22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2060640"/>
                    <a:ext cx="17877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492360" y="1484280"/>
            <a:ext cx="863640" cy="504720"/>
          </a:xfrm>
          <a:prstGeom prst="wedgeRoundRectCallout">
            <a:avLst>
              <a:gd name="adj1" fmla="val -104962"/>
              <a:gd name="adj2" fmla="val 128300"/>
              <a:gd name="adj3" fmla="val 16667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59280" y="1484280"/>
            <a:ext cx="863640" cy="504720"/>
          </a:xfrm>
          <a:prstGeom prst="wedgeRoundRectCallout">
            <a:avLst>
              <a:gd name="adj1" fmla="val 154597"/>
              <a:gd name="adj2" fmla="val 67296"/>
              <a:gd name="adj3" fmla="val 16667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5084640"/>
            <a:ext cx="863640" cy="505080"/>
          </a:xfrm>
          <a:prstGeom prst="wedgeRoundRectCallout">
            <a:avLst>
              <a:gd name="adj1" fmla="val 90439"/>
              <a:gd name="adj2" fmla="val -339310"/>
              <a:gd name="adj3" fmla="val 16667"/>
            </a:avLst>
          </a:prstGeom>
          <a:solidFill>
            <a:srgbClr val="00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08720" y="5229360"/>
            <a:ext cx="863640" cy="504720"/>
          </a:xfrm>
          <a:prstGeom prst="wedgeRoundRectCallout">
            <a:avLst>
              <a:gd name="adj1" fmla="val 111949"/>
              <a:gd name="adj2" fmla="val -276416"/>
              <a:gd name="adj3" fmla="val 16667"/>
            </a:avLst>
          </a:prstGeom>
          <a:solidFill>
            <a:srgbClr val="00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2492280"/>
            <a:ext cx="1944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cc"/>
                </a:solidFill>
                <a:uFillTx/>
                <a:latin typeface="Times New Roman"/>
              </a:rPr>
              <a:t>Atomsugarak: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Cl  =0,181 nm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Cs  =0,169 nm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Na =  0,095 nm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797440" y="2030400"/>
          <a:ext cx="2735280" cy="240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7440" y="2030400"/>
                    <a:ext cx="27352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Ionos kötések jellegzetessége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Ionos kötések jellegzetessége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55640" y="1557360"/>
          <a:ext cx="7777080" cy="4133880"/>
        </p:xfrm>
        <a:graphic>
          <a:graphicData uri="http://schemas.openxmlformats.org/drawingml/2006/table">
            <a:tbl>
              <a:tblPr/>
              <a:tblGrid>
                <a:gridCol w="2630880"/>
                <a:gridCol w="2572920"/>
                <a:gridCol w="257328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 ionos kötésű 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gyület képlete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kötési energia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kJ/mol)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vadáspont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hu-H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sCl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49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46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KCl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86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76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NaCl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66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01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127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923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583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580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932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Kovalens kötések jellegzetessége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a2d00"/>
                </a:solidFill>
                <a:latin typeface="Arial"/>
              </a:rPr>
              <a:t>a legerősebb elsődleges kötés, gyémánt, kvarc, germánium, nagy rugalmassági modulu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olyan elemek között jön létre, amelyek elektro-negativitása között csekély a különbsé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kötésben két, vagy több atom vesz részt, olymódon, hogy a legkülső elektronhéjaikon lévő atomokat „megosztják”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Kovalens kötések jellegzetessége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70160" y="2205000"/>
          <a:ext cx="25178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0160" y="2205000"/>
                    <a:ext cx="2517840" cy="2592360"/>
                  </a:xfrm>
                  <a:prstGeom prst="rect">
                    <a:avLst/>
                  </a:prstGeom>
                  <a:ln w="5724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324000" y="2205000"/>
          <a:ext cx="173484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205000"/>
                    <a:ext cx="1734840" cy="2592360"/>
                  </a:xfrm>
                  <a:prstGeom prst="rect">
                    <a:avLst/>
                  </a:prstGeom>
                  <a:ln w="57240">
                    <a:solidFill>
                      <a:srgbClr val="ea2d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076720" y="1835280"/>
          <a:ext cx="3816360" cy="34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1835280"/>
                    <a:ext cx="3816360" cy="3411360"/>
                  </a:xfrm>
                  <a:prstGeom prst="rect">
                    <a:avLst/>
                  </a:prstGeom>
                  <a:ln w="38160">
                    <a:solidFill>
                      <a:srgbClr val="ea2d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Szimmetrikus kovalens köté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5543640" cy="37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Arial"/>
              </a:rPr>
              <a:t>Szimmetrikus töltés megosztá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2d00"/>
                </a:solidFill>
                <a:latin typeface="Arial"/>
              </a:rPr>
              <a:t>szimmetrikus kovalens köté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cc"/>
                </a:solidFill>
                <a:latin typeface="Arial"/>
              </a:rPr>
              <a:t>szélsőségesen nagy keménység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cc"/>
                </a:solidFill>
                <a:latin typeface="Arial"/>
              </a:rPr>
              <a:t>szélsőségesen nagy szilárdság (pl. gyémánt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cc"/>
                </a:solidFill>
                <a:latin typeface="Arial"/>
              </a:rPr>
              <a:t>Nagy kötési energia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cc"/>
                </a:solidFill>
                <a:latin typeface="Arial"/>
              </a:rPr>
              <a:t>E=711 kJ/mol, </a:t>
            </a:r>
            <a:r>
              <a:rPr b="0" i="1" lang="hu-HU" sz="28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0" i="1" lang="hu-HU" sz="2800" spc="-1" strike="noStrike" baseline="-25000">
                <a:solidFill>
                  <a:srgbClr val="0000cc"/>
                </a:solidFill>
                <a:latin typeface="Arial"/>
              </a:rPr>
              <a:t>olv</a:t>
            </a: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= 3550 </a:t>
            </a:r>
            <a:r>
              <a:rPr b="0" lang="hu-HU" sz="2400" spc="-1" strike="noStrike" baseline="30000">
                <a:solidFill>
                  <a:srgbClr val="0000cc"/>
                </a:solidFill>
                <a:latin typeface="Arial"/>
              </a:rPr>
              <a:t>o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151600" y="1600200"/>
          <a:ext cx="30319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1600" y="1600200"/>
                    <a:ext cx="3031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183280" y="1773360"/>
          <a:ext cx="3960720" cy="34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3280" y="1773360"/>
                    <a:ext cx="396072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6000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H típusú kovalens kötés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95280" y="1197000"/>
          <a:ext cx="396072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396072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539640" y="4508640"/>
            <a:ext cx="489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ea2d00"/>
                </a:solidFill>
                <a:uFillTx/>
                <a:latin typeface="Times New Roman"/>
              </a:rPr>
              <a:t>Kötési energia: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Molekulában=1650 kJ/mo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Molekulák között:8 kJ/mol, Tolv=-183</a:t>
            </a:r>
            <a:r>
              <a:rPr b="1" lang="hu-HU" sz="2000" spc="-1" strike="noStrike" baseline="30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867280" y="2276640"/>
          <a:ext cx="2713320" cy="32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76640"/>
                    <a:ext cx="271332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4211640" y="119700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C6H6-típusú telítetlen benzol kötések (polimerek alapjai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140360" y="3141720"/>
            <a:ext cx="2736720" cy="1511280"/>
            <a:chOff x="4140360" y="3141720"/>
            <a:chExt cx="2736720" cy="1511280"/>
          </a:xfrm>
        </p:grpSpPr>
        <p:sp>
          <p:nvSpPr>
            <p:cNvPr id="274" name=""/>
            <p:cNvSpPr/>
            <p:nvPr/>
          </p:nvSpPr>
          <p:spPr>
            <a:xfrm>
              <a:off x="6156360" y="3933720"/>
              <a:ext cx="720720" cy="719280"/>
            </a:xfrm>
            <a:prstGeom prst="ellipse">
              <a:avLst/>
            </a:prstGeom>
            <a:solidFill>
              <a:srgbClr val="00cc99">
                <a:alpha val="15000"/>
              </a:srgbClr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40360" y="3141720"/>
              <a:ext cx="2087280" cy="503280"/>
            </a:xfrm>
            <a:prstGeom prst="wedgeEllipseCallout">
              <a:avLst>
                <a:gd name="adj1" fmla="val 53347"/>
                <a:gd name="adj2" fmla="val 169560"/>
              </a:avLst>
            </a:prstGeom>
            <a:solidFill>
              <a:srgbClr val="ff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vegyérté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 fémes kötés jellemző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lsődleges, erős kötés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: fémek, fémtermészetű elemek jellegzetes köté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fém-ionok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kitüntetett pontokban (az ún. </a:t>
            </a: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rácspontok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-ban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helyhez kötöttek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a vegyérték-elektronok, mint szabad elektronok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lektrongáz, elektronfelhő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formájában viszonylag szabadon mozogna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ezzel magyarázható a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jó hő- és villamos </a:t>
            </a: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vezető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-képessé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a fémek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nagy szilárdsága</a:t>
            </a:r>
            <a:r>
              <a:rPr b="0" lang="hu-HU" sz="2400" spc="-1" strike="noStrike">
                <a:solidFill>
                  <a:srgbClr val="0000cc"/>
                </a:solidFill>
                <a:latin typeface="Arial"/>
              </a:rPr>
              <a:t> és egyidejűleg viszonylag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jó alakíthatóság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24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ANYAGOK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95640" y="0"/>
            <a:ext cx="2016000" cy="1800360"/>
            <a:chOff x="3995640" y="0"/>
            <a:chExt cx="2016000" cy="1800360"/>
          </a:xfrm>
        </p:grpSpPr>
        <p:sp>
          <p:nvSpPr>
            <p:cNvPr id="62" name=""/>
            <p:cNvSpPr/>
            <p:nvPr/>
          </p:nvSpPr>
          <p:spPr>
            <a:xfrm>
              <a:off x="3995640" y="0"/>
              <a:ext cx="2016000" cy="180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67280" y="73080"/>
              <a:ext cx="19443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Acélo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Öntöttvasa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Féme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Fémötvözete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940360" y="4149720"/>
            <a:ext cx="2016000" cy="1813320"/>
            <a:chOff x="5940360" y="4149720"/>
            <a:chExt cx="2016000" cy="1813320"/>
          </a:xfrm>
        </p:grpSpPr>
        <p:sp>
          <p:nvSpPr>
            <p:cNvPr id="65" name=""/>
            <p:cNvSpPr/>
            <p:nvPr/>
          </p:nvSpPr>
          <p:spPr>
            <a:xfrm>
              <a:off x="5940360" y="4149720"/>
              <a:ext cx="2016000" cy="180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2000" y="4222800"/>
              <a:ext cx="1944360" cy="17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cc"/>
                  </a:solidFill>
                  <a:latin typeface="Times New Roman"/>
                </a:rPr>
                <a:t>SiC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cc"/>
                  </a:solidFill>
                  <a:latin typeface="Times New Roman"/>
                </a:rPr>
                <a:t>Aluminát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Kerámiá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cc"/>
                  </a:solidFill>
                  <a:latin typeface="Times New Roman"/>
                </a:rPr>
                <a:t>SiN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732720" y="1628640"/>
            <a:ext cx="2016000" cy="1800360"/>
            <a:chOff x="6732720" y="1628640"/>
            <a:chExt cx="2016000" cy="1800360"/>
          </a:xfrm>
        </p:grpSpPr>
        <p:sp>
          <p:nvSpPr>
            <p:cNvPr id="68" name=""/>
            <p:cNvSpPr/>
            <p:nvPr/>
          </p:nvSpPr>
          <p:spPr>
            <a:xfrm>
              <a:off x="6732720" y="1628640"/>
              <a:ext cx="2016000" cy="180036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04360" y="1701720"/>
              <a:ext cx="194436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Times New Roman"/>
                </a:rPr>
                <a:t>Gumi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Elasztomerek</a:t>
              </a:r>
              <a:endParaRPr b="0" lang="en-US" sz="22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Times New Roman"/>
                </a:rPr>
                <a:t>Szilikono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195640" y="4149720"/>
            <a:ext cx="2016000" cy="1800360"/>
            <a:chOff x="2195640" y="4149720"/>
            <a:chExt cx="2016000" cy="1800360"/>
          </a:xfrm>
        </p:grpSpPr>
        <p:sp>
          <p:nvSpPr>
            <p:cNvPr id="71" name=""/>
            <p:cNvSpPr/>
            <p:nvPr/>
          </p:nvSpPr>
          <p:spPr>
            <a:xfrm>
              <a:off x="2195640" y="4149720"/>
              <a:ext cx="2016000" cy="1800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67280" y="4222800"/>
              <a:ext cx="19443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ea2d00"/>
                  </a:solidFill>
                  <a:latin typeface="Times New Roman"/>
                </a:rPr>
                <a:t>Szóda-üvege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 u="sng">
                  <a:solidFill>
                    <a:srgbClr val="ea2d00"/>
                  </a:solidFill>
                  <a:uFillTx/>
                  <a:latin typeface="Times New Roman"/>
                </a:rPr>
                <a:t>Üvege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ea2d00"/>
                  </a:solidFill>
                  <a:latin typeface="Times New Roman"/>
                </a:rPr>
                <a:t>Szilika-üvege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116000" y="1557360"/>
            <a:ext cx="2016000" cy="1800360"/>
            <a:chOff x="1116000" y="1557360"/>
            <a:chExt cx="2016000" cy="1800360"/>
          </a:xfrm>
        </p:grpSpPr>
        <p:sp>
          <p:nvSpPr>
            <p:cNvPr id="74" name=""/>
            <p:cNvSpPr/>
            <p:nvPr/>
          </p:nvSpPr>
          <p:spPr>
            <a:xfrm>
              <a:off x="1116000" y="1557360"/>
              <a:ext cx="2016000" cy="180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7640" y="1630440"/>
              <a:ext cx="19443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PE, PP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PK, Neylonok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olimerek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Times New Roman"/>
                </a:rPr>
                <a:t>Epoxy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995640" y="2492280"/>
            <a:ext cx="2016360" cy="180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2255760"/>
            <a:ext cx="194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Hibrid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társított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yagok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3201600">
            <a:off x="3815280" y="3751920"/>
            <a:ext cx="505080" cy="1008000"/>
          </a:xfrm>
          <a:prstGeom prst="upDownArrow">
            <a:avLst>
              <a:gd name="adj1" fmla="val 50000"/>
              <a:gd name="adj2" fmla="val 39730"/>
            </a:avLst>
          </a:pr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8900000">
            <a:off x="5651640" y="3860280"/>
            <a:ext cx="504720" cy="1081080"/>
          </a:xfrm>
          <a:prstGeom prst="upDownArrow">
            <a:avLst>
              <a:gd name="adj1" fmla="val 50000"/>
              <a:gd name="adj2" fmla="val 42640"/>
            </a:avLst>
          </a:pr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4169400">
            <a:off x="6083640" y="2493360"/>
            <a:ext cx="504720" cy="1081080"/>
          </a:xfrm>
          <a:prstGeom prst="upDownArrow">
            <a:avLst>
              <a:gd name="adj1" fmla="val 50000"/>
              <a:gd name="adj2" fmla="val 42640"/>
            </a:avLst>
          </a:prstGeom>
          <a:solidFill>
            <a:srgbClr val="ff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64880" y="1557360"/>
            <a:ext cx="2354400" cy="1824840"/>
            <a:chOff x="2864880" y="1557360"/>
            <a:chExt cx="2354400" cy="1824840"/>
          </a:xfrm>
        </p:grpSpPr>
        <p:sp>
          <p:nvSpPr>
            <p:cNvPr id="82" name=""/>
            <p:cNvSpPr/>
            <p:nvPr/>
          </p:nvSpPr>
          <p:spPr>
            <a:xfrm rot="17400000">
              <a:off x="3240000" y="2371680"/>
              <a:ext cx="504720" cy="1152360"/>
            </a:xfrm>
            <a:prstGeom prst="upDownArrow">
              <a:avLst>
                <a:gd name="adj1" fmla="val 50000"/>
                <a:gd name="adj2" fmla="val 45452"/>
              </a:avLst>
            </a:prstGeom>
            <a:solidFill>
              <a:srgbClr val="ff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14560" y="1557360"/>
              <a:ext cx="504720" cy="1081080"/>
            </a:xfrm>
            <a:prstGeom prst="upDownArrow">
              <a:avLst>
                <a:gd name="adj1" fmla="val 50000"/>
                <a:gd name="adj2" fmla="val 42640"/>
              </a:avLst>
            </a:prstGeom>
            <a:solidFill>
              <a:srgbClr val="ff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097720" y="965880"/>
            <a:ext cx="5740920" cy="4407840"/>
            <a:chOff x="2097720" y="965880"/>
            <a:chExt cx="5740920" cy="4407840"/>
          </a:xfrm>
        </p:grpSpPr>
        <p:sp>
          <p:nvSpPr>
            <p:cNvPr id="85" name=""/>
            <p:cNvSpPr/>
            <p:nvPr/>
          </p:nvSpPr>
          <p:spPr>
            <a:xfrm rot="3600000">
              <a:off x="3265920" y="775440"/>
              <a:ext cx="505080" cy="1636560"/>
            </a:xfrm>
            <a:prstGeom prst="upDownArrow">
              <a:avLst>
                <a:gd name="adj1" fmla="val 50000"/>
                <a:gd name="adj2" fmla="val 64504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8000000">
              <a:off x="6290280" y="847080"/>
              <a:ext cx="504720" cy="1636920"/>
            </a:xfrm>
            <a:prstGeom prst="upDownArrow">
              <a:avLst>
                <a:gd name="adj1" fmla="val 50000"/>
                <a:gd name="adj2" fmla="val 64564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400000">
              <a:off x="2279520" y="3209400"/>
              <a:ext cx="505080" cy="1152720"/>
            </a:xfrm>
            <a:prstGeom prst="upDownArrow">
              <a:avLst>
                <a:gd name="adj1" fmla="val 50000"/>
                <a:gd name="adj2" fmla="val 45433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5400000">
              <a:off x="4858920" y="4076640"/>
              <a:ext cx="504720" cy="2089080"/>
            </a:xfrm>
            <a:prstGeom prst="upDownArrow">
              <a:avLst>
                <a:gd name="adj1" fmla="val 50000"/>
                <a:gd name="adj2" fmla="val 82398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200000">
              <a:off x="7164360" y="3284640"/>
              <a:ext cx="504720" cy="1081080"/>
            </a:xfrm>
            <a:prstGeom prst="upDownArrow">
              <a:avLst>
                <a:gd name="adj1" fmla="val 50000"/>
                <a:gd name="adj2" fmla="val 42640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 fémes kötés jellemző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1628640"/>
          <a:ext cx="993600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9360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 fémes kötés jellemző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-181080" y="1628640"/>
          <a:ext cx="3961080" cy="37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628640"/>
                    <a:ext cx="3961080" cy="37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841920" y="1268280"/>
          <a:ext cx="5266800" cy="4525560"/>
        </p:xfrm>
        <a:graphic>
          <a:graphicData uri="http://schemas.openxmlformats.org/drawingml/2006/table">
            <a:tbl>
              <a:tblPr/>
              <a:tblGrid>
                <a:gridCol w="1756080"/>
                <a:gridCol w="1754640"/>
                <a:gridCol w="1756080"/>
              </a:tblGrid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z elem 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egyjele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ötési energia E(kJ/mol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lvadás-pont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 (</a:t>
                      </a:r>
                      <a:r>
                        <a:rPr b="1" lang="hu-HU" sz="2000" spc="-1" strike="noStrike" baseline="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19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e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77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c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397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73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812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15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730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98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903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8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6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Másodlagos kötése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dipólus két azonos nagyságú, de ellentétes töltés különválásával jön létr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kötés hajtóereje a molekulákban lévő elektromos dipólusok közötti vonzerő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agyságrendekkel kisebb kötési energia  (4-40 kJ/mol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0" y="1484280"/>
          <a:ext cx="399096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484280"/>
                    <a:ext cx="399096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5364000" y="3284640"/>
          <a:ext cx="224640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284640"/>
                    <a:ext cx="224640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51640" y="1341360"/>
                <a:ext cx="1873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Fémek, fémes anyag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3631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émes fény, karakterisztikus szín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jó hő- és villamos vezetőképessé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kristályos szerkezet, hosszú távú atomos rendezettsé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nagy szilárdsá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jó alakíthatósá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 advTm="13000">
    <p:cover dir="d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z anyagok kristályos szerkezet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kristályos szilárd anyagok jellemzői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hosszútávú atomos rendezettség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szabályos térbeli ismétlődé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kristálytani alapfogalmak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térrács fogalma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cc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térrács kitüntetett pontjai, a rácspontok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z elemi cella fogalma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 advTm="13000">
    <p:cover dir="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Kristályrendszerek jellemzés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53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Arial"/>
              </a:rPr>
              <a:t>Kristályrendszerek leírásának szükséges és elégséges feltételei: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Három irány (</a:t>
            </a:r>
            <a:r>
              <a:rPr b="0" lang="hu-HU" sz="2800" spc="-1" strike="noStrike">
                <a:solidFill>
                  <a:srgbClr val="ea2d00"/>
                </a:solidFill>
                <a:latin typeface="Arial"/>
              </a:rPr>
              <a:t>x, y, z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) beleértve az irányok által bezárt szögeket is!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A három irányban mért, az atomok periodicitását jel-lemző távolságok (</a:t>
            </a:r>
            <a:r>
              <a:rPr b="0" lang="hu-HU" sz="2800" spc="-1" strike="noStrike">
                <a:solidFill>
                  <a:srgbClr val="ea2d00"/>
                </a:solidFill>
                <a:latin typeface="Arial"/>
              </a:rPr>
              <a:t>a, b, c</a:t>
            </a:r>
            <a:r>
              <a:rPr b="1" lang="hu-HU" sz="2800" spc="-1" strike="noStrike">
                <a:solidFill>
                  <a:srgbClr val="0000cc"/>
                </a:solidFill>
                <a:latin typeface="Arial"/>
              </a:rPr>
              <a:t>), a </a:t>
            </a:r>
            <a:r>
              <a:rPr b="0" lang="hu-HU" sz="2800" spc="-1" strike="noStrike">
                <a:solidFill>
                  <a:srgbClr val="ea2d00"/>
                </a:solidFill>
                <a:latin typeface="Arial"/>
              </a:rPr>
              <a:t>rácsparaméterek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075280" y="1376280"/>
          <a:ext cx="439272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5280" y="1376280"/>
                    <a:ext cx="43927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Kristályrendszerek jellemzés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1700280"/>
          <a:ext cx="4176720" cy="39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417672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924360" y="1413000"/>
          <a:ext cx="5219640" cy="38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413000"/>
                    <a:ext cx="521964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626720" y="512604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Hosszú távú rendezettség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99"/>
                </a:solidFill>
                <a:uFillTx/>
                <a:latin typeface="Arial"/>
              </a:rPr>
              <a:t>Kristályrendszerek jellemzése, </a:t>
            </a:r>
            <a:br>
              <a:rPr sz="3600"/>
            </a:br>
            <a:r>
              <a:rPr b="1" lang="hu-HU" sz="3600" spc="-1" strike="noStrike" u="sng">
                <a:solidFill>
                  <a:srgbClr val="ea2d00"/>
                </a:solidFill>
                <a:uFillTx/>
                <a:latin typeface="Arial"/>
              </a:rPr>
              <a:t>BRAVAIS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11280" y="1447920"/>
          <a:ext cx="806436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7920"/>
                    <a:ext cx="806436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Köbös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0" y="1868400"/>
          <a:ext cx="29163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8400"/>
                    <a:ext cx="29163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771640" y="1773360"/>
          <a:ext cx="3816360" cy="26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773360"/>
                    <a:ext cx="381636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796000" y="1916280"/>
          <a:ext cx="3492360" cy="24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6000" y="1916280"/>
                    <a:ext cx="34923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250920" y="47242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Primitív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19640" y="472428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Térben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 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54560" y="4714920"/>
            <a:ext cx="22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Felülete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Tetra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gonális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79600" y="1989000"/>
          <a:ext cx="20016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989000"/>
                    <a:ext cx="20016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689280" y="1989000"/>
          <a:ext cx="2060640" cy="25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9280" y="1989000"/>
                    <a:ext cx="20606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250920" y="47242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Primitív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472428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Térben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 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54560" y="4714920"/>
            <a:ext cx="22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Felülete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516720" y="1916280"/>
          <a:ext cx="2003400" cy="24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1916280"/>
                    <a:ext cx="200340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– Tartalék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49417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2d00"/>
                </a:solidFill>
                <a:uFillTx/>
                <a:latin typeface="Times New Roman"/>
              </a:rPr>
              <a:t>felfedezetle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812160" y="2583360"/>
            <a:ext cx="20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2d00"/>
                </a:solidFill>
                <a:uFillTx/>
                <a:latin typeface="Times New Roman"/>
              </a:rPr>
              <a:t>Gazdaságtala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211640" y="3427200"/>
            <a:ext cx="1440000" cy="1655640"/>
            <a:chOff x="4211640" y="3427200"/>
            <a:chExt cx="1440000" cy="1655640"/>
          </a:xfrm>
        </p:grpSpPr>
        <p:sp>
          <p:nvSpPr>
            <p:cNvPr id="94" name=""/>
            <p:cNvSpPr/>
            <p:nvPr/>
          </p:nvSpPr>
          <p:spPr>
            <a:xfrm rot="16200000">
              <a:off x="3674160" y="3964680"/>
              <a:ext cx="16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utatás fejlesztése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9280" y="4149720"/>
              <a:ext cx="792360" cy="287280"/>
            </a:xfrm>
            <a:prstGeom prst="rightArrow">
              <a:avLst>
                <a:gd name="adj1" fmla="val 50000"/>
                <a:gd name="adj2" fmla="val 68954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619280" y="1916280"/>
            <a:ext cx="43210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1916280"/>
            <a:ext cx="0" cy="34574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5373720"/>
            <a:ext cx="496872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544500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Geológiai eszközrendszer fejlődés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19280" y="1197000"/>
            <a:ext cx="0" cy="4176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700560" y="315756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Kibányászási technológia fejlődés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19280" y="3645000"/>
            <a:ext cx="2592360" cy="1728720"/>
            <a:chOff x="1619280" y="3645000"/>
            <a:chExt cx="2592360" cy="1728720"/>
          </a:xfrm>
        </p:grpSpPr>
        <p:sp>
          <p:nvSpPr>
            <p:cNvPr id="103" name=""/>
            <p:cNvSpPr/>
            <p:nvPr/>
          </p:nvSpPr>
          <p:spPr>
            <a:xfrm>
              <a:off x="1619280" y="3645000"/>
              <a:ext cx="2592360" cy="1728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5640" y="4292640"/>
              <a:ext cx="1584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FELTÁRT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1087560" y="4390560"/>
              <a:ext cx="150984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cc"/>
                  </a:solidFill>
                  <a:uFillTx/>
                  <a:latin typeface="Times New Roman"/>
                </a:rPr>
                <a:t>GAZDASÁGOS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79640" y="2349360"/>
            <a:ext cx="2374920" cy="1228680"/>
            <a:chOff x="1979640" y="2349360"/>
            <a:chExt cx="2374920" cy="1228680"/>
          </a:xfrm>
        </p:grpSpPr>
        <p:sp>
          <p:nvSpPr>
            <p:cNvPr id="107" name=""/>
            <p:cNvSpPr/>
            <p:nvPr/>
          </p:nvSpPr>
          <p:spPr>
            <a:xfrm>
              <a:off x="1979640" y="2997360"/>
              <a:ext cx="237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itermelési technológia fejlődése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16360" y="2349360"/>
              <a:ext cx="360360" cy="648000"/>
            </a:xfrm>
            <a:prstGeom prst="upArrow">
              <a:avLst>
                <a:gd name="adj1" fmla="val 50000"/>
                <a:gd name="adj2" fmla="val 44955"/>
              </a:avLst>
            </a:prstGeom>
            <a:solidFill>
              <a:srgbClr val="00cc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Hexa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gonális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68360" y="1627200"/>
          <a:ext cx="295128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7200"/>
                    <a:ext cx="295128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971640" y="479736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Primitív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465300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Tömött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788000" y="1700280"/>
          <a:ext cx="2881080" cy="26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700280"/>
                    <a:ext cx="28810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ea2d00"/>
                </a:solidFill>
                <a:uFillTx/>
                <a:latin typeface="Arial"/>
              </a:rPr>
              <a:t>Ortorombos</a:t>
            </a:r>
            <a:r>
              <a:rPr b="1" lang="hu-HU" sz="3600" spc="-1" strike="noStrike" u="sng">
                <a:solidFill>
                  <a:srgbClr val="000099"/>
                </a:solidFill>
                <a:uFillTx/>
                <a:latin typeface="Arial"/>
              </a:rPr>
              <a:t>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24000" y="1844640"/>
          <a:ext cx="16794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16794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376360" y="1773360"/>
          <a:ext cx="1733760" cy="23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6360" y="1773360"/>
                    <a:ext cx="173376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4788000" y="1844640"/>
          <a:ext cx="162540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1844640"/>
                    <a:ext cx="162540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-181080" y="479736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Primitív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95640" y="458136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Térben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 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00720" y="458136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Felülete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10560" y="458136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Alaplapo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7020000" y="1844640"/>
          <a:ext cx="1679400" cy="22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1844640"/>
                    <a:ext cx="16794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2d00"/>
                </a:solidFill>
                <a:uFillTx/>
                <a:latin typeface="Arial"/>
              </a:rPr>
              <a:t>Monoklin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200240" y="1844640"/>
          <a:ext cx="245268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844640"/>
                    <a:ext cx="24526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1116000" y="479736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Primitív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19640" y="4581360"/>
            <a:ext cx="22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2d00"/>
                </a:solidFill>
                <a:uFillTx/>
                <a:latin typeface="Times New Roman"/>
              </a:rPr>
              <a:t>Alaplapo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középpont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076720" y="1700280"/>
          <a:ext cx="2413080" cy="282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00280"/>
                    <a:ext cx="241308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Egyéb primitív-rácso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71640" y="5013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Romboéder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76720" y="494172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Trikli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4360" y="1773360"/>
          <a:ext cx="4038480" cy="26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403848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219640" y="1557360"/>
          <a:ext cx="2621160" cy="30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557360"/>
                    <a:ext cx="262116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-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Energiatartalo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846440"/>
            <a:ext cx="3959280" cy="3166920"/>
          </a:xfrm>
          <a:prstGeom prst="rightArrowCallout">
            <a:avLst>
              <a:gd name="adj1" fmla="val 25002"/>
              <a:gd name="adj2" fmla="val 25000"/>
              <a:gd name="adj3" fmla="val 20837"/>
              <a:gd name="adj4" fmla="val 66667"/>
            </a:avLst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90760" y="55069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2347560"/>
            <a:ext cx="2737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Kibányászá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Őrlés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úsítá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075120"/>
            <a:ext cx="4033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iaszükséglete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Néhány anyag ENERGIATARTALM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24000" y="-1035000"/>
          <a:ext cx="4248000" cy="6765840"/>
        </p:xfrm>
        <a:graphic>
          <a:graphicData uri="http://schemas.openxmlformats.org/drawingml/2006/table">
            <a:tbl>
              <a:tblPr/>
              <a:tblGrid>
                <a:gridCol w="1627200"/>
                <a:gridCol w="2620800"/>
              </a:tblGrid>
              <a:tr h="271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  <a:ea typeface="Arial"/>
                        </a:rPr>
                        <a:t>Anyag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  <a:ea typeface="Arial"/>
                        </a:rPr>
                        <a:t>Energiatartalom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Kavics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Fa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,5-7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Tégla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Cement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Üveg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Szén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Olaj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CÉL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Cink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Réz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140-300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Műanyag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5-180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uminium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69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ára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2d00"/>
                </a:solidFill>
                <a:latin typeface="Arial"/>
              </a:rPr>
              <a:t>(Acél=1, Arany=</a:t>
            </a:r>
            <a:r>
              <a:rPr b="1" lang="en-US" sz="2400" spc="-1" strike="noStrike">
                <a:solidFill>
                  <a:srgbClr val="ea2d00"/>
                </a:solidFill>
                <a:latin typeface="Arial"/>
                <a:ea typeface="Arial"/>
              </a:rPr>
              <a:t>20000</a:t>
            </a:r>
            <a:r>
              <a:rPr b="1" lang="en-US" sz="2400" spc="-1" strike="noStrike">
                <a:solidFill>
                  <a:srgbClr val="ea2d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46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,3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 - Ötvözött acé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÷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 4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- Al, Cu és ötvözete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÷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 4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-  Zn és ötvözete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      - Szerszámacé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 - Rozsdamentes acé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   - Mg ötvözete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70 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</a:rPr>
              <a:t>     - Co ötvözete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  <a:ea typeface="Arial"/>
              </a:rPr>
              <a:t>100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  <a:ea typeface="Arial"/>
              </a:rPr>
              <a:t>    - Ti ötvözete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  <a:ea typeface="Arial"/>
              </a:rPr>
              <a:t>200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  <a:ea typeface="Arial"/>
              </a:rPr>
              <a:t>    - Ni ötvözete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  <a:ea typeface="Arial"/>
              </a:rPr>
              <a:t>500    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  <a:ea typeface="Arial"/>
              </a:rPr>
              <a:t>- Wolfram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  <a:ea typeface="Arial"/>
              </a:rPr>
              <a:t>1500</a:t>
            </a:r>
            <a:r>
              <a:rPr b="1" lang="hu-HU" sz="2400" spc="-1" strike="noStrike">
                <a:solidFill>
                  <a:srgbClr val="0000cc"/>
                </a:solidFill>
                <a:latin typeface="Arial"/>
                <a:ea typeface="Arial"/>
              </a:rPr>
              <a:t>  - Ezü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56000" y="1125000"/>
            <a:ext cx="4788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÷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 3 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- Műanyagok (PE, PVC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3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   - Gum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÷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 3 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- Ólo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2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    - Furné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2.5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- Kemény f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4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- Bronz, Üve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5 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  - Poliészt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7 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   - PMM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10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- GFRP, epoxy, P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15 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 - Nylon 66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2d00"/>
                </a:solidFill>
                <a:latin typeface="Arial"/>
              </a:rPr>
              <a:t>70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      - Si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nyagfogyasztás exponenciális növekedés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87640" y="1052640"/>
            <a:ext cx="568800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ea2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ea2d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ea2d00"/>
                </a:solidFill>
                <a:latin typeface="Times New Roman"/>
              </a:rPr>
              <a:t>t=t</a:t>
            </a:r>
            <a:r>
              <a:rPr b="1" lang="hu-HU" sz="2000" spc="-1" strike="noStrike" baseline="-25000">
                <a:solidFill>
                  <a:srgbClr val="ea2d00"/>
                </a:solidFill>
                <a:latin typeface="Times New Roman"/>
              </a:rPr>
              <a:t>0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időillantban </a:t>
            </a:r>
            <a:r>
              <a:rPr b="1" lang="hu-HU" sz="2000" spc="-1" strike="noStrike">
                <a:solidFill>
                  <a:srgbClr val="ea2d00"/>
                </a:solidFill>
                <a:latin typeface="Times New Roman"/>
              </a:rPr>
              <a:t>C</a:t>
            </a:r>
            <a:r>
              <a:rPr b="1" lang="hu-HU" sz="2000" spc="-1" strike="noStrike" baseline="-25000">
                <a:solidFill>
                  <a:srgbClr val="ea2d00"/>
                </a:solidFill>
                <a:latin typeface="Times New Roman"/>
              </a:rPr>
              <a:t>0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mennyiséget használunk fe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Évenkénti növekedés = </a:t>
            </a:r>
            <a:r>
              <a:rPr b="1" lang="hu-HU" sz="2000" spc="-1" strike="noStrike">
                <a:solidFill>
                  <a:srgbClr val="ea2d00"/>
                </a:solidFill>
                <a:latin typeface="Times New Roman"/>
              </a:rPr>
              <a:t>r (%)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Évenként felhasznált mennyiség változása: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dC/dt=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(r/100),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dC/C=dt 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(r/100),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4537800">
            <a:off x="3816720" y="2527560"/>
            <a:ext cx="647640" cy="129708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4000" y="1628280"/>
            <a:ext cx="4032000" cy="4215600"/>
            <a:chOff x="324000" y="1628280"/>
            <a:chExt cx="4032000" cy="4215600"/>
          </a:xfrm>
        </p:grpSpPr>
        <p:sp>
          <p:nvSpPr>
            <p:cNvPr id="123" name=""/>
            <p:cNvSpPr/>
            <p:nvPr/>
          </p:nvSpPr>
          <p:spPr>
            <a:xfrm>
              <a:off x="2916360" y="40766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24000" y="1628280"/>
              <a:ext cx="4032000" cy="4215600"/>
              <a:chOff x="324000" y="1628280"/>
              <a:chExt cx="4032000" cy="42156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2339640" y="3357720"/>
                <a:ext cx="1152360" cy="1584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16360" y="4149720"/>
                <a:ext cx="0" cy="1295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24000" y="1628280"/>
                <a:ext cx="4032000" cy="4215600"/>
                <a:chOff x="324000" y="1628280"/>
                <a:chExt cx="4032000" cy="421560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324000" y="1628280"/>
                  <a:ext cx="3744720" cy="4215600"/>
                  <a:chOff x="324000" y="1628280"/>
                  <a:chExt cx="3744720" cy="42156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rot="16200000">
                    <a:off x="-1492560" y="3444840"/>
                    <a:ext cx="4032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Fogyasztás, (Tonna/év)</a:t>
                    </a:r>
                    <a:endParaRPr b="0" lang="en-US" sz="2000" spc="-1" strike="noStrike">
                      <a:solidFill>
                        <a:srgbClr val="0000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276720" y="544500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Idő</a:t>
                    </a:r>
                    <a:endParaRPr b="0" lang="en-US" sz="2000" spc="-1" strike="noStrike">
                      <a:solidFill>
                        <a:srgbClr val="0000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84360" y="2133720"/>
                  <a:ext cx="3671640" cy="3680640"/>
                  <a:chOff x="684360" y="2133720"/>
                  <a:chExt cx="3671640" cy="368064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826920" y="2133720"/>
                    <a:ext cx="3529080" cy="3313080"/>
                    <a:chOff x="826920" y="2133720"/>
                    <a:chExt cx="3529080" cy="33130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900000" y="2133720"/>
                      <a:ext cx="0" cy="3313080"/>
                    </a:xfrm>
                    <a:prstGeom prst="line">
                      <a:avLst/>
                    </a:prstGeom>
                    <a:ln w="9360">
                      <a:solidFill>
                        <a:srgbClr val="0000cc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900000" y="5445000"/>
                      <a:ext cx="3456000" cy="0"/>
                    </a:xfrm>
                    <a:prstGeom prst="line">
                      <a:avLst/>
                    </a:prstGeom>
                    <a:ln w="936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900000" y="2708280"/>
                      <a:ext cx="2664000" cy="23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7" h="1770">
                          <a:moveTo>
                            <a:pt x="0" y="1732"/>
                          </a:moveTo>
                          <a:cubicBezTo>
                            <a:pt x="41" y="1751"/>
                            <a:pt x="82" y="1770"/>
                            <a:pt x="226" y="1732"/>
                          </a:cubicBezTo>
                          <a:cubicBezTo>
                            <a:pt x="370" y="1694"/>
                            <a:pt x="681" y="1649"/>
                            <a:pt x="862" y="1505"/>
                          </a:cubicBezTo>
                          <a:cubicBezTo>
                            <a:pt x="1043" y="1361"/>
                            <a:pt x="1202" y="1097"/>
                            <a:pt x="1315" y="870"/>
                          </a:cubicBezTo>
                          <a:cubicBezTo>
                            <a:pt x="1428" y="643"/>
                            <a:pt x="1497" y="288"/>
                            <a:pt x="1542" y="144"/>
                          </a:cubicBezTo>
                          <a:cubicBezTo>
                            <a:pt x="1587" y="0"/>
                            <a:pt x="1580" y="31"/>
                            <a:pt x="1587" y="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26920" y="4581360"/>
                      <a:ext cx="50328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" name=""/>
                  <p:cNvSpPr/>
                  <p:nvPr/>
                </p:nvSpPr>
                <p:spPr>
                  <a:xfrm>
                    <a:off x="684360" y="5373720"/>
                    <a:ext cx="50292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t</a:t>
                    </a:r>
                    <a:r>
                      <a:rPr b="1" lang="en-US" sz="2000" spc="-1" strike="noStrike" baseline="-25000">
                        <a:solidFill>
                          <a:srgbClr val="0000cc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38" name=""/>
          <p:cNvSpPr/>
          <p:nvPr/>
        </p:nvSpPr>
        <p:spPr>
          <a:xfrm>
            <a:off x="3203640" y="4869000"/>
            <a:ext cx="5581440" cy="440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A felhasználás kétszereződése: t</a:t>
            </a:r>
            <a:r>
              <a:rPr b="1" lang="hu-HU" sz="20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= lg2 100/r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~</a:t>
            </a:r>
            <a:r>
              <a:rPr b="1" lang="hu-H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0/r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3500280"/>
            <a:ext cx="4681800" cy="100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cc"/>
                </a:solidFill>
                <a:latin typeface="Times New Roman"/>
              </a:rPr>
              <a:t>Adott évben (t) felhasznált mennyiség: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C=C</a:t>
            </a:r>
            <a:r>
              <a:rPr b="1" lang="hu-HU" sz="24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 exp </a:t>
            </a:r>
            <a:r>
              <a:rPr b="1" lang="hu-HU" sz="2400" spc="-1" strike="noStrike">
                <a:solidFill>
                  <a:srgbClr val="0000cc"/>
                </a:solidFill>
                <a:latin typeface="Symbol"/>
                <a:ea typeface="Symbol"/>
              </a:rPr>
              <a:t>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(t-t</a:t>
            </a:r>
            <a:r>
              <a:rPr b="1" lang="hu-HU" sz="24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hu-HU" sz="2400" spc="-1" strike="noStrike">
                <a:solidFill>
                  <a:srgbClr val="0000cc"/>
                </a:solidFill>
                <a:latin typeface="Times New Roman"/>
              </a:rPr>
              <a:t>)(r/100)</a:t>
            </a:r>
            <a:r>
              <a:rPr b="1" lang="hu-HU" sz="2400" spc="-1" strike="noStrike">
                <a:solidFill>
                  <a:srgbClr val="0000cc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28000" y="2492280"/>
            <a:ext cx="201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2436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Anyagok felhasználási tulajdonsága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84000" y="1197000"/>
            <a:ext cx="54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azdaságosság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Általános fizika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chanika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őtani, termikus sajátosságo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llamos és mágne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örnyezettel szembeni ellenállá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yárthatóság, technológia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sztétika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6:00:05Z</dcterms:created>
  <dc:creator>Rendszergazda</dc:creator>
  <dc:description/>
  <dc:language>en-US</dc:language>
  <cp:lastModifiedBy>Dr. Tóth László</cp:lastModifiedBy>
  <cp:lastPrinted>2000-01-21T12:49:09Z</cp:lastPrinted>
  <dcterms:modified xsi:type="dcterms:W3CDTF">2008-09-19T09:27:38Z</dcterms:modified>
  <cp:revision>93</cp:revision>
  <dc:subject/>
  <dc:title>Nincs diacím</dc:title>
</cp:coreProperties>
</file>