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B5C-A01C-491D-B630-4394FD04AFF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C7DA-AFA9-49C6-A958-316DB2E6D2D4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DAF-02C5-4349-A3D2-CAE3D0179E87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713-D53F-4F6B-A54E-BB0D9FD86EC5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8364-170A-41F0-9008-7273DFDA524E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E0A-29DC-46F3-A27B-8A8FCB0B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442-3DA7-43EC-9C4F-2A1A33DF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085-380A-49FB-A1D7-F67462F5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4DF-B3BA-4F92-B460-3F6C0FF6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4D8-7B40-4A74-ACEE-7142C39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1E1-E56D-4405-B671-DE47339B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CF1-D3D4-4800-A498-B79D8C8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B35-9E6D-4E36-B184-71C6B7C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572-06DC-42C6-9F00-C9FDFFC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B5F-BBC5-4962-9F15-BBB2B19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E85-C2CF-4487-8D0B-396333D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9B4-B4D1-437E-8F01-870AE75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726E-5E4C-49D0-B246-A62B3F3BD0DB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8/2009 I. félév. Debrecen, 2008. szeptember 15.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676520"/>
            <a:ext cx="5449320" cy="3949560"/>
            <a:chOff x="304920" y="1676520"/>
            <a:chExt cx="5449320" cy="3949560"/>
          </a:xfrm>
        </p:grpSpPr>
        <p:sp>
          <p:nvSpPr>
            <p:cNvPr id="54" name=""/>
            <p:cNvSpPr/>
            <p:nvPr/>
          </p:nvSpPr>
          <p:spPr>
            <a:xfrm>
              <a:off x="304920" y="167652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84480" y="179316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105520" y="2781360"/>
            <a:ext cx="4038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@bzlogi.hu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Mechanikai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2052720" y="4437000"/>
            <a:ext cx="56167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19700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galmassági modul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lyási hatá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zakító szilárdsá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eménysé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pedés terjedéssel szembeni ellenállá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ifáradássa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úszássa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sillapít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Gazdaságosság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000" y="278136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űrűsé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Ár és rendelkezésre ál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Újrahasznosíthatósá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708280"/>
            <a:ext cx="403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Általános fizikai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933720"/>
            <a:ext cx="4038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Termikus, hőtani sajátosságo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05360"/>
            <a:ext cx="40384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Hővezet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Hőtágu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Fajhő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Villamos és mágnese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1520" y="278136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ációs hajl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orróziós hajl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op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1413000"/>
            <a:ext cx="442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Ellenál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Dielektromos állandó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Mágneses permeabilit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2708280"/>
            <a:ext cx="4254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2d00"/>
                </a:solidFill>
                <a:latin typeface="Arial"/>
              </a:rPr>
              <a:t>Környezettel szem-beni ellenállá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933720"/>
            <a:ext cx="43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2d00"/>
                </a:solidFill>
                <a:latin typeface="Arial"/>
              </a:rPr>
              <a:t>Gyárthatóság, tech-  nológiai jellemző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4005360"/>
            <a:ext cx="40384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geszt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dz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gmunkálhatósá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öszörül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Esztétika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í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xtú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pint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573360"/>
            <a:ext cx="42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ULAJDONSÁGO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4038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érhető mennyisége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ámmal jellemezhető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menziójuk va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kiválasztási alapstratégi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lapelv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adott célra még megfelelő legolcsóbb anyagot válasszuk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gen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Nem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gen is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é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nem is!!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kiválasztási stratégiá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42640"/>
            <a:ext cx="87487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Ismerjük meg az üzemeltetési körülményeket és válasszunk ennek figyelembevételével anyagot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űzzünk ki finomított célokat (pl. erőművek hatásfokának javítása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Újítsuk ismereteinket a tapasztalatok, követel-mények figyelembevételével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(pl. atomerőműi anyagok elridegedésének tapasztalatai Cu, Ni, P hatása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Vegyünk figyelembe minden létező anyagot és meghatározott kritériumok szerint szűkítsük a választékot! (ASHBY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836640"/>
            <a:ext cx="9144000" cy="5084640"/>
            <a:chOff x="0" y="836640"/>
            <a:chExt cx="9144000" cy="5084640"/>
          </a:xfrm>
        </p:grpSpPr>
        <p:graphicFrame>
          <p:nvGraphicFramePr>
            <p:cNvPr id="171" name=""/>
            <p:cNvGraphicFramePr/>
            <p:nvPr/>
          </p:nvGraphicFramePr>
          <p:xfrm>
            <a:off x="0" y="836640"/>
            <a:ext cx="9144000" cy="5084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36640"/>
                      <a:ext cx="91440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533520" y="51037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2005. December 31.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733920" y="762120"/>
            <a:ext cx="1066680" cy="47242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2514600" cy="12189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371600"/>
            <a:ext cx="533160" cy="38098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0000" y="765000"/>
            <a:ext cx="2743200" cy="1143000"/>
            <a:chOff x="900000" y="765000"/>
            <a:chExt cx="2743200" cy="1143000"/>
          </a:xfrm>
        </p:grpSpPr>
        <p:sp>
          <p:nvSpPr>
            <p:cNvPr id="178" name=""/>
            <p:cNvSpPr/>
            <p:nvPr/>
          </p:nvSpPr>
          <p:spPr>
            <a:xfrm>
              <a:off x="900000" y="765000"/>
              <a:ext cx="2743200" cy="1143000"/>
            </a:xfrm>
            <a:prstGeom prst="wedgeRoundRectCallout">
              <a:avLst>
                <a:gd name="adj1" fmla="val 60879"/>
                <a:gd name="adj2" fmla="val 97222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52280" y="917640"/>
              <a:ext cx="24382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 80-a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724360" y="620640"/>
            <a:ext cx="2895480" cy="1143000"/>
            <a:chOff x="5724360" y="620640"/>
            <a:chExt cx="2895480" cy="1143000"/>
          </a:xfrm>
        </p:grpSpPr>
        <p:sp>
          <p:nvSpPr>
            <p:cNvPr id="181" name=""/>
            <p:cNvSpPr/>
            <p:nvPr/>
          </p:nvSpPr>
          <p:spPr>
            <a:xfrm>
              <a:off x="5724360" y="620640"/>
              <a:ext cx="2895480" cy="1143000"/>
            </a:xfrm>
            <a:prstGeom prst="wedgeRoundRectCallout">
              <a:avLst>
                <a:gd name="adj1" fmla="val -46708"/>
                <a:gd name="adj2" fmla="val 158888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52960" y="772920"/>
              <a:ext cx="24382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 70-e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00800" y="2205000"/>
            <a:ext cx="2743200" cy="1143000"/>
            <a:chOff x="6400800" y="2205000"/>
            <a:chExt cx="2743200" cy="1143000"/>
          </a:xfrm>
        </p:grpSpPr>
        <p:sp>
          <p:nvSpPr>
            <p:cNvPr id="184" name=""/>
            <p:cNvSpPr/>
            <p:nvPr/>
          </p:nvSpPr>
          <p:spPr>
            <a:xfrm>
              <a:off x="6400800" y="2205000"/>
              <a:ext cx="2743200" cy="1143000"/>
            </a:xfrm>
            <a:prstGeom prst="wedgeRoundRectCallout">
              <a:avLst>
                <a:gd name="adj1" fmla="val -46708"/>
                <a:gd name="adj2" fmla="val 158888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17160" y="2357280"/>
              <a:ext cx="2309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z 50-60-a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411280" y="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Nukleáris Erőművek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nyagok viselkedése függ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ilyen atomok vannak benn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ilyen kötőerők ébrednek az atomok közöt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Milyenek a környezeti feltételek)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ogyan, milyen formában helyezkednek el egymáshoz képest az atomok 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tomok kölcsön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Elsődleges (erős) kötés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o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ovalen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éme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Másodlagos (gyenge) kötés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Van der Waal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UGÓ model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sődleges kötése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424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ellemző kötéstípus a </a:t>
            </a:r>
            <a:r>
              <a:rPr b="1" lang="hu-HU" sz="2400" spc="-1" strike="noStrike" u="sng">
                <a:solidFill>
                  <a:srgbClr val="ff3300"/>
                </a:solidFill>
                <a:uFillTx/>
                <a:latin typeface="Arial"/>
              </a:rPr>
              <a:t>FÉMEK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Arial"/>
              </a:rPr>
              <a:t>-nél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(fémes és kovalens) és </a:t>
            </a:r>
            <a:r>
              <a:rPr b="1" lang="hu-HU" sz="2400" spc="-1" strike="noStrike" u="sng">
                <a:solidFill>
                  <a:srgbClr val="ff3300"/>
                </a:solidFill>
                <a:uFillTx/>
                <a:latin typeface="Arial"/>
              </a:rPr>
              <a:t>KERÁMIÁK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Arial"/>
              </a:rPr>
              <a:t>-nál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(ionos és kovalen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fém-iono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itüntetett pontokban (az ún.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rácspontokban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helyhez kötöttek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vegyérték-elektronok, mint szabad elektronok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ektrongáz, elektronfelh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formájában viszonylag szabadon mozog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zzel magyarázható a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hő- és villamos vezetőképessé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féme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nagy szilárdsága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és egyidejűleg viszonylag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alakíthatóság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eptember 15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559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Izabella királyné halála Gyulafehérvárot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858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HUBAY Jenő zeneszerző születése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89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GATHA Christie brit írónő születé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23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FEJES Endre író születés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29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Murray GELL-MANN amerikai fizikus születése </a:t>
            </a:r>
            <a:r>
              <a:rPr b="1" lang="hu-HU" sz="1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u-HU" sz="1200" spc="-1" strike="noStrike">
                <a:solidFill>
                  <a:srgbClr val="0000cc"/>
                </a:solidFill>
                <a:latin typeface="Arial"/>
              </a:rPr>
              <a:t>Nd.1969</a:t>
            </a:r>
            <a:r>
              <a:rPr b="1" lang="hu-HU" sz="1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41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Id. ALBERT Flórián labdarugó, edző születés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95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 budapesti egyetemet Eötvös Lórándról nevezik 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978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MESSERSCHMITT repülőgéptervező halál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(erős elektronegatív és –pozitív elemek közöt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96960" y="1797120"/>
          <a:ext cx="558972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797120"/>
                    <a:ext cx="55897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484360" y="1628640"/>
            <a:ext cx="0" cy="2016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1557360"/>
            <a:ext cx="0" cy="2016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700280"/>
            <a:ext cx="331164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134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3141720"/>
            <a:ext cx="719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+11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3141720"/>
            <a:ext cx="64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+17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57360"/>
            <a:ext cx="2050920" cy="1079640"/>
          </a:xfrm>
          <a:prstGeom prst="wedgeRoundRectCallout">
            <a:avLst>
              <a:gd name="adj1" fmla="val 101083"/>
              <a:gd name="adj2" fmla="val 37500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 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 külső héjon +5.14 eV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5300640"/>
            <a:ext cx="2016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eV=1.6x10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-19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1000000">
            <a:off x="2738520" y="1692360"/>
            <a:ext cx="2766960" cy="720720"/>
          </a:xfrm>
          <a:custGeom>
            <a:avLst/>
            <a:gdLst>
              <a:gd name="textAreaLeft" fmla="*/ 484200 w 2766960"/>
              <a:gd name="textAreaRight" fmla="*/ 2006280 w 27669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1557360"/>
            <a:ext cx="2051280" cy="1079640"/>
          </a:xfrm>
          <a:prstGeom prst="wedgeRoundRectCallout">
            <a:avLst>
              <a:gd name="adj1" fmla="val -141717"/>
              <a:gd name="adj2" fmla="val 15148"/>
              <a:gd name="adj3" fmla="val 16667"/>
            </a:avLst>
          </a:prstGeom>
          <a:solidFill>
            <a:srgbClr val="cc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7 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 külső héj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4.02 eV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213000"/>
            <a:ext cx="1296720" cy="1017000"/>
            <a:chOff x="3419640" y="3213000"/>
            <a:chExt cx="1296720" cy="1017000"/>
          </a:xfrm>
        </p:grpSpPr>
        <p:sp>
          <p:nvSpPr>
            <p:cNvPr id="208" name=""/>
            <p:cNvSpPr/>
            <p:nvPr/>
          </p:nvSpPr>
          <p:spPr>
            <a:xfrm>
              <a:off x="3419640" y="321300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67280" y="3213000"/>
              <a:ext cx="504720" cy="289080"/>
            </a:xfrm>
            <a:prstGeom prst="leftArrow">
              <a:avLst>
                <a:gd name="adj1" fmla="val 50000"/>
                <a:gd name="adj2" fmla="val 43649"/>
              </a:avLst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4000" y="3789360"/>
              <a:ext cx="11523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onzerő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4653000"/>
            <a:ext cx="2050920" cy="1079640"/>
          </a:xfrm>
          <a:prstGeom prst="wedgeRoundRectCallout">
            <a:avLst>
              <a:gd name="adj1" fmla="val 44736"/>
              <a:gd name="adj2" fmla="val -157939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leadás miatt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+KATI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005360"/>
            <a:ext cx="2050920" cy="1079280"/>
          </a:xfrm>
          <a:prstGeom prst="wedgeRoundRectCallout">
            <a:avLst>
              <a:gd name="adj1" fmla="val -81268"/>
              <a:gd name="adj2" fmla="val -104560"/>
              <a:gd name="adj3" fmla="val 16667"/>
            </a:avLst>
          </a:prstGeom>
          <a:solidFill>
            <a:srgbClr val="cc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elvétel miat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, ANI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268280"/>
          <a:ext cx="4968720" cy="40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496872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967280" y="1125360"/>
                <a:ext cx="4176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nz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3225960"/>
          <a:ext cx="123840" cy="16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25960"/>
                    <a:ext cx="12384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822920" y="2762280"/>
            <a:ext cx="4321080" cy="95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Symbol"/>
                <a:ea typeface="Symbol"/>
              </a:rPr>
              <a:t></a:t>
            </a:r>
            <a:r>
              <a:rPr b="1" lang="hu-H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ér permittivitása, vagy másképpen a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ákuum dielektromos állandója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értéke 8,85x10-12 C</a:t>
            </a:r>
            <a:r>
              <a:rPr b="1" lang="hu-HU" sz="1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/Nm</a:t>
            </a:r>
            <a:r>
              <a:rPr b="1" lang="hu-HU" sz="1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2852640"/>
            <a:ext cx="431640" cy="360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800000">
            <a:off x="1682640" y="2397240"/>
            <a:ext cx="863640" cy="358560"/>
          </a:xfrm>
          <a:prstGeom prst="rightArrow">
            <a:avLst>
              <a:gd name="adj1" fmla="val 50000"/>
              <a:gd name="adj2" fmla="val 60216"/>
            </a:avLst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64000" y="4005360"/>
                <a:ext cx="30243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sz’t—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50872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, b, = 7 és 9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8360" y="1125360"/>
          <a:ext cx="5400720" cy="47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540072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012000" y="1700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nergiamérleg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932360" y="3406680"/>
                <a:ext cx="35272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Fda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755640" y="1773360"/>
          <a:ext cx="2695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2695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835600" y="1749600"/>
          <a:ext cx="268776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5600" y="1749600"/>
                    <a:ext cx="26877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187280" y="2060640"/>
          <a:ext cx="178776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060640"/>
                    <a:ext cx="1787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492360" y="1484280"/>
            <a:ext cx="863640" cy="504720"/>
          </a:xfrm>
          <a:prstGeom prst="wedgeRoundRectCallout">
            <a:avLst>
              <a:gd name="adj1" fmla="val -104962"/>
              <a:gd name="adj2" fmla="val 128300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1484280"/>
            <a:ext cx="863640" cy="504720"/>
          </a:xfrm>
          <a:prstGeom prst="wedgeRoundRectCallout">
            <a:avLst>
              <a:gd name="adj1" fmla="val 154597"/>
              <a:gd name="adj2" fmla="val 67296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084640"/>
            <a:ext cx="863640" cy="505080"/>
          </a:xfrm>
          <a:prstGeom prst="wedgeRoundRectCallout">
            <a:avLst>
              <a:gd name="adj1" fmla="val 90439"/>
              <a:gd name="adj2" fmla="val -339310"/>
              <a:gd name="adj3" fmla="val 16667"/>
            </a:avLst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5229360"/>
            <a:ext cx="863640" cy="504720"/>
          </a:xfrm>
          <a:prstGeom prst="wedgeRoundRectCallout">
            <a:avLst>
              <a:gd name="adj1" fmla="val 111949"/>
              <a:gd name="adj2" fmla="val -276416"/>
              <a:gd name="adj3" fmla="val 16667"/>
            </a:avLst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2492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cc"/>
                </a:solidFill>
                <a:uFillTx/>
                <a:latin typeface="Times New Roman"/>
              </a:rPr>
              <a:t>Atomsugarak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l  =0,181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s  =0,169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Na =  0,095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797440" y="2030400"/>
          <a:ext cx="2735280" cy="24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7440" y="2030400"/>
                    <a:ext cx="27352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1557360"/>
          <a:ext cx="7777080" cy="4133880"/>
        </p:xfrm>
        <a:graphic>
          <a:graphicData uri="http://schemas.openxmlformats.org/drawingml/2006/table">
            <a:tbl>
              <a:tblPr/>
              <a:tblGrid>
                <a:gridCol w="2630880"/>
                <a:gridCol w="2572920"/>
                <a:gridCol w="257328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onos kötésű 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yület képlete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kötési energia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kJ/mol)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vadáspont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hu-H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s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9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8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7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6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01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127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23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583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580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932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ovalen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a legerősebb elsődleges kötés, gyémánt, kvarc, germánium, nagy rugalmassági modulu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olyan elemek között jön létre, amelyek elektro-negativitása között csekély a különbsé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kötésben két, vagy több atom vesz részt, olymódon, hogy a legkülső elektronhéjaikon lévő atomokat „megosztják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ovalen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70160" y="2205000"/>
          <a:ext cx="2517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2205000"/>
                    <a:ext cx="2517840" cy="2592360"/>
                  </a:xfrm>
                  <a:prstGeom prst="rect">
                    <a:avLst/>
                  </a:prstGeom>
                  <a:ln w="572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24000" y="2205000"/>
          <a:ext cx="173484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05000"/>
                    <a:ext cx="1734840" cy="2592360"/>
                  </a:xfrm>
                  <a:prstGeom prst="rect">
                    <a:avLst/>
                  </a:prstGeom>
                  <a:ln w="57240">
                    <a:solidFill>
                      <a:srgbClr val="ea2d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076720" y="1835280"/>
          <a:ext cx="3816360" cy="34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1835280"/>
                    <a:ext cx="3816360" cy="3411360"/>
                  </a:xfrm>
                  <a:prstGeom prst="rect">
                    <a:avLst/>
                  </a:prstGeom>
                  <a:ln w="38160">
                    <a:solidFill>
                      <a:srgbClr val="ea2d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immetrikus kovalens köté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543640" cy="37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Szimmetrikus töltés megosztá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szimmetrikus kovalens köté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szélsőségesen nagy keménység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szélsőségesen nagy szilárdság (pl. gyémánt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Nagy kötési energi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E=711 kJ/mol, </a:t>
            </a:r>
            <a:r>
              <a:rPr b="0" i="1" lang="hu-HU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cc"/>
                </a:solidFill>
                <a:latin typeface="Arial"/>
              </a:rPr>
              <a:t>olv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= 3550 </a:t>
            </a:r>
            <a:r>
              <a:rPr b="0" lang="hu-HU" sz="2400" spc="-1" strike="noStrike" baseline="30000">
                <a:solidFill>
                  <a:srgbClr val="0000cc"/>
                </a:solidFill>
                <a:latin typeface="Arial"/>
              </a:rPr>
              <a:t>o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151600" y="1600200"/>
          <a:ext cx="3031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1600" y="1600200"/>
                    <a:ext cx="3031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183280" y="1773360"/>
          <a:ext cx="3960720" cy="34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3280" y="1773360"/>
                    <a:ext cx="396072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6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H típusú kovalens kötés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1197000"/>
          <a:ext cx="396072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96072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39640" y="4508640"/>
            <a:ext cx="48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ea2d00"/>
                </a:solidFill>
                <a:uFillTx/>
                <a:latin typeface="Times New Roman"/>
              </a:rPr>
              <a:t>Kötési energia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Molekulában=1650 kJ/mo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Molekulák között:8 kJ/mol, Tolv=-183</a:t>
            </a:r>
            <a:r>
              <a:rPr b="1" lang="hu-HU" sz="20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867280" y="2276640"/>
          <a:ext cx="2713320" cy="32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76640"/>
                    <a:ext cx="27133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211640" y="119700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C6H6-típusú telítetlen benzol kötések (polimerek alapjai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40360" y="3141720"/>
            <a:ext cx="2736720" cy="1511280"/>
            <a:chOff x="4140360" y="3141720"/>
            <a:chExt cx="2736720" cy="1511280"/>
          </a:xfrm>
        </p:grpSpPr>
        <p:sp>
          <p:nvSpPr>
            <p:cNvPr id="274" name=""/>
            <p:cNvSpPr/>
            <p:nvPr/>
          </p:nvSpPr>
          <p:spPr>
            <a:xfrm>
              <a:off x="6156360" y="3933720"/>
              <a:ext cx="720720" cy="719280"/>
            </a:xfrm>
            <a:prstGeom prst="ellipse">
              <a:avLst/>
            </a:prstGeom>
            <a:solidFill>
              <a:srgbClr val="00cc99">
                <a:alpha val="15000"/>
              </a:srgbClr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0360" y="3141720"/>
              <a:ext cx="2087280" cy="503280"/>
            </a:xfrm>
            <a:prstGeom prst="wedgeEllipseCallout">
              <a:avLst>
                <a:gd name="adj1" fmla="val 53347"/>
                <a:gd name="adj2" fmla="val 16956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vegyérté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sődleges, erős kötés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: fémek, fémtermészetű elemek jellegzetes köté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fém-iono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itüntetett pontokban (az ún.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rácspontok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-ban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helyhez kötöttek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vegyérték-elektronok, mint szabad elektronok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ektrongáz, elektronfelh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formájában viszonylag szabadon mozog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zzel magyarázható a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hő- és villamos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vezet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-képessé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féme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nagy szilárdsága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és egyidejűleg viszonylag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alakíthatóság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NYAGOK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95640" y="0"/>
            <a:ext cx="2016000" cy="1800360"/>
            <a:chOff x="3995640" y="0"/>
            <a:chExt cx="2016000" cy="1800360"/>
          </a:xfrm>
        </p:grpSpPr>
        <p:sp>
          <p:nvSpPr>
            <p:cNvPr id="62" name=""/>
            <p:cNvSpPr/>
            <p:nvPr/>
          </p:nvSpPr>
          <p:spPr>
            <a:xfrm>
              <a:off x="3995640" y="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67280" y="7308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cél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Öntöttvasa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ém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Fémötvözet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40360" y="4149720"/>
            <a:ext cx="2016000" cy="1813320"/>
            <a:chOff x="5940360" y="4149720"/>
            <a:chExt cx="2016000" cy="1813320"/>
          </a:xfrm>
        </p:grpSpPr>
        <p:sp>
          <p:nvSpPr>
            <p:cNvPr id="65" name=""/>
            <p:cNvSpPr/>
            <p:nvPr/>
          </p:nvSpPr>
          <p:spPr>
            <a:xfrm>
              <a:off x="5940360" y="414972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2000" y="4222800"/>
              <a:ext cx="194436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C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Aluminá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Kerámiá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32720" y="1628640"/>
            <a:ext cx="2016000" cy="1800360"/>
            <a:chOff x="6732720" y="1628640"/>
            <a:chExt cx="2016000" cy="1800360"/>
          </a:xfrm>
        </p:grpSpPr>
        <p:sp>
          <p:nvSpPr>
            <p:cNvPr id="68" name=""/>
            <p:cNvSpPr/>
            <p:nvPr/>
          </p:nvSpPr>
          <p:spPr>
            <a:xfrm>
              <a:off x="6732720" y="1628640"/>
              <a:ext cx="2016000" cy="1800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360" y="1701720"/>
              <a:ext cx="19443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Gumi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lasztomerek</a:t>
              </a:r>
              <a:endParaRPr b="0" lang="en-US" sz="22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Szilik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195640" y="4149720"/>
            <a:ext cx="2016000" cy="1800360"/>
            <a:chOff x="2195640" y="4149720"/>
            <a:chExt cx="2016000" cy="1800360"/>
          </a:xfrm>
        </p:grpSpPr>
        <p:sp>
          <p:nvSpPr>
            <p:cNvPr id="71" name=""/>
            <p:cNvSpPr/>
            <p:nvPr/>
          </p:nvSpPr>
          <p:spPr>
            <a:xfrm>
              <a:off x="2195640" y="4149720"/>
              <a:ext cx="2016000" cy="180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7280" y="422280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ód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ea2d00"/>
                  </a:solidFill>
                  <a:uFillTx/>
                  <a:latin typeface="Times New Roman"/>
                </a:rPr>
                <a:t>Üveg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ilik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16000" y="1557360"/>
            <a:ext cx="2016000" cy="1800360"/>
            <a:chOff x="1116000" y="1557360"/>
            <a:chExt cx="2016000" cy="1800360"/>
          </a:xfrm>
        </p:grpSpPr>
        <p:sp>
          <p:nvSpPr>
            <p:cNvPr id="74" name=""/>
            <p:cNvSpPr/>
            <p:nvPr/>
          </p:nvSpPr>
          <p:spPr>
            <a:xfrm>
              <a:off x="1116000" y="1557360"/>
              <a:ext cx="2016000" cy="180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7640" y="163044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E, PP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K, Neyl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olimer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Epoxy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95640" y="2492280"/>
            <a:ext cx="2016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2255760"/>
            <a:ext cx="194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ibrid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ársíto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201600">
            <a:off x="3815280" y="3751920"/>
            <a:ext cx="505080" cy="1008000"/>
          </a:xfrm>
          <a:prstGeom prst="upDownArrow">
            <a:avLst>
              <a:gd name="adj1" fmla="val 50000"/>
              <a:gd name="adj2" fmla="val 3973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900000">
            <a:off x="5651640" y="386028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4169400">
            <a:off x="6083640" y="249336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64880" y="1557360"/>
            <a:ext cx="2354400" cy="1824840"/>
            <a:chOff x="2864880" y="1557360"/>
            <a:chExt cx="2354400" cy="1824840"/>
          </a:xfrm>
        </p:grpSpPr>
        <p:sp>
          <p:nvSpPr>
            <p:cNvPr id="82" name=""/>
            <p:cNvSpPr/>
            <p:nvPr/>
          </p:nvSpPr>
          <p:spPr>
            <a:xfrm rot="17400000">
              <a:off x="3240000" y="2371680"/>
              <a:ext cx="504720" cy="1152360"/>
            </a:xfrm>
            <a:prstGeom prst="upDownArrow">
              <a:avLst>
                <a:gd name="adj1" fmla="val 50000"/>
                <a:gd name="adj2" fmla="val 45452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4560" y="155736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97720" y="965880"/>
            <a:ext cx="5740920" cy="4407840"/>
            <a:chOff x="2097720" y="965880"/>
            <a:chExt cx="5740920" cy="4407840"/>
          </a:xfrm>
        </p:grpSpPr>
        <p:sp>
          <p:nvSpPr>
            <p:cNvPr id="85" name=""/>
            <p:cNvSpPr/>
            <p:nvPr/>
          </p:nvSpPr>
          <p:spPr>
            <a:xfrm rot="3600000">
              <a:off x="3265920" y="775440"/>
              <a:ext cx="505080" cy="1636560"/>
            </a:xfrm>
            <a:prstGeom prst="upDownArrow">
              <a:avLst>
                <a:gd name="adj1" fmla="val 50000"/>
                <a:gd name="adj2" fmla="val 6450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8000000">
              <a:off x="6290280" y="847080"/>
              <a:ext cx="504720" cy="1636920"/>
            </a:xfrm>
            <a:prstGeom prst="upDownArrow">
              <a:avLst>
                <a:gd name="adj1" fmla="val 50000"/>
                <a:gd name="adj2" fmla="val 6456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400000">
              <a:off x="2279520" y="3209400"/>
              <a:ext cx="505080" cy="1152720"/>
            </a:xfrm>
            <a:prstGeom prst="upDownArrow">
              <a:avLst>
                <a:gd name="adj1" fmla="val 50000"/>
                <a:gd name="adj2" fmla="val 4543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4858920" y="4076640"/>
              <a:ext cx="504720" cy="2089080"/>
            </a:xfrm>
            <a:prstGeom prst="upDownArrow">
              <a:avLst>
                <a:gd name="adj1" fmla="val 50000"/>
                <a:gd name="adj2" fmla="val 8239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200000">
              <a:off x="7164360" y="328464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1628640"/>
          <a:ext cx="9936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936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181080" y="1628640"/>
          <a:ext cx="39610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628640"/>
                    <a:ext cx="39610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841920" y="1268280"/>
          <a:ext cx="5266800" cy="4525560"/>
        </p:xfrm>
        <a:graphic>
          <a:graphicData uri="http://schemas.openxmlformats.org/drawingml/2006/table">
            <a:tbl>
              <a:tblPr/>
              <a:tblGrid>
                <a:gridCol w="1756080"/>
                <a:gridCol w="1754640"/>
                <a:gridCol w="1756080"/>
              </a:tblGrid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z elem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gyjel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ötési energia E(kJ/mol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lvadás-pont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 (</a:t>
                      </a:r>
                      <a:r>
                        <a:rPr b="1" lang="hu-HU" sz="2000" spc="-1" strike="noStrike" baseline="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9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73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73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03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6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Másodlagos kötés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dipólus két azonos nagyságú, de ellentétes töltés különválásával jön létr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kötés hajtóereje a molekulákban lévő elektromos dipólusok közötti vonzerő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agyságrendekkel kisebb kötési energia  (4-40 kJ/mol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0" y="1484280"/>
          <a:ext cx="399096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84280"/>
                    <a:ext cx="39909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64000" y="3284640"/>
          <a:ext cx="224640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284640"/>
                    <a:ext cx="224640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51640" y="1341360"/>
                <a:ext cx="1873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émek, fémes anyag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363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émes fény, karakterisztikus szí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jó hő- és villamos vezetőképessé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kristályos szerkezet, hosszú távú atomos rendezettsé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nagy szilárdsá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jó alakíthatósá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3000">
    <p:cover dir="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z anyagok kristályos szerkezet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ristályos szilárd anyagok jellemzői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osszútávú atomos rendezettség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abályos térbeli ismétlődé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ristálytani alapfogalmak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térrács fogalm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térrács kitüntetett pontjai, a rácspontok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z elemi cella fogalm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3000">
    <p:cover dir="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3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Kristályrendszerek leírásának szükséges és elégséges feltételei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árom irány (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x, y, z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 beleértve az irányok által bezárt szögeket is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három irányban mért, az atomok periodicitását jel-lemző távolságok (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a, b, c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, a 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rácsparaméter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075280" y="1376280"/>
          <a:ext cx="4392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5280" y="1376280"/>
                    <a:ext cx="4392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700280"/>
          <a:ext cx="417672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17672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24360" y="1413000"/>
          <a:ext cx="5219640" cy="38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413000"/>
                    <a:ext cx="521964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626720" y="512604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osszú távú rendezettség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, </a:t>
            </a:r>
            <a:br>
              <a:rPr sz="3600"/>
            </a:br>
            <a:r>
              <a:rPr b="1" lang="hu-HU" sz="3600" spc="-1" strike="noStrike" u="sng">
                <a:solidFill>
                  <a:srgbClr val="ea2d00"/>
                </a:solidFill>
                <a:uFillTx/>
                <a:latin typeface="Arial"/>
              </a:rPr>
              <a:t>BRAVA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447920"/>
          <a:ext cx="80643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7920"/>
                    <a:ext cx="80643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Köbö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868400"/>
          <a:ext cx="29163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8400"/>
                    <a:ext cx="29163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771640" y="1773360"/>
          <a:ext cx="3816360" cy="26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381636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796000" y="1916280"/>
          <a:ext cx="3492360" cy="24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1916280"/>
                    <a:ext cx="34923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50920" y="4724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472428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4560" y="471492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Tetra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onál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79600" y="1989000"/>
          <a:ext cx="20016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89000"/>
                    <a:ext cx="2001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89280" y="1989000"/>
          <a:ext cx="2060640" cy="25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9280" y="1989000"/>
                    <a:ext cx="2060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50920" y="4724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72428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54560" y="471492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516720" y="1916280"/>
          <a:ext cx="2003400" cy="24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916280"/>
                    <a:ext cx="20034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– Tartalék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9417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felfedezetle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12160" y="2583360"/>
            <a:ext cx="20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Gazdaságtala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11640" y="3427200"/>
            <a:ext cx="1440000" cy="1655640"/>
            <a:chOff x="4211640" y="3427200"/>
            <a:chExt cx="1440000" cy="1655640"/>
          </a:xfrm>
        </p:grpSpPr>
        <p:sp>
          <p:nvSpPr>
            <p:cNvPr id="94" name=""/>
            <p:cNvSpPr/>
            <p:nvPr/>
          </p:nvSpPr>
          <p:spPr>
            <a:xfrm rot="16200000">
              <a:off x="3674160" y="396468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utatás fejlesztése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9280" y="4149720"/>
              <a:ext cx="792360" cy="287280"/>
            </a:xfrm>
            <a:prstGeom prst="rightArrow">
              <a:avLst>
                <a:gd name="adj1" fmla="val 50000"/>
                <a:gd name="adj2" fmla="val 6895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19280" y="1916280"/>
            <a:ext cx="4321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1916280"/>
            <a:ext cx="0" cy="34574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373720"/>
            <a:ext cx="49687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54450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Geológiai eszközrendszer fejlődés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1197000"/>
            <a:ext cx="0" cy="4176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700560" y="31575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ibányászási technológia fejlődés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3645000"/>
            <a:ext cx="2592360" cy="1728720"/>
            <a:chOff x="1619280" y="3645000"/>
            <a:chExt cx="2592360" cy="1728720"/>
          </a:xfrm>
        </p:grpSpPr>
        <p:sp>
          <p:nvSpPr>
            <p:cNvPr id="103" name=""/>
            <p:cNvSpPr/>
            <p:nvPr/>
          </p:nvSpPr>
          <p:spPr>
            <a:xfrm>
              <a:off x="1619280" y="3645000"/>
              <a:ext cx="2592360" cy="1728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640" y="4292640"/>
              <a:ext cx="1584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ELTÁR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1087560" y="4390560"/>
              <a:ext cx="150984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GAZDASÁGOS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79640" y="2349360"/>
            <a:ext cx="2374920" cy="1228680"/>
            <a:chOff x="1979640" y="2349360"/>
            <a:chExt cx="2374920" cy="1228680"/>
          </a:xfrm>
        </p:grpSpPr>
        <p:sp>
          <p:nvSpPr>
            <p:cNvPr id="107" name=""/>
            <p:cNvSpPr/>
            <p:nvPr/>
          </p:nvSpPr>
          <p:spPr>
            <a:xfrm>
              <a:off x="1979640" y="2997360"/>
              <a:ext cx="237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itermelési technológia fejlődése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6360" y="2349360"/>
              <a:ext cx="360360" cy="648000"/>
            </a:xfrm>
            <a:prstGeom prst="upArrow">
              <a:avLst>
                <a:gd name="adj1" fmla="val 50000"/>
                <a:gd name="adj2" fmla="val 4495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Hexa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onál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1627200"/>
          <a:ext cx="295128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7200"/>
                    <a:ext cx="29512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971640" y="4797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65300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ömö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788000" y="1700280"/>
          <a:ext cx="288108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700280"/>
                    <a:ext cx="2881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ea2d00"/>
                </a:solidFill>
                <a:uFillTx/>
                <a:latin typeface="Arial"/>
              </a:rPr>
              <a:t>Ortorombos</a:t>
            </a: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24000" y="1844640"/>
          <a:ext cx="16794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1679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376360" y="1773360"/>
          <a:ext cx="173376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1773360"/>
                    <a:ext cx="173376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788000" y="1844640"/>
          <a:ext cx="162540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844640"/>
                    <a:ext cx="16254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-181080" y="4797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0072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1056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Alaplap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020000" y="1844640"/>
          <a:ext cx="1679400" cy="22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844640"/>
                    <a:ext cx="1679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Monoklin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00240" y="1844640"/>
          <a:ext cx="24526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844640"/>
                    <a:ext cx="24526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16000" y="4797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19640" y="458136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Alaplap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076720" y="1700280"/>
          <a:ext cx="2413080" cy="282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00280"/>
                    <a:ext cx="241308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Egyéb primitív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1640" y="5013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omboéder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494172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rikli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4360" y="1773360"/>
          <a:ext cx="40384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40384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219640" y="1557360"/>
          <a:ext cx="2621160" cy="30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557360"/>
                    <a:ext cx="262116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-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Energiatartalo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6440"/>
            <a:ext cx="3959280" cy="3166920"/>
          </a:xfrm>
          <a:prstGeom prst="rightArrowCallout">
            <a:avLst>
              <a:gd name="adj1" fmla="val 25002"/>
              <a:gd name="adj2" fmla="val 25000"/>
              <a:gd name="adj3" fmla="val 20837"/>
              <a:gd name="adj4" fmla="val 6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5506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2347560"/>
            <a:ext cx="2737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ibányászá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Őrlé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úsítá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075120"/>
            <a:ext cx="403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iaszükséglete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Néhány anyag ENERGIATARTALM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24000" y="-1035000"/>
          <a:ext cx="4248000" cy="6765840"/>
        </p:xfrm>
        <a:graphic>
          <a:graphicData uri="http://schemas.openxmlformats.org/drawingml/2006/table">
            <a:tbl>
              <a:tblPr/>
              <a:tblGrid>
                <a:gridCol w="1627200"/>
                <a:gridCol w="2620800"/>
              </a:tblGrid>
              <a:tr h="271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  <a:ea typeface="Arial"/>
                        </a:rPr>
                        <a:t>Anyag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  <a:ea typeface="Arial"/>
                        </a:rPr>
                        <a:t>Energiatartalom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vics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Fa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,5-7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égla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e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Üve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Szé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Olaj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ÉL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ink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éz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40-30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űanya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5-18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uminium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6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ára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(Acél=1, Arany=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  <a:ea typeface="Arial"/>
              </a:rPr>
              <a:t>20000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46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,3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- Ötvözött 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4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- Al, Cu és ötvözete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4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-  Zn és ötvözete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   - Szerszám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- Rozsdamentes 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- Mg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70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- Co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1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  - Ti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2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  - Ni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500   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  <a:ea typeface="Arial"/>
              </a:rPr>
              <a:t>- Wolfram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15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- Ezü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56000" y="1125000"/>
            <a:ext cx="4788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3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- Műanyagok (PE, PVC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3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- Gum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3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- Ólo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 - Furné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2.5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- Kemény f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4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- Bronz, Üve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5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- Poliész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7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- PMM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- GFRP, epoxy, P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5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- Nylon 6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7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- S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yagfogyasztás exponenciális növekedés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1052640"/>
            <a:ext cx="56880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2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t=t</a:t>
            </a:r>
            <a:r>
              <a:rPr b="1" lang="hu-HU" sz="2000" spc="-1" strike="noStrike" baseline="-25000">
                <a:solidFill>
                  <a:srgbClr val="ea2d00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időillantban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C</a:t>
            </a:r>
            <a:r>
              <a:rPr b="1" lang="hu-HU" sz="2000" spc="-1" strike="noStrike" baseline="-25000">
                <a:solidFill>
                  <a:srgbClr val="ea2d00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mennyiséget használunk f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Évenkénti növekedés =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r (%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Évenként felhasznált mennyiség változása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dC/dt=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(r/100),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dC/C=dt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(r/100),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4537800">
            <a:off x="3816720" y="2527560"/>
            <a:ext cx="647640" cy="12970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4000" y="1628280"/>
            <a:ext cx="4032000" cy="4215600"/>
            <a:chOff x="324000" y="1628280"/>
            <a:chExt cx="4032000" cy="4215600"/>
          </a:xfrm>
        </p:grpSpPr>
        <p:sp>
          <p:nvSpPr>
            <p:cNvPr id="123" name=""/>
            <p:cNvSpPr/>
            <p:nvPr/>
          </p:nvSpPr>
          <p:spPr>
            <a:xfrm>
              <a:off x="2916360" y="4076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24000" y="1628280"/>
              <a:ext cx="4032000" cy="4215600"/>
              <a:chOff x="324000" y="1628280"/>
              <a:chExt cx="4032000" cy="42156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339640" y="3357720"/>
                <a:ext cx="1152360" cy="158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16360" y="4149720"/>
                <a:ext cx="0" cy="1295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24000" y="1628280"/>
                <a:ext cx="4032000" cy="4215600"/>
                <a:chOff x="324000" y="1628280"/>
                <a:chExt cx="4032000" cy="421560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324000" y="1628280"/>
                  <a:ext cx="3744720" cy="4215600"/>
                  <a:chOff x="324000" y="1628280"/>
                  <a:chExt cx="3744720" cy="42156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16200000">
                    <a:off x="-1492560" y="3444840"/>
                    <a:ext cx="4032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Fogyasztás, (Tonna/év)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276720" y="544500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Idő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4360" y="2133720"/>
                  <a:ext cx="3671640" cy="3680640"/>
                  <a:chOff x="684360" y="2133720"/>
                  <a:chExt cx="3671640" cy="368064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826920" y="2133720"/>
                    <a:ext cx="3529080" cy="3313080"/>
                    <a:chOff x="826920" y="2133720"/>
                    <a:chExt cx="3529080" cy="33130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900000" y="2133720"/>
                      <a:ext cx="0" cy="3313080"/>
                    </a:xfrm>
                    <a:prstGeom prst="line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900000" y="5445000"/>
                      <a:ext cx="3456000" cy="0"/>
                    </a:xfrm>
                    <a:prstGeom prst="line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900000" y="2708280"/>
                      <a:ext cx="2664000" cy="23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7" h="1770">
                          <a:moveTo>
                            <a:pt x="0" y="1732"/>
                          </a:moveTo>
                          <a:cubicBezTo>
                            <a:pt x="41" y="1751"/>
                            <a:pt x="82" y="1770"/>
                            <a:pt x="226" y="1732"/>
                          </a:cubicBezTo>
                          <a:cubicBezTo>
                            <a:pt x="370" y="1694"/>
                            <a:pt x="681" y="1649"/>
                            <a:pt x="862" y="1505"/>
                          </a:cubicBezTo>
                          <a:cubicBezTo>
                            <a:pt x="1043" y="1361"/>
                            <a:pt x="1202" y="1097"/>
                            <a:pt x="1315" y="870"/>
                          </a:cubicBezTo>
                          <a:cubicBezTo>
                            <a:pt x="1428" y="643"/>
                            <a:pt x="1497" y="288"/>
                            <a:pt x="1542" y="144"/>
                          </a:cubicBezTo>
                          <a:cubicBezTo>
                            <a:pt x="1587" y="0"/>
                            <a:pt x="1580" y="31"/>
                            <a:pt x="1587" y="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26920" y="4581360"/>
                      <a:ext cx="50328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684360" y="5373720"/>
                    <a:ext cx="502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t</a:t>
                    </a:r>
                    <a:r>
                      <a:rPr b="1" lang="en-US" sz="2000" spc="-1" strike="noStrike" baseline="-25000">
                        <a:solidFill>
                          <a:srgbClr val="0000cc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8" name=""/>
          <p:cNvSpPr/>
          <p:nvPr/>
        </p:nvSpPr>
        <p:spPr>
          <a:xfrm>
            <a:off x="3203640" y="4869000"/>
            <a:ext cx="5581440" cy="440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A felhasználás kétszereződése: t</a:t>
            </a:r>
            <a:r>
              <a:rPr b="1" lang="hu-HU" sz="20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= lg2 100/r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~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0/r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00280"/>
            <a:ext cx="4681800" cy="10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Adott évben (t) felhasznált mennyiség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C=C</a:t>
            </a:r>
            <a:r>
              <a:rPr b="1" lang="hu-HU" sz="24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 exp </a:t>
            </a:r>
            <a:r>
              <a:rPr b="1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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(t-t</a:t>
            </a:r>
            <a:r>
              <a:rPr b="1" lang="hu-HU" sz="24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)(r/100)</a:t>
            </a:r>
            <a:r>
              <a:rPr b="1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28000" y="2492280"/>
            <a:ext cx="201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84000" y="119700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azdaságosság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Általános fiz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chan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őtani, termikus sajátosságo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llamos és mágne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örnyezette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yárthatóság, technológi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sztét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09-19T09:27:38Z</dcterms:modified>
  <cp:revision>93</cp:revision>
  <dc:subject/>
  <dc:title>Nincs diacím</dc:title>
</cp:coreProperties>
</file>