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10.wmf" ContentType="image/x-wmf"/>
  <Override PartName="/ppt/media/image47.wmf" ContentType="image/x-wmf"/>
  <Override PartName="/ppt/media/image2.png" ContentType="image/png"/>
  <Override PartName="/ppt/media/image25.png" ContentType="image/png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62.wmf" ContentType="image/x-wmf"/>
  <Override PartName="/ppt/media/image63.wmf" ContentType="image/x-wmf"/>
  <Override PartName="/ppt/media/image26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23.wmf" ContentType="image/x-wmf"/>
  <Override PartName="/ppt/media/image58.wmf" ContentType="image/x-wmf"/>
  <Override PartName="/ppt/media/image60.jpeg" ContentType="image/jpeg"/>
  <Override PartName="/ppt/media/image21.wmf" ContentType="image/x-wmf"/>
  <Override PartName="/ppt/media/image57.wmf" ContentType="image/x-wmf"/>
  <Override PartName="/ppt/media/image20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22320" y="773280"/>
            <a:ext cx="495288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21400"/>
            <a:ext cx="498456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5202-111A-46B5-BD96-A71C866C694B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D7CD-2152-4E3D-833A-20BAF581A93F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BA9E-6B92-4B34-B570-9ED2839F7A51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EBDE-A05F-4651-BE68-2941F4E7007E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D20C-4F4A-417D-9592-780ECD136147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C16A-35ED-4793-85D0-5B1D99115FA0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81AE-6556-46F4-9AF6-A1F91F53DBE1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D8DA-78F7-4753-89E9-BE57F61699FE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D042-0470-49DC-8FD7-F3A5BAA98423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C7EB-6F20-44E7-9F3F-9DB87BC2E3CA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9350-DEA5-452C-9DCD-678A407303C7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4E8E-F790-402B-8DD2-CE9EC207F875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16C4-E482-4A34-958F-B91BECA1F982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354C-96A5-4E81-BA87-84111A0FC882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1753-5DCD-4DC5-AD5C-0850F6F1B143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EC4A-7609-4725-AA7D-D46E2CB8EE66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0EAA-87A2-4D55-8FD7-83ED8D6607CE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4B29-D252-41A4-8341-9E9AF9C2E518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9C9F-ED71-4BA0-B28E-04C22C96F0B4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4957-21D6-42FC-BD78-ECBA8A87678A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61EC-3854-4FE6-914E-3764329D94CC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7D1A-8101-438A-81DC-8093B9A53FE7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803E-22DD-40DA-872D-E2332CB6D296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956-F128-4191-9CF5-420E1AB3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7E7-7094-47C1-9B87-3956F483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578-8531-4E0F-AD65-1E885BCD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828-D085-4B7F-BB09-D00F867C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292-0EF7-496C-B70F-4F15F0CF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5FE-D401-406C-8DEE-92108F8A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9BF-ACEA-4D18-9DC1-E847F05F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273-B4E0-489A-AD9C-3A386E27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071-DE14-4638-A89B-9135792C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0F7-4EA5-488C-B192-E48C74DD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2DA-3EE9-4B7C-BA90-489CF7CF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269-CEE9-4CA4-8061-EE014A38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4F0D-9279-48DC-B459-6AFC4ACF89B0}" type="slidenum">
              <a:rPr b="0" lang="hu-HU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61960" y="5943600"/>
            <a:ext cx="8089920" cy="762120"/>
          </a:xfrm>
          <a:prstGeom prst="rect">
            <a:avLst/>
          </a:prstGeom>
          <a:solidFill>
            <a:srgbClr val="ccccff">
              <a:alpha val="5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85800" y="6095880"/>
            <a:ext cx="492120" cy="533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295280" y="6095880"/>
            <a:ext cx="68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NYAGISMERET I.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2008/2009 I. félév. Debrecen, 2008. október 13.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93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30320" y="1484280"/>
            <a:ext cx="5449320" cy="3949560"/>
            <a:chOff x="130320" y="1484280"/>
            <a:chExt cx="5449320" cy="3949560"/>
          </a:xfrm>
        </p:grpSpPr>
        <p:sp>
          <p:nvSpPr>
            <p:cNvPr id="54" name=""/>
            <p:cNvSpPr/>
            <p:nvPr/>
          </p:nvSpPr>
          <p:spPr>
            <a:xfrm>
              <a:off x="130320" y="1484280"/>
              <a:ext cx="5449320" cy="394956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209880" y="1600920"/>
              <a:ext cx="5302800" cy="375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5105520" y="1844640"/>
            <a:ext cx="4038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Prof. Tóth László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gyetemi tanár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0-9-322-690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laszlo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@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zlogi.hu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Times New Roman"/>
              </a:rPr>
              <a:t>http:</a:t>
            </a:r>
            <a:r>
              <a:rPr b="1" lang="hu-HU" sz="3200" spc="-1" strike="noStrike">
                <a:solidFill>
                  <a:srgbClr val="000099"/>
                </a:solidFill>
                <a:latin typeface="Times New Roman"/>
              </a:rPr>
              <a:t>//</a:t>
            </a:r>
            <a:r>
              <a:rPr b="0" lang="hu-HU" sz="3200" spc="-1" strike="noStrike">
                <a:solidFill>
                  <a:srgbClr val="000099"/>
                </a:solidFill>
                <a:latin typeface="Times New Roman"/>
              </a:rPr>
              <a:t>edu.bzlogi.hu</a:t>
            </a:r>
            <a:r>
              <a:rPr b="1" lang="hu-HU" sz="3200" spc="-1" strike="noStrike">
                <a:solidFill>
                  <a:srgbClr val="000099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ANYAGISMERET I. (4 kredit)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z alakváltozás nem így megy végbe!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5720" y="640080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6.11. ábr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71640" y="1511280"/>
          <a:ext cx="6769080" cy="42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11280"/>
                    <a:ext cx="6769080" cy="42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Hanem így, lépésekben!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052640"/>
          <a:ext cx="290052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290052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908000" y="1268280"/>
          <a:ext cx="4608720" cy="442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1268280"/>
                    <a:ext cx="460872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796000" y="2852640"/>
          <a:ext cx="3348000" cy="319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6000" y="2852640"/>
                    <a:ext cx="3348000" cy="31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000099"/>
                </a:solidFill>
                <a:uFillTx/>
                <a:latin typeface="Arial"/>
              </a:rPr>
              <a:t>A diszlokációs mechanizmu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csúszási mechanizmus tehát a </a:t>
            </a:r>
            <a:r>
              <a:rPr b="0" lang="hu-HU" sz="2800" spc="-1" strike="noStrike">
                <a:solidFill>
                  <a:srgbClr val="0000cc"/>
                </a:solidFill>
                <a:latin typeface="Arial"/>
              </a:rPr>
              <a:t>diszlokációs mechanizmus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 révén realizálódi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diszlokációk mozgásuk közben egymással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reakcióba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 lépne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egyesek megszűnhetnek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2d00"/>
                </a:solidFill>
                <a:latin typeface="Arial"/>
              </a:rPr>
              <a:t>de a jellemző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az új diszlokációk keletkezése,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a diszlokációk számának növekedése, a diszlokációk sokszorozódása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diszlokáció sűrűség növekedé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az alakváltozó kristály energiaszintjének növekedés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Polikrisztallin fémek képlékeny alakváltoz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kiindulási állapot: az izotróp anyag fogalma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Csúszósíkok statisztikusan rendezetlen elhelyezkedése alakítatlan polikrisztallin fémekbe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03640" y="3789360"/>
          <a:ext cx="43210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789360"/>
                    <a:ext cx="43210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 szemcseszerkezet változása a képlékeny alakítás hatásár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2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A szemcsék az alakítás irányában torzulna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Az eredetileg statisztikusan rendezetlen elhelyezkedésű csúszósíkok a húzóerő irányába befordulna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meghatározott kristálytani rendezettség, </a:t>
            </a: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alakítási textúra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alakul k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következménye: a mechanikai tulajdonságok </a:t>
            </a: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anizotrópiáj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8000" y="2997360"/>
          <a:ext cx="367380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997360"/>
                    <a:ext cx="36738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A maradó alakváltozás következményei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maradó alakváltozás hatására a fémek és ötvözetek számos tulajdonsága megváltozi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hu-HU" sz="2400" spc="-1" strike="noStrike" u="sng">
                <a:solidFill>
                  <a:srgbClr val="ea2d00"/>
                </a:solidFill>
                <a:uFillTx/>
                <a:latin typeface="Arial"/>
              </a:rPr>
              <a:t>szerkezet-érzéketlen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tulajdonságok (a fizikai és kémiai jellemzők) változása jelentéktele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hu-HU" sz="2400" spc="-1" strike="noStrike" u="sng">
                <a:solidFill>
                  <a:srgbClr val="ea2d00"/>
                </a:solidFill>
                <a:uFillTx/>
                <a:latin typeface="Arial"/>
              </a:rPr>
              <a:t>szerkezet-érzékeny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tulajdonságok (az alakváltozási és szilárdsági jellemzők) változása igen jelentő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változások csak a rekrisztallizációs hőmérséklet alatt végzett alakítás esetén érzékelhető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Ennek következményei: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2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A szemcsék az alakítás irányában torzulna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Az eredetileg statisztikusan rendezetlen elhelyezkedésű csúszósíkok a húzóerő irányába befordulna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meghatározott kristálytani rendezettség, </a:t>
            </a: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alakítási textúra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alakul k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következménye: a mechanikai tulajdonságok </a:t>
            </a: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anizotrópiáj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79640" y="2836800"/>
          <a:ext cx="352908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36800"/>
                    <a:ext cx="35290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z alakítási keményedés hat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63640" y="981000"/>
          <a:ext cx="5616720" cy="47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5616720" cy="47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 kritikus csúsztatófeszültség változása különböző kristályrendszerű fémeknél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16000" y="1557360"/>
          <a:ext cx="5400720" cy="43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57360"/>
                    <a:ext cx="540072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5940360" y="4005360"/>
            <a:ext cx="2951280" cy="1081080"/>
          </a:xfrm>
          <a:prstGeom prst="wedgeRoundRectCallout">
            <a:avLst>
              <a:gd name="adj1" fmla="val -72699"/>
              <a:gd name="adj2" fmla="val 30763"/>
              <a:gd name="adj3" fmla="val 16667"/>
            </a:avLst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exagonális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(3 csúszási rendszer)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1280" y="2060640"/>
            <a:ext cx="2951280" cy="1081080"/>
          </a:xfrm>
          <a:prstGeom prst="wedgeRoundRectCallout">
            <a:avLst>
              <a:gd name="adj1" fmla="val -97013"/>
              <a:gd name="adj2" fmla="val -3449"/>
              <a:gd name="adj3" fmla="val 16667"/>
            </a:avLst>
          </a:prstGeom>
          <a:solidFill>
            <a:srgbClr val="0000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f.k.k.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12 csúszási rendszer)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Oka: </a:t>
            </a:r>
            <a:r>
              <a:rPr b="1" lang="hu-HU" sz="4000" spc="-1" strike="noStrike" u="sng">
                <a:solidFill>
                  <a:srgbClr val="ea2d00"/>
                </a:solidFill>
                <a:uFillTx/>
                <a:latin typeface="Arial"/>
              </a:rPr>
              <a:t>diszlokációk sokszorozódása</a:t>
            </a:r>
            <a:br>
              <a:rPr sz="4000"/>
            </a:b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765000"/>
          <a:ext cx="867564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67564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340000" y="5229360"/>
            <a:ext cx="4681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(Frank-Read forrás)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Október 13.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4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UDIUS meggyilkolás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(4. felesége, péntek 13.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07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V. (Szép)FÜLÖP francia király a templomos lovagok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2000 tagját letartóztatja és javaikat elkoboztatj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04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LOTZ Károly festőművész halál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07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DAJKA Margit születés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15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S-TORRES Béla halála (sz. 1890.04.20, 400 m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gyorson világcsúcstartó (1912, 5:28,4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21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Yves MONDTAN francia sanzonénekes, színész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születés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67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A Mikroszkóp Színpad megnyitás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675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 megváltozott tulajdonságok visszaállít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7487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z alakváltozás miatt </a:t>
            </a:r>
            <a:r>
              <a:rPr b="1" lang="en-US" sz="2800" spc="-1" strike="noStrike">
                <a:solidFill>
                  <a:srgbClr val="ea2d00"/>
                </a:solidFill>
                <a:latin typeface="Arial"/>
              </a:rPr>
              <a:t>megnövekedett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nergia-szint az egyensúlyitól eltér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az energia csökkenni igyekszi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csak az atomok szilárd állapotban való mozgásával, </a:t>
            </a:r>
            <a:r>
              <a:rPr b="1" lang="en-US" sz="2600" spc="-1" strike="noStrike">
                <a:solidFill>
                  <a:srgbClr val="ea2d00"/>
                </a:solidFill>
                <a:latin typeface="Arial"/>
              </a:rPr>
              <a:t>diffúzióval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 mehet végbe </a:t>
            </a:r>
            <a:r>
              <a:rPr b="0" lang="en-US" sz="26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 ez az </a:t>
            </a:r>
            <a:r>
              <a:rPr b="1" lang="en-US" sz="2600" spc="-1" strike="noStrike" u="sng">
                <a:solidFill>
                  <a:srgbClr val="0000cc"/>
                </a:solidFill>
                <a:uFillTx/>
                <a:latin typeface="Arial"/>
              </a:rPr>
              <a:t>öndiffúzió</a:t>
            </a: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hajtóereje az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nergia-szintkülönbség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rendelkezésre ál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z aktiválási energiát a </a:t>
            </a:r>
            <a:r>
              <a:rPr b="1" lang="en-US" sz="2400" spc="-1" strike="noStrike">
                <a:solidFill>
                  <a:srgbClr val="ea2d00"/>
                </a:solidFill>
                <a:latin typeface="Arial"/>
              </a:rPr>
              <a:t>hőenergia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szolgáltatja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ezért kell a hőmérséklet változtatásának hatását elemezni az alakítás következtében megváltozott tulajdonságokra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Változások a hőmérséklet függvényében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00000" y="1700280"/>
          <a:ext cx="769644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769644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2268360" y="907920"/>
            <a:ext cx="4104000" cy="720720"/>
          </a:xfrm>
          <a:prstGeom prst="wedgeEllipseCallout">
            <a:avLst>
              <a:gd name="adj1" fmla="val -4273"/>
              <a:gd name="adj2" fmla="val 132379"/>
            </a:avLst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Újrakristályosodá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907920"/>
            <a:ext cx="2627280" cy="720720"/>
          </a:xfrm>
          <a:prstGeom prst="wedgeEllipseCallout">
            <a:avLst>
              <a:gd name="adj1" fmla="val 33143"/>
              <a:gd name="adj2" fmla="val 133041"/>
            </a:avLst>
          </a:prstGeom>
          <a:solidFill>
            <a:srgbClr val="0000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gújulá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907920"/>
            <a:ext cx="3492360" cy="720720"/>
          </a:xfrm>
          <a:prstGeom prst="wedgeEllipseCallout">
            <a:avLst>
              <a:gd name="adj1" fmla="val 453"/>
              <a:gd name="adj2" fmla="val 131939"/>
            </a:avLst>
          </a:prstGeom>
          <a:solidFill>
            <a:srgbClr val="ea2d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zemcsedurvulá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 megújulás jellemzői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991720" cy="444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z alakítás következtében felhalmozódott </a:t>
            </a:r>
            <a:r>
              <a:rPr b="1" lang="hu-HU" sz="2800" spc="-1" strike="noStrike" u="sng">
                <a:solidFill>
                  <a:srgbClr val="ea2d00"/>
                </a:solidFill>
                <a:uFillTx/>
                <a:latin typeface="Arial"/>
              </a:rPr>
              <a:t>energia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szubmikroszkópikus méretekben csökke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megváltozott tulajdonságok az eredeti tulajdon-ságok irányában változnak a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kristályszerkezet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számottevő változása nélkü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egyes fizikai (hőelektromos erő, vill. ellenállás) jellemzők változása jelentő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a mechanikai tulajdonságok változása csekély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a szilárdsági jellemzők enyhén csökkennek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az alakváltozási jellemzők enyhén növekednek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A poligonizáció, mint szerkezeti megújulás</a:t>
            </a:r>
            <a:r>
              <a:rPr b="1" lang="hu-HU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280" y="1700280"/>
          <a:ext cx="89917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00280"/>
                    <a:ext cx="8991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z újrakristályosodá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z újrakristályosodás fogalma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z újrakristályosodás fő típusai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Arial"/>
              </a:rPr>
              <a:t>primer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újrakristályosodá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II. tartományában megy végb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2d00"/>
                </a:solidFill>
                <a:latin typeface="Arial"/>
              </a:rPr>
              <a:t>szekunder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újrakristályosodá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II. tartományában megy végbe ha ezen a hőmérsékletén túl hosszú ideig tartjuk a fémet, illetv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III. tartományában, ha a szükséges újrakristályosítási hőmérsékletnél magasabb hőmérsékleten izzítunk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z újrakristályosodás menete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052640"/>
          <a:ext cx="7561440" cy="46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052640"/>
                    <a:ext cx="756144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z újrakristályosodás jellemzői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052640"/>
            <a:ext cx="8991720" cy="474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Kristályosodási középpontokat, </a:t>
            </a:r>
            <a:r>
              <a:rPr b="1" lang="en-US" sz="2800" spc="-1" strike="noStrike">
                <a:solidFill>
                  <a:srgbClr val="ea2d00"/>
                </a:solidFill>
                <a:latin typeface="Arial"/>
              </a:rPr>
              <a:t>kristálycsírákat</a:t>
            </a:r>
            <a:r>
              <a:rPr b="1" lang="en-US" sz="2800" spc="-1" strike="noStrike">
                <a:solidFill>
                  <a:srgbClr val="ea2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gényel, ezek lehetne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kristály eltérő energiájú (különböző mértékben alakított) részletei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z újrakristályosodás </a:t>
            </a:r>
            <a:r>
              <a:rPr b="1" lang="en-US" sz="2800" spc="-1" strike="noStrike">
                <a:solidFill>
                  <a:srgbClr val="ea2d00"/>
                </a:solidFill>
                <a:latin typeface="Arial"/>
              </a:rPr>
              <a:t>hajtóereje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az energia-szintkülönbség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gy minimális alakítási mérték feltétlenül kell, hogy az újrakristályosodás meginduljon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az </a:t>
            </a:r>
            <a:r>
              <a:rPr b="1" lang="en-US" sz="2400" spc="-1" strike="noStrike">
                <a:solidFill>
                  <a:srgbClr val="ea2d00"/>
                </a:solidFill>
                <a:latin typeface="Arial"/>
              </a:rPr>
              <a:t>újrakristályosodási küszöb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inél nagyobb az alakítás mértéke annál gyorsabban, illetve annál kisebb hőmérsékleten indul me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z előzetes alakítás hat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763640" y="836640"/>
          <a:ext cx="554508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836640"/>
                    <a:ext cx="554508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000099"/>
                </a:solidFill>
                <a:uFillTx/>
                <a:latin typeface="Arial"/>
              </a:rPr>
              <a:t>rekrisztallizációs szemcsedurvulás</a:t>
            </a:r>
            <a:r>
              <a:rPr b="1" lang="hu-HU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99"/>
                </a:solidFill>
                <a:latin typeface="Arial"/>
              </a:rPr>
              <a:t>(újrakristályosodási diagram metszék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58920" y="1557360"/>
          <a:ext cx="669780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7360"/>
                    <a:ext cx="66978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Lágyacél teljes (térbeli) újrakristályosodási diagramj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55640" y="1197000"/>
          <a:ext cx="731520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97000"/>
                    <a:ext cx="731520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324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ANYAGOK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95640" y="0"/>
            <a:ext cx="2016000" cy="1800360"/>
            <a:chOff x="3995640" y="0"/>
            <a:chExt cx="2016000" cy="1800360"/>
          </a:xfrm>
        </p:grpSpPr>
        <p:sp>
          <p:nvSpPr>
            <p:cNvPr id="62" name=""/>
            <p:cNvSpPr/>
            <p:nvPr/>
          </p:nvSpPr>
          <p:spPr>
            <a:xfrm>
              <a:off x="3995640" y="0"/>
              <a:ext cx="2016000" cy="180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67280" y="73080"/>
              <a:ext cx="194436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Acélo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Öntöttvasa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cc"/>
                  </a:solidFill>
                  <a:uFillTx/>
                  <a:latin typeface="Times New Roman"/>
                </a:rPr>
                <a:t>Fémek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Fémötvözete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940360" y="4149720"/>
            <a:ext cx="2016000" cy="1813320"/>
            <a:chOff x="5940360" y="4149720"/>
            <a:chExt cx="2016000" cy="1813320"/>
          </a:xfrm>
        </p:grpSpPr>
        <p:sp>
          <p:nvSpPr>
            <p:cNvPr id="65" name=""/>
            <p:cNvSpPr/>
            <p:nvPr/>
          </p:nvSpPr>
          <p:spPr>
            <a:xfrm>
              <a:off x="5940360" y="4149720"/>
              <a:ext cx="2016000" cy="180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2000" y="4222800"/>
              <a:ext cx="1944360" cy="17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cc"/>
                  </a:solidFill>
                  <a:latin typeface="Times New Roman"/>
                </a:rPr>
                <a:t>SiC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cc"/>
                  </a:solidFill>
                  <a:latin typeface="Times New Roman"/>
                </a:rPr>
                <a:t>Aluminát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 u="sng">
                  <a:solidFill>
                    <a:srgbClr val="0000cc"/>
                  </a:solidFill>
                  <a:uFillTx/>
                  <a:latin typeface="Times New Roman"/>
                </a:rPr>
                <a:t>Kerámiák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cc"/>
                  </a:solidFill>
                  <a:latin typeface="Times New Roman"/>
                </a:rPr>
                <a:t>SiN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732720" y="1628640"/>
            <a:ext cx="2016000" cy="1800360"/>
            <a:chOff x="6732720" y="1628640"/>
            <a:chExt cx="2016000" cy="1800360"/>
          </a:xfrm>
        </p:grpSpPr>
        <p:sp>
          <p:nvSpPr>
            <p:cNvPr id="68" name=""/>
            <p:cNvSpPr/>
            <p:nvPr/>
          </p:nvSpPr>
          <p:spPr>
            <a:xfrm>
              <a:off x="6732720" y="1628640"/>
              <a:ext cx="2016000" cy="180036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04360" y="1701720"/>
              <a:ext cx="194436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Times New Roman"/>
                </a:rPr>
                <a:t>Gumi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Elasztomerek</a:t>
              </a:r>
              <a:endParaRPr b="0" lang="en-US" sz="22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Times New Roman"/>
                </a:rPr>
                <a:t>Szilikono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195640" y="4149720"/>
            <a:ext cx="2016000" cy="1800360"/>
            <a:chOff x="2195640" y="4149720"/>
            <a:chExt cx="2016000" cy="1800360"/>
          </a:xfrm>
        </p:grpSpPr>
        <p:sp>
          <p:nvSpPr>
            <p:cNvPr id="71" name=""/>
            <p:cNvSpPr/>
            <p:nvPr/>
          </p:nvSpPr>
          <p:spPr>
            <a:xfrm>
              <a:off x="2195640" y="4149720"/>
              <a:ext cx="2016000" cy="1800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67280" y="4222800"/>
              <a:ext cx="194436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ea2d00"/>
                  </a:solidFill>
                  <a:latin typeface="Times New Roman"/>
                </a:rPr>
                <a:t>Szóda-üvege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 u="sng">
                  <a:solidFill>
                    <a:srgbClr val="ea2d00"/>
                  </a:solidFill>
                  <a:uFillTx/>
                  <a:latin typeface="Times New Roman"/>
                </a:rPr>
                <a:t>Üvegek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ea2d00"/>
                  </a:solidFill>
                  <a:latin typeface="Times New Roman"/>
                </a:rPr>
                <a:t>Szilika-üvege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116000" y="1557360"/>
            <a:ext cx="2016000" cy="1800360"/>
            <a:chOff x="1116000" y="1557360"/>
            <a:chExt cx="2016000" cy="1800360"/>
          </a:xfrm>
        </p:grpSpPr>
        <p:sp>
          <p:nvSpPr>
            <p:cNvPr id="74" name=""/>
            <p:cNvSpPr/>
            <p:nvPr/>
          </p:nvSpPr>
          <p:spPr>
            <a:xfrm>
              <a:off x="1116000" y="1557360"/>
              <a:ext cx="2016000" cy="180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87640" y="1630440"/>
              <a:ext cx="194436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PE, PP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PK, Neylono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Polimerek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Epoxy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995640" y="2492280"/>
            <a:ext cx="2016360" cy="180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95640" y="2255760"/>
            <a:ext cx="194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Hibrid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társított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anyagok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3201600">
            <a:off x="3815280" y="3751920"/>
            <a:ext cx="505080" cy="1008000"/>
          </a:xfrm>
          <a:prstGeom prst="upDownArrow">
            <a:avLst>
              <a:gd name="adj1" fmla="val 50000"/>
              <a:gd name="adj2" fmla="val 39730"/>
            </a:avLst>
          </a:prstGeom>
          <a:solidFill>
            <a:srgbClr val="ff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8900000">
            <a:off x="5651640" y="3860280"/>
            <a:ext cx="504720" cy="1081080"/>
          </a:xfrm>
          <a:prstGeom prst="upDownArrow">
            <a:avLst>
              <a:gd name="adj1" fmla="val 50000"/>
              <a:gd name="adj2" fmla="val 42640"/>
            </a:avLst>
          </a:prstGeom>
          <a:solidFill>
            <a:srgbClr val="ff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4169400">
            <a:off x="6083640" y="2493360"/>
            <a:ext cx="504720" cy="1081080"/>
          </a:xfrm>
          <a:prstGeom prst="upDownArrow">
            <a:avLst>
              <a:gd name="adj1" fmla="val 50000"/>
              <a:gd name="adj2" fmla="val 42640"/>
            </a:avLst>
          </a:prstGeom>
          <a:solidFill>
            <a:srgbClr val="ff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64880" y="1557360"/>
            <a:ext cx="2354400" cy="1824840"/>
            <a:chOff x="2864880" y="1557360"/>
            <a:chExt cx="2354400" cy="1824840"/>
          </a:xfrm>
        </p:grpSpPr>
        <p:sp>
          <p:nvSpPr>
            <p:cNvPr id="82" name=""/>
            <p:cNvSpPr/>
            <p:nvPr/>
          </p:nvSpPr>
          <p:spPr>
            <a:xfrm rot="17400000">
              <a:off x="3240000" y="2371680"/>
              <a:ext cx="504720" cy="1152360"/>
            </a:xfrm>
            <a:prstGeom prst="upDownArrow">
              <a:avLst>
                <a:gd name="adj1" fmla="val 50000"/>
                <a:gd name="adj2" fmla="val 45452"/>
              </a:avLst>
            </a:prstGeom>
            <a:solidFill>
              <a:srgbClr val="ff66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14560" y="1557360"/>
              <a:ext cx="504720" cy="1081080"/>
            </a:xfrm>
            <a:prstGeom prst="upDownArrow">
              <a:avLst>
                <a:gd name="adj1" fmla="val 50000"/>
                <a:gd name="adj2" fmla="val 42640"/>
              </a:avLst>
            </a:prstGeom>
            <a:solidFill>
              <a:srgbClr val="ff66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097720" y="965880"/>
            <a:ext cx="5740920" cy="4407840"/>
            <a:chOff x="2097720" y="965880"/>
            <a:chExt cx="5740920" cy="4407840"/>
          </a:xfrm>
        </p:grpSpPr>
        <p:sp>
          <p:nvSpPr>
            <p:cNvPr id="85" name=""/>
            <p:cNvSpPr/>
            <p:nvPr/>
          </p:nvSpPr>
          <p:spPr>
            <a:xfrm rot="3600000">
              <a:off x="3265920" y="775440"/>
              <a:ext cx="505080" cy="1636560"/>
            </a:xfrm>
            <a:prstGeom prst="upDownArrow">
              <a:avLst>
                <a:gd name="adj1" fmla="val 50000"/>
                <a:gd name="adj2" fmla="val 64504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8000000">
              <a:off x="6290280" y="847080"/>
              <a:ext cx="504720" cy="1636920"/>
            </a:xfrm>
            <a:prstGeom prst="upDownArrow">
              <a:avLst>
                <a:gd name="adj1" fmla="val 50000"/>
                <a:gd name="adj2" fmla="val 64564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400000">
              <a:off x="2279520" y="3209400"/>
              <a:ext cx="505080" cy="1152720"/>
            </a:xfrm>
            <a:prstGeom prst="upDownArrow">
              <a:avLst>
                <a:gd name="adj1" fmla="val 50000"/>
                <a:gd name="adj2" fmla="val 45433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5400000">
              <a:off x="4858920" y="4076640"/>
              <a:ext cx="504720" cy="2089080"/>
            </a:xfrm>
            <a:prstGeom prst="upDownArrow">
              <a:avLst>
                <a:gd name="adj1" fmla="val 50000"/>
                <a:gd name="adj2" fmla="val 82398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200000">
              <a:off x="7164360" y="3284640"/>
              <a:ext cx="504720" cy="1081080"/>
            </a:xfrm>
            <a:prstGeom prst="upDownArrow">
              <a:avLst>
                <a:gd name="adj1" fmla="val 50000"/>
                <a:gd name="adj2" fmla="val 4264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 szemcsedurvulás és a szekunder újrakristályosodá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67564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0000cc"/>
                </a:solidFill>
                <a:uFillTx/>
                <a:latin typeface="Arial"/>
              </a:rPr>
              <a:t>Jellemző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cc"/>
                </a:solidFill>
                <a:latin typeface="Arial"/>
              </a:rPr>
              <a:t>bekövetkezhet az újrakristályosodás hőmérsék-letén való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hosszú idejű</a:t>
            </a:r>
            <a:r>
              <a:rPr b="0" lang="hu-HU" sz="2800" spc="-1" strike="noStrike">
                <a:solidFill>
                  <a:srgbClr val="0000cc"/>
                </a:solidFill>
                <a:latin typeface="Arial"/>
              </a:rPr>
              <a:t> hőntartással,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cc"/>
                </a:solidFill>
                <a:latin typeface="Arial"/>
              </a:rPr>
              <a:t>az újrakristályosodás optimális hőmérsékleténél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magasabb hőmérsékleten</a:t>
            </a:r>
            <a:r>
              <a:rPr b="0" lang="hu-HU" sz="2800" spc="-1" strike="noStrike">
                <a:solidFill>
                  <a:srgbClr val="0000cc"/>
                </a:solidFill>
                <a:latin typeface="Arial"/>
              </a:rPr>
              <a:t> való hőntartássa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 szemcsedurvulá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99172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egvalósulása az ún.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zemcsehatár vándorlási mechanizmussa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szemcsehatár </a:t>
            </a:r>
            <a:r>
              <a:rPr b="0" lang="en-US" sz="2400" spc="-1" strike="noStrike">
                <a:solidFill>
                  <a:srgbClr val="ea2d00"/>
                </a:solidFill>
                <a:latin typeface="Arial"/>
              </a:rPr>
              <a:t>magasabb energiaszintű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, átmeneti zón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szemcsehatáron lévő atomokra a konkáv szemcsehatárú rács atomjainak vonzása nagyobb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szemcsehatárok a görbületi középpontjaik felé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 mozdulnak 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gyes szemcsék mások rovására növekednek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 nagyobb szemcsék „megeszik” a kisebbeke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uplex szövet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kialakulása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Szemcsehatár vándorlás, mint a szemcsenövekedés mechanizmusa - a duplex szemcseszerkezet kialakulás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4320" y="601992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6.38. ábr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13760" cy="2778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Áttekintett területe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zilárdsági tulajdonságo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méleti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Gyakorlati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eghatározásuk kísérleti módszerei (szakítóvizsgálat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Keménység és kísérleti meghatározásának módszerei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Képlékenységi jellemző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Kísérleti meghatározásának módszerei (szakítóvizsgálat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Rugalmas alakváltozás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(jellemzői és kísérleti meghatározása)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Képlékeny alakváltozás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(következményei és ennek megszüntetése)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Jön:  </a:t>
            </a:r>
            <a:r>
              <a:rPr b="1" lang="en-US" sz="2800" spc="-1" strike="noStrike" u="sng">
                <a:solidFill>
                  <a:srgbClr val="ea2d00"/>
                </a:solidFill>
                <a:uFillTx/>
                <a:latin typeface="Arial"/>
              </a:rPr>
              <a:t>Törés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epedés keletkezése és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Repedés terjedés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427280" y="836280"/>
            <a:ext cx="42498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2d00"/>
                </a:solidFill>
                <a:uFillTx/>
                <a:latin typeface="Times New Roman"/>
              </a:rPr>
              <a:t>TÖRÉS</a:t>
            </a:r>
            <a:r>
              <a:rPr b="1" lang="en-US" sz="4400" spc="-1" strike="noStrike" u="sng">
                <a:solidFill>
                  <a:srgbClr val="0000cc"/>
                </a:solidFill>
                <a:uFillTx/>
                <a:latin typeface="Times New Roman"/>
              </a:rPr>
              <a:t>: Szívós törés – Rideg töré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438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őmérséklet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200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zakítási sebesség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886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emetszés sugar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152880" y="981000"/>
          <a:ext cx="5991120" cy="479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2880" y="981000"/>
                    <a:ext cx="599112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067280" y="4221000"/>
            <a:ext cx="158436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Szívós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981000"/>
            <a:ext cx="15843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Rideg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00720" y="1989000"/>
            <a:ext cx="647640" cy="2160720"/>
          </a:xfrm>
          <a:prstGeom prst="upArrow">
            <a:avLst>
              <a:gd name="adj1" fmla="val 50000"/>
              <a:gd name="adj2" fmla="val 83407"/>
            </a:avLst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445000"/>
            <a:ext cx="9144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Nem ridegedő anyagok: felületen középpontos rácsúak pl. Al, rozsdamentes acé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4360" y="1484280"/>
            <a:ext cx="8001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Olyan anyagot válasszunk, amely szívós az adott körülmények között, de REPEDÉST </a:t>
            </a:r>
            <a:r>
              <a:rPr b="1" lang="hu-HU" sz="2800" spc="-1" strike="noStrike" u="sng">
                <a:solidFill>
                  <a:srgbClr val="000099"/>
                </a:solidFill>
                <a:uFillTx/>
                <a:latin typeface="Arial"/>
              </a:rPr>
              <a:t>nem engedünk meg!!!</a:t>
            </a:r>
            <a:r>
              <a:rPr b="1" lang="en-GB" sz="28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Megengedjük, hogy legyen benne REPEDÉS és tudjuk az anyag repedés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terjedésével szembeni ellenállását!!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2602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Törés= </a:t>
            </a:r>
            <a:r>
              <a:rPr b="1" lang="en-US" sz="4000" spc="-1" strike="noStrike" u="sng">
                <a:solidFill>
                  <a:srgbClr val="cc00cc"/>
                </a:solidFill>
                <a:uFillTx/>
                <a:latin typeface="Times New Roman"/>
              </a:rPr>
              <a:t>Repedés keletkezése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 + </a:t>
            </a:r>
            <a:r>
              <a:rPr b="1" lang="en-US" sz="4000" spc="-1" strike="noStrike" u="sng">
                <a:solidFill>
                  <a:srgbClr val="ea2d00"/>
                </a:solidFill>
                <a:uFillTx/>
                <a:latin typeface="Times New Roman"/>
              </a:rPr>
              <a:t>terjedése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212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Törés típusai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990720"/>
          <a:ext cx="5486400" cy="48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5486400" cy="48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172200" y="1676520"/>
            <a:ext cx="25146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hu-HU" sz="4000" spc="-1" strike="noStrike" baseline="-25000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Folyási határ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286000"/>
            <a:ext cx="49528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1295280"/>
            <a:ext cx="2209680" cy="533520"/>
          </a:xfrm>
          <a:prstGeom prst="wedgeEllipseCallout">
            <a:avLst>
              <a:gd name="adj1" fmla="val -46481"/>
              <a:gd name="adj2" fmla="val 186902"/>
            </a:avLst>
          </a:prstGeom>
          <a:solidFill>
            <a:srgbClr val="0000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szély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24480" y="914400"/>
            <a:ext cx="2210040" cy="533520"/>
          </a:xfrm>
          <a:prstGeom prst="wedgeEllipseCallout">
            <a:avLst>
              <a:gd name="adj1" fmla="val -82902"/>
              <a:gd name="adj2" fmla="val 154462"/>
            </a:avLst>
          </a:prstGeom>
          <a:solidFill>
            <a:srgbClr val="0000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emmi gond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83808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törés folyamatának jellemzése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34290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352680" y="1219320"/>
            <a:ext cx="2590920" cy="2209680"/>
            <a:chOff x="3352680" y="1219320"/>
            <a:chExt cx="2590920" cy="2209680"/>
          </a:xfrm>
        </p:grpSpPr>
        <p:sp>
          <p:nvSpPr>
            <p:cNvPr id="231" name=""/>
            <p:cNvSpPr/>
            <p:nvPr/>
          </p:nvSpPr>
          <p:spPr>
            <a:xfrm>
              <a:off x="3352680" y="3429000"/>
              <a:ext cx="25909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52680" y="1219320"/>
              <a:ext cx="0" cy="22096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52388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pedé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2057400"/>
            <a:ext cx="990720" cy="281952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5680" y="1092240"/>
            <a:ext cx="5245200" cy="4635360"/>
          </a:xfrm>
          <a:custGeom>
            <a:avLst/>
            <a:gdLst/>
            <a:ahLst/>
            <a:rect l="l" t="t" r="r" b="b"/>
            <a:pathLst>
              <a:path w="3304" h="2920">
                <a:moveTo>
                  <a:pt x="16" y="1376"/>
                </a:moveTo>
                <a:cubicBezTo>
                  <a:pt x="60" y="1036"/>
                  <a:pt x="104" y="696"/>
                  <a:pt x="256" y="512"/>
                </a:cubicBezTo>
                <a:cubicBezTo>
                  <a:pt x="408" y="328"/>
                  <a:pt x="728" y="328"/>
                  <a:pt x="928" y="272"/>
                </a:cubicBezTo>
                <a:cubicBezTo>
                  <a:pt x="1128" y="216"/>
                  <a:pt x="1280" y="216"/>
                  <a:pt x="1456" y="176"/>
                </a:cubicBezTo>
                <a:cubicBezTo>
                  <a:pt x="1632" y="136"/>
                  <a:pt x="1760" y="0"/>
                  <a:pt x="1984" y="32"/>
                </a:cubicBezTo>
                <a:cubicBezTo>
                  <a:pt x="2208" y="64"/>
                  <a:pt x="2592" y="216"/>
                  <a:pt x="2800" y="368"/>
                </a:cubicBezTo>
                <a:cubicBezTo>
                  <a:pt x="3008" y="520"/>
                  <a:pt x="3160" y="712"/>
                  <a:pt x="3232" y="944"/>
                </a:cubicBezTo>
                <a:cubicBezTo>
                  <a:pt x="3304" y="1176"/>
                  <a:pt x="3288" y="1528"/>
                  <a:pt x="3232" y="1760"/>
                </a:cubicBezTo>
                <a:cubicBezTo>
                  <a:pt x="3176" y="1992"/>
                  <a:pt x="3008" y="2168"/>
                  <a:pt x="2896" y="2336"/>
                </a:cubicBezTo>
                <a:cubicBezTo>
                  <a:pt x="2784" y="2504"/>
                  <a:pt x="2760" y="2672"/>
                  <a:pt x="2560" y="2768"/>
                </a:cubicBezTo>
                <a:cubicBezTo>
                  <a:pt x="2360" y="2864"/>
                  <a:pt x="1968" y="2904"/>
                  <a:pt x="1696" y="2912"/>
                </a:cubicBezTo>
                <a:cubicBezTo>
                  <a:pt x="1424" y="2920"/>
                  <a:pt x="1128" y="2880"/>
                  <a:pt x="928" y="2816"/>
                </a:cubicBezTo>
                <a:cubicBezTo>
                  <a:pt x="728" y="2752"/>
                  <a:pt x="632" y="2616"/>
                  <a:pt x="496" y="2528"/>
                </a:cubicBezTo>
                <a:cubicBezTo>
                  <a:pt x="360" y="2440"/>
                  <a:pt x="176" y="2352"/>
                  <a:pt x="112" y="2288"/>
                </a:cubicBezTo>
                <a:cubicBezTo>
                  <a:pt x="48" y="2224"/>
                  <a:pt x="128" y="2232"/>
                  <a:pt x="112" y="2144"/>
                </a:cubicBezTo>
                <a:cubicBezTo>
                  <a:pt x="96" y="2056"/>
                  <a:pt x="32" y="1880"/>
                  <a:pt x="16" y="1760"/>
                </a:cubicBezTo>
                <a:cubicBezTo>
                  <a:pt x="0" y="1640"/>
                  <a:pt x="16" y="1480"/>
                  <a:pt x="16" y="1424"/>
                </a:cubicBezTo>
              </a:path>
            </a:pathLst>
          </a:custGeom>
          <a:noFill/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0920" y="1930320"/>
            <a:ext cx="833760" cy="3134160"/>
            <a:chOff x="70920" y="1930320"/>
            <a:chExt cx="833760" cy="3134160"/>
          </a:xfrm>
        </p:grpSpPr>
        <p:sp>
          <p:nvSpPr>
            <p:cNvPr id="237" name=""/>
            <p:cNvSpPr/>
            <p:nvPr/>
          </p:nvSpPr>
          <p:spPr>
            <a:xfrm rot="1200000">
              <a:off x="304920" y="198072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200000">
              <a:off x="228600" y="4038120"/>
              <a:ext cx="380880" cy="990720"/>
            </a:xfrm>
            <a:prstGeom prst="downArrow">
              <a:avLst>
                <a:gd name="adj1" fmla="val 50000"/>
                <a:gd name="adj2" fmla="val 65028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832680" y="1015920"/>
            <a:ext cx="833760" cy="4429440"/>
            <a:chOff x="832680" y="1015920"/>
            <a:chExt cx="833760" cy="4429440"/>
          </a:xfrm>
        </p:grpSpPr>
        <p:sp>
          <p:nvSpPr>
            <p:cNvPr id="240" name=""/>
            <p:cNvSpPr/>
            <p:nvPr/>
          </p:nvSpPr>
          <p:spPr>
            <a:xfrm rot="1200000">
              <a:off x="1066680" y="106632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200000">
              <a:off x="990360" y="4419360"/>
              <a:ext cx="380880" cy="990360"/>
            </a:xfrm>
            <a:prstGeom prst="downArrow">
              <a:avLst>
                <a:gd name="adj1" fmla="val 50000"/>
                <a:gd name="adj2" fmla="val 65005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442160" y="863640"/>
            <a:ext cx="1215000" cy="4810320"/>
            <a:chOff x="1442160" y="863640"/>
            <a:chExt cx="1215000" cy="4810320"/>
          </a:xfrm>
        </p:grpSpPr>
        <p:sp>
          <p:nvSpPr>
            <p:cNvPr id="243" name=""/>
            <p:cNvSpPr/>
            <p:nvPr/>
          </p:nvSpPr>
          <p:spPr>
            <a:xfrm rot="1200000">
              <a:off x="2057400" y="91404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200000">
              <a:off x="1599840" y="4647960"/>
              <a:ext cx="380880" cy="990360"/>
            </a:xfrm>
            <a:prstGeom prst="downArrow">
              <a:avLst>
                <a:gd name="adj1" fmla="val 50000"/>
                <a:gd name="adj2" fmla="val 65005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127960" y="787320"/>
            <a:ext cx="1367280" cy="5115240"/>
            <a:chOff x="2127960" y="787320"/>
            <a:chExt cx="1367280" cy="5115240"/>
          </a:xfrm>
        </p:grpSpPr>
        <p:sp>
          <p:nvSpPr>
            <p:cNvPr id="246" name=""/>
            <p:cNvSpPr/>
            <p:nvPr/>
          </p:nvSpPr>
          <p:spPr>
            <a:xfrm rot="1200000">
              <a:off x="2895480" y="83772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200000">
              <a:off x="2285640" y="4876560"/>
              <a:ext cx="380880" cy="990360"/>
            </a:xfrm>
            <a:prstGeom prst="downArrow">
              <a:avLst>
                <a:gd name="adj1" fmla="val 50000"/>
                <a:gd name="adj2" fmla="val 65005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814120" y="1015920"/>
            <a:ext cx="1671840" cy="4962960"/>
            <a:chOff x="2814120" y="1015920"/>
            <a:chExt cx="1671840" cy="4962960"/>
          </a:xfrm>
        </p:grpSpPr>
        <p:sp>
          <p:nvSpPr>
            <p:cNvPr id="249" name=""/>
            <p:cNvSpPr/>
            <p:nvPr/>
          </p:nvSpPr>
          <p:spPr>
            <a:xfrm rot="1200000">
              <a:off x="3886200" y="106632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200000">
              <a:off x="2971800" y="4952520"/>
              <a:ext cx="380880" cy="990720"/>
            </a:xfrm>
            <a:prstGeom prst="downArrow">
              <a:avLst>
                <a:gd name="adj1" fmla="val 50000"/>
                <a:gd name="adj2" fmla="val 65028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652200" y="1549440"/>
            <a:ext cx="1748160" cy="4505760"/>
            <a:chOff x="3652200" y="1549440"/>
            <a:chExt cx="1748160" cy="4505760"/>
          </a:xfrm>
        </p:grpSpPr>
        <p:sp>
          <p:nvSpPr>
            <p:cNvPr id="252" name=""/>
            <p:cNvSpPr/>
            <p:nvPr/>
          </p:nvSpPr>
          <p:spPr>
            <a:xfrm rot="1200000">
              <a:off x="4800600" y="159984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200000">
              <a:off x="3809880" y="5029200"/>
              <a:ext cx="381240" cy="990720"/>
            </a:xfrm>
            <a:prstGeom prst="downArrow">
              <a:avLst>
                <a:gd name="adj1" fmla="val 50000"/>
                <a:gd name="adj2" fmla="val 64967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490280" y="2082960"/>
            <a:ext cx="1443600" cy="3591000"/>
            <a:chOff x="4490280" y="2082960"/>
            <a:chExt cx="1443600" cy="3591000"/>
          </a:xfrm>
        </p:grpSpPr>
        <p:sp>
          <p:nvSpPr>
            <p:cNvPr id="255" name=""/>
            <p:cNvSpPr/>
            <p:nvPr/>
          </p:nvSpPr>
          <p:spPr>
            <a:xfrm rot="1200000">
              <a:off x="5334120" y="213336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200000">
              <a:off x="4647960" y="4647960"/>
              <a:ext cx="380880" cy="990360"/>
            </a:xfrm>
            <a:prstGeom prst="downArrow">
              <a:avLst>
                <a:gd name="adj1" fmla="val 50000"/>
                <a:gd name="adj2" fmla="val 65005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85800" y="2514600"/>
            <a:ext cx="533520" cy="1905120"/>
          </a:xfrm>
          <a:custGeom>
            <a:avLst/>
            <a:gdLst>
              <a:gd name="textAreaLeft" fmla="*/ 71280 w 533520"/>
              <a:gd name="textAreaRight" fmla="*/ 462240 w 53352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2590920"/>
            <a:ext cx="457200" cy="2057400"/>
          </a:xfrm>
          <a:custGeom>
            <a:avLst/>
            <a:gdLst>
              <a:gd name="textAreaLeft" fmla="*/ 61200 w 457200"/>
              <a:gd name="textAreaRight" fmla="*/ 396000 w 45720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838080"/>
            <a:ext cx="3200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ff0000"/>
                </a:solidFill>
                <a:uFillTx/>
                <a:latin typeface="Arial"/>
              </a:rPr>
              <a:t>Cél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Az anyagok repedésterjedéssel szembeni ellenállásának meghatározás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Milyen legyen a modell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Milyen törési kritérium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Kísérletileg hogyan mérhető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3808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Terhelés típusok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0" y="865080"/>
          <a:ext cx="914400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65080"/>
                    <a:ext cx="91440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3" name=""/>
          <p:cNvGrpSpPr/>
          <p:nvPr/>
        </p:nvGrpSpPr>
        <p:grpSpPr>
          <a:xfrm>
            <a:off x="1523880" y="990720"/>
            <a:ext cx="2209680" cy="761760"/>
            <a:chOff x="1523880" y="990720"/>
            <a:chExt cx="2209680" cy="761760"/>
          </a:xfrm>
        </p:grpSpPr>
        <p:sp>
          <p:nvSpPr>
            <p:cNvPr id="264" name=""/>
            <p:cNvSpPr/>
            <p:nvPr/>
          </p:nvSpPr>
          <p:spPr>
            <a:xfrm flipV="1">
              <a:off x="1523880" y="990360"/>
              <a:ext cx="2209680" cy="761760"/>
            </a:xfrm>
            <a:prstGeom prst="wedgeEllipseCallout">
              <a:avLst>
                <a:gd name="adj1" fmla="val -44541"/>
                <a:gd name="adj2" fmla="val -215625"/>
              </a:avLst>
            </a:prstGeom>
            <a:solidFill>
              <a:srgbClr val="66003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28440" y="1143000"/>
              <a:ext cx="1524240" cy="52056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Szakítás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038480" y="990720"/>
            <a:ext cx="2438640" cy="761760"/>
            <a:chOff x="4038480" y="990720"/>
            <a:chExt cx="2438640" cy="761760"/>
          </a:xfrm>
        </p:grpSpPr>
        <p:sp>
          <p:nvSpPr>
            <p:cNvPr id="267" name=""/>
            <p:cNvSpPr/>
            <p:nvPr/>
          </p:nvSpPr>
          <p:spPr>
            <a:xfrm flipV="1">
              <a:off x="4038480" y="990360"/>
              <a:ext cx="2438640" cy="761760"/>
            </a:xfrm>
            <a:prstGeom prst="wedgeEllipseCallout">
              <a:avLst>
                <a:gd name="adj1" fmla="val -16212"/>
                <a:gd name="adj2" fmla="val -226666"/>
              </a:avLst>
            </a:prstGeom>
            <a:solidFill>
              <a:srgbClr val="66003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75080" y="1143000"/>
              <a:ext cx="1681200" cy="52056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Nyírás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629400" y="914040"/>
            <a:ext cx="2514240" cy="762120"/>
            <a:chOff x="6629400" y="914040"/>
            <a:chExt cx="2514240" cy="762120"/>
          </a:xfrm>
        </p:grpSpPr>
        <p:sp>
          <p:nvSpPr>
            <p:cNvPr id="270" name=""/>
            <p:cNvSpPr/>
            <p:nvPr/>
          </p:nvSpPr>
          <p:spPr>
            <a:xfrm flipV="1">
              <a:off x="6629400" y="913320"/>
              <a:ext cx="2514240" cy="762120"/>
            </a:xfrm>
            <a:prstGeom prst="wedgeEllipseCallout">
              <a:avLst>
                <a:gd name="adj1" fmla="val -17027"/>
                <a:gd name="adj2" fmla="val -255416"/>
              </a:avLst>
            </a:prstGeom>
            <a:solidFill>
              <a:srgbClr val="66003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76080" y="1066680"/>
              <a:ext cx="1733760" cy="52056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savarás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04920" y="1522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Lineárisan rugalmas törésmechanik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6680" y="2895480"/>
            <a:ext cx="2286000" cy="533520"/>
            <a:chOff x="1066680" y="2895480"/>
            <a:chExt cx="2286000" cy="533520"/>
          </a:xfrm>
        </p:grpSpPr>
        <p:sp>
          <p:nvSpPr>
            <p:cNvPr id="274" name=""/>
            <p:cNvSpPr/>
            <p:nvPr/>
          </p:nvSpPr>
          <p:spPr>
            <a:xfrm>
              <a:off x="1066680" y="3429000"/>
              <a:ext cx="228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23880" y="28954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Repedés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55680" y="1092240"/>
            <a:ext cx="5245200" cy="4635360"/>
          </a:xfrm>
          <a:custGeom>
            <a:avLst/>
            <a:gdLst/>
            <a:ahLst/>
            <a:rect l="l" t="t" r="r" b="b"/>
            <a:pathLst>
              <a:path w="3304" h="2920">
                <a:moveTo>
                  <a:pt x="16" y="1376"/>
                </a:moveTo>
                <a:cubicBezTo>
                  <a:pt x="60" y="1036"/>
                  <a:pt x="104" y="696"/>
                  <a:pt x="256" y="512"/>
                </a:cubicBezTo>
                <a:cubicBezTo>
                  <a:pt x="408" y="328"/>
                  <a:pt x="728" y="328"/>
                  <a:pt x="928" y="272"/>
                </a:cubicBezTo>
                <a:cubicBezTo>
                  <a:pt x="1128" y="216"/>
                  <a:pt x="1280" y="216"/>
                  <a:pt x="1456" y="176"/>
                </a:cubicBezTo>
                <a:cubicBezTo>
                  <a:pt x="1632" y="136"/>
                  <a:pt x="1760" y="0"/>
                  <a:pt x="1984" y="32"/>
                </a:cubicBezTo>
                <a:cubicBezTo>
                  <a:pt x="2208" y="64"/>
                  <a:pt x="2592" y="216"/>
                  <a:pt x="2800" y="368"/>
                </a:cubicBezTo>
                <a:cubicBezTo>
                  <a:pt x="3008" y="520"/>
                  <a:pt x="3160" y="712"/>
                  <a:pt x="3232" y="944"/>
                </a:cubicBezTo>
                <a:cubicBezTo>
                  <a:pt x="3304" y="1176"/>
                  <a:pt x="3288" y="1528"/>
                  <a:pt x="3232" y="1760"/>
                </a:cubicBezTo>
                <a:cubicBezTo>
                  <a:pt x="3176" y="1992"/>
                  <a:pt x="3008" y="2168"/>
                  <a:pt x="2896" y="2336"/>
                </a:cubicBezTo>
                <a:cubicBezTo>
                  <a:pt x="2784" y="2504"/>
                  <a:pt x="2760" y="2672"/>
                  <a:pt x="2560" y="2768"/>
                </a:cubicBezTo>
                <a:cubicBezTo>
                  <a:pt x="2360" y="2864"/>
                  <a:pt x="1968" y="2904"/>
                  <a:pt x="1696" y="2912"/>
                </a:cubicBezTo>
                <a:cubicBezTo>
                  <a:pt x="1424" y="2920"/>
                  <a:pt x="1128" y="2880"/>
                  <a:pt x="928" y="2816"/>
                </a:cubicBezTo>
                <a:cubicBezTo>
                  <a:pt x="728" y="2752"/>
                  <a:pt x="632" y="2616"/>
                  <a:pt x="496" y="2528"/>
                </a:cubicBezTo>
                <a:cubicBezTo>
                  <a:pt x="360" y="2440"/>
                  <a:pt x="176" y="2352"/>
                  <a:pt x="112" y="2288"/>
                </a:cubicBezTo>
                <a:cubicBezTo>
                  <a:pt x="48" y="2224"/>
                  <a:pt x="128" y="2232"/>
                  <a:pt x="112" y="2144"/>
                </a:cubicBezTo>
                <a:cubicBezTo>
                  <a:pt x="96" y="2056"/>
                  <a:pt x="32" y="1880"/>
                  <a:pt x="16" y="1760"/>
                </a:cubicBezTo>
                <a:cubicBezTo>
                  <a:pt x="0" y="1640"/>
                  <a:pt x="16" y="1480"/>
                  <a:pt x="16" y="1424"/>
                </a:cubicBezTo>
              </a:path>
            </a:pathLst>
          </a:custGeom>
          <a:noFill/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2680" y="1015920"/>
            <a:ext cx="833760" cy="4429440"/>
            <a:chOff x="832680" y="1015920"/>
            <a:chExt cx="833760" cy="4429440"/>
          </a:xfrm>
        </p:grpSpPr>
        <p:sp>
          <p:nvSpPr>
            <p:cNvPr id="278" name=""/>
            <p:cNvSpPr/>
            <p:nvPr/>
          </p:nvSpPr>
          <p:spPr>
            <a:xfrm rot="1200000">
              <a:off x="1066680" y="106632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200000">
              <a:off x="990360" y="4419360"/>
              <a:ext cx="380880" cy="990360"/>
            </a:xfrm>
            <a:prstGeom prst="downArrow">
              <a:avLst>
                <a:gd name="adj1" fmla="val 50000"/>
                <a:gd name="adj2" fmla="val 65005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747080" y="711360"/>
            <a:ext cx="1367280" cy="5115240"/>
            <a:chOff x="1747080" y="711360"/>
            <a:chExt cx="1367280" cy="5115240"/>
          </a:xfrm>
        </p:grpSpPr>
        <p:sp>
          <p:nvSpPr>
            <p:cNvPr id="281" name=""/>
            <p:cNvSpPr/>
            <p:nvPr/>
          </p:nvSpPr>
          <p:spPr>
            <a:xfrm rot="1200000">
              <a:off x="2514600" y="761760"/>
              <a:ext cx="457200" cy="9144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200000">
              <a:off x="1904760" y="4800600"/>
              <a:ext cx="380880" cy="990360"/>
            </a:xfrm>
            <a:prstGeom prst="downArrow">
              <a:avLst>
                <a:gd name="adj1" fmla="val 50000"/>
                <a:gd name="adj2" fmla="val 65005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56760" y="1397160"/>
            <a:ext cx="1748160" cy="4505040"/>
            <a:chOff x="3956760" y="1397160"/>
            <a:chExt cx="1748160" cy="4505040"/>
          </a:xfrm>
        </p:grpSpPr>
        <p:sp>
          <p:nvSpPr>
            <p:cNvPr id="284" name=""/>
            <p:cNvSpPr/>
            <p:nvPr/>
          </p:nvSpPr>
          <p:spPr>
            <a:xfrm rot="1200000">
              <a:off x="5105160" y="1447560"/>
              <a:ext cx="457200" cy="914040"/>
            </a:xfrm>
            <a:prstGeom prst="upArrow">
              <a:avLst>
                <a:gd name="adj1" fmla="val 50000"/>
                <a:gd name="adj2" fmla="val 4998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200000">
              <a:off x="4114440" y="4876560"/>
              <a:ext cx="381240" cy="990360"/>
            </a:xfrm>
            <a:prstGeom prst="downArrow">
              <a:avLst>
                <a:gd name="adj1" fmla="val 50000"/>
                <a:gd name="adj2" fmla="val 64943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943600" y="83808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Milyen a modell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ine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árisa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rugalma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352320" y="1981080"/>
            <a:ext cx="838440" cy="1447920"/>
          </a:xfrm>
          <a:prstGeom prst="line">
            <a:avLst/>
          </a:prstGeom>
          <a:ln w="3816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83800" y="990720"/>
            <a:ext cx="168372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 (r,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659640" y="2421000"/>
            <a:ext cx="1752120" cy="1448280"/>
            <a:chOff x="6659640" y="2421000"/>
            <a:chExt cx="1752120" cy="1448280"/>
          </a:xfrm>
        </p:grpSpPr>
        <p:sp>
          <p:nvSpPr>
            <p:cNvPr id="291" name=""/>
            <p:cNvSpPr/>
            <p:nvPr/>
          </p:nvSpPr>
          <p:spPr>
            <a:xfrm>
              <a:off x="7040520" y="2421000"/>
              <a:ext cx="0" cy="11426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40520" y="3563640"/>
              <a:ext cx="13712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59640" y="242100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4920" y="353196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V="1">
            <a:off x="7093080" y="2565360"/>
            <a:ext cx="838080" cy="91440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796000" y="4365720"/>
          <a:ext cx="3048120" cy="11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4365720"/>
                    <a:ext cx="304812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8" name=""/>
          <p:cNvGrpSpPr/>
          <p:nvPr/>
        </p:nvGrpSpPr>
        <p:grpSpPr>
          <a:xfrm>
            <a:off x="2895480" y="1066680"/>
            <a:ext cx="3048120" cy="2819520"/>
            <a:chOff x="2895480" y="1066680"/>
            <a:chExt cx="3048120" cy="2819520"/>
          </a:xfrm>
        </p:grpSpPr>
        <p:grpSp>
          <p:nvGrpSpPr>
            <p:cNvPr id="299" name=""/>
            <p:cNvGrpSpPr/>
            <p:nvPr/>
          </p:nvGrpSpPr>
          <p:grpSpPr>
            <a:xfrm>
              <a:off x="3352680" y="1219320"/>
              <a:ext cx="2590920" cy="2209680"/>
              <a:chOff x="3352680" y="1219320"/>
              <a:chExt cx="2590920" cy="2209680"/>
            </a:xfrm>
          </p:grpSpPr>
          <p:sp>
            <p:nvSpPr>
              <p:cNvPr id="300" name=""/>
              <p:cNvSpPr/>
              <p:nvPr/>
            </p:nvSpPr>
            <p:spPr>
              <a:xfrm>
                <a:off x="3352680" y="3429000"/>
                <a:ext cx="259092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352680" y="1219320"/>
                <a:ext cx="0" cy="220968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 flipV="1">
              <a:off x="4876920" y="3426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95480" y="1066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Áttekintett területe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0384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Kristályszerkezete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vonalmenti-,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síkbeli-,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térbeli atomsűrűség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Atomi kötése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Elsődleg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Másodlago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7280" y="836280"/>
            <a:ext cx="42498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ŰRŰSÉG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UGALMASSÁG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789360"/>
            <a:ext cx="6337440" cy="647640"/>
          </a:xfrm>
          <a:custGeom>
            <a:avLst/>
            <a:gdLst>
              <a:gd name="textAreaLeft" fmla="*/ 1108800 w 6337440"/>
              <a:gd name="textAreaRight" fmla="*/ 4594680 w 633744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292640"/>
            <a:ext cx="647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084640"/>
            <a:ext cx="9144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Optimális ANYAGKIVÁLASZTÁS (ASHBY)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4920" y="1522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Lineárisan rugalmas törésmechanik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80880" y="990720"/>
          <a:ext cx="3048120" cy="11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304812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228600" y="2209680"/>
            <a:ext cx="9239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ha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0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kkor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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 !!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K 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=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Feszültségintenzitási tényező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Ha a </a:t>
            </a:r>
            <a:r>
              <a:rPr b="1" lang="hu-HU" sz="2800" spc="-1" strike="noStrike" u="sng">
                <a:solidFill>
                  <a:srgbClr val="0000cc"/>
                </a:solidFill>
                <a:uFillTx/>
                <a:latin typeface="Arial"/>
              </a:rPr>
              <a:t>terhelés növekszik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, akkor a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(r,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pontban a feszültség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) ugyancsak növekszik.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Ha a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növekszik, akkor csak a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növekszik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!!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Arial"/>
              </a:rPr>
              <a:t>Ic</a:t>
            </a:r>
            <a:r>
              <a:rPr b="1" lang="en-GB" sz="2800" spc="-1" strike="noStrike" baseline="-25000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800" spc="-1" strike="noStrike" u="sng">
                <a:solidFill>
                  <a:srgbClr val="0000cc"/>
                </a:solidFill>
                <a:uFillTx/>
                <a:latin typeface="Arial"/>
              </a:rPr>
              <a:t>Törési szívósság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repedés terjedéssel szembeni ellenállás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657600" y="1066680"/>
            <a:ext cx="4902120" cy="914400"/>
            <a:chOff x="3657600" y="1066680"/>
            <a:chExt cx="4902120" cy="914400"/>
          </a:xfrm>
        </p:grpSpPr>
        <p:graphicFrame>
          <p:nvGraphicFramePr>
            <p:cNvPr id="309" name=""/>
            <p:cNvGraphicFramePr/>
            <p:nvPr/>
          </p:nvGraphicFramePr>
          <p:xfrm>
            <a:off x="6400800" y="1066680"/>
            <a:ext cx="2158920" cy="91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1066680"/>
                      <a:ext cx="2158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1" name=""/>
            <p:cNvSpPr/>
            <p:nvPr/>
          </p:nvSpPr>
          <p:spPr>
            <a:xfrm>
              <a:off x="5181480" y="1371600"/>
              <a:ext cx="1079640" cy="274680"/>
            </a:xfrm>
            <a:prstGeom prst="rightArrow">
              <a:avLst>
                <a:gd name="adj1" fmla="val 50000"/>
                <a:gd name="adj2" fmla="val 98263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600" y="1143000"/>
              <a:ext cx="1600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4000" spc="-1" strike="noStrike">
                  <a:solidFill>
                    <a:srgbClr val="0000cc"/>
                  </a:solidFill>
                  <a:latin typeface="Times New Roman"/>
                </a:rPr>
                <a:t>K, K</a:t>
              </a:r>
              <a:r>
                <a:rPr b="1" lang="hu-HU" sz="4000" spc="-1" strike="noStrike" baseline="-25000">
                  <a:solidFill>
                    <a:srgbClr val="0000cc"/>
                  </a:solidFill>
                  <a:latin typeface="Times New Roman"/>
                </a:rPr>
                <a:t>Ic</a:t>
              </a:r>
              <a:endParaRPr b="0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971640" y="981000"/>
          <a:ext cx="698508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81000"/>
                    <a:ext cx="698508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250920" y="260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K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számítása különböző terhelésekné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68360" y="0"/>
            <a:ext cx="827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K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számítása különböző terhelésekné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692360" y="1197000"/>
          <a:ext cx="5410080" cy="29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197000"/>
                    <a:ext cx="541008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9" name=""/>
          <p:cNvGrpSpPr/>
          <p:nvPr/>
        </p:nvGrpSpPr>
        <p:grpSpPr>
          <a:xfrm>
            <a:off x="250920" y="4221000"/>
            <a:ext cx="9095760" cy="1683360"/>
            <a:chOff x="250920" y="4221000"/>
            <a:chExt cx="9095760" cy="1683360"/>
          </a:xfrm>
        </p:grpSpPr>
        <p:graphicFrame>
          <p:nvGraphicFramePr>
            <p:cNvPr id="320" name=""/>
            <p:cNvGraphicFramePr/>
            <p:nvPr/>
          </p:nvGraphicFramePr>
          <p:xfrm>
            <a:off x="250920" y="4373640"/>
            <a:ext cx="4742280" cy="1285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920" y="4373640"/>
                      <a:ext cx="4742280" cy="12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>
              <a:off x="5148720" y="4221000"/>
              <a:ext cx="4197960" cy="16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cc"/>
                  </a:solidFill>
                  <a:latin typeface="Times New Roman"/>
                </a:rPr>
                <a:t>= Poisson szám</a:t>
              </a:r>
              <a:endParaRPr b="0" lang="en-US" sz="40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Kereszt- és Hosszirányú nyúlás hányadosa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 0,33</a:t>
              </a:r>
              <a:endParaRPr b="0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666880" y="990720"/>
            <a:ext cx="1067040" cy="266688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990720" y="747720"/>
          <a:ext cx="7238880" cy="50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47720"/>
                    <a:ext cx="7238880" cy="50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39640" y="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K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számítása különböző terhelésekné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50920" y="30492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K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számítása különböző terhelésekné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85800" y="1371600"/>
          <a:ext cx="739152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39152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1905120" y="1981080"/>
            <a:ext cx="1218960" cy="27432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95280" y="0"/>
            <a:ext cx="827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K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számítása különböző terhelésekné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609480"/>
            <a:ext cx="533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042920" y="836640"/>
          <a:ext cx="7239240" cy="50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836640"/>
                    <a:ext cx="7239240" cy="50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219320" y="1371600"/>
          <a:ext cx="647676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647676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293760" y="33336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K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számítása különböző terhelésekné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1371600"/>
            <a:ext cx="1905120" cy="38862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cc"/>
                </a:solidFill>
                <a:uFillTx/>
                <a:latin typeface="Times New Roman"/>
              </a:rPr>
              <a:t>A próbatest vastagságának hatás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09480" y="1371600"/>
          <a:ext cx="80010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0010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cc"/>
                </a:solidFill>
                <a:uFillTx/>
                <a:latin typeface="Times New Roman"/>
              </a:rPr>
              <a:t>Anyagok repedésterjedéssel szembeni ellállás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295280"/>
            <a:ext cx="34290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ff3300"/>
                </a:solidFill>
                <a:uFillTx/>
                <a:latin typeface="Times New Roman"/>
              </a:rPr>
              <a:t>Mire van szükség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Times New Roman"/>
              </a:rPr>
              <a:t>?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 u="sng">
                <a:solidFill>
                  <a:srgbClr val="0000cc"/>
                </a:solidFill>
                <a:uFillTx/>
                <a:latin typeface="Times New Roman"/>
              </a:rPr>
              <a:t>Próbatest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Berendezé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Ember, aki kiérték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132000" y="1844640"/>
          <a:ext cx="6012000" cy="36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844640"/>
                    <a:ext cx="601200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cc"/>
                </a:solidFill>
                <a:uFillTx/>
                <a:latin typeface="Times New Roman"/>
              </a:rPr>
              <a:t>Anyagok repedésterjedéssel szembeni ellállás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403280" y="1197000"/>
          <a:ext cx="6408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197000"/>
                    <a:ext cx="6408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Áttekintett területe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7921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zilárdsági tulajdonságok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lméleti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yakorlati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eghatározásuk kísérleti módszerei (szakítóvizsgálat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Keménység és kísérleti meghatározásának módszerei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RINNEL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VICKER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OCKWELL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gyéb módszerek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Képlékenységi jellemzők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Kísérleti meghatározásának módszerei (szakítóvizsgálat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27280" y="836280"/>
            <a:ext cx="42498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cc"/>
                </a:solidFill>
                <a:uFillTx/>
                <a:latin typeface="Times New Roman"/>
              </a:rPr>
              <a:t>Anyagok repedésterjedéssel szembeni ellállás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914400" y="1143000"/>
          <a:ext cx="725796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25796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cc"/>
                </a:solidFill>
                <a:uFillTx/>
                <a:latin typeface="Times New Roman"/>
              </a:rPr>
              <a:t>Anyagok repedésterjedéssel szembeni ellenállás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1295280"/>
            <a:ext cx="34290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ff3300"/>
                </a:solidFill>
                <a:uFillTx/>
                <a:latin typeface="Times New Roman"/>
              </a:rPr>
              <a:t>Mire van szükség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Times New Roman"/>
              </a:rPr>
              <a:t>?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 u="sng">
                <a:solidFill>
                  <a:srgbClr val="0000cc"/>
                </a:solidFill>
                <a:uFillTx/>
                <a:latin typeface="Times New Roman"/>
              </a:rPr>
              <a:t>Próbatest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Berendezé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Ember, aki kiérték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132000" y="1844640"/>
          <a:ext cx="6012000" cy="36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844640"/>
                    <a:ext cx="601200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5720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cc"/>
                </a:solidFill>
                <a:uFillTx/>
                <a:latin typeface="Times New Roman"/>
              </a:rPr>
              <a:t>A próbatest orientációj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0" y="1295280"/>
          <a:ext cx="914400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04920" y="426708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4000" spc="-1" strike="noStrike">
                <a:solidFill>
                  <a:srgbClr val="ff0000"/>
                </a:solidFill>
                <a:latin typeface="Times New Roman"/>
              </a:rPr>
              <a:t>1. jel</a:t>
            </a:r>
            <a:r>
              <a:rPr b="1" lang="hu-HU" sz="4000" spc="-1" strike="noStrike" baseline="30000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4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hu-HU" sz="4000" spc="-1" strike="noStrike">
                <a:solidFill>
                  <a:srgbClr val="0000cc"/>
                </a:solidFill>
                <a:latin typeface="Times New Roman"/>
              </a:rPr>
              <a:t> a próbatest kivételének irány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4000" spc="-1" strike="noStrike">
                <a:solidFill>
                  <a:srgbClr val="ff0000"/>
                </a:solidFill>
                <a:latin typeface="Times New Roman"/>
              </a:rPr>
              <a:t>2. jel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4000" spc="-1" strike="noStrike">
                <a:solidFill>
                  <a:srgbClr val="0000cc"/>
                </a:solidFill>
                <a:latin typeface="Times New Roman"/>
              </a:rPr>
              <a:t>a repedés terjedésének irány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28600" y="1219320"/>
            <a:ext cx="405612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ff3300"/>
                </a:solidFill>
                <a:uFillTx/>
                <a:latin typeface="Times New Roman"/>
              </a:rPr>
              <a:t>Mire van szükség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Times New Roman"/>
              </a:rPr>
              <a:t>?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Próbatest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 u="sng">
                <a:solidFill>
                  <a:srgbClr val="0000cc"/>
                </a:solidFill>
                <a:uFillTx/>
                <a:latin typeface="Times New Roman"/>
              </a:rPr>
              <a:t>Berendezé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Ember a kiértékeléshez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-181080" y="0"/>
            <a:ext cx="932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cc"/>
                </a:solidFill>
                <a:uFillTx/>
                <a:latin typeface="Times New Roman"/>
              </a:rPr>
              <a:t>Anyagok repedésterjedéssel szembeni ellenállás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057400" y="3429000"/>
            <a:ext cx="3292200" cy="2436120"/>
            <a:chOff x="2057400" y="3429000"/>
            <a:chExt cx="3292200" cy="2436120"/>
          </a:xfrm>
        </p:grpSpPr>
        <p:sp>
          <p:nvSpPr>
            <p:cNvPr id="363" name=""/>
            <p:cNvSpPr/>
            <p:nvPr/>
          </p:nvSpPr>
          <p:spPr>
            <a:xfrm>
              <a:off x="2786040" y="3429000"/>
              <a:ext cx="0" cy="20462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86040" y="5475240"/>
              <a:ext cx="256356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57400" y="3429000"/>
              <a:ext cx="85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Erő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03320" y="5494320"/>
              <a:ext cx="2378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cc"/>
                  </a:solidFill>
                  <a:latin typeface="Times New Roman"/>
                </a:rPr>
                <a:t>Repedés kinyílása,</a:t>
              </a:r>
              <a:r>
                <a:rPr b="1" lang="en-GB" sz="1600" spc="-1" strike="noStrike">
                  <a:solidFill>
                    <a:srgbClr val="0000cc"/>
                  </a:solidFill>
                  <a:latin typeface="Times New Roman"/>
                </a:rPr>
                <a:t> v</a:t>
              </a:r>
              <a:r>
                <a:rPr b="1" lang="en-GB" sz="1600" spc="-1" strike="noStrike" baseline="-25000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lang="hu-HU" sz="16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aphicFrame>
        <p:nvGraphicFramePr>
          <p:cNvPr id="367" name=""/>
          <p:cNvGraphicFramePr/>
          <p:nvPr/>
        </p:nvGraphicFramePr>
        <p:xfrm>
          <a:off x="5486400" y="1752480"/>
          <a:ext cx="3321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752480"/>
                    <a:ext cx="3321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9" name=""/>
          <p:cNvGrpSpPr/>
          <p:nvPr/>
        </p:nvGrpSpPr>
        <p:grpSpPr>
          <a:xfrm>
            <a:off x="6705720" y="1447920"/>
            <a:ext cx="304560" cy="2819160"/>
            <a:chOff x="6705720" y="1447920"/>
            <a:chExt cx="304560" cy="2819160"/>
          </a:xfrm>
        </p:grpSpPr>
        <p:sp>
          <p:nvSpPr>
            <p:cNvPr id="370" name=""/>
            <p:cNvSpPr/>
            <p:nvPr/>
          </p:nvSpPr>
          <p:spPr>
            <a:xfrm>
              <a:off x="6705720" y="1447920"/>
              <a:ext cx="304560" cy="838080"/>
            </a:xfrm>
            <a:prstGeom prst="upArrow">
              <a:avLst>
                <a:gd name="adj1" fmla="val 50000"/>
                <a:gd name="adj2" fmla="val 68794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705720" y="3505320"/>
              <a:ext cx="304560" cy="76176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2819520" y="3809520"/>
            <a:ext cx="1218960" cy="167652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28600" y="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Repedés kinyílásának mérése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0" y="762120"/>
          <a:ext cx="40194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4019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495680" y="2286000"/>
          <a:ext cx="4191120" cy="28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286000"/>
                    <a:ext cx="41911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4356000" y="1125360"/>
            <a:ext cx="330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A próbatest töretének felület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79280" y="0"/>
            <a:ext cx="896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cc"/>
                </a:solidFill>
                <a:uFillTx/>
                <a:latin typeface="Times New Roman"/>
              </a:rPr>
              <a:t>Az ERŐ - REPEDÉSSZÉTNYÍLÁS</a:t>
            </a:r>
            <a:r>
              <a:rPr b="1" lang="hu-H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2800" spc="-1" strike="noStrike" u="sng">
                <a:solidFill>
                  <a:srgbClr val="0000cc"/>
                </a:solidFill>
                <a:uFillTx/>
                <a:latin typeface="Times New Roman"/>
              </a:rPr>
              <a:t>diagramok típusai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0" y="137160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28600" y="0"/>
            <a:ext cx="89154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cc"/>
                </a:solidFill>
                <a:uFillTx/>
                <a:latin typeface="Times New Roman"/>
              </a:rPr>
              <a:t>Az ERŐ - REPEDÉSSZÉTNYÍLÁS diagramok típusai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0" y="1413000"/>
          <a:ext cx="914400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905120" y="2057400"/>
          <a:ext cx="327636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57400"/>
                    <a:ext cx="32763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13716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Előrepesztés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981080" y="3352680"/>
          <a:ext cx="2791080" cy="79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352680"/>
                    <a:ext cx="27910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44197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= (0,45-0,55)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28600" y="2286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724280" y="2286000"/>
          <a:ext cx="342900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286000"/>
                    <a:ext cx="34290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0" y="1295280"/>
            <a:ext cx="38512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ff3300"/>
                </a:solidFill>
                <a:uFillTx/>
                <a:latin typeface="Times New Roman"/>
              </a:rPr>
              <a:t>Mire van szükség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Times New Roman"/>
              </a:rPr>
              <a:t>?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Próbatest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Berendezé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400" spc="-1" strike="noStrike" u="sng">
                <a:solidFill>
                  <a:srgbClr val="0000cc"/>
                </a:solidFill>
                <a:uFillTx/>
                <a:latin typeface="Times New Roman"/>
              </a:rPr>
              <a:t>Ember a kiértékeléshez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1295280"/>
            <a:ext cx="3962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cc"/>
                </a:solidFill>
                <a:latin typeface="Times New Roman"/>
              </a:rPr>
              <a:t>Feltételezett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K</a:t>
            </a:r>
            <a:r>
              <a:rPr b="1" lang="en-GB" sz="4000" spc="-1" strike="noStrike" baseline="-25000">
                <a:solidFill>
                  <a:srgbClr val="0000cc"/>
                </a:solidFill>
                <a:latin typeface="Times New Roman"/>
              </a:rPr>
              <a:t>Ic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52280" y="3962520"/>
            <a:ext cx="8153640" cy="1939680"/>
            <a:chOff x="152280" y="3962520"/>
            <a:chExt cx="8153640" cy="1939680"/>
          </a:xfrm>
        </p:grpSpPr>
        <p:graphicFrame>
          <p:nvGraphicFramePr>
            <p:cNvPr id="398" name=""/>
            <p:cNvGraphicFramePr/>
            <p:nvPr/>
          </p:nvGraphicFramePr>
          <p:xfrm>
            <a:off x="533520" y="5029200"/>
            <a:ext cx="7772400" cy="87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5029200"/>
                      <a:ext cx="777240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00" name=""/>
            <p:cNvGrpSpPr/>
            <p:nvPr/>
          </p:nvGrpSpPr>
          <p:grpSpPr>
            <a:xfrm>
              <a:off x="152280" y="3962520"/>
              <a:ext cx="7010640" cy="903240"/>
              <a:chOff x="152280" y="3962520"/>
              <a:chExt cx="7010640" cy="903240"/>
            </a:xfrm>
          </p:grpSpPr>
          <p:graphicFrame>
            <p:nvGraphicFramePr>
              <p:cNvPr id="401" name=""/>
              <p:cNvGraphicFramePr/>
              <p:nvPr/>
            </p:nvGraphicFramePr>
            <p:xfrm>
              <a:off x="4495680" y="3962520"/>
              <a:ext cx="2667240" cy="903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0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495680" y="3962520"/>
                        <a:ext cx="2667240" cy="903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03" name=""/>
              <p:cNvSpPr/>
              <p:nvPr/>
            </p:nvSpPr>
            <p:spPr>
              <a:xfrm>
                <a:off x="152280" y="4114800"/>
                <a:ext cx="3429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0000cc"/>
                    </a:solidFill>
                    <a:uFillTx/>
                    <a:latin typeface="Times New Roman"/>
                  </a:rPr>
                  <a:t>TPB próbatest</a:t>
                </a:r>
                <a:endParaRPr b="0" lang="en-US" sz="4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zoom dir="ou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28600" y="2286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371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CT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and </a:t>
            </a: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DCT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specimen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5334120" y="958680"/>
          <a:ext cx="362880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58680"/>
                    <a:ext cx="36288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457200" y="3048120"/>
          <a:ext cx="8458200" cy="9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048120"/>
                    <a:ext cx="84582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457200" y="4419720"/>
          <a:ext cx="845820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419720"/>
                    <a:ext cx="84582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533520" y="1981080"/>
            <a:ext cx="228600" cy="106704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143000" y="1981080"/>
            <a:ext cx="1295280" cy="243864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8360" y="1557360"/>
          <a:ext cx="8389800" cy="3805200"/>
        </p:xfrm>
        <a:graphic>
          <a:graphicData uri="http://schemas.openxmlformats.org/drawingml/2006/table">
            <a:tbl>
              <a:tblPr/>
              <a:tblGrid>
                <a:gridCol w="1476000"/>
                <a:gridCol w="1052640"/>
                <a:gridCol w="831960"/>
                <a:gridCol w="831600"/>
                <a:gridCol w="1028880"/>
                <a:gridCol w="863640"/>
                <a:gridCol w="1081080"/>
                <a:gridCol w="1224000"/>
              </a:tblGrid>
              <a:tr h="103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hu-HU" sz="2400" spc="-1" strike="noStrike" baseline="-30000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hu-HU" sz="2400" spc="-1" strike="noStrike" baseline="-30000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E/8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Symbol"/>
                          <a:ea typeface="Symbol"/>
                        </a:rPr>
                        <a:t>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hu-HU" sz="2400" spc="-1" strike="noStrike" baseline="-30000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id</a:t>
                      </a: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Symbol"/>
                          <a:ea typeface="Symbol"/>
                        </a:rPr>
                        <a:t></a:t>
                      </a:r>
                      <a:r>
                        <a:rPr b="1" lang="hu-HU" sz="2400" spc="-1" strike="noStrike" baseline="-30000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Vas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142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2965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100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625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3125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861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luminium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64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204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,981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696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7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35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434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Réz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709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7498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,982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248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56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78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7943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Nikkel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7309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1639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6,684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070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5875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2937,5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936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Magnézium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667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654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,441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48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56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80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6349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Elméleti- </a:t>
            </a:r>
            <a:r>
              <a:rPr b="1" lang="en-US" sz="4000" spc="-1" strike="noStrike" u="sng">
                <a:solidFill>
                  <a:srgbClr val="ea2d00"/>
                </a:solidFill>
                <a:uFillTx/>
                <a:latin typeface="Arial"/>
              </a:rPr>
              <a:t>gyakorlati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 szilárdság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28600" y="2286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örési szívósság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Times New Roman"/>
              </a:rPr>
              <a:t> meghatározá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648320" y="1066680"/>
          <a:ext cx="342900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066680"/>
                    <a:ext cx="34290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380880" y="1447920"/>
            <a:ext cx="3962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cc"/>
                </a:solidFill>
                <a:latin typeface="Times New Roman"/>
              </a:rPr>
              <a:t>Feltételezett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K</a:t>
            </a:r>
            <a:r>
              <a:rPr b="1" lang="en-GB" sz="4000" spc="-1" strike="noStrike" baseline="-25000">
                <a:solidFill>
                  <a:srgbClr val="0000cc"/>
                </a:solidFill>
                <a:latin typeface="Times New Roman"/>
              </a:rPr>
              <a:t>Ic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2514600"/>
            <a:ext cx="253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Ellenörzés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762120" y="3048120"/>
          <a:ext cx="3809880" cy="12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38098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1143000" y="4191120"/>
          <a:ext cx="1676520" cy="13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191120"/>
                    <a:ext cx="167652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4800600" y="3276720"/>
            <a:ext cx="4038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=2,5 </a:t>
            </a:r>
            <a:r>
              <a:rPr b="1" lang="hu-HU" sz="2800" spc="-1" strike="noStrike">
                <a:solidFill>
                  <a:srgbClr val="0000cc"/>
                </a:solidFill>
                <a:latin typeface="Times New Roman"/>
              </a:rPr>
              <a:t>acélok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=4 aluminium</a:t>
            </a:r>
            <a:r>
              <a:rPr b="1" lang="hu-HU" sz="2800" spc="-1" strike="noStrike">
                <a:solidFill>
                  <a:srgbClr val="0000cc"/>
                </a:solidFill>
                <a:latin typeface="Times New Roman"/>
              </a:rPr>
              <a:t> ötvözetei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28600" y="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Törési szívósság meghatározása 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RIDEG anyagokná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380880" y="1523880"/>
          <a:ext cx="853452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53452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7" name=""/>
          <p:cNvGrpSpPr/>
          <p:nvPr/>
        </p:nvGrpSpPr>
        <p:grpSpPr>
          <a:xfrm>
            <a:off x="1066680" y="5181480"/>
            <a:ext cx="3124440" cy="762120"/>
            <a:chOff x="1066680" y="5181480"/>
            <a:chExt cx="3124440" cy="762120"/>
          </a:xfrm>
        </p:grpSpPr>
        <p:sp>
          <p:nvSpPr>
            <p:cNvPr id="428" name=""/>
            <p:cNvSpPr/>
            <p:nvPr/>
          </p:nvSpPr>
          <p:spPr>
            <a:xfrm>
              <a:off x="1066680" y="5181480"/>
              <a:ext cx="3124440" cy="762120"/>
            </a:xfrm>
            <a:prstGeom prst="wedgeEllipseCallout">
              <a:avLst>
                <a:gd name="adj1" fmla="val -25203"/>
                <a:gd name="adj2" fmla="val -258333"/>
              </a:avLst>
            </a:prstGeom>
            <a:solidFill>
              <a:srgbClr val="6600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52480" y="53341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FM próbatest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334120" y="5105520"/>
            <a:ext cx="3124080" cy="761760"/>
            <a:chOff x="5334120" y="5105520"/>
            <a:chExt cx="3124080" cy="761760"/>
          </a:xfrm>
        </p:grpSpPr>
        <p:sp>
          <p:nvSpPr>
            <p:cNvPr id="431" name=""/>
            <p:cNvSpPr/>
            <p:nvPr/>
          </p:nvSpPr>
          <p:spPr>
            <a:xfrm>
              <a:off x="5334120" y="5105520"/>
              <a:ext cx="3124080" cy="761760"/>
            </a:xfrm>
            <a:prstGeom prst="wedgeEllipseCallout">
              <a:avLst>
                <a:gd name="adj1" fmla="val -33435"/>
                <a:gd name="adj2" fmla="val -405208"/>
              </a:avLst>
            </a:prstGeom>
            <a:solidFill>
              <a:srgbClr val="6600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91320" y="52578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Vickers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28600" y="22860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Törési szívósság meghatározása 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ff0000"/>
                </a:solidFill>
                <a:uFillTx/>
                <a:latin typeface="Times New Roman"/>
              </a:rPr>
              <a:t>RIDEG anyagokná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76320" y="1905120"/>
          <a:ext cx="899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05120"/>
                    <a:ext cx="899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1447920"/>
            <a:ext cx="8915400" cy="43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3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1" i="1" lang="hu-HU" sz="3200" spc="-1" strike="noStrike" baseline="-25000">
                <a:solidFill>
                  <a:srgbClr val="0000cc"/>
                </a:solidFill>
                <a:latin typeface="Times New Roman"/>
              </a:rPr>
              <a:t>c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= 0,0515 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F/c</a:t>
            </a:r>
            <a:r>
              <a:rPr b="1" lang="hu-HU" sz="3200" spc="-1" strike="noStrike" baseline="30000">
                <a:solidFill>
                  <a:srgbClr val="0000cc"/>
                </a:solidFill>
                <a:latin typeface="Times New Roman"/>
              </a:rPr>
              <a:t>1,5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49"/>
              </a:spcBef>
              <a:buClr>
                <a:srgbClr val="00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1" i="1" lang="hu-HU" sz="3200" spc="-1" strike="noStrike" baseline="-25000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 = 0,0363 (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E/HV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hu-HU" sz="3200" spc="-1" strike="noStrike" baseline="30000">
                <a:solidFill>
                  <a:srgbClr val="0000cc"/>
                </a:solidFill>
                <a:latin typeface="Times New Roman"/>
              </a:rPr>
              <a:t>0,4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 (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F/a</a:t>
            </a:r>
            <a:r>
              <a:rPr b="1" lang="hu-HU" sz="3200" spc="-1" strike="noStrike" baseline="30000">
                <a:solidFill>
                  <a:srgbClr val="0000cc"/>
                </a:solidFill>
                <a:latin typeface="Times New Roman"/>
              </a:rPr>
              <a:t>1,5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) (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a/c</a:t>
            </a:r>
            <a:r>
              <a:rPr b="1" lang="hu-HU" sz="3200" spc="-1" strike="noStrike" baseline="30000">
                <a:solidFill>
                  <a:srgbClr val="0000cc"/>
                </a:solidFill>
                <a:latin typeface="Times New Roman"/>
              </a:rPr>
              <a:t>1,56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49"/>
              </a:spcBef>
              <a:buClr>
                <a:srgbClr val="00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1" i="1" lang="hu-HU" sz="3200" spc="-1" strike="noStrike" baseline="-25000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 = 0,0417 [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f(E/HV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)]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/(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hu-HU" sz="3200" spc="-1" strike="noStrike" baseline="30000">
                <a:solidFill>
                  <a:srgbClr val="0000cc"/>
                </a:solidFill>
                <a:latin typeface="Times New Roman"/>
              </a:rPr>
              <a:t>0,42</a:t>
            </a:r>
            <a:r>
              <a:rPr b="1" lang="hu-HU" sz="3200" spc="-1" strike="noStrike">
                <a:solidFill>
                  <a:srgbClr val="0000cc"/>
                </a:solidFill>
                <a:latin typeface="MT Symbol"/>
              </a:rPr>
              <a:t>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hu-HU" sz="3200" spc="-1" strike="noStrike" baseline="30000">
                <a:solidFill>
                  <a:srgbClr val="0000cc"/>
                </a:solidFill>
                <a:latin typeface="Times New Roman"/>
              </a:rPr>
              <a:t>1,08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ha </a:t>
            </a:r>
            <a:r>
              <a:rPr b="1" i="1" lang="hu-HU" sz="3200" spc="-1" strike="noStrike">
                <a:solidFill>
                  <a:srgbClr val="0000cc"/>
                </a:solidFill>
                <a:latin typeface="Times New Roman"/>
              </a:rPr>
              <a:t>c/a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cc"/>
                </a:solidFill>
                <a:latin typeface="Symbol"/>
                <a:ea typeface="Symbol"/>
              </a:rPr>
              <a:t></a:t>
            </a:r>
            <a:r>
              <a:rPr b="1" lang="hu-HU" sz="3200" spc="-1" strike="noStrike">
                <a:solidFill>
                  <a:srgbClr val="0000cc"/>
                </a:solidFill>
                <a:latin typeface="Times New Roman"/>
              </a:rPr>
              <a:t> 2,8</a:t>
            </a:r>
            <a:r>
              <a:rPr b="1" lang="hu-HU" sz="2800" spc="-1" strike="noStrike">
                <a:solidFill>
                  <a:srgbClr val="0000cc"/>
                </a:solidFill>
                <a:latin typeface="Times New Roman"/>
              </a:rPr>
              <a:t> , ahol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3" marL="1371600" algn="just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f(</a:t>
            </a:r>
            <a:r>
              <a:rPr b="1" i="1" lang="hu-HU" sz="2800" spc="-1" strike="noStrike">
                <a:solidFill>
                  <a:srgbClr val="ff0000"/>
                </a:solidFill>
                <a:latin typeface="Times New Roman"/>
              </a:rPr>
              <a:t>E/HV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)=[(</a:t>
            </a:r>
            <a:r>
              <a:rPr b="1" lang="hu-HU" sz="2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hu-HU" sz="2800" spc="-1" strike="noStrike" baseline="30000">
                <a:solidFill>
                  <a:srgbClr val="ff0000"/>
                </a:solidFill>
                <a:latin typeface="Times New Roman"/>
              </a:rPr>
              <a:t> 2</a:t>
            </a:r>
            <a:r>
              <a:rPr b="1" lang="hu-HU" sz="2800" spc="-1" strike="noStrike" baseline="-25000">
                <a:solidFill>
                  <a:srgbClr val="ff0000"/>
                </a:solidFill>
                <a:latin typeface="Times New Roman"/>
              </a:rPr>
              <a:t>exp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hu-HU" sz="28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) -1,5]/0,75, ahol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3" marL="1371600" algn="just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=2[1+3ln (</a:t>
            </a:r>
            <a:r>
              <a:rPr b="1" lang="hu-HU" sz="2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hu-HU" sz="2800" spc="-1" strike="noStrike" baseline="-25000">
                <a:solidFill>
                  <a:srgbClr val="ff0000"/>
                </a:solidFill>
                <a:latin typeface="Times New Roman"/>
              </a:rPr>
              <a:t>exp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)]/3 és </a:t>
            </a:r>
            <a:r>
              <a:rPr b="1" lang="hu-HU" sz="2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hu-HU" sz="2800" spc="-1" strike="noStrike" baseline="-25000">
                <a:solidFill>
                  <a:srgbClr val="ff0000"/>
                </a:solidFill>
                <a:latin typeface="Times New Roman"/>
              </a:rPr>
              <a:t>exp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=0,768 (</a:t>
            </a:r>
            <a:r>
              <a:rPr b="1" i="1" lang="hu-HU" sz="2800" spc="-1" strike="noStrike">
                <a:solidFill>
                  <a:srgbClr val="ff0000"/>
                </a:solidFill>
                <a:latin typeface="Times New Roman"/>
              </a:rPr>
              <a:t>E/HV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hu-HU" sz="2800" spc="-1" strike="noStrike" baseline="30000">
                <a:solidFill>
                  <a:srgbClr val="ff0000"/>
                </a:solidFill>
                <a:latin typeface="Times New Roman"/>
              </a:rPr>
              <a:t>0,408</a:t>
            </a:r>
            <a:r>
              <a:rPr b="1" lang="hu-HU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380880"/>
            <a:ext cx="5715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</a:t>
            </a: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 K</a:t>
            </a:r>
            <a:r>
              <a:rPr b="1" lang="en-GB" sz="4000" spc="-1" strike="noStrike" u="sng" baseline="-25000">
                <a:solidFill>
                  <a:srgbClr val="0000cc"/>
                </a:solidFill>
                <a:uFillTx/>
                <a:latin typeface="Times New Roman"/>
              </a:rPr>
              <a:t>Ic</a:t>
            </a:r>
            <a:r>
              <a:rPr b="1" lang="hu-HU" sz="4000" spc="-1" strike="noStrike" u="sng" baseline="-25000">
                <a:solidFill>
                  <a:srgbClr val="0000cc"/>
                </a:solidFill>
                <a:uFillTx/>
                <a:latin typeface="Times New Roman"/>
              </a:rPr>
              <a:t>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becslése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755640" y="512640"/>
            <a:ext cx="7848720" cy="608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48360" y="4005360"/>
            <a:ext cx="1368360" cy="208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ABS-PS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Polypropylene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Nylon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Nagy sűrűségű)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PS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Polyethylene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Polycarbonate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(Alacsony sűrűségű)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PMMA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Polyester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Epoxy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219640" y="4797000"/>
            <a:ext cx="0" cy="70164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16000" y="115920"/>
            <a:ext cx="1655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Kerámiák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32000" y="189000"/>
            <a:ext cx="16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Fémek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59280" y="189000"/>
            <a:ext cx="16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Polimerek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88000" y="117360"/>
            <a:ext cx="165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Kompozitok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79280" y="47628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16000" y="4149720"/>
            <a:ext cx="1584360" cy="24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Si</a:t>
            </a:r>
            <a:r>
              <a:rPr b="0" lang="it-IT" sz="1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it-IT" sz="12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Al</a:t>
            </a:r>
            <a:r>
              <a:rPr b="0" lang="it-IT" sz="12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it-IT" sz="1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SiC,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MgO,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Kőzetek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Szóda üveg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Cement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Ice*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258920" y="4581000"/>
            <a:ext cx="0" cy="158436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55640" y="1184400"/>
            <a:ext cx="1443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55640" y="91440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5640" y="140004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5640" y="156204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102240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5640" y="2335320"/>
            <a:ext cx="1443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190332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55640" y="195732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640" y="201132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5640" y="206532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5640" y="255096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55640" y="271296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5640" y="217332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5640" y="3486240"/>
            <a:ext cx="1443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5640" y="305424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310824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5640" y="316224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55640" y="321624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55640" y="370188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86388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55640" y="332424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55640" y="4637160"/>
            <a:ext cx="1443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5640" y="420516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55640" y="425916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5640" y="431316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5640" y="436716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55640" y="485316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55640" y="501480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" y="447516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55640" y="5788080"/>
            <a:ext cx="1443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5640" y="535608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5640" y="541008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5640" y="546408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55640" y="551808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55640" y="600408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5640" y="616572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55640" y="5626080"/>
            <a:ext cx="71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8000" y="3500280"/>
                <a:ext cx="2006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Nm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179280" y="112536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9280" y="184464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9280" y="256536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9280" y="328464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400536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9280" y="458136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9280" y="515772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79280" y="587700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9280" y="652608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59280" y="549360"/>
            <a:ext cx="1726920" cy="46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Tiszta fémek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Acélok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HY 130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Lágyacélok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Ti ötvözetek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H.S. steels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Al ötvözetek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Közepesen ötvözött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acélok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Berrilium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17840" y="3141720"/>
            <a:ext cx="1081080" cy="1366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Metals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which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cleave: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BCC/HCP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metals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at low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temps.*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020000" y="1413000"/>
            <a:ext cx="1368360" cy="352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Üvegszál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BFRP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GFRP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CFRP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Cermets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</a:rPr>
              <a:t>Fák,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┴</a:t>
            </a:r>
            <a:r>
              <a:rPr b="0" lang="hu-HU" sz="12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hu-HU" sz="1200" spc="-1" strike="noStrike">
                <a:solidFill>
                  <a:srgbClr val="0000cc"/>
                </a:solidFill>
                <a:latin typeface="Arial"/>
                <a:ea typeface="Arial"/>
              </a:rPr>
              <a:t>grain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  <a:ea typeface="Arial"/>
              </a:rPr>
              <a:t>CFRP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  <a:ea typeface="Arial"/>
              </a:rPr>
              <a:t>Erősített beton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  <a:ea typeface="Arial"/>
              </a:rPr>
              <a:t>Fák,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cc"/>
                </a:solidFill>
                <a:latin typeface="Arial"/>
                <a:ea typeface="Arial"/>
              </a:rPr>
              <a:t>II grain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7164360" y="1773000"/>
            <a:ext cx="1440" cy="115092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8244000" y="1773360"/>
            <a:ext cx="1440" cy="42840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0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500"/>
                            </p:stCondLst>
                            <p:childTnLst>
                              <p:par>
                                <p:cTn id="16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447920" y="228600"/>
            <a:ext cx="650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</a:t>
            </a: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 K</a:t>
            </a:r>
            <a:r>
              <a:rPr b="1" lang="en-GB" sz="4000" spc="-1" strike="noStrike" u="sng" baseline="-25000">
                <a:solidFill>
                  <a:srgbClr val="0000cc"/>
                </a:solidFill>
                <a:uFillTx/>
                <a:latin typeface="Times New Roman"/>
              </a:rPr>
              <a:t>Ic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értéke néhány anyagr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0" y="1346040"/>
          <a:ext cx="9118440" cy="38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6040"/>
                    <a:ext cx="9118440" cy="38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752480" y="457200"/>
            <a:ext cx="5715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</a:t>
            </a: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 K</a:t>
            </a:r>
            <a:r>
              <a:rPr b="1" lang="en-GB" sz="4000" spc="-1" strike="noStrike" u="sng" baseline="-25000">
                <a:solidFill>
                  <a:srgbClr val="0000cc"/>
                </a:solidFill>
                <a:uFillTx/>
                <a:latin typeface="Times New Roman"/>
              </a:rPr>
              <a:t>Ic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nagyságrendje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0" y="1754280"/>
          <a:ext cx="9107640" cy="355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4280"/>
                    <a:ext cx="910764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752480" y="304920"/>
            <a:ext cx="5715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A</a:t>
            </a:r>
            <a:r>
              <a:rPr b="1" lang="en-GB" sz="4000" spc="-1" strike="noStrike" u="sng">
                <a:solidFill>
                  <a:srgbClr val="0000cc"/>
                </a:solidFill>
                <a:uFillTx/>
                <a:latin typeface="Times New Roman"/>
              </a:rPr>
              <a:t> K</a:t>
            </a:r>
            <a:r>
              <a:rPr b="1" lang="en-GB" sz="4000" spc="-1" strike="noStrike" u="sng" baseline="-25000">
                <a:solidFill>
                  <a:srgbClr val="0000cc"/>
                </a:solidFill>
                <a:uFillTx/>
                <a:latin typeface="Times New Roman"/>
              </a:rPr>
              <a:t>Ic </a:t>
            </a:r>
            <a:r>
              <a:rPr b="1" lang="hu-HU" sz="4000" spc="-1" strike="noStrike" u="sng">
                <a:solidFill>
                  <a:srgbClr val="0000cc"/>
                </a:solidFill>
                <a:uFillTx/>
                <a:latin typeface="Times New Roman"/>
              </a:rPr>
              <a:t>nyagyságrendje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0" y="1754280"/>
          <a:ext cx="9131400" cy="289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4280"/>
                    <a:ext cx="9131400" cy="28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Képlékeny alakváltozá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Elméleti szilárdság,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R</a:t>
            </a:r>
            <a:r>
              <a:rPr b="1" lang="hu-HU" sz="2800" spc="-1" strike="noStrike" baseline="-25000">
                <a:solidFill>
                  <a:srgbClr val="ea2d00"/>
                </a:solidFill>
                <a:latin typeface="Arial"/>
              </a:rPr>
              <a:t>elm</a:t>
            </a:r>
            <a:r>
              <a:rPr b="1" lang="hu-HU" sz="2800" spc="-1" strike="noStrike">
                <a:solidFill>
                  <a:srgbClr val="ea2d00"/>
                </a:solidFill>
                <a:latin typeface="Symbol"/>
                <a:ea typeface="Symbol"/>
              </a:rPr>
              <a:t>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 E/8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Gyakorlati szilárdság </a:t>
            </a: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1" lang="hu-HU" sz="2800" spc="-1" strike="noStrike" baseline="-25000">
                <a:solidFill>
                  <a:srgbClr val="000099"/>
                </a:solidFill>
                <a:latin typeface="Arial"/>
              </a:rPr>
              <a:t>gyak</a:t>
            </a:r>
            <a:r>
              <a:rPr b="1" lang="hu-HU" sz="28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 R</a:t>
            </a:r>
            <a:r>
              <a:rPr b="1" lang="hu-HU" sz="2800" spc="-1" strike="noStrike" baseline="-25000">
                <a:solidFill>
                  <a:srgbClr val="000099"/>
                </a:solidFill>
                <a:latin typeface="Arial"/>
              </a:rPr>
              <a:t>elm</a:t>
            </a: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 /1000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Oka:</a:t>
            </a:r>
            <a:r>
              <a:rPr b="1" lang="hu-HU" sz="2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hu-HU" sz="2800" spc="-1" strike="noStrike" u="sng">
                <a:solidFill>
                  <a:srgbClr val="000099"/>
                </a:solidFill>
                <a:uFillTx/>
                <a:latin typeface="Arial"/>
              </a:rPr>
              <a:t>RÁCSHIBÁK</a:t>
            </a: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 (pontszerű, vonalszerű, térbeli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Képlékeny alakváltozás jellemzői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(atomi, mikroszkópikus  és makroszkópikus szinten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Diszlokáció vonala, Burgers vekto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Éldiszlokáció (b </a:t>
            </a:r>
            <a:r>
              <a:rPr b="1" lang="hu-HU" sz="1800" spc="-1" strike="noStrike">
                <a:solidFill>
                  <a:srgbClr val="ea2d00"/>
                </a:solidFill>
                <a:latin typeface="Symbol"/>
                <a:ea typeface="Symbol"/>
              </a:rPr>
              <a:t></a:t>
            </a: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 a diszlokáció vonalára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Csavar diszlokáció (b </a:t>
            </a:r>
            <a:r>
              <a:rPr b="1" lang="hu-HU" sz="1800" spc="-1" strike="noStrike">
                <a:solidFill>
                  <a:srgbClr val="ea2d00"/>
                </a:solidFill>
                <a:latin typeface="Arial"/>
              </a:rPr>
              <a:t>II</a:t>
            </a: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 a diszlokáció vonalával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Eltérés oka =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kristályhibák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63280" y="1197000"/>
            <a:ext cx="5472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Vonalszerű kristály hibák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860480"/>
          <a:ext cx="388944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60480"/>
                    <a:ext cx="388944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92360" y="1700280"/>
            <a:ext cx="5904000" cy="3600360"/>
            <a:chOff x="3492360" y="1700280"/>
            <a:chExt cx="5904000" cy="3600360"/>
          </a:xfrm>
        </p:grpSpPr>
        <p:graphicFrame>
          <p:nvGraphicFramePr>
            <p:cNvPr id="111" name=""/>
            <p:cNvGraphicFramePr/>
            <p:nvPr/>
          </p:nvGraphicFramePr>
          <p:xfrm>
            <a:off x="3492360" y="1773360"/>
            <a:ext cx="5651640" cy="352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360" y="1773360"/>
                      <a:ext cx="5651640" cy="35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6408720" y="1700280"/>
              <a:ext cx="29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A csavar - diszlokáció tengelye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95280" y="5084640"/>
            <a:ext cx="2881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cc"/>
                </a:solidFill>
                <a:latin typeface="Times New Roman"/>
              </a:rPr>
              <a:t>Éldiszlokáció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5229360"/>
            <a:ext cx="4032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avar- diszlokáció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1700280"/>
            <a:ext cx="432000" cy="1800000"/>
          </a:xfrm>
          <a:prstGeom prst="ellipse">
            <a:avLst/>
          </a:prstGeom>
          <a:solidFill>
            <a:srgbClr val="00cc99">
              <a:alpha val="14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1773360"/>
            <a:ext cx="1008360" cy="2232000"/>
          </a:xfrm>
          <a:prstGeom prst="ellipse">
            <a:avLst/>
          </a:prstGeom>
          <a:solidFill>
            <a:srgbClr val="00cc99">
              <a:alpha val="14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Eltérés oka =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kristályhibák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052640"/>
            <a:ext cx="662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Összetett vonalszerű rács hibák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24000" y="1557360"/>
          <a:ext cx="42483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42483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0" y="3543480"/>
          <a:ext cx="2897280" cy="23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43480"/>
                    <a:ext cx="289728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05520" y="1989000"/>
          <a:ext cx="3071880" cy="33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05520" y="1989000"/>
                    <a:ext cx="307188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6:00:05Z</dcterms:created>
  <dc:creator>Rendszergazda</dc:creator>
  <dc:description/>
  <dc:language>en-US</dc:language>
  <cp:lastModifiedBy>Dr. Tóth László</cp:lastModifiedBy>
  <cp:lastPrinted>2000-01-21T12:49:09Z</cp:lastPrinted>
  <dcterms:modified xsi:type="dcterms:W3CDTF">2008-10-15T16:38:37Z</dcterms:modified>
  <cp:revision>117</cp:revision>
  <dc:subject/>
  <dc:title>Nincs diacím</dc:title>
</cp:coreProperties>
</file>