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35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463-4437-4A9C-A44E-213604128FCC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7C5-1C8A-4A70-81A8-5EC34CD0A31B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99C-B3A1-406D-BD3F-DA463EA51E31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062D-0057-40EE-B5CB-BE769A08D1AA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FBB-36FF-4654-8AA0-BE058B79D453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EF7-16E1-47FE-916A-5C41D9ABC104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14D4-97AC-4BCD-BD44-15485D54CDD2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CEF-2C99-43AA-84B9-EF968C5CB837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C54-C945-4642-8950-2494B8BD6D73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3B4-03AC-47F8-8F17-C8E811A61E0E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27E-F885-4AF3-9D92-1E6667421C20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BC3-A700-41F5-9974-224317A0450D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44C-40A6-441F-AF7D-808BF0ED700C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617-BF7F-4D8B-9247-2A63FF8E2D7F}" type="slidenum">
              <a:rPr b="1" lang="hu-HU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A46-D00D-4A83-9715-BEBE42AD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30B-073D-4B8B-AA1B-91B6E39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44C-904E-4357-A460-466B4BB2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D20-758E-4157-B149-F9481F92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205-7529-4320-95E1-092E42D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E91-FE8B-4FA8-AEB1-732410B8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684-A38D-44A2-87EE-712F8C12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A9C-3BE8-4F58-8CE1-AC020E36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130-202F-4C36-9A67-390653B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C01-4902-48A7-9729-660197C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E41-8FC2-4FB4-BD66-FC85C1A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419-D0D1-4B76-9142-2FC74FB6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bayback copy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AD3-DE03-4B00-BC22-6818C883CB89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Picture 8" descr="Bay_logo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 2008/2009 I. félév. Debrecen, 2008. november 3.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304920" y="1676520"/>
            <a:ext cx="5449320" cy="3949560"/>
            <a:chOff x="304920" y="1676520"/>
            <a:chExt cx="5449320" cy="3949560"/>
          </a:xfrm>
        </p:grpSpPr>
        <p:sp>
          <p:nvSpPr>
            <p:cNvPr id="54" name="Rectangle 4"/>
            <p:cNvSpPr/>
            <p:nvPr/>
          </p:nvSpPr>
          <p:spPr>
            <a:xfrm>
              <a:off x="304920" y="167652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Picture 5" descr="Bayep"/>
            <p:cNvPicPr/>
            <p:nvPr/>
          </p:nvPicPr>
          <p:blipFill>
            <a:blip r:embed="rId1"/>
            <a:stretch/>
          </p:blipFill>
          <p:spPr>
            <a:xfrm>
              <a:off x="384480" y="179316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5105520" y="2781360"/>
            <a:ext cx="4038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@bzlogi.hu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Eutektikus rendszer + fémes vegyül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0" y="907920"/>
          <a:ext cx="70866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70866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"/>
          <p:cNvSpPr/>
          <p:nvPr/>
        </p:nvSpPr>
        <p:spPr>
          <a:xfrm>
            <a:off x="5580000" y="4653000"/>
            <a:ext cx="291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F+Sz = 1+2=3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Eutektikum + korlátolt szilárd old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583080" y="64008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940e"/>
                </a:solidFill>
                <a:latin typeface="Times New Roman"/>
              </a:rPr>
              <a:t>7.27. ábra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1197000"/>
          <a:ext cx="91440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Jellegzetes átalakuláso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054080" y="1341360"/>
          <a:ext cx="808992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341360"/>
                    <a:ext cx="808992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Vasötvözete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9636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cc"/>
                </a:solidFill>
                <a:uFillTx/>
                <a:latin typeface="Arial"/>
              </a:rPr>
              <a:t>Fogalma: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lapötvöző a vas (Fe);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öbbalkotós ötvözetet jelent, mivel a gyártási eljárásból belekerülnek bizonyos elem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mindaddig, amíg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a Si &lt; 0,5 %, Mn &lt; 0,7 %, S+P &lt; 0,035 % feltétel teljesü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egyensúlyi kristályosodásuk a Fe-C kétalkotós ötvözetrend-szerben tanulmányozható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3333cc"/>
                </a:solidFill>
                <a:uFillTx/>
                <a:latin typeface="Arial"/>
              </a:rPr>
              <a:t>Vasötvözetek Hein-Charpy féle </a:t>
            </a:r>
            <a:r>
              <a:rPr b="1" lang="hu-HU" sz="3200" spc="-1" strike="noStrike" u="sng">
                <a:solidFill>
                  <a:srgbClr val="ea2d00"/>
                </a:solidFill>
                <a:uFillTx/>
                <a:latin typeface="Arial"/>
              </a:rPr>
              <a:t>ikerdiagramj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0" y="903240"/>
          <a:ext cx="91440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240"/>
                    <a:ext cx="91440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684360" y="765000"/>
          <a:ext cx="81356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81356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16"/>
          <p:cNvGrpSpPr/>
          <p:nvPr/>
        </p:nvGrpSpPr>
        <p:grpSpPr>
          <a:xfrm>
            <a:off x="3564000" y="2349360"/>
            <a:ext cx="1152360" cy="1335600"/>
            <a:chOff x="3564000" y="2349360"/>
            <a:chExt cx="1152360" cy="1335600"/>
          </a:xfrm>
        </p:grpSpPr>
        <p:sp>
          <p:nvSpPr>
            <p:cNvPr id="121" name="Line 17"/>
            <p:cNvSpPr/>
            <p:nvPr/>
          </p:nvSpPr>
          <p:spPr>
            <a:xfrm>
              <a:off x="3564000" y="234936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708360" y="328608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2,0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5940360" y="2565360"/>
            <a:ext cx="1152360" cy="1335600"/>
            <a:chOff x="5940360" y="2565360"/>
            <a:chExt cx="1152360" cy="1335600"/>
          </a:xfrm>
        </p:grpSpPr>
        <p:sp>
          <p:nvSpPr>
            <p:cNvPr id="124" name="Line 20"/>
            <p:cNvSpPr/>
            <p:nvPr/>
          </p:nvSpPr>
          <p:spPr>
            <a:xfrm>
              <a:off x="5940360" y="256536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084720" y="350208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4,2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979640" y="765000"/>
            <a:ext cx="1152360" cy="1335600"/>
            <a:chOff x="1979640" y="765000"/>
            <a:chExt cx="1152360" cy="1335600"/>
          </a:xfrm>
        </p:grpSpPr>
        <p:sp>
          <p:nvSpPr>
            <p:cNvPr id="127" name="Line 23"/>
            <p:cNvSpPr/>
            <p:nvPr/>
          </p:nvSpPr>
          <p:spPr>
            <a:xfrm>
              <a:off x="1979640" y="76500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2124000" y="170172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51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1547640" y="1413000"/>
            <a:ext cx="1152360" cy="1335240"/>
            <a:chOff x="1547640" y="1413000"/>
            <a:chExt cx="1152360" cy="1335240"/>
          </a:xfrm>
        </p:grpSpPr>
        <p:sp>
          <p:nvSpPr>
            <p:cNvPr id="130" name="Line 26"/>
            <p:cNvSpPr/>
            <p:nvPr/>
          </p:nvSpPr>
          <p:spPr>
            <a:xfrm>
              <a:off x="1547640" y="1413000"/>
              <a:ext cx="0" cy="129672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1692000" y="234936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1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2" name="Group 28"/>
          <p:cNvGrpSpPr/>
          <p:nvPr/>
        </p:nvGrpSpPr>
        <p:grpSpPr>
          <a:xfrm>
            <a:off x="2195640" y="3645000"/>
            <a:ext cx="1152360" cy="1335600"/>
            <a:chOff x="2195640" y="3645000"/>
            <a:chExt cx="1152360" cy="1335600"/>
          </a:xfrm>
        </p:grpSpPr>
        <p:sp>
          <p:nvSpPr>
            <p:cNvPr id="133" name="Line 29"/>
            <p:cNvSpPr/>
            <p:nvPr/>
          </p:nvSpPr>
          <p:spPr>
            <a:xfrm>
              <a:off x="2195640" y="3645000"/>
              <a:ext cx="0" cy="1297080"/>
            </a:xfrm>
            <a:prstGeom prst="line">
              <a:avLst/>
            </a:prstGeom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2340000" y="4581720"/>
              <a:ext cx="1008000" cy="3988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83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1476360" y="4452840"/>
            <a:ext cx="1152360" cy="1335600"/>
            <a:chOff x="1476360" y="4452840"/>
            <a:chExt cx="1152360" cy="1335600"/>
          </a:xfrm>
        </p:grpSpPr>
        <p:sp>
          <p:nvSpPr>
            <p:cNvPr id="136" name="Line 32"/>
            <p:cNvSpPr/>
            <p:nvPr/>
          </p:nvSpPr>
          <p:spPr>
            <a:xfrm>
              <a:off x="1476360" y="4452840"/>
              <a:ext cx="0" cy="1297080"/>
            </a:xfrm>
            <a:prstGeom prst="line">
              <a:avLst/>
            </a:prstGeom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20720" y="5389560"/>
              <a:ext cx="1008000" cy="3988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02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55640" y="620640"/>
          <a:ext cx="7416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416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1692360" y="1628640"/>
            <a:ext cx="1152360" cy="1335600"/>
            <a:chOff x="1692360" y="1628640"/>
            <a:chExt cx="1152360" cy="1335600"/>
          </a:xfrm>
        </p:grpSpPr>
        <p:sp>
          <p:nvSpPr>
            <p:cNvPr id="142" name="Line 5"/>
            <p:cNvSpPr/>
            <p:nvPr/>
          </p:nvSpPr>
          <p:spPr>
            <a:xfrm>
              <a:off x="1692360" y="1628640"/>
              <a:ext cx="0" cy="1297080"/>
            </a:xfrm>
            <a:prstGeom prst="line">
              <a:avLst/>
            </a:prstGeom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1836720" y="2565360"/>
              <a:ext cx="10080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2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0.16 %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50920" y="836640"/>
          <a:ext cx="815328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1532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8"/>
          <p:cNvSpPr/>
          <p:nvPr/>
        </p:nvSpPr>
        <p:spPr>
          <a:xfrm>
            <a:off x="3419640" y="270828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1979640" y="2060640"/>
            <a:ext cx="4248000" cy="34560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1258920" y="1773360"/>
            <a:ext cx="2521080" cy="37432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924360" y="400536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716360" y="220500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1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619280" y="335772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1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556000" y="5084640"/>
            <a:ext cx="71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900000" y="4581360"/>
            <a:ext cx="71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=2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Fe – Fe</a:t>
            </a:r>
            <a:r>
              <a:rPr b="1" lang="hu-HU" sz="4000" spc="-1" strike="noStrike" u="sng" baseline="-25000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C rajzol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39640" y="836640"/>
          <a:ext cx="81536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36640"/>
                    <a:ext cx="81536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227808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 = 0.12 %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6227640" y="2276640"/>
          <a:ext cx="2016360" cy="16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276640"/>
                    <a:ext cx="2016360" cy="16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4"/>
          <p:cNvGraphicFramePr/>
          <p:nvPr/>
        </p:nvGraphicFramePr>
        <p:xfrm>
          <a:off x="6084720" y="333360"/>
          <a:ext cx="187200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333360"/>
                    <a:ext cx="18720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2411280" y="0"/>
            <a:ext cx="2171880" cy="583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6"/>
          <p:cNvGraphicFramePr/>
          <p:nvPr/>
        </p:nvGraphicFramePr>
        <p:xfrm>
          <a:off x="5508720" y="4219560"/>
          <a:ext cx="2950920" cy="160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219560"/>
                    <a:ext cx="295092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7"/>
          <p:cNvSpPr/>
          <p:nvPr/>
        </p:nvSpPr>
        <p:spPr>
          <a:xfrm rot="360000">
            <a:off x="3265200" y="849240"/>
            <a:ext cx="3030480" cy="214560"/>
          </a:xfrm>
          <a:prstGeom prst="rightArrow">
            <a:avLst>
              <a:gd name="adj1" fmla="val 50000"/>
              <a:gd name="adj2" fmla="val 353104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3276720" y="33336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 rot="1800000">
            <a:off x="3132000" y="1918800"/>
            <a:ext cx="3030840" cy="214560"/>
          </a:xfrm>
          <a:prstGeom prst="rightArrow">
            <a:avLst>
              <a:gd name="adj1" fmla="val 50000"/>
              <a:gd name="adj2" fmla="val 353146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AutoShape 10"/>
          <p:cNvSpPr/>
          <p:nvPr/>
        </p:nvSpPr>
        <p:spPr>
          <a:xfrm rot="1140000">
            <a:off x="3347640" y="4654440"/>
            <a:ext cx="3030480" cy="214560"/>
          </a:xfrm>
          <a:prstGeom prst="rightArrow">
            <a:avLst>
              <a:gd name="adj1" fmla="val 50000"/>
              <a:gd name="adj2" fmla="val 353104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November 3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923760"/>
            <a:ext cx="849456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507 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Francesco del Giocondo megbízza Leonardoo da VINCI-t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 felesége megfestésével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25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SZÉCHENYI István gróf birtokainak 1 éves jövedelmét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ajánlja fel az MTA létrehozásár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13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RÖKK Marika születés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36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KOSZTOLÁNYI Dezső költő, író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54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Henri MATISSE francia festőművész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57 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SZPUTNYIK-2 földkörüli pályán – Lajka kuty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KÉTHY Anna újratemetése Bp.-en (belgium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Bill CLINTON győzelme (42. elnök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 CSÁKÁNYI László halál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a2d00"/>
                </a:solidFill>
                <a:latin typeface="Arial"/>
              </a:rPr>
              <a:t>1997-től a Magyar Tudomány Napja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12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4"/>
          <p:cNvGraphicFramePr/>
          <p:nvPr/>
        </p:nvGraphicFramePr>
        <p:xfrm>
          <a:off x="3490920" y="981000"/>
          <a:ext cx="5545080" cy="587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981000"/>
                    <a:ext cx="554508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0" y="765000"/>
            <a:ext cx="2736720" cy="6093000"/>
          </a:xfrm>
          <a:prstGeom prst="rect">
            <a:avLst/>
          </a:prstGeom>
          <a:ln w="0">
            <a:noFill/>
          </a:ln>
        </p:spPr>
      </p:pic>
      <p:sp>
        <p:nvSpPr>
          <p:cNvPr id="176" name="Line 6"/>
          <p:cNvSpPr/>
          <p:nvPr/>
        </p:nvSpPr>
        <p:spPr>
          <a:xfrm>
            <a:off x="1116000" y="112536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8 %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6157800" y="476280"/>
          <a:ext cx="2735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7800" y="476280"/>
                    <a:ext cx="2735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4"/>
          <p:cNvGraphicFramePr/>
          <p:nvPr/>
        </p:nvGraphicFramePr>
        <p:xfrm>
          <a:off x="6443640" y="2637000"/>
          <a:ext cx="252108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37000"/>
                    <a:ext cx="25210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5" descr=""/>
          <p:cNvPicPr/>
          <p:nvPr/>
        </p:nvPicPr>
        <p:blipFill>
          <a:blip r:embed="rId5"/>
          <a:stretch/>
        </p:blipFill>
        <p:spPr>
          <a:xfrm>
            <a:off x="1979640" y="0"/>
            <a:ext cx="2592360" cy="580716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>
            <a:off x="3778200" y="40464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AutoShape 7"/>
          <p:cNvSpPr/>
          <p:nvPr/>
        </p:nvSpPr>
        <p:spPr>
          <a:xfrm rot="300000">
            <a:off x="3780000" y="1198080"/>
            <a:ext cx="2808000" cy="214560"/>
          </a:xfrm>
          <a:prstGeom prst="rightArrow">
            <a:avLst>
              <a:gd name="adj1" fmla="val 50000"/>
              <a:gd name="adj2" fmla="val 327181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 rot="2013000">
            <a:off x="3492000" y="2276280"/>
            <a:ext cx="3384720" cy="215640"/>
          </a:xfrm>
          <a:prstGeom prst="rightArrow">
            <a:avLst>
              <a:gd name="adj1" fmla="val 50000"/>
              <a:gd name="adj2" fmla="val 392404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3989520" y="4724280"/>
            <a:ext cx="2598480" cy="214560"/>
          </a:xfrm>
          <a:prstGeom prst="rightArrow">
            <a:avLst>
              <a:gd name="adj1" fmla="val 50000"/>
              <a:gd name="adj2" fmla="val 302768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87" name="Object 10"/>
          <p:cNvGraphicFramePr/>
          <p:nvPr/>
        </p:nvGraphicFramePr>
        <p:xfrm>
          <a:off x="6300720" y="4149720"/>
          <a:ext cx="2952720" cy="166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4149720"/>
                    <a:ext cx="29527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0,8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2771640" y="836640"/>
          <a:ext cx="637236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6372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4"/>
          <p:cNvGraphicFramePr/>
          <p:nvPr/>
        </p:nvGraphicFramePr>
        <p:xfrm>
          <a:off x="3564000" y="836640"/>
          <a:ext cx="5580000" cy="556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836640"/>
                    <a:ext cx="55800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5" descr=""/>
          <p:cNvPicPr/>
          <p:nvPr/>
        </p:nvPicPr>
        <p:blipFill>
          <a:blip r:embed="rId5"/>
          <a:stretch/>
        </p:blipFill>
        <p:spPr>
          <a:xfrm>
            <a:off x="324000" y="765000"/>
            <a:ext cx="2415960" cy="609300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2124000" y="981000"/>
            <a:ext cx="0" cy="5877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1,2 %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5867280" y="2205000"/>
          <a:ext cx="309744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309744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1979640" y="0"/>
            <a:ext cx="2592360" cy="58071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4427640" y="404640"/>
            <a:ext cx="73080" cy="5183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 rot="1206000">
            <a:off x="4355640" y="2204640"/>
            <a:ext cx="2305080" cy="216000"/>
          </a:xfrm>
          <a:prstGeom prst="rightArrow">
            <a:avLst>
              <a:gd name="adj1" fmla="val 50000"/>
              <a:gd name="adj2" fmla="val 266792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6141960" y="0"/>
          <a:ext cx="2944800" cy="21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1960" y="0"/>
                    <a:ext cx="29448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5945040" y="3645000"/>
          <a:ext cx="3198960" cy="218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5040" y="3645000"/>
                    <a:ext cx="31989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9"/>
          <p:cNvSpPr/>
          <p:nvPr/>
        </p:nvSpPr>
        <p:spPr>
          <a:xfrm>
            <a:off x="4500720" y="4724280"/>
            <a:ext cx="1655640" cy="216000"/>
          </a:xfrm>
          <a:prstGeom prst="rightArrow">
            <a:avLst>
              <a:gd name="adj1" fmla="val 50000"/>
              <a:gd name="adj2" fmla="val 191625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 rot="60000">
            <a:off x="4427640" y="1268280"/>
            <a:ext cx="2160360" cy="173160"/>
          </a:xfrm>
          <a:prstGeom prst="rightArrow">
            <a:avLst>
              <a:gd name="adj1" fmla="val 50000"/>
              <a:gd name="adj2" fmla="val 311902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3059280" y="981000"/>
          <a:ext cx="608472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81000"/>
                    <a:ext cx="6084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3984480" y="1052640"/>
          <a:ext cx="515952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4480" y="1052640"/>
                    <a:ext cx="51595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4" descr=""/>
          <p:cNvPicPr/>
          <p:nvPr/>
        </p:nvPicPr>
        <p:blipFill>
          <a:blip r:embed="rId5"/>
          <a:stretch/>
        </p:blipFill>
        <p:spPr>
          <a:xfrm>
            <a:off x="307800" y="692280"/>
            <a:ext cx="2752920" cy="6165720"/>
          </a:xfrm>
          <a:prstGeom prst="rect">
            <a:avLst/>
          </a:prstGeom>
          <a:ln w="0">
            <a:noFill/>
          </a:ln>
        </p:spPr>
      </p:pic>
      <p:sp>
        <p:nvSpPr>
          <p:cNvPr id="213" name="Line 5"/>
          <p:cNvSpPr/>
          <p:nvPr/>
        </p:nvSpPr>
        <p:spPr>
          <a:xfrm>
            <a:off x="2916360" y="1197000"/>
            <a:ext cx="73080" cy="5661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1,2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2"/>
          <p:cNvGraphicFramePr/>
          <p:nvPr/>
        </p:nvGraphicFramePr>
        <p:xfrm>
          <a:off x="0" y="1125360"/>
          <a:ext cx="909648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0964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0" y="836640"/>
            <a:ext cx="5724360" cy="50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4"/>
          <p:cNvGraphicFramePr/>
          <p:nvPr/>
        </p:nvGraphicFramePr>
        <p:xfrm>
          <a:off x="5651640" y="1052640"/>
          <a:ext cx="2158920" cy="15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052640"/>
                    <a:ext cx="21589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C=2,5 % ötvözet kristályosodás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3513240" y="834840"/>
            <a:ext cx="17280" cy="5085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 rot="20790600">
            <a:off x="3486240" y="2233440"/>
            <a:ext cx="2519280" cy="173160"/>
          </a:xfrm>
          <a:prstGeom prst="rightArrow">
            <a:avLst>
              <a:gd name="adj1" fmla="val 50000"/>
              <a:gd name="adj2" fmla="val 363721"/>
            </a:avLst>
          </a:prstGeom>
          <a:solidFill>
            <a:srgbClr val="ea2d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3" name="AutoShape 8"/>
          <p:cNvSpPr/>
          <p:nvPr/>
        </p:nvSpPr>
        <p:spPr>
          <a:xfrm rot="21124800">
            <a:off x="3479400" y="2997360"/>
            <a:ext cx="3600360" cy="215640"/>
          </a:xfrm>
          <a:prstGeom prst="rightArrow">
            <a:avLst>
              <a:gd name="adj1" fmla="val 50000"/>
              <a:gd name="adj2" fmla="val 417404"/>
            </a:avLst>
          </a:prstGeom>
          <a:solidFill>
            <a:srgbClr val="3f91ab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3492360" y="5013360"/>
            <a:ext cx="3600720" cy="144360"/>
          </a:xfrm>
          <a:prstGeom prst="rightArrow">
            <a:avLst>
              <a:gd name="adj1" fmla="val 50000"/>
              <a:gd name="adj2" fmla="val 623566"/>
            </a:avLst>
          </a:prstGeom>
          <a:solidFill>
            <a:srgbClr val="3eac7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=2,5 % ötvözet kristályosodás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4175280" y="1341360"/>
          <a:ext cx="496872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1341360"/>
                    <a:ext cx="496872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2700360" y="1413000"/>
          <a:ext cx="1519200" cy="446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413000"/>
                    <a:ext cx="15192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0" y="1268280"/>
            <a:ext cx="4076640" cy="465768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H="1">
            <a:off x="3011040" y="1339560"/>
            <a:ext cx="7200" cy="4580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ázisok és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szövetelem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3052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Ömledé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nfé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lárd oldat 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36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ínfé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Szilárd old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Eutektikum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cc"/>
                </a:solidFill>
                <a:latin typeface="Arial"/>
              </a:rPr>
              <a:t>Eutektoid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ilárd oldat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683160" cy="3024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Szubsztitúció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30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ea2d00"/>
                </a:solidFill>
                <a:uFillTx/>
                <a:latin typeface="Arial"/>
              </a:rPr>
              <a:t>Interstíció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468360" y="2133720"/>
          <a:ext cx="3645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3645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5651640" y="1989000"/>
          <a:ext cx="201600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989000"/>
                    <a:ext cx="20160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9"/>
          <p:cNvSpPr/>
          <p:nvPr/>
        </p:nvSpPr>
        <p:spPr>
          <a:xfrm>
            <a:off x="468360" y="4292640"/>
            <a:ext cx="3672000" cy="161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zonos kristályszerkezet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icsi affinitás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ea2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2d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FIZIKAI TULAJDONSÁG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00720" y="4581360"/>
            <a:ext cx="4282920" cy="904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&lt;&lt;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hu-HU" sz="2000" spc="-1" strike="noStrike" u="sng">
                <a:solidFill>
                  <a:srgbClr val="ffff00"/>
                </a:solidFill>
                <a:uFillTx/>
                <a:latin typeface="Times New Roman"/>
              </a:rPr>
              <a:t>MECHANIKAI TULAJDONSÁG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00720" y="1125000"/>
            <a:ext cx="28432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zövet-diagram az Fe-Fe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 rendszerbe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0"/>
          <a:ext cx="608652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865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IBBS - féle fázisszabál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F+SZ=2+K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 a FÁZISOK szám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= a szabadsági fokok száma (T,c,p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 a komponensek szám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Ha: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= állandó (1 szabadságfok megkötve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2d00"/>
                </a:solidFill>
                <a:latin typeface="Arial"/>
              </a:rPr>
              <a:t>Akkor: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F+SZ= 1+K </a:t>
            </a:r>
            <a:r>
              <a:rPr b="1" lang="en-US" sz="2000" spc="-1" strike="noStrike">
                <a:solidFill>
                  <a:srgbClr val="ea2d00"/>
                </a:solidFill>
                <a:latin typeface="Arial"/>
              </a:rPr>
              <a:t>(TUDNI !!!!!!!!!!!!!!!!!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27280" y="1341360"/>
            <a:ext cx="2916360" cy="38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Fázis-diagram az Fe-Fe</a:t>
            </a:r>
            <a:r>
              <a:rPr b="1" lang="hu-HU" sz="36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C rendszer-</a:t>
            </a:r>
            <a:br>
              <a:rPr sz="3600"/>
            </a:br>
            <a:r>
              <a:rPr b="1" lang="hu-HU" sz="3600" spc="-1" strike="noStrike">
                <a:solidFill>
                  <a:srgbClr val="000099"/>
                </a:solidFill>
                <a:latin typeface="Arial"/>
              </a:rPr>
              <a:t>be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0"/>
          <a:ext cx="615636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563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ázisok és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szövetelem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3052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Ömledé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nfé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lárd oldat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36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ínfé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ilárd old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Fémes vegyüle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Eutektikum (ö - sz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Eutektoid (sz – sz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Minőségi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, mennyiségi szabály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900000" y="836640"/>
          <a:ext cx="78487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8487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Line 5"/>
          <p:cNvSpPr/>
          <p:nvPr/>
        </p:nvSpPr>
        <p:spPr>
          <a:xfrm>
            <a:off x="5651640" y="1987560"/>
            <a:ext cx="0" cy="3170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3851280" y="2781360"/>
            <a:ext cx="2952720" cy="503280"/>
            <a:chOff x="3851280" y="2781360"/>
            <a:chExt cx="2952720" cy="503280"/>
          </a:xfrm>
        </p:grpSpPr>
        <p:sp>
          <p:nvSpPr>
            <p:cNvPr id="70" name="Oval 7"/>
            <p:cNvSpPr/>
            <p:nvPr/>
          </p:nvSpPr>
          <p:spPr>
            <a:xfrm>
              <a:off x="6300720" y="2781360"/>
              <a:ext cx="503280" cy="503280"/>
            </a:xfrm>
            <a:prstGeom prst="ellipse">
              <a:avLst/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3851280" y="2781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3995640" y="2781360"/>
              <a:ext cx="2521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3" name="Text Box 12"/>
          <p:cNvSpPr/>
          <p:nvPr/>
        </p:nvSpPr>
        <p:spPr>
          <a:xfrm>
            <a:off x="6877080" y="2133720"/>
            <a:ext cx="172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c.S=d.</a:t>
            </a:r>
            <a:r>
              <a:rPr b="1" lang="hu-HU" sz="3600" spc="-1" strike="noStrike">
                <a:solidFill>
                  <a:srgbClr val="ea2d00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191280" y="1413000"/>
            <a:ext cx="295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 + </a:t>
            </a:r>
            <a:r>
              <a:rPr b="1" lang="en-US" sz="3600" spc="-1" strike="noStrike">
                <a:solidFill>
                  <a:srgbClr val="ea2d00"/>
                </a:solidFill>
                <a:latin typeface="Times New Roman"/>
              </a:rPr>
              <a:t>L =100%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619280" y="5157720"/>
            <a:ext cx="936720" cy="503280"/>
          </a:xfrm>
          <a:prstGeom prst="ellipse">
            <a:avLst/>
          </a:prstGeom>
          <a:solidFill>
            <a:srgbClr val="00cc99">
              <a:alpha val="19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7523280" y="5157720"/>
            <a:ext cx="936360" cy="50328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Minőségi, </a:t>
            </a:r>
            <a:r>
              <a:rPr b="1" lang="en-US" sz="4000" spc="-1" strike="noStrike" u="sng">
                <a:solidFill>
                  <a:srgbClr val="ea2d00"/>
                </a:solidFill>
                <a:uFillTx/>
                <a:latin typeface="Arial"/>
              </a:rPr>
              <a:t>mennyiségi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szabály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900000" y="836640"/>
          <a:ext cx="78487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8487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4"/>
          <p:cNvSpPr/>
          <p:nvPr/>
        </p:nvSpPr>
        <p:spPr>
          <a:xfrm>
            <a:off x="5651640" y="1987560"/>
            <a:ext cx="0" cy="3170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3851280" y="2781360"/>
            <a:ext cx="2952720" cy="503280"/>
            <a:chOff x="3851280" y="2781360"/>
            <a:chExt cx="2952720" cy="503280"/>
          </a:xfrm>
        </p:grpSpPr>
        <p:sp>
          <p:nvSpPr>
            <p:cNvPr id="82" name="Oval 6"/>
            <p:cNvSpPr/>
            <p:nvPr/>
          </p:nvSpPr>
          <p:spPr>
            <a:xfrm>
              <a:off x="6300720" y="2781360"/>
              <a:ext cx="503280" cy="503280"/>
            </a:xfrm>
            <a:prstGeom prst="ellipse">
              <a:avLst/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851280" y="2781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3995640" y="2781360"/>
              <a:ext cx="2521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912000" y="2133720"/>
            <a:ext cx="223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2d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=c/(c+d)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08000" y="3213000"/>
            <a:ext cx="2519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 =d/(c+d)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Állapotábrák általános szabályszerűsége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hány ágú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L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IKVIDUSZ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, annyi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priméren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folyadékból) kristályosodó elemek szám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kárhogyan is húzok egy vonalat az állapot-ábrában, ha annak vonalát metszem 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FÁZISOK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száma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VÁLTOZI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Vízszintes vonal metszése kettős metsz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cc"/>
                </a:solidFill>
                <a:latin typeface="Arial"/>
              </a:rPr>
              <a:t>Függőleges vonal metszése kettős metszé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SZOLIDUSZ alatt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HOMOGÉN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(egyfázisú) területet 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görbe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vonal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határo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SZOLIDUSZ alatt </a:t>
            </a:r>
            <a:r>
              <a:rPr b="1" lang="hu-HU" sz="2800" spc="-1" strike="noStrike">
                <a:solidFill>
                  <a:srgbClr val="ff00ff"/>
                </a:solidFill>
                <a:latin typeface="Arial"/>
              </a:rPr>
              <a:t>HETEROGÉN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 (többfázisú) területet </a:t>
            </a:r>
            <a:r>
              <a:rPr b="1" lang="hu-HU" sz="2800" spc="-1" strike="noStrike">
                <a:solidFill>
                  <a:srgbClr val="ff00ff"/>
                </a:solidFill>
                <a:latin typeface="Arial"/>
              </a:rPr>
              <a:t>vizszintes</a:t>
            </a: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vonal határo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000099"/>
                </a:solidFill>
                <a:uFillTx/>
                <a:latin typeface="Arial"/>
              </a:rPr>
              <a:t>Eutektikus rendsze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395280" y="907920"/>
          <a:ext cx="830592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830592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5"/>
          <p:cNvSpPr/>
          <p:nvPr/>
        </p:nvSpPr>
        <p:spPr>
          <a:xfrm>
            <a:off x="5867280" y="189000"/>
            <a:ext cx="291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cc"/>
                </a:solidFill>
                <a:latin typeface="Times New Roman"/>
              </a:rPr>
              <a:t>F+Sz = 1+2=3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484360" y="3141720"/>
            <a:ext cx="1656000" cy="0"/>
          </a:xfrm>
          <a:prstGeom prst="line">
            <a:avLst/>
          </a:prstGeom>
          <a:ln w="19080">
            <a:solidFill>
              <a:srgbClr val="ea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2484360" y="3284640"/>
            <a:ext cx="165600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484360" y="3357720"/>
            <a:ext cx="3311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Eutektikus rendszer  + fémes vegyül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68360" y="1268280"/>
          <a:ext cx="413856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413856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427640" y="1123920"/>
          <a:ext cx="6191280" cy="412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123920"/>
                    <a:ext cx="619128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11-23T11:48:53Z</dcterms:modified>
  <cp:revision>83</cp:revision>
  <dc:subject/>
  <dc:title>Nincs diacím</dc:title>
</cp:coreProperties>
</file>