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2D4-7102-4FD9-A83C-78CB2D10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EA2-1200-415D-8572-EFE09B29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998-5047-4C6C-B416-C91B93CA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246-1184-4A37-A6AC-CC7B7B0F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BC6-8966-488C-A2F8-999A3F8C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083-0979-4165-9128-15E40974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3FC-284D-49C1-A62E-899BD8BD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A70-5D00-43C9-B0B6-971458C8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01E-B916-4C17-9737-26EB30C4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730-F1BE-4731-91C5-6927B63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A9D-9016-44E0-8FBD-67122A9C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3C8-F39E-4CCF-93E2-3C3E339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9ED5-5FD1-4D00-84C7-21262CFF0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d9ff"/>
            </a:gs>
            <a:gs pos="100000">
              <a:srgbClr val="6e6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34136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1003e"/>
                </a:solidFill>
                <a:latin typeface="Mistral"/>
              </a:rPr>
              <a:t>Diáknap 201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29242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1003e"/>
                </a:solidFill>
                <a:latin typeface="Mistral"/>
              </a:rPr>
              <a:t>powered by 12.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765000"/>
            <a:ext cx="8604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Hányszor volt Budán kutyavásá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a) egys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b) kéts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c) héts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8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3944880" cy="261756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58920" y="4365720"/>
            <a:ext cx="1905120" cy="227628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7360" y="638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915560" y="5575320"/>
            <a:ext cx="3925080" cy="1060560"/>
            <a:chOff x="1915560" y="5575320"/>
            <a:chExt cx="3925080" cy="10605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 rot="5425800">
              <a:off x="3514320" y="3993840"/>
              <a:ext cx="727200" cy="39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 rot="5300400">
              <a:off x="3073320" y="5266080"/>
              <a:ext cx="28692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468360" y="1197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Ki írta a Ludas Maty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9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 rot="206400">
            <a:off x="4643280" y="2276280"/>
            <a:ext cx="2733840" cy="331308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 rot="21462000">
            <a:off x="250560" y="2852640"/>
            <a:ext cx="4457520" cy="297036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56000" y="1700280"/>
            <a:ext cx="47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Hogy hívják a Macskafogó egér főszereplőjé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0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744640" y="4458600"/>
            <a:ext cx="4478760" cy="1828800"/>
            <a:chOff x="2744640" y="4458600"/>
            <a:chExt cx="4478760" cy="182880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 rot="5208000">
              <a:off x="4436640" y="2916000"/>
              <a:ext cx="1094040" cy="44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 rot="5082600">
              <a:off x="4059720" y="4602960"/>
              <a:ext cx="431640" cy="26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6581880" y="6400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3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70028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Melyik században játszódik a Szaffi című magyar rajzfil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1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49840" y="3917160"/>
            <a:ext cx="5835600" cy="2480040"/>
            <a:chOff x="1149840" y="3917160"/>
            <a:chExt cx="5835600" cy="24800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 rot="5208000">
              <a:off x="3320640" y="1942560"/>
              <a:ext cx="1493280" cy="57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 rot="5082600">
              <a:off x="2851560" y="4190760"/>
              <a:ext cx="588960" cy="350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052640"/>
            <a:ext cx="72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Hogy hívják a Frakk, a macskák réme című </a:t>
            </a: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rajzfilm két macska </a:t>
            </a: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szereplőjé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2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21432000">
            <a:off x="468000" y="3357720"/>
            <a:ext cx="3097080" cy="292896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grpSp>
        <p:nvGrpSpPr>
          <p:cNvPr id="111" name=""/>
          <p:cNvGrpSpPr/>
          <p:nvPr/>
        </p:nvGrpSpPr>
        <p:grpSpPr>
          <a:xfrm>
            <a:off x="3824640" y="4553280"/>
            <a:ext cx="3652920" cy="1710720"/>
            <a:chOff x="3824640" y="4553280"/>
            <a:chExt cx="3652920" cy="171072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 rot="5208000">
              <a:off x="5128560" y="3375000"/>
              <a:ext cx="104472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 rot="5082600">
              <a:off x="4869000" y="4862880"/>
              <a:ext cx="411840" cy="218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1987920"/>
            <a:ext cx="70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Milyen színű a Kockásfülű nyúl fül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3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45880" y="3623040"/>
            <a:ext cx="6091200" cy="2708280"/>
            <a:chOff x="1145880" y="3623040"/>
            <a:chExt cx="6091200" cy="27082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 rot="5208000">
              <a:off x="3370320" y="1605600"/>
              <a:ext cx="1641600" cy="600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 rot="5082600">
              <a:off x="2905920" y="4013280"/>
              <a:ext cx="647640" cy="365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460240" y="4950000"/>
            <a:ext cx="4904280" cy="1709640"/>
            <a:chOff x="2460240" y="4950000"/>
            <a:chExt cx="4904280" cy="17096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 rot="5208000">
              <a:off x="4414680" y="3153960"/>
              <a:ext cx="995400" cy="485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 rot="5082600">
              <a:off x="3938760" y="4851000"/>
              <a:ext cx="392400" cy="295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250920" y="1961640"/>
            <a:ext cx="705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Ki volt az a népmesegyűjtő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akih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gyerekkoráb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Petőfi Sánd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verset í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4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788000" y="1557360"/>
            <a:ext cx="261612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19280" y="191592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Lucida Sans"/>
              </a:rPr>
              <a:t>Ki Vízipók legjobb barátj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5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24000" y="4072320"/>
            <a:ext cx="5430600" cy="2312280"/>
            <a:chOff x="1224000" y="4072320"/>
            <a:chExt cx="5430600" cy="23122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 rot="5208000">
              <a:off x="3242880" y="2236320"/>
              <a:ext cx="1392480" cy="536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 rot="5082600">
              <a:off x="2806560" y="4330800"/>
              <a:ext cx="549360" cy="326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32000" y="1340280"/>
            <a:ext cx="52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Minek a rövidítése Vuk ne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6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64400" y="3628800"/>
            <a:ext cx="5869800" cy="2553120"/>
            <a:chOff x="1364400" y="3628800"/>
            <a:chExt cx="5869800" cy="255312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 rot="5208000">
              <a:off x="3528000" y="1663920"/>
              <a:ext cx="1542600" cy="57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 rot="5082600">
              <a:off x="3068280" y="3954960"/>
              <a:ext cx="608400" cy="352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5912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140360" y="2492280"/>
            <a:ext cx="24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24500"/>
                </a:solidFill>
                <a:latin typeface="Poor Richard"/>
              </a:rPr>
              <a:t>mesekví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24500"/>
              </a:solidFill>
              <a:latin typeface="Poor Richard"/>
              <a:ea typeface="Poor Richard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3574800" cy="367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4221000"/>
            <a:ext cx="7189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0" spc="-1" strike="noStrike">
                <a:solidFill>
                  <a:srgbClr val="000000"/>
                </a:solidFill>
                <a:latin typeface="Bradley Hand ITC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191200">
            <a:off x="6013440" y="5011200"/>
            <a:ext cx="5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Berlin Sans FB Dem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39337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Wide Lati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907920"/>
            <a:ext cx="6121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245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istral"/>
              </a:rPr>
              <a:t>II. Előfeladat</a:t>
            </a:r>
            <a:endParaRPr b="0" lang="en-US" sz="1800" spc="1" strike="noStrike">
              <a:ln w="9360">
                <a:solidFill>
                  <a:srgbClr val="f245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11280" y="134028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Hogy hívják Dr. Bubó asszisztensé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7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66080" y="4108320"/>
            <a:ext cx="4115880" cy="1738800"/>
            <a:chOff x="3466080" y="4108320"/>
            <a:chExt cx="4115880" cy="17388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 rot="5208000">
              <a:off x="5000760" y="2711520"/>
              <a:ext cx="104580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 rot="5082600">
              <a:off x="4667040" y="4291920"/>
              <a:ext cx="412560" cy="247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1320400">
            <a:off x="684000" y="3357720"/>
            <a:ext cx="2644560" cy="273672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1601640"/>
            <a:ext cx="6834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ennyi pénzt kér Mézga Aladár a válaszért, ha apja kérdez tőle valam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8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97080" y="3987000"/>
            <a:ext cx="5932800" cy="2340720"/>
            <a:chOff x="1297080" y="3987000"/>
            <a:chExt cx="5932800" cy="234072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rot="5208000">
              <a:off x="3567240" y="1913760"/>
              <a:ext cx="1392480" cy="58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 rot="5082600">
              <a:off x="3051000" y="4106520"/>
              <a:ext cx="549360" cy="356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32000" y="1962000"/>
            <a:ext cx="42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Miért büntették meg a Csillagszemű   juhászt?</a:t>
            </a: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9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4000" y="1270080"/>
            <a:ext cx="2705040" cy="4438440"/>
            <a:chOff x="324000" y="1270080"/>
            <a:chExt cx="2705040" cy="44384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324000" y="1270080"/>
              <a:ext cx="2705040" cy="4438440"/>
            </a:xfrm>
            <a:prstGeom prst="rect">
              <a:avLst/>
            </a:prstGeom>
            <a:ln w="12600">
              <a:solidFill>
                <a:srgbClr val="ff3300"/>
              </a:solidFill>
              <a:miter/>
            </a:ln>
          </p:spPr>
        </p:pic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2268360" y="5373720"/>
              <a:ext cx="73368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400200" y="4754160"/>
            <a:ext cx="4174560" cy="1380960"/>
            <a:chOff x="3400200" y="4754160"/>
            <a:chExt cx="4174560" cy="13809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 rot="5208000">
              <a:off x="5089680" y="3198240"/>
              <a:ext cx="795600" cy="41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 rot="5082600">
              <a:off x="4669200" y="4604760"/>
              <a:ext cx="313560" cy="251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26920" y="1698840"/>
            <a:ext cx="611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Sorolj fel min. 3 népmesei motívumo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20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45880" y="3623040"/>
            <a:ext cx="6091200" cy="2708280"/>
            <a:chOff x="1145880" y="3623040"/>
            <a:chExt cx="6091200" cy="270828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 rot="5208000">
              <a:off x="3370320" y="1605600"/>
              <a:ext cx="1641600" cy="600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 rot="5082600">
              <a:off x="2905920" y="4013280"/>
              <a:ext cx="647640" cy="365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084640"/>
            <a:ext cx="9144000" cy="1297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0846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24500"/>
                </a:solidFill>
                <a:latin typeface="Mistral"/>
              </a:rPr>
              <a:t>Köszönjük a figyelmet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55360" y="6400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52640"/>
            <a:ext cx="80643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200" spc="-1" strike="noStrike">
                <a:solidFill>
                  <a:srgbClr val="000000"/>
                </a:solidFill>
                <a:latin typeface="Lucida Sans"/>
              </a:rPr>
              <a:t>Mit tud Pom Pom, a mesehős változtatni a rajzfilmbe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a) hangjá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b) színé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c) alakjá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427800">
            <a:off x="3995280" y="3715920"/>
            <a:ext cx="3291120" cy="250020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1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836640"/>
            <a:ext cx="795636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Milyen állat Kacor kirá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a) oroszl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b) macs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c) diszn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2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84360" y="4149720"/>
            <a:ext cx="2695680" cy="203832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384000">
            <a:off x="5364000" y="4076280"/>
            <a:ext cx="2108520" cy="228924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rot="21262200">
            <a:off x="394920" y="4005000"/>
            <a:ext cx="1897200" cy="232236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52640"/>
            <a:ext cx="8172360" cy="50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Ki rajzolta az alábbi híres rajzfilmeket: Lúdas Maty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Vuk, Az erdő kapitány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a) Dargay Att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b) Szabó Gy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c) Csukás Istv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3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3467160" cy="292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68280"/>
            <a:ext cx="78487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Milyen kígyófajta Dr. Bubó nevezetes professz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a) vi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b) b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c) pi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4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04000" y="6021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6120" y="641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3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2633760" cy="2422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052640"/>
            <a:ext cx="8353440" cy="40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Melyik fűszer egy népmese cím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a) pap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b) majora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i="1" lang="hu-HU" sz="4400" spc="-1" strike="noStrike">
                <a:solidFill>
                  <a:srgbClr val="000000"/>
                </a:solidFill>
                <a:latin typeface="Lucida Sans"/>
              </a:rPr>
              <a:t>c) s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5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3160" y="623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9400" y="1210320"/>
            <a:ext cx="6240240" cy="38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i Süsü kedvenc éte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) palacsi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) fasí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) vadkö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6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2695320" cy="269568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7360" y="638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052640"/>
            <a:ext cx="817236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Milyen színű a Nagy Ho-Ho-Ho Horgász sapkáj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a) narancssá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b) zö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hu-HU" sz="4000" spc="-1" strike="noStrike">
                <a:solidFill>
                  <a:srgbClr val="000000"/>
                </a:solidFill>
                <a:latin typeface="Lucida Sans"/>
              </a:rPr>
              <a:t>c) ké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7. kér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03640" y="3789360"/>
            <a:ext cx="3809880" cy="262908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-6120" y="6400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.N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5:54:08Z</dcterms:created>
  <dc:creator>pc</dc:creator>
  <dc:description/>
  <dc:language>en-US</dc:language>
  <cp:lastModifiedBy>suli</cp:lastModifiedBy>
  <dcterms:modified xsi:type="dcterms:W3CDTF">2009-11-30T07:14:19Z</dcterms:modified>
  <cp:revision>19</cp:revision>
  <dc:subject/>
  <dc:title>1. dia</dc:title>
</cp:coreProperties>
</file>