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639-D0CA-49C1-B848-197033F6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301-2A72-4B0F-B0BB-37630600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F7E-B521-46E2-883D-47EC4B71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5A5-5695-42DE-8DBE-8376DC17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8F0-2B55-4AB1-95F7-14B3FA02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C68-1A2D-419C-8A71-884BA544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ECF-B9FF-4022-A545-D8D36C66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155C-B89B-465C-838D-4D4E5350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850F-84F0-49EC-9BB9-3341E03C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218-C824-4AF2-A298-FA56A5D9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6C04-D396-4300-A115-1E7C0BEF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5E5-3E06-411F-8860-B3540AF6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6EB2-F548-4662-A5ED-F4BCA228C2CC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ristályosodási formá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olied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endr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fer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59262"/>
          <a:stretch/>
        </p:blipFill>
        <p:spPr>
          <a:xfrm>
            <a:off x="4343400" y="1600200"/>
            <a:ext cx="3222720" cy="153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05320" y="3200400"/>
            <a:ext cx="5303880" cy="1455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05520" y="4724280"/>
            <a:ext cx="1755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837720"/>
            <a:ext cx="5105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zínfém és vegyület lehűlési görbéj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25638" t="12072" r="24117" b="6900"/>
          <a:stretch/>
        </p:blipFill>
        <p:spPr>
          <a:xfrm>
            <a:off x="1523880" y="1143000"/>
            <a:ext cx="57913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zínfém hevítési és lehűlési görbéje (Fe)</a:t>
            </a:r>
            <a:br>
              <a:rPr sz="2000"/>
            </a:b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(allotróp átalakulás va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2895480"/>
            <a:ext cx="8384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0274" t="28739" r="23332" b="12072"/>
          <a:stretch/>
        </p:blipFill>
        <p:spPr>
          <a:xfrm>
            <a:off x="228600" y="1066680"/>
            <a:ext cx="876312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zilárd oldat lehűlési görbé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32001" t="16398" r="21999" b="9604"/>
          <a:stretch/>
        </p:blipFill>
        <p:spPr>
          <a:xfrm>
            <a:off x="1143000" y="457200"/>
            <a:ext cx="6324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76320"/>
            <a:ext cx="6019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étalkotós egyensúlyi diagramok</a:t>
            </a:r>
            <a:br>
              <a:rPr sz="2000"/>
            </a:b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zerkesz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6000" t="13034" r="10001" b="6240"/>
          <a:stretch/>
        </p:blipFill>
        <p:spPr>
          <a:xfrm>
            <a:off x="0" y="533520"/>
            <a:ext cx="944892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480" y="0"/>
            <a:ext cx="3733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Szilárdoldat kristályosod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5946" t="3706" r="5946" b="3706"/>
          <a:stretch/>
        </p:blipFill>
        <p:spPr>
          <a:xfrm>
            <a:off x="0" y="3049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447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3300"/>
                </a:solidFill>
                <a:latin typeface="Times New Roman"/>
              </a:rPr>
              <a:t>Két szilárdoldat eutektikus rendszere</a:t>
            </a:r>
            <a:r>
              <a:rPr b="1" lang="hu-HU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" y="533520"/>
          <a:ext cx="7696080" cy="63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769608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5:49:13Z</dcterms:created>
  <dc:creator>Dr. Csizmazia Ferencné</dc:creator>
  <dc:description/>
  <dc:language>en-US</dc:language>
  <cp:lastModifiedBy>E</cp:lastModifiedBy>
  <dcterms:modified xsi:type="dcterms:W3CDTF">2004-10-27T19:11:51Z</dcterms:modified>
  <cp:revision>30</cp:revision>
  <dc:subject/>
  <dc:title>TANTÁRGYI KÖVETELMÉNYEK aj04kl/mm:  ANYAGISMERET  </dc:title>
</cp:coreProperties>
</file>