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7FD-4962-486E-B6DD-A7411F60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704-3935-43B5-87E4-B0DD04E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66F-3E1C-4E4D-AF44-63FF6A31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F30-18A7-4F2E-8D13-20E05E12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565B-45CF-4A85-8006-4A7FC88D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FBCB-3DE1-4B73-A9A0-C577DBDD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2DA5-59C4-4E68-A91E-810DC9C2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1F4D-BA47-4DBB-9A11-63F24039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DAD2-0783-4E19-BD6A-0086A2E6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C40-7DAD-45D9-A1AC-7EE62E0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60EB-8BA4-452F-9CC0-6EA2E17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FDC-EC60-43A9-A320-93D67D6F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36B5-BE88-4C65-AC8B-B456DF8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7C5C-7CBD-4630-A804-831234E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0C81-8335-44FD-85CD-49B5D4CE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CFB5-C929-4CA9-B08C-165B7124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0FFA-389F-4F4C-B0FF-F7A4F005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6FA-F86B-4F0E-A587-D9EDE5D3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AE2-5868-4F19-9D06-90DB1081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1F5-60F6-4E11-9F8E-D7C12B70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4D6-73A1-4206-939E-3651863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B61-5094-4F42-8A1D-7D23869B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730-5881-4494-906B-0CB1E85B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722-1F79-43DA-91F5-F015D1E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EDC5-6B8F-49C5-AFE5-6BBBC2668A18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949B-0178-48E8-A218-05EFEC04AAF5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ardver alapismeret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" y="2601720"/>
            <a:ext cx="79326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gitális technika alapj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kroelektronika alapja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PU – mikroprocesszoro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ámítógépek rendszertechniká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űszaki rendszer modell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űveletek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digitális rendszerekben a feladatok megoldása során logikai műveleteket végzünk (ld. később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alizációs eszközök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z információt fizikai jelekre képezik le, és a művelteket ezen fizikai jelek feldolgozásával végzik az algoritmus előírásai szerint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gitális áramkör fogal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 áramkör bármely pontján mérhető jeleknek csak két állapotát különböztetjük meg, melyekhez két logikai állapotot rendelhetün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2. Logikai áramkörök (logikai hálózatok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kai áramkör (hálóza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digitális áramkörök modellezésére logikai hálózatokat használun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logikai hálózatok tervezéséhez, leírásához a logikai algebrát (Boole algebrát, George Boole XIX. sz-i matematikus) használju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kai algebra eleme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gikai állandók: 0, 1 (</a:t>
            </a: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hamis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hu-HU" sz="3200" spc="-1" strike="noStrike">
                <a:solidFill>
                  <a:srgbClr val="ffffff"/>
                </a:solidFill>
                <a:latin typeface="Tahoma"/>
              </a:rPr>
              <a:t>igaz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gikai változók: A, B, X, Y st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gikai műveletek: és (∙), vagy (+), negáció (A) st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gikai kifejezések: pl: ABC + ABC + AB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logikai függvények: pl: F = ABC + ABC + AB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373880" y="490536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89600" y="4311720"/>
            <a:ext cx="2156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71840" y="3736800"/>
            <a:ext cx="2156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46640" y="431172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3480" y="431172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3520" y="490212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72320" y="4898880"/>
            <a:ext cx="2156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kai kapuk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gikai áramkörök építőkocká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gikai alapműveleteket valósítják me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 egyszerű kombinációjával további áramköröket tudunk felépíteni pl. az aritmetikai műveletek megvalósításár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ÉS (AND) kapu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907920" y="1674720"/>
            <a:ext cx="2733480" cy="20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46240" y="1682640"/>
            <a:ext cx="0" cy="206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7440" y="207504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339408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0000" y="2695680"/>
            <a:ext cx="11736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38200" y="2484360"/>
            <a:ext cx="1177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32080" y="2289240"/>
            <a:ext cx="11736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49680" y="268920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440" y="176832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5240" y="4932360"/>
            <a:ext cx="286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 = 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64160" y="237492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560" y="309888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94200" y="2863800"/>
          <a:ext cx="1987560" cy="265896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20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916960" y="341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75760" y="341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4560" y="3416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360" y="3917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7800" y="4462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9600" y="5006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7560" y="3930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79000" y="4446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0800" y="5005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18760" y="3929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20200" y="4459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22000" y="5003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GY (OR) kapu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068120" y="1646280"/>
            <a:ext cx="2733480" cy="208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0" y="1654200"/>
            <a:ext cx="0" cy="206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78000" y="2046240"/>
            <a:ext cx="223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6200" y="3365640"/>
            <a:ext cx="218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666880"/>
            <a:ext cx="11736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8760" y="2455920"/>
            <a:ext cx="11736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92280" y="2260440"/>
            <a:ext cx="11736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266076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640" y="173988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0920" y="4946760"/>
            <a:ext cx="3356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 = 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+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+…+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24360" y="234648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120" y="307008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50000" y="2649600"/>
          <a:ext cx="1987560" cy="265896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20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972760" y="3198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3200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90360" y="3201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91800" y="370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93600" y="4248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95040" y="4792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3300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34800" y="423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36240" y="4791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74200" y="3714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76000" y="4245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77440" y="4789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NEM kapu (inverter, fordító)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145120" y="374976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3425760"/>
            <a:ext cx="4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45320" y="449748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 =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9600" y="343548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385800" y="3089160"/>
            <a:ext cx="1551240" cy="1319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67160" y="3749760"/>
            <a:ext cx="928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4600" y="3608280"/>
            <a:ext cx="266760" cy="266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2480" y="459252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M ÉS (NAND) kapu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145880" y="1692360"/>
            <a:ext cx="2733480" cy="208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4560" y="1700280"/>
            <a:ext cx="0" cy="206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5760" y="209232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3960" y="341136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7960" y="2712960"/>
            <a:ext cx="11736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2502000"/>
            <a:ext cx="11736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70040" y="2306520"/>
            <a:ext cx="11736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60880" y="270684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00" y="178596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8000" y="4556160"/>
            <a:ext cx="286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 = 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86440" y="239220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880" y="311616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9440" y="2565360"/>
            <a:ext cx="266760" cy="266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16080" y="4651200"/>
            <a:ext cx="1766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43680" y="2467080"/>
          <a:ext cx="1987560" cy="265896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20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166440" y="3016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25240" y="3017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84040" y="3019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85480" y="3521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87280" y="4065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88720" y="4610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26680" y="3533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28480" y="4049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9920" y="4608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67880" y="3532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69680" y="4062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1120" y="460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080" y="5603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egolcsóbb logikai ka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0. Fogalmak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rdv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hardware): számítógép elektronikus áramkörei, mechanikus berendezései, kábelek, csatlakozók, perifériák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önmagában nem működőkép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CMOS 4011 quad NAND IC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11440" y="2149560"/>
            <a:ext cx="43639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M VAGY (NOR) kapu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089000" y="2049480"/>
            <a:ext cx="2733480" cy="20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27320" y="2057400"/>
            <a:ext cx="0" cy="2060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8520" y="2449440"/>
            <a:ext cx="2230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7080" y="3768840"/>
            <a:ext cx="2185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20720" y="3070080"/>
            <a:ext cx="11772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859120"/>
            <a:ext cx="11736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2800" y="2664000"/>
            <a:ext cx="1177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87800" y="3063960"/>
            <a:ext cx="9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5160" y="214308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3280" y="5059440"/>
            <a:ext cx="335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 = 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+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+…+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2200" y="274968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640" y="347328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32200" y="2922480"/>
            <a:ext cx="266760" cy="266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36560" y="5154480"/>
            <a:ext cx="2198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284880" y="2808360"/>
          <a:ext cx="1987560" cy="265896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20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40764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66440" y="3359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25240" y="3360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26680" y="3862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28480" y="4406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29920" y="49514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7880" y="3875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69680" y="4390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71120" y="4950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9080" y="3873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10880" y="4403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12320" y="4948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gikai áramkörö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ációs áramkörö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ekvenciális (vagy sorrendi) áramkörö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3. Kombinációs logikai hálózato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binációs logikai hálózato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kimeneti jelek értékei csak a bemeneti jelek pillanatnyi értékétől függen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3297240" y="3309840"/>
            <a:ext cx="1843200" cy="152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2600" y="364500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140080" y="4540320"/>
            <a:ext cx="94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46120" y="4572000"/>
            <a:ext cx="94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35400" y="363060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57520" y="4119480"/>
            <a:ext cx="11736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55720" y="3908520"/>
            <a:ext cx="1177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49600" y="3713040"/>
            <a:ext cx="117360" cy="1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73600" y="4113360"/>
            <a:ext cx="1177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72160" y="3902040"/>
            <a:ext cx="11736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65680" y="3706920"/>
            <a:ext cx="117720" cy="11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70120" y="334476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57520" y="427824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75360" y="3338640"/>
            <a:ext cx="5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7960" y="4253040"/>
            <a:ext cx="65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65680" y="3745080"/>
            <a:ext cx="7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520" y="5459040"/>
            <a:ext cx="8118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A kimenetek egy-egy függvénykapcsolattal írhatók le. Pl.: F</a:t>
            </a:r>
            <a:r>
              <a:rPr b="0" lang="hu-HU" sz="2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hu-HU" sz="2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, X</a:t>
            </a:r>
            <a:r>
              <a:rPr b="0" lang="hu-HU" sz="2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, …, X</a:t>
            </a:r>
            <a:r>
              <a:rPr b="0" lang="hu-HU" sz="26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gy logikai hálózat tervezésének lépései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azságtábla felállítása 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jel esetén 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orral rendelkező tábláza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függvény felírá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ogikai függvény minimalizálás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Hazárdmentesíté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gvalósítás logikai kapukk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binációs logikai hálózato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k NAND, illetve csak NOR kapukkal bármely logikai áramkör realizálhat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De Morgan azonosság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A + B = A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AB + CD = AB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hu-HU" sz="3600" spc="-1" strike="noStrike">
                <a:solidFill>
                  <a:srgbClr val="ffffff"/>
                </a:solidFill>
                <a:latin typeface="Tahoma"/>
              </a:rPr>
              <a:t> C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116160" y="442764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25720" y="442764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12920" y="435276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0680" y="5084640"/>
            <a:ext cx="45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38680" y="5070600"/>
            <a:ext cx="45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22760" y="5006880"/>
            <a:ext cx="1463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élösszead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adata két bit összeadá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3297240" y="2895480"/>
            <a:ext cx="1843200" cy="152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2600" y="323064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140080" y="4125960"/>
            <a:ext cx="94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346120" y="4157640"/>
            <a:ext cx="94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135400" y="321624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70120" y="293040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7520" y="386388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75360" y="292428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87960" y="3838680"/>
            <a:ext cx="6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65680" y="3330720"/>
            <a:ext cx="7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13040" y="48376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: össz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39240" y="5593320"/>
            <a:ext cx="49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: maradék, átvitel, carry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élösszead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0337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azságtáblá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96960" y="2879640"/>
          <a:ext cx="2787480" cy="2889360"/>
        </p:xfrm>
        <a:graphic>
          <a:graphicData uri="http://schemas.openxmlformats.org/drawingml/2006/table">
            <a:tbl>
              <a:tblPr/>
              <a:tblGrid>
                <a:gridCol w="696960"/>
                <a:gridCol w="696960"/>
                <a:gridCol w="696960"/>
                <a:gridCol w="696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997440" y="1969920"/>
            <a:ext cx="46004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függvén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73480" y="4302000"/>
            <a:ext cx="3033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 = A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70240" y="3166920"/>
            <a:ext cx="3033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= AB + A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52960" y="327348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15120" y="326700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élösszead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zálás kapukk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5685120" y="3429000"/>
            <a:ext cx="1105920" cy="84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46640" y="3432240"/>
            <a:ext cx="0" cy="83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678120"/>
            <a:ext cx="1330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4052880"/>
            <a:ext cx="13604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83480" y="3838680"/>
            <a:ext cx="490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62480" y="2835360"/>
            <a:ext cx="1105920" cy="84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24360" y="2838600"/>
            <a:ext cx="0" cy="83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18000" y="3084480"/>
            <a:ext cx="29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95360" y="3454560"/>
            <a:ext cx="16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60840" y="3244680"/>
            <a:ext cx="852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45200" y="5359320"/>
            <a:ext cx="1105920" cy="84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06720" y="5362560"/>
            <a:ext cx="0" cy="831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90800" y="5603760"/>
            <a:ext cx="1909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5978520"/>
            <a:ext cx="163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43560" y="5769000"/>
            <a:ext cx="490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63560" y="4083120"/>
            <a:ext cx="1106640" cy="84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5800" y="4086360"/>
            <a:ext cx="0" cy="83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90800" y="4327560"/>
            <a:ext cx="1928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625920" y="4707000"/>
            <a:ext cx="29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62640" y="4492800"/>
            <a:ext cx="842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07200" y="3240000"/>
            <a:ext cx="0" cy="447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4240" y="403704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82920" y="3084480"/>
            <a:ext cx="26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2875680" y="2894760"/>
            <a:ext cx="447840" cy="379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82720" y="3084480"/>
            <a:ext cx="1125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00480" y="3043080"/>
            <a:ext cx="75960" cy="781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55920" y="4705200"/>
            <a:ext cx="27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2848680" y="4515480"/>
            <a:ext cx="447480" cy="3794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2040" y="4705200"/>
            <a:ext cx="1049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3480" y="4664160"/>
            <a:ext cx="76320" cy="77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68280" y="2768760"/>
            <a:ext cx="481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08240" y="4398840"/>
            <a:ext cx="4809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59120" y="3044880"/>
            <a:ext cx="75960" cy="7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996560" y="3098880"/>
            <a:ext cx="1800" cy="123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46400" y="4665600"/>
            <a:ext cx="75960" cy="7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281320" y="3433680"/>
            <a:ext cx="9360" cy="2552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57320" y="4281480"/>
            <a:ext cx="76320" cy="77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3880" y="3584520"/>
            <a:ext cx="4809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21360" y="5454720"/>
            <a:ext cx="4809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4120" y="3452760"/>
            <a:ext cx="300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30600" y="4329000"/>
            <a:ext cx="299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32040" y="4705200"/>
            <a:ext cx="458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287080" y="3440160"/>
            <a:ext cx="3240" cy="1257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996560" y="4317840"/>
            <a:ext cx="1800" cy="1292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0. Fogalmak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Szoftver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(software): számítógépet működőképessé tevő programok és azok dokumentáció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Firmware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élprogram; mikrokóddal írt, készülék-specifikus (hardverbe ágyazott) szoft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yakran flash R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Teljesösszead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adata két bit és az előző helyi értékből származó maradék összeadá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3311640" y="3635280"/>
            <a:ext cx="1842840" cy="152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74560" y="3848040"/>
            <a:ext cx="94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154480" y="486576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360520" y="498636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149800" y="395604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440" y="354816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71560" y="4692600"/>
            <a:ext cx="712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89760" y="366408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02360" y="4578480"/>
            <a:ext cx="933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79720" y="4070520"/>
            <a:ext cx="7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371680" y="4427640"/>
            <a:ext cx="943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89200" y="412740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611280" y="919080"/>
          <a:ext cx="3598920" cy="5200560"/>
        </p:xfrm>
        <a:graphic>
          <a:graphicData uri="http://schemas.openxmlformats.org/drawingml/2006/table">
            <a:tbl>
              <a:tblPr/>
              <a:tblGrid>
                <a:gridCol w="696960"/>
                <a:gridCol w="696960"/>
                <a:gridCol w="696960"/>
                <a:gridCol w="696960"/>
                <a:gridCol w="81108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32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i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hu-HU" sz="32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o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735440" y="706320"/>
            <a:ext cx="39625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gikai függvén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21400" y="1571760"/>
            <a:ext cx="410652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 =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9840" y="167472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596360" y="1674720"/>
            <a:ext cx="2156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59440" y="216540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54680" y="166536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02320" y="166680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42040" y="2166840"/>
            <a:ext cx="2156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91160" y="2917800"/>
            <a:ext cx="445284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=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1400" y="302724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03880" y="351648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75280" y="3025800"/>
            <a:ext cx="216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6480" y="4608360"/>
            <a:ext cx="45403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(Minimalizálva: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= AB + B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+ AC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ét 4 bites szám összeadás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5070600" y="2786040"/>
            <a:ext cx="1409400" cy="127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3720" y="2814480"/>
            <a:ext cx="1336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 B  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19840" y="1787400"/>
            <a:ext cx="13078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70440" y="4533840"/>
            <a:ext cx="722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86440" y="3613320"/>
            <a:ext cx="1338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42040" y="2320560"/>
            <a:ext cx="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03840" y="2320560"/>
            <a:ext cx="180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75360" y="2536560"/>
            <a:ext cx="0" cy="24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423040" y="4055760"/>
            <a:ext cx="0" cy="245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066000" y="4055760"/>
            <a:ext cx="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75360" y="2527200"/>
            <a:ext cx="6699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45320" y="2527200"/>
            <a:ext cx="0" cy="1778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52880" y="2806560"/>
            <a:ext cx="1411200" cy="127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86000" y="2833560"/>
            <a:ext cx="1338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 B  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03560" y="1808280"/>
            <a:ext cx="13064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4554360"/>
            <a:ext cx="7257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70160" y="3633840"/>
            <a:ext cx="1336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425760" y="2340000"/>
            <a:ext cx="1800" cy="4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786120" y="2340000"/>
            <a:ext cx="3240" cy="4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157640" y="2556000"/>
            <a:ext cx="0" cy="247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506760" y="4076280"/>
            <a:ext cx="0" cy="24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148280" y="4076280"/>
            <a:ext cx="144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57640" y="2548080"/>
            <a:ext cx="6699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27600" y="2548080"/>
            <a:ext cx="1440" cy="1777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24360" y="4322880"/>
            <a:ext cx="59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35160" y="2827440"/>
            <a:ext cx="1412640" cy="127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68280" y="2854440"/>
            <a:ext cx="1338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 B  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28680" y="1827360"/>
            <a:ext cx="13064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35000" y="4575240"/>
            <a:ext cx="7257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2440" y="3652920"/>
            <a:ext cx="1338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508040" y="2360160"/>
            <a:ext cx="180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870200" y="2360160"/>
            <a:ext cx="144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241720" y="2576160"/>
            <a:ext cx="0" cy="24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589040" y="4097160"/>
            <a:ext cx="0" cy="24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230560" y="4096800"/>
            <a:ext cx="288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41720" y="2568600"/>
            <a:ext cx="66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09880" y="2568600"/>
            <a:ext cx="1440" cy="1778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08440" y="4344840"/>
            <a:ext cx="591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59600" y="2806560"/>
            <a:ext cx="1413000" cy="127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5960" y="2833560"/>
            <a:ext cx="1336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   B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1808280"/>
            <a:ext cx="1306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59800" y="4554360"/>
            <a:ext cx="725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77240" y="3633840"/>
            <a:ext cx="1338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hu-HU" sz="1800" spc="-1" strike="noStrike" baseline="-25000">
                <a:solidFill>
                  <a:srgbClr val="ffffff"/>
                </a:solidFill>
                <a:latin typeface="Tahoma"/>
              </a:rPr>
              <a:t>out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   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7334280" y="2340000"/>
            <a:ext cx="0" cy="4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7693200" y="2340000"/>
            <a:ext cx="2880" cy="4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413480" y="4076280"/>
            <a:ext cx="1800" cy="244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055000" y="4076280"/>
            <a:ext cx="1440" cy="46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46760" y="4322880"/>
            <a:ext cx="668520" cy="2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89040" y="4334040"/>
            <a:ext cx="0" cy="939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066680" y="5353200"/>
            <a:ext cx="10717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62480" y="32828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605400" y="32637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4200" y="3276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466040" y="327024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ivoná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8000" y="1603080"/>
            <a:ext cx="8742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isszavezetése összeadásra kettes komplemens kódoláss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l: 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5 – 3 = 5 + (-3)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omplemens képzés  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3:0011; -3:11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összeadás: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0101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+1101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Courier New"/>
              </a:rPr>
              <a:t>10010 =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ltalános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+(1111–b+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3133800" y="4573440"/>
            <a:ext cx="1176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43360" y="5560920"/>
            <a:ext cx="27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a+(10000–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81440" y="55609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a–b+1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ultiplex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59920" cy="38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adata több bemenő jel közül egy kiválasztás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66"/>
                </a:solidFill>
                <a:latin typeface="Tahoma"/>
              </a:rPr>
              <a:t>2</a:t>
            </a:r>
            <a:r>
              <a:rPr b="0" lang="hu-HU" sz="3200" spc="-1" strike="noStrike" baseline="30000">
                <a:solidFill>
                  <a:srgbClr val="ff0066"/>
                </a:solidFill>
                <a:latin typeface="Tahoma"/>
              </a:rPr>
              <a:t>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adatbemenet, </a:t>
            </a:r>
            <a:br>
              <a:rPr sz="3200"/>
            </a:br>
            <a:r>
              <a:rPr b="0" lang="hu-HU" sz="3200" spc="-1" strike="noStrike">
                <a:solidFill>
                  <a:srgbClr val="ff0066"/>
                </a:solidFill>
                <a:latin typeface="Tahoma"/>
              </a:rPr>
              <a:t>egy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adatkimenet, </a:t>
            </a:r>
            <a:br>
              <a:rPr sz="3200"/>
            </a:br>
            <a:r>
              <a:rPr b="0" lang="hu-HU" sz="3200" spc="-1" strike="noStrike">
                <a:solidFill>
                  <a:srgbClr val="ff0066"/>
                </a:solidFill>
                <a:latin typeface="Tahoma"/>
              </a:rPr>
              <a:t>n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db vezérlőbemenet, melyek kiválasztanak egy adatbemene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elhasználható még: párhuzamos – soros adatkonver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579640" y="447984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579640" y="474336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579640" y="4992840"/>
            <a:ext cx="319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579640" y="524340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5780160"/>
            <a:ext cx="971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56440" y="5522760"/>
            <a:ext cx="0" cy="24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27680" y="5529240"/>
            <a:ext cx="1800" cy="249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601040" y="4648320"/>
            <a:ext cx="411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232760" y="485460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9320" y="4189320"/>
            <a:ext cx="1333440" cy="133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 -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95880" y="4545000"/>
            <a:ext cx="36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89400" y="4795920"/>
            <a:ext cx="36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94440" y="5048280"/>
            <a:ext cx="334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02360" y="4262400"/>
            <a:ext cx="372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ultiplex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70040" y="275904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70040" y="302256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770040" y="3271680"/>
            <a:ext cx="3189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70040" y="352260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85920" y="4059360"/>
            <a:ext cx="971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6120" y="3801960"/>
            <a:ext cx="0" cy="24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17720" y="3808440"/>
            <a:ext cx="1440" cy="249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90720" y="2927520"/>
            <a:ext cx="411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422080" y="313380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89000" y="2468520"/>
            <a:ext cx="1333440" cy="133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 -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11960" y="2166840"/>
            <a:ext cx="1440" cy="558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1000" y="2165400"/>
            <a:ext cx="702360" cy="56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1480" y="2255760"/>
            <a:ext cx="213048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3000" y="2638440"/>
            <a:ext cx="323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18400" y="244800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89760" y="245916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281480" y="2841480"/>
            <a:ext cx="2858760" cy="560160"/>
            <a:chOff x="4281480" y="2841480"/>
            <a:chExt cx="2858760" cy="560160"/>
          </a:xfrm>
        </p:grpSpPr>
        <p:sp>
          <p:nvSpPr>
            <p:cNvPr id="466" name=""/>
            <p:cNvSpPr/>
            <p:nvPr/>
          </p:nvSpPr>
          <p:spPr>
            <a:xfrm>
              <a:off x="6412320" y="2842200"/>
              <a:ext cx="1080" cy="55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10640" y="2841480"/>
              <a:ext cx="70200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81480" y="2931840"/>
              <a:ext cx="2130840" cy="7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3360" y="331236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17680" y="312264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89760" y="3133080"/>
              <a:ext cx="32220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81480" y="3514680"/>
            <a:ext cx="2858760" cy="563400"/>
            <a:chOff x="4281480" y="3514680"/>
            <a:chExt cx="2858760" cy="563400"/>
          </a:xfrm>
        </p:grpSpPr>
        <p:sp>
          <p:nvSpPr>
            <p:cNvPr id="473" name=""/>
            <p:cNvSpPr/>
            <p:nvPr/>
          </p:nvSpPr>
          <p:spPr>
            <a:xfrm>
              <a:off x="6412320" y="3515400"/>
              <a:ext cx="1080" cy="558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10640" y="3514680"/>
              <a:ext cx="702000" cy="56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81480" y="3605400"/>
              <a:ext cx="2130840" cy="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3360" y="398844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17680" y="379764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89760" y="3808080"/>
              <a:ext cx="32220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281480" y="4187880"/>
            <a:ext cx="2858760" cy="563040"/>
            <a:chOff x="4281480" y="4187880"/>
            <a:chExt cx="2858760" cy="563040"/>
          </a:xfrm>
        </p:grpSpPr>
        <p:sp>
          <p:nvSpPr>
            <p:cNvPr id="480" name=""/>
            <p:cNvSpPr/>
            <p:nvPr/>
          </p:nvSpPr>
          <p:spPr>
            <a:xfrm>
              <a:off x="6412320" y="4188600"/>
              <a:ext cx="1080" cy="558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10640" y="418788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81480" y="4278600"/>
              <a:ext cx="2130840" cy="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93360" y="466128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17680" y="447048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9760" y="4481280"/>
              <a:ext cx="32220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943520" y="530712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910120" y="530712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61040" y="5684760"/>
            <a:ext cx="149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535640" y="2049480"/>
            <a:ext cx="0" cy="358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477040" y="2049480"/>
            <a:ext cx="0" cy="358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45000" y="4633920"/>
            <a:ext cx="5904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78440" y="3960720"/>
            <a:ext cx="58680" cy="6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03600" y="3781440"/>
            <a:ext cx="60480" cy="6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51480" y="327672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27680" y="2425680"/>
            <a:ext cx="60120" cy="6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52920" y="5423040"/>
            <a:ext cx="5904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19760" y="3098880"/>
            <a:ext cx="6012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11520" y="540720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78440" y="260208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527360" y="5440320"/>
            <a:ext cx="40788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491080" y="5448240"/>
            <a:ext cx="4334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954680" y="2069640"/>
            <a:ext cx="0" cy="2948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10120" y="2077920"/>
            <a:ext cx="3240" cy="292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943520" y="2459160"/>
            <a:ext cx="116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916600" y="2630520"/>
            <a:ext cx="2001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943520" y="3132000"/>
            <a:ext cx="115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77040" y="3311640"/>
            <a:ext cx="620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544640" y="3808440"/>
            <a:ext cx="1560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901840" y="3984480"/>
            <a:ext cx="204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545000" y="4483080"/>
            <a:ext cx="1542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5484600" y="4659480"/>
            <a:ext cx="63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03600" y="445464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08960" y="3178080"/>
            <a:ext cx="1440" cy="558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05480" y="3178080"/>
            <a:ext cx="704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13600" y="3459240"/>
            <a:ext cx="324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99200" y="3124080"/>
            <a:ext cx="223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11960" y="3124080"/>
            <a:ext cx="0" cy="2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04040" y="3355920"/>
            <a:ext cx="681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115040" y="3797280"/>
            <a:ext cx="18756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10520" y="3570120"/>
            <a:ext cx="0" cy="2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02600" y="3567240"/>
            <a:ext cx="66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445520" y="3247920"/>
            <a:ext cx="42696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445520" y="2458800"/>
            <a:ext cx="0" cy="788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26200" y="2451240"/>
            <a:ext cx="317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456320" y="3657600"/>
            <a:ext cx="4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56320" y="3657600"/>
            <a:ext cx="0" cy="816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26200" y="4473720"/>
            <a:ext cx="3384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48760" y="3205080"/>
            <a:ext cx="461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813200" y="5016960"/>
            <a:ext cx="262080" cy="280800"/>
            <a:chOff x="4813200" y="5016960"/>
            <a:chExt cx="262080" cy="280800"/>
          </a:xfrm>
        </p:grpSpPr>
        <p:sp>
          <p:nvSpPr>
            <p:cNvPr id="530" name=""/>
            <p:cNvSpPr/>
            <p:nvPr/>
          </p:nvSpPr>
          <p:spPr>
            <a:xfrm>
              <a:off x="4813200" y="5103720"/>
              <a:ext cx="262080" cy="1940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6200000">
              <a:off x="4904280" y="5018040"/>
              <a:ext cx="8640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778360" y="5022720"/>
            <a:ext cx="262080" cy="279720"/>
            <a:chOff x="5778360" y="5022720"/>
            <a:chExt cx="262080" cy="279720"/>
          </a:xfrm>
        </p:grpSpPr>
        <p:sp>
          <p:nvSpPr>
            <p:cNvPr id="533" name=""/>
            <p:cNvSpPr/>
            <p:nvPr/>
          </p:nvSpPr>
          <p:spPr>
            <a:xfrm>
              <a:off x="5778360" y="5109120"/>
              <a:ext cx="2620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5869440" y="5023440"/>
              <a:ext cx="8604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3865680" y="2697120"/>
            <a:ext cx="461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65680" y="3373560"/>
            <a:ext cx="461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57760" y="4064040"/>
            <a:ext cx="4618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71800" y="2008080"/>
            <a:ext cx="462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5920" y="2824200"/>
            <a:ext cx="36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9440" y="3075120"/>
            <a:ext cx="36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4120" y="3327480"/>
            <a:ext cx="33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2040" y="2541600"/>
            <a:ext cx="372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60920" y="226836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02320" y="243216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65600" y="292248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78600" y="3102120"/>
            <a:ext cx="31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37200" y="361476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618160" y="380376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45120" y="429732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62360" y="226368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600880" y="24242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660920" y="29192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80040" y="3094200"/>
            <a:ext cx="31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37200" y="361152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613480" y="37958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5691240"/>
            <a:ext cx="750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14920" y="5689440"/>
            <a:ext cx="77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13480" y="5691240"/>
            <a:ext cx="78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41840" y="5692680"/>
            <a:ext cx="78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83280" y="4465800"/>
            <a:ext cx="31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81480" y="445932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43320" y="42908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111000" y="2165400"/>
            <a:ext cx="702000" cy="563040"/>
            <a:chOff x="6111000" y="2165400"/>
            <a:chExt cx="702000" cy="563040"/>
          </a:xfrm>
        </p:grpSpPr>
        <p:sp>
          <p:nvSpPr>
            <p:cNvPr id="564" name=""/>
            <p:cNvSpPr/>
            <p:nvPr/>
          </p:nvSpPr>
          <p:spPr>
            <a:xfrm>
              <a:off x="6411960" y="2166840"/>
              <a:ext cx="144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11000" y="21654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11000" y="2838600"/>
            <a:ext cx="702000" cy="563040"/>
            <a:chOff x="6111000" y="2838600"/>
            <a:chExt cx="702000" cy="563040"/>
          </a:xfrm>
        </p:grpSpPr>
        <p:sp>
          <p:nvSpPr>
            <p:cNvPr id="567" name=""/>
            <p:cNvSpPr/>
            <p:nvPr/>
          </p:nvSpPr>
          <p:spPr>
            <a:xfrm>
              <a:off x="6411960" y="2840040"/>
              <a:ext cx="144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11000" y="28386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11000" y="3517920"/>
            <a:ext cx="702000" cy="563040"/>
            <a:chOff x="6111000" y="3517920"/>
            <a:chExt cx="702000" cy="563040"/>
          </a:xfrm>
        </p:grpSpPr>
        <p:sp>
          <p:nvSpPr>
            <p:cNvPr id="570" name=""/>
            <p:cNvSpPr/>
            <p:nvPr/>
          </p:nvSpPr>
          <p:spPr>
            <a:xfrm>
              <a:off x="6411960" y="3519360"/>
              <a:ext cx="144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11000" y="351792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111000" y="4191120"/>
            <a:ext cx="702000" cy="563040"/>
            <a:chOff x="6111000" y="4191120"/>
            <a:chExt cx="702000" cy="563040"/>
          </a:xfrm>
        </p:grpSpPr>
        <p:sp>
          <p:nvSpPr>
            <p:cNvPr id="573" name=""/>
            <p:cNvSpPr/>
            <p:nvPr/>
          </p:nvSpPr>
          <p:spPr>
            <a:xfrm>
              <a:off x="6411960" y="4192560"/>
              <a:ext cx="144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11000" y="419112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111000" y="2165400"/>
            <a:ext cx="702000" cy="563040"/>
            <a:chOff x="6111000" y="2165400"/>
            <a:chExt cx="702000" cy="563040"/>
          </a:xfrm>
        </p:grpSpPr>
        <p:sp>
          <p:nvSpPr>
            <p:cNvPr id="576" name=""/>
            <p:cNvSpPr/>
            <p:nvPr/>
          </p:nvSpPr>
          <p:spPr>
            <a:xfrm>
              <a:off x="6411960" y="216684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11000" y="21654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11000" y="2838600"/>
            <a:ext cx="702000" cy="563040"/>
            <a:chOff x="6111000" y="2838600"/>
            <a:chExt cx="702000" cy="563040"/>
          </a:xfrm>
        </p:grpSpPr>
        <p:sp>
          <p:nvSpPr>
            <p:cNvPr id="579" name=""/>
            <p:cNvSpPr/>
            <p:nvPr/>
          </p:nvSpPr>
          <p:spPr>
            <a:xfrm>
              <a:off x="6411960" y="284004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11000" y="28386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111000" y="3517920"/>
            <a:ext cx="702000" cy="563040"/>
            <a:chOff x="6111000" y="3517920"/>
            <a:chExt cx="702000" cy="563040"/>
          </a:xfrm>
        </p:grpSpPr>
        <p:sp>
          <p:nvSpPr>
            <p:cNvPr id="582" name=""/>
            <p:cNvSpPr/>
            <p:nvPr/>
          </p:nvSpPr>
          <p:spPr>
            <a:xfrm>
              <a:off x="6411960" y="351936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11000" y="351792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11000" y="4191120"/>
            <a:ext cx="702000" cy="563040"/>
            <a:chOff x="6111000" y="4191120"/>
            <a:chExt cx="702000" cy="563040"/>
          </a:xfrm>
        </p:grpSpPr>
        <p:sp>
          <p:nvSpPr>
            <p:cNvPr id="585" name=""/>
            <p:cNvSpPr/>
            <p:nvPr/>
          </p:nvSpPr>
          <p:spPr>
            <a:xfrm>
              <a:off x="6411960" y="419256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11000" y="419112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4275000" y="2255760"/>
            <a:ext cx="2130480" cy="9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24520" y="2448000"/>
            <a:ext cx="60336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445520" y="2439720"/>
            <a:ext cx="0" cy="7887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426440" y="3247920"/>
            <a:ext cx="42696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013600" y="3459240"/>
            <a:ext cx="32400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68880" y="2928960"/>
            <a:ext cx="2130480" cy="9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68880" y="3602160"/>
            <a:ext cx="2130480" cy="9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2400" y="4275000"/>
            <a:ext cx="2130480" cy="9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31000" y="4473720"/>
            <a:ext cx="603360" cy="28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24520" y="3800520"/>
            <a:ext cx="50184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24520" y="3121200"/>
            <a:ext cx="501840" cy="28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0520" y="3570120"/>
            <a:ext cx="0" cy="2318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310520" y="3138480"/>
            <a:ext cx="0" cy="2318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04040" y="3355920"/>
            <a:ext cx="6811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08720" y="3567240"/>
            <a:ext cx="66528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456320" y="3657600"/>
            <a:ext cx="4492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456320" y="3670200"/>
            <a:ext cx="0" cy="8161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Demultiplex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44704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adata egy jel kapcsolása választható kimenet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E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atbemenet,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2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atkimenet,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b vezérlőbemenet, melyek kiválasztanak egy adatkimene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Demultiplex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426760" y="268272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26760" y="297828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421000" y="3265560"/>
            <a:ext cx="3189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426760" y="359244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85920" y="4059360"/>
            <a:ext cx="971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6120" y="3801960"/>
            <a:ext cx="0" cy="249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17720" y="3808440"/>
            <a:ext cx="1440" cy="249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1680" y="2914560"/>
            <a:ext cx="334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960" y="311472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49320" y="2468520"/>
            <a:ext cx="1473120" cy="1333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1 -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281480" y="2165400"/>
            <a:ext cx="2858760" cy="563040"/>
            <a:chOff x="4281480" y="2165400"/>
            <a:chExt cx="2858760" cy="563040"/>
          </a:xfrm>
        </p:grpSpPr>
        <p:sp>
          <p:nvSpPr>
            <p:cNvPr id="618" name=""/>
            <p:cNvSpPr/>
            <p:nvPr/>
          </p:nvSpPr>
          <p:spPr>
            <a:xfrm>
              <a:off x="6412320" y="2166120"/>
              <a:ext cx="1080" cy="558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10640" y="21654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81480" y="2256120"/>
              <a:ext cx="2130840" cy="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93360" y="263880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17680" y="244800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9760" y="2458800"/>
              <a:ext cx="32220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81480" y="2841480"/>
            <a:ext cx="2858760" cy="560160"/>
            <a:chOff x="4281480" y="2841480"/>
            <a:chExt cx="2858760" cy="560160"/>
          </a:xfrm>
        </p:grpSpPr>
        <p:sp>
          <p:nvSpPr>
            <p:cNvPr id="625" name=""/>
            <p:cNvSpPr/>
            <p:nvPr/>
          </p:nvSpPr>
          <p:spPr>
            <a:xfrm>
              <a:off x="6412320" y="2842200"/>
              <a:ext cx="1080" cy="555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0640" y="2841480"/>
              <a:ext cx="70200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81480" y="2931840"/>
              <a:ext cx="2130840" cy="7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3360" y="331236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680" y="312264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89760" y="3133080"/>
              <a:ext cx="32220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6411960" y="3516480"/>
            <a:ext cx="1440" cy="558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11000" y="3514680"/>
            <a:ext cx="702360" cy="56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81480" y="3605040"/>
            <a:ext cx="213048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93000" y="3987720"/>
            <a:ext cx="323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18400" y="379728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89760" y="380844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281480" y="4187880"/>
            <a:ext cx="2858760" cy="563040"/>
            <a:chOff x="4281480" y="4187880"/>
            <a:chExt cx="2858760" cy="563040"/>
          </a:xfrm>
        </p:grpSpPr>
        <p:sp>
          <p:nvSpPr>
            <p:cNvPr id="638" name=""/>
            <p:cNvSpPr/>
            <p:nvPr/>
          </p:nvSpPr>
          <p:spPr>
            <a:xfrm>
              <a:off x="6412320" y="4188600"/>
              <a:ext cx="1080" cy="558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0640" y="418788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81480" y="4278600"/>
              <a:ext cx="2130840" cy="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3360" y="466128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17680" y="4470480"/>
              <a:ext cx="32256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89760" y="4481280"/>
              <a:ext cx="32220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943520" y="530712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10120" y="530712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61040" y="5684760"/>
            <a:ext cx="149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535640" y="2049480"/>
            <a:ext cx="0" cy="358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477040" y="2049480"/>
            <a:ext cx="0" cy="358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45000" y="4633920"/>
            <a:ext cx="5904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878440" y="3960720"/>
            <a:ext cx="58680" cy="6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03600" y="3781440"/>
            <a:ext cx="60480" cy="6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51480" y="327672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927680" y="2425680"/>
            <a:ext cx="60120" cy="6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52920" y="5423040"/>
            <a:ext cx="5904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19760" y="3098880"/>
            <a:ext cx="6012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11520" y="540720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78440" y="260208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4527360" y="5440320"/>
            <a:ext cx="40788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491080" y="5448240"/>
            <a:ext cx="4334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54680" y="2069640"/>
            <a:ext cx="0" cy="2948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910120" y="2077920"/>
            <a:ext cx="3240" cy="292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943520" y="2459160"/>
            <a:ext cx="116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5916600" y="2630520"/>
            <a:ext cx="2001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4943520" y="3132000"/>
            <a:ext cx="115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477040" y="3311640"/>
            <a:ext cx="620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544640" y="3808440"/>
            <a:ext cx="1560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901840" y="3984480"/>
            <a:ext cx="204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545000" y="4483080"/>
            <a:ext cx="1542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484600" y="4659480"/>
            <a:ext cx="634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503600" y="445464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471840" y="3065400"/>
            <a:ext cx="461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813200" y="5016960"/>
            <a:ext cx="262080" cy="280800"/>
            <a:chOff x="4813200" y="5016960"/>
            <a:chExt cx="262080" cy="280800"/>
          </a:xfrm>
        </p:grpSpPr>
        <p:sp>
          <p:nvSpPr>
            <p:cNvPr id="673" name=""/>
            <p:cNvSpPr/>
            <p:nvPr/>
          </p:nvSpPr>
          <p:spPr>
            <a:xfrm>
              <a:off x="4813200" y="5103720"/>
              <a:ext cx="262080" cy="1940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4904280" y="5018040"/>
              <a:ext cx="8640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5778360" y="5022720"/>
            <a:ext cx="262080" cy="279720"/>
            <a:chOff x="5778360" y="5022720"/>
            <a:chExt cx="262080" cy="279720"/>
          </a:xfrm>
        </p:grpSpPr>
        <p:sp>
          <p:nvSpPr>
            <p:cNvPr id="676" name=""/>
            <p:cNvSpPr/>
            <p:nvPr/>
          </p:nvSpPr>
          <p:spPr>
            <a:xfrm>
              <a:off x="5778360" y="5109120"/>
              <a:ext cx="2620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5869440" y="5023440"/>
              <a:ext cx="8604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709720" y="2766960"/>
            <a:ext cx="455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709720" y="3081240"/>
            <a:ext cx="468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08280" y="3403440"/>
            <a:ext cx="493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703600" y="2459160"/>
            <a:ext cx="45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86160" y="2247840"/>
            <a:ext cx="0" cy="2032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59160" y="290196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53040" y="3575160"/>
            <a:ext cx="6012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259160" y="327024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854160" y="329580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167600" y="2874960"/>
            <a:ext cx="563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186680" y="3538440"/>
            <a:ext cx="557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191360" y="4235400"/>
            <a:ext cx="652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42040" y="2217600"/>
            <a:ext cx="5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22760" y="5683320"/>
            <a:ext cx="781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81800" y="5680080"/>
            <a:ext cx="78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352760" y="1593720"/>
            <a:ext cx="32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1619280"/>
            <a:ext cx="32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775040" y="1606680"/>
            <a:ext cx="32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95960" y="1612800"/>
            <a:ext cx="32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111000" y="2165400"/>
            <a:ext cx="702000" cy="563040"/>
            <a:chOff x="6111000" y="2165400"/>
            <a:chExt cx="702000" cy="563040"/>
          </a:xfrm>
        </p:grpSpPr>
        <p:sp>
          <p:nvSpPr>
            <p:cNvPr id="698" name=""/>
            <p:cNvSpPr/>
            <p:nvPr/>
          </p:nvSpPr>
          <p:spPr>
            <a:xfrm>
              <a:off x="6411960" y="216684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11000" y="21654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108120" y="4191120"/>
            <a:ext cx="702000" cy="563040"/>
            <a:chOff x="6108120" y="4191120"/>
            <a:chExt cx="702000" cy="563040"/>
          </a:xfrm>
        </p:grpSpPr>
        <p:sp>
          <p:nvSpPr>
            <p:cNvPr id="701" name=""/>
            <p:cNvSpPr/>
            <p:nvPr/>
          </p:nvSpPr>
          <p:spPr>
            <a:xfrm>
              <a:off x="6409080" y="419256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08120" y="419112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114240" y="2838600"/>
            <a:ext cx="702000" cy="563040"/>
            <a:chOff x="6114240" y="2838600"/>
            <a:chExt cx="702000" cy="563040"/>
          </a:xfrm>
        </p:grpSpPr>
        <p:sp>
          <p:nvSpPr>
            <p:cNvPr id="704" name=""/>
            <p:cNvSpPr/>
            <p:nvPr/>
          </p:nvSpPr>
          <p:spPr>
            <a:xfrm>
              <a:off x="6415200" y="2840040"/>
              <a:ext cx="1440" cy="55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4240" y="283860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5605560" y="2435400"/>
            <a:ext cx="31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611680" y="37940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240080" y="362268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30720" y="428940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73560" y="31082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646520" y="2257560"/>
            <a:ext cx="31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46520" y="29336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160960" y="4467240"/>
            <a:ext cx="31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111000" y="3517920"/>
            <a:ext cx="702000" cy="563040"/>
            <a:chOff x="6111000" y="3517920"/>
            <a:chExt cx="702000" cy="563040"/>
          </a:xfrm>
        </p:grpSpPr>
        <p:sp>
          <p:nvSpPr>
            <p:cNvPr id="715" name=""/>
            <p:cNvSpPr/>
            <p:nvPr/>
          </p:nvSpPr>
          <p:spPr>
            <a:xfrm>
              <a:off x="6411960" y="3519360"/>
              <a:ext cx="144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11000" y="3517920"/>
              <a:ext cx="702000" cy="5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6831000" y="3797280"/>
            <a:ext cx="32220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75000" y="3605040"/>
            <a:ext cx="2130480" cy="9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867120" y="3295800"/>
            <a:ext cx="4320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89400" y="3295800"/>
            <a:ext cx="0" cy="298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747000" y="1233360"/>
            <a:ext cx="60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élda: több jel továbbítása egy vezeté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487440" y="2330280"/>
            <a:ext cx="803916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Címdekó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ladata cím dekódol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bites számot használ bemenetként, és ki tudunk választani vele (be tudjuk állítani 1-re) pontosan egyet a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kimenet közü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 A digitális technika alapjai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1. A műszaki rendszer modellj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2. Logikai áramkörök (logikai hálózatok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3. Kombinációs logikai hálózat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4. Szekvenciális (sorrendi) logikai hálózatok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 flipH="1">
            <a:off x="2426760" y="157320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426760" y="186840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421000" y="2155680"/>
            <a:ext cx="3189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426760" y="248292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1080" y="2001960"/>
            <a:ext cx="442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24960" y="220176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949320" y="1365120"/>
            <a:ext cx="1473120" cy="2476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ahoma"/>
              </a:rPr>
              <a:t>3 bites címdekó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6560" y="311040"/>
            <a:ext cx="1440" cy="5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285600" y="309600"/>
            <a:ext cx="702360" cy="56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00920" y="407880"/>
            <a:ext cx="485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267600" y="782640"/>
            <a:ext cx="323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993000" y="59220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264360" y="60336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586560" y="987480"/>
            <a:ext cx="1440" cy="555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85600" y="985680"/>
            <a:ext cx="70236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43720" y="1081080"/>
            <a:ext cx="9428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267600" y="1457280"/>
            <a:ext cx="32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993000" y="126684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64360" y="127800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6560" y="1660680"/>
            <a:ext cx="1440" cy="558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85600" y="1658880"/>
            <a:ext cx="702360" cy="56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100920" y="1757520"/>
            <a:ext cx="485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267600" y="2131920"/>
            <a:ext cx="323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993000" y="1941480"/>
            <a:ext cx="3222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64360" y="195264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586560" y="2333520"/>
            <a:ext cx="1440" cy="5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85600" y="2332080"/>
            <a:ext cx="702360" cy="56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35800" y="2427120"/>
            <a:ext cx="950760" cy="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67600" y="2805120"/>
            <a:ext cx="3236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93000" y="261468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264360" y="262584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124600" y="609300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091200" y="609300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76600" y="6330960"/>
            <a:ext cx="2463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710240" y="193320"/>
            <a:ext cx="0" cy="617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651640" y="193680"/>
            <a:ext cx="0" cy="618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165560" y="276552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67360" y="2104920"/>
            <a:ext cx="58680" cy="6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78200" y="1925640"/>
            <a:ext cx="60480" cy="6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65560" y="1427040"/>
            <a:ext cx="60480" cy="5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02280" y="569880"/>
            <a:ext cx="60120" cy="6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634000" y="6208560"/>
            <a:ext cx="58680" cy="5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94360" y="1243080"/>
            <a:ext cx="6012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692600" y="619272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167360" y="73980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4708440" y="6226200"/>
            <a:ext cx="4082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672160" y="6234120"/>
            <a:ext cx="4334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128920" y="213840"/>
            <a:ext cx="6120" cy="558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6087600" y="222120"/>
            <a:ext cx="9720" cy="5577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5118120" y="603360"/>
            <a:ext cx="116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192560" y="781200"/>
            <a:ext cx="2098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5118120" y="1276200"/>
            <a:ext cx="1154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190760" y="1455840"/>
            <a:ext cx="2081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719240" y="1952640"/>
            <a:ext cx="1560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203720" y="2135160"/>
            <a:ext cx="2077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719600" y="2627280"/>
            <a:ext cx="1542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223880" y="2803680"/>
            <a:ext cx="207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678200" y="259884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4994280" y="5802840"/>
            <a:ext cx="262080" cy="280800"/>
            <a:chOff x="4994280" y="5802840"/>
            <a:chExt cx="262080" cy="280800"/>
          </a:xfrm>
        </p:grpSpPr>
        <p:sp>
          <p:nvSpPr>
            <p:cNvPr id="784" name=""/>
            <p:cNvSpPr/>
            <p:nvPr/>
          </p:nvSpPr>
          <p:spPr>
            <a:xfrm>
              <a:off x="4994280" y="5889600"/>
              <a:ext cx="262080" cy="1940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5085360" y="5803920"/>
              <a:ext cx="8640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5959440" y="5808600"/>
            <a:ext cx="262080" cy="279720"/>
            <a:chOff x="5959440" y="5808600"/>
            <a:chExt cx="262080" cy="279720"/>
          </a:xfrm>
        </p:grpSpPr>
        <p:sp>
          <p:nvSpPr>
            <p:cNvPr id="787" name=""/>
            <p:cNvSpPr/>
            <p:nvPr/>
          </p:nvSpPr>
          <p:spPr>
            <a:xfrm>
              <a:off x="5959440" y="5895000"/>
              <a:ext cx="2620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6050520" y="5809320"/>
              <a:ext cx="8604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709720" y="1657440"/>
            <a:ext cx="455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09720" y="1971720"/>
            <a:ext cx="46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708280" y="2293920"/>
            <a:ext cx="493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03600" y="1349280"/>
            <a:ext cx="45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342200" y="1019160"/>
            <a:ext cx="563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361280" y="1682640"/>
            <a:ext cx="557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365960" y="2379600"/>
            <a:ext cx="652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316640" y="361800"/>
            <a:ext cx="5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1080" y="2351160"/>
            <a:ext cx="468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624960" y="256392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7200" y="2719440"/>
            <a:ext cx="462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624960" y="2944800"/>
            <a:ext cx="319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2433600" y="280512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433600" y="310032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426760" y="3387600"/>
            <a:ext cx="31932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433600" y="3714840"/>
            <a:ext cx="31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716200" y="2889360"/>
            <a:ext cx="455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16200" y="3203640"/>
            <a:ext cx="46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14760" y="3525840"/>
            <a:ext cx="493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709720" y="2581200"/>
            <a:ext cx="455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86560" y="3016080"/>
            <a:ext cx="1440" cy="5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85600" y="3014640"/>
            <a:ext cx="702360" cy="56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75360" y="3112920"/>
            <a:ext cx="5112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780000" y="3475080"/>
            <a:ext cx="2811240" cy="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993000" y="329724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114880" y="3301920"/>
            <a:ext cx="1471680" cy="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6560" y="3692520"/>
            <a:ext cx="1440" cy="555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85600" y="3691080"/>
            <a:ext cx="70236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630760" y="3786120"/>
            <a:ext cx="95580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65600" y="4162320"/>
            <a:ext cx="282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993000" y="3971880"/>
            <a:ext cx="3222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114880" y="3976560"/>
            <a:ext cx="1471680" cy="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86560" y="4365720"/>
            <a:ext cx="1440" cy="558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285600" y="4363920"/>
            <a:ext cx="702360" cy="56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081840" y="4462560"/>
            <a:ext cx="5047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59120" y="4824360"/>
            <a:ext cx="2832120" cy="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993000" y="4646520"/>
            <a:ext cx="32220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95840" y="4649760"/>
            <a:ext cx="1890720" cy="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586560" y="5038560"/>
            <a:ext cx="1440" cy="55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285600" y="5037120"/>
            <a:ext cx="702360" cy="56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58" y="158"/>
                </a:moveTo>
                <a:arcTo wR="10800" hR="10800" stAng="-5989257" swAng="11953991"/>
                <a:lnTo>
                  <a:pt x="10800" y="10800"/>
                </a:lnTo>
                <a:close/>
              </a:path>
              <a:path fill="none" w="21600" h="21600">
                <a:moveTo>
                  <a:pt x="8958" y="158"/>
                </a:moveTo>
                <a:arcTo wR="10800" hR="10800" stAng="-5989257" swAng="11953991"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656320" y="5132520"/>
            <a:ext cx="93024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765600" y="5497560"/>
            <a:ext cx="2825640" cy="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93000" y="5319720"/>
            <a:ext cx="3222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695840" y="5322960"/>
            <a:ext cx="1890720" cy="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342200" y="3724200"/>
            <a:ext cx="5634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361280" y="4387680"/>
            <a:ext cx="557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365960" y="5084640"/>
            <a:ext cx="652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16640" y="30672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91120" y="6093000"/>
            <a:ext cx="0" cy="1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776760" y="193320"/>
            <a:ext cx="0" cy="6178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59120" y="619272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774960" y="6226200"/>
            <a:ext cx="4082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4195800" y="213840"/>
            <a:ext cx="6480" cy="558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4060800" y="5802840"/>
            <a:ext cx="262080" cy="280800"/>
            <a:chOff x="4060800" y="5802840"/>
            <a:chExt cx="262080" cy="280800"/>
          </a:xfrm>
        </p:grpSpPr>
        <p:sp>
          <p:nvSpPr>
            <p:cNvPr id="843" name=""/>
            <p:cNvSpPr/>
            <p:nvPr/>
          </p:nvSpPr>
          <p:spPr>
            <a:xfrm>
              <a:off x="4060800" y="5889600"/>
              <a:ext cx="262080" cy="1940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4151880" y="5803920"/>
              <a:ext cx="86400" cy="8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059520" y="37800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21400" y="1052640"/>
            <a:ext cx="6012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062760" y="1722600"/>
            <a:ext cx="60120" cy="6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618160" y="2395440"/>
            <a:ext cx="604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746520" y="3438360"/>
            <a:ext cx="58680" cy="5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05520" y="326700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64200" y="307656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746520" y="4124160"/>
            <a:ext cx="58680" cy="5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05520" y="394020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619600" y="3755880"/>
            <a:ext cx="59040" cy="5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64200" y="443556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680000" y="461340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46520" y="479736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753000" y="546408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26080" y="5102280"/>
            <a:ext cx="58680" cy="5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80000" y="5286240"/>
            <a:ext cx="58680" cy="5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583080" y="6330960"/>
            <a:ext cx="2984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      =0      =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90880" y="5684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78280" y="126036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75040" y="193356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881520" y="25970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392720" y="17557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379760" y="24289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95960" y="44449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92720" y="51181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780160" y="2095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776920" y="15494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783400" y="29084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80160" y="426708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471840" y="327348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78320" y="39560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484440" y="46292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490920" y="530208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34080" y="3967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821120" y="10796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827600" y="30956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834080" y="37591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345280" y="87948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42040" y="221940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38800" y="359712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345280" y="493704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31160" y="3613320"/>
            <a:ext cx="3254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89760" y="23796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005600" y="91116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021440" y="158436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037280" y="225756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053120" y="293040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085160" y="4276800"/>
            <a:ext cx="3254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101000" y="4950000"/>
            <a:ext cx="3254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776760" y="193320"/>
            <a:ext cx="0" cy="6178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5128920" y="213840"/>
            <a:ext cx="6120" cy="5589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5651640" y="181080"/>
            <a:ext cx="0" cy="6183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4195800" y="213840"/>
            <a:ext cx="6480" cy="5589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710240" y="193320"/>
            <a:ext cx="0" cy="6178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087600" y="222120"/>
            <a:ext cx="9720" cy="5577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774960" y="6226200"/>
            <a:ext cx="40824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91120" y="6093000"/>
            <a:ext cx="0" cy="139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708440" y="6226200"/>
            <a:ext cx="408240" cy="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124600" y="6093000"/>
            <a:ext cx="0" cy="139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672160" y="6234120"/>
            <a:ext cx="43344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091200" y="6093000"/>
            <a:ext cx="0" cy="139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67200" y="468936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3–to-8 deco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Címdekó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900000" y="1687680"/>
          <a:ext cx="7301160" cy="4716360"/>
        </p:xfrm>
        <a:graphic>
          <a:graphicData uri="http://schemas.openxmlformats.org/drawingml/2006/table">
            <a:tbl>
              <a:tblPr/>
              <a:tblGrid>
                <a:gridCol w="663840"/>
                <a:gridCol w="663480"/>
                <a:gridCol w="663480"/>
                <a:gridCol w="663480"/>
                <a:gridCol w="663840"/>
                <a:gridCol w="664920"/>
                <a:gridCol w="663840"/>
                <a:gridCol w="663480"/>
                <a:gridCol w="663480"/>
                <a:gridCol w="663480"/>
                <a:gridCol w="6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.3. Szekvenciális (sorrendi) logikai hálózato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zekvenciális logikai áramkö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89040"/>
            <a:ext cx="822960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kimenet füg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emeneti jelkombinációtól é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álózatra megelőzően ható jelkombinációktól, azaz a hálózat állapotátó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1898640" y="4989600"/>
            <a:ext cx="357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031080" y="5045040"/>
            <a:ext cx="522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630520" y="3889440"/>
            <a:ext cx="3003480" cy="1790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X,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hu-HU" sz="24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(X,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413160" y="4784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2629080" y="3887640"/>
            <a:ext cx="784080" cy="897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629080" y="4784760"/>
            <a:ext cx="784080" cy="895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716120" y="3981600"/>
            <a:ext cx="93168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716120" y="4410000"/>
            <a:ext cx="912960" cy="1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193760" y="3943440"/>
            <a:ext cx="55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622840" y="5559480"/>
            <a:ext cx="2430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846760" y="5559480"/>
            <a:ext cx="1440" cy="336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349000" y="5904000"/>
            <a:ext cx="35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349360" y="5586480"/>
            <a:ext cx="1800" cy="317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49360" y="5567400"/>
            <a:ext cx="27972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630760" y="4970520"/>
            <a:ext cx="4111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41880" y="4970520"/>
            <a:ext cx="1800" cy="1157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238120" y="6127920"/>
            <a:ext cx="38034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2238480" y="4970160"/>
            <a:ext cx="1440" cy="1157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38480" y="4970520"/>
            <a:ext cx="39060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649840" y="4017960"/>
            <a:ext cx="97020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30760" y="4448160"/>
            <a:ext cx="98928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788160" y="3943440"/>
            <a:ext cx="55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884240" y="3738600"/>
            <a:ext cx="4492800" cy="2557440"/>
          </a:xfrm>
          <a:prstGeom prst="rect">
            <a:avLst/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zekvenciális logikai áramkö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oportosításu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zinkron sorrendi hálózat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inkron sorrendi hálózatok (óraje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lip-fl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emi sorrendi hálózato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ét stabil állapotú (0, 1) billenő elemek. Állapotuk megegyezik a kimenett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kalmazásuk: regiszterek, memóriák (SRAM), számláló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ás néven bistabil multivibrá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ffff"/>
                </a:solidFill>
                <a:latin typeface="Tahoma"/>
              </a:rPr>
              <a:t>S - R 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lip-fl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t -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985680" y="4535640"/>
            <a:ext cx="3495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145040" y="4595760"/>
            <a:ext cx="54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735200" y="3343320"/>
            <a:ext cx="2001600" cy="1616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(S, R, 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82640" y="3444840"/>
            <a:ext cx="96984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82640" y="4070520"/>
            <a:ext cx="95256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81160" y="3192480"/>
            <a:ext cx="582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59080" y="3929040"/>
            <a:ext cx="1800" cy="1230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346040" y="5183280"/>
            <a:ext cx="2835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328760" y="4514400"/>
            <a:ext cx="1728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327320" y="4514760"/>
            <a:ext cx="40788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733920" y="3949560"/>
            <a:ext cx="102852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762440" y="3705120"/>
            <a:ext cx="1127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 =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57240" y="3181320"/>
            <a:ext cx="3495600" cy="2224080"/>
          </a:xfrm>
          <a:prstGeom prst="rect">
            <a:avLst/>
          </a:prstGeom>
          <a:noFill/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76120" y="3822840"/>
            <a:ext cx="5828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100400" y="3892680"/>
            <a:ext cx="1206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6122880" y="2611440"/>
          <a:ext cx="2529000" cy="3154320"/>
        </p:xfrm>
        <a:graphic>
          <a:graphicData uri="http://schemas.openxmlformats.org/drawingml/2006/table">
            <a:tbl>
              <a:tblPr/>
              <a:tblGrid>
                <a:gridCol w="541440"/>
                <a:gridCol w="506520"/>
                <a:gridCol w="769680"/>
                <a:gridCol w="7113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r>
                        <a:rPr b="0" lang="hu-H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ffff"/>
                </a:solidFill>
                <a:latin typeface="Tahoma"/>
              </a:rPr>
              <a:t>S - R 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lip-fl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832040" y="4108320"/>
            <a:ext cx="1218960" cy="1219320"/>
            <a:chOff x="1832040" y="4108320"/>
            <a:chExt cx="1218960" cy="1219320"/>
          </a:xfrm>
        </p:grpSpPr>
        <p:sp>
          <p:nvSpPr>
            <p:cNvPr id="959" name=""/>
            <p:cNvSpPr/>
            <p:nvPr/>
          </p:nvSpPr>
          <p:spPr>
            <a:xfrm>
              <a:off x="1832040" y="4108320"/>
              <a:ext cx="1218960" cy="1219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28400" y="442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841400" y="3300480"/>
            <a:ext cx="1201320" cy="1236240"/>
            <a:chOff x="1841400" y="3300480"/>
            <a:chExt cx="1201320" cy="1236240"/>
          </a:xfrm>
        </p:grpSpPr>
        <p:sp>
          <p:nvSpPr>
            <p:cNvPr id="962" name=""/>
            <p:cNvSpPr/>
            <p:nvPr/>
          </p:nvSpPr>
          <p:spPr>
            <a:xfrm>
              <a:off x="1841400" y="3300480"/>
              <a:ext cx="1201320" cy="123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93" y="17580"/>
                  </a:moveTo>
                  <a:arcTo wR="10800" hR="10800" stAng="8466958" swAng="15265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393" y="17580"/>
                  </a:moveTo>
                  <a:arcTo wR="10800" hR="10800" stAng="8466958" swAng="1526545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911320" y="4222800"/>
              <a:ext cx="54000" cy="9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772240" y="4105440"/>
            <a:ext cx="1218960" cy="1218960"/>
            <a:chOff x="5772240" y="4105440"/>
            <a:chExt cx="1218960" cy="1218960"/>
          </a:xfrm>
        </p:grpSpPr>
        <p:sp>
          <p:nvSpPr>
            <p:cNvPr id="965" name=""/>
            <p:cNvSpPr/>
            <p:nvPr/>
          </p:nvSpPr>
          <p:spPr>
            <a:xfrm>
              <a:off x="5772240" y="4105440"/>
              <a:ext cx="1218960" cy="121896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168600" y="4425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5781600" y="3297240"/>
            <a:ext cx="1201320" cy="1236240"/>
            <a:chOff x="5781600" y="3297240"/>
            <a:chExt cx="1201320" cy="1236240"/>
          </a:xfrm>
        </p:grpSpPr>
        <p:sp>
          <p:nvSpPr>
            <p:cNvPr id="968" name=""/>
            <p:cNvSpPr/>
            <p:nvPr/>
          </p:nvSpPr>
          <p:spPr>
            <a:xfrm>
              <a:off x="5781600" y="3297240"/>
              <a:ext cx="1201320" cy="123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93" y="17580"/>
                  </a:moveTo>
                  <a:arcTo wR="10800" hR="10800" stAng="8466958" swAng="15265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393" y="17580"/>
                  </a:moveTo>
                  <a:arcTo wR="10800" hR="10800" stAng="8466958" swAng="1526545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851520" y="4219560"/>
              <a:ext cx="54000" cy="92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775240" y="4073400"/>
            <a:ext cx="3194640" cy="1736280"/>
            <a:chOff x="2775240" y="4073400"/>
            <a:chExt cx="3194640" cy="1736280"/>
          </a:xfrm>
        </p:grpSpPr>
        <p:sp>
          <p:nvSpPr>
            <p:cNvPr id="971" name=""/>
            <p:cNvSpPr/>
            <p:nvPr/>
          </p:nvSpPr>
          <p:spPr>
            <a:xfrm>
              <a:off x="2775240" y="4073400"/>
              <a:ext cx="319464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5" y="5200"/>
                  </a:moveTo>
                  <a:arcTo wR="10800" hR="10800" stAng="-8926033" swAng="7188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5" y="5200"/>
                  </a:moveTo>
                  <a:arcTo wR="10800" hR="10800" stAng="-8926033" swAng="7188848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34080" y="4487760"/>
              <a:ext cx="61920" cy="6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32840" y="3605760"/>
            <a:ext cx="3194640" cy="1736280"/>
            <a:chOff x="2832840" y="3605760"/>
            <a:chExt cx="3194640" cy="1736280"/>
          </a:xfrm>
        </p:grpSpPr>
        <p:sp>
          <p:nvSpPr>
            <p:cNvPr id="974" name=""/>
            <p:cNvSpPr/>
            <p:nvPr/>
          </p:nvSpPr>
          <p:spPr>
            <a:xfrm flipH="1" flipV="1">
              <a:off x="2832840" y="3605400"/>
              <a:ext cx="319464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65" y="5200"/>
                  </a:moveTo>
                  <a:arcTo wR="10800" hR="10800" stAng="-8926033" swAng="7188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65" y="5200"/>
                  </a:moveTo>
                  <a:arcTo wR="10800" hR="10800" stAng="-8926033" swAng="7188848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3006720" y="4865760"/>
              <a:ext cx="61920" cy="6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421920" y="120492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ff00"/>
                </a:solidFill>
                <a:latin typeface="Tahoma"/>
              </a:rPr>
              <a:t>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07160" y="16351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Tahoma"/>
              </a:rPr>
              <a:t>Re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40880" y="120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42680" y="1636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735560" y="2786040"/>
            <a:ext cx="6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42680" y="1644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639440" y="1212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69360" y="2787480"/>
            <a:ext cx="8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, 0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038840" y="3525840"/>
            <a:ext cx="6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5772240" y="4105440"/>
            <a:ext cx="1218960" cy="1218960"/>
            <a:chOff x="5772240" y="4105440"/>
            <a:chExt cx="1218960" cy="1218960"/>
          </a:xfrm>
        </p:grpSpPr>
        <p:sp>
          <p:nvSpPr>
            <p:cNvPr id="986" name=""/>
            <p:cNvSpPr/>
            <p:nvPr/>
          </p:nvSpPr>
          <p:spPr>
            <a:xfrm>
              <a:off x="5772240" y="4105440"/>
              <a:ext cx="1218960" cy="121896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68240" y="4425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830240" y="4106880"/>
            <a:ext cx="1218960" cy="1219320"/>
            <a:chOff x="1830240" y="4106880"/>
            <a:chExt cx="1218960" cy="1219320"/>
          </a:xfrm>
        </p:grpSpPr>
        <p:sp>
          <p:nvSpPr>
            <p:cNvPr id="989" name=""/>
            <p:cNvSpPr/>
            <p:nvPr/>
          </p:nvSpPr>
          <p:spPr>
            <a:xfrm>
              <a:off x="1830240" y="4106880"/>
              <a:ext cx="1218960" cy="12193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26600" y="4427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5799240" y="2786040"/>
            <a:ext cx="6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247440" y="2800440"/>
            <a:ext cx="8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, 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040280" y="4782960"/>
            <a:ext cx="64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500"/>
                            </p:stCondLst>
                            <p:childTnLst>
                              <p:par>
                                <p:cTn id="16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9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500"/>
                            </p:stCondLst>
                            <p:childTnLst>
                              <p:par>
                                <p:cTn id="17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5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500"/>
                            </p:stCondLst>
                            <p:childTnLst>
                              <p:par>
                                <p:cTn id="17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0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7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5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5ffff"/>
                </a:solidFill>
                <a:latin typeface="Tahoma"/>
              </a:rPr>
              <a:t>S – R 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flip – fl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zálá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2550600" y="4638600"/>
            <a:ext cx="425520" cy="401400"/>
            <a:chOff x="2550600" y="4638600"/>
            <a:chExt cx="425520" cy="401400"/>
          </a:xfrm>
        </p:grpSpPr>
        <p:sp>
          <p:nvSpPr>
            <p:cNvPr id="997" name=""/>
            <p:cNvSpPr/>
            <p:nvPr/>
          </p:nvSpPr>
          <p:spPr>
            <a:xfrm rot="5400000">
              <a:off x="2496960" y="4692240"/>
              <a:ext cx="401400" cy="294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45080" y="4780080"/>
              <a:ext cx="131040" cy="1292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927600" y="4610160"/>
            <a:ext cx="1075320" cy="862920"/>
            <a:chOff x="3927600" y="4610160"/>
            <a:chExt cx="1075320" cy="862920"/>
          </a:xfrm>
        </p:grpSpPr>
        <p:sp>
          <p:nvSpPr>
            <p:cNvPr id="1000" name=""/>
            <p:cNvSpPr/>
            <p:nvPr/>
          </p:nvSpPr>
          <p:spPr>
            <a:xfrm>
              <a:off x="4389480" y="4611960"/>
              <a:ext cx="18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27600" y="4610160"/>
              <a:ext cx="107532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70360" y="4844880"/>
            <a:ext cx="1401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2071440" y="4829040"/>
            <a:ext cx="46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38120" y="4505400"/>
            <a:ext cx="422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353960" y="322416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43840" y="3402000"/>
            <a:ext cx="525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05120" y="5181480"/>
            <a:ext cx="495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5311800" y="3301920"/>
            <a:ext cx="1078920" cy="864720"/>
            <a:chOff x="5311800" y="3301920"/>
            <a:chExt cx="1078920" cy="864720"/>
          </a:xfrm>
        </p:grpSpPr>
        <p:sp>
          <p:nvSpPr>
            <p:cNvPr id="1009" name=""/>
            <p:cNvSpPr/>
            <p:nvPr/>
          </p:nvSpPr>
          <p:spPr>
            <a:xfrm>
              <a:off x="5775120" y="3303720"/>
              <a:ext cx="1800" cy="856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311800" y="3301920"/>
              <a:ext cx="1078920" cy="86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8" y="158"/>
                  </a:moveTo>
                  <a:arcTo wR="10800" hR="10800" stAng="-5989257" swAng="11953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8" y="158"/>
                  </a:moveTo>
                  <a:arcTo wR="10800" hR="10800" stAng="-5989257" swAng="11953991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 flipH="1">
            <a:off x="2125440" y="3521160"/>
            <a:ext cx="418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11560" y="5016600"/>
            <a:ext cx="2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267160" y="3941640"/>
            <a:ext cx="0" cy="1074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267160" y="3941640"/>
            <a:ext cx="1063800" cy="1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397560" y="3695760"/>
            <a:ext cx="74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15000" y="3695760"/>
            <a:ext cx="1800" cy="20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4084200" y="5751360"/>
            <a:ext cx="25304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097160" y="5273280"/>
            <a:ext cx="0" cy="477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097160" y="5273640"/>
            <a:ext cx="28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3657600"/>
            <a:ext cx="92160" cy="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17640" y="3165480"/>
            <a:ext cx="316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415200" y="3294000"/>
            <a:ext cx="31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83080" y="4468680"/>
            <a:ext cx="31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11160" y="4494240"/>
            <a:ext cx="316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589200" y="4921200"/>
            <a:ext cx="316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992840" y="3627360"/>
            <a:ext cx="31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035080" y="3166920"/>
            <a:ext cx="316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607080" y="3295800"/>
            <a:ext cx="3160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03760" y="4921200"/>
            <a:ext cx="31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199120" y="3629160"/>
            <a:ext cx="315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235240" y="3164040"/>
            <a:ext cx="315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17800" y="4498920"/>
            <a:ext cx="31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01960" y="4468680"/>
            <a:ext cx="316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381640" y="3625920"/>
            <a:ext cx="315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791400" y="3292560"/>
            <a:ext cx="315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017960" y="4917960"/>
            <a:ext cx="316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19400" y="4497480"/>
            <a:ext cx="315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035600" y="4475160"/>
            <a:ext cx="315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Aszinkron, szinkron flip-flo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2"/>
          <a:stretch/>
        </p:blipFill>
        <p:spPr>
          <a:xfrm>
            <a:off x="2095560" y="1682640"/>
            <a:ext cx="4968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1.1. A műszaki rendszer modellje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zámlál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603360" y="2425680"/>
            <a:ext cx="80629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56360" y="3357720"/>
            <a:ext cx="25923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ávozó informáci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4149720"/>
            <a:ext cx="367200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ső informáci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oritmu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űvel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zációs eszközö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4726080"/>
            <a:ext cx="1303200" cy="647640"/>
          </a:xfrm>
          <a:prstGeom prst="rightArrow">
            <a:avLst>
              <a:gd name="adj1" fmla="val 50000"/>
              <a:gd name="adj2" fmla="val 5030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4797360"/>
            <a:ext cx="1301760" cy="647640"/>
          </a:xfrm>
          <a:prstGeom prst="rightArrow">
            <a:avLst>
              <a:gd name="adj1" fmla="val 50000"/>
              <a:gd name="adj2" fmla="val 502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57720"/>
            <a:ext cx="2664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5320" indent="-1839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rkező informáci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űszaki rendszer modellje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690560"/>
            <a:ext cx="639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77336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műszaki gyakorlatban előforduló beren-dezéseket, eszközöket a következő rendkívül általános modell kapcsán tanulmányozzu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űszaki rendszer modell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formáció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z információkat fizikailag a rendszerben áramló jelek hordozzá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8941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alógna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zzük azokat a jeleket, melyek valamely fizikai mennyiség folytonos függvény szerinti megváltozása révén jellemzik az információ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aló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: mind időben, mind amplitúdóban folyamatos 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űszaki rendszer modell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Digitálisnak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vezzük azokat a jeleket, melyek számjegyes kifejezésmódban jellemzik az információ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-D átalakítá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mintavételezés (Shannon-Nyquist kritériu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vantálás (pl. 8 bi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űszaki rendszer modell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musok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űszaki rendszer valamilyen feladat megoldása érdekében tevékenykedik. A feladatmegoldás céljából meghatározott sorrendben végrehajtott műveletek együttesét tekinthetjük esetünkben algoritmusna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2:16:10Z</dcterms:created>
  <dc:creator>x</dc:creator>
  <dc:description/>
  <dc:language>en-US</dc:language>
  <cp:lastModifiedBy>x</cp:lastModifiedBy>
  <dcterms:modified xsi:type="dcterms:W3CDTF">2006-09-17T10:33:01Z</dcterms:modified>
  <cp:revision>207</cp:revision>
  <dc:subject/>
  <dc:title>1. dia</dc:title>
</cp:coreProperties>
</file>