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6.wmf" ContentType="image/x-wmf"/>
  <Override PartName="/ppt/media/image16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6B7-4AE6-49DB-87C0-147AA071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635-17B7-440D-AA6E-14022ADA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F40-9D98-47BB-BADE-8DD0C5ED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F5F-EAA8-4DF4-9454-D3E01842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254F-2ABD-4E7B-B808-A33EC60B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23EF-3C3A-428C-8F57-F0305EA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B2A4-A080-4FDF-B8E1-9CA40CD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EAA-ADB3-4AD0-A1BF-FCEE45DF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43C4-1BD8-4E3A-ABFE-E3CCF24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ED1C-B85D-4B8C-BD81-E30512F8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59F4-B9A2-4CF2-9369-96FAB835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EEA-8158-4947-8F89-BBF73359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B930-605F-45AC-9AF7-6655785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3AF9-06C7-410F-B0E0-7056B4F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D5A3-9E3C-4105-A17A-21FAB020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0792-05B1-49D7-81E1-DBD47AC1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A2C8-52C8-41C2-B476-BFC3579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140-C322-4854-8949-00FD20AC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D0F-0BDB-4AF4-9874-2582A2A0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4BD-1A0A-4DFF-BBB8-D9BF045B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622-8575-4393-BC72-DD24DA91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12F-DE6C-42ED-B05A-D485CFB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0C2-F492-480B-826E-E3C839F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EED-776D-4F50-8457-F547FC7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AB5-A6A5-48E1-83EC-7670F99048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0EFC-806A-4B4C-A05C-8DE6521C06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űté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hordozó közeg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levegőnek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kicsi a fajhője, (egy adott mennyiségű hőt több levegő képes csak elvinni, mint víz), de közvetlenül bekeverhető a fűtendő helyiség levegőjébe, így a hőleadó szerkezet elmarad.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hordozó közeg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természetben „korlátlanul” előforduló anyagok közül a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víznek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a legnagyobb a fajhője, de csak különleges műszaki megoldással melegíthető 100 °C fölé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melegvíz: 100 °C alatti víz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forróvíz: 100 °C feletti víz (nyomás alat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vízgőz: 100 °C feletti gőz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Túlnyomórészt víz és vízgőz hőhordozót alkalmaznak.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hordozó közeg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z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olaj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előnye, hogy több száz °C hőmérsékletre lehet felmelegíteni, és így kis felülettel, nagy légterű helyiségek fűtésére alkalmas, viszont drága, és nem áll „korlátlanul” rendelkezésre, valamint csak speciális (nem kokszosodó) olajat lehet alkalmazni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Elsődleges felhasználási terület a technológiai fűté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zán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azánokról általában központi fűtés esetén beszélünk. Egy-egy helyiség fűtésére egyedi fűtőkészülékeket (kályhát, konvektort stb.) alkalmazun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kazánok működésének alapelve, hogy a kazánban égő tűz és a tűztérből távozó forró füstgázok és égéstermékek elválasztó falon keresztül adják át a hőt a hőhordozó közegnek, mely a kazán burkolatán belül, zárt térben, meghatározott útvonalon hala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zán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aguk szerint megkülönböztetün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öntött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éllemez kazánok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tüzelőanyag fajtája szerint vanna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zilárdtüzelésű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lajtüzelésű 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áztüzelésű kazáno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őhordozó közeg szerint megkülönböztethető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íz, illetve a gőzüzemű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vegő üzemű kazán (ritkán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zéntüzelésű kazá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276720" cy="298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55640" y="2637000"/>
            <a:ext cx="3924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lajtüzelésű kazá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6640" y="2890800"/>
            <a:ext cx="3924360" cy="1990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3280" y="2014560"/>
            <a:ext cx="392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áztüzelésű kazá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819440" y="2390760"/>
            <a:ext cx="1419120" cy="2990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957920" y="2500200"/>
            <a:ext cx="32954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özponti fűtési hálózat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központi fűtés egy épület, vagy épületcsoport fűtésére szolgál. A központi fűtési hálózatok közös jellemzője, hogy két cső csatlakozik a kazánhoz, melyek közül az egyikben áramlik a hőleadók (fűtőtestek, hőcserélők) felé a felmelegített hőhordozó, a másikban tér vissza a hőleadókban lehűlt hőhordozó, hogy újra felmelegedj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legvízfűt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Melegvízfűtések esetén a hőtermelő szerkezet és az egyes hőleadók között keringő hőhordozó közeg víz, melyet nem engedünk 100 °C -ra melegedni. Az esetek túlnyomó részében a víz maximális (előremenő) hőmérséklete 90 °C, melyből a hőleadókban 20 °C-ot veszít. Ezt 90/70 °C-os fűtésnek nevezzük.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apfogalm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melegebb helyiség a hidegebb környezete felé hőt ad le, mivel a hő áramlási iránya a melegebb felől a hidegebb felé mutat, így a helyiség egy idő után felveszi a környezete hőmérsékleté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mennyiben a helyiség hőmérsékletét a kívánt, környezeténél melegebb értéken kívánjuk tartani, akkor a környezete felé leadott hőt valamilyen formában folyamatosan (egészen addig amíg a környezete hidegebb) pótolni kell. A helyiség, épület időegység alatti hőleadását, melyet pótolni kell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„hőveszteségnek”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nevezzük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legvízfűt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melegvizet mozgató erő (mely a hőtermelő szerkezet és a hőleadó között keringteti a vizet) alapján kétfajta melegvízfűtés használat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gravitációs melegvízfűtés, 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szivattyús melegvízfűté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legvízfűt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Gravitációs melegvízfűtésnél mozgatóerőként a melegvíz, és a lehűltvíz közötti fajsúlykülönbséget használjuk fe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legvízfűt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Szivattyús melegvízfűtés esetén a víz körforgását a szivattyú által létesített nyomáskülönbség biztosítja. A fűtéstechnikában a centrifugál szivattyúkat használják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Mivel a szivattyú által létesített nyomáskülönbség sokszorosa a gravitációs fűtés esetében kialakulónál, azonos hőteljesítményű központi fűtési rendszerek esetén a szivattyús rendszer csővezetékeinek átmérője lényegesen kisebb, mint a gravitációs rendszeré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legvízfűt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felmelegített vizet szétosztó csővezetékek a hőleadókhoz viszonyított helyzete szerint megkülönböztetünk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felsőelosztású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lsóelosztású 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közbenső elosztású rendszert.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legvízfűt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őleadókat egymással összekötő csövek száma szerin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étcsöves 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egycsöves fűtés létezik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legvízfűt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ttól függően, hogy a rendszerben lévő víz valahol (tágulási tartály) összeköttetésben van-e a légtérr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yitott 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árt rendszert különböztetünk meg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étcsöves, felsőelosztású melegvízfűté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hőtermelőben felmelegített víz a főfelszállón keresztül jut a hőleadók felett végigfutó felső elosztóvezetékbe. Az elosztóvezeték juttatja az egymás felett elhelyezkedő fűtőtesteket, hőleadókat összekötő leszállítóvezetékbe a melegvizet. A hőleadókban lehűlt vizet a hőleadók alatt a legalsó szinten végigfutó gyűjtővezeték gyűjti össze és vezeti vissza a hőtermelőb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0920" y="3789360"/>
            <a:ext cx="54007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étcsöves, alsóelosztású melegvízfűté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5472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gycsöves, felsőelosztású melegvízfűté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z egycsöves rendszer két fő hátrány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hőleadókba egyre csökkenő hőmérsékletű víz jut, így azonos hőmérséklet eléréséhez nagyobb hőleadó szüksége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gy hőleadó kizárásával a továbbiak is kizárásra kerülnek (átkötőcső beépítésével megoldható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48080" y="4143240"/>
            <a:ext cx="40384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gulási tartá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Melegítéskor a víz térfogata jelentősen megnő, mely egy zárt rendszer esetén a rendszer egyik elemét tönkretenné. Ennek elkerülése érdekében a rendszert el kell látni védelemmel, mely a térfogatváltozásból eredő plusz víztérfogatot felvegye, és ahonnan vízlehűléskor a víztérfogatot pótoljuk automatikusan. Ez a védelem a tágulási tartály melyet nyitott rendszer esetén szellőzővezetékkel és túlfolyóvezetékkel kell ellátn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tágulási tartályt a legfelső szinten, általában fagyveszélyes helyen helyezik el, így hőszigetelni, sok esetben fűteni is kel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apfogalm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elyiségben lévő emberek, gépek, világítóberendezések, valamint a napsugárzás helyiségbe jutó része a helyiségbe hőt juttatnak, valamint a szomszédságban lévő melegebb helyiségből is áramlik hő a helyiségbe. Ezeket együttvéve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„hőnyereségnek”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nevezzük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gulási tartá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6680" y="1773360"/>
            <a:ext cx="42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857840" y="1773360"/>
            <a:ext cx="3573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leadó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őleadók azok a szerkezetek, melyeket megfelelően kiképeztek arra a célra, hogy rajtuk keresztül a hőhordozó közeg a helyiségnek át tudja adni a hő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leadó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őhordozó közeg molekulái érintkeznek a náluk hidegebb hőleadó szerkezetével, tehát hőátadás történik, a hőleadó szerkezetében hővezetés játszódik le, míg a helyiség levegője és a hőleadó szerkezete között újra hőátadás jön létre. A felmelegített levegő a helyiségben lévő tárgyaknak adja át a hőjét, így azokat felmelegíti. A levegő közvetítésével történő hőátvitelt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konvekciós fűtésnek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nevezzük.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leadó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felmelegedett hőleadó külső felülete nemcsak a levegőnek adja át a hőt, hanem a körülötte lévő tárgyak és a hőleadó közötti állandó hősugárzási hőcsere által a hőleadó felmelegíti a tárgyakat közvetlenül is. Ezt a fajta fűtési módot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sugárzó fűtésnek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nevezzük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leadó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őleadókat aszerint, hogy a hőt nagyobbrészt konvekcióval, vagy sugárzással adja át megkülönböztetünk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onvekciós, 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sugárzó fűtőtesteke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gyakorlatban nem létezik olyan fűtőtest, amely kizárólag egyik, vagy másik módon adja le a hőt, minden fűtőtest mindkét fajta hőleadással bír, csak azok aránya függ a hőleadó típusátó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Konvekciós fűtőtes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sőregiszterek, vagy csőfűtőtestek (sima egy, vagy több szál csőből kialakítv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00720" y="1814400"/>
            <a:ext cx="40320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Konvekciós fűtőtes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rdáscsövek (acélcsőre erősített felületnagyobbító lemezek, acélcsíkok stb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835280" y="3860640"/>
            <a:ext cx="56433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Konvekciós fűtőtes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Szegélykonvek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060880" y="1752480"/>
            <a:ext cx="3089520" cy="2057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84960" y="3962520"/>
            <a:ext cx="2241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Konvekciós fűtőtes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onvektorok (a levegő áramlását intenzívebbé tevő fémlemezházba szerelt bordáscső, vagy bordáscsőso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952640"/>
            <a:ext cx="403236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Konvekciós fűtőtes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090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átorok (öntöttvas, acéllemez, alumínium anyagú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82224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3475080" cy="2057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516720" y="3933720"/>
            <a:ext cx="19051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apfogalm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elyiségnek a külvilág felé, az épületszerkezeteken keresztül való hőleadás három fő részből áll. A levegő és a külső fal között hőátadás, a falon belül hővezetés, a fal külső síkján a fal és a külső levegő között szintén hőátadás jön létre. Ezt a folyamatot „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hőátbocsátásnak”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nevezzük. A különböző épületszerkezetek (ablak, fal, födém stb.) egységnyi felületén más-más hőmennyiség jut át időegység alat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gárzó fűtőtest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árzó fűtőtestek kialakítása rendszerint olyan, hogy a hőhordozó közeget több, egymáshoz viszonylag közelfekvő csőbe vezetik, melyek a közvetlen környezetüket (mellyel össze vannak építve) hővezetéssel átmelegítik és ezáltal a csövek és a felmelegített szerkezet sugárzással adja le a hő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árzásba bevont szerkezet lehet valamilyen épületszerkezet (födém, oldalfal, padló), vagy pedig az épületszerkezettől függetlenített sugárzó ernyő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acsony hőmérsékletű sugárzó fűtőteste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z épületszerkezetek nagy hőingadozása mindenképpen káros az épületszerkezet állagára, ezért amennyiben épületszerkezetet használnak fel sugárzó fűtésre, akkor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„alacsony hőmérsékletű”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sugárzó fűtést alkalmaznak (vagyis a sugárzó felület átlaghőmérséklete 100 °C alatt marad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árzó felület hőmérsékletét még meghatározza a balesetveszély és a bent tartózkodók jó közérzete is, így például a padlófűtés esetén a hőmérséklet nem emelkedhet 26-28 °C fölé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dlófűt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95280" y="2212920"/>
            <a:ext cx="4464000" cy="3500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076720" y="2276640"/>
            <a:ext cx="3124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acsony hőmérsékletű sugárzó fűtőteste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gárzó erny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gárzó álmennyez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89404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39243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özepes hőmérsékletű sugárzó fűtőteste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z épületszerkezettől függetlenített fémszerkezetek átlaghőmérséklete 100 °C fölé emelkedhet, de nem haladhatja meg a 200 °C-t. Ezek a „közepes hőmérsékletű” sugárzó fűtések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gas hőmérsékletű sugárzó fűtőtestek (egyedi fűté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292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 gáz és elektromos hősugárzók a „magas hőmérsékletű” sugárzófűtésbe tartoznak, max 900 °C hőmérséklettel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- gáz infra sugárzó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- elektromos infra sugárzó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3600720" cy="1476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2749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űtési szabályozó, kiegészítő szerkezete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mosztatikus radiátorszel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44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Egy önműködő hőmérsékletszabályozó, amely egy szeleptestből és egy ehhez illeszkedő termosztatikus szabályozófejből áll. Általában a fűtőtest előremenő ágára csatlakozik rá, és biztosítja, hogy a fűtőtestbe mindig az előre beállított hőmérsékletnek megfelelő mennyiségű fűtővíz jusson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Ha a termofejnél a léghőmérséklet növekszik, a benne lévő folyadéktöltet kitágul, és a szelepet lezárja. Csökkenő légtér hőmérsékletnél a szelep automatikusan újra kinyílik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Egyes termofejeknél a hőérzékelőt különválasztják, ezeknél a radiátor saját hőmérséklete nem befolyásolja a léghőmérséklet mérést. A gőztöltetű termofejek gyorsabban reagálnak a hőmérséklet-változásr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80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özponti hőmérséklet szabályozó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helyiségben elhelyezett szabályozó egység a helyiség, vagy (korszerűbb esetben) a kültéren elhelyezkedő hőmérséklet érzékelésével szabályozza a kazán működését, a keringtető szivattyú, illetve a gázégő kapcsolásá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égtelenítő szelep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légtelenítő szelepek feladata a fűtési rendszerben lévő levegő kiszellőztetésének biztos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lhelyezé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csőhálózaton, illetv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hőleadón történhe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apfogalm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nyílászárókon keresztül, illetve a többszintes épület „kürtőhatása” következtében a helyiségek között légáramlás indul, mely a helyiségbe jellemzően hidegebb levegőt juttat be. E két légmozgást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„filtrációnak”,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 az így keletkező hőszükségletet, 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filtrációs hőszükséglet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nek nevezzük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gyedi fűt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gyedi fűtési készülék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Verdana"/>
              </a:rPr>
              <a:t>Egy helyiség fűtéséhez egyedi fűtőkészülékeket használun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Verdana"/>
              </a:rPr>
              <a:t>kályh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Verdana"/>
              </a:rPr>
              <a:t>kandall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Verdana"/>
              </a:rPr>
              <a:t>gázkonvek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Verdana"/>
              </a:rPr>
              <a:t>elektromos radiá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Verdana"/>
              </a:rPr>
              <a:t>gáz, vagy elektromos inf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ályh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58920" y="2216160"/>
            <a:ext cx="2539800" cy="3340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672160" y="2814480"/>
            <a:ext cx="186696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serépkályh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176480" y="1974960"/>
            <a:ext cx="2705040" cy="3822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924360" y="2043000"/>
            <a:ext cx="5219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serépkályh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08000" y="1882800"/>
            <a:ext cx="51120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ndalló tűzté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87280" y="1808280"/>
            <a:ext cx="69120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ndall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33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ázkonvekt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42920" y="1704960"/>
            <a:ext cx="6913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vfűt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ávhőellátásnak nevezzük a több épület, épületcsoport, városrész vagy város hőigényét közösen kiszolgáló rendszereke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távhőellátást többféleképpen lehet csoportosítan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rendeltetés szer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kommunális, vagy ipari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hőhordozó szerin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forróvíz, vagy nagynyomású gőz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eljesítmény szerin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csoportfűtés, tömbfűtés, távfűtés stb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A távhőellátás általános ismertet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 hőtermelő központba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kazánteleppel, vagy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kazánteleppel, turbina közbeiktatásával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melegítik fel a hőhordozót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mennyiben a kazántelep után először turbinában hasznosítják a hőhordozó energiájának egy részét, akkor a hőtermelő központ elektromos energiát is termel, ez a </a:t>
            </a: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fűtőerőmű</a:t>
            </a: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fűtőműben</a:t>
            </a: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 nincs turbina, így a hőtermelő központ kizárólag az ellátandó épület hőigényét fedezi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 hőhordozó az ellátandó épületekbe a távvezetékeken keresztül jut el. Amennyiben a hőhordozó közeg nyomása, hőmérséklete alkalmas közvetlenül helyiség fűtésre, akkor a hőhordozó közvetlenül bejut az épületen belüli – már megismert – rendszerbe, de ez ritka megoldá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apfogalm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őveszteség és a filtrációs hőszükséglet összege, levonva belőle a hőnyereség értékét adja az épület „</a:t>
            </a:r>
            <a:r>
              <a:rPr b="1" lang="hu-HU" sz="2100" spc="-1" strike="noStrike">
                <a:solidFill>
                  <a:srgbClr val="000000"/>
                </a:solidFill>
                <a:latin typeface="Verdana"/>
              </a:rPr>
              <a:t>hőszükségletét”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melyet fűtéssel kell fedezni.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Távhőellát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280" y="1987560"/>
            <a:ext cx="79214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Verdana"/>
              </a:rPr>
              <a:t>Távhőellátás-hőhordozóköze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Általában a távhőellátás fűtőközege egy hőátadó szerkezetben átadja hőjét az épület csőrendszerében és hőleadóiban keringő hőhordozónak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 hőátadó szerkezetből a távvezeték visszatérő csövében tér vissza a hőtermelő központba a távhőellátás hőhordozój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forróvíz távfűtés létrehozásához az atmoszférikus nyomásnál nagyobb nyomás szükséges. A forróvíz távfűtések általában 130/80, 130/70 vagy 150/80 °C hőlépcsővel dolgoznak, az ehhez szükséges nyomás értéke kb. 2,75-4,9 b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gőz hőhordozó közeg nyomása szintén 3-5 ba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cserél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z épület hőhordozóját a távhőellátás hőhordozója hőátadó berendezésben, másnéven hőcserélőben melegíti fel a kívánt mértékben. A hőcserélőben a távvezeték hőhordozója (vagy fűtőközeg) csősorban vagy egy nagy átmérőjű csőben elhelyezett csősor között halad irányítottan, miközben hőjét átadja a csőfalon keresztül az épületfűtés hőhordozójának, vagy más néven a fűtendő közegnek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cserél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űtőközeg és a fűtendő közeg egymáshoz viszonyított áramlási iránya szeri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yenáramú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lenáramú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zabadáramú hőcserélők vannak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gyenáramú hőcserél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gyenáramú hőcserélőnél a fűtőközeg és a fűtendő közeg  a csőfal két oldalán egyirányban áramlik, ennek megfelelően a fűtendő közeg hőmérséklete sehol sem lehet magasabb, mint a fűtőközeg hőmérséklet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lenáramú hőcserél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lenáramú hőcserélő esetén a két közeg ellentétes irányban áramlik, így a fűtendő közeg egyre magasabb hőmérsékletű fűtőközeggel találkozik (csőfalon keresztül) és ennek megfelelően a fűtendő közeg véghőmérséklete magasabb lehet, mint a fűtőközeg véghőmérséklet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zabadáramú hőcserél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zabadáramú hőcserélő egy tartály, melyben a fűtendő közeg van, és ebbe nyúlik a fűtőközeg áramlására szolgáló csősor, vagyis a fűtőközeg áramlása irányított, a fűtendő közeg áramlása nem. (Ezt a fajta hőcserélőt a használati melegvízellátásban alkalmazzák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vvezeté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Épületen belül is, de különösen távvezeték esetén gondoskodni kell a cső felmelegedése miatti hosszanti (lineáris) hőtágulás felvételéről, különben a mereven megfogott cső eltörh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Biztosítani kell a csővezeték hőszigetelésé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üzelőanyag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üzelőanyagoknak nevezzük azokat a természetben előforduló, vagy mesterségesen előállított anyagokat, melyeket tüzelőszerkezetben elégetve hőt nyerünk, és olyan mennyiségben állnak rendelkezésre, hogy fűtésre használhatók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üzelőanyagok típusai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Szilárd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rnaszén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keteszén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koksz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kalmazásuk esetén gondoskodni kell a megfelelő méretű tüzelőanyag, illetve salaktárolóró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Folyékony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üzelőola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űzveszélyes anyag, így alkalmazása esetén különös gonddal kell eljárni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Gáznemű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árosi gáz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öldgáz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B gáz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őhordozó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özeg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Azok az anyagok, melyek a hőtermelő szerkezetekben felmelegedve, az egyes helyiségekben a felvett hőt leadva fedezik az illető helyiség hőszükségleté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Hőhordozó közeg lehe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levegő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víz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vízgőz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olaj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0:35:13Z</dcterms:created>
  <dc:creator>macher gábor</dc:creator>
  <dc:description/>
  <dc:language>en-US</dc:language>
  <cp:lastModifiedBy>macher gábor</cp:lastModifiedBy>
  <dcterms:modified xsi:type="dcterms:W3CDTF">2006-03-27T16:47:50Z</dcterms:modified>
  <cp:revision>3</cp:revision>
  <dc:subject/>
  <dc:title>Fűtés</dc:title>
</cp:coreProperties>
</file>