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277-3F1E-4ACD-91A0-E5849A3C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442-7038-439E-AA4A-36832EBE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1CB-9812-4501-8E0D-4FE19D24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0AD-7D93-472A-889C-D9790427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71FD-FA33-411A-BA74-30FA6A3A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733A-00BA-4522-9F3D-EA575B47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7ACF-7FFF-474D-8080-640C225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9C35-690D-4F64-A7CD-045C4363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6CB-7EDD-4129-A0A5-4A4E9CB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3863-30F9-47CF-B153-750F294F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3E77-85B0-4735-A456-77713CA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4FD-F604-4A9A-B6FC-F95F6DE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5BEF-6F14-468A-8329-B3DF025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4DC0-27C3-44D0-9D2D-137BC7C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AD16-40B0-41A9-8F0A-B5B8760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BC9B-6CA4-4B19-AF54-FCB28587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749C-6227-42AB-A08A-E9309DD7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257-88EE-4830-98EA-1FE685B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29E-2B9B-4905-A451-0D632CF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42C-EEEA-44B9-ADE5-E96BE79D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56F-669F-44BA-839B-A2ACB6CA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AC0-3CCC-4DB8-A914-77C9F661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3E4-17CC-44EA-9DE8-CC67DE4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578-EF68-40E0-8CF4-9669FDE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F203-8788-49E8-92DA-0942FB5637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8D5C-A156-4AF8-A1E5-4C3283F159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ázellátá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áztermelés, gázszállí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ázgyártás, gáztermelé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zén lepárlás, (szén levegőtől elzárt térben való hevíté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zén elgázosítás, (elgázosító közeg jelenlétében tökéletlen égé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pság nem használatos „mesterséges gázok”-at hoznak létre (városi gáz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ányászat + szén hidrogénbontás (a földgáz, és a PB gáz felhasználásra való alkalmassá téte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ő hatására nagyobb molekulák kisebbre hasadnak. Az eljárás során tisztítják, szárítják a gázt, valamint kivonják az értékes propánt és bután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áztárolá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gáztartályok feladata a gáz tárolása azokban az időszakokban, amikor a termelés nagyobb a fogyasztáshoz viszonyítva, azokra az időszakokra, amikor a termelés nem elégíti ki a fogyasztási igényeke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gáz tárolására három megoldás ismere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izes gáztárol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teleszkóp rendszerű tartály-egységek közötti gázkiszökést, gázszivárgást vízgát akadályozza meg. Kis gáznyomás (5,0 kPa) esetén használ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záraz gáztárol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nger, vagy gömb alakú zárt tartá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öld alatti gáztárol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kimerült földgázrétegek terét használják fel, melybe kompresszor segítségével nyomják a gáz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zes gáztárol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33560" y="2492280"/>
            <a:ext cx="2579760" cy="331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>
            <a:lum contrast="18000"/>
          </a:blip>
          <a:srcRect l="20326" t="25554" r="22768" b="53982"/>
          <a:stretch/>
        </p:blipFill>
        <p:spPr>
          <a:xfrm>
            <a:off x="1619280" y="2421000"/>
            <a:ext cx="61214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92144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ázszállítás, elosztá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termelt gáz, vezetékes szállítása és elosztása napjainkban csak a földgázra jellemző. A PB gázt cseppfolyós állapotban, különböző méretű tartályokban szállítják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Gázvezetékek csoportosítás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Verdana"/>
              </a:rPr>
              <a:t>nagynyomású</a:t>
            </a: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, melyben a gáznyomás nagyobb, mint 2500,0 kPa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Verdana"/>
              </a:rPr>
              <a:t>nagyközépnyomású</a:t>
            </a: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 melyben a gáznyomás 400,0 és 2500,0 kPa között va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Verdana"/>
              </a:rPr>
              <a:t>A nagynyomású, és nagyközépnyomású vezetékek az egyes városok közötti gázszállítást szolgálják. A gáztermelésből indulnak ki és egy nyomáscsökkentő állomás a végpontjuk, ahol a gáznyomás lecsökken középnyomásúra, vagy kisnyomásúr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Verdana"/>
              </a:rPr>
              <a:t>középnyomású</a:t>
            </a: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, melyben a gáznyomás 10,0 és 400,0 kPa között va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Verdana"/>
              </a:rPr>
              <a:t>A középnyomású hálózat egyazon város különböző területei között osztja szét a gázt. A kezdeti és végpontja egy-egy nyomáscsökkentő állomá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Verdana"/>
              </a:rPr>
              <a:t>kisnyomású</a:t>
            </a: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, melyben a gáznyomás 0,0 és 10 kPa között va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Verdana"/>
              </a:rPr>
              <a:t>A kisnyomású hálózat látja el az egyes épületeket, fogyasztókat gázzal. A berendezési tárgyakhoz kisnyomású gáz szükség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Verdana"/>
              </a:rPr>
              <a:t>növelt kisnyomású hálózat</a:t>
            </a: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, melyben a gáznyomás maximum 10 kP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Verdana"/>
              </a:rPr>
              <a:t>Feladata a megnövekedett fogyasztói kör kiszolgálása a kisnyomású hálózaton keresztül. Ez a hálózat egy nyomáscsökkentő állomásról indul, és közvetlenül a fogyasztónál elhelyezett nyomáscsökkentő szelepnél végződik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1:06:04Z</dcterms:created>
  <dc:creator>macher gábor</dc:creator>
  <dc:description/>
  <dc:language>en-US</dc:language>
  <cp:lastModifiedBy>macher gábor</cp:lastModifiedBy>
  <dcterms:modified xsi:type="dcterms:W3CDTF">2006-03-06T18:30:54Z</dcterms:modified>
  <cp:revision>5</cp:revision>
  <dc:subject/>
  <dc:title>Gázellátás</dc:title>
</cp:coreProperties>
</file>