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6A9-73A1-48FD-8A23-839E0E95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BAD-9712-4A60-AE43-767BC15F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5AB-98B2-4B54-9F40-338432AE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708-C735-4840-B66D-4C2AFDCB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BB1D-C561-4405-8F80-3680C509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0039-C871-426D-A2BB-F5715D58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8DBD-31B3-442A-9DCC-22AA3FE1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89B1-18FA-44CE-9A30-BE2A51A0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8276-32D7-4496-98B6-32850C60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CB55-A0F3-4301-906E-E8A96FB7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CA64-654C-480E-A8D7-76123898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E14-B9E6-4A15-8EAA-F5BD813F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0ECE-A05F-49D2-B19E-F70B60C1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11C8-794E-4367-BC93-9B36C27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9277-029B-4631-9C6D-9D8BF5B6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6CAF-4213-49C8-84BA-623373FC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A845-F1CB-4144-9E83-4659640A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059-9C12-4F46-A98E-9CEC6E02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7A0-1D12-44CE-A82A-B94F1AD3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7B6-E7C6-4149-B307-C36D5FA9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BE4-E36A-4867-8767-DFB2368A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CA1-1047-4BD8-A111-82BCA2E1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0EF-2230-46BD-8D1B-22A8A2B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DA53-43C3-47B7-85BE-E8BF87F2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2A5E-C089-4984-ABCD-BC8AAAA76CD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49C0-983F-4CF1-BD85-FD73201B4C4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Times New Roman"/>
              </a:rPr>
              <a:t>Magánbiztonság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Magyar jo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148608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Magyar Köztársaság Alkotmánya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(1949. évi XX. tv.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2565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Polgári Törvénykönyv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(1959. évi IV. tv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364500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Büntető Törvénykönyv</a:t>
            </a:r>
            <a:br>
              <a:rPr sz="2400"/>
            </a:b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(1978. évi IV. tv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4797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vállalkozás keretében végzett személy- és vagyonvédelmi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, ….. tevékenységről szóló törvé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Nemzetközi jo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3213000"/>
            <a:ext cx="71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Római Egyezmény</a:t>
            </a:r>
            <a:r>
              <a:rPr b="0" lang="hu-H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hu-HU" sz="2400" spc="-1" strike="noStrike">
                <a:solidFill>
                  <a:srgbClr val="6600ff"/>
                </a:solidFill>
                <a:latin typeface="Times New Roman"/>
              </a:rPr>
              <a:t>Egyezmény az emberi jogok és az alapvető szabadságjogok  védelméről. Az Az </a:t>
            </a:r>
            <a:r>
              <a:rPr b="1" lang="hu-H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urópa Tanács Tagjai 1950</a:t>
            </a:r>
            <a:r>
              <a:rPr b="1" lang="hu-HU" sz="2400" spc="-1" strike="noStrike">
                <a:solidFill>
                  <a:srgbClr val="6600ff"/>
                </a:solidFill>
                <a:latin typeface="Times New Roman"/>
              </a:rPr>
              <a:t>. november 4-én írták alá,</a:t>
            </a:r>
            <a:r>
              <a:rPr b="1" lang="hu-H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Magyarország 1992-ben csatlakozott az egyezményhez –1993. évi XXXI. </a:t>
            </a:r>
            <a:r>
              <a:rPr b="1" lang="hu-HU" sz="2400" spc="-1" strike="noStrike">
                <a:solidFill>
                  <a:srgbClr val="6600ff"/>
                </a:solidFill>
                <a:latin typeface="Times New Roman"/>
              </a:rPr>
              <a:t>t</a:t>
            </a:r>
            <a:r>
              <a:rPr b="1" lang="hu-H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v.</a:t>
            </a:r>
            <a:r>
              <a:rPr b="1" lang="hu-HU" sz="2400" spc="-1" strike="noStrike">
                <a:solidFill>
                  <a:srgbClr val="66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1628640"/>
            <a:ext cx="70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beri Jogok Egyetemes Nyilatkozata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z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NSZ Közgyűlése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948. december 10-én hirdet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me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8000" y="1557360"/>
            <a:ext cx="6912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Polgári és politikai jogok nemzetközi egyezségokmány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ENSZ közgyűlés XXI. ülésszaka –1966. 12.16. – 1976. évi 8. tvr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Nemzetközi jo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3357720"/>
            <a:ext cx="68407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Times New Roman"/>
              </a:rPr>
              <a:t>Gazdasági, szociális és kulturális jogok nemzetközi egyezségokmány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ENSZ közgyűlés XXI. ülésszaka –1966. 12.16. – 1976. évi 9. tvr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5229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z Európai Unió Alapszerződése</a:t>
            </a:r>
            <a:r>
              <a:rPr b="1" lang="hu-H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(Alkotmány-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reaty</a:t>
            </a:r>
            <a:r>
              <a:rPr b="0" lang="hu-H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2004. május 1-tő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Az állam szere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3413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z Alkotmányban és egyéb jogszabályokban biztosítja az emberi jogok érvényesülését és tiszteletben tartásá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084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jogszabályokban tiltja az emberi jogok megsértését, a megsértőkkel szemben szankciókat határoz me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35002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Állami kényszer  biztosítása - védelmi szervezetek működtetésével -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jogszabályok betartásá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4581360"/>
            <a:ext cx="741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jogtalanul megtámadott, illetve veszélyben lévő személy védekezése jogszerűségének elismeré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A védelem alany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1557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Verdana"/>
              </a:rPr>
              <a:t>Személyvéde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2349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jogtalanul megtámadott, illetve veszélyben lévő szemé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3500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Verdana"/>
              </a:rPr>
              <a:t>Vagyonvéde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4508640"/>
            <a:ext cx="69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birtokos </a:t>
            </a:r>
            <a:r>
              <a:rPr b="0" lang="en-US" sz="2400" spc="-1" strike="noStrike">
                <a:solidFill>
                  <a:srgbClr val="6600ff"/>
                </a:solidFill>
                <a:latin typeface="Verdana"/>
              </a:rPr>
              <a:t>(a tulajdonos mindig birtokos,</a:t>
            </a:r>
            <a:br>
              <a:rPr sz="2400"/>
            </a:br>
            <a:r>
              <a:rPr b="0" lang="en-US" sz="2400" spc="-1" strike="noStrike">
                <a:solidFill>
                  <a:srgbClr val="6600ff"/>
                </a:solidFill>
                <a:latin typeface="Verdana"/>
              </a:rPr>
              <a:t>                   így a birtokvédelem szabálya</a:t>
            </a:r>
            <a:br>
              <a:rPr sz="2400"/>
            </a:br>
            <a:r>
              <a:rPr b="0" lang="en-US" sz="2400" spc="-1" strike="noStrike">
                <a:solidFill>
                  <a:srgbClr val="6600ff"/>
                </a:solidFill>
                <a:latin typeface="Verdana"/>
              </a:rPr>
              <a:t>                   szerint védekezhet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A védelem megvalósítás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1413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Saját személyéb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1989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Védelmi eszközök alkalmazásáv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7813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echanikai eszközö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27813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elektronikai eszközö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96360" y="2781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állato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3429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ás személyek igénybevételé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4221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szívességi alap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414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lkalmazottakk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515772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állalkozó megbízásáv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492360" y="2421000"/>
            <a:ext cx="1440000" cy="360360"/>
          </a:xfrm>
          <a:prstGeom prst="line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32360" y="2421000"/>
            <a:ext cx="0" cy="360360"/>
          </a:xfrm>
          <a:prstGeom prst="line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2421000"/>
            <a:ext cx="3024360" cy="360360"/>
          </a:xfrm>
          <a:prstGeom prst="line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34920" y="3860640"/>
            <a:ext cx="1297080" cy="432000"/>
          </a:xfrm>
          <a:prstGeom prst="line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860640"/>
            <a:ext cx="1079640" cy="360360"/>
          </a:xfrm>
          <a:prstGeom prst="line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32360" y="3933720"/>
            <a:ext cx="0" cy="129564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A védelem jogának átruházás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1557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védelem joga a védelem alanyát illeti me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565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védelem alanyának fizikai, technikai, időbeli korláta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47640" y="357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védelem átruházása más személy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436572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Senki nem ruházhat át több jogot másra, mint amennyivel saját maga rendelkez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Helyettesíté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155736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00ff"/>
                </a:solidFill>
                <a:latin typeface="Verdana"/>
              </a:rPr>
              <a:t>A védelem alanya által megbízott személy(ek) vagy a vállalkozás dolgozói helyettesítik a védelem alanyát a védelmi tevékenység ellátásáb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350028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helyettesítő személyek – a biztonsági őr  is – magánszemélye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4581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helyettesítő személyek hatósági jogkörrel nem rendelkeznek, a hatóság eljárását nem akadályozhatjá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A védelem tárgy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170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Személyvéde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28144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veszélyeztetetett személy – fizikai értelemben vet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805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éle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3040" y="3805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testi épsé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0" y="3805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egészsé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4797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személyi  szabadság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A védelem tárgy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92360" y="14842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Vagyonvéde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23097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vagyon a maga fizikai megjelenéséb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92360" y="29955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olo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68520" y="29955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pénz – és értékpapí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36813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olog módjára hasznosítható természeti 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energia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(a kitermelést, tárolást, szállítást, </a:t>
            </a:r>
            <a:br>
              <a:rPr sz="2400"/>
            </a:b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elhasználást biztosító eszközökön keresztü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49417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z érték védel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özvetve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, csak a fizikai megjelenés védelmén keresztül valósul me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Biztonsá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1700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Fogalma – 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 személy- és vagyonvédelem szempontjábó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63700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természetes személyek élete testi épsége és egészsége, valamint a természetes- és jogi személyek vagyona nincs veszélyeztetve más személyek 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jogtalan támadásától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, illetve egyéb 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veszélyhelyzetektől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, továbbá védve van a jogtalan támadások és egyéb veszélyhelyzetek bekövetkezése eseté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0"/>
            <a:ext cx="5829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Egyenlő véde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15573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Személyvéde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40000" y="2637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z ember, mint természetes szemé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3213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Egyenlő védelem lehetősé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95640" y="4254480"/>
            <a:ext cx="59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z ember által betöltött társadalmi funkci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486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Eltérő védel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Egyenlő véde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68360" y="170028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Vagyonvéde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28224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vagyon, mint a tulajdonjog tárgy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40000" y="34322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Egyenlő védelem lehetősé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68360" y="4365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 vagyonhoz kötődő társadalmi funkci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29080" y="49752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Eltérő védel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A védelem terjedel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71640" y="14842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Fizikai technikai véde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47640" y="2205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Személyvéde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30686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személy védelme testi-fizikai valóságáb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68360" y="378936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kívülről jövő fizikai erővel, illetve technikai eszközökkel megvalósuló jogellenes támadás, illetve veszélyhelyzet eseté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40000" y="5157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fizikai erő, illetve technikai eszközök alkalmazásáv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A védelem terjedel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137808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Vagyonvéde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1320" y="2205000"/>
            <a:ext cx="68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veszélyeztetett  vagyon védelme a maga fizikai valóságáb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3141720"/>
            <a:ext cx="6337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kívülről jövő fizikai erővel, illetve technikai eszközökkel megvalósuló jogellenes támadás, illetve veszélyhelyzet és egyéb károsító esemény ell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40000" y="4797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fizikai erő, illetve technikai eszközök alkalmazásáv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Terjedel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1052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Időbeli vonatkozásb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63640" y="1557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Megelőzé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27200" y="198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Generális prevenci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989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Speciális prevenci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2565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Elhárítá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56000" y="3141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Közvetlenül fenyegető jogtalan támadá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3751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Intézett jogtalan támadá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436104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Közvetlenül fenyegető veszélyhelyz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56000" y="4970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ekövetkezett veszélyhelyz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63640" y="5589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lhárítást követő intézkedése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Terjedel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1700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Erő, eszköz vonatkozásb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24620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rányossá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30686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Jogtalan támadás: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z elhárító személy aránytalanul nagyobb sérelmet nem okozhat a támadónak, mint amelyet az akart okozni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40000" y="4581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Veszélyhelyzet: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z elhárító személy csak kisebb sérelmet okozhat annál, amit elhárítani töreksz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 védelemre vonatkozó szabályo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7640" y="141300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Jogszabály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3789360"/>
            <a:ext cx="53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Polgári jogi szerződé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43280" y="1557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indenki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30680" y="2384280"/>
            <a:ext cx="39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tevékenységet végzők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3068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Megsértése:     állami szankció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79640" y="5229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Megsértése:    szerződés-szegés, kártérítés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08720" y="37893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egbízó-vállalkoz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30680" y="443700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vállalkozó-alvállalkoz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A védelemre vonatkozó szabályo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1197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Munkaszerződé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63640" y="2421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Megsértése:    fegyelmi, kártéríté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32360" y="1197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egbízó- alkalmazot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32360" y="18446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vállalkozó-alkalmazot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03280" y="29242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Biztosítási  szerződé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76360" y="4508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Szakmai szabály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5589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Megsértése:   fegyelmi, kártéríté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4005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Megsértése:   szerződésszegés, a biztosító nem fiz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35640" y="50846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unkavállal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35640" y="4581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vállalkoz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0" y="2997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egbízó-biztosít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3429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vállalkozó-biztosít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A biztonság eleme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1484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Objektív elem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32000" y="2060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ténylegesen bekövetkezett támadások száma és jelleg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2000" y="292572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ténylegesen  bekövetkezett  veszélyhelyzetek száma és jelle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39337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Szubjektív eleme: a biztonságérz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32000" y="4581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természetes személyek pszichikai viszonyulása az objektív elemekhe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2000" y="5516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félelem szint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ff"/>
                </a:solidFill>
                <a:latin typeface="Times New Roman"/>
              </a:rPr>
              <a:t>Közbiztonság-Magánbiztonsá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170028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Verdana"/>
              </a:rPr>
              <a:t>Közbiztonság </a:t>
            </a: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(általáno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46200" y="537372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közbiztonság elsősorban a magán-biztonságon keresztül valósul me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1482840" cy="1487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95640" y="23493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természetes és jogi személyek biztonsága egy meghatározott földrajzi terület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47640" y="3500280"/>
            <a:ext cx="982800" cy="1833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59280" y="3645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Verdana"/>
              </a:rPr>
              <a:t>Magánbiztonság </a:t>
            </a: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(egyedi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5640" y="429264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z egyes természetes és jogi személyek biztonság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A jövő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1721160" cy="1712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40360" y="1413000"/>
            <a:ext cx="1820880" cy="97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534000" y="4272120"/>
            <a:ext cx="1708200" cy="1522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948360" y="2565360"/>
            <a:ext cx="0" cy="151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29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lad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403280" y="3573360"/>
            <a:ext cx="1643040" cy="1535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56000" y="4292640"/>
            <a:ext cx="1289160" cy="142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56000" y="2997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űnözé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5157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áború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rorizm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7800" y="231480"/>
            <a:ext cx="743904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Magánterület - Közterül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1430280" cy="1812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590920" cy="2189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671840" cy="1834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59280" y="3357720"/>
            <a:ext cx="846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4437000"/>
            <a:ext cx="978120" cy="57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Biztonság = Szolgálta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1484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Közbiztonság = Közszolgáltatá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2205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szolgáltatási tevékenységet minden részletében jogszabályok írják elő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357720"/>
            <a:ext cx="77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Magánbiztonság = Magánszolgáltatá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4005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szolgáltatási tevékenységet jogszabályok teszik lehetőv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Véde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2925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Verdana"/>
              </a:rPr>
              <a:t>Megelőzé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557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szolgáltatás célja: a VÉDEL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2276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 védelem területe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350028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Generális prevenci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74880" y="4076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Speciális prevenci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465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Verdana"/>
              </a:rPr>
              <a:t>Elhárítá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537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Verdana"/>
              </a:rPr>
              <a:t>Menté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Az állam fela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6600ff"/>
                </a:solidFill>
                <a:latin typeface="Times New Roman"/>
              </a:rPr>
              <a:t>                                Dr. Kaló Józse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Az alapvető emberi jogok védel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2060640"/>
            <a:ext cx="25909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z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élethe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5641920"/>
            <a:ext cx="259092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 magánlakásh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2746440"/>
            <a:ext cx="25909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esti épséghe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879800"/>
            <a:ext cx="259092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 tulajdonh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3432240"/>
            <a:ext cx="25909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személyi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zabadságh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99160" y="25938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99160" y="480384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0920" y="2975040"/>
            <a:ext cx="2286000" cy="459720"/>
          </a:xfrm>
          <a:prstGeom prst="rect">
            <a:avLst/>
          </a:prstGeom>
          <a:solidFill>
            <a:srgbClr val="ff33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személyvédel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0920" y="5261040"/>
            <a:ext cx="2286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vagyonvédel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41:23Z</dcterms:created>
  <dc:creator>user</dc:creator>
  <dc:description/>
  <dc:language>en-US</dc:language>
  <cp:lastModifiedBy>user</cp:lastModifiedBy>
  <dcterms:modified xsi:type="dcterms:W3CDTF">2007-02-02T20:48:51Z</dcterms:modified>
  <cp:revision>8</cp:revision>
  <dc:subject/>
  <dc:title>Magánbiztonság</dc:title>
</cp:coreProperties>
</file>