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796-2C63-439E-8989-A2EE4359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604-E120-42FD-8AAB-DFFDF2B4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00B-7DE7-4AD2-ACF0-55F49732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227-7106-42AE-9598-B6A9D8B2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4F32-FFA2-4C97-AFF4-C3520A55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BBD-B77B-4E6D-AD87-781218AB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A4EF-B1C9-4680-A2DA-EE89ACD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A57A-5CFC-4A0A-9CC9-50E8C4F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EC7-D9A8-401B-842E-EA7DD31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BBB6-E7DF-4FCD-8365-F4CE074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A7D3-0EA3-4FEF-B19F-60CB4BEE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74B-47B5-4CAF-8C2F-5599C2AC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5BA9-A986-4E7F-9EE8-D70F137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DD80-A023-4AAD-AE03-38654FB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4555-40A6-45C6-BB49-2BEA978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18C5-EFE2-4215-ACB8-A263241F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C38-F7B1-4C4A-B69F-B609DED4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A0F-1F7F-4389-BBB9-A5B73E7C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6D4-452F-4F54-81A5-31C062D5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12B-3103-4F84-9CD8-93ADEB1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57B-0B8B-4B6A-95B2-9070999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196-2764-4CA6-952E-1873CBF8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628-0DD9-4CF9-8FBD-9225AD3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5A6-B27A-4BE9-B820-49B6D7A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8363-8B84-4AB4-A8AB-8376A58794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5EB-69B7-48DC-BA2D-A48FBBD19F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énzszáll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6308640"/>
            <a:ext cx="828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621240" y="3282840"/>
            <a:ext cx="1900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emélyi feltételek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205000"/>
            <a:ext cx="548640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gyvertartási engedé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2967120"/>
            <a:ext cx="548640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rvényes pszichológiai alkalmas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3728880"/>
            <a:ext cx="548640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épjármű vezetői engedé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4581360"/>
            <a:ext cx="548640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akmai kamarai igazolv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szközök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413000"/>
            <a:ext cx="2666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pkocs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98800"/>
            <a:ext cx="58672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erősítés nélkü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2708280"/>
            <a:ext cx="5867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erősített, de nem páncélozott (fólia, kazetták, stb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3699000"/>
            <a:ext cx="5867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etőfülke páncélozott, golyóálló üvegekkel ellátot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MSZ 20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4689360"/>
            <a:ext cx="5867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j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áncélozott, golyóálló üvegekkel ellát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szközök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989000"/>
            <a:ext cx="45720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sszeköttetést biztosító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5080" y="2827440"/>
            <a:ext cx="28191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 telef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2827440"/>
            <a:ext cx="29718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ád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3513240"/>
            <a:ext cx="29718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áratkövető rend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45080" y="3513240"/>
            <a:ext cx="28191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 támadásjelz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szközök 3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2060640"/>
            <a:ext cx="28195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omagoló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2921040"/>
            <a:ext cx="1447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sá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07120" y="2921040"/>
            <a:ext cx="16761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téner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34040" y="4005360"/>
            <a:ext cx="16765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m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2920" y="4005360"/>
            <a:ext cx="3886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ális pénzszállító tásk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9720" y="2921040"/>
            <a:ext cx="12189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ád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15920" y="4941720"/>
            <a:ext cx="27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tonsági tasa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0360" y="4941720"/>
            <a:ext cx="27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omagoló fóli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szközök 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1916280"/>
            <a:ext cx="327636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technikai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349800"/>
            <a:ext cx="586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énz megszín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4035600"/>
            <a:ext cx="586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énz használhatatlanná té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4797360"/>
            <a:ext cx="586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ámadást jelző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szközök 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752480"/>
            <a:ext cx="41148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delmi- és védőfelszerel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2280" y="2739960"/>
            <a:ext cx="6019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gyverek és lőszer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2280" y="3425760"/>
            <a:ext cx="6019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éb támadáselhárító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2280" y="4111560"/>
            <a:ext cx="6019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yóálló (szúrás ellen védő) mell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2280" y="4797360"/>
            <a:ext cx="29718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tés ellen védő si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1280" y="4797360"/>
            <a:ext cx="2590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ázála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Eszközök 6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6920" y="1916280"/>
            <a:ext cx="26672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u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2963880"/>
            <a:ext cx="2590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azolv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55920" y="2963880"/>
            <a:ext cx="2590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bízólevel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573360"/>
            <a:ext cx="6019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adás-átvétel bizonylat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4183200"/>
            <a:ext cx="60199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ilvántartási bizonylat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869000"/>
            <a:ext cx="601992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kívüli események rögzítésére szolgáló nyomtatv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1413000"/>
            <a:ext cx="60199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api tevékenyég szempontjá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000" y="2205000"/>
            <a:ext cx="6119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A telephelyről kiindulás előtti tevékeny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2870280"/>
            <a:ext cx="6095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lentkezés m.végzésre alkalmas állapo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57160" y="3479760"/>
            <a:ext cx="7818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kavégzéshez szükséges igazolv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57160" y="4089240"/>
            <a:ext cx="7818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pihenten, előírt formaruhá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57160" y="4699080"/>
            <a:ext cx="7818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m áll alkohol, kábítószer hatása ala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26920" y="5300640"/>
            <a:ext cx="7891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m szed a járművezetést és/vagy fegyvertartást hátrányosan befolyásoló gyógysz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1625760"/>
            <a:ext cx="6095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lszerelés, fegyver felvé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2311560"/>
            <a:ext cx="6095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pi feladatok átvé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2921040"/>
            <a:ext cx="6095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énzszállító gépkocsi átvé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3606840"/>
            <a:ext cx="6095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pi ellátmány átvé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8360" y="4292640"/>
            <a:ext cx="6095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szállítandó küldemények átvétele az értéktár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3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1700280"/>
            <a:ext cx="496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C-gépkocsi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0000" y="3645000"/>
            <a:ext cx="6408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zolgálati utas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0000" y="5157720"/>
            <a:ext cx="6408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épjármű javítási köny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565360"/>
            <a:ext cx="4969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kumentum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4365720"/>
            <a:ext cx="6408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iegészítő üzemeltetési utas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Fogalmak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676520"/>
            <a:ext cx="36576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nz- és értékszállítá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2492280"/>
            <a:ext cx="83678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nz- vagy érték szállítása két objektum közöt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általában fuvarozási szerződés alapjá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962520"/>
            <a:ext cx="37339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llítmánykíséré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4869000"/>
            <a:ext cx="851220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nz, érték, nagy értékű- vagy veszélyes szállítmá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íséré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ét objektum között – általában megbízási szerződés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2205000"/>
            <a:ext cx="856908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a biztonságot érintő berendezések (vagyonvédelmi szempontok alapján) hatékonyságát és működtethetőségét a járműhöz mellékelt „Kiegészítő üzemeltetési utasítás” szerint és az oktatásokon elsajátított elméleti és gyakorlati ismeretek alapjá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5013360"/>
            <a:ext cx="8569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z átlátszó ballisztikai védőanyagok (ablakok) állapotát (törés, repedés, átláthatóság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484280"/>
            <a:ext cx="4968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lenőrizni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4076640"/>
            <a:ext cx="8569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telekommunikációs, átbeszélő eszközök meglétét, működtethetőségé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1773360"/>
            <a:ext cx="85690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biztonsági ajtók működését, működtethetőségét (különös tekintettel a zárszerkezetek állapotára, a zsiliprendszer működtethetőségére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407664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tetőn lévő ismertető, azonosító jelek meglétét, állapotá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321300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vészkijárat állapotát (plomba, „üveg zár”, tolózár, stb.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4000" y="5229360"/>
            <a:ext cx="8569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Verdana"/>
              </a:rPr>
              <a:t>a légkondicionáló berendezés, kiegészítő ventillátor(ok) működését, működtethetőségé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6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1773360"/>
            <a:ext cx="85690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pánikkapcsolók meglétét, működtethetőségét (ha nincs pirotechnikával kombinálva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4000" y="407664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lapos futást biztosító betétek zajmentességét (futáspróbáv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3213000"/>
            <a:ext cx="8569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z akkumulátorok töltöttségé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7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1773360"/>
            <a:ext cx="856908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iányosság, hiba észlelését a gépkocsivezetőnek be kell jegyeznie a gépkocsi rendszámára kiadott, folyamatosan vezetett, naprakész  „Gépjármű-javítási könyv” –be és intézkedést kell kezdeményeznie az illetékes vezetőné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3860640"/>
            <a:ext cx="856908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 a járművezető olyan hiányosságot észlel, amely a biztonságos üzemeltetést veszélyezteti csak a hiányosság, rendellenesség megszüntetése után használhatja a gépjárművet pénz-és értékszállítás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8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4000" y="1557360"/>
            <a:ext cx="6119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A telephelyen kívüli tevékeny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000" y="2727360"/>
            <a:ext cx="609588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Indu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787920"/>
            <a:ext cx="8352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jelentkezés a központnak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kódolt szöve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4724280"/>
            <a:ext cx="8352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dőpont, első célállomás, kijelölt útvona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kódolt szöve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9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1413000"/>
            <a:ext cx="609588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Közleked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2473200"/>
            <a:ext cx="8352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KRESZ szabályai érvényes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3141720"/>
            <a:ext cx="8352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galmi okok miatt útvonal változtatás – jelentés, engedélyezte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4221000"/>
            <a:ext cx="8352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dőszakos bejelentkezés (kódolt szövegg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5084640"/>
            <a:ext cx="8352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yanús követés,  egyéb gyanús körülmények figyel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0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2619360"/>
            <a:ext cx="792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jelentkezés a központnak (kódolt szöve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1700280"/>
            <a:ext cx="172872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3. Érk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3228840"/>
            <a:ext cx="792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ülső környezet megfigye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4000" y="3838680"/>
            <a:ext cx="792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átadás-átvételhez szükséges dokumentumok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000" y="4437000"/>
            <a:ext cx="792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zállítandó küldemények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5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2349360"/>
            <a:ext cx="6096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énzszállítás legveszélyesebb szakas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9640" y="1484280"/>
            <a:ext cx="175284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. Rakod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0800" y="321300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épkocsi á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84720" y="3213000"/>
            <a:ext cx="2362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ajtó nyit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9640" y="4221000"/>
            <a:ext cx="60962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emélyzet legalább egy tagja a gépkocsin kívül tartózko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1413000"/>
            <a:ext cx="7994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tor általában nem állítható 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1280" y="2098800"/>
            <a:ext cx="7994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épkocsivezető a vezetőülésben marad – figyeli a környeze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1280" y="3089160"/>
            <a:ext cx="7994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emélyzet egy vagy két tagja kiszáll, megfigyeli a környeze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4079880"/>
            <a:ext cx="7994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 gyanús körülmény nem észlel, megkezdi a rakod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4797360"/>
            <a:ext cx="7994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ét személy esetén egyik személy biztos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1280" y="5407200"/>
            <a:ext cx="7994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pcsolattartás a személyzet tagjai közö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3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5280" y="2205000"/>
            <a:ext cx="17524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onos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5280" y="2997360"/>
            <a:ext cx="16765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zalmi e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84360" y="2997360"/>
            <a:ext cx="1371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őp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51800" y="2997360"/>
            <a:ext cx="17524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meret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06680" y="3716280"/>
            <a:ext cx="1828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ru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16360" y="3716280"/>
            <a:ext cx="38102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állalati igazolvány (kitűző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94400" y="2997360"/>
            <a:ext cx="1371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484280"/>
            <a:ext cx="2592360" cy="459720"/>
          </a:xfrm>
          <a:prstGeom prst="rect">
            <a:avLst/>
          </a:prstGeom>
          <a:solidFill>
            <a:srgbClr val="ff99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5. Átadás-át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4000" y="4365720"/>
            <a:ext cx="17524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4360" y="4437000"/>
            <a:ext cx="6019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gosultságot igazoló dokumentu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5046840"/>
            <a:ext cx="6019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azolv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4000" y="5661000"/>
            <a:ext cx="1800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enőr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Fogalmak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2374920"/>
            <a:ext cx="47088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nz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3213000"/>
            <a:ext cx="784872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yar vagy külföldi pénz - bankjegy vagy érme - a maga fizikai valóságáb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5280" y="1484280"/>
            <a:ext cx="213372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tadás-át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2438280"/>
            <a:ext cx="35053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oldalú átadás-át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4572000"/>
            <a:ext cx="35049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alú átadás-át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9560" y="3141720"/>
            <a:ext cx="2476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ték szeri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141720"/>
            <a:ext cx="2592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sákos (csomag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5880" y="3827520"/>
            <a:ext cx="1219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t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3827520"/>
            <a:ext cx="1371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5257800"/>
            <a:ext cx="2819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vevő hiány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5257800"/>
            <a:ext cx="2971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ány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27640" y="3141720"/>
            <a:ext cx="259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4360" y="1700280"/>
            <a:ext cx="2133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2743200"/>
            <a:ext cx="748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adás-átvétel pontos időpon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4360" y="3645000"/>
            <a:ext cx="748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adó-átvevő személyek azonosítha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4360" y="4653000"/>
            <a:ext cx="748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tadott-átvett értékek (zsákok, stb.) azonosítha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6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6160" y="1882800"/>
            <a:ext cx="7683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zikailag sérült a zsák, a plomba, a tasak, illetve egyéb csomagolóeszkö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5280" y="1197000"/>
            <a:ext cx="2521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érült küldem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6920" y="2421000"/>
            <a:ext cx="76838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küldemény azonosító jelzései eltérnek a kísérő okmányokban rögzített jelzésektő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5280" y="3357720"/>
            <a:ext cx="2303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érülés le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640" y="4076640"/>
            <a:ext cx="7848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rzékszervi vizsgálattal azonnal megállap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640" y="4581360"/>
            <a:ext cx="7848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ak szakértői vizsgálattal megállap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5640" y="5300640"/>
            <a:ext cx="7848720" cy="642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 átadás- átvétel során az érzékszervi vizsgálattal azonnal megállapítható sérülések észlelése a követelmé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7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3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1557360"/>
            <a:ext cx="57909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ímlet-hiány, címlet-több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8360" y="2421000"/>
            <a:ext cx="81360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 átvevő felelőssége csak akkor vetődik fel, ha a csomagolóeszközökön akár érzékszervi , akár szakértői vizsgálattal megállapítható sérülések volt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3716280"/>
            <a:ext cx="57909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ányzó küldem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360" y="4581360"/>
            <a:ext cx="81360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 átvevő az elveszett küldeményért a  Munka Törvénykönyv 169. §-a alapján teljes felelősséggel tartozi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8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1774800"/>
            <a:ext cx="493236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olsó célállo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5280" y="2689200"/>
            <a:ext cx="8137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lentés a napi tevékenység befejezésé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3575160"/>
            <a:ext cx="8137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lentés a telephelyre indulásró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5280" y="4365720"/>
            <a:ext cx="8137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ely előtti bejelentk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5157720"/>
            <a:ext cx="8137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járati kapu előtti azonos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akaszai 19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1557360"/>
            <a:ext cx="49323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. Beérkezés utáni tevékeny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55640" y="227664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zállított küldemények leadása az értéktár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285264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énzszállító gépkocsi le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342900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zámolás a napi ellátmánny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5640" y="400536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zámolás a napi feladatok végrehajtásár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55640" y="458136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515772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 szükséges, rendkívüli  eseményekről jelentés ír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5732640"/>
            <a:ext cx="7451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lszerelés, fegyver le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8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Fogalmak 3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413000"/>
            <a:ext cx="25146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té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133720"/>
            <a:ext cx="84978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zonylag kis töme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lenére nagy értéket képvis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ő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2852640"/>
            <a:ext cx="849780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tosítók által a "Kockázati csoportok megnevezése" címszó alatt az 1. és 2. vagyoncsoportokban feltüntetett tárgya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005360"/>
            <a:ext cx="16765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tékpapí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81280" y="4005360"/>
            <a:ext cx="15238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esfé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90960" y="4005360"/>
            <a:ext cx="1524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ks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076640"/>
            <a:ext cx="1728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ágak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724280"/>
            <a:ext cx="3384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pzőművészeti alko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724280"/>
            <a:ext cx="4680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ális tárgyak, gyűjte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516640"/>
            <a:ext cx="38894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énzhelyettesítő eszköz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Fogalmak 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484280"/>
            <a:ext cx="24382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llít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2093760"/>
            <a:ext cx="849780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énz vagy érté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vitele - a ma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zikai valóságában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gyik objektumból a másik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3141720"/>
            <a:ext cx="28195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adó állom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3827520"/>
            <a:ext cx="856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ol a szállító az értékküldeményt felvesz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lvételi állomásnak is nevezhető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970520"/>
            <a:ext cx="28195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állom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5656320"/>
            <a:ext cx="85694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ol a szállító az értékküldeményt lead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Fogalmak 5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387520"/>
            <a:ext cx="8209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 cég, illetve magánszemély, amelyik a szolgá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sokat megrende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625760"/>
            <a:ext cx="28004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rendelő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3530520"/>
            <a:ext cx="28004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llalkoz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292640"/>
            <a:ext cx="8209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 cég, illetve magánszemély, amelyik a szolgá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ásokat elvégz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állítás – kísérés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1773360"/>
            <a:ext cx="1600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rző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773360"/>
            <a:ext cx="27050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varozá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76800" y="1773360"/>
            <a:ext cx="36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bízá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0" y="2862360"/>
            <a:ext cx="16002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llít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r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862360"/>
            <a:ext cx="272412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yanazok a személ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76800" y="2862360"/>
            <a:ext cx="36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térő személ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4292640"/>
            <a:ext cx="1600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ok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4292640"/>
            <a:ext cx="27241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rtokába kerü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76800" y="4292640"/>
            <a:ext cx="3643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kerül a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birtoká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állítás – kísérés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360" y="1773360"/>
            <a:ext cx="1676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vább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82680" y="177336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7480" y="177336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vih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8680" y="2611440"/>
            <a:ext cx="1600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m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82680" y="261144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tosí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7480" y="261144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tosí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8680" y="3373560"/>
            <a:ext cx="1600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elős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2680" y="337356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7480" y="337356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u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ktí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8680" y="4440240"/>
            <a:ext cx="1600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tos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82680" y="4440240"/>
            <a:ext cx="2057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llító kö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7480" y="4440240"/>
            <a:ext cx="205740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b. és K. külö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zemélyi feltételek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63086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Magánbiztonság –Pénzszállítás-2007                  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2205000"/>
            <a:ext cx="556236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emély- és vagyonőri igazolv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3141720"/>
            <a:ext cx="5486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észségügyi alkalmas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4005360"/>
            <a:ext cx="54864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emélyi alkalmas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4869000"/>
            <a:ext cx="541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lőírt szakmai képz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7:42:26Z</dcterms:created>
  <dc:creator>user</dc:creator>
  <dc:description/>
  <dc:language>en-US</dc:language>
  <cp:lastModifiedBy>user</cp:lastModifiedBy>
  <dcterms:modified xsi:type="dcterms:W3CDTF">2007-04-09T08:35:02Z</dcterms:modified>
  <cp:revision>4</cp:revision>
  <dc:subject/>
  <dc:title>Pénzszállítás</dc:title>
</cp:coreProperties>
</file>