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258-5DB3-4F26-8BA6-A93174B4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974-DA22-4009-ACCE-2016BA84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E8F-4ECF-4E60-93B2-55324C2C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A38-6D10-4C08-A689-994284BA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37CF-E6B0-4501-AE6F-25B811B1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E7F-E903-4BC2-8D97-3720F93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E298-87B9-4D92-A821-EFFCC7E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1A91-44B1-4676-9841-D7F8914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8C59-CA10-47AC-93BB-D16743F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4E2-B36B-4AF8-B85F-F6FBD2F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7CA4-1F84-46CE-B514-27B1E2C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F2A-95E6-4756-BAA5-9571256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239-7B72-458F-9807-9CC2D2D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330-7494-4668-9BE9-1F280BF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CE7-436A-494D-BB49-6700588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394-339C-465F-A477-2906BF55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15A5-ED74-42DA-BE1F-AB0DEDF0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85A-E392-4C60-8D43-E7A80E0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B53-F93C-4B66-BD80-442B6792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F1A-77C6-442F-9E83-8CE140F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A04-C3E6-4D0C-83BF-09FA53D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60D-ED1D-4D9F-B8FE-AAE18E7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9EA-C38C-46CB-B6AE-CD209E4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A5F-AA75-440B-BBDE-2C8ACDA5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F9D3-8AAC-4DB1-8D16-2510EB234958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9FA-3E88-4528-852E-315B558CAE8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Pénzszállítás 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Rendkívüli esemény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6308640"/>
            <a:ext cx="828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21240" y="328284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Baleset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1413000"/>
            <a:ext cx="812808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mélyz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úja a baleset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60640"/>
            <a:ext cx="8128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ítségnyújtásra nem köteleze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390840"/>
            <a:ext cx="2819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elentés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2781360"/>
            <a:ext cx="619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 helyszínen rendőr nem intézke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2360" y="3429000"/>
            <a:ext cx="3095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ovábbhaladás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4000680"/>
            <a:ext cx="619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rendőrség tájékoztatása a központ rész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4651200"/>
            <a:ext cx="6191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 helyszínen rendőr intézke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5261040"/>
            <a:ext cx="17272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elentés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5300640"/>
            <a:ext cx="59436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ovábbiakba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 intézkedésének megfelelően kell eljárni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Baleset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628640"/>
            <a:ext cx="8128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ítségnyújtásra köteleze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2421000"/>
            <a:ext cx="813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egítségnyújtás a biztonsági szabályok betartásával J-1-2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3429000"/>
            <a:ext cx="812808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pénzszállító gépkocsi érintett a baleset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Koccan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628640"/>
            <a:ext cx="208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1628640"/>
            <a:ext cx="3600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pkocsivezető kiszá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276640"/>
            <a:ext cx="7561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többi tagja a kocsiban marad, 1 fő átül a gépkocsivezető helyére, az ajtók bezá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213000"/>
            <a:ext cx="5943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rádiókapcsolat –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3789360"/>
            <a:ext cx="741672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mely járművezető a felelősségét elism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4437000"/>
            <a:ext cx="439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ükséges okmányok kitöl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5065560"/>
            <a:ext cx="7416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pkocsi folytatja útj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5640480"/>
            <a:ext cx="7416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ba beérkezést követően jelentés  J-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4437000"/>
            <a:ext cx="2737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3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érüléses bale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1628640"/>
            <a:ext cx="5943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ggetlenül attól, hogy ki okozta a balese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2238480"/>
            <a:ext cx="5943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 J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2847960"/>
            <a:ext cx="5943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és és rendőri intézkedés kérése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3429000"/>
            <a:ext cx="828036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ült a értékszállító gépkocsi személy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4254480"/>
            <a:ext cx="8280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érülés 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osságától függőe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hetőségek keretei közöt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segélynyújtás a sérült személynek vagy egymás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5229360"/>
            <a:ext cx="8280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szükséges, mentő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elyszínre küldésének kérése a központtó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érüléses baleset – f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3213000"/>
            <a:ext cx="8353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rádiókapcsolat tartása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589040"/>
            <a:ext cx="8353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személy kiszáll és felveszi a kapcsolatot a balesettel érintett másik gépkocsi személyzetéve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2565360"/>
            <a:ext cx="8353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többi tagja a gépkocsiban marad, ajtók bezá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3913200"/>
            <a:ext cx="8353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szálló személyek elsősegélyt nyújta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4653000"/>
            <a:ext cx="8353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szükséges, mentő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elyszínre küldésének kérése a központtó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érüléses baleset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148428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i intézkedés befejezésének jelentése a központnak 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13372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lephelyre beérkezést követően jelentés J-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781360"/>
            <a:ext cx="864072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érült értékszállító gépkoc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35772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személyzet tagja vezetésre alkalmas állapotban van –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iszi a megjelölt telephely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429264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nincs vezetésre alkalmas állapotban – más személy kijelölése a vezetés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522936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kocsi közlekedésre nem alkalmas – intézkedés a bevontat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érüléses baleset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1197000"/>
            <a:ext cx="84978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zpécserszolgálat, illetékes vezetők (központ) intézkedés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77336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lentések vétele, értékelése, rögz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227664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szükséges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tők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ség azonnali értes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csolattartás a rendőrségg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278136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határozott vezetők azonnali értesítése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 szükséges –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zető küldése a helyszín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4000" y="357336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 tar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" y="458136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m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gjának kórházba szállítása vagy halála esetén a hozzátartozók értes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87700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pkocsi telephelyre történő bevitelének megszerv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407664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tés megszerv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7118280"/>
            <a:ext cx="57909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evonuló személyzet beszámolta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gítségnyúj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2205000"/>
            <a:ext cx="8424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leset helyszínén nincs segítségnyújtásra alkalmas szemé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285264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, folyamatos rádiókapcsolat 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342900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ú elhaladás a helyszín mellet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jékozódás figyelé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1557360"/>
            <a:ext cx="831996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segítségnyújtás elmulasztása = bűncselekmény (Btk. 172. §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400536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körültekintéssel egy fő kiszál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4724280"/>
            <a:ext cx="8424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áncélkocsi folytatja az útját – az ok (pénz) elvitele a helyszín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gítségnyújtás – f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szálló személy megfelelő körültekintéssel a helyszínt megközelíti és tájékozó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2403360"/>
            <a:ext cx="2438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szín való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640" y="3089160"/>
            <a:ext cx="8353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érült elsősegélyben részesíthető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elsősegélynyúj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3716280"/>
            <a:ext cx="8423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segélyben nem részesíthető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vagy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l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4292640"/>
            <a:ext cx="2438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ké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4292640"/>
            <a:ext cx="5832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32000" y="4869000"/>
            <a:ext cx="5845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őrség kiérkezéséig helyszínbizto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5445000"/>
            <a:ext cx="83516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em valódi helyszín esetén a támadásra vonatkozó szabályok alkalma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2060640"/>
            <a:ext cx="84247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1994. évi XXXIV. tv. a rendőrségr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2637000"/>
            <a:ext cx="8424720" cy="29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Verdana"/>
              </a:rPr>
              <a:t>Fokozott ellenőrzés, ruházat, csomag és jármű átvizsgál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30. § (1) A Rendőrség a bűncselekmény elkövetőjének elfogása és előállítása, vagy a közbiztonságot veszélyeztető cselekmény vagy esemény megelőzése, megakadályozása érdekében a rendőri szerv vezetője által meghatározott nyilvános helyen vagy a közterület kijelölt részén az oda belépőket vagy az ott tartózkodókat igazoltathat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(2) A Rendőrség az (1) bekezdésben írt cél elérése érdekében épületet, építményt, helyszínt, csomagot és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járművet átvizsgálhat</a:t>
            </a:r>
            <a:r>
              <a:rPr b="1" lang="hu-H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1413000"/>
            <a:ext cx="831996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ogi szabályo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Jelent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7680" y="1123920"/>
            <a:ext cx="85327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ión vagy mobil telefo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844640"/>
            <a:ext cx="828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 típusú jelentés (J-1) – a rendkívüli esemény észlelés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2492280"/>
            <a:ext cx="828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odik típusú jelentés (J-2) – az intézkedések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3139920"/>
            <a:ext cx="828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adik típusú jelentés (I-3) – a rendkívüli esemény, illetve az intézkedések befejeződés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4941720"/>
            <a:ext cx="85330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szóban (J-5) – a telephelyre beérkezést követő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734080"/>
            <a:ext cx="85327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írásban, (J-6) – a telephelyre beérkezést követő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149720"/>
            <a:ext cx="85327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(J-4) – az esemény rávezetése a menetlevél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1557360"/>
            <a:ext cx="871380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2005. évi XXXIV. tv. a személy- és vagyonvédelmi, valamint a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                                  magánnyomozói tevékenység szabályairó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2349360"/>
            <a:ext cx="87138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16. § (1) A személy- és vagyonvédelmi, illetve a magánnyomozói tevékenységet végző személy hatósági jogkörrel nem rendelkezik, a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hatóság eljárását nem akadályozhatja</a:t>
            </a:r>
            <a:r>
              <a:rPr b="0" lang="hu-H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3573360"/>
            <a:ext cx="8713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65. § Az e törvényben előírt szabályok súlyos megsértésének minősü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) … a 16. § (1) bekezdésében … rendelkezések megszegése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4724280"/>
            <a:ext cx="8713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működési engedély és az igazolvány visszavoná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11. § (2) A rendőrség a </a:t>
            </a:r>
            <a:r>
              <a:rPr b="1" lang="hu-HU" sz="1800" spc="-1" strike="noStrike">
                <a:solidFill>
                  <a:srgbClr val="ff0000"/>
                </a:solidFill>
                <a:latin typeface="Verdana"/>
              </a:rPr>
              <a:t>működési engedélyt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 haladéktalanul, de legkésőbb a tudomásra jutástól számított nyolc napon belül határozattal bevonja, ha a vállalkozás e törvény szabályait ismételten vagy súlyosan megszeg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2997360"/>
            <a:ext cx="871380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218/1999. (XII. 28.) Korm. r. az egyes szabálysértésekr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3500280"/>
            <a:ext cx="8713800" cy="274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Jogosulatlan személy- és vagyonvédelmi … tevékeny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13. § (1) Aki a személy- és vagyonőri, … tevékenysé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ngedély vagy a tevékenység személyes végzésére jogosító igazolvány nélkül, va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vállalkozás keretében végzett személy- és vagyonvédelmi, … tevékenység szabályairól … szóló törvény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rendelkezéseinek megszegésével végzi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százezer forintig terjedő pénzbírsággal sújthat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1052640"/>
            <a:ext cx="8713800" cy="1517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(4) Az igazolványt a rendőrség haladéktalanul, de legkésőbb a tudomásra jutástól számított nyolc napon belül határozattal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bevonja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, 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igazolvány tulajdonosa e törvény szabályait ismételten vagy </a:t>
            </a: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súlyosan megszegte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498680"/>
            <a:ext cx="55544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őri igazoltatás észl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2205000"/>
            <a:ext cx="871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2781360"/>
            <a:ext cx="871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központ értesíti a rendőrségi ügyele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920" y="3357720"/>
            <a:ext cx="871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nnal lassítás, megállás az igazoltatás helyétől távola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5084640"/>
            <a:ext cx="87138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rakozás, amíg a központ tisztázza a rendőri ügyelettel a körülmény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4076640"/>
            <a:ext cx="8713800" cy="825480"/>
          </a:xfrm>
          <a:prstGeom prst="rect">
            <a:avLst/>
          </a:prstGeom>
          <a:solidFill>
            <a:srgbClr val="00ff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s olyan jogszabályi rendelkezés, amely előírná, hogy a rendőri igazoltatás helyére önként oda kellene me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1476360"/>
            <a:ext cx="84247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zpont nem tudta felvenni a kapcsolatot a rendőri szervve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vagy a helyzetet nem sikerült tisztáz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50920" y="2492280"/>
            <a:ext cx="842472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gazoltatás helyszínek elkerülésére lehetőség va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305928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engedélyével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ülő útvonalon továbbhal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716280"/>
            <a:ext cx="842472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gazoltatás helyszínek elkerülésér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inc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etőség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4365720"/>
            <a:ext cx="7904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gazoltatás helyszí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 lassú megközel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4941720"/>
            <a:ext cx="7904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rnyezet figy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5516640"/>
            <a:ext cx="7904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rádiókapcsolat a központta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1268280"/>
            <a:ext cx="864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 intézkedésére megál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916280"/>
            <a:ext cx="864216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páncélkocsi csak rendszeresített, szabályszerű egyenruhát és jelvényt viselő rendőr intézkedésére áll m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292428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mennyiben a rendőr a fentieknek nem felel meg, a páncélkocsi továbbhaj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3860640"/>
            <a:ext cx="864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z eseményt rádión jelenti a központnak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443700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központtal egyeztetett- legközelebbi rendőri objektumba hajt, ahol a személyzet igazoltatható és a páncélkocsi átvizsg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központ a továbbhaladás okáról tájékoztatja az ügyeletet, és közli, hogy a páncélkocsi melyik rendőrségi objektumba hajt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628640"/>
            <a:ext cx="8137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intézkedései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ennyiben a rendőrség eleget tesz a ké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kne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2708280"/>
            <a:ext cx="8137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bla felmutatása, hogy a jármű személyzete fegyveres pénzszállítást végez (vagy más szöve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3645000"/>
            <a:ext cx="8137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járás a rendőr intézkedései sze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4292640"/>
            <a:ext cx="8137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 intézkedésére egy fő kiszáll, igazolja magát, tájékozta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st ad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vékenységük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5300640"/>
            <a:ext cx="8137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többi tagja a járműben marad, ajtók bezárva, folyamatos rádiókapcsolat tartása a központta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 rendőr a gépkocsivezetőt is igazoltatni aka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220500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n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évő személy megkéri, hogy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yet cserélhesse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épkocs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ető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0920" y="321300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rendőr hozzájáru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csere után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épkocsivezető kiszáll és igazo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ma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0920" y="414972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többi tagja a járműbe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rad, ajtók bezárva, folyamatos rádiókapcsolat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0920" y="5084640"/>
            <a:ext cx="864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járul hozzá, a rendőr felszólítására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személyzet valamennyi tagjának ki kell szállni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ről a központo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sít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8360" y="1628640"/>
            <a:ext cx="820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 rendőr a gépkocsit és a rakományt át kívánja vizsgál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8360" y="2421000"/>
            <a:ext cx="82090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 kel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ni, hogy kísérje be az értékszállító járművet a legközelebb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ndőrségi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y egyéb hivatalos és biztonságos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umb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 ott történjen meg az átvizsg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3933720"/>
            <a:ext cx="8313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rendőr a kéréseknek nem tesz eleget, a továbbiakban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tasításai szerint kell eljár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8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1197000"/>
            <a:ext cx="82803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 jogszerű intézkedése sor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882800"/>
            <a:ext cx="8352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minden tagját az értékszállító jármű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5280" y="2492280"/>
            <a:ext cx="1981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zállít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27280" y="2492280"/>
            <a:ext cx="2133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azoltat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91280" y="2492280"/>
            <a:ext cx="3429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házatát átvizsgál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3139920"/>
            <a:ext cx="8352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ádióforgalmazást meg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3716280"/>
            <a:ext cx="83520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llításra való jogosultságot igazoló dokumentumokat ellenőrizh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4653000"/>
            <a:ext cx="83520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nél lévő fegyver tartásának jogszerűségét ellenőrizh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5280" y="5665680"/>
            <a:ext cx="8352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rtékszállító jármű trezorját kinyittathatj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vizsgál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gazoltatás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5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4000" y="141300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rtékküldeményeket felbonth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2133720"/>
            <a:ext cx="8424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rtékszállító járművet személyzetével együtt vagy külön a személyzetet a rendőri szervhez bekísérhe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4000" y="3141720"/>
            <a:ext cx="8424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pjármű átvizsgálásáról, a küldemények felbontásáról köteles jegyzőkönyvet készít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5280" y="4197240"/>
            <a:ext cx="8424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őri intézkedés befejezést követő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4869000"/>
            <a:ext cx="84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5445000"/>
            <a:ext cx="8424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lephelyre beérkezés után részletes jelent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 szükséges, írásban)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J-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zállítás akadályo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8960" y="1484280"/>
            <a:ext cx="853308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llítás, a szállító jármű akadályozása, biztonságának veszélyezte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933720"/>
            <a:ext cx="8424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énzszállító jogosult a személy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883040"/>
            <a:ext cx="172728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szól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883040"/>
            <a:ext cx="5953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étének igazolás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5530680"/>
            <a:ext cx="6443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élyeztető magatartásának abbahagyás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565360"/>
            <a:ext cx="698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semény jelentése a központnak J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213000"/>
            <a:ext cx="849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épkocsivezető tartja a rádiókapcsolatot a központtal –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5280" y="1484280"/>
            <a:ext cx="60199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gépkocsiból kint lévő pénzszállító  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2205000"/>
            <a:ext cx="19051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ehetősége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2786040"/>
            <a:ext cx="8280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ámadást elhárí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os védele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zabályai sze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3357720"/>
            <a:ext cx="604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tudja elhárítan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menek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19280" y="4076640"/>
            <a:ext cx="4876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áncélkocsiva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ellentétes irány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19280" y="4724280"/>
            <a:ext cx="4876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issz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áncélkocsi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544500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tud elmenekülni: túlerő eseté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meg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 – f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4000" y="1268280"/>
            <a:ext cx="86407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zszállító gépkocs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zetőj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 feladat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" y="285264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é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csival manőverezve megpróbá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árs és a támadó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é kerül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378936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próbálj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ársá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épkocsir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ve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" y="436572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nem sikerül,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árs életének megóvása érdekéb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gépkocsiva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kell távozni a helyszínrő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4000" y="5373720"/>
            <a:ext cx="86407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 támadóknak nincs lehetőségük a pénz megszerzésére – általában csökken a túszul ejtett személy életét fenyegető veszé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191628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egítségkérés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s az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ény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yamatos jelentése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nak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1496880"/>
            <a:ext cx="6095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pénzszállító gépkocsi elleni tám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2205000"/>
            <a:ext cx="27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anús köve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4000" y="2924280"/>
            <a:ext cx="856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4000" y="3598920"/>
            <a:ext cx="856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zpon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síti a rendőr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157720"/>
            <a:ext cx="856908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ovábbi teendőket a gyanús követést végző gépkocsi tevékenysége határozza m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4000" y="4365720"/>
            <a:ext cx="856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eggyőződést szolgáló manőverek (gyorsítás-lassítás,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1484280"/>
            <a:ext cx="27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zorítási kísér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1280" y="2454120"/>
            <a:ext cx="7921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1280" y="3716280"/>
            <a:ext cx="7921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zpon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síti a rendőr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4508640"/>
            <a:ext cx="7921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hárítás megkísér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35280" y="1484280"/>
            <a:ext cx="30243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Élet elleni tám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cc00"/>
              </a:solidFill>
              <a:latin typeface="Arial"/>
              <a:ea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5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341360"/>
            <a:ext cx="4464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z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hárítás sikerü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7360" y="2703600"/>
            <a:ext cx="84326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aleset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ása esetén, ha a támadásveszély megszűnt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a helyszínen kell maradn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96000" y="2060640"/>
            <a:ext cx="2971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vábbhal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7360" y="2093760"/>
            <a:ext cx="4329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7360" y="3693960"/>
            <a:ext cx="84326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lehetséges, és szük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br>
              <a:rPr sz="2400"/>
            </a:b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SZEMÉLYZETTŐL ELVÁRHATÓ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elsősegélyt kell nyújta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4797360"/>
            <a:ext cx="843264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ltávozás esetén  bűncselekmény = cserbenhagyás, segítségnyújtás elmulasz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0920" y="2924280"/>
            <a:ext cx="41907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anús körülmények észl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3645000"/>
            <a:ext cx="8785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79280" y="4221000"/>
            <a:ext cx="8785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központ értesíti a rendőr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373720"/>
            <a:ext cx="8785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yanús helyszín elkerülése lehet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 engedélyével más útvonal válasz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9280" y="4797360"/>
            <a:ext cx="8785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lehet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jes sebességgel az eredeti irányba haladá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1052640"/>
            <a:ext cx="4537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z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hárítá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n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kerü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1700280"/>
            <a:ext cx="864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2276640"/>
            <a:ext cx="8642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védekezésre vonatkozó szabályok alkalma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ámadá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981000"/>
            <a:ext cx="1600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torla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4000" y="155736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4000" y="213372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zpon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síti a rendőr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4000" y="270972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kerülése lehet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edélyével más útvonal válasz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3645000"/>
            <a:ext cx="8640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lehet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a torlasz áttörése,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jes sebességgel az eredeti irányba haladá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4000" y="4724280"/>
            <a:ext cx="3809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a az áttöré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n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kerü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4000" y="530064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 a közpon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5877000"/>
            <a:ext cx="864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védekezésre vonatkozó szabályok alkalma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Védeke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2133720"/>
            <a:ext cx="82994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ámadá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len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pont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yamatos hírösszekötte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rtása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3141720"/>
            <a:ext cx="8299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özpon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rtesíti a rendőrsé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4920" y="1447920"/>
            <a:ext cx="19047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ő szabál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4000" y="4724280"/>
            <a:ext cx="829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lehetséges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mélyze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ek kel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önt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i a helyzet értékelése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ítélése 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4000" y="3860640"/>
            <a:ext cx="8299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lehetsége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menek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Védekezés – f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4360" y="1628640"/>
            <a:ext cx="22096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döntés le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4360" y="2671920"/>
            <a:ext cx="80978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ámadás elhárítása a jogos védelem szabálya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sze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3662280"/>
            <a:ext cx="80978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rtékszállító járműben maradva a segítség megvár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4653000"/>
            <a:ext cx="80978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Védekezé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1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5280" y="1989000"/>
            <a:ext cx="820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ármely lehetőség választásának meg va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a kockáz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5280" y="2695680"/>
            <a:ext cx="8209080" cy="119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kintettel arra, hogy a pénzszállító gépkocsi személyzete kockáztatja az életét és testi épségé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 a döntés a személyzet joga és felelős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5280" y="4162320"/>
            <a:ext cx="8209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jogszerű és szakszerű dönt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nem azonos a jó vagy rossz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öntéss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5373720"/>
            <a:ext cx="820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öntés helyességé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utólag, az eredmény igazo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zállítás akadályozása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773360"/>
            <a:ext cx="842472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ányos mérvű testi kényszerítő erő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2781360"/>
            <a:ext cx="2087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távol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2781360"/>
            <a:ext cx="6191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ámadásra alkalmas eszközöke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ől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ve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3500280"/>
            <a:ext cx="856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szükséges a központ értesíti a rendőrsé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4149720"/>
            <a:ext cx="8569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érülés nem történt a rendőrséget a  személyzetnek n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 megvárnia.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300640"/>
            <a:ext cx="8064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elyre beérkezés után J-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Védekezés –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1280" y="2349360"/>
            <a:ext cx="7921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önt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rtékelése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ás személy részéről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indig pontatl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mert az értékelő nincs a döntéshozó helyzet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280" y="3797280"/>
            <a:ext cx="7921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ámadás okozta stressz-helyzetben hozott döntés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omplexen kell értékeln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iszteletben kell tartan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cc00"/>
              </a:solidFill>
              <a:latin typeface="Arial"/>
              <a:ea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Műszaki hi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13000"/>
            <a:ext cx="5943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tés a központnak J-1-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520" y="2220840"/>
            <a:ext cx="6191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ntézkedéseket két tényező határozza me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98440" y="2941560"/>
            <a:ext cx="547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-e rakomány a gépkocsib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98440" y="3733920"/>
            <a:ext cx="5527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ncélkocsi vagy nem páncélkocs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9520" y="4525920"/>
            <a:ext cx="6191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páncélkocsi, nincs rak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5229360"/>
            <a:ext cx="8425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megpróbálja megjavítani, ha nem sikerül szerelőt hív, vagy gondoskodik a beszállításról –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Műszaki hiba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484280"/>
            <a:ext cx="6191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páncélkocsi, van rak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2349360"/>
            <a:ext cx="8064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gy fő kiszáll, megállapítja 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ba oká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íthatóságát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806436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személyzet rövid időn belül el tudja hár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720" y="3632040"/>
            <a:ext cx="806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 fő a gépkocsiban marad és belülről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ár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720" y="4170240"/>
            <a:ext cx="806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zet többi tagja kiszáll,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hárítja a hibát  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940280"/>
            <a:ext cx="806436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személyzet rövid időn belül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dj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r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5516640"/>
            <a:ext cx="8064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és kérése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Műszaki hiba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1484280"/>
            <a:ext cx="6191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ncélkocsi, nincs rak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133720"/>
            <a:ext cx="604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elő kérése a központtól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2852640"/>
            <a:ext cx="8425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nem javítható, intézkedés a páncélkocsi beszállítására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3573360"/>
            <a:ext cx="6191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ncélkocsi, van rak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4221000"/>
            <a:ext cx="5761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és kérése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</a:rPr>
              <a:t>Műszaki hiba - 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1341360"/>
            <a:ext cx="820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tésre érkezők döntése sze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1951200"/>
            <a:ext cx="5832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övid időn belül javítható 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88000" y="1916280"/>
            <a:ext cx="216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avítás  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637000"/>
            <a:ext cx="820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javítható vagy a javítás hosszú időt vesz igény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232080"/>
            <a:ext cx="8209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llítmány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 a hibás jármű személyzet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iztonságosa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od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J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4149720"/>
            <a:ext cx="820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llítmányt a hibás jármű személyzete viszi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tovább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4869000"/>
            <a:ext cx="820908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tésre érkező jármű személyz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5445000"/>
            <a:ext cx="8280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bát megjavítj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agy intézkedik a gépkocsi beszállítására J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Bales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Pénzszállítás-RKE-2007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2205000"/>
            <a:ext cx="8128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ítségnyújtásra nem köteleze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9640" y="1557360"/>
            <a:ext cx="812808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mélyz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t n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úja a baleset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852640"/>
            <a:ext cx="3856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Jelentés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2852640"/>
            <a:ext cx="3855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ovábbhaladás J-3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573360"/>
            <a:ext cx="8128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ítségnyújtásra köteleze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4365720"/>
            <a:ext cx="8136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egítségnyújtás a biztonsági szabályok betartásával J-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8:50:15Z</dcterms:created>
  <dc:creator>user</dc:creator>
  <dc:description/>
  <dc:language>en-US</dc:language>
  <cp:lastModifiedBy>user</cp:lastModifiedBy>
  <dcterms:modified xsi:type="dcterms:W3CDTF">2007-04-11T12:52:32Z</dcterms:modified>
  <cp:revision>6</cp:revision>
  <dc:subject/>
  <dc:title>Pénzszállítás - Rendkívüli esemény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