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0BC-76C5-41F9-A138-136EBDC8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864-EBBB-4F40-92A0-CAF83E64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CA3-A40A-4025-B0C1-4672653B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76C-B1A4-459F-AE26-AD836564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F6B1-57C7-42CF-A2B2-75003D0C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00DB-9DF1-4811-BADD-7E50ADA9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918B-DF90-43E5-839E-5C441F68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053E-7669-4CFB-B4E2-F4507546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9015-BF13-482E-B99A-8FD45351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2788-149A-44E4-B919-60F51A2A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CF70-22F3-4F7C-B95D-420C4BD4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0FB-2302-4065-9FD1-B5B1E8B2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4ADF-59B1-4E42-8760-427F8823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EDA0-ED4D-4189-B6F9-7F481599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FBD3-E722-4F4D-AA34-7F40615A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3E35-8AFC-45E1-9BA0-122A5E10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38D3-CC24-465C-9605-96542A75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96F-F029-44BC-802B-C5D58BAE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14D-6EC3-4904-A646-F79E10E5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974-FE65-431F-8189-01D22DE0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5EA-1B5E-4E84-BDB1-E29D7BA3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D8B-6A4D-4ECB-88CB-73A6124C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CE6-8304-49D3-83DC-766D0CEE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4B2-E64B-4297-B979-6E68269A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D007-BAF0-45D4-B1D0-53B7624B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5C39-0BFC-4FE2-A624-E6B7850A8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7.xml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IGÉNYBEVÉTELI Á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cc"/>
                </a:solidFill>
                <a:latin typeface="Times New Roman"/>
              </a:rPr>
              <a:t>Szabó Béláné             Jakubek La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cc"/>
                </a:solidFill>
                <a:latin typeface="Times New Roman"/>
              </a:rPr>
              <a:t>GAMF Műszaki Alaptárgyi Tans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íróerő-igénybevételi ábr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2362320"/>
            <a:ext cx="5791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15238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15238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0280" y="2286000"/>
            <a:ext cx="609840" cy="152280"/>
          </a:xfrm>
          <a:prstGeom prst="leftArrow">
            <a:avLst>
              <a:gd name="adj1" fmla="val 50000"/>
              <a:gd name="adj2" fmla="val 100118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15238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4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9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2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1520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3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100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2438280"/>
            <a:ext cx="152280" cy="609840"/>
          </a:xfrm>
          <a:prstGeom prst="upArrow">
            <a:avLst>
              <a:gd name="adj1" fmla="val 50000"/>
              <a:gd name="adj2" fmla="val 100118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2438280"/>
            <a:ext cx="152640" cy="609840"/>
          </a:xfrm>
          <a:prstGeom prst="upArrow">
            <a:avLst>
              <a:gd name="adj1" fmla="val 50000"/>
              <a:gd name="adj2" fmla="val 99882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21337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679400" y="1673280"/>
                <a:ext cx="702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38280" y="2514600"/>
                <a:ext cx="701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369040" y="2575080"/>
                <a:ext cx="730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76212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008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2362320"/>
            <a:ext cx="0" cy="23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20574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16002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4120" y="30481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2362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38862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3886200"/>
            <a:ext cx="0" cy="6858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4572000"/>
            <a:ext cx="1143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86000" y="3200400"/>
            <a:ext cx="0" cy="13716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3200400"/>
            <a:ext cx="19051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3200400"/>
            <a:ext cx="0" cy="16002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4800600"/>
            <a:ext cx="1143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334120" y="3505320"/>
            <a:ext cx="0" cy="12952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3505320"/>
            <a:ext cx="16002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3505320"/>
            <a:ext cx="0" cy="3808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49120" y="3581280"/>
                <a:ext cx="782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69343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(k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2004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20040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1972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9720" y="5029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D-B szakaszon   V=-4+8-9=-5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5638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A-D szakaszon   V=-4+8=4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9720" y="56386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B-E szakaszon  V=-4+5-9+7=2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C-A szakaszon   V=-4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35053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35053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4120" y="35053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35053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jlító-igénybevételi á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2438280"/>
            <a:ext cx="5790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866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15200" y="2362320"/>
            <a:ext cx="609480" cy="152280"/>
          </a:xfrm>
          <a:prstGeom prst="leftArrow">
            <a:avLst>
              <a:gd name="adj1" fmla="val 50000"/>
              <a:gd name="adj2" fmla="val 100059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002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4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2428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9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2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01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3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51460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251460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220968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981080" y="1828800"/>
                <a:ext cx="701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43200" y="2590920"/>
                <a:ext cx="701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673600" y="2651040"/>
                <a:ext cx="7304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106668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057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41148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03200" y="3732120"/>
                <a:ext cx="10875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723888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(k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24382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31240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24382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38680" y="31240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2438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447920" y="3276720"/>
            <a:ext cx="1143000" cy="8380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3276720"/>
            <a:ext cx="1904760" cy="12189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495680" y="3657600"/>
            <a:ext cx="1143000" cy="8380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38680" y="3657600"/>
            <a:ext cx="1600200" cy="45720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46483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 CE"/>
              </a:rPr>
              <a:t>A rúd két végén zérus a hajlítónyomaték csak az A, D és B helyen számítand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 CE"/>
              </a:rPr>
              <a:t>A pontban balról számít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964040" y="5105520"/>
                <a:ext cx="24908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rPr>
                        <m:lit/>
                        <m:nor/>
                      </m:rPr>
                      <m:t xml:space="preserve">kN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848120" y="5562720"/>
                <a:ext cx="3633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0,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4</m:t>
                    </m:r>
                    <m:r>
                      <m:rPr>
                        <m:lit/>
                        <m:nor/>
                      </m:rPr>
                      <m:t xml:space="preserve">kN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952880" y="6019920"/>
                <a:ext cx="26672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rPr>
                        <m:lit/>
                        <m:nor/>
                      </m:rPr>
                      <m:t xml:space="preserve">k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8288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913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54864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D pontban balról számít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5943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B pontban jobbról számít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yakorló feladat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lassza ki a megadott M ábrák közül a tartóhoz tartozó jelleghelyes M ábrá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42670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34290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35053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7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426708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57800" y="4648320"/>
            <a:ext cx="228600" cy="2286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81480" y="4876920"/>
            <a:ext cx="381240" cy="7596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9112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9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294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2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096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812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álassza ki a jó ábrá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213372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868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47920" y="21337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00400" y="21337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95680" y="21337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15000" y="21337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95280" y="25909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33520" y="2286000"/>
                <a:ext cx="968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1295280" y="35053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33520" y="3200400"/>
                <a:ext cx="968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447920" y="2590920"/>
            <a:ext cx="1752480" cy="60948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3200400"/>
            <a:ext cx="1295280" cy="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495680" y="2590560"/>
            <a:ext cx="1219320" cy="60948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7920" y="3505320"/>
            <a:ext cx="1752480" cy="7617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200400" y="3505320"/>
            <a:ext cx="1295280" cy="7617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48006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33520" y="4495680"/>
                <a:ext cx="9684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1447920" y="4800600"/>
            <a:ext cx="1752480" cy="5335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200400" y="4190760"/>
            <a:ext cx="1295280" cy="1143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4191120"/>
            <a:ext cx="1219320" cy="6094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95280" y="59436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33520" y="5638680"/>
                <a:ext cx="9684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V="1">
            <a:off x="1447920" y="5486400"/>
            <a:ext cx="1752480" cy="4572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5486400"/>
            <a:ext cx="1295280" cy="838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495680" y="5943600"/>
            <a:ext cx="1219320" cy="3808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6400800" y="22096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1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1" y="20200"/>
                </a:lnTo>
                <a:lnTo>
                  <a:pt x="25591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1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rId3" action="ppaction://hlinksldjump"/>
          </p:cNvPr>
          <p:cNvSpPr/>
          <p:nvPr/>
        </p:nvSpPr>
        <p:spPr>
          <a:xfrm>
            <a:off x="6400800" y="32004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6400800" y="44956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1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1" y="20200"/>
                </a:lnTo>
                <a:lnTo>
                  <a:pt x="25591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1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6400800" y="56386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1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1" y="20200"/>
                </a:lnTo>
                <a:lnTo>
                  <a:pt x="25591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1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3152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A. válto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15200" y="3276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B. válto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315200" y="4572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C. válto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152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D. válto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00800" y="914400"/>
            <a:ext cx="2209680" cy="825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Nyomógombok a választásh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egold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281952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19810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29400" y="2057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62320" y="2819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10080" y="28195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86400" y="3200400"/>
            <a:ext cx="228600" cy="2286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3429000"/>
            <a:ext cx="381240" cy="7632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197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9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2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386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4382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4600" y="3200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43434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4038480"/>
                <a:ext cx="9684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2514600" y="4343400"/>
            <a:ext cx="1752480" cy="5335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267080" y="3733560"/>
            <a:ext cx="1295640" cy="1143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62720" y="3733920"/>
            <a:ext cx="1218960" cy="6094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267080" y="28195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62720" y="35053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781680" y="28195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5105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 CE"/>
              </a:rPr>
              <a:t>Gratulálunk ez a jó megol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yakorló feladat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1752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Rajzolja le azt két végén alátámasztott tartót amelynek a megadott ábra a nyíróerő ábráj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27672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54040" y="2971800"/>
                <a:ext cx="782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1447920" y="4876920"/>
            <a:ext cx="5943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124080" y="40384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48769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48769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238880" y="5257800"/>
            <a:ext cx="228600" cy="2286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62920" y="5486400"/>
            <a:ext cx="380880" cy="7632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0060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447920" y="266652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48320" y="49528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5268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200400" y="26668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4280" y="266652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7315200" y="266652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447920" y="2743200"/>
            <a:ext cx="0" cy="5335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2743200"/>
            <a:ext cx="175248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00400" y="2743200"/>
            <a:ext cx="0" cy="1143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886200"/>
            <a:ext cx="152388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724280" y="281916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2819520"/>
            <a:ext cx="2590920" cy="12189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7315200" y="3276720"/>
            <a:ext cx="0" cy="761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724280" y="42670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24280" y="426708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43434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ETTART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Rajzoljuk meg a kerettartó hajlító-nyomatéki ábrájá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464832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657600" y="2437920"/>
            <a:ext cx="0" cy="221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66880" y="38098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46483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5029200"/>
            <a:ext cx="228600" cy="2286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14400" y="5257800"/>
            <a:ext cx="380880" cy="7632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952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300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28800" y="38098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6668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300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3526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7339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10800000">
            <a:off x="3429000" y="2057400"/>
            <a:ext cx="380880" cy="380880"/>
          </a:xfrm>
          <a:prstGeom prst="triangle">
            <a:avLst>
              <a:gd name="adj" fmla="val 46667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1066680" y="34286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6483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6668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46483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19520" y="46483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57600" y="46483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35053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24382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56386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81080" y="56386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5638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0" y="35053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4572000" y="24382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0,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810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0,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19520" y="5181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0,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16200000">
            <a:off x="3849120" y="3618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0,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6200000">
            <a:off x="3849120" y="2551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0,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30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83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52880" y="2133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A támasztóerők számítá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257800" y="2638440"/>
                <a:ext cx="25146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N</m:t>
                        </m:r>
                        <m:r>
                          <m:t xml:space="preserve">←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5181480" y="3581280"/>
                <a:ext cx="37339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⋅</m:t>
                        </m:r>
                        <m:r>
                          <m:t xml:space="preserve">0,3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t xml:space="preserve">0,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t xml:space="preserve">0,4</m:t>
                        </m:r>
                        <m:r>
                          <m:t xml:space="preserve">−</m:t>
                        </m:r>
                        <m:r>
                          <m:t xml:space="preserve">0,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105520" y="4572000"/>
                <a:ext cx="190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N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4495680" y="5160960"/>
                <a:ext cx="41911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y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N</m:t>
                        </m:r>
                        <m:r>
                          <m:t xml:space="preserve">↑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28195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400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jlító-nyomatéki á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464832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657600" y="2437920"/>
            <a:ext cx="0" cy="221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66880" y="38098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1952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300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28800" y="38098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6668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300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43200" y="33526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5760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46483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4648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57600" y="4648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57600" y="3505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400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90720" y="4648320"/>
            <a:ext cx="152280" cy="761760"/>
          </a:xfrm>
          <a:prstGeom prst="upArrow">
            <a:avLst>
              <a:gd name="adj1" fmla="val 50000"/>
              <a:gd name="adj2" fmla="val 125059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81280" y="1752480"/>
            <a:ext cx="152640" cy="685800"/>
          </a:xfrm>
          <a:prstGeom prst="upArrow">
            <a:avLst>
              <a:gd name="adj1" fmla="val 50000"/>
              <a:gd name="adj2" fmla="val 112323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236232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909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400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5760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100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92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500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4648320"/>
            <a:ext cx="914400" cy="7617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1080" y="5410080"/>
            <a:ext cx="838440" cy="3049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9520" y="5562360"/>
            <a:ext cx="838080" cy="1522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572000" y="3504960"/>
            <a:ext cx="0" cy="1143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3657600" y="2438280"/>
            <a:ext cx="914400" cy="10670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3520" y="2590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Ábrára rajzol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1600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A rúd két végén zérus a nyomaték, a C, D, E és G keresztmetszetekben kell számítan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2819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Balról számol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800600" y="3352680"/>
                <a:ext cx="41911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⋅</m:t>
                        </m:r>
                        <m:r>
                          <m:t xml:space="preserve">0,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⋅</m:t>
                        </m:r>
                        <m:r>
                          <m:t xml:space="preserve">0,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t xml:space="preserve">0,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4876920" y="4343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Csukló felől számol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00600" y="4952880"/>
                <a:ext cx="41148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⋅</m:t>
                        </m:r>
                        <m:r>
                          <m:t xml:space="preserve">0,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⋅</m:t>
                        </m:r>
                        <m:r>
                          <m:t xml:space="preserve">0,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⋅</m:t>
                        </m:r>
                        <m:r>
                          <m:t xml:space="preserve">0,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1371600" y="5562720"/>
            <a:ext cx="68580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38280" y="5791320"/>
            <a:ext cx="68580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3920" y="5486400"/>
            <a:ext cx="68580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62520" y="4724280"/>
            <a:ext cx="68580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énybevételi ábr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szerű esetben az M ábrát a tartóra rajzolhatj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emléletesebb megoldás az ábrát egy egyenes mentén ábrázolni, főleg ha az összes igénybevételi ábrát megrajzolj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eresztmetszeteket egy egyenesen bejelöljük és alá rajzoljuk az ábrák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énybevételi ábrák rajzo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190512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28800" y="1905120"/>
            <a:ext cx="0" cy="37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24680" y="19051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76920" y="190512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190512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19520" y="190512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09880" y="19051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524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66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201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752480" y="259092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28800" y="25909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876920" y="22093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76920" y="2209680"/>
            <a:ext cx="3047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924680" y="22096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76520" y="380988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828800" y="2895480"/>
            <a:ext cx="0" cy="9144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2895480"/>
            <a:ext cx="9907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2895480"/>
            <a:ext cx="0" cy="5335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19520" y="3429000"/>
            <a:ext cx="99036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9880" y="3429000"/>
            <a:ext cx="0" cy="6094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09880" y="4038480"/>
            <a:ext cx="10670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876920" y="3809520"/>
            <a:ext cx="0" cy="2286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876920" y="3809880"/>
            <a:ext cx="15238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400800" y="3809880"/>
            <a:ext cx="0" cy="7621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00800" y="4572000"/>
            <a:ext cx="15238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924680" y="3809520"/>
            <a:ext cx="0" cy="7621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76520" y="495288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6400440" y="4952880"/>
            <a:ext cx="1523880" cy="8384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876560" y="5791320"/>
            <a:ext cx="1523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809880" y="5791320"/>
            <a:ext cx="1067040" cy="228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2819160" y="5714640"/>
            <a:ext cx="990360" cy="3049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1828800" y="4952520"/>
            <a:ext cx="99072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1066680" y="2286000"/>
                <a:ext cx="7495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085760" y="3505320"/>
                <a:ext cx="711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838080" y="4572000"/>
                <a:ext cx="9874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8380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tar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0100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00100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001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(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096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0040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13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40080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76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2408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ÉMAKÖRÖ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vez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éttámaszú tar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ettar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yakorló feladat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lassza ki a megadott M ábrák közül a tartóhoz tartozó jelleghelyes M ábrá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819520" y="3657600"/>
            <a:ext cx="0" cy="1905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19520" y="365760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90920" y="5486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66880" y="5867280"/>
            <a:ext cx="228600" cy="2286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90920" y="6095880"/>
            <a:ext cx="380880" cy="7632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623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337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5720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41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10800000">
            <a:off x="4876920" y="3276720"/>
            <a:ext cx="380880" cy="380880"/>
          </a:xfrm>
          <a:prstGeom prst="triangle">
            <a:avLst>
              <a:gd name="adj" fmla="val 46667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5248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álassza ki a jó ábrá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47920" y="213372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341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3716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053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21337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14600" y="21337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657600" y="21337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715000" y="21337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30481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33520" y="2743200"/>
                <a:ext cx="968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12952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33520" y="3657600"/>
                <a:ext cx="968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 flipV="1">
            <a:off x="1447920" y="2590920"/>
            <a:ext cx="2209680" cy="45720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2590920"/>
            <a:ext cx="2057400" cy="45720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514600" y="3352680"/>
            <a:ext cx="1143000" cy="6098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657600" y="3352680"/>
            <a:ext cx="2057400" cy="6098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95280" y="48006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33520" y="4495680"/>
                <a:ext cx="9684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1447920" y="4800600"/>
            <a:ext cx="1066680" cy="6094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514600" y="4800240"/>
            <a:ext cx="1143000" cy="6094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95280" y="59436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33520" y="5638680"/>
                <a:ext cx="9684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"/>
          <p:cNvSpPr/>
          <p:nvPr/>
        </p:nvSpPr>
        <p:spPr>
          <a:xfrm>
            <a:off x="1447920" y="5943600"/>
            <a:ext cx="1066680" cy="3808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514600" y="5486400"/>
            <a:ext cx="1143000" cy="838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657600" y="5486400"/>
            <a:ext cx="2057400" cy="4572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>
            <a:hlinkClick r:id="" action="ppaction://hlinkshowjump?jump=previousslide"/>
          </p:cNvPr>
          <p:cNvSpPr/>
          <p:nvPr/>
        </p:nvSpPr>
        <p:spPr>
          <a:xfrm>
            <a:off x="6400800" y="2590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" action="ppaction://hlinkshowjump?jump=nextslide"/>
          </p:cNvPr>
          <p:cNvSpPr/>
          <p:nvPr/>
        </p:nvSpPr>
        <p:spPr>
          <a:xfrm>
            <a:off x="6400800" y="35812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1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1" y="20200"/>
                </a:lnTo>
                <a:lnTo>
                  <a:pt x="25591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1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>
            <a:hlinkClick r:id="" action="ppaction://hlinkshowjump?jump=previousslide"/>
          </p:cNvPr>
          <p:cNvSpPr/>
          <p:nvPr/>
        </p:nvSpPr>
        <p:spPr>
          <a:xfrm>
            <a:off x="6400800" y="44956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1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1" y="20200"/>
                </a:lnTo>
                <a:lnTo>
                  <a:pt x="25591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1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>
            <a:hlinkClick r:id="" action="ppaction://hlinkshowjump?jump=previousslide"/>
          </p:cNvPr>
          <p:cNvSpPr/>
          <p:nvPr/>
        </p:nvSpPr>
        <p:spPr>
          <a:xfrm>
            <a:off x="6400800" y="56386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1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1" y="20200"/>
                </a:lnTo>
                <a:lnTo>
                  <a:pt x="25591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1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00800" y="914400"/>
            <a:ext cx="2209680" cy="825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Nyomógombok a választásh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31520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A. válto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5200" y="3657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B. válto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15200" y="4572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C. válto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152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D. válto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egold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63920" y="5486400"/>
            <a:ext cx="46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 CE"/>
              </a:rPr>
              <a:t>Gratulálunk ez a jó megol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447920" y="213372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3341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3716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3623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19320" y="335268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457200" y="3048120"/>
                <a:ext cx="968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 flipV="1">
            <a:off x="2438280" y="2742840"/>
            <a:ext cx="1143000" cy="6094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581280" y="2743200"/>
            <a:ext cx="2057400" cy="6094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3581280" y="21337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2438280" y="21337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447920" y="21337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638680" y="21337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Összefogla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nultak felmérése a vizsgán törté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yakorlati hasznosításra szaktárgyaknál, a diplomamunka kidolgozásánál és a mérnöki tervezéseknél kerül 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oktatás eredményességét a színvonalas mérnöki munkák igazolj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firstslide"/>
          </p:cNvPr>
          <p:cNvSpPr/>
          <p:nvPr/>
        </p:nvSpPr>
        <p:spPr>
          <a:xfrm>
            <a:off x="6248520" y="4038480"/>
            <a:ext cx="1523880" cy="121932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9998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8153" y="3794"/>
                </a:lnTo>
                <a:lnTo>
                  <a:pt x="8153" y="17806"/>
                </a:lnTo>
                <a:lnTo>
                  <a:pt x="64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VEZ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igénybevételi ábrákat a tartók méretezésénél, ellenőrzésénél használj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énybevétel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úderő: N (pozití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íróerő: V (pozití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jlítónyomaték: M (pozití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avarnyomaték: T (pozití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ektorával szemléltet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 igénybevételek bármely keresztmetszetben az egyik oldalra eső terhelésből számítható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1600200"/>
            <a:ext cx="762120" cy="2286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16765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67652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2209680"/>
            <a:ext cx="762120" cy="2286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2819520"/>
            <a:ext cx="761760" cy="2286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3429000"/>
            <a:ext cx="761760" cy="2286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133720"/>
            <a:ext cx="152640" cy="380880"/>
          </a:xfrm>
          <a:prstGeom prst="upArrow">
            <a:avLst>
              <a:gd name="adj1" fmla="val 50000"/>
              <a:gd name="adj2" fmla="val 62382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24680" y="21337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3280 h 304560"/>
              <a:gd name="textAreaBottom" fmla="*/ 2210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2819520"/>
            <a:ext cx="152280" cy="304560"/>
          </a:xfrm>
          <a:custGeom>
            <a:avLst/>
            <a:gdLst>
              <a:gd name="textAreaLeft" fmla="*/ 20160 w 152280"/>
              <a:gd name="textAreaRight" fmla="*/ 132120 w 152280"/>
              <a:gd name="textAreaTop" fmla="*/ 53280 h 304560"/>
              <a:gd name="textAreaBottom" fmla="*/ 2210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77320" y="34290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342900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6600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énybevételi ábrák jellemző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igénybevételi ábrák a tartó mentén az igénybevételek változását szemléltet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sszefüggés az ábrák és a terhelés közöt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ábrák je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05120" y="3352680"/>
                <a:ext cx="16002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181480" y="3429000"/>
                <a:ext cx="12956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2" name=""/>
          <p:cNvGraphicFramePr/>
          <p:nvPr/>
        </p:nvGraphicFramePr>
        <p:xfrm>
          <a:off x="1295280" y="4648320"/>
          <a:ext cx="9448920" cy="137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4648320"/>
                    <a:ext cx="944892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6600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llemző keresztmetsze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ntrált nyíróerő helye:  a V ábrában ugrás; az M ábrában töréspont v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ntrált nyomaték helye: a V ábrában nincs változás; az M ábrában ugrás v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rokpont: az N és V ábrákat be kell húzni a nulla vonalra és értékeiket újra kell számítani; az M ábrában töréspont v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ÉTTÁMASZÚ TART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jzoljuk meg a tartó igénybevételi ábrá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3809880"/>
            <a:ext cx="5790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38098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29718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29718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3733920"/>
            <a:ext cx="609480" cy="152280"/>
          </a:xfrm>
          <a:prstGeom prst="leftArrow">
            <a:avLst>
              <a:gd name="adj1" fmla="val 50000"/>
              <a:gd name="adj2" fmla="val 100059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80988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38098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4191120"/>
            <a:ext cx="228600" cy="2286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4419720"/>
            <a:ext cx="380880" cy="7596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29718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25909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4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9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2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3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438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38098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4191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44197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38862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50292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02920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5029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8862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50292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0,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0,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0,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0,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ámasztóerők szám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114800" y="1803240"/>
                <a:ext cx="243828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143000" y="5181480"/>
            <a:ext cx="5791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518148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4343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4343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5105520"/>
            <a:ext cx="609840" cy="152280"/>
          </a:xfrm>
          <a:prstGeom prst="leftArrow">
            <a:avLst>
              <a:gd name="adj1" fmla="val 50000"/>
              <a:gd name="adj2" fmla="val 100118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51814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518148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5562720"/>
            <a:ext cx="228600" cy="2286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5791320"/>
            <a:ext cx="381240" cy="7596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4343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39625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4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9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2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152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3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51814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55627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7913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52578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64008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64008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6400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52578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64008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0,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0,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0,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0,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5867280"/>
            <a:ext cx="152280" cy="609840"/>
          </a:xfrm>
          <a:prstGeom prst="upArrow">
            <a:avLst>
              <a:gd name="adj1" fmla="val 50000"/>
              <a:gd name="adj2" fmla="val 100118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556272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95288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752480" y="4419720"/>
                <a:ext cx="554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286000" y="5562720"/>
                <a:ext cx="5540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362560" y="5818320"/>
                <a:ext cx="495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858000" y="1828800"/>
                <a:ext cx="1752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733920" y="2362320"/>
                <a:ext cx="5054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,3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0,4</m:t>
                        </m:r>
                        <m:r>
                          <m:t xml:space="preserve">+</m:t>
                        </m:r>
                        <m:r>
                          <m:t xml:space="preserve">0,6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0,9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038480" y="2895480"/>
                <a:ext cx="362592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9880" y="3429000"/>
                <a:ext cx="1524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95880" y="3379680"/>
                <a:ext cx="1600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62120" y="1752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Első lép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2860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Második lép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8195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Harmadik lép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352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Eredmény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énybevételi ábrák elkészíté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úderő-igénybevételi á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819520"/>
            <a:ext cx="5791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19810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19810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2743200"/>
            <a:ext cx="609480" cy="152280"/>
          </a:xfrm>
          <a:prstGeom prst="leftArrow">
            <a:avLst>
              <a:gd name="adj1" fmla="val 50000"/>
              <a:gd name="adj2" fmla="val 100059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19810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4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9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2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3888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3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2895480"/>
            <a:ext cx="152640" cy="609840"/>
          </a:xfrm>
          <a:prstGeom prst="upArrow">
            <a:avLst>
              <a:gd name="adj1" fmla="val 50000"/>
              <a:gd name="adj2" fmla="val 99882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2895480"/>
            <a:ext cx="152280" cy="609840"/>
          </a:xfrm>
          <a:prstGeom prst="upArrow">
            <a:avLst>
              <a:gd name="adj1" fmla="val 50000"/>
              <a:gd name="adj2" fmla="val 100118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25909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603440" y="2130480"/>
                <a:ext cx="701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362320" y="2971800"/>
                <a:ext cx="701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292720" y="3032280"/>
                <a:ext cx="730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6858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28195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5146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28195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505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28195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8862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886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38862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4419720"/>
            <a:ext cx="4648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858000" y="38862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52280" y="3581280"/>
                <a:ext cx="8254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685800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(k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50292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C-A szakaszon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N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A-E szakaszon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N=-3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Jakubek Lajos</dc:creator>
  <dc:description/>
  <dc:language>en-US</dc:language>
  <cp:lastModifiedBy>Jakubek Lajos</cp:lastModifiedBy>
  <dcterms:modified xsi:type="dcterms:W3CDTF">1999-05-18T17:32:50Z</dcterms:modified>
  <cp:revision>33</cp:revision>
  <dc:subject/>
  <dc:title>Tanfolyam</dc:title>
</cp:coreProperties>
</file>