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90B-2DAB-43C7-BD7D-EFA2219B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9B2-C9A0-4F8C-AEFD-854E393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767-8129-4A87-9309-42F2E79D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658-FC91-4C1A-ADEC-31316601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7EF-6746-4CF1-B262-B1A73100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1BE-D989-45A0-97DE-0F2055C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BFA1-187B-4CC3-A91E-47CE608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04D-D6D9-4FA2-938F-90DBAA1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41E-FA3A-4623-9C0E-A35782C5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7946-7E7E-4094-8230-645D633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BDC8-887E-421E-9FBC-8B4D8DB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84-223A-4FA0-9E21-F5CE1EA9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67F7-833E-4943-BA8E-BF4EEFB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C97-E512-472D-B119-86DB058D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7D16-B700-4D66-B46F-271DA9D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61B5-EBE4-4B55-9795-29D22514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F776-33E3-416D-940A-E4C25D61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89F-96D3-4FF4-9E04-497C728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348-254B-446E-A8DD-4E0E8BA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36F-B7BC-4CD9-8B72-04CEBAB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A70-8F30-4FDB-BEA8-C2054C6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253-7B0E-43B0-8325-600FBC8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145-01D9-49EC-886D-62B58AB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9F2-4FE3-4B83-8CDD-144CD44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92F2-1014-4069-9532-E685B8D55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1CC-D3A3-45C7-AE28-8CDE7FD50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ácsos szerkez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ó Béláné             Jakubek La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AMF Műszaki Alaptárgyi Tan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ecskemét, 1998 novemb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ódszer alkalma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lső erők számításához ismerni kell                                       a szerkezetre ható összes külső erő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ért első lépésben                          egyensúlyi egyen-                                  letekkel a támasztó-                                 erőket határozzuk                                       m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17621" t="13827" r="20510" b="6738"/>
          <a:stretch/>
        </p:blipFill>
        <p:spPr>
          <a:xfrm>
            <a:off x="4621320" y="3271680"/>
            <a:ext cx="3979800" cy="27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masztóe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13760" t="7179" r="19122" b="13035"/>
          <a:stretch/>
        </p:blipFill>
        <p:spPr>
          <a:xfrm>
            <a:off x="4343400" y="2043000"/>
            <a:ext cx="4413240" cy="2826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masztóerők                                           számításánál a                                      szerkezet merev                                     testként kezelhet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ensúlyi                                              egyen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0= -6*3 -10*9 +12*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=&gt;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9kN</a:t>
            </a:r>
            <a:r>
              <a:rPr b="0" lang="hu-HU" sz="3200" spc="-1" strike="noStrike">
                <a:solidFill>
                  <a:srgbClr val="000000"/>
                </a:solidFill>
                <a:latin typeface="Syastro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0=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6 -10 +9              =&gt;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7kN</a:t>
            </a:r>
            <a:r>
              <a:rPr b="0" lang="hu-HU" sz="3200" spc="-1" strike="noStrike">
                <a:solidFill>
                  <a:srgbClr val="000000"/>
                </a:solidFill>
                <a:latin typeface="Syastro"/>
              </a:rPr>
              <a:t>j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ső erők szám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omóponti módszer alkalmazásánál a következő két lépés ismétlőd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. olyan csomópontot keresünk, amelynél      két ismeretlen rúderő fordul elő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. vízszintes és függőleges vetületi egyen- letekkel meghatározzuk a két ismeretlen  belső erőt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somópontok vizsgálatának sorrend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4153" t="14319" r="1787" b="9967"/>
          <a:stretch/>
        </p:blipFill>
        <p:spPr>
          <a:xfrm>
            <a:off x="1362240" y="3060720"/>
            <a:ext cx="626256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1360" y="4876920"/>
            <a:ext cx="23749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dak 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omópon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ensúl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23593" t="0" r="24241" b="0"/>
          <a:stretch/>
        </p:blipFill>
        <p:spPr>
          <a:xfrm>
            <a:off x="7203960" y="4724280"/>
            <a:ext cx="1698840" cy="1752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6248" t="23483" r="5811" b="23313"/>
          <a:stretch/>
        </p:blipFill>
        <p:spPr>
          <a:xfrm>
            <a:off x="3957480" y="5340240"/>
            <a:ext cx="3149640" cy="102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25203" t="0" r="36840" b="2507"/>
          <a:stretch/>
        </p:blipFill>
        <p:spPr>
          <a:xfrm>
            <a:off x="5564160" y="2166840"/>
            <a:ext cx="1827360" cy="2525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rcRect l="16962" t="0" r="21179" b="0"/>
          <a:stretch/>
        </p:blipFill>
        <p:spPr>
          <a:xfrm>
            <a:off x="4348080" y="6094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rcRect l="32730" t="2096" r="34242" b="4803"/>
          <a:stretch/>
        </p:blipFill>
        <p:spPr>
          <a:xfrm>
            <a:off x="2919240" y="2133720"/>
            <a:ext cx="1706760" cy="258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rcRect l="0" t="39797" r="3958" b="11331"/>
          <a:stretch/>
        </p:blipFill>
        <p:spPr>
          <a:xfrm>
            <a:off x="933480" y="654120"/>
            <a:ext cx="327492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 csomóp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28858" r="28729" b="0"/>
          <a:stretch/>
        </p:blipFill>
        <p:spPr>
          <a:xfrm>
            <a:off x="5289480" y="2060640"/>
            <a:ext cx="3397320" cy="1825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üggőleges erő ismert                              így először függőleges                                 vetületi egyenlettel                               célszerű kezde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0 = 9 -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sin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10,39kN  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0 = -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+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cos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5,195kN  hú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csomóp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13679" t="12233" r="2673" b="4633"/>
          <a:stretch/>
        </p:blipFill>
        <p:spPr>
          <a:xfrm>
            <a:off x="4726080" y="1851120"/>
            <a:ext cx="3736800" cy="1996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etületi                                                  egyenleteket                                                    az ábra szerint                                      felír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0 = -10 +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sin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+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sin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1,157k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 =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+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cos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cos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4,617k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akor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úderők számítása az előzőek alapján önállóan végezhet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redmény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8,803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,04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157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TMETSZŐ MÓ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ácsos szerkezetet képzeletben egy foly- tonos vonallal teljesen kettévág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feljebb három, nem egy pontban metsző- dő rudat szabad átmetsze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metszésnél nyert két rész közül bármelyik részre ható erők egyensúlya vizsgál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metszett rudakban ébredő erők egyensúlyi egyenletekkel számítható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metsző módszernél közvetlenül a rúdra ható belső erőt kap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makör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Bevez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somóponti mó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Átmetsző mó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átmetsző módszer alkalmaz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9191" t="12795" r="2560" b="9556"/>
          <a:stretch/>
        </p:blipFill>
        <p:spPr>
          <a:xfrm>
            <a:off x="1563840" y="2738520"/>
            <a:ext cx="677052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masztóe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ző ábra alapján a támasztóerők meghatározása (bármely átmetszésnél az egyik támasztóerő előfordu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 = -3*6 -6*3 -4,5*8 +9*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8kN </a:t>
            </a:r>
            <a:r>
              <a:rPr b="0" lang="hu-HU" sz="3200" spc="-1" strike="noStrike">
                <a:solidFill>
                  <a:srgbClr val="000000"/>
                </a:solidFill>
                <a:latin typeface="Syastro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 =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6 -3 -8 +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9kN </a:t>
            </a:r>
            <a:r>
              <a:rPr b="0" lang="hu-HU" sz="3200" spc="-1" strike="noStrike">
                <a:solidFill>
                  <a:srgbClr val="000000"/>
                </a:solidFill>
                <a:latin typeface="Syastro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rúd átmets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828800"/>
            <a:ext cx="2362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gás el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4698" t="13296" r="20218" b="23273"/>
          <a:stretch/>
        </p:blipFill>
        <p:spPr>
          <a:xfrm>
            <a:off x="3379680" y="1728720"/>
            <a:ext cx="4999320" cy="227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9480" y="3352680"/>
            <a:ext cx="205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gás u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rcRect l="35490" t="2577" r="3181" b="7420"/>
          <a:stretch/>
        </p:blipFill>
        <p:spPr>
          <a:xfrm>
            <a:off x="685800" y="4179960"/>
            <a:ext cx="2878200" cy="2273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3391" t="3459" r="2959" b="7360"/>
          <a:stretch/>
        </p:blipFill>
        <p:spPr>
          <a:xfrm>
            <a:off x="3913200" y="4199040"/>
            <a:ext cx="446868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rúderő szám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34669" t="3058" r="3461" b="6377"/>
          <a:stretch/>
        </p:blipFill>
        <p:spPr>
          <a:xfrm>
            <a:off x="5643720" y="1819440"/>
            <a:ext cx="3012840" cy="2371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metszéstől baloldalra                             eső részt vizsgáljuk                                     (ez az egyszerü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smeretlenek közül csak                         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erőnek van függőleges komponense, í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 =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sin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9/sin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10,39k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G rúd átmets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752480"/>
            <a:ext cx="26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gás el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5249" t="15873" r="18571" b="24827"/>
          <a:stretch/>
        </p:blipFill>
        <p:spPr>
          <a:xfrm>
            <a:off x="3568680" y="1668600"/>
            <a:ext cx="5072040" cy="2124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3124080"/>
            <a:ext cx="2743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gás u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20099" t="8663" r="0" b="11882"/>
          <a:stretch/>
        </p:blipFill>
        <p:spPr>
          <a:xfrm>
            <a:off x="554040" y="3975120"/>
            <a:ext cx="4246560" cy="2271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1220" t="0" r="15542" b="0"/>
          <a:stretch/>
        </p:blipFill>
        <p:spPr>
          <a:xfrm>
            <a:off x="5035680" y="3962520"/>
            <a:ext cx="3589200" cy="23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G rúderő szám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4933" r="23653" b="7230"/>
          <a:stretch/>
        </p:blipFill>
        <p:spPr>
          <a:xfrm>
            <a:off x="4987800" y="2060640"/>
            <a:ext cx="3775320" cy="2336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metszéstől jobbra                                 eső részt vizsgál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smeretlenek közül                                csak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G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rő ad nyoma-                               tékot az E pontra, í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0 = -1,5*3 +4,5*8 -d*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hol  d = 1,5*tg60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G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= 12,12kN 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akor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ámítsa ki átmetsző módszerrel a          CE, GH és EH rudakban ébredő belső erők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edmény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0,4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9,24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om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9,25k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ácsos szerkezetet       tartószerkezeteknél,                                     mint tetőszerkezet,                                      hidak stb. alkalmazzá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ID" descr=""/>
          <p:cNvPicPr/>
          <p:nvPr/>
        </p:nvPicPr>
        <p:blipFill>
          <a:blip r:embed="rId2"/>
          <a:stretch/>
        </p:blipFill>
        <p:spPr>
          <a:xfrm>
            <a:off x="762120" y="3940200"/>
            <a:ext cx="4190760" cy="2392200"/>
          </a:xfrm>
          <a:prstGeom prst="rect">
            <a:avLst/>
          </a:prstGeom>
          <a:ln w="0">
            <a:noFill/>
          </a:ln>
        </p:spPr>
      </p:pic>
      <p:pic>
        <p:nvPicPr>
          <p:cNvPr id="115" name="EIFEL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37065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erkezetet alkotó rudak csuklóval kapcsolód-  nak egymáshoz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gyik csukló elfordulhat, tehát a kapcsoló- dásnál csak belső erő éb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gramban vizsgált szerkezeteknél                erő (terhelés vagy támasztóerő) csak                 csuklókban (gyakorlati kialakítása                         miatt csomópontnak szokás hívni)                         működ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585120" y="2971800"/>
          <a:ext cx="1887480" cy="18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5120" y="2971800"/>
                    <a:ext cx="18874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ácsos szerkezet elem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ukl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54120" y="4260960"/>
          <a:ext cx="2306520" cy="18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120" y="4260960"/>
                    <a:ext cx="23065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643800" y="5133960"/>
          <a:ext cx="1311120" cy="119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43800" y="5133960"/>
                    <a:ext cx="13111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678120" y="5181480"/>
          <a:ext cx="2460600" cy="95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78120" y="5181480"/>
                    <a:ext cx="246060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74960" y="2998800"/>
          <a:ext cx="2436840" cy="14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74960" y="2998800"/>
                    <a:ext cx="24368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ukl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degyik csukló egyensúlyban van a ráható külső és belső erők ha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suklóra ható erők közös                  támadáspontúak, így a csuk-                      lóra két vetületi egyenlet                              ír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7420" t="0" r="48920" b="0"/>
          <a:stretch/>
        </p:blipFill>
        <p:spPr>
          <a:xfrm>
            <a:off x="6173640" y="3281400"/>
            <a:ext cx="203688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d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udakra csak a két végén, a csuklón át hat erő, amelyek egyensúlyban van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zért a rudakban csak rúderő éb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11961" t="11471" r="9391" b="0"/>
          <a:stretch/>
        </p:blipFill>
        <p:spPr>
          <a:xfrm>
            <a:off x="1044720" y="4125960"/>
            <a:ext cx="3057480" cy="185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84640" y="4267080"/>
            <a:ext cx="311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ámítási módsze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ácsos szerkezet kialakításához,        méretezéséhez a rudakban ébredő             erőket kell meghatároz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lső erők számítha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somóponti módszerre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átmetsző módszerre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OMÓPONTI MÓ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ódszer a csomópontok egyensúlyát vizsgál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 csomópontra két vetületi egyensúlyi egyenlet írható, így két ismeretlen rúderő, belső erő számít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somópontokat ez alapján vizsgál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ódszer főként akkor használatos. ha minden rúderőt ismerni k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Jakubek Lajos</dc:creator>
  <dc:description/>
  <dc:language>en-US</dc:language>
  <cp:lastModifiedBy>Jakubek Lajos</cp:lastModifiedBy>
  <cp:lastPrinted>1998-10-15T11:34:20Z</cp:lastPrinted>
  <dcterms:modified xsi:type="dcterms:W3CDTF">1999-09-19T17:21:02Z</dcterms:modified>
  <cp:revision>24</cp:revision>
  <dc:subject/>
  <dc:title>Tanfolyam</dc:title>
</cp:coreProperties>
</file>