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00850" cy="9888538"/>
  <p:custShowLst>
    <p:custShow name="Képek nélkül" id="0">
      <p:sldLst>
        <p:sld r:id="rId4"/>
        <p:sld r:id="rId5"/>
        <p:sld r:id="rId6"/>
        <p:sld r:id="rId7"/>
        <p:sld r:id="rId10"/>
        <p:sld r:id="rId12"/>
        <p:sld r:id="rId13"/>
        <p:sld r:id="rId14"/>
        <p:sld r:id="rId15"/>
        <p:sld r:id="rId16"/>
        <p:sld r:id="rId17"/>
        <p:sld r:id="rId18"/>
      </p:sldLst>
    </p:custShow>
  </p:custShowLst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EC621-86F4-4EC7-9638-0C80DAF47B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8DD53-BB4E-4DDD-A3B7-725A7134FB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E9EA2-7158-4229-B423-2835B24E63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4072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80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864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4072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80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36257-0F86-4B2F-892E-6AE6B4B9C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6EFE28-E5BD-4490-A65F-29A5205366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F39E7D-B3A5-4BA6-B7BD-3872D1DB63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3531F8-71B5-4507-962C-16FDF951A3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B23732-6981-4463-BC0C-A709AA0DBA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4C621-4481-4DB4-9DD0-4292F57B66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190440" y="2746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376BDD-F331-4E0E-BEB9-4CD09297EA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371B1A-912B-4E92-AF34-4B581ABC1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AC39-5B6C-4281-AD2F-F36BBF181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2D1542-D0EC-4F0F-963F-F0346B2DA1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390940-63F9-468B-8864-9D788C25F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C89300-1071-47DD-AF03-60CBFDFB0D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F57869-13EB-45A1-BEFB-B0D05467D8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4072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800" y="170028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864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4072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800" y="4012200"/>
            <a:ext cx="264924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03D3D1-0559-4579-8DD9-8C38CF3AE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B0BE9-AB95-4D71-B412-AD1C39712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E8FF-00B8-472F-AB0F-6C8A08C4BC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3598F-2046-4409-8F84-A2443E4F18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90440" y="274680"/>
            <a:ext cx="7758000" cy="402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150D6-9CB8-4C02-8F62-DB69B6C5AB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D33D15-3FCB-4D05-A745-55D62E590F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960" y="401220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B02B9-8EF9-4485-AF74-FDB3923353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960" y="1700280"/>
            <a:ext cx="401508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8640" y="4012200"/>
            <a:ext cx="8228160" cy="2111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2DE67-866B-428E-8497-AD49EF9510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Garamond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Click to edit the outline text format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Font typeface="Garamond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08B168-B6B1-4C78-92A4-E64863E68BF7}" type="slidenum">
              <a:rPr b="0" lang="hu-HU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295280"/>
            <a:ext cx="9144000" cy="1368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cd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2"/>
          <a:stretch/>
        </p:blipFill>
        <p:spPr>
          <a:xfrm>
            <a:off x="8004240" y="173160"/>
            <a:ext cx="906480" cy="901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840" y="189864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 Black"/>
              </a:rPr>
              <a:t>Click to edit the title text format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45684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Garamond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124080" y="155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1400" spc="-1" strike="noStrike">
                <a:solidFill>
                  <a:srgbClr val="ffffff"/>
                </a:solidFill>
                <a:latin typeface="Garamond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6552720" y="15516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hu-HU" sz="14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52600-3A35-4199-91EB-EA1A31B0A65B}" type="slidenum">
              <a:rPr b="0" lang="hu-HU" sz="14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0" y="1628640"/>
            <a:ext cx="9144000" cy="13680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2978280"/>
            <a:ext cx="9144000" cy="136440"/>
          </a:xfrm>
          <a:prstGeom prst="rect">
            <a:avLst/>
          </a:prstGeom>
          <a:solidFill>
            <a:srgbClr val="3e3e5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 Black"/>
              </a:rPr>
              <a:t>Click to edit the outline text format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Garamond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Garamond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Garamond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5cd3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50840" y="1898640"/>
            <a:ext cx="8858160" cy="890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3000" spc="-1" strike="noStrike">
                <a:solidFill>
                  <a:srgbClr val="ffffff"/>
                </a:solidFill>
                <a:latin typeface="Arial Black"/>
              </a:rPr>
              <a:t>Dokumentumkezelő rendszer javaslat</a:t>
            </a:r>
            <a:br>
              <a:rPr sz="3000"/>
            </a:br>
            <a:r>
              <a:rPr b="0" lang="hu-HU" sz="3000" spc="-1" strike="noStrike">
                <a:solidFill>
                  <a:srgbClr val="ffffff"/>
                </a:solidFill>
                <a:latin typeface="Arial Black"/>
              </a:rPr>
              <a:t> PTR zRt. részére</a:t>
            </a:r>
            <a:endParaRPr b="0" lang="en-US" sz="3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1420920" y="3249720"/>
            <a:ext cx="6400800" cy="34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Arial Black"/>
              </a:rPr>
              <a:t>SzámítóGépész Kft.</a:t>
            </a:r>
            <a:endParaRPr b="0" lang="en-US" sz="2000" spc="-1" strike="noStrike">
              <a:solidFill>
                <a:srgbClr val="ffffff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FormFlow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elektronikus ürlapok kezelése, automatikus feldolgozása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portál, ügyfélkapu támogatás stb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WorkFlow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elektronikus csoportmunka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üzleti folyamatok kezelése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szerződés és számla jóváhagyási folyamat teljes körű kezelése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grafikus folyamattervező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automatikus dokumentumtovábbítás (ADR Automatic Document Routing) stb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PostFlow, RegistFlow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PostFlow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dokumentumok nagytömegű postázása, postázásra előkészítése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postakönyv készítése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tértivevény, ajánlószelvény és egyéb nyomtatványok automatikus nyomtatása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futárjegyzék készítése stb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39480" indent="-339480"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RegistFlow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agytömegű irattárazás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hivataloknál tömeges levéltári átadás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selejtezés támogatása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1" marL="735480" indent="-282960">
              <a:spcBef>
                <a:spcPts val="499"/>
              </a:spcBef>
              <a:buClr>
                <a:srgbClr val="ffffff"/>
              </a:buClr>
              <a:buFont typeface="Garamond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iratarchiválás.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RegistFlow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nagytömegű irattárazás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hivataloknál tömeges levéltári átadás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selejtezés támogatása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iratarchiválás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ContentFlow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központi tartalomkezelés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kétoldalú adatkapcsolat az elterjedt tartalomkezelő rendszerekkel, mint pl.: IBM Content Manager; IXOS; SAP SUS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Register Data Integrator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A modul feladata, hogy nyílt szabványokon alapuló technológia segítségével biztosítsa, hogy a dokumentumkezelő rendszer más alkalmazásokhoz illeszthető legyen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Dokumentumkezelési követelmények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Dokumentumok sokparaméteres tárolás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Az egyes tulajdonságtípusokhoz külön fa struktúrában való kereshetőség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A dokumentumok ellenőrzött felvitele és biztonságos tárolás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Sok felhasználós rendszer, különbözö dokumentumhasználati jogosultságokkal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Távoli elérés biztosítás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Dokumentum életciklus kezelé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Munkafolyamatok támogatása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511920" indent="-511920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Papír alapú dokumentumok feltöltése, életciklus kezelés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Előnyök, amiket a felső vezető realizál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Út a hatékonyság növeléséhez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egy adatot csak egyszer szükséges rögzíteni;  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autocomplete funkció segítségével a partnertörzsbe már felvitt adatokat gombnyomásra felajánlja a rendszer; 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lvl="2" marL="1143000" indent="-228600">
              <a:spcBef>
                <a:spcPts val="499"/>
              </a:spcBef>
              <a:buClr>
                <a:srgbClr val="ffffff"/>
              </a:buClr>
              <a:buFont typeface="Garamond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u-HU" sz="2000" spc="-1" strike="noStrike">
                <a:solidFill>
                  <a:srgbClr val="ffffff"/>
                </a:solidFill>
                <a:latin typeface="Garamond"/>
              </a:rPr>
              <a:t>nagy tömegű szkennelés, iratdigitalizálás lehetősége;  </a:t>
            </a:r>
            <a:endParaRPr b="0" lang="en-US" sz="20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e-mailek, fax szerverről valamint portálról érkező dokumentumok automatikus fogadása.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Összehasonlító adatok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A megjelenés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Bármilyen méretű és formátumú dokumentum fogadására tárolására és kezelése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"hagyományos" papír alapú dokumentum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csatolt fájlokat, esetleg elektronikus aláírást is tartalmazó e-mail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portálról, weboldalról, ügyfélkapuról érkező dokumentum, kitöltött elektronikus ürlap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fax szerverről jövő kimenetek kezelése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személyesen, ügyfélszolgálaton átvett papíralapú vagy elektronikus adathordozón tárolt dokumentum;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nagy tömegben fogadott SMS.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Garamond"/>
              </a:rPr>
              <a:t>cégen belüli nyomtatási kimenetek kezelése (pl. kinyomtatott dokumentumok elektronikus képének automatikus archiválása) </a:t>
            </a:r>
            <a:endParaRPr b="1" lang="en-US" sz="24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600" spc="-1" strike="noStrike">
                <a:solidFill>
                  <a:srgbClr val="ffffff"/>
                </a:solidFill>
                <a:latin typeface="Garamond"/>
              </a:rPr>
              <a:t>Moduláris felépítés - Teljes körű funkcionalitás </a:t>
            </a:r>
            <a:endParaRPr b="1" lang="en-US" sz="26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02" name=""/>
          <p:cNvSpPr/>
          <p:nvPr/>
        </p:nvSpPr>
        <p:spPr>
          <a:xfrm>
            <a:off x="3672000" y="3068640"/>
            <a:ext cx="1979640" cy="1441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2f1b9"/>
              </a:gs>
              <a:gs pos="100000">
                <a:srgbClr val="5d8a22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000000"/>
                </a:solidFill>
                <a:latin typeface="Arial Narrow"/>
              </a:rPr>
              <a:t>Doc</a:t>
            </a: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672000" y="5319720"/>
            <a:ext cx="1979640" cy="9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Content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672000" y="1538280"/>
            <a:ext cx="1979640" cy="720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Work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784080" y="3881520"/>
            <a:ext cx="1979640" cy="63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orm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784080" y="5319720"/>
            <a:ext cx="1979640" cy="90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Register Data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Integrato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642000" y="3070080"/>
            <a:ext cx="1979640" cy="630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Pos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642000" y="3881520"/>
            <a:ext cx="1979640" cy="6300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0066ff"/>
              </a:gs>
              <a:gs pos="100000">
                <a:srgbClr val="002f75"/>
              </a:gs>
            </a:gsLst>
            <a:path path="rect">
              <a:fillToRect l="50000" t="50000" r="50000" b="50000"/>
            </a:path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400" spc="-1" strike="noStrike">
                <a:solidFill>
                  <a:srgbClr val="ffffff"/>
                </a:solidFill>
                <a:latin typeface="Arial Narrow"/>
              </a:rPr>
              <a:t>Regist</a:t>
            </a:r>
            <a:r>
              <a:rPr b="1" lang="en-US" sz="2400" spc="-1" strike="noStrike">
                <a:solidFill>
                  <a:srgbClr val="ffffff"/>
                </a:solidFill>
                <a:latin typeface="Arial Narrow"/>
              </a:rPr>
              <a:t>Flow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784080" y="3070080"/>
            <a:ext cx="2797200" cy="630360"/>
            <a:chOff x="784080" y="3070080"/>
            <a:chExt cx="2797200" cy="630360"/>
          </a:xfrm>
        </p:grpSpPr>
        <p:sp>
          <p:nvSpPr>
            <p:cNvPr id="110" name=""/>
            <p:cNvSpPr/>
            <p:nvPr/>
          </p:nvSpPr>
          <p:spPr>
            <a:xfrm>
              <a:off x="784080" y="3070080"/>
              <a:ext cx="1979640" cy="630360"/>
            </a:xfrm>
            <a:prstGeom prst="roundRect">
              <a:avLst>
                <a:gd name="adj" fmla="val 16667"/>
              </a:avLst>
            </a:prstGeom>
            <a:gradFill rotWithShape="0">
              <a:gsLst>
                <a:gs pos="0">
                  <a:srgbClr val="0066ff"/>
                </a:gs>
                <a:gs pos="100000">
                  <a:srgbClr val="002f75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hu-HU" sz="2400" spc="-1" strike="noStrike">
                  <a:solidFill>
                    <a:srgbClr val="ffffff"/>
                  </a:solidFill>
                  <a:latin typeface="Arial Narrow"/>
                </a:rPr>
                <a:t>Scan</a:t>
              </a:r>
              <a:r>
                <a:rPr b="1" lang="en-US" sz="2400" spc="-1" strike="noStrike">
                  <a:solidFill>
                    <a:srgbClr val="ffffff"/>
                  </a:solidFill>
                  <a:latin typeface="Arial Narrow"/>
                </a:rPr>
                <a:t>Flow</a:t>
              </a: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2862360" y="3519360"/>
              <a:ext cx="718920" cy="0"/>
            </a:xfrm>
            <a:prstGeom prst="line">
              <a:avLst/>
            </a:prstGeom>
            <a:ln w="76320">
              <a:solidFill>
                <a:srgbClr val="0000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2" name=""/>
          <p:cNvSpPr/>
          <p:nvPr/>
        </p:nvSpPr>
        <p:spPr>
          <a:xfrm>
            <a:off x="2862360" y="4059360"/>
            <a:ext cx="71892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742000" y="3519360"/>
            <a:ext cx="71928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742000" y="4059360"/>
            <a:ext cx="71928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4392720" y="2349360"/>
            <a:ext cx="0" cy="540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932360" y="2349360"/>
            <a:ext cx="0" cy="54000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4392720" y="4598640"/>
            <a:ext cx="0" cy="539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4932360" y="4599000"/>
            <a:ext cx="0" cy="53964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H="1">
            <a:off x="2862000" y="5589720"/>
            <a:ext cx="71892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862360" y="6129360"/>
            <a:ext cx="718920" cy="0"/>
          </a:xfrm>
          <a:prstGeom prst="line">
            <a:avLst/>
          </a:prstGeom>
          <a:ln w="76320">
            <a:solidFill>
              <a:srgbClr val="000099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102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102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90440" y="274680"/>
            <a:ext cx="7758000" cy="86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3000" spc="-1" strike="noStrike">
                <a:solidFill>
                  <a:srgbClr val="ffffff"/>
                </a:solidFill>
                <a:latin typeface="Garamond"/>
              </a:rPr>
              <a:t>ScanFlow </a:t>
            </a:r>
            <a:endParaRPr b="1" lang="en-US" sz="30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8640" y="1700280"/>
            <a:ext cx="8228160" cy="442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nagytömegű iratdigitalizálás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akár 180 lap/perc sebesség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OCR (optikai karakterfelismerés) funkció, melynek segítségével a szkennelt szöveg tartalmában is kereshetünk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nyomtatványok, űrlapok automatikus feldolgozása, kezelése;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Font typeface="Webdings" charset="2"/>
              <a:buChar char="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u-HU" sz="2800" spc="-1" strike="noStrike">
                <a:solidFill>
                  <a:srgbClr val="ffffff"/>
                </a:solidFill>
                <a:latin typeface="Garamond"/>
              </a:rPr>
              <a:t>képkorrekciós funkciók stb. </a:t>
            </a:r>
            <a:endParaRPr b="1" lang="en-US" sz="2800" spc="-1" strike="noStrike">
              <a:solidFill>
                <a:srgbClr val="ffffff"/>
              </a:solidFill>
              <a:latin typeface="Garamon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SzámítóGépész Kft.</a:t>
            </a:r>
          </a:p>
        </p:txBody>
      </p:sp>
    </p:spTree>
  </p:cSld>
  <p:transition>
    <p:zoom dir="in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6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0-04T13:18:56Z</dcterms:created>
  <dc:creator>Rendszergazda</dc:creator>
  <dc:description/>
  <dc:language>en-US</dc:language>
  <cp:lastModifiedBy>doni</cp:lastModifiedBy>
  <dcterms:modified xsi:type="dcterms:W3CDTF">2009-01-25T23:18:36Z</dcterms:modified>
  <cp:revision>273</cp:revision>
  <dc:subject/>
  <dc:title>Projekttámogató szoftverek</dc:title>
</cp:coreProperties>
</file>