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4C6-3C87-41E1-9605-388EF41E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C35-8EA1-4D86-BFD0-70B0CD9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051-6DEA-4EAF-A88F-EDA0AFD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09C-6088-487D-AD98-27006CF0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C4B3-6EB0-4C98-9A13-081317BB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C84-2CA1-4391-9521-B5AEBD9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5E84-25D5-4D5D-BE3A-339E47B5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C7E-E4A1-4278-8403-304EB54E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C43-CF7D-4DC2-AA4E-6E790FF7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4256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5E5-D046-4FB4-804F-92B5AA0F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705-4675-4912-BE2A-5ECA777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B89-6778-416D-BD1A-8238E620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E870-E00D-4703-B187-31F8FC6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5F2-F751-4866-9926-DF915A2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753B-8920-477E-9578-3E6E1B4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7627-DB0F-4B87-8D62-C503E35B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5175-8268-482C-94E0-74D4E66F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C4B-DDF5-494A-8C1F-36D61A6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5AF-574C-4406-9AFA-3FD36F0D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009-E4D8-4CF2-959E-3F3EC23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4256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00B-D2E2-464A-826E-CF33416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364-C7D3-4039-BE7E-A1BAA4B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AF4-A0F9-4CC0-A914-C5D6EBF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821-5161-4DE7-9E10-628D5F2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1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94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2732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E0B-7B17-448A-A7E6-F56AAC354A93}" type="slidenum"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5E5-812E-4B3D-B539-A21A44D24729}" type="slidenum">
              <a:rPr b="0" lang="hu-H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68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219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169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169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169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kezel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Nem tartják fontosnak, m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ckázatelemzés időrabló és unalmas felad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zel sz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ó lenne, ha a „jövőbe láthatná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geteg bekövetkező nehézségtől (probléma) óvhatnánk meg magunkat előzetes stratégi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obban tudjuk irányítani az esemény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iért előnyös a projektvezetőnek a kockázatelemz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2430360"/>
            <a:ext cx="78357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nvédelemből (én mindent megtet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nyegesebb és kevéssé lényeges tevékenységek szétválasztása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ügyfél vezetése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obban elfogadja a szükséges tennivalót, ha az elhárítandó veszélyt is lát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9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jektvezető hitelét növ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ügyfél rádöbben, hogy nem puszta kedvtelésből forszírozok valamit, hanem egy probléma elkerülése vég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iért előnyös a megrendelőknek a kockázatelemz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4600"/>
            <a:ext cx="8229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készülhet a várható problémá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kevesebb meglepetés érh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kevesebb az időbeli és pénzbeli csús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demes megkövet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gy a vállalkozó is felkészültebb legyen a nem várt helyzetek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ok tulajdonsá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nmagában nem jó és nem rossz do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félni kell tőle, fel kell rá készülni és folyamatosan nyomon kell köv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projekt kockázat nélk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kockázatokkal kapcsolatban elvégzendő feladat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ckázatok azonosítása, értékelése, rangsor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séges kezelési módok meghatár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ckázatok projekt életciklusára vonatkozó hatásának feltá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kezelés költsége - hat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857240"/>
            <a:ext cx="8229600" cy="426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ve McConnell: Project Survival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38760" indent="-338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jekt mérete alapjá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2 hetes időtartam ala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jekt kezdetén érdemes átgondolni a lehetséges kockázat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hé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4 hét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ig kell menni a vonatkozó kockázatlist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alkalommal csináljunk formális kockázatelemzé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gyobbná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csapat bevonás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rábbi tapasztalatok értékelése (kockázatli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mális kockázatelem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lyamatos 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760" indent="-338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 készítse a kockázatelemzé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 projektvezető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csapat kic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apcsolat állandó és közvetlen, bará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14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egyetlen csapat dolg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8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Egyébként a csapat csinálja közös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i</cp:lastModifiedBy>
  <dcterms:modified xsi:type="dcterms:W3CDTF">2008-11-16T17:07:21Z</dcterms:modified>
  <cp:revision>78</cp:revision>
  <dc:subject/>
  <dc:title>PowerPoint Presentation</dc:title>
</cp:coreProperties>
</file>