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B077-0A6D-4642-B821-1F937650B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55C4-99AD-4263-A87B-351A5484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6E4F-8693-4D58-9A77-CEC585BEE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B3A2-530F-42F7-A45F-5ECD298CE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4F0D-1F87-4A50-9A24-35C21C21F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64D6-918C-4737-A1E4-5F86264D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5932A-1A6F-437E-AA1E-BF68E270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ABA8-D914-4B80-BC6C-30D77DA5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4D4F-6678-4C52-9166-EEF01C77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7548-6329-416E-BCC1-08077093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D907-26EF-4F75-99E9-1824EB17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36B8-B6E6-44CA-BAF6-59E87CC5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0A26-7CF1-4DCB-BA07-2BC26E7D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F50D-1CF3-4B44-8FA7-E7B884C2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48DC-A43B-447C-B7AD-96AAA560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1698-E5D4-4A9A-9DFC-9ACC690C4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8456-813A-4D1A-9BB0-D72C04000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F14A-14A6-405B-B975-87DFA6D4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ABEC-D038-42E8-AABD-40028FB5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6D28-757F-4972-8B57-84602396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22BF-6093-498E-9658-F97CA416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6A74-CDAF-45B6-B169-74BEEF6C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A0B3-6137-42EE-A811-9DC09FCE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56A2-7693-4592-A847-1ADECBB4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8458-CF98-4B84-BDE8-AEBCC38C66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349C-748F-4A5A-9CD2-DC90F77A37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Vezeték nélküli biztonság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eec94"/>
                </a:solidFill>
                <a:latin typeface="Times New Roman"/>
              </a:rPr>
              <a:t>Vezeték nélküli hálózatok biztonságmegőrzési folyamat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álózatbiztonság kialakít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álózatbiztonság felügyele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ztonsági elemek tesztelé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ztonsági elemek fejleszté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Hálózatbiztonság kialakítás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ztonsági szükségletek meghatároz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álózatbiztonsági dokumentumok elkészíté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ztonsági házirend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űzfala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telesít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hatolás-érzékel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P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Hálózatbiztonság felügyelet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lyamatos rendszervizsgál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ósidejű behatolás-észlel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Biztonsági elemek tesztelés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ázirendek és más eljárások beható vizsgál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gális behatolási kísérl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ljes rendszervizsgál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Biztonsági elemek fejlesztése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ázirendek módosítása a tapasztalatok alapján, a technológiai fejlesztések, változások figyelembevételé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újabb biztonságtechnikai szükségletek felmerülése esetén vissza a Hálózatbiztonság kialakítása feladatho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09:27:05Z</dcterms:created>
  <dc:creator>T7</dc:creator>
  <dc:description/>
  <dc:language>en-US</dc:language>
  <cp:lastModifiedBy>T7</cp:lastModifiedBy>
  <dcterms:modified xsi:type="dcterms:W3CDTF">2008-05-19T09:28:02Z</dcterms:modified>
  <cp:revision>1</cp:revision>
  <dc:subject/>
  <dc:title>Vezeték nélküli biztonság</dc:title>
</cp:coreProperties>
</file>